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F27F-3F7D-4139-9ADA-8CB679D80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171D-18FA-4ED6-9A7F-CE24E99C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96AA-B956-423E-A560-6E90E3440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8818-2BA9-4956-8A62-FF01DC08D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129D-5DB2-41FC-880A-51C1254C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8535-6DC1-4D3E-9FC7-DACB4E53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FBB2-E844-43F8-8289-AE259B3B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0908-4477-4B1D-B85A-A02882BC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C8A2-C95A-41EA-B951-9C94123F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3EF3-A79A-49B7-AACD-65FBC0B9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BA5C-8684-4D16-AA6E-41147AD3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AAC9-E95F-4D64-8B49-D05D935F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72576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ka Kasslin and Antti Lappeteläinen, Nok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9BBAE78-6568-499D-8F7E-83553189B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7621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mitter Power Control (TPC) for 802.11 WLAN - Rev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ka Kasslin and Antti Lappeteläi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kia Research Ce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5B7D-BEBF-4B9D-B9FE-0FF93D6569E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me format modifications (2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ration/ID field used to signal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x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+ CF-Poll, Data + CF-Ack + CF-Poll and CF-Po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52280" y="3594240"/>
          <a:ext cx="9068040" cy="74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594240"/>
                    <a:ext cx="906804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990720" y="4329000"/>
          <a:ext cx="7238880" cy="214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4329000"/>
                    <a:ext cx="7238880" cy="21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91CF-2526-481E-BA8A-634C1AAF2D1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justing TxP in D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chanism to adjust AP's transmission power in a range of few decibels, e.g. 6 d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ly up to the manufacturer to decide how many power levels and which ones are 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91D4-2EFD-4664-8F5D-A791B0B8B9F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justing TxP in DL -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ru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ustments on a frame-by-frame base (i.e. in the beginning of the CF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 3 dB between consecutive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per limit (e.g. 9 dB) for the cumulative power changes over several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EE59-6D59-45DD-8843-DC38666BF24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PC required in 5 GHz in CEPT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up- and down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dB mit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PC tailored for 802.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-specific power control for P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power limitation for D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cations to the existing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rules for TPC in D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4115-E405-4F33-B199-B3C1F9209F4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a TP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RC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PC for 802.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ethod for P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ethod for DC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me format mod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1ECF-CA45-4297-90BC-9CD2BB6E8D5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 TP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LANs can be deployed in 5 GHz band in CEPT countries under certain cond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uropean Radiocommunications Committee (ERC) decision ERC/DEC/(99)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limitations, indoor vs. indoor+out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mitter Power Control (T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Frequency Selection (DF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 power dissipation, system capacity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233D-7081-46F1-AFEF-F5ED35D05DE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RC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ated b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150-5350 MHz for indoor use, mean EIRP limited to 200 m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470-5725 MHz for indoor and outdoor use, mean EIRP limited to 1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PC process requir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in up- and downlink to reduce the interference effect caused by RLANs under the coverage area of a satel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ensure a mitigation factor of at least 3 dB on the average output pow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400D-CE54-4E32-957D-73EE2E8B38E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schemes for CP and CF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mon power limit for 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-specific power limitation for CF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 mainly to uplin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downlink AP's transmission power has to be adjus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beyond the scope of the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ely slow adjustments with small steps prefer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1B5E-1952-440B-AD64-6BB2D19C3C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PC for CFP (1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16000"/>
          </a:bodyPr>
          <a:p>
            <a:pPr marL="54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-54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control signals conveyed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040" indent="-45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aconTx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Beacon management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31040" indent="-45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x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Poll data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81080" y="175248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86600" y="1752480"/>
            <a:ext cx="0" cy="297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97760" y="137160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92400" y="137160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213372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95360" y="1801800"/>
            <a:ext cx="27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's transmission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95000" y="2057400"/>
            <a:ext cx="25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broadcasted regula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057400" y="289548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57120" y="2575080"/>
            <a:ext cx="29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 frame 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94280" y="2819520"/>
            <a:ext cx="25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"background"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380988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3400" y="3489480"/>
            <a:ext cx="33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-specific power co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51400" y="3733920"/>
            <a:ext cx="170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unicast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981080"/>
            <a:ext cx="1066680" cy="8384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PC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981080"/>
            <a:ext cx="1067040" cy="8384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PC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3120" y="2895480"/>
            <a:ext cx="1730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djust ow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x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Determ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-specif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0400" y="2879640"/>
            <a:ext cx="192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Determ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wn TxPow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_TxP + Co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C273-6222-42F7-B04E-7DECF3DF1EB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PC for CFP (2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 determines its own transmission power "freely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uracy requirements in the stand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x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e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S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B19A-0D5E-4A17-97E6-E0854AFB0A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PC for C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upper power lim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-196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eaconTx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beac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2640" indent="-196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adjustment needed also in IB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227016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227016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45520" y="1889280"/>
            <a:ext cx="171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/1st 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92400" y="188928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7400" y="2651040"/>
            <a:ext cx="4952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36360" y="2319480"/>
            <a:ext cx="361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/1st STA's transmission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95000" y="2575080"/>
            <a:ext cx="25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broadcasted regula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98760"/>
            <a:ext cx="1066680" cy="8380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PC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238880" y="2498760"/>
            <a:ext cx="1067040" cy="8380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PC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400" y="3413160"/>
            <a:ext cx="157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djust ow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x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160760" y="3397320"/>
            <a:ext cx="174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Determi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wn Tx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4A7B-6657-4F6C-8613-C013032C35D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me format modifications (1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new frames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ixed field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eaconTx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beacon fr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3581280"/>
            <a:ext cx="457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about definin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eaconTx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s AP_TxP in HIPERLAN/2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5-30 dBm covered by 4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124080" y="3124080"/>
          <a:ext cx="6934320" cy="337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3124080"/>
                    <a:ext cx="6934320" cy="33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FBC6-7E14-4225-9DAA-B1444166DE6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0T16:48:11Z</dcterms:created>
  <dc:creator>Mika Kasslin</dc:creator>
  <dc:description/>
  <dc:language>en-US</dc:language>
  <cp:lastModifiedBy>Mika Kasslin</cp:lastModifiedBy>
  <cp:lastPrinted>1998-02-10T13:28:06Z</cp:lastPrinted>
  <dcterms:modified xsi:type="dcterms:W3CDTF">2000-09-09T14:09:15Z</dcterms:modified>
  <cp:revision>31</cp:revision>
  <dc:subject/>
  <dc:title>Transmitter Power Control (TPC) for 802.11 WLAN</dc:title>
</cp:coreProperties>
</file>