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306701-292E-4DEE-BD7A-EBF25FD43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8BB0EC-EC57-436A-9129-22003FE27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7A9660-57EF-4B39-A489-25068C208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8BBB45-F47D-48B6-B3F9-1706C1061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D48E5CD-B4E5-4010-91C1-C588F094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BBFB98-AA93-4082-A3A0-59AFC53A5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2C4289-379A-4C91-8081-44189FE8F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ABC006-FA4F-44F8-8EFB-9441B2B0E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66495D-3FEA-4992-A5EA-B5641E659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22222E-D016-4E87-83E9-CA60F9B23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E88D52-33F5-47C7-A87C-398CA4767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6B2B00-6F59-429F-8789-A3785C4DF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05000" y="814320"/>
            <a:ext cx="4325760" cy="3243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21960" y="4413240"/>
            <a:ext cx="508788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383-44CB-48ED-A69E-8E7D45DC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C5D-865E-4259-ADAB-86957679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823-1D89-408C-9A8D-F8C956D6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E0C3-085D-4CB7-8FFB-56DCA6CA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457-BCAF-40D3-8590-FC1B4B4D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D61E-CD70-4A00-BA1E-81F9807B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3B59-D31B-4642-9C05-D5BACB50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12D-C239-4767-9BF5-010D0D41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BAE-557D-4242-ADFD-CB96A2FD2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342-95C3-40AC-A3C2-A0C3CA85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102D-1836-4A92-8D22-019755A2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4979-D2AB-468B-B239-D3826E6B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1444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A1035B-97AD-4FAB-8943-221F17469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95280"/>
            <a:ext cx="838188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Global Standard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s?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SI/IEEE/MMAC Convergence</a:t>
            </a:r>
            <a:br>
              <a:rPr sz="24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ly 2000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ent Technologies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old Teunissen, Jan Kruy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eunissen@lucent.co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BB0-F747-4506-AFA1-BAE16435F7D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723600"/>
            <a:ext cx="638676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senti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1960" y="1752120"/>
            <a:ext cx="7670880" cy="42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us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ad range of data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ustness in contention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QoS in centralized m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direct mode with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oS and Security that ties in with the 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D4C-0A82-41FF-914E-894C2B4019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enc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im should be a single implementation that supports both best effort and other QoS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best of each standard but assure backward compatibility with current installed b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inter-working with other networks - e.g. IMT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 compliance with regional radio regulations and support global spectrum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Technical and Conformance Test Specifications as basis for ISO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A8B-9D7C-4CA3-ABE1-CC30E846DC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roce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a small study group to analyze and propose a converge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common set of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roponents of each standard: ETSI/IEEE/M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t the next meeting (September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one it with the PHY - we can do it ag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EA3-7700-4D3D-A6B6-D6BB0B8952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in Go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esent the different views on Wireless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stablish working group to study IEEE/ETSI/MMAC WLAN converg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r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tandardization for Wireless 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0C6-834D-4BA7-9460-75A78A15A9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or’s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genc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roc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F09-CE07-44DA-9AD0-7B5F0AC934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r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reless LANs are great and 5 GHz stuff is promising but...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produ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, ETSI, M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imilar serv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I need two car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keep it simple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063-543E-4A2A-A969-F1DC196D9E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or’s view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want one device for Wireless LAN function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is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enance and support of multiple devices is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 want smooth migration from 2.4 to 5 GHz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se standards guys should get their act together and cooperate with their peers worldwid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did it with the PHY, why not with the MAC to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0E4-F96A-432B-8664-7111EEDD14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rcial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tandard is prefer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stalled bas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oss of investment by users/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playing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ugging it out in the market makes no s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sulting confusion will delay acceptance by the public as well by integ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gence is a now or never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C4A-0271-46FB-9AF5-68E51CCEA8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Radio Conference of 2003 will decide on 5 GHz spectrum for W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the US, Europe and Japan have different perspectives on the need for such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tandard, supported by the three major WLAN standards bodies will significantly improve the spectrum case and improve the prospects for WRC 2003 - as well as in the ITU-R preparatio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ED2-9144-4B67-9F0C-ECA6DC4B12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7200" y="723600"/>
            <a:ext cx="638676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670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um data rat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Ethern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PHY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PERLAN/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ATM with Q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AC considers both approa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FAA-3491-4E57-B352-E33D9B542F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7200" y="723600"/>
            <a:ext cx="638676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echnical dif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5280" y="1706400"/>
          <a:ext cx="822636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6400"/>
                    <a:ext cx="822636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arold Teunissen &amp; Jan Kruy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8FF4-5E3F-4E6B-9E5D-335469A8283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3:56:51Z</dcterms:created>
  <dc:creator>Kruys, Teunissen</dc:creator>
  <dc:description/>
  <dc:language>en-US</dc:language>
  <cp:lastModifiedBy>Harold Teunissen</cp:lastModifiedBy>
  <cp:lastPrinted>1998-02-10T13:28:06Z</cp:lastPrinted>
  <dcterms:modified xsi:type="dcterms:W3CDTF">2000-07-10T21:02:14Z</dcterms:modified>
  <cp:revision>8</cp:revision>
  <dc:subject/>
  <dc:title>One World Standard for RLANS - 04/07/00 </dc:title>
</cp:coreProperties>
</file>