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F7B6-CB9E-40AA-86BC-9A38A5DE0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11F8-E8DF-4CCB-AF49-C7981648F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5B0A-2245-4E09-81C0-DA7EED44B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FBD5-3E18-45C2-ABD9-8EA6F4052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6E8B-A071-4CD8-A672-2345659B9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A099-D5C3-4683-8A0B-8919EDFB6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9FD4-BAD5-455E-B1B6-ACACBC624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8645-A00C-47D3-AD17-34A15735A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04E4-3C68-4EC5-9824-35033CF70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AFB9-7220-4B1C-A633-C7E6F51A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350A-FF5F-430B-ADBA-E93E487F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4764-820F-467F-AABA-7BE0D577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182520"/>
            <a:ext cx="72576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997CB26-CC1E-4E98-A3B3-EE2BCD531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19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Dynamic Channel Selection (DCS) Scheme for 802.11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. Cervello, S. Choi, S. Mangold, and A. Soom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ilips Research-U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arcliff Manor, New Y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AA91-9E05-4562-AD4A-F5BD3451F1C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EAA289-7D82-4B39-9683-64A23161A03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6. Announce of Channel Switch 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announce the channel move decision to S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define new management frames or define new fields in beacon fr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need to broadcast it several times to ensure the decision re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need to implement some ACK mechanism for some STAs such as ones with isochronous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7A15-528F-42A6-B741-A77A9CFC1FD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51A73D-7365-435E-9D82-E0105C12C66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7. Switch into New Channel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 moves first, then STAs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simple as changing the carrier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no such a service primitive defin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define new MLME primitives such as MLME-JUMP.request &amp; MLME-JUMP.confi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ed not to require any change in PHY since channel change can be ordered to existing PHY by MA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need to move at the end of a CF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61CB-D9BF-4A10-9B52-E8BC0450D0B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2D63E3-A4B1-4FBB-92AC-4E338411BE8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DCS mechanism proposed for infrastructure BSS of 802.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of channel measu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add some management fr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define some new primi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posal can be defined WITHOUT any change in 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B4C3-C637-49F5-8955-4AF3BAFE937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1C6953-F0A4-4ABB-934B-780477F4CAD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Channel Selection (DCS) instead of DFS for 802.1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SI requires DFS and T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ce to have DCS for some environments, e.g., home environment and offices in a 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CS first, if not working, overlapping BS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define a DCS mechanism WITHOUT requiring any change in PH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ould work with all the current and future PH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orithms subject to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71FE-ECC1-4F31-922A-FF6CD2EABAD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6CE0EF-96DD-4CF4-B135-D5A48BDDC47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Basic Mechanism for Infrastructure BSS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tion of a new channe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est of a channel measurement by 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nel measurement process of S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ment report from STAs to 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sion making by 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nel switch announcement by 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itch into the new cha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245B-C8B3-43D6-9A53-8CBEA3F5DD7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4DF1E8-7854-446E-8FF6-6B2B9754798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1. Initiation of Channel Selection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cases of channel selection init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SS is formed by an 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P and/or STA(s) of a BSS experience bad channel condition persist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define management frames for the channel condition feedback from STAs to 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frames can work for overlapping BSS fi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o initiate will be up to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E106-94E3-4BC1-8E36-13943F2F18E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7656F3-2F19-4469-B6F6-64D9491C928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2. Channel Measurement Request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 requests channel measurements to some STAs to find the best channel to run its B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se STAs will be considered as sleeping 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by AP not desi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management frames need to be d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o begin the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channels to mea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long to mea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easure (explained n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6458-19C5-4296-91B9-9C07B6DA95B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8F7000-39F3-4DC6-BE51-852FAA1C124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3. Channel Measurement Process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 moves to channel(s) to measure as requested by 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of channel measu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ion of other BSSs running in the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RSSI and PER when BSSs det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busy channel por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ction of other BS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the “scan” service from MLME to S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LME-SCAN.request and MLME-SCAN.confi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DBDC-EFA5-41FD-AE07-032C598A075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DDCF56-C3FB-42E4-B253-755190BEC60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3. Channel Measurement Process (Cont.)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 of RSSI and 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SSI value is available to MAC via PHY_RXSTART only when a meaningful MAC frame is rece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standardize the RSSI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 of busy channel por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time and number of cases of PHY_CCA(BUSY) without PHY_RX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used to measure alien devices, e.g., H/2 and microw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50D3-BFBF-48AF-A4CE-D412F36CA78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DA550C-DC06-4376-9597-61BE5D93D09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4. Measurement Report to AP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ment report of STA(s) to 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BSS detected in a channel, the result of the third measurement is only meaning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reported during CP or CFP (per being poll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define new management fr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92BA-34E7-48A2-A61B-434BE4414DC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2953E5-4AE6-4545-8E71-BFF36CC937B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5. Decision Making by AP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 make a decision per hearing the reports from S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ther to move or n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which channel per deciding to m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o m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compare other channels with the current cha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consider sleeping STAs to determine when to m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199D-6362-4562-83CE-AFEB5B9A9EC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F02275-2A69-4583-AFDA-57A2EF31111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0T23:27:42Z</dcterms:created>
  <dc:creator>Sunghyun Choi, Philips Research</dc:creator>
  <dc:description>Sunghyun Choi, Philips Research-USA</dc:description>
  <dc:language>en-US</dc:language>
  <cp:lastModifiedBy>Sunghyun Choi</cp:lastModifiedBy>
  <cp:lastPrinted>1998-02-10T13:28:06Z</cp:lastPrinted>
  <dcterms:modified xsi:type="dcterms:W3CDTF">2000-07-11T03:48:56Z</dcterms:modified>
  <cp:revision>69</cp:revision>
  <dc:subject>Submissions</dc:subject>
  <dc:title>Dynamic Channel Selection (DCS) Scheme for 802.11</dc:title>
</cp:coreProperties>
</file>