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2E33-CF88-4F37-96EE-8B630D55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A12-B9BA-47B0-824B-35A24BA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B29-1FB1-49DF-94C1-75AD5E94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E9E-25AB-43C1-B081-6A8837B4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531-3282-4762-B239-438F92D5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8E8-3BFE-4BAB-B0E1-DA218585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9DD-78B8-438E-AB53-40919588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691-1310-4AB2-A274-AFFC9AC6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160-6A7B-4673-B846-454FF90E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721-28B5-47F6-B8FD-2330E08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DD2-7DA6-4B81-B198-0982C853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7833-D620-4FA7-9F24-4A07F4A1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F65BA8-69E7-4B87-858C-233BB84A5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Channel Selection (DCS) Scheme for 802.1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Cervello, S. Choi, S. Mangold*, and A. Soom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achen University of Technology, Aachen,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12C8-A67A-4603-892F-495E4DDD78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E1200-E3E1-4681-80A8-028E678277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 to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ision announced via beacon frames with a new informatio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ounced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0630-38F1-48F9-A120-663F627782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377D7-4E42-4590-BCCF-D5973A53C6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scheduled moment, e.g., TBTT, all STAs including AP change their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one by changing PHY MIB dot11CurrentChannelNumber using PLME SAP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E-SET.request (MIBattribute, MIBattribute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E-SET.confirm (status, MIB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A0D-138B-4736-8A3C-E3E3295B42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E8815-69BC-40B2-B839-C09166204E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C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-dependent algorithms located in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wo (new)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dd a new information element in beacon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fined WITHOUT any change in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629-2CE4-4229-80BF-9B8D3CFF2E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E90A1-CA5F-441A-BE36-337254AAEE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T requires DFS and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have DCS for some environments, e.g., home environment and offices in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S first, if not working, work in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a DCS mechanism WITHOUT requiring any change in PHYs within T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work with all the current and futur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-dependent algorithms located in 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6CF-C4D0-4341-9B90-5C18CD82F4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875E6-02F8-458B-B82F-221A57C366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Basic Mechanism for Infrastructure B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5D4-8B9A-44B5-928A-547468374C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0503E-AC99-4A03-B04D-43DF1BAED1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is formed by an AP (via MLME-ST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and/or STA(s) experience bad channel condition persistent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pping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(Step 3) used to measure current channel quality in each 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anagement frames for the channel status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687B-030B-4A82-A602-3750128869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236B1-F8BB-4EF3-80D1-C0890424DF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TAs will be considered as sleeping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by AP not desirable except for before the start of a new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nagement frame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begin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nnels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(explained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185B-3397-4BB7-8200-27A103F06A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A491D-1E55-48F0-BD0F-9AD8CF3D08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RSSI and PER when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busy channel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other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“scan” service from MLME to 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ME-SCAN.request and MLME-SCAN.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019-CDC9-46A6-9B41-8EF4314FD1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FBD5C-76C5-4280-95B3-822E25FEEA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RSSI and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I value available to MAC via PHY_RXSTART after reception of a valid PLCP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over, RSSI values not standar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of busy channel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ime and number of cases of PHY_CCA(BUSY) without PHY_R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work unless .11b CS_ONLY CCA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measure alien devices, e.g., H/2, Bluetooth, and 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DF7-8B7D-47B6-86CC-B392DC946F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71372F-E06A-46E4-96D8-F6A1E87358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BSS detected in a channel, the result of the third measurement is only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ame type can be used for current channel status report for 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26E-51C9-448D-9983-8A5F2EC6B3E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A67E24-B674-4CB1-987D-B0D0E8D2A1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measurement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if decided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, e.g., in which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are other channels with the current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A43-771B-4B44-AD50-76B3279AF6A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21D23-7803-4592-B01A-47976867FA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7-13T15:43:40Z</dcterms:modified>
  <cp:revision>109</cp:revision>
  <dc:subject>Submissions</dc:subject>
  <dc:title>Dynamic Channel Selection (DCS) Scheme for 802.11</dc:title>
</cp:coreProperties>
</file>