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AD95B-96B3-4D5F-8114-3FD378C40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BB274-D159-4B41-902D-2AE4521AF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66B2B-CBC1-47F9-947E-47A267AAE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3E916-BF66-4839-81BC-9BA34E2B0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CB670-42FF-43AA-ADE7-7319E0CBC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3A9FB-C62F-4631-8F58-524178A5F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6D8DB-5A21-41C2-B648-09E3D91636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766CC-87FD-4A28-B300-C3F4844CE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30207-BB55-4964-BEA7-98B503B45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CF85E-6D4F-4D7E-A28B-C86FD7F62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4397C-21DA-4F06-99EA-6FAAA8F99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FE310-76C8-4A2B-9972-AFD02AC9F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2286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399360"/>
            <a:ext cx="3124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reg Parks, ShareWav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57600" y="639936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 </a:t>
            </a:r>
            <a:fld id="{28A50849-C9A5-491B-AB5B-95CF96C055E6}"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196</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590760" y="6446880"/>
            <a:ext cx="933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Ge Metrics &amp; Criteria </a:t>
            </a:r>
            <a:r>
              <a:rPr b="0" i="1" lang="en-US" sz="4400" spc="-1" strike="noStrike">
                <a:solidFill>
                  <a:srgbClr val="000000"/>
                </a:solidFill>
                <a:latin typeface="Times New Roman"/>
              </a:rPr>
              <a:t>Ad Hoc</a:t>
            </a:r>
            <a:r>
              <a:rPr b="0" lang="en-US" sz="4400" spc="-1" strike="noStrike">
                <a:solidFill>
                  <a:srgbClr val="000000"/>
                </a:solidFill>
                <a:latin typeface="Times New Roman"/>
              </a:rPr>
              <a:t> Group Summary Report</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gory H. Park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Wave, Inc.</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g.Parks@ShareWave.com</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9DFBAE7-2AB2-4316-8FFD-0941F6E39525}" type="slidenum">
              <a:t>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orities &amp; Admittanc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ssumed that 8 priorities can be specifi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gging of traffic models with priority information is tb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these priorities is up to the MAC propos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e to bandwidth available RSVP/SBM requests is up to MAC proposa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C54CA38-C1FC-49E3-87E7-D5509789331F}" type="slidenum">
              <a:t>10</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ological Model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SS Topolog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 Topolog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 Topolog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2923A5C-3DDB-4A26-9BC5-EC4A14D50E43}" type="slidenum">
              <a:t>1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SS Topologies</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BSSs with APs arranged along a line segmen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BSS is partially overlapped (to an extent tbd) with any adjacent BS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o BSSs at the extremes of the line along which they are arranged are overlapped to the extent that each can detect as interference the others’ headers and preambles but not the others’ dat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BSS is loaded with the same traffic type and amount with the exception of the traffic incurred during implementation the handoff loading mode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4D0C195-8834-4978-9654-AA6D5081FD77}" type="slidenum">
              <a:t>1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de Topologie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1: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P, 2 STAs, and 1 open STA location equally spaced around the periphery of a circle of radius tbd with the AP located at the center (?) of the circl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2:</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P, tbd STAs, and 1 open STA location equally spaced around the periphery of a circle of radius tbd with the AP located at the center (?) of the circle</a:t>
            </a:r>
            <a:endParaRPr b="0" lang="en-US" sz="24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 of STAs is determined from the number of streams to be transported, where no more than 2 simplex or duplex streams are allowed between any one pair of STAs</a:t>
            </a:r>
            <a:endParaRPr b="0" lang="en-US" sz="20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528D285-1080-4C97-A557-58FBFC51D1CC}" type="slidenum">
              <a:t>1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am Topologies</a:t>
            </a:r>
            <a:endParaRPr b="0" lang="en-US" sz="4400" spc="-1" strike="noStrike">
              <a:solidFill>
                <a:srgbClr val="000000"/>
              </a:solidFill>
              <a:latin typeface="Times New Roman"/>
            </a:endParaRPr>
          </a:p>
        </p:txBody>
      </p:sp>
      <p:sp>
        <p:nvSpPr>
          <p:cNvPr id="72"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Topology 1:</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evenly amongst 3 STAs except for the MPEG2 streams, if required, one of which is to be distributed between any two non-AP STAs and the other two(?) of which are to be multicast from the AP to any two non-AP STA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Topology 2:</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more than 2 simplex or duplex streams between any two STAs; the exact topological distribution is tbd except for the MPEG2 streams, if required, one of which is to be distributed between any two non-AP STAs and the other two(?) of which are to be multicast from the AP to any two non-AP STAs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5124AFBB-44CB-4698-BCF3-05EB5930CEDF}" type="slidenum">
              <a:t>1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ading Model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c Loa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 Loa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off Load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13C29F0-9122-41AA-A802-8A08DD1607F6}" type="slidenum">
              <a:t>1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ic Loading Models</a:t>
            </a:r>
            <a:endParaRPr b="0" lang="en-US" sz="4400" spc="-1" strike="noStrike">
              <a:solidFill>
                <a:srgbClr val="000000"/>
              </a:solidFill>
              <a:latin typeface="Times New Roman"/>
            </a:endParaRPr>
          </a:p>
        </p:txBody>
      </p:sp>
      <p:sp>
        <p:nvSpPr>
          <p:cNvPr id="76" name="PlaceHolder 2"/>
          <p:cNvSpPr>
            <a:spLocks noGrp="1"/>
          </p:cNvSpPr>
          <p:nvPr>
            <p:ph/>
          </p:nvPr>
        </p:nvSpPr>
        <p:spPr>
          <a:xfrm>
            <a:off x="533160" y="1676520"/>
            <a:ext cx="830556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models include 50%, 85% &amp; 125% loading</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0%, 85% loading are defined as the  amount of combined loading at each STA which is expected to result in an air time occupancy of close to the specified amount given an estimate of the efficiency of the MA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ary control of loading is variability of bulk dat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 is required(?); 125% loading is pathological cas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ces between measured occupancies will indicate differences in efficiency between proposa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1C8FE52-2CC1-4276-936C-968553D27A7B}" type="slidenum">
              <a:t>1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ic Loading Models (cont.)</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1: 11 Mbps #1 (some enterpri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duplex voice, 0(?) MP3, 0(?) MPEG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der is bulk data distributed equally between STA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2: 54 Mbps #1 (some enterpri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duplex voice, 0(?) MP3, 0(?) MPEG2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der is bulk data distributed equally between STA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56ABEE61-728F-4840-8E23-EA0177B07108}" type="slidenum">
              <a:t>17</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ic Loading Models (cont.)</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3: 11 Mbps #2 (some home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voice, tbd MP3</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MPEG2 between 2 non-AP STA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der is bulk data distributed equally between STAs</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4: 54 Mbps #2 (some home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voice, tbd MP3</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MPEG2 between 2 non-AP STA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MPEG2 multicast from AP to two STA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der is bulk data distributed equally between ST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5C45ACF-BEB4-4BD0-A7BF-7C06175FFD9B}" type="slidenum">
              <a:t>18</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Loading Model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Loading Model, quiescent @85%</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a new STA to the BSS (authenticate and associ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a new bi-directional voice stream between the newly associated STA and a different non-AP ST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the connection be ma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long does the connection take to be ma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es the addition of this STA and stream affect the rest of the quiescent syste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556B306C-1B90-4EA7-951E-A206F47D5990}" type="slidenum">
              <a:t>19</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cipants</a:t>
            </a:r>
            <a:br>
              <a:rPr sz="4400"/>
            </a:br>
            <a:r>
              <a:rPr b="0" i="1" lang="en-US" sz="1800" spc="-1" strike="noStrike">
                <a:solidFill>
                  <a:srgbClr val="000000"/>
                </a:solidFill>
                <a:latin typeface="Times New Roman"/>
              </a:rPr>
              <a:t>over five teleconferences</a:t>
            </a:r>
            <a:endParaRPr b="0" lang="en-US" sz="1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ter Eccles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g Chess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ith Aman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hew Sherm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 Godfr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e Functional Requirements </a:t>
            </a:r>
            <a:r>
              <a:rPr b="0" i="1" lang="en-US" sz="3200" spc="-1" strike="noStrike">
                <a:solidFill>
                  <a:srgbClr val="000000"/>
                </a:solidFill>
                <a:latin typeface="Times New Roman"/>
              </a:rPr>
              <a:t>ad hoc</a:t>
            </a:r>
            <a:r>
              <a:rPr b="0" lang="en-US" sz="3200" spc="-1" strike="noStrike">
                <a:solidFill>
                  <a:srgbClr val="000000"/>
                </a:solidFill>
                <a:latin typeface="Times New Roman"/>
              </a:rPr>
              <a:t> grou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ous participa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D0CC6FF-8686-48BF-B903-DDA68EC25FDD}"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ndoff Loading Model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 Loading Model, quiescent @85%</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the dynamically added STA from the current BSS to an adjacent BSS, also moving the voice stream currently associated with that STA (disassociation, authentication, reassoci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with the BSS on the same channel, and with the BSS on a different channel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the handoff be ma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long does the handoff take to be ma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es the deletion and addition of this STA and stream affect the handed-off stream and the rest of the quiescent system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6B4A7508-AD00-4D73-8203-0EFC45FB3946}" type="slidenum">
              <a:t>20</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oughpu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ream throughput determined by type of traffic issued to and delivered by ST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 defined by traffic mode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3 – defined by traffic mode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EG2 – defined by traffic mode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lk Data – measured, not defin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verall throughput (MAC efficiency) will be determined from the data carried during packet rate achieved at defined loadings measured on the channel</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143E076-49DA-4596-9951-0DA5EEFEE69E}" type="slidenum">
              <a:t>2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ency</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tency is defined to be the duration between the time a packet is enqueued at the input to the source STA and dequeued at the output from the destination ST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ice – 20mS max for STA-to-STA in BSS, 300ms overall round-trip delay budget (ITU)</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3 – tbd mS max</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EG2 – tbd mS max</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k Data – no requirem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1E7F6122-CF1C-4080-BBD9-48E1EFEF4499}" type="slidenum">
              <a:t>2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itter</a:t>
            </a: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itter is defined to be the statistical distribution of variation in the arrival time of an individual packet at the destination. Jitter applies largely to constant packet rate traffic and should generally be no greater than ½ the time between adjacent packets in a stream assuming the packet under study is centered in time between the two adjacent packe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 Gaussian distribution, +/- tbd mS @ 2 sigma</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3 – Gaussian distribution, +/- tbd mS @ 2 sigma</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EG2 – Gaussian distribution, +/- tbd mS @ 2 sigma</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lk Data – no requirement</a:t>
            </a:r>
            <a:endParaRPr b="0" lang="en-US" sz="2400" spc="-1" strike="noStrike">
              <a:solidFill>
                <a:srgbClr val="000000"/>
              </a:solidFill>
              <a:latin typeface="Times New Roman"/>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89EE21A-C79F-4366-899D-37BE3B978DC7}" type="slidenum">
              <a:t>2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Consideration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lapping BS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BSS topologi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 Frequency Sele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expected need to be simulat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t Power Contr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for simulation should be discuss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0854D01-9D16-42D4-B243-415C7E829820}" type="slidenum">
              <a:t>2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ep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de whether this document and companion document #143 will serve as baseline documen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o, decide what remains to be modified or completed in these documents, and with what process and priority, in order to move toward a complet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t, decide how else to proceed to baseline documen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ither continue to modify this document</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create a new docume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A5B6820-AE94-43CE-AE43-C70824F4AD38}" type="slidenum">
              <a:t>2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s &amp; Objectiv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Considera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ffic Models &amp; Prioriti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ological Model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and Dynamic Loading and Handoff</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put, Latency &amp; Jitt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Considera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453A2AE-4AC1-4BA4-AF49-2785C7BCAD06}" type="slidenum">
              <a:t>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nion Docu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143r3</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references tb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1EEBFC4-5568-4D32-8DA5-4B366F0EF9CE}" type="slidenum">
              <a:t>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 up with a set of Metrics and Criteria which will serve as a uniform set of simulation cases against which we can compare propos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e to create the smallest set of cases that cover the broadest range of capabilities in order to limit simulation cases and time spent simulating ca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bd) Use some portion of the set of Metrics and Criteria as functional requirements that any proposal must mee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54B0B06-D002-4E5D-BB85-C0E8F0D34334}" type="slidenum">
              <a:t>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Consideration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model</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Net-based common model</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parameterization pre-determined</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ffic generator</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to OpNet and to empirical testing</a:t>
            </a:r>
            <a:endParaRPr b="0" lang="en-US" sz="2400" spc="-1" strike="noStrike">
              <a:solidFill>
                <a:srgbClr val="000000"/>
              </a:solidFill>
              <a:latin typeface="Times New Roman"/>
            </a:endParaRPr>
          </a:p>
          <a:p>
            <a:pPr lvl="2" marL="107460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validation of simulation model through empirical testing</a:t>
            </a:r>
            <a:endParaRPr b="0" lang="en-US" sz="20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ment point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zation &amp; Throughput: On the channel</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cy &amp; Jitter: At the receiving STA</a:t>
            </a:r>
            <a:endParaRPr b="0" lang="en-US" sz="24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79B217C-32AD-456D-A43A-8AF27E82C866}" type="slidenum">
              <a:t>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sical Layer</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b 11 Mbp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optional short header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a 54 Mbp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fiers tbd</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rates and distributions will be determined from the simulation channel model chosen by the Simulation </a:t>
            </a:r>
            <a:r>
              <a:rPr b="0" i="1" lang="en-US" sz="2800" spc="-1" strike="noStrike">
                <a:solidFill>
                  <a:srgbClr val="000000"/>
                </a:solidFill>
                <a:latin typeface="Times New Roman"/>
              </a:rPr>
              <a:t>ad hoc</a:t>
            </a:r>
            <a:r>
              <a:rPr b="0" lang="en-US" sz="2800" spc="-1" strike="noStrike">
                <a:solidFill>
                  <a:srgbClr val="000000"/>
                </a:solidFill>
                <a:latin typeface="Times New Roman"/>
              </a:rPr>
              <a:t> group and approved by the Metrics and Criteria </a:t>
            </a:r>
            <a:r>
              <a:rPr b="0" i="1" lang="en-US" sz="2800" spc="-1" strike="noStrike">
                <a:solidFill>
                  <a:srgbClr val="000000"/>
                </a:solidFill>
                <a:latin typeface="Times New Roman"/>
              </a:rPr>
              <a:t>ad hoc</a:t>
            </a:r>
            <a:r>
              <a:rPr b="0" lang="en-US" sz="2800" spc="-1" strike="noStrike">
                <a:solidFill>
                  <a:srgbClr val="000000"/>
                </a:solidFill>
                <a:latin typeface="Times New Roman"/>
              </a:rPr>
              <a:t> grou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E7556CC-27FF-4D5A-8762-84F19BA5D42E}" type="slidenum">
              <a:t>7</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ffic Models</a:t>
            </a:r>
            <a:endParaRPr b="0" lang="en-US" sz="4400" spc="-1" strike="noStrike">
              <a:solidFill>
                <a:srgbClr val="000000"/>
              </a:solidFill>
              <a:latin typeface="Times New Roman"/>
            </a:endParaRPr>
          </a:p>
        </p:txBody>
      </p:sp>
      <p:sp>
        <p:nvSpPr>
          <p:cNvPr id="60" name="PlaceHolder 2"/>
          <p:cNvSpPr>
            <a:spLocks noGrp="1"/>
          </p:cNvSpPr>
          <p:nvPr>
            <p:ph/>
          </p:nvPr>
        </p:nvSpPr>
        <p:spPr>
          <a:xfrm>
            <a:off x="533160" y="1981080"/>
            <a:ext cx="8381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ice strea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BR: Two simultaneous opposite-directional (duplex) ADPCM streams each 50 64-byte pps (20ms framing) or 100 32-byte pps (10ms fram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3/low quality video strea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BR: 1000 128-byte pps (simplex 128Kby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EG2/medium quality video strea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BR: Tbd 1504-byte pps (simplex 4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BR: 0 – 4 Mbit/s sinusoidal(?) 5 sec period, CBR additiv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3A234A1-13CF-4547-8492-6A6C4BCF79FE}" type="slidenum">
              <a:t>8</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ffic Models (cont.)</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quality video stream (~20Mbp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s separate from MPEG2 is tbd</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itute with 2 MPEG2 streams(?)</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k data stream</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BR: 60% 64-byte packet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BR: 20% 568-byte packet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BR: 20% 1500-byte packet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ed rate varies with desired overall MAC load</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94 traffic stream</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s a separate traffic model is tb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D2BC3B5-5463-4D03-AC8E-37297E701E1A}" type="slidenum">
              <a:t>9</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Greg Parks</cp:lastModifiedBy>
  <cp:lastPrinted>1998-02-10T13:28:06Z</cp:lastPrinted>
  <dcterms:modified xsi:type="dcterms:W3CDTF">2000-07-12T03:22:25Z</dcterms:modified>
  <cp:revision>45</cp:revision>
  <dc:subject/>
  <dc:title>No Slide Title</dc:title>
</cp:coreProperties>
</file>