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18A-DF58-40DA-9B29-A5434BCF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093-33B0-4832-B65D-9A358ED0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4DC-1659-45A2-B272-8CACEDBA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5CF-2093-4BE5-B77B-EDE79822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A87-7464-4873-9701-F46D0DAB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9660-3F81-41DA-8818-E14D7F17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7FF-5179-4871-82A6-9F1B201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2E69-F70F-42A6-BE9D-60F14432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E447-C0CD-49F6-9122-4641F15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8A3-7FE1-4286-90A4-AECDFFB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451-9C0E-48DE-83EA-2CBA0595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3E80-A603-4BBA-B0D5-F9568E6D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Alantro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5501DF-4BA5-4356-9CE5-DC82B6DC1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b SG Status and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Ph.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b SG Chair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67B-7047-4810-899F-F9CA19BB697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May 2000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PAR and 5 Criteria (docs 114r2 and 115r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ed unanimous approval for PAR and 5 Criteria at SG and WG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is directed by WG to continue work in anticipation of acceptance of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B01-7C84-45ED-800B-9CF87A4CC7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and 5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ified SEC of PAR and 5 Criteria at Monday A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cipate any responses by 5pm on Tu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ddress responses by 5pm on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 will be taken at SEC meeting on Thursday to approve or disapprove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FDAA-D77E-4271-BD4E-FDA58425CBB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for this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ress release announcing T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call for intent to propose to T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 this initial notification and a latter final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4104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-off date for proposals anticipated to be at the November 2000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ork on proposal selec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ork on functional requirement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work on comparison criteria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semi-weekly conference calls to work on selection procedure, functional req. and comparison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D773-C0AB-4FF0-A813-F8216EE3FA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bSG &amp; TG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selection procedure, call for papers, press releas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pt selection procedure, functional requirements, selection criteri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call for proposals with cut-off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-off date for proposals on first day of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hearing proposals and begin selec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35F-F9C8-4D12-BD9A-56C91BF16A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tthew B. Shoemake</cp:lastModifiedBy>
  <cp:lastPrinted>1998-02-10T13:28:06Z</cp:lastPrinted>
  <dcterms:modified xsi:type="dcterms:W3CDTF">2000-07-10T21:06:01Z</dcterms:modified>
  <cp:revision>15</cp:revision>
  <dc:subject/>
  <dc:title>No Slide Title</dc:title>
</cp:coreProperties>
</file>