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4416-AC19-4552-9C23-BBA3A71D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CA3-5BF4-4374-9939-54122BDB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2DD-25F3-4E0F-82C1-410F30E5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52D-0C1B-4D14-B812-3116B227E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1F89-2E99-4D69-AE9E-EC681F26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3EF-C3B3-4D13-898D-C704281A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29C7-F2BB-41E6-9574-345E3691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6FC3-B36B-4178-9A20-481EB17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3B50-50C8-4D57-A6F9-040341A0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36C-4382-4434-B840-60833F35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B1F-0B75-4C0E-9B21-1583F0D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102-FC4C-49CB-B6B3-2288067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Alantro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4F2FA6-305A-4003-82BB-85566C53E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HRb S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000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Jolla, Califor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b SG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A78C-2364-4E1C-872F-5F141E1870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 from th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ment of secretary for the session to take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Mission of the HRb 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00/197 – Status an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for submissions to 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836-9B7F-4F42-B230-B32340A2BD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minutes from May 2000 Seattle Meeting – Document 00/1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d Hoc group to draft 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EFB-7F9B-45C3-AB7D-5D4188CA55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ing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of draf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and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calling for proposals contingent upon approval of 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0DC9-A896-47AC-B652-E71CD1B87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uesday, July 11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:00-3:00pm, Ballroom 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739440" indent="-73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of Draft Press Release by Ad Hoc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issuing press release contingent upon approval of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ing of doc. 00/XXX, TGg Proposal Selec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214-8727-493B-83C0-A58EE3FC0B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uesday, July 11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ing of document 00/XXX, IEEE 802.11 TGg Proposal 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D01C-A4E1-48CF-BE4F-D882FFD71D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Wednesday, July 1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ing of document 00/YYY, IEEE 802.11 TGg Func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59B-65B8-4B88-9626-6A242E4940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hursday, July 1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59EA-8620-43C9-8926-6EB72DB46A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hursday, July 1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B 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Criteria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ing of document 00/ZZZ, IEEE 802.11 TGg Proposal Comparison Criteria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Calls for: Selection Process, Functional Requirements and Comparis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E237-9760-4AA8-9366-629868FC0D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tthew B. Shoemake</cp:lastModifiedBy>
  <cp:lastPrinted>1998-02-10T13:28:06Z</cp:lastPrinted>
  <dcterms:modified xsi:type="dcterms:W3CDTF">2000-07-10T21:19:53Z</dcterms:modified>
  <cp:revision>46</cp:revision>
  <dc:subject/>
  <dc:title>No Slide Title</dc:title>
</cp:coreProperties>
</file>