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D097-FC05-4AAE-B533-D51BEC9C9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7A4B-A66B-444B-9273-F81C18AF6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0000" y="434196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8C23-1E80-4EF1-BC76-266E557E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6934-1A67-4D28-8E33-F0125EE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941-4DC0-4401-BA28-A3DDE606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4D86-0309-4632-936F-3C122DC7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30F-C7CF-43B1-87E3-865B7E1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21F-9ABD-41C3-887E-2BB51BAD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330-8AE3-4006-9B5C-403DAA60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A46-3BEF-44BD-91A6-48C8A1F9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F891-87E9-4AC2-B0F3-9159305E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DB1-715E-4797-918E-92206E8A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3000-07C1-45DD-8418-2C0B29E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9C3-2414-4F0F-B7F3-05EFB4D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8D4F53-C69C-4492-BCC6-CA227649F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3059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ug-n-Play Security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ome &amp; Small Busines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n Brockman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s Not Addre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len’ STAs – access allowed until removed from 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romised private k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argeted environments, ease of use more important than quest for perfect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static private k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anufacture time (pre-calcula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on first start-up of AP/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able security by private key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may be c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Volatile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low as 22 bytes per MAC/PubKey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Detail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/Multicast Key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authentication, AP sends key information to newly authenticated 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SS 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vidual session-key/authentication per STA-STA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 STA to STA traffic within a B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AP may have ability to authenticate STAs and has ACL. Possible solution: AP acts as Key Distribution Center for the BSS and generates and distributes session keys for direct STA to STA traffic within its 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ckward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rrent WEP may still be used for traffic to legacy stations, if this support is required. Broadcast/multicast must use WEP also, then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ssion Key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ssion key may be generated at any required time, based on local policy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security solution in an unmanaged environment (eg compare to configuration ease of Ethernet based net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WEP keys, password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ed implementation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lability: single client for use in various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Scen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user has DSL/Cable and two P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s to create wireless home netwo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Security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try to access the broadband pi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steal files from P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does not care for any extra passwords or softw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vered in other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r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based session ke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address based Access Control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/Nego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-Management’ MAC address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static random private/public key pair per MAC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first contact, APs, Station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/PubKey pairs for other devices if they are on the Access Control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ubsequent contacts, stored MAC/PubKey can be used to prove identity of othe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 Control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L can operate usefully because MAC addresses can be authent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L could be managed through MI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learning mode also (eg learn next STA if button is press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ffie-Hellman key exchang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and Bob want to construct a private key over a public channel. Both agree on a public prim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and primitive root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ul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chooses a random value x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send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to Bob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b chooses a random value 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b send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t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i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ice compute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as (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 p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b computes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as (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d p)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screte logarithm problem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and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, find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iffie-Hellman problem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ive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, and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, find g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d p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Outline of 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 derives its Public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= 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 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its fixed Private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n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 over the air as part of the Authentication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checks MAC address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’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its records. If successful, AP derives Public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’=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 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its fixed Private ke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n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A over 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 calculat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(Y’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sends a hashed valu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he AP over the a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calculat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(X’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If the STA has knowledge of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completed the calculation successfully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refo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S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(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ourier New"/>
              </a:rPr>
              <a:t>A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If this comparison fails, this points to a Rogue STA. Otherwise, STA identity is pr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nd STA derive a session key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s can not deriv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the session 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ed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authenticate with MAC address not in A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authenticate with correct MAC address – different public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ing to authenticate with correct MAC address and public key – unable to calc session key (not knowing private 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an be mutu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n Brockman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Ron Brockmann</dc:creator>
  <dc:description/>
  <dc:language>en-US</dc:language>
  <cp:lastModifiedBy>Harry Worstell</cp:lastModifiedBy>
  <cp:lastPrinted>1998-07-22T00:48:38Z</cp:lastPrinted>
  <dcterms:modified xsi:type="dcterms:W3CDTF">2000-09-21T00:17:43Z</dcterms:modified>
  <cp:revision>268</cp:revision>
  <dc:subject/>
  <dc:title>Plug-n-Play Security for Home and Small Business</dc:title>
</cp:coreProperties>
</file>