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591-D3CE-4AB5-964F-DDB59D21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548-8200-48AE-9636-A2AFB4A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1BF-14E6-4DFF-B08C-65B47195D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450-BA3F-4790-ADED-3AD800C0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235A-A9CD-4D6C-A84C-DF32D59D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760-069F-4021-B380-310E2E8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D3F-AA8C-4AE8-A8A3-A5652CE5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E0D2-EB09-4A2A-BB0C-81C0BD86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2B7-8821-43E3-9575-BF5F15B6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4EB-DE16-4C02-A50A-D5D8A7BF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BA1-C6C4-4012-AD16-8D2DEDBB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8C4-AD21-4C00-89B4-1592C4DF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6CFC0F-3E06-42FB-A703-6F5734940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van.r.green@intel.com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Report TG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ad-hoc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n G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 Architecture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sboro, OR, 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503) 264-84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evan.r.green@inte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uly 11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0EB-7A4C-47BA-ABB2-1D90DC1195E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o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Support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Da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909-937B-4B87-A14B-2D920863786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TGe members to perform simulations of their MAC enhancement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identify problem area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fies performance, spectrum efficienc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FF75-954E-425C-8FB4-6B3A24A667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and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shared set of simulation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s the simulations done soo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consensus faster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 shared set of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ing simulation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independent 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s clarity of proposed enhanc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D0F2-AF8E-42E6-B2BA-0417C79779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an work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ekly conference calls – daily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Opnet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complete 802.11 model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esired traffic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 stack simulation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ly used in 802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ed Opnet’s model vs Virginia T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F26-32B1-470C-933C-36DFBFAA8A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d and prioritized where model needed work to support QoS sim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ized volunteers to contribut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lished method to share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CD2-00F5-498D-8053-1FEA4D1D81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5800" y="1981080"/>
          <a:ext cx="7772400" cy="42116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7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F, Beacon &amp; CF Con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ibutor responsi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 Sherman, AT&amp;T La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 written for initial feature, debug begi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nnel Model, 5GHz &amp; 2.4GHz, home and enterprise with overlapping B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ibutor responsi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antanu, Kangude, et all, Int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 written for single rate cases, debugging 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ED6-F793-4347-A455-76947E4C6A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sical Layer effects, PLCP hea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ibutor responsi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ghyun Choi, et all, Phil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es identified with model, working with Opnet 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 Validation &amp; Ver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ibutor responsibl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ta Chobanian, et all, Cis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tting started, forming strategy, looking into comparing with traffic on real networ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5026-C3E9-495E-B087-112C6605BD3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ormance to current 802.11 spec (DC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ibutor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nghyun Choi, et all, Phil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ylor Salman, et all, Op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veral bugs fixed, work ongo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E69-9BA7-473E-B5FF-6C35A2F53B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of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will continue to work on their contributions to the shared t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mbers are working to simulate their own proposed MAC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simulation results planned for presentation in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van Green, Intel Architecture Lab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692-E552-4FAF-A687-523FAADE8A0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Evan Green</dc:creator>
  <dc:description/>
  <dc:language>en-US</dc:language>
  <cp:lastModifiedBy>Harry R. Worstell</cp:lastModifiedBy>
  <cp:lastPrinted>1998-02-10T13:28:06Z</cp:lastPrinted>
  <dcterms:modified xsi:type="dcterms:W3CDTF">2000-07-12T19:22:56Z</dcterms:modified>
  <cp:revision>73</cp:revision>
  <dc:subject/>
  <dc:title>No Slide Title</dc:title>
</cp:coreProperties>
</file>