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FBB0-B7E5-428F-9197-8A4D941F5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AEC-C3B0-46F8-B855-068ADF22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027-98DE-4511-BA70-8D7157B9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7BA6-54B9-404C-88DB-331981ED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EFD-8988-4B6B-BE02-AEB64F3E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31DF-C32B-4AE4-A22D-A34BBB1A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421-49F9-4229-A6E4-E1DF7D29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B14-82ED-42B3-8FCE-052258A3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AD9-9B84-4832-A60A-F749800F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619-8C03-48FC-8B3B-4507E1C6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CE7-67FC-4DEA-BB44-21B459E3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E8B-31F9-4C86-AD51-9969672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48280" y="6474960"/>
            <a:ext cx="92376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526B88-E4EB-4A29-815E-7DFC69D87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equency Domain Modulators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or 802.11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0384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BD6-0153-4EFB-B64B-CCA4B7E1DB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28600" y="917640"/>
            <a:ext cx="2057400" cy="15984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362320" y="914400"/>
            <a:ext cx="2133360" cy="1650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4572000" y="914400"/>
            <a:ext cx="2133720" cy="1657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2362320" y="2743200"/>
            <a:ext cx="2133360" cy="16621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851480" y="226080"/>
            <a:ext cx="42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2 Mbps Subcarrier 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6810480" y="914400"/>
            <a:ext cx="2181240" cy="16891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6"/>
          <a:stretch/>
        </p:blipFill>
        <p:spPr>
          <a:xfrm>
            <a:off x="171360" y="2743200"/>
            <a:ext cx="2114640" cy="16383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4572000" y="266688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8"/>
          <a:stretch/>
        </p:blipFill>
        <p:spPr>
          <a:xfrm>
            <a:off x="6781680" y="2666880"/>
            <a:ext cx="2210040" cy="16653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9"/>
          <a:stretch/>
        </p:blipFill>
        <p:spPr>
          <a:xfrm>
            <a:off x="152280" y="4648320"/>
            <a:ext cx="2133720" cy="161748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10"/>
          <a:stretch/>
        </p:blipFill>
        <p:spPr>
          <a:xfrm>
            <a:off x="2362320" y="4653000"/>
            <a:ext cx="2133360" cy="1595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11"/>
          <a:stretch/>
        </p:blipFill>
        <p:spPr>
          <a:xfrm>
            <a:off x="4619520" y="4581360"/>
            <a:ext cx="2086200" cy="158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BCD-8CB7-43FB-BD3A-556EE14F8725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96520" y="761760"/>
            <a:ext cx="422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5.5 Mbps CCK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7960" y="262260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49560" y="285120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5320" y="285120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59240" y="2622600"/>
            <a:ext cx="3808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257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78360" y="39942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3064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35560" y="39942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8784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401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9276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97120" y="3994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3160" y="221616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78360" y="26226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6040" y="2887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65240" y="4030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59240" y="3003480"/>
            <a:ext cx="380880" cy="381240"/>
          </a:xfrm>
          <a:prstGeom prst="upArrow">
            <a:avLst>
              <a:gd name="adj1" fmla="val 50000"/>
              <a:gd name="adj2" fmla="val 250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35560" y="2698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435560" y="2698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24280" y="262908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63600" y="19051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im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5240" y="4570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9880" y="43434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6252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5720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67080" y="43434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45720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45720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81280" y="4572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5240" y="51800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49528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1480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67080" y="51814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24280" y="51814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81280" y="51814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5240" y="57895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55627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57913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7080" y="57913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4197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57913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8769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5791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79640" y="4419720"/>
            <a:ext cx="134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4 Sp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28600" y="3559320"/>
            <a:ext cx="3200400" cy="234288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3048120" cy="22384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324480" y="4800600"/>
            <a:ext cx="1295640" cy="990720"/>
          </a:xfrm>
          <a:prstGeom prst="leftArrow">
            <a:avLst>
              <a:gd name="adj1" fmla="val 50000"/>
              <a:gd name="adj2" fmla="val 32694"/>
            </a:avLst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6D1-CC74-4877-8457-4CB0A0BD38A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687280" y="26668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23320" y="2438280"/>
            <a:ext cx="119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/P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521160" y="2362320"/>
            <a:ext cx="12952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638680" y="2362320"/>
            <a:ext cx="83844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83120" y="26668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259092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24760" y="4038480"/>
            <a:ext cx="133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Code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tru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21160" y="39625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71920" y="2590920"/>
            <a:ext cx="10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768320" y="2514600"/>
            <a:ext cx="129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5320" y="2576520"/>
            <a:ext cx="69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87440" y="2819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06396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16440" y="281952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4771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912680" y="837720"/>
            <a:ext cx="519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5.5 Mbps CCK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915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2133720"/>
            <a:ext cx="3505320" cy="2819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697760" y="3249720"/>
            <a:ext cx="15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Const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Ma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038480" y="3580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3962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5181480" y="27432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200040" y="2743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89240" y="3656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15592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7484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5257800" y="2285640"/>
            <a:ext cx="609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5320" y="4067280"/>
            <a:ext cx="69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43434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038560" y="3786480"/>
            <a:ext cx="3473640" cy="2691720"/>
            <a:chOff x="5038560" y="3786480"/>
            <a:chExt cx="3473640" cy="2691720"/>
          </a:xfrm>
        </p:grpSpPr>
        <p:sp>
          <p:nvSpPr>
            <p:cNvPr id="393" name=""/>
            <p:cNvSpPr/>
            <p:nvPr/>
          </p:nvSpPr>
          <p:spPr>
            <a:xfrm>
              <a:off x="5038560" y="6226560"/>
              <a:ext cx="3473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04400" y="4358880"/>
              <a:ext cx="72360" cy="5832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183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3836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519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543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6788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879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0184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53752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8496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1700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4839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8708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0995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42104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7331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32680" y="379656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5848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2964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366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0108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0804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792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5100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62640" y="6231960"/>
              <a:ext cx="26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      2       3       4       5       6      7       8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D0B8-290F-4778-B72F-C2016EA9858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312920" y="22608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5.5 Mbps Codeword Subcarrier Spectr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4495680" y="3581280"/>
            <a:ext cx="3733920" cy="274500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3733920" cy="27352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495680" y="762120"/>
            <a:ext cx="3733920" cy="27273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685800" y="3581280"/>
            <a:ext cx="3657600" cy="268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04B-506B-42C3-AFFE-B3C268E1C2FD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57200" y="733320"/>
            <a:ext cx="2438280" cy="186048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3200400" y="723960"/>
            <a:ext cx="2438280" cy="1866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5943600" y="762120"/>
            <a:ext cx="2590920" cy="19159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57200" y="2705040"/>
            <a:ext cx="2362320" cy="18082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"/>
          <a:stretch/>
        </p:blipFill>
        <p:spPr>
          <a:xfrm>
            <a:off x="457200" y="4597560"/>
            <a:ext cx="2362320" cy="18032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3209760" y="2666880"/>
            <a:ext cx="2428920" cy="18655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5943600" y="2743200"/>
            <a:ext cx="2438280" cy="18669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8"/>
          <a:stretch/>
        </p:blipFill>
        <p:spPr>
          <a:xfrm>
            <a:off x="3200400" y="4599000"/>
            <a:ext cx="2352600" cy="18018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47800" y="2260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5.5 Mbps Subcarrier 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01920" y="5043600"/>
            <a:ext cx="157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Q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onste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77B-E9FD-4A4B-A51F-F2A27642B47B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396520" y="761760"/>
            <a:ext cx="422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1 Mbps CCK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7960" y="262260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49560" y="285120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25320" y="285120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59240" y="2622600"/>
            <a:ext cx="3808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57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78360" y="39942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3064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829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35560" y="39942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58784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40120" y="376560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892760" y="376560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97120" y="3994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13160" y="2216160"/>
            <a:ext cx="73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78360" y="26226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6040" y="2887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65240" y="4030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59240" y="3003480"/>
            <a:ext cx="380880" cy="381240"/>
          </a:xfrm>
          <a:prstGeom prst="upArrow">
            <a:avLst>
              <a:gd name="adj1" fmla="val 50000"/>
              <a:gd name="adj2" fmla="val 250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435560" y="2698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4435560" y="2698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24280" y="262908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63600" y="190512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im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565240" y="457056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43434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45720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67080" y="43434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419720" y="45720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724280" y="457200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76920" y="434340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81280" y="4572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5240" y="518004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9880" y="49528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9625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51814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197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724280" y="518148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876920" y="495288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81280" y="51814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565240" y="57895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55627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9625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14800" y="57913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7080" y="57913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4197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24280" y="5791320"/>
            <a:ext cx="15264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76920" y="5562720"/>
            <a:ext cx="152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5791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24200" y="4419720"/>
            <a:ext cx="145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64 Sp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228600" y="3559320"/>
            <a:ext cx="3200400" cy="23428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5867280" y="1752480"/>
            <a:ext cx="3048120" cy="22384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6324480" y="4800600"/>
            <a:ext cx="1295640" cy="990720"/>
          </a:xfrm>
          <a:prstGeom prst="leftArrow">
            <a:avLst>
              <a:gd name="adj1" fmla="val 50000"/>
              <a:gd name="adj2" fmla="val 32694"/>
            </a:avLst>
          </a:pr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CD8-1330-4F94-A6DB-56490F412D8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5687280" y="26668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23320" y="2438280"/>
            <a:ext cx="119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/P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521160" y="2362320"/>
            <a:ext cx="12952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38680" y="2362320"/>
            <a:ext cx="83844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83120" y="26668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259092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6280" y="4038480"/>
            <a:ext cx="145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Code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tru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3962520"/>
            <a:ext cx="15397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771920" y="2590920"/>
            <a:ext cx="100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68320" y="2514600"/>
            <a:ext cx="129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35320" y="2576520"/>
            <a:ext cx="69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387440" y="2819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6396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816440" y="281952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771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12680" y="837720"/>
            <a:ext cx="519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1 Mbps CCK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915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3880" y="2133720"/>
            <a:ext cx="3505320" cy="2819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97760" y="3413160"/>
            <a:ext cx="15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Conste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Ma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4038480" y="3580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3962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181480" y="27432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3200040" y="2743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089240" y="3656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15592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7484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5257800" y="2285640"/>
            <a:ext cx="609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5320" y="4067280"/>
            <a:ext cx="69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71600" y="4343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038560" y="3786480"/>
            <a:ext cx="3473640" cy="2691720"/>
            <a:chOff x="5038560" y="3786480"/>
            <a:chExt cx="3473640" cy="2691720"/>
          </a:xfrm>
        </p:grpSpPr>
        <p:sp>
          <p:nvSpPr>
            <p:cNvPr id="521" name=""/>
            <p:cNvSpPr/>
            <p:nvPr/>
          </p:nvSpPr>
          <p:spPr>
            <a:xfrm>
              <a:off x="5038560" y="6226560"/>
              <a:ext cx="3473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504400" y="4358880"/>
              <a:ext cx="72360" cy="5832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183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3836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4519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7543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06788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879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0184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53752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8496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61700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64839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678708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0995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2104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7331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332680" y="379656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5848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02964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366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0108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0804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792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100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62640" y="6231960"/>
              <a:ext cx="26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      2       3       4       5       6      7       8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75E-2894-431D-989C-CB995458A29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782720" y="226080"/>
            <a:ext cx="43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11 Mbps Subcarrier 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628560" y="2577960"/>
            <a:ext cx="3791160" cy="306072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"/>
          <a:stretch/>
        </p:blipFill>
        <p:spPr>
          <a:xfrm>
            <a:off x="4743360" y="2587680"/>
            <a:ext cx="3791160" cy="30510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524960" y="181224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-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 3, 5,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749200" y="182844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-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 4, 6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05960" y="100548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341-3D58-4AE4-A355-9ACD479260F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5687280" y="26668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23320" y="2438280"/>
            <a:ext cx="119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/P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21160" y="2362320"/>
            <a:ext cx="12952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38680" y="2362320"/>
            <a:ext cx="83844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783120" y="26668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259092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71960" y="2590920"/>
            <a:ext cx="69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 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28335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816440" y="281952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4771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912680" y="837720"/>
            <a:ext cx="519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1 Mbps PBCC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17640" y="4648320"/>
            <a:ext cx="329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Constellation Mapper Exis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but is Com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181480" y="27432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5592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5257800" y="2285640"/>
            <a:ext cx="609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5038560" y="3786480"/>
            <a:ext cx="3473640" cy="2691720"/>
            <a:chOff x="5038560" y="3786480"/>
            <a:chExt cx="3473640" cy="2691720"/>
          </a:xfrm>
        </p:grpSpPr>
        <p:sp>
          <p:nvSpPr>
            <p:cNvPr id="570" name=""/>
            <p:cNvSpPr/>
            <p:nvPr/>
          </p:nvSpPr>
          <p:spPr>
            <a:xfrm>
              <a:off x="5038560" y="6226560"/>
              <a:ext cx="3473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04400" y="4358880"/>
              <a:ext cx="72360" cy="5832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183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36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451920" y="4339800"/>
              <a:ext cx="7128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543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6788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38792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701840" y="4339800"/>
              <a:ext cx="72360" cy="5868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3752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8496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170040" y="4385160"/>
              <a:ext cx="108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64839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678708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0995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742104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733160" y="4385160"/>
              <a:ext cx="720" cy="1840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332680" y="379656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5848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02964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6366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0108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908040" y="4040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279200" y="378648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551000" y="40496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462640" y="6231960"/>
              <a:ext cx="266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      2       3       4       5       6      7       8 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 rot="18209400">
            <a:off x="2895480" y="3809880"/>
            <a:ext cx="838080" cy="6858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0B6-70DB-4D95-AB40-2B62CC2E816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914400" y="3333600"/>
            <a:ext cx="10666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14400" y="348516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237400" y="3408840"/>
            <a:ext cx="8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351240" y="348516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l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570200" y="3408840"/>
            <a:ext cx="130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20640" y="348516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781320" y="3287880"/>
            <a:ext cx="1031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yc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33720" y="3333600"/>
            <a:ext cx="10666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352680" y="3333600"/>
            <a:ext cx="106704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3333600"/>
            <a:ext cx="12952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019920" y="3333600"/>
            <a:ext cx="6094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781680" y="3333600"/>
            <a:ext cx="106704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3638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200400" y="363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419720" y="363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867280" y="36385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629400" y="3638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75720" y="2647080"/>
            <a:ext cx="53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02.11A OFDM MODULATOR BLOCK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883040" y="4250160"/>
            <a:ext cx="22640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ata Sub-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Constel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PSK:  6, 9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QPSK:  12, 18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16 QAM:  24, 36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64 QAM:  48, 54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5943600" y="379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79640" y="897480"/>
            <a:ext cx="4367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FDM DIRECTLY EMBR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REQUENCY DOMAIN SIGN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7314840" y="259092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950440" y="1981080"/>
            <a:ext cx="279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Used to Eliminate the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for IBI Equ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379680" y="4191120"/>
            <a:ext cx="106704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323520" y="4281480"/>
            <a:ext cx="117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72428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19720" y="457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7467480" y="411444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161120" y="4373640"/>
            <a:ext cx="126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ycl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xte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ub-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E689-C6FE-4A19-A38D-D174346A9BF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682080" y="1065960"/>
            <a:ext cx="17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65120" y="1902240"/>
            <a:ext cx="6590160" cy="36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e frequency domain modulator for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1 and 2 Mbps Barker sign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e frequency domain modulator f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5.5 and 11 Mbps CCK sign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e frequency domain modulator f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5.5 and 11 Mbps PBCC sign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e 802.11b frequency domain modulator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to OFDM modu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clic extensions for Barker or CCK transmission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(non 802.11b varian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031-DD78-4AEB-BE7F-2AA6362AD9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2151000" y="2600280"/>
            <a:ext cx="76212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13120" y="2600280"/>
            <a:ext cx="396252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075400" y="358344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85080" y="358344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787920" y="280404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FFT/FFT S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121120" y="2725920"/>
            <a:ext cx="77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yc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151000" y="3600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913120" y="36003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151000" y="245736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408120" y="216108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 usecs OFDM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98720" y="595800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23036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24559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6082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7608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29131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30654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32180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33703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5226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6752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8275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9798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1324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2847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44370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5896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47419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48942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0468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1991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58086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9612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611352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626580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V="1">
            <a:off x="6418440" y="5029200"/>
            <a:ext cx="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70320" y="481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22600" y="4815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3522240" y="488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41720" y="4886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25280" y="4732920"/>
            <a:ext cx="22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312.5 KHz Tone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66320" y="5197680"/>
            <a:ext cx="117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Sub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198400" y="525996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903640" y="601884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190200" y="36612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473200" y="88344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802.11a OFDM 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43240" y="1946880"/>
            <a:ext cx="281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20 MHz x 4 usecs = 80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303640" y="44575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6418440" y="445752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53280" y="444708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~16.2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18240" y="460044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303640" y="46004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rot="7458600">
            <a:off x="6590520" y="2324160"/>
            <a:ext cx="1143000" cy="7621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27600" y="1461960"/>
            <a:ext cx="20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quivalen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64 Chip Code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BF91-5F5B-4097-995A-B681BF3D135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2215080" y="671040"/>
            <a:ext cx="454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yclic Extension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sed on Any Code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954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24040" y="25146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8526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0812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309840" y="25146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384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670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995640" y="20574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24240" y="251460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52840" y="2514600"/>
            <a:ext cx="228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81440" y="2514600"/>
            <a:ext cx="2286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954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624040" y="46483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8526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812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309840" y="46483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384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7670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95640" y="41911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224240" y="4648320"/>
            <a:ext cx="228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52840" y="4648320"/>
            <a:ext cx="2286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81440" y="4648320"/>
            <a:ext cx="2286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38240" y="4648320"/>
            <a:ext cx="22860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166840" y="4648320"/>
            <a:ext cx="2286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938240" y="4648320"/>
            <a:ext cx="2286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66840" y="4648320"/>
            <a:ext cx="2286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58280" y="202680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de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92840" y="4128840"/>
            <a:ext cx="131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yclically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Exte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ode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35320" y="1767600"/>
            <a:ext cx="265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    2   3    4   5   6   7    8   9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23760" y="3915720"/>
            <a:ext cx="31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0  1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1    2   3    4   5   6   7    8   9   10 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751760" y="5334120"/>
            <a:ext cx="2971800" cy="609480"/>
          </a:xfrm>
          <a:custGeom>
            <a:avLst/>
            <a:gdLst>
              <a:gd name="textAreaLeft" fmla="*/ 519840 w 2971800"/>
              <a:gd name="textAreaRight" fmla="*/ 2154600 w 29718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9"/>
          <a:stretch/>
        </p:blipFill>
        <p:spPr>
          <a:xfrm>
            <a:off x="5486400" y="3141720"/>
            <a:ext cx="3200400" cy="234468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5872320" y="2438280"/>
            <a:ext cx="217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Smoothly Ext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Sub-Carriers in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10C-BC88-45B6-A255-EFEB35FE34B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13400" y="837720"/>
            <a:ext cx="519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 and 2 Mbps BARKER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77960" y="3117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49560" y="33465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5320" y="334656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59240" y="3117960"/>
            <a:ext cx="3808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25720" y="4260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78360" y="4489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30640" y="4260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82920" y="4260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35560" y="4489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87840" y="4260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40120" y="4260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2760" y="4260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45040" y="4489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97320" y="44895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49960" y="4489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7120" y="448956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6320" y="255888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Mbps:  B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Mbps:  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78360" y="311796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6040" y="3382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5240" y="45259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9240" y="3498840"/>
            <a:ext cx="380880" cy="3808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35560" y="3193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35560" y="31935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388620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24280" y="31240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562720" y="1941480"/>
            <a:ext cx="3047760" cy="2325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63600" y="2400480"/>
            <a:ext cx="15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ime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Multi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4880" y="5535720"/>
            <a:ext cx="15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Nar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inc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07400" y="4343400"/>
            <a:ext cx="159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Sinc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B7AA-5CFD-4838-94DC-6DAEB0F0560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657600" cy="2981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137160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8108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3372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7652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82880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8600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3828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59092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74320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9548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4267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51120" y="36180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66960" y="45259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80720" y="1202760"/>
            <a:ext cx="69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arker Code Viewed in Discret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6200" y="298440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11 Chip BARKER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6800" y="226224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FT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33920" y="3429000"/>
            <a:ext cx="609480" cy="16002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D93A-A6AF-41B5-A71B-560A3001B2C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164160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793880" y="466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251080" y="466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40336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94616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09880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5600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708280" y="420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860560" y="466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013200" y="466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165480" y="466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13000" y="4660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21120" y="40114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6960" y="491976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4468680"/>
            <a:ext cx="152280" cy="37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4087800"/>
            <a:ext cx="60984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68560" y="371808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hip Pu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849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4468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4468680"/>
            <a:ext cx="457200" cy="381240"/>
          </a:xfrm>
          <a:prstGeom prst="rightArrow">
            <a:avLst>
              <a:gd name="adj1" fmla="val 50000"/>
              <a:gd name="adj2" fmla="val 2998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8560" y="43927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30840" y="46213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83120" y="439272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35760" y="43927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88040" y="46213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40320" y="439272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92960" y="43927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45240" y="43927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97520" y="462132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50160" y="46213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02440" y="462132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49960" y="4621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317720" y="46576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62720" y="1828800"/>
            <a:ext cx="3200400" cy="2282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03080" y="5194440"/>
            <a:ext cx="157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eriodically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Barker Sa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9440" y="5194440"/>
            <a:ext cx="135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eriodically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Ex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Barker C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84040" y="507996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Times New Roman"/>
              </a:rPr>
              <a:t>conv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8960" y="1218240"/>
            <a:ext cx="338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arker Co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preading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2200" y="762120"/>
            <a:ext cx="147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Pulse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En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67480" y="15238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5A79-BDE8-4E39-8B56-2610FB3F5C0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83720" y="990000"/>
            <a:ext cx="57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Barker Mode Signaling Revis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960" y="28335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49560" y="30621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5320" y="306216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59240" y="283356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25720" y="3747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78360" y="3976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30640" y="3747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2920" y="3747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5560" y="3976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87840" y="3747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40120" y="37479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92760" y="37479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45040" y="3976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97320" y="3976560"/>
            <a:ext cx="152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49960" y="3976560"/>
            <a:ext cx="1522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97120" y="397656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640" y="230040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Mbps:  B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 Mbps:  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78360" y="2833560"/>
            <a:ext cx="380880" cy="38124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040" y="309888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59240" y="3214800"/>
            <a:ext cx="380880" cy="3808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35560" y="290988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435560" y="29095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3525840"/>
            <a:ext cx="2209680" cy="1655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724280" y="284004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553080" y="4572000"/>
            <a:ext cx="2286000" cy="1744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124080" y="4267080"/>
            <a:ext cx="2695680" cy="2117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20600" y="198108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Time Domain Multiply Equ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requency Domain Con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65240" y="396252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248520" y="1752480"/>
            <a:ext cx="2666880" cy="1987560"/>
            <a:chOff x="6248520" y="1752480"/>
            <a:chExt cx="2666880" cy="1987560"/>
          </a:xfrm>
        </p:grpSpPr>
        <p:pic>
          <p:nvPicPr>
            <p:cNvPr id="168" name="" descr=""/>
            <p:cNvPicPr/>
            <p:nvPr/>
          </p:nvPicPr>
          <p:blipFill>
            <a:blip r:embed="rId4"/>
            <a:stretch/>
          </p:blipFill>
          <p:spPr>
            <a:xfrm>
              <a:off x="6248520" y="1752480"/>
              <a:ext cx="2666880" cy="1987560"/>
            </a:xfrm>
            <a:prstGeom prst="rect">
              <a:avLst/>
            </a:prstGeom>
            <a:ln w="12600">
              <a:solidFill>
                <a:srgbClr val="3333cc"/>
              </a:solidFill>
              <a:miter/>
            </a:ln>
          </p:spPr>
        </p:pic>
        <p:sp>
          <p:nvSpPr>
            <p:cNvPr id="169" name=""/>
            <p:cNvSpPr/>
            <p:nvPr/>
          </p:nvSpPr>
          <p:spPr>
            <a:xfrm>
              <a:off x="7481880" y="1947600"/>
              <a:ext cx="166680" cy="156204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15360" y="1947600"/>
              <a:ext cx="166680" cy="156204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48400" y="2109600"/>
              <a:ext cx="166680" cy="140004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15280" y="2239560"/>
              <a:ext cx="166680" cy="127008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81800" y="2369880"/>
              <a:ext cx="166680" cy="113976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48480" y="1947600"/>
              <a:ext cx="166680" cy="156204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81960" y="1947600"/>
              <a:ext cx="166680" cy="156204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15080" y="2044440"/>
              <a:ext cx="166680" cy="146520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48560" y="2174760"/>
              <a:ext cx="166680" cy="133488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82040" y="2304720"/>
              <a:ext cx="166680" cy="1204920"/>
            </a:xfrm>
            <a:custGeom>
              <a:avLst/>
              <a:gdLst/>
              <a:ahLst/>
              <a:rect l="l" t="t" r="r" b="b"/>
              <a:pathLst>
                <a:path w="2274" h="1608">
                  <a:moveTo>
                    <a:pt x="0" y="1608"/>
                  </a:moveTo>
                  <a:lnTo>
                    <a:pt x="7" y="1601"/>
                  </a:lnTo>
                  <a:lnTo>
                    <a:pt x="14" y="1594"/>
                  </a:lnTo>
                  <a:lnTo>
                    <a:pt x="14" y="1587"/>
                  </a:lnTo>
                  <a:lnTo>
                    <a:pt x="21" y="1580"/>
                  </a:lnTo>
                  <a:lnTo>
                    <a:pt x="28" y="1573"/>
                  </a:lnTo>
                  <a:lnTo>
                    <a:pt x="28" y="1566"/>
                  </a:lnTo>
                  <a:lnTo>
                    <a:pt x="35" y="1559"/>
                  </a:lnTo>
                  <a:lnTo>
                    <a:pt x="42" y="1552"/>
                  </a:lnTo>
                  <a:lnTo>
                    <a:pt x="49" y="1544"/>
                  </a:lnTo>
                  <a:lnTo>
                    <a:pt x="49" y="1537"/>
                  </a:lnTo>
                  <a:lnTo>
                    <a:pt x="56" y="1530"/>
                  </a:lnTo>
                  <a:lnTo>
                    <a:pt x="63" y="1523"/>
                  </a:lnTo>
                  <a:lnTo>
                    <a:pt x="71" y="1516"/>
                  </a:lnTo>
                  <a:lnTo>
                    <a:pt x="78" y="1509"/>
                  </a:lnTo>
                  <a:lnTo>
                    <a:pt x="85" y="1502"/>
                  </a:lnTo>
                  <a:lnTo>
                    <a:pt x="92" y="1495"/>
                  </a:lnTo>
                  <a:lnTo>
                    <a:pt x="99" y="1488"/>
                  </a:lnTo>
                  <a:lnTo>
                    <a:pt x="106" y="1481"/>
                  </a:lnTo>
                  <a:lnTo>
                    <a:pt x="113" y="1474"/>
                  </a:lnTo>
                  <a:lnTo>
                    <a:pt x="120" y="1467"/>
                  </a:lnTo>
                  <a:lnTo>
                    <a:pt x="127" y="1467"/>
                  </a:lnTo>
                  <a:lnTo>
                    <a:pt x="134" y="1459"/>
                  </a:lnTo>
                  <a:lnTo>
                    <a:pt x="141" y="1459"/>
                  </a:lnTo>
                  <a:lnTo>
                    <a:pt x="148" y="1459"/>
                  </a:lnTo>
                  <a:lnTo>
                    <a:pt x="156" y="1459"/>
                  </a:lnTo>
                  <a:lnTo>
                    <a:pt x="163" y="1467"/>
                  </a:lnTo>
                  <a:lnTo>
                    <a:pt x="170" y="1467"/>
                  </a:lnTo>
                  <a:lnTo>
                    <a:pt x="177" y="1467"/>
                  </a:lnTo>
                  <a:lnTo>
                    <a:pt x="184" y="1474"/>
                  </a:lnTo>
                  <a:lnTo>
                    <a:pt x="191" y="1481"/>
                  </a:lnTo>
                  <a:lnTo>
                    <a:pt x="198" y="1481"/>
                  </a:lnTo>
                  <a:lnTo>
                    <a:pt x="205" y="1488"/>
                  </a:lnTo>
                  <a:lnTo>
                    <a:pt x="212" y="1495"/>
                  </a:lnTo>
                  <a:lnTo>
                    <a:pt x="219" y="1502"/>
                  </a:lnTo>
                  <a:lnTo>
                    <a:pt x="226" y="1509"/>
                  </a:lnTo>
                  <a:lnTo>
                    <a:pt x="234" y="1516"/>
                  </a:lnTo>
                  <a:lnTo>
                    <a:pt x="234" y="1523"/>
                  </a:lnTo>
                  <a:lnTo>
                    <a:pt x="241" y="1530"/>
                  </a:lnTo>
                  <a:lnTo>
                    <a:pt x="241" y="1537"/>
                  </a:lnTo>
                  <a:lnTo>
                    <a:pt x="248" y="1544"/>
                  </a:lnTo>
                  <a:lnTo>
                    <a:pt x="255" y="1552"/>
                  </a:lnTo>
                  <a:lnTo>
                    <a:pt x="255" y="1559"/>
                  </a:lnTo>
                  <a:lnTo>
                    <a:pt x="262" y="1566"/>
                  </a:lnTo>
                  <a:lnTo>
                    <a:pt x="269" y="1573"/>
                  </a:lnTo>
                  <a:lnTo>
                    <a:pt x="269" y="1580"/>
                  </a:lnTo>
                  <a:lnTo>
                    <a:pt x="276" y="1587"/>
                  </a:lnTo>
                  <a:lnTo>
                    <a:pt x="276" y="1594"/>
                  </a:lnTo>
                  <a:lnTo>
                    <a:pt x="283" y="1601"/>
                  </a:lnTo>
                  <a:lnTo>
                    <a:pt x="283" y="1608"/>
                  </a:lnTo>
                  <a:lnTo>
                    <a:pt x="290" y="1601"/>
                  </a:lnTo>
                  <a:lnTo>
                    <a:pt x="290" y="1594"/>
                  </a:lnTo>
                  <a:lnTo>
                    <a:pt x="297" y="1587"/>
                  </a:lnTo>
                  <a:lnTo>
                    <a:pt x="297" y="1580"/>
                  </a:lnTo>
                  <a:lnTo>
                    <a:pt x="304" y="1573"/>
                  </a:lnTo>
                  <a:lnTo>
                    <a:pt x="304" y="1566"/>
                  </a:lnTo>
                  <a:lnTo>
                    <a:pt x="311" y="1559"/>
                  </a:lnTo>
                  <a:lnTo>
                    <a:pt x="319" y="1552"/>
                  </a:lnTo>
                  <a:lnTo>
                    <a:pt x="319" y="1544"/>
                  </a:lnTo>
                  <a:lnTo>
                    <a:pt x="319" y="1537"/>
                  </a:lnTo>
                  <a:lnTo>
                    <a:pt x="326" y="1530"/>
                  </a:lnTo>
                  <a:lnTo>
                    <a:pt x="326" y="1523"/>
                  </a:lnTo>
                  <a:lnTo>
                    <a:pt x="333" y="1516"/>
                  </a:lnTo>
                  <a:lnTo>
                    <a:pt x="340" y="1509"/>
                  </a:lnTo>
                  <a:lnTo>
                    <a:pt x="340" y="1502"/>
                  </a:lnTo>
                  <a:lnTo>
                    <a:pt x="347" y="1495"/>
                  </a:lnTo>
                  <a:lnTo>
                    <a:pt x="347" y="1488"/>
                  </a:lnTo>
                  <a:lnTo>
                    <a:pt x="354" y="1481"/>
                  </a:lnTo>
                  <a:lnTo>
                    <a:pt x="354" y="1474"/>
                  </a:lnTo>
                  <a:lnTo>
                    <a:pt x="361" y="1467"/>
                  </a:lnTo>
                  <a:lnTo>
                    <a:pt x="368" y="1459"/>
                  </a:lnTo>
                  <a:lnTo>
                    <a:pt x="375" y="1452"/>
                  </a:lnTo>
                  <a:lnTo>
                    <a:pt x="375" y="1445"/>
                  </a:lnTo>
                  <a:lnTo>
                    <a:pt x="382" y="1438"/>
                  </a:lnTo>
                  <a:lnTo>
                    <a:pt x="389" y="1431"/>
                  </a:lnTo>
                  <a:lnTo>
                    <a:pt x="397" y="1424"/>
                  </a:lnTo>
                  <a:lnTo>
                    <a:pt x="404" y="1417"/>
                  </a:lnTo>
                  <a:lnTo>
                    <a:pt x="411" y="1410"/>
                  </a:lnTo>
                  <a:lnTo>
                    <a:pt x="418" y="1403"/>
                  </a:lnTo>
                  <a:lnTo>
                    <a:pt x="425" y="1403"/>
                  </a:lnTo>
                  <a:lnTo>
                    <a:pt x="432" y="1403"/>
                  </a:lnTo>
                  <a:lnTo>
                    <a:pt x="439" y="1403"/>
                  </a:lnTo>
                  <a:lnTo>
                    <a:pt x="446" y="1403"/>
                  </a:lnTo>
                  <a:lnTo>
                    <a:pt x="453" y="1403"/>
                  </a:lnTo>
                  <a:lnTo>
                    <a:pt x="460" y="1410"/>
                  </a:lnTo>
                  <a:lnTo>
                    <a:pt x="467" y="1417"/>
                  </a:lnTo>
                  <a:lnTo>
                    <a:pt x="474" y="1424"/>
                  </a:lnTo>
                  <a:lnTo>
                    <a:pt x="482" y="1431"/>
                  </a:lnTo>
                  <a:lnTo>
                    <a:pt x="489" y="1438"/>
                  </a:lnTo>
                  <a:lnTo>
                    <a:pt x="496" y="1445"/>
                  </a:lnTo>
                  <a:lnTo>
                    <a:pt x="503" y="1452"/>
                  </a:lnTo>
                  <a:lnTo>
                    <a:pt x="503" y="1459"/>
                  </a:lnTo>
                  <a:lnTo>
                    <a:pt x="510" y="1467"/>
                  </a:lnTo>
                  <a:lnTo>
                    <a:pt x="510" y="1474"/>
                  </a:lnTo>
                  <a:lnTo>
                    <a:pt x="517" y="1481"/>
                  </a:lnTo>
                  <a:lnTo>
                    <a:pt x="517" y="1488"/>
                  </a:lnTo>
                  <a:lnTo>
                    <a:pt x="524" y="1495"/>
                  </a:lnTo>
                  <a:lnTo>
                    <a:pt x="524" y="1502"/>
                  </a:lnTo>
                  <a:lnTo>
                    <a:pt x="531" y="1509"/>
                  </a:lnTo>
                  <a:lnTo>
                    <a:pt x="531" y="1516"/>
                  </a:lnTo>
                  <a:lnTo>
                    <a:pt x="538" y="1523"/>
                  </a:lnTo>
                  <a:lnTo>
                    <a:pt x="538" y="1530"/>
                  </a:lnTo>
                  <a:lnTo>
                    <a:pt x="538" y="1537"/>
                  </a:lnTo>
                  <a:lnTo>
                    <a:pt x="545" y="1544"/>
                  </a:lnTo>
                  <a:lnTo>
                    <a:pt x="545" y="1552"/>
                  </a:lnTo>
                  <a:lnTo>
                    <a:pt x="552" y="1559"/>
                  </a:lnTo>
                  <a:lnTo>
                    <a:pt x="552" y="1566"/>
                  </a:lnTo>
                  <a:lnTo>
                    <a:pt x="552" y="1573"/>
                  </a:lnTo>
                  <a:lnTo>
                    <a:pt x="560" y="1580"/>
                  </a:lnTo>
                  <a:lnTo>
                    <a:pt x="560" y="1587"/>
                  </a:lnTo>
                  <a:lnTo>
                    <a:pt x="567" y="1594"/>
                  </a:lnTo>
                  <a:lnTo>
                    <a:pt x="567" y="1601"/>
                  </a:lnTo>
                  <a:lnTo>
                    <a:pt x="567" y="1608"/>
                  </a:lnTo>
                  <a:lnTo>
                    <a:pt x="574" y="1601"/>
                  </a:lnTo>
                  <a:lnTo>
                    <a:pt x="574" y="1594"/>
                  </a:lnTo>
                  <a:lnTo>
                    <a:pt x="574" y="1587"/>
                  </a:lnTo>
                  <a:lnTo>
                    <a:pt x="581" y="1580"/>
                  </a:lnTo>
                  <a:lnTo>
                    <a:pt x="581" y="1573"/>
                  </a:lnTo>
                  <a:lnTo>
                    <a:pt x="581" y="1566"/>
                  </a:lnTo>
                  <a:lnTo>
                    <a:pt x="588" y="1559"/>
                  </a:lnTo>
                  <a:lnTo>
                    <a:pt x="588" y="1552"/>
                  </a:lnTo>
                  <a:lnTo>
                    <a:pt x="588" y="1544"/>
                  </a:lnTo>
                  <a:lnTo>
                    <a:pt x="595" y="1537"/>
                  </a:lnTo>
                  <a:lnTo>
                    <a:pt x="595" y="1530"/>
                  </a:lnTo>
                  <a:lnTo>
                    <a:pt x="595" y="1523"/>
                  </a:lnTo>
                  <a:lnTo>
                    <a:pt x="602" y="1516"/>
                  </a:lnTo>
                  <a:lnTo>
                    <a:pt x="602" y="1509"/>
                  </a:lnTo>
                  <a:lnTo>
                    <a:pt x="602" y="1502"/>
                  </a:lnTo>
                  <a:lnTo>
                    <a:pt x="609" y="1495"/>
                  </a:lnTo>
                  <a:lnTo>
                    <a:pt x="609" y="1488"/>
                  </a:lnTo>
                  <a:lnTo>
                    <a:pt x="616" y="1481"/>
                  </a:lnTo>
                  <a:lnTo>
                    <a:pt x="616" y="1474"/>
                  </a:lnTo>
                  <a:lnTo>
                    <a:pt x="616" y="1467"/>
                  </a:lnTo>
                  <a:lnTo>
                    <a:pt x="616" y="1459"/>
                  </a:lnTo>
                  <a:lnTo>
                    <a:pt x="623" y="1452"/>
                  </a:lnTo>
                  <a:lnTo>
                    <a:pt x="623" y="1445"/>
                  </a:lnTo>
                  <a:lnTo>
                    <a:pt x="623" y="1438"/>
                  </a:lnTo>
                  <a:lnTo>
                    <a:pt x="630" y="1431"/>
                  </a:lnTo>
                  <a:lnTo>
                    <a:pt x="630" y="1424"/>
                  </a:lnTo>
                  <a:lnTo>
                    <a:pt x="637" y="1417"/>
                  </a:lnTo>
                  <a:lnTo>
                    <a:pt x="637" y="1410"/>
                  </a:lnTo>
                  <a:lnTo>
                    <a:pt x="637" y="1403"/>
                  </a:lnTo>
                  <a:lnTo>
                    <a:pt x="645" y="1396"/>
                  </a:lnTo>
                  <a:lnTo>
                    <a:pt x="645" y="1389"/>
                  </a:lnTo>
                  <a:lnTo>
                    <a:pt x="652" y="1382"/>
                  </a:lnTo>
                  <a:lnTo>
                    <a:pt x="652" y="1374"/>
                  </a:lnTo>
                  <a:lnTo>
                    <a:pt x="652" y="1367"/>
                  </a:lnTo>
                  <a:lnTo>
                    <a:pt x="652" y="1360"/>
                  </a:lnTo>
                  <a:lnTo>
                    <a:pt x="659" y="1353"/>
                  </a:lnTo>
                  <a:lnTo>
                    <a:pt x="659" y="1346"/>
                  </a:lnTo>
                  <a:lnTo>
                    <a:pt x="666" y="1339"/>
                  </a:lnTo>
                  <a:lnTo>
                    <a:pt x="666" y="1332"/>
                  </a:lnTo>
                  <a:lnTo>
                    <a:pt x="673" y="1325"/>
                  </a:lnTo>
                  <a:lnTo>
                    <a:pt x="673" y="1318"/>
                  </a:lnTo>
                  <a:lnTo>
                    <a:pt x="680" y="1311"/>
                  </a:lnTo>
                  <a:lnTo>
                    <a:pt x="687" y="1304"/>
                  </a:lnTo>
                  <a:lnTo>
                    <a:pt x="687" y="1296"/>
                  </a:lnTo>
                  <a:lnTo>
                    <a:pt x="694" y="1289"/>
                  </a:lnTo>
                  <a:lnTo>
                    <a:pt x="694" y="1282"/>
                  </a:lnTo>
                  <a:lnTo>
                    <a:pt x="701" y="1275"/>
                  </a:lnTo>
                  <a:lnTo>
                    <a:pt x="708" y="1268"/>
                  </a:lnTo>
                  <a:lnTo>
                    <a:pt x="715" y="1261"/>
                  </a:lnTo>
                  <a:lnTo>
                    <a:pt x="723" y="1261"/>
                  </a:lnTo>
                  <a:lnTo>
                    <a:pt x="730" y="1261"/>
                  </a:lnTo>
                  <a:lnTo>
                    <a:pt x="737" y="1261"/>
                  </a:lnTo>
                  <a:lnTo>
                    <a:pt x="744" y="1261"/>
                  </a:lnTo>
                  <a:lnTo>
                    <a:pt x="751" y="1268"/>
                  </a:lnTo>
                  <a:lnTo>
                    <a:pt x="758" y="1275"/>
                  </a:lnTo>
                  <a:lnTo>
                    <a:pt x="765" y="1282"/>
                  </a:lnTo>
                  <a:lnTo>
                    <a:pt x="765" y="1289"/>
                  </a:lnTo>
                  <a:lnTo>
                    <a:pt x="772" y="1296"/>
                  </a:lnTo>
                  <a:lnTo>
                    <a:pt x="772" y="1304"/>
                  </a:lnTo>
                  <a:lnTo>
                    <a:pt x="779" y="1311"/>
                  </a:lnTo>
                  <a:lnTo>
                    <a:pt x="779" y="1318"/>
                  </a:lnTo>
                  <a:lnTo>
                    <a:pt x="786" y="1325"/>
                  </a:lnTo>
                  <a:lnTo>
                    <a:pt x="786" y="1332"/>
                  </a:lnTo>
                  <a:lnTo>
                    <a:pt x="793" y="1339"/>
                  </a:lnTo>
                  <a:lnTo>
                    <a:pt x="793" y="1346"/>
                  </a:lnTo>
                  <a:lnTo>
                    <a:pt x="793" y="1353"/>
                  </a:lnTo>
                  <a:lnTo>
                    <a:pt x="800" y="1360"/>
                  </a:lnTo>
                  <a:lnTo>
                    <a:pt x="800" y="1367"/>
                  </a:lnTo>
                  <a:lnTo>
                    <a:pt x="800" y="1374"/>
                  </a:lnTo>
                  <a:lnTo>
                    <a:pt x="800" y="1382"/>
                  </a:lnTo>
                  <a:lnTo>
                    <a:pt x="808" y="1389"/>
                  </a:lnTo>
                  <a:lnTo>
                    <a:pt x="808" y="1403"/>
                  </a:lnTo>
                  <a:lnTo>
                    <a:pt x="808" y="1410"/>
                  </a:lnTo>
                  <a:lnTo>
                    <a:pt x="815" y="1417"/>
                  </a:lnTo>
                  <a:lnTo>
                    <a:pt x="815" y="1424"/>
                  </a:lnTo>
                  <a:lnTo>
                    <a:pt x="815" y="1431"/>
                  </a:lnTo>
                  <a:lnTo>
                    <a:pt x="822" y="1445"/>
                  </a:lnTo>
                  <a:lnTo>
                    <a:pt x="822" y="1452"/>
                  </a:lnTo>
                  <a:lnTo>
                    <a:pt x="822" y="1459"/>
                  </a:lnTo>
                  <a:lnTo>
                    <a:pt x="829" y="1474"/>
                  </a:lnTo>
                  <a:lnTo>
                    <a:pt x="829" y="1481"/>
                  </a:lnTo>
                  <a:lnTo>
                    <a:pt x="829" y="1495"/>
                  </a:lnTo>
                  <a:lnTo>
                    <a:pt x="836" y="1502"/>
                  </a:lnTo>
                  <a:lnTo>
                    <a:pt x="836" y="1516"/>
                  </a:lnTo>
                  <a:lnTo>
                    <a:pt x="836" y="1523"/>
                  </a:lnTo>
                  <a:lnTo>
                    <a:pt x="836" y="1537"/>
                  </a:lnTo>
                  <a:lnTo>
                    <a:pt x="843" y="1544"/>
                  </a:lnTo>
                  <a:lnTo>
                    <a:pt x="843" y="1559"/>
                  </a:lnTo>
                  <a:lnTo>
                    <a:pt x="843" y="1573"/>
                  </a:lnTo>
                  <a:lnTo>
                    <a:pt x="850" y="1587"/>
                  </a:lnTo>
                  <a:lnTo>
                    <a:pt x="850" y="1594"/>
                  </a:lnTo>
                  <a:lnTo>
                    <a:pt x="850" y="1608"/>
                  </a:lnTo>
                  <a:lnTo>
                    <a:pt x="857" y="1594"/>
                  </a:lnTo>
                  <a:lnTo>
                    <a:pt x="857" y="1580"/>
                  </a:lnTo>
                  <a:lnTo>
                    <a:pt x="857" y="1573"/>
                  </a:lnTo>
                  <a:lnTo>
                    <a:pt x="864" y="1559"/>
                  </a:lnTo>
                  <a:lnTo>
                    <a:pt x="864" y="1544"/>
                  </a:lnTo>
                  <a:lnTo>
                    <a:pt x="864" y="1530"/>
                  </a:lnTo>
                  <a:lnTo>
                    <a:pt x="871" y="1516"/>
                  </a:lnTo>
                  <a:lnTo>
                    <a:pt x="871" y="1502"/>
                  </a:lnTo>
                  <a:lnTo>
                    <a:pt x="871" y="1488"/>
                  </a:lnTo>
                  <a:lnTo>
                    <a:pt x="878" y="1474"/>
                  </a:lnTo>
                  <a:lnTo>
                    <a:pt x="878" y="1459"/>
                  </a:lnTo>
                  <a:lnTo>
                    <a:pt x="878" y="1445"/>
                  </a:lnTo>
                  <a:lnTo>
                    <a:pt x="878" y="1431"/>
                  </a:lnTo>
                  <a:lnTo>
                    <a:pt x="885" y="1417"/>
                  </a:lnTo>
                  <a:lnTo>
                    <a:pt x="885" y="1403"/>
                  </a:lnTo>
                  <a:lnTo>
                    <a:pt x="885" y="1382"/>
                  </a:lnTo>
                  <a:lnTo>
                    <a:pt x="893" y="1367"/>
                  </a:lnTo>
                  <a:lnTo>
                    <a:pt x="893" y="1353"/>
                  </a:lnTo>
                  <a:lnTo>
                    <a:pt x="893" y="1339"/>
                  </a:lnTo>
                  <a:lnTo>
                    <a:pt x="900" y="1325"/>
                  </a:lnTo>
                  <a:lnTo>
                    <a:pt x="900" y="1304"/>
                  </a:lnTo>
                  <a:lnTo>
                    <a:pt x="900" y="1289"/>
                  </a:lnTo>
                  <a:lnTo>
                    <a:pt x="907" y="1275"/>
                  </a:lnTo>
                  <a:lnTo>
                    <a:pt x="907" y="1261"/>
                  </a:lnTo>
                  <a:lnTo>
                    <a:pt x="907" y="1240"/>
                  </a:lnTo>
                  <a:lnTo>
                    <a:pt x="914" y="1226"/>
                  </a:lnTo>
                  <a:lnTo>
                    <a:pt x="914" y="1211"/>
                  </a:lnTo>
                  <a:lnTo>
                    <a:pt x="914" y="1190"/>
                  </a:lnTo>
                  <a:lnTo>
                    <a:pt x="914" y="1176"/>
                  </a:lnTo>
                  <a:lnTo>
                    <a:pt x="921" y="1162"/>
                  </a:lnTo>
                  <a:lnTo>
                    <a:pt x="921" y="1141"/>
                  </a:lnTo>
                  <a:lnTo>
                    <a:pt x="921" y="1126"/>
                  </a:lnTo>
                  <a:lnTo>
                    <a:pt x="928" y="1105"/>
                  </a:lnTo>
                  <a:lnTo>
                    <a:pt x="928" y="1091"/>
                  </a:lnTo>
                  <a:lnTo>
                    <a:pt x="928" y="1077"/>
                  </a:lnTo>
                  <a:lnTo>
                    <a:pt x="935" y="1056"/>
                  </a:lnTo>
                  <a:lnTo>
                    <a:pt x="935" y="1041"/>
                  </a:lnTo>
                  <a:lnTo>
                    <a:pt x="935" y="1020"/>
                  </a:lnTo>
                  <a:lnTo>
                    <a:pt x="942" y="1006"/>
                  </a:lnTo>
                  <a:lnTo>
                    <a:pt x="942" y="992"/>
                  </a:lnTo>
                  <a:lnTo>
                    <a:pt x="942" y="971"/>
                  </a:lnTo>
                  <a:lnTo>
                    <a:pt x="949" y="956"/>
                  </a:lnTo>
                  <a:lnTo>
                    <a:pt x="949" y="935"/>
                  </a:lnTo>
                  <a:lnTo>
                    <a:pt x="949" y="921"/>
                  </a:lnTo>
                  <a:lnTo>
                    <a:pt x="949" y="900"/>
                  </a:lnTo>
                  <a:lnTo>
                    <a:pt x="956" y="886"/>
                  </a:lnTo>
                  <a:lnTo>
                    <a:pt x="956" y="871"/>
                  </a:lnTo>
                  <a:lnTo>
                    <a:pt x="956" y="850"/>
                  </a:lnTo>
                  <a:lnTo>
                    <a:pt x="963" y="836"/>
                  </a:lnTo>
                  <a:lnTo>
                    <a:pt x="963" y="815"/>
                  </a:lnTo>
                  <a:lnTo>
                    <a:pt x="963" y="800"/>
                  </a:lnTo>
                  <a:lnTo>
                    <a:pt x="971" y="786"/>
                  </a:lnTo>
                  <a:lnTo>
                    <a:pt x="971" y="765"/>
                  </a:lnTo>
                  <a:lnTo>
                    <a:pt x="971" y="751"/>
                  </a:lnTo>
                  <a:lnTo>
                    <a:pt x="978" y="730"/>
                  </a:lnTo>
                  <a:lnTo>
                    <a:pt x="978" y="715"/>
                  </a:lnTo>
                  <a:lnTo>
                    <a:pt x="978" y="701"/>
                  </a:lnTo>
                  <a:lnTo>
                    <a:pt x="985" y="680"/>
                  </a:lnTo>
                  <a:lnTo>
                    <a:pt x="985" y="666"/>
                  </a:lnTo>
                  <a:lnTo>
                    <a:pt x="985" y="652"/>
                  </a:lnTo>
                  <a:lnTo>
                    <a:pt x="985" y="630"/>
                  </a:lnTo>
                  <a:lnTo>
                    <a:pt x="992" y="616"/>
                  </a:lnTo>
                  <a:lnTo>
                    <a:pt x="992" y="602"/>
                  </a:lnTo>
                  <a:lnTo>
                    <a:pt x="992" y="581"/>
                  </a:lnTo>
                  <a:lnTo>
                    <a:pt x="999" y="567"/>
                  </a:lnTo>
                  <a:lnTo>
                    <a:pt x="999" y="552"/>
                  </a:lnTo>
                  <a:lnTo>
                    <a:pt x="999" y="538"/>
                  </a:lnTo>
                  <a:lnTo>
                    <a:pt x="1006" y="524"/>
                  </a:lnTo>
                  <a:lnTo>
                    <a:pt x="1006" y="503"/>
                  </a:lnTo>
                  <a:lnTo>
                    <a:pt x="1006" y="489"/>
                  </a:lnTo>
                  <a:lnTo>
                    <a:pt x="1013" y="475"/>
                  </a:lnTo>
                  <a:lnTo>
                    <a:pt x="1013" y="460"/>
                  </a:lnTo>
                  <a:lnTo>
                    <a:pt x="1013" y="446"/>
                  </a:lnTo>
                  <a:lnTo>
                    <a:pt x="1020" y="432"/>
                  </a:lnTo>
                  <a:lnTo>
                    <a:pt x="1020" y="418"/>
                  </a:lnTo>
                  <a:lnTo>
                    <a:pt x="1020" y="404"/>
                  </a:lnTo>
                  <a:lnTo>
                    <a:pt x="1027" y="390"/>
                  </a:lnTo>
                  <a:lnTo>
                    <a:pt x="1027" y="375"/>
                  </a:lnTo>
                  <a:lnTo>
                    <a:pt x="1027" y="361"/>
                  </a:lnTo>
                  <a:lnTo>
                    <a:pt x="1027" y="347"/>
                  </a:lnTo>
                  <a:lnTo>
                    <a:pt x="1034" y="333"/>
                  </a:lnTo>
                  <a:lnTo>
                    <a:pt x="1034" y="319"/>
                  </a:lnTo>
                  <a:lnTo>
                    <a:pt x="1034" y="304"/>
                  </a:lnTo>
                  <a:lnTo>
                    <a:pt x="1041" y="297"/>
                  </a:lnTo>
                  <a:lnTo>
                    <a:pt x="1041" y="283"/>
                  </a:lnTo>
                  <a:lnTo>
                    <a:pt x="1041" y="269"/>
                  </a:lnTo>
                  <a:lnTo>
                    <a:pt x="1048" y="255"/>
                  </a:lnTo>
                  <a:lnTo>
                    <a:pt x="1048" y="248"/>
                  </a:lnTo>
                  <a:lnTo>
                    <a:pt x="1048" y="234"/>
                  </a:lnTo>
                  <a:lnTo>
                    <a:pt x="1056" y="227"/>
                  </a:lnTo>
                  <a:lnTo>
                    <a:pt x="1056" y="212"/>
                  </a:lnTo>
                  <a:lnTo>
                    <a:pt x="1056" y="198"/>
                  </a:lnTo>
                  <a:lnTo>
                    <a:pt x="1063" y="191"/>
                  </a:lnTo>
                  <a:lnTo>
                    <a:pt x="1063" y="177"/>
                  </a:lnTo>
                  <a:lnTo>
                    <a:pt x="1063" y="170"/>
                  </a:lnTo>
                  <a:lnTo>
                    <a:pt x="1063" y="163"/>
                  </a:lnTo>
                  <a:lnTo>
                    <a:pt x="1070" y="149"/>
                  </a:lnTo>
                  <a:lnTo>
                    <a:pt x="1070" y="142"/>
                  </a:lnTo>
                  <a:lnTo>
                    <a:pt x="1070" y="134"/>
                  </a:lnTo>
                  <a:lnTo>
                    <a:pt x="1077" y="120"/>
                  </a:lnTo>
                  <a:lnTo>
                    <a:pt x="1077" y="113"/>
                  </a:lnTo>
                  <a:lnTo>
                    <a:pt x="1077" y="106"/>
                  </a:lnTo>
                  <a:lnTo>
                    <a:pt x="1084" y="99"/>
                  </a:lnTo>
                  <a:lnTo>
                    <a:pt x="1084" y="92"/>
                  </a:lnTo>
                  <a:lnTo>
                    <a:pt x="1084" y="85"/>
                  </a:lnTo>
                  <a:lnTo>
                    <a:pt x="1091" y="78"/>
                  </a:lnTo>
                  <a:lnTo>
                    <a:pt x="1091" y="71"/>
                  </a:lnTo>
                  <a:lnTo>
                    <a:pt x="1091" y="64"/>
                  </a:lnTo>
                  <a:lnTo>
                    <a:pt x="1098" y="56"/>
                  </a:lnTo>
                  <a:lnTo>
                    <a:pt x="1098" y="49"/>
                  </a:lnTo>
                  <a:lnTo>
                    <a:pt x="1098" y="42"/>
                  </a:lnTo>
                  <a:lnTo>
                    <a:pt x="1105" y="35"/>
                  </a:lnTo>
                  <a:lnTo>
                    <a:pt x="1105" y="28"/>
                  </a:lnTo>
                  <a:lnTo>
                    <a:pt x="1112" y="21"/>
                  </a:lnTo>
                  <a:lnTo>
                    <a:pt x="1119" y="14"/>
                  </a:lnTo>
                  <a:lnTo>
                    <a:pt x="1126" y="7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8" y="7"/>
                  </a:lnTo>
                  <a:lnTo>
                    <a:pt x="1155" y="14"/>
                  </a:lnTo>
                  <a:lnTo>
                    <a:pt x="1162" y="21"/>
                  </a:lnTo>
                  <a:lnTo>
                    <a:pt x="1169" y="28"/>
                  </a:lnTo>
                  <a:lnTo>
                    <a:pt x="1169" y="35"/>
                  </a:lnTo>
                  <a:lnTo>
                    <a:pt x="1176" y="42"/>
                  </a:lnTo>
                  <a:lnTo>
                    <a:pt x="1176" y="49"/>
                  </a:lnTo>
                  <a:lnTo>
                    <a:pt x="1176" y="56"/>
                  </a:lnTo>
                  <a:lnTo>
                    <a:pt x="1183" y="64"/>
                  </a:lnTo>
                  <a:lnTo>
                    <a:pt x="1183" y="71"/>
                  </a:lnTo>
                  <a:lnTo>
                    <a:pt x="1183" y="78"/>
                  </a:lnTo>
                  <a:lnTo>
                    <a:pt x="1190" y="85"/>
                  </a:lnTo>
                  <a:lnTo>
                    <a:pt x="1190" y="92"/>
                  </a:lnTo>
                  <a:lnTo>
                    <a:pt x="1190" y="99"/>
                  </a:lnTo>
                  <a:lnTo>
                    <a:pt x="1197" y="106"/>
                  </a:lnTo>
                  <a:lnTo>
                    <a:pt x="1197" y="113"/>
                  </a:lnTo>
                  <a:lnTo>
                    <a:pt x="1197" y="120"/>
                  </a:lnTo>
                  <a:lnTo>
                    <a:pt x="1204" y="134"/>
                  </a:lnTo>
                  <a:lnTo>
                    <a:pt x="1204" y="142"/>
                  </a:lnTo>
                  <a:lnTo>
                    <a:pt x="1204" y="149"/>
                  </a:lnTo>
                  <a:lnTo>
                    <a:pt x="1211" y="163"/>
                  </a:lnTo>
                  <a:lnTo>
                    <a:pt x="1211" y="170"/>
                  </a:lnTo>
                  <a:lnTo>
                    <a:pt x="1211" y="177"/>
                  </a:lnTo>
                  <a:lnTo>
                    <a:pt x="1211" y="191"/>
                  </a:lnTo>
                  <a:lnTo>
                    <a:pt x="1219" y="198"/>
                  </a:lnTo>
                  <a:lnTo>
                    <a:pt x="1219" y="212"/>
                  </a:lnTo>
                  <a:lnTo>
                    <a:pt x="1219" y="227"/>
                  </a:lnTo>
                  <a:lnTo>
                    <a:pt x="1226" y="234"/>
                  </a:lnTo>
                  <a:lnTo>
                    <a:pt x="1226" y="248"/>
                  </a:lnTo>
                  <a:lnTo>
                    <a:pt x="1226" y="255"/>
                  </a:lnTo>
                  <a:lnTo>
                    <a:pt x="1233" y="269"/>
                  </a:lnTo>
                  <a:lnTo>
                    <a:pt x="1233" y="283"/>
                  </a:lnTo>
                  <a:lnTo>
                    <a:pt x="1233" y="297"/>
                  </a:lnTo>
                  <a:lnTo>
                    <a:pt x="1240" y="304"/>
                  </a:lnTo>
                  <a:lnTo>
                    <a:pt x="1240" y="319"/>
                  </a:lnTo>
                  <a:lnTo>
                    <a:pt x="1240" y="333"/>
                  </a:lnTo>
                  <a:lnTo>
                    <a:pt x="1247" y="347"/>
                  </a:lnTo>
                  <a:lnTo>
                    <a:pt x="1247" y="361"/>
                  </a:lnTo>
                  <a:lnTo>
                    <a:pt x="1247" y="375"/>
                  </a:lnTo>
                  <a:lnTo>
                    <a:pt x="1247" y="390"/>
                  </a:lnTo>
                  <a:lnTo>
                    <a:pt x="1254" y="404"/>
                  </a:lnTo>
                  <a:lnTo>
                    <a:pt x="1254" y="418"/>
                  </a:lnTo>
                  <a:lnTo>
                    <a:pt x="1254" y="432"/>
                  </a:lnTo>
                  <a:lnTo>
                    <a:pt x="1261" y="446"/>
                  </a:lnTo>
                  <a:lnTo>
                    <a:pt x="1261" y="460"/>
                  </a:lnTo>
                  <a:lnTo>
                    <a:pt x="1261" y="475"/>
                  </a:lnTo>
                  <a:lnTo>
                    <a:pt x="1268" y="489"/>
                  </a:lnTo>
                  <a:lnTo>
                    <a:pt x="1268" y="503"/>
                  </a:lnTo>
                  <a:lnTo>
                    <a:pt x="1268" y="524"/>
                  </a:lnTo>
                  <a:lnTo>
                    <a:pt x="1275" y="538"/>
                  </a:lnTo>
                  <a:lnTo>
                    <a:pt x="1275" y="552"/>
                  </a:lnTo>
                  <a:lnTo>
                    <a:pt x="1275" y="567"/>
                  </a:lnTo>
                  <a:lnTo>
                    <a:pt x="1282" y="581"/>
                  </a:lnTo>
                  <a:lnTo>
                    <a:pt x="1282" y="602"/>
                  </a:lnTo>
                  <a:lnTo>
                    <a:pt x="1282" y="616"/>
                  </a:lnTo>
                  <a:lnTo>
                    <a:pt x="1289" y="630"/>
                  </a:lnTo>
                  <a:lnTo>
                    <a:pt x="1289" y="652"/>
                  </a:lnTo>
                  <a:lnTo>
                    <a:pt x="1289" y="666"/>
                  </a:lnTo>
                  <a:lnTo>
                    <a:pt x="1289" y="680"/>
                  </a:lnTo>
                  <a:lnTo>
                    <a:pt x="1297" y="701"/>
                  </a:lnTo>
                  <a:lnTo>
                    <a:pt x="1297" y="715"/>
                  </a:lnTo>
                  <a:lnTo>
                    <a:pt x="1297" y="730"/>
                  </a:lnTo>
                  <a:lnTo>
                    <a:pt x="1304" y="751"/>
                  </a:lnTo>
                  <a:lnTo>
                    <a:pt x="1304" y="765"/>
                  </a:lnTo>
                  <a:lnTo>
                    <a:pt x="1304" y="786"/>
                  </a:lnTo>
                  <a:lnTo>
                    <a:pt x="1311" y="800"/>
                  </a:lnTo>
                  <a:lnTo>
                    <a:pt x="1311" y="815"/>
                  </a:lnTo>
                  <a:lnTo>
                    <a:pt x="1311" y="836"/>
                  </a:lnTo>
                  <a:lnTo>
                    <a:pt x="1318" y="850"/>
                  </a:lnTo>
                  <a:lnTo>
                    <a:pt x="1318" y="871"/>
                  </a:lnTo>
                  <a:lnTo>
                    <a:pt x="1318" y="886"/>
                  </a:lnTo>
                  <a:lnTo>
                    <a:pt x="1325" y="900"/>
                  </a:lnTo>
                  <a:lnTo>
                    <a:pt x="1325" y="921"/>
                  </a:lnTo>
                  <a:lnTo>
                    <a:pt x="1325" y="935"/>
                  </a:lnTo>
                  <a:lnTo>
                    <a:pt x="1325" y="956"/>
                  </a:lnTo>
                  <a:lnTo>
                    <a:pt x="1332" y="971"/>
                  </a:lnTo>
                  <a:lnTo>
                    <a:pt x="1332" y="992"/>
                  </a:lnTo>
                  <a:lnTo>
                    <a:pt x="1332" y="1006"/>
                  </a:lnTo>
                  <a:lnTo>
                    <a:pt x="1339" y="1020"/>
                  </a:lnTo>
                  <a:lnTo>
                    <a:pt x="1339" y="1041"/>
                  </a:lnTo>
                  <a:lnTo>
                    <a:pt x="1339" y="1056"/>
                  </a:lnTo>
                  <a:lnTo>
                    <a:pt x="1346" y="1077"/>
                  </a:lnTo>
                  <a:lnTo>
                    <a:pt x="1346" y="1091"/>
                  </a:lnTo>
                  <a:lnTo>
                    <a:pt x="1346" y="1105"/>
                  </a:lnTo>
                  <a:lnTo>
                    <a:pt x="1353" y="1126"/>
                  </a:lnTo>
                  <a:lnTo>
                    <a:pt x="1353" y="1141"/>
                  </a:lnTo>
                  <a:lnTo>
                    <a:pt x="1353" y="1162"/>
                  </a:lnTo>
                  <a:lnTo>
                    <a:pt x="1360" y="1176"/>
                  </a:lnTo>
                  <a:lnTo>
                    <a:pt x="1360" y="1190"/>
                  </a:lnTo>
                  <a:lnTo>
                    <a:pt x="1360" y="1211"/>
                  </a:lnTo>
                  <a:lnTo>
                    <a:pt x="1360" y="1226"/>
                  </a:lnTo>
                  <a:lnTo>
                    <a:pt x="1367" y="1240"/>
                  </a:lnTo>
                  <a:lnTo>
                    <a:pt x="1367" y="1261"/>
                  </a:lnTo>
                  <a:lnTo>
                    <a:pt x="1367" y="1275"/>
                  </a:lnTo>
                  <a:lnTo>
                    <a:pt x="1374" y="1289"/>
                  </a:lnTo>
                  <a:lnTo>
                    <a:pt x="1374" y="1304"/>
                  </a:lnTo>
                  <a:lnTo>
                    <a:pt x="1374" y="1325"/>
                  </a:lnTo>
                  <a:lnTo>
                    <a:pt x="1382" y="1339"/>
                  </a:lnTo>
                  <a:lnTo>
                    <a:pt x="1382" y="1353"/>
                  </a:lnTo>
                  <a:lnTo>
                    <a:pt x="1382" y="1367"/>
                  </a:lnTo>
                  <a:lnTo>
                    <a:pt x="1389" y="1382"/>
                  </a:lnTo>
                  <a:lnTo>
                    <a:pt x="1389" y="1403"/>
                  </a:lnTo>
                  <a:lnTo>
                    <a:pt x="1389" y="1417"/>
                  </a:lnTo>
                  <a:lnTo>
                    <a:pt x="1396" y="1431"/>
                  </a:lnTo>
                  <a:lnTo>
                    <a:pt x="1396" y="1445"/>
                  </a:lnTo>
                  <a:lnTo>
                    <a:pt x="1396" y="1459"/>
                  </a:lnTo>
                  <a:lnTo>
                    <a:pt x="1396" y="1474"/>
                  </a:lnTo>
                  <a:lnTo>
                    <a:pt x="1403" y="1488"/>
                  </a:lnTo>
                  <a:lnTo>
                    <a:pt x="1403" y="1502"/>
                  </a:lnTo>
                  <a:lnTo>
                    <a:pt x="1403" y="1516"/>
                  </a:lnTo>
                  <a:lnTo>
                    <a:pt x="1410" y="1530"/>
                  </a:lnTo>
                  <a:lnTo>
                    <a:pt x="1410" y="1544"/>
                  </a:lnTo>
                  <a:lnTo>
                    <a:pt x="1410" y="1559"/>
                  </a:lnTo>
                  <a:lnTo>
                    <a:pt x="1417" y="1573"/>
                  </a:lnTo>
                  <a:lnTo>
                    <a:pt x="1417" y="1580"/>
                  </a:lnTo>
                  <a:lnTo>
                    <a:pt x="1417" y="1594"/>
                  </a:lnTo>
                  <a:lnTo>
                    <a:pt x="1424" y="1608"/>
                  </a:lnTo>
                  <a:lnTo>
                    <a:pt x="1424" y="1594"/>
                  </a:lnTo>
                  <a:lnTo>
                    <a:pt x="1424" y="1587"/>
                  </a:lnTo>
                  <a:lnTo>
                    <a:pt x="1431" y="1573"/>
                  </a:lnTo>
                  <a:lnTo>
                    <a:pt x="1431" y="1559"/>
                  </a:lnTo>
                  <a:lnTo>
                    <a:pt x="1431" y="1544"/>
                  </a:lnTo>
                  <a:lnTo>
                    <a:pt x="1438" y="1537"/>
                  </a:lnTo>
                  <a:lnTo>
                    <a:pt x="1438" y="1523"/>
                  </a:lnTo>
                  <a:lnTo>
                    <a:pt x="1438" y="1516"/>
                  </a:lnTo>
                  <a:lnTo>
                    <a:pt x="1438" y="1502"/>
                  </a:lnTo>
                  <a:lnTo>
                    <a:pt x="1445" y="1495"/>
                  </a:lnTo>
                  <a:lnTo>
                    <a:pt x="1445" y="1481"/>
                  </a:lnTo>
                  <a:lnTo>
                    <a:pt x="1445" y="1474"/>
                  </a:lnTo>
                  <a:lnTo>
                    <a:pt x="1452" y="1459"/>
                  </a:lnTo>
                  <a:lnTo>
                    <a:pt x="1452" y="1452"/>
                  </a:lnTo>
                  <a:lnTo>
                    <a:pt x="1452" y="1445"/>
                  </a:lnTo>
                  <a:lnTo>
                    <a:pt x="1460" y="1431"/>
                  </a:lnTo>
                  <a:lnTo>
                    <a:pt x="1460" y="1424"/>
                  </a:lnTo>
                  <a:lnTo>
                    <a:pt x="1460" y="1417"/>
                  </a:lnTo>
                  <a:lnTo>
                    <a:pt x="1467" y="1410"/>
                  </a:lnTo>
                  <a:lnTo>
                    <a:pt x="1467" y="1403"/>
                  </a:lnTo>
                  <a:lnTo>
                    <a:pt x="1467" y="1389"/>
                  </a:lnTo>
                  <a:lnTo>
                    <a:pt x="1474" y="1382"/>
                  </a:lnTo>
                  <a:lnTo>
                    <a:pt x="1474" y="1374"/>
                  </a:lnTo>
                  <a:lnTo>
                    <a:pt x="1474" y="1367"/>
                  </a:lnTo>
                  <a:lnTo>
                    <a:pt x="1474" y="1360"/>
                  </a:lnTo>
                  <a:lnTo>
                    <a:pt x="1481" y="1353"/>
                  </a:lnTo>
                  <a:lnTo>
                    <a:pt x="1481" y="1346"/>
                  </a:lnTo>
                  <a:lnTo>
                    <a:pt x="1488" y="1339"/>
                  </a:lnTo>
                  <a:lnTo>
                    <a:pt x="1488" y="1332"/>
                  </a:lnTo>
                  <a:lnTo>
                    <a:pt x="1488" y="1325"/>
                  </a:lnTo>
                  <a:lnTo>
                    <a:pt x="1495" y="1318"/>
                  </a:lnTo>
                  <a:lnTo>
                    <a:pt x="1495" y="1311"/>
                  </a:lnTo>
                  <a:lnTo>
                    <a:pt x="1502" y="1304"/>
                  </a:lnTo>
                  <a:lnTo>
                    <a:pt x="1502" y="1296"/>
                  </a:lnTo>
                  <a:lnTo>
                    <a:pt x="1509" y="1289"/>
                  </a:lnTo>
                  <a:lnTo>
                    <a:pt x="1509" y="1282"/>
                  </a:lnTo>
                  <a:lnTo>
                    <a:pt x="1516" y="1275"/>
                  </a:lnTo>
                  <a:lnTo>
                    <a:pt x="1523" y="1268"/>
                  </a:lnTo>
                  <a:lnTo>
                    <a:pt x="1530" y="1261"/>
                  </a:lnTo>
                  <a:lnTo>
                    <a:pt x="1537" y="1261"/>
                  </a:lnTo>
                  <a:lnTo>
                    <a:pt x="1545" y="1261"/>
                  </a:lnTo>
                  <a:lnTo>
                    <a:pt x="1552" y="1261"/>
                  </a:lnTo>
                  <a:lnTo>
                    <a:pt x="1559" y="1268"/>
                  </a:lnTo>
                  <a:lnTo>
                    <a:pt x="1566" y="1268"/>
                  </a:lnTo>
                  <a:lnTo>
                    <a:pt x="1573" y="1275"/>
                  </a:lnTo>
                  <a:lnTo>
                    <a:pt x="1580" y="1282"/>
                  </a:lnTo>
                  <a:lnTo>
                    <a:pt x="1587" y="1289"/>
                  </a:lnTo>
                  <a:lnTo>
                    <a:pt x="1587" y="1296"/>
                  </a:lnTo>
                  <a:lnTo>
                    <a:pt x="1594" y="1304"/>
                  </a:lnTo>
                  <a:lnTo>
                    <a:pt x="1594" y="1311"/>
                  </a:lnTo>
                  <a:lnTo>
                    <a:pt x="1601" y="1318"/>
                  </a:lnTo>
                  <a:lnTo>
                    <a:pt x="1601" y="1325"/>
                  </a:lnTo>
                  <a:lnTo>
                    <a:pt x="1608" y="1332"/>
                  </a:lnTo>
                  <a:lnTo>
                    <a:pt x="1608" y="1339"/>
                  </a:lnTo>
                  <a:lnTo>
                    <a:pt x="1615" y="1346"/>
                  </a:lnTo>
                  <a:lnTo>
                    <a:pt x="1615" y="1353"/>
                  </a:lnTo>
                  <a:lnTo>
                    <a:pt x="1622" y="1360"/>
                  </a:lnTo>
                  <a:lnTo>
                    <a:pt x="1622" y="1367"/>
                  </a:lnTo>
                  <a:lnTo>
                    <a:pt x="1622" y="1374"/>
                  </a:lnTo>
                  <a:lnTo>
                    <a:pt x="1630" y="1382"/>
                  </a:lnTo>
                  <a:lnTo>
                    <a:pt x="1630" y="1389"/>
                  </a:lnTo>
                  <a:lnTo>
                    <a:pt x="1630" y="1396"/>
                  </a:lnTo>
                  <a:lnTo>
                    <a:pt x="1637" y="1403"/>
                  </a:lnTo>
                  <a:lnTo>
                    <a:pt x="1637" y="1410"/>
                  </a:lnTo>
                  <a:lnTo>
                    <a:pt x="1644" y="1417"/>
                  </a:lnTo>
                  <a:lnTo>
                    <a:pt x="1644" y="1424"/>
                  </a:lnTo>
                  <a:lnTo>
                    <a:pt x="1644" y="1431"/>
                  </a:lnTo>
                  <a:lnTo>
                    <a:pt x="1651" y="1438"/>
                  </a:lnTo>
                  <a:lnTo>
                    <a:pt x="1651" y="1445"/>
                  </a:lnTo>
                  <a:lnTo>
                    <a:pt x="1651" y="1452"/>
                  </a:lnTo>
                  <a:lnTo>
                    <a:pt x="1658" y="1459"/>
                  </a:lnTo>
                  <a:lnTo>
                    <a:pt x="1658" y="1467"/>
                  </a:lnTo>
                  <a:lnTo>
                    <a:pt x="1658" y="1474"/>
                  </a:lnTo>
                  <a:lnTo>
                    <a:pt x="1665" y="1481"/>
                  </a:lnTo>
                  <a:lnTo>
                    <a:pt x="1665" y="1488"/>
                  </a:lnTo>
                  <a:lnTo>
                    <a:pt x="1665" y="1495"/>
                  </a:lnTo>
                  <a:lnTo>
                    <a:pt x="1672" y="1502"/>
                  </a:lnTo>
                  <a:lnTo>
                    <a:pt x="1672" y="1509"/>
                  </a:lnTo>
                  <a:lnTo>
                    <a:pt x="1672" y="1516"/>
                  </a:lnTo>
                  <a:lnTo>
                    <a:pt x="1679" y="1523"/>
                  </a:lnTo>
                  <a:lnTo>
                    <a:pt x="1679" y="1530"/>
                  </a:lnTo>
                  <a:lnTo>
                    <a:pt x="1679" y="1537"/>
                  </a:lnTo>
                  <a:lnTo>
                    <a:pt x="1686" y="1544"/>
                  </a:lnTo>
                  <a:lnTo>
                    <a:pt x="1686" y="1552"/>
                  </a:lnTo>
                  <a:lnTo>
                    <a:pt x="1686" y="1559"/>
                  </a:lnTo>
                  <a:lnTo>
                    <a:pt x="1693" y="1566"/>
                  </a:lnTo>
                  <a:lnTo>
                    <a:pt x="1693" y="1573"/>
                  </a:lnTo>
                  <a:lnTo>
                    <a:pt x="1693" y="1580"/>
                  </a:lnTo>
                  <a:lnTo>
                    <a:pt x="1700" y="1587"/>
                  </a:lnTo>
                  <a:lnTo>
                    <a:pt x="1700" y="1594"/>
                  </a:lnTo>
                  <a:lnTo>
                    <a:pt x="1700" y="1601"/>
                  </a:lnTo>
                  <a:lnTo>
                    <a:pt x="1708" y="1608"/>
                  </a:lnTo>
                  <a:lnTo>
                    <a:pt x="1708" y="1601"/>
                  </a:lnTo>
                  <a:lnTo>
                    <a:pt x="1708" y="1594"/>
                  </a:lnTo>
                  <a:lnTo>
                    <a:pt x="1715" y="1587"/>
                  </a:lnTo>
                  <a:lnTo>
                    <a:pt x="1715" y="1580"/>
                  </a:lnTo>
                  <a:lnTo>
                    <a:pt x="1722" y="1573"/>
                  </a:lnTo>
                  <a:lnTo>
                    <a:pt x="1722" y="1566"/>
                  </a:lnTo>
                  <a:lnTo>
                    <a:pt x="1722" y="1559"/>
                  </a:lnTo>
                  <a:lnTo>
                    <a:pt x="1729" y="1552"/>
                  </a:lnTo>
                  <a:lnTo>
                    <a:pt x="1729" y="1544"/>
                  </a:lnTo>
                  <a:lnTo>
                    <a:pt x="1736" y="1537"/>
                  </a:lnTo>
                  <a:lnTo>
                    <a:pt x="1736" y="1530"/>
                  </a:lnTo>
                  <a:lnTo>
                    <a:pt x="1736" y="1523"/>
                  </a:lnTo>
                  <a:lnTo>
                    <a:pt x="1743" y="1516"/>
                  </a:lnTo>
                  <a:lnTo>
                    <a:pt x="1743" y="1509"/>
                  </a:lnTo>
                  <a:lnTo>
                    <a:pt x="1750" y="1502"/>
                  </a:lnTo>
                  <a:lnTo>
                    <a:pt x="1750" y="1495"/>
                  </a:lnTo>
                  <a:lnTo>
                    <a:pt x="1757" y="1488"/>
                  </a:lnTo>
                  <a:lnTo>
                    <a:pt x="1757" y="1481"/>
                  </a:lnTo>
                  <a:lnTo>
                    <a:pt x="1764" y="1474"/>
                  </a:lnTo>
                  <a:lnTo>
                    <a:pt x="1764" y="1467"/>
                  </a:lnTo>
                  <a:lnTo>
                    <a:pt x="1771" y="1459"/>
                  </a:lnTo>
                  <a:lnTo>
                    <a:pt x="1771" y="1452"/>
                  </a:lnTo>
                  <a:lnTo>
                    <a:pt x="1778" y="1445"/>
                  </a:lnTo>
                  <a:lnTo>
                    <a:pt x="1785" y="1438"/>
                  </a:lnTo>
                  <a:lnTo>
                    <a:pt x="1793" y="1431"/>
                  </a:lnTo>
                  <a:lnTo>
                    <a:pt x="1800" y="1424"/>
                  </a:lnTo>
                  <a:lnTo>
                    <a:pt x="1807" y="1417"/>
                  </a:lnTo>
                  <a:lnTo>
                    <a:pt x="1814" y="1410"/>
                  </a:lnTo>
                  <a:lnTo>
                    <a:pt x="1821" y="1403"/>
                  </a:lnTo>
                  <a:lnTo>
                    <a:pt x="1828" y="1403"/>
                  </a:lnTo>
                  <a:lnTo>
                    <a:pt x="1835" y="1403"/>
                  </a:lnTo>
                  <a:lnTo>
                    <a:pt x="1842" y="1403"/>
                  </a:lnTo>
                  <a:lnTo>
                    <a:pt x="1849" y="1403"/>
                  </a:lnTo>
                  <a:lnTo>
                    <a:pt x="1856" y="1410"/>
                  </a:lnTo>
                  <a:lnTo>
                    <a:pt x="1863" y="1410"/>
                  </a:lnTo>
                  <a:lnTo>
                    <a:pt x="1871" y="1417"/>
                  </a:lnTo>
                  <a:lnTo>
                    <a:pt x="1878" y="1424"/>
                  </a:lnTo>
                  <a:lnTo>
                    <a:pt x="1885" y="1431"/>
                  </a:lnTo>
                  <a:lnTo>
                    <a:pt x="1892" y="1438"/>
                  </a:lnTo>
                  <a:lnTo>
                    <a:pt x="1899" y="1445"/>
                  </a:lnTo>
                  <a:lnTo>
                    <a:pt x="1906" y="1452"/>
                  </a:lnTo>
                  <a:lnTo>
                    <a:pt x="1913" y="1459"/>
                  </a:lnTo>
                  <a:lnTo>
                    <a:pt x="1913" y="1467"/>
                  </a:lnTo>
                  <a:lnTo>
                    <a:pt x="1920" y="1474"/>
                  </a:lnTo>
                  <a:lnTo>
                    <a:pt x="1920" y="1481"/>
                  </a:lnTo>
                  <a:lnTo>
                    <a:pt x="1927" y="1488"/>
                  </a:lnTo>
                  <a:lnTo>
                    <a:pt x="1927" y="1495"/>
                  </a:lnTo>
                  <a:lnTo>
                    <a:pt x="1934" y="1502"/>
                  </a:lnTo>
                  <a:lnTo>
                    <a:pt x="1941" y="1509"/>
                  </a:lnTo>
                  <a:lnTo>
                    <a:pt x="1941" y="1516"/>
                  </a:lnTo>
                  <a:lnTo>
                    <a:pt x="1948" y="1523"/>
                  </a:lnTo>
                  <a:lnTo>
                    <a:pt x="1948" y="1530"/>
                  </a:lnTo>
                  <a:lnTo>
                    <a:pt x="1956" y="1537"/>
                  </a:lnTo>
                  <a:lnTo>
                    <a:pt x="1956" y="1544"/>
                  </a:lnTo>
                  <a:lnTo>
                    <a:pt x="1963" y="1552"/>
                  </a:lnTo>
                  <a:lnTo>
                    <a:pt x="1963" y="1559"/>
                  </a:lnTo>
                  <a:lnTo>
                    <a:pt x="1970" y="1566"/>
                  </a:lnTo>
                  <a:lnTo>
                    <a:pt x="1970" y="1573"/>
                  </a:lnTo>
                  <a:lnTo>
                    <a:pt x="1977" y="1580"/>
                  </a:lnTo>
                  <a:lnTo>
                    <a:pt x="1977" y="1587"/>
                  </a:lnTo>
                  <a:lnTo>
                    <a:pt x="1984" y="1594"/>
                  </a:lnTo>
                  <a:lnTo>
                    <a:pt x="1991" y="1601"/>
                  </a:lnTo>
                  <a:lnTo>
                    <a:pt x="1991" y="1608"/>
                  </a:lnTo>
                  <a:lnTo>
                    <a:pt x="1998" y="1601"/>
                  </a:lnTo>
                  <a:lnTo>
                    <a:pt x="1998" y="1594"/>
                  </a:lnTo>
                  <a:lnTo>
                    <a:pt x="2005" y="1587"/>
                  </a:lnTo>
                  <a:lnTo>
                    <a:pt x="2005" y="1580"/>
                  </a:lnTo>
                  <a:lnTo>
                    <a:pt x="2012" y="1573"/>
                  </a:lnTo>
                  <a:lnTo>
                    <a:pt x="2012" y="1566"/>
                  </a:lnTo>
                  <a:lnTo>
                    <a:pt x="2019" y="1559"/>
                  </a:lnTo>
                  <a:lnTo>
                    <a:pt x="2026" y="1552"/>
                  </a:lnTo>
                  <a:lnTo>
                    <a:pt x="2026" y="1544"/>
                  </a:lnTo>
                  <a:lnTo>
                    <a:pt x="2034" y="1537"/>
                  </a:lnTo>
                  <a:lnTo>
                    <a:pt x="2034" y="1530"/>
                  </a:lnTo>
                  <a:lnTo>
                    <a:pt x="2041" y="1523"/>
                  </a:lnTo>
                  <a:lnTo>
                    <a:pt x="2048" y="1516"/>
                  </a:lnTo>
                  <a:lnTo>
                    <a:pt x="2055" y="1509"/>
                  </a:lnTo>
                  <a:lnTo>
                    <a:pt x="2062" y="1502"/>
                  </a:lnTo>
                  <a:lnTo>
                    <a:pt x="2069" y="1495"/>
                  </a:lnTo>
                  <a:lnTo>
                    <a:pt x="2069" y="1488"/>
                  </a:lnTo>
                  <a:lnTo>
                    <a:pt x="2076" y="1481"/>
                  </a:lnTo>
                  <a:lnTo>
                    <a:pt x="2083" y="1474"/>
                  </a:lnTo>
                  <a:lnTo>
                    <a:pt x="2090" y="1474"/>
                  </a:lnTo>
                  <a:lnTo>
                    <a:pt x="2097" y="1467"/>
                  </a:lnTo>
                  <a:lnTo>
                    <a:pt x="2104" y="1467"/>
                  </a:lnTo>
                  <a:lnTo>
                    <a:pt x="2111" y="1459"/>
                  </a:lnTo>
                  <a:lnTo>
                    <a:pt x="2119" y="1459"/>
                  </a:lnTo>
                  <a:lnTo>
                    <a:pt x="2126" y="1459"/>
                  </a:lnTo>
                  <a:lnTo>
                    <a:pt x="2133" y="1459"/>
                  </a:lnTo>
                  <a:lnTo>
                    <a:pt x="2140" y="1467"/>
                  </a:lnTo>
                  <a:lnTo>
                    <a:pt x="2147" y="1467"/>
                  </a:lnTo>
                  <a:lnTo>
                    <a:pt x="2154" y="1474"/>
                  </a:lnTo>
                  <a:lnTo>
                    <a:pt x="2161" y="1474"/>
                  </a:lnTo>
                  <a:lnTo>
                    <a:pt x="2168" y="1481"/>
                  </a:lnTo>
                  <a:lnTo>
                    <a:pt x="2175" y="1488"/>
                  </a:lnTo>
                  <a:lnTo>
                    <a:pt x="2182" y="1495"/>
                  </a:lnTo>
                  <a:lnTo>
                    <a:pt x="2189" y="1502"/>
                  </a:lnTo>
                  <a:lnTo>
                    <a:pt x="2197" y="1509"/>
                  </a:lnTo>
                  <a:lnTo>
                    <a:pt x="2204" y="1516"/>
                  </a:lnTo>
                  <a:lnTo>
                    <a:pt x="2211" y="1523"/>
                  </a:lnTo>
                  <a:lnTo>
                    <a:pt x="2218" y="1530"/>
                  </a:lnTo>
                  <a:lnTo>
                    <a:pt x="2225" y="1537"/>
                  </a:lnTo>
                  <a:lnTo>
                    <a:pt x="2232" y="1544"/>
                  </a:lnTo>
                  <a:lnTo>
                    <a:pt x="2239" y="1552"/>
                  </a:lnTo>
                  <a:lnTo>
                    <a:pt x="2239" y="1559"/>
                  </a:lnTo>
                  <a:lnTo>
                    <a:pt x="2246" y="1566"/>
                  </a:lnTo>
                  <a:lnTo>
                    <a:pt x="2253" y="1573"/>
                  </a:lnTo>
                  <a:lnTo>
                    <a:pt x="2253" y="1580"/>
                  </a:lnTo>
                  <a:lnTo>
                    <a:pt x="2260" y="1587"/>
                  </a:lnTo>
                  <a:lnTo>
                    <a:pt x="2267" y="1594"/>
                  </a:lnTo>
                  <a:lnTo>
                    <a:pt x="2267" y="1601"/>
                  </a:lnTo>
                  <a:lnTo>
                    <a:pt x="2274" y="1608"/>
                  </a:lnTo>
                </a:path>
              </a:pathLst>
            </a:custGeom>
            <a:noFill/>
            <a:ln w="0">
              <a:solidFill>
                <a:srgbClr val="33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rot="5400000">
            <a:off x="6972120" y="3467160"/>
            <a:ext cx="533520" cy="1371600"/>
          </a:xfrm>
          <a:custGeom>
            <a:avLst/>
            <a:gdLst>
              <a:gd name="textAreaLeft" fmla="*/ 83160 w 533520"/>
              <a:gd name="textAreaRight" fmla="*/ 466920 w 5335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757575"/>
              </a:gs>
              <a:gs pos="100000">
                <a:srgbClr val="ffffff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72400" y="3961440"/>
            <a:ext cx="10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Compo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366-030F-4E2D-8442-0D8B010B989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14600" y="1593720"/>
            <a:ext cx="6095880" cy="465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34120" y="2050920"/>
            <a:ext cx="380880" cy="36576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cc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2050920"/>
            <a:ext cx="381240" cy="36576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7800" y="2432160"/>
            <a:ext cx="380880" cy="327636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2736720"/>
            <a:ext cx="381240" cy="29718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00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5520" y="3041640"/>
            <a:ext cx="380880" cy="266688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cc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2050920"/>
            <a:ext cx="380880" cy="36576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cc99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2050920"/>
            <a:ext cx="380880" cy="36576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00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2279520"/>
            <a:ext cx="381240" cy="342900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8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2584440"/>
            <a:ext cx="380880" cy="312408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cc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2889360"/>
            <a:ext cx="380880" cy="2819160"/>
          </a:xfrm>
          <a:custGeom>
            <a:avLst/>
            <a:gdLst/>
            <a:ahLst/>
            <a:rect l="l" t="t" r="r" b="b"/>
            <a:pathLst>
              <a:path w="2274" h="1608">
                <a:moveTo>
                  <a:pt x="0" y="1608"/>
                </a:moveTo>
                <a:lnTo>
                  <a:pt x="7" y="1601"/>
                </a:lnTo>
                <a:lnTo>
                  <a:pt x="14" y="1594"/>
                </a:lnTo>
                <a:lnTo>
                  <a:pt x="14" y="1587"/>
                </a:lnTo>
                <a:lnTo>
                  <a:pt x="21" y="1580"/>
                </a:lnTo>
                <a:lnTo>
                  <a:pt x="28" y="1573"/>
                </a:lnTo>
                <a:lnTo>
                  <a:pt x="28" y="1566"/>
                </a:lnTo>
                <a:lnTo>
                  <a:pt x="35" y="1559"/>
                </a:lnTo>
                <a:lnTo>
                  <a:pt x="42" y="1552"/>
                </a:lnTo>
                <a:lnTo>
                  <a:pt x="49" y="1544"/>
                </a:lnTo>
                <a:lnTo>
                  <a:pt x="49" y="1537"/>
                </a:lnTo>
                <a:lnTo>
                  <a:pt x="56" y="1530"/>
                </a:lnTo>
                <a:lnTo>
                  <a:pt x="63" y="1523"/>
                </a:lnTo>
                <a:lnTo>
                  <a:pt x="71" y="1516"/>
                </a:lnTo>
                <a:lnTo>
                  <a:pt x="78" y="1509"/>
                </a:lnTo>
                <a:lnTo>
                  <a:pt x="85" y="1502"/>
                </a:lnTo>
                <a:lnTo>
                  <a:pt x="92" y="1495"/>
                </a:lnTo>
                <a:lnTo>
                  <a:pt x="99" y="1488"/>
                </a:lnTo>
                <a:lnTo>
                  <a:pt x="106" y="1481"/>
                </a:lnTo>
                <a:lnTo>
                  <a:pt x="113" y="1474"/>
                </a:lnTo>
                <a:lnTo>
                  <a:pt x="120" y="1467"/>
                </a:lnTo>
                <a:lnTo>
                  <a:pt x="127" y="1467"/>
                </a:lnTo>
                <a:lnTo>
                  <a:pt x="134" y="1459"/>
                </a:lnTo>
                <a:lnTo>
                  <a:pt x="141" y="1459"/>
                </a:lnTo>
                <a:lnTo>
                  <a:pt x="148" y="1459"/>
                </a:lnTo>
                <a:lnTo>
                  <a:pt x="156" y="1459"/>
                </a:lnTo>
                <a:lnTo>
                  <a:pt x="163" y="1467"/>
                </a:lnTo>
                <a:lnTo>
                  <a:pt x="170" y="1467"/>
                </a:lnTo>
                <a:lnTo>
                  <a:pt x="177" y="1467"/>
                </a:lnTo>
                <a:lnTo>
                  <a:pt x="184" y="1474"/>
                </a:lnTo>
                <a:lnTo>
                  <a:pt x="191" y="1481"/>
                </a:lnTo>
                <a:lnTo>
                  <a:pt x="198" y="1481"/>
                </a:lnTo>
                <a:lnTo>
                  <a:pt x="205" y="1488"/>
                </a:lnTo>
                <a:lnTo>
                  <a:pt x="212" y="1495"/>
                </a:lnTo>
                <a:lnTo>
                  <a:pt x="219" y="1502"/>
                </a:lnTo>
                <a:lnTo>
                  <a:pt x="226" y="1509"/>
                </a:lnTo>
                <a:lnTo>
                  <a:pt x="234" y="1516"/>
                </a:lnTo>
                <a:lnTo>
                  <a:pt x="234" y="1523"/>
                </a:lnTo>
                <a:lnTo>
                  <a:pt x="241" y="1530"/>
                </a:lnTo>
                <a:lnTo>
                  <a:pt x="241" y="1537"/>
                </a:lnTo>
                <a:lnTo>
                  <a:pt x="248" y="1544"/>
                </a:lnTo>
                <a:lnTo>
                  <a:pt x="255" y="1552"/>
                </a:lnTo>
                <a:lnTo>
                  <a:pt x="255" y="1559"/>
                </a:lnTo>
                <a:lnTo>
                  <a:pt x="262" y="1566"/>
                </a:lnTo>
                <a:lnTo>
                  <a:pt x="269" y="1573"/>
                </a:lnTo>
                <a:lnTo>
                  <a:pt x="269" y="1580"/>
                </a:lnTo>
                <a:lnTo>
                  <a:pt x="276" y="1587"/>
                </a:lnTo>
                <a:lnTo>
                  <a:pt x="276" y="1594"/>
                </a:lnTo>
                <a:lnTo>
                  <a:pt x="283" y="1601"/>
                </a:lnTo>
                <a:lnTo>
                  <a:pt x="283" y="1608"/>
                </a:lnTo>
                <a:lnTo>
                  <a:pt x="290" y="1601"/>
                </a:lnTo>
                <a:lnTo>
                  <a:pt x="290" y="1594"/>
                </a:lnTo>
                <a:lnTo>
                  <a:pt x="297" y="1587"/>
                </a:lnTo>
                <a:lnTo>
                  <a:pt x="297" y="1580"/>
                </a:lnTo>
                <a:lnTo>
                  <a:pt x="304" y="1573"/>
                </a:lnTo>
                <a:lnTo>
                  <a:pt x="304" y="1566"/>
                </a:lnTo>
                <a:lnTo>
                  <a:pt x="311" y="1559"/>
                </a:lnTo>
                <a:lnTo>
                  <a:pt x="319" y="1552"/>
                </a:lnTo>
                <a:lnTo>
                  <a:pt x="319" y="1544"/>
                </a:lnTo>
                <a:lnTo>
                  <a:pt x="319" y="1537"/>
                </a:lnTo>
                <a:lnTo>
                  <a:pt x="326" y="1530"/>
                </a:lnTo>
                <a:lnTo>
                  <a:pt x="326" y="1523"/>
                </a:lnTo>
                <a:lnTo>
                  <a:pt x="333" y="1516"/>
                </a:lnTo>
                <a:lnTo>
                  <a:pt x="340" y="1509"/>
                </a:lnTo>
                <a:lnTo>
                  <a:pt x="340" y="1502"/>
                </a:lnTo>
                <a:lnTo>
                  <a:pt x="347" y="1495"/>
                </a:lnTo>
                <a:lnTo>
                  <a:pt x="347" y="1488"/>
                </a:lnTo>
                <a:lnTo>
                  <a:pt x="354" y="1481"/>
                </a:lnTo>
                <a:lnTo>
                  <a:pt x="354" y="1474"/>
                </a:lnTo>
                <a:lnTo>
                  <a:pt x="361" y="1467"/>
                </a:lnTo>
                <a:lnTo>
                  <a:pt x="368" y="1459"/>
                </a:lnTo>
                <a:lnTo>
                  <a:pt x="375" y="1452"/>
                </a:lnTo>
                <a:lnTo>
                  <a:pt x="375" y="1445"/>
                </a:lnTo>
                <a:lnTo>
                  <a:pt x="382" y="1438"/>
                </a:lnTo>
                <a:lnTo>
                  <a:pt x="389" y="1431"/>
                </a:lnTo>
                <a:lnTo>
                  <a:pt x="397" y="1424"/>
                </a:lnTo>
                <a:lnTo>
                  <a:pt x="404" y="1417"/>
                </a:lnTo>
                <a:lnTo>
                  <a:pt x="411" y="1410"/>
                </a:lnTo>
                <a:lnTo>
                  <a:pt x="418" y="1403"/>
                </a:lnTo>
                <a:lnTo>
                  <a:pt x="425" y="1403"/>
                </a:lnTo>
                <a:lnTo>
                  <a:pt x="432" y="1403"/>
                </a:lnTo>
                <a:lnTo>
                  <a:pt x="439" y="1403"/>
                </a:lnTo>
                <a:lnTo>
                  <a:pt x="446" y="1403"/>
                </a:lnTo>
                <a:lnTo>
                  <a:pt x="453" y="1403"/>
                </a:lnTo>
                <a:lnTo>
                  <a:pt x="460" y="1410"/>
                </a:lnTo>
                <a:lnTo>
                  <a:pt x="467" y="1417"/>
                </a:lnTo>
                <a:lnTo>
                  <a:pt x="474" y="1424"/>
                </a:lnTo>
                <a:lnTo>
                  <a:pt x="482" y="1431"/>
                </a:lnTo>
                <a:lnTo>
                  <a:pt x="489" y="1438"/>
                </a:lnTo>
                <a:lnTo>
                  <a:pt x="496" y="1445"/>
                </a:lnTo>
                <a:lnTo>
                  <a:pt x="503" y="1452"/>
                </a:lnTo>
                <a:lnTo>
                  <a:pt x="503" y="1459"/>
                </a:lnTo>
                <a:lnTo>
                  <a:pt x="510" y="1467"/>
                </a:lnTo>
                <a:lnTo>
                  <a:pt x="510" y="1474"/>
                </a:lnTo>
                <a:lnTo>
                  <a:pt x="517" y="1481"/>
                </a:lnTo>
                <a:lnTo>
                  <a:pt x="517" y="1488"/>
                </a:lnTo>
                <a:lnTo>
                  <a:pt x="524" y="1495"/>
                </a:lnTo>
                <a:lnTo>
                  <a:pt x="524" y="1502"/>
                </a:lnTo>
                <a:lnTo>
                  <a:pt x="531" y="1509"/>
                </a:lnTo>
                <a:lnTo>
                  <a:pt x="531" y="1516"/>
                </a:lnTo>
                <a:lnTo>
                  <a:pt x="538" y="1523"/>
                </a:lnTo>
                <a:lnTo>
                  <a:pt x="538" y="1530"/>
                </a:lnTo>
                <a:lnTo>
                  <a:pt x="538" y="1537"/>
                </a:lnTo>
                <a:lnTo>
                  <a:pt x="545" y="1544"/>
                </a:lnTo>
                <a:lnTo>
                  <a:pt x="545" y="1552"/>
                </a:lnTo>
                <a:lnTo>
                  <a:pt x="552" y="1559"/>
                </a:lnTo>
                <a:lnTo>
                  <a:pt x="552" y="1566"/>
                </a:lnTo>
                <a:lnTo>
                  <a:pt x="552" y="1573"/>
                </a:lnTo>
                <a:lnTo>
                  <a:pt x="560" y="1580"/>
                </a:lnTo>
                <a:lnTo>
                  <a:pt x="560" y="1587"/>
                </a:lnTo>
                <a:lnTo>
                  <a:pt x="567" y="1594"/>
                </a:lnTo>
                <a:lnTo>
                  <a:pt x="567" y="1601"/>
                </a:lnTo>
                <a:lnTo>
                  <a:pt x="567" y="1608"/>
                </a:lnTo>
                <a:lnTo>
                  <a:pt x="574" y="1601"/>
                </a:lnTo>
                <a:lnTo>
                  <a:pt x="574" y="1594"/>
                </a:lnTo>
                <a:lnTo>
                  <a:pt x="574" y="1587"/>
                </a:lnTo>
                <a:lnTo>
                  <a:pt x="581" y="1580"/>
                </a:lnTo>
                <a:lnTo>
                  <a:pt x="581" y="1573"/>
                </a:lnTo>
                <a:lnTo>
                  <a:pt x="581" y="1566"/>
                </a:lnTo>
                <a:lnTo>
                  <a:pt x="588" y="1559"/>
                </a:lnTo>
                <a:lnTo>
                  <a:pt x="588" y="1552"/>
                </a:lnTo>
                <a:lnTo>
                  <a:pt x="588" y="1544"/>
                </a:lnTo>
                <a:lnTo>
                  <a:pt x="595" y="1537"/>
                </a:lnTo>
                <a:lnTo>
                  <a:pt x="595" y="1530"/>
                </a:lnTo>
                <a:lnTo>
                  <a:pt x="595" y="1523"/>
                </a:lnTo>
                <a:lnTo>
                  <a:pt x="602" y="1516"/>
                </a:lnTo>
                <a:lnTo>
                  <a:pt x="602" y="1509"/>
                </a:lnTo>
                <a:lnTo>
                  <a:pt x="602" y="1502"/>
                </a:lnTo>
                <a:lnTo>
                  <a:pt x="609" y="1495"/>
                </a:lnTo>
                <a:lnTo>
                  <a:pt x="609" y="1488"/>
                </a:lnTo>
                <a:lnTo>
                  <a:pt x="616" y="1481"/>
                </a:lnTo>
                <a:lnTo>
                  <a:pt x="616" y="1474"/>
                </a:lnTo>
                <a:lnTo>
                  <a:pt x="616" y="1467"/>
                </a:lnTo>
                <a:lnTo>
                  <a:pt x="616" y="1459"/>
                </a:lnTo>
                <a:lnTo>
                  <a:pt x="623" y="1452"/>
                </a:lnTo>
                <a:lnTo>
                  <a:pt x="623" y="1445"/>
                </a:lnTo>
                <a:lnTo>
                  <a:pt x="623" y="1438"/>
                </a:lnTo>
                <a:lnTo>
                  <a:pt x="630" y="1431"/>
                </a:lnTo>
                <a:lnTo>
                  <a:pt x="630" y="1424"/>
                </a:lnTo>
                <a:lnTo>
                  <a:pt x="637" y="1417"/>
                </a:lnTo>
                <a:lnTo>
                  <a:pt x="637" y="1410"/>
                </a:lnTo>
                <a:lnTo>
                  <a:pt x="637" y="1403"/>
                </a:lnTo>
                <a:lnTo>
                  <a:pt x="645" y="1396"/>
                </a:lnTo>
                <a:lnTo>
                  <a:pt x="645" y="1389"/>
                </a:lnTo>
                <a:lnTo>
                  <a:pt x="652" y="1382"/>
                </a:lnTo>
                <a:lnTo>
                  <a:pt x="652" y="1374"/>
                </a:lnTo>
                <a:lnTo>
                  <a:pt x="652" y="1367"/>
                </a:lnTo>
                <a:lnTo>
                  <a:pt x="652" y="1360"/>
                </a:lnTo>
                <a:lnTo>
                  <a:pt x="659" y="1353"/>
                </a:lnTo>
                <a:lnTo>
                  <a:pt x="659" y="1346"/>
                </a:lnTo>
                <a:lnTo>
                  <a:pt x="666" y="1339"/>
                </a:lnTo>
                <a:lnTo>
                  <a:pt x="666" y="1332"/>
                </a:lnTo>
                <a:lnTo>
                  <a:pt x="673" y="1325"/>
                </a:lnTo>
                <a:lnTo>
                  <a:pt x="673" y="1318"/>
                </a:lnTo>
                <a:lnTo>
                  <a:pt x="680" y="1311"/>
                </a:lnTo>
                <a:lnTo>
                  <a:pt x="687" y="1304"/>
                </a:lnTo>
                <a:lnTo>
                  <a:pt x="687" y="1296"/>
                </a:lnTo>
                <a:lnTo>
                  <a:pt x="694" y="1289"/>
                </a:lnTo>
                <a:lnTo>
                  <a:pt x="694" y="1282"/>
                </a:lnTo>
                <a:lnTo>
                  <a:pt x="701" y="1275"/>
                </a:lnTo>
                <a:lnTo>
                  <a:pt x="708" y="1268"/>
                </a:lnTo>
                <a:lnTo>
                  <a:pt x="715" y="1261"/>
                </a:lnTo>
                <a:lnTo>
                  <a:pt x="723" y="1261"/>
                </a:lnTo>
                <a:lnTo>
                  <a:pt x="730" y="1261"/>
                </a:lnTo>
                <a:lnTo>
                  <a:pt x="737" y="1261"/>
                </a:lnTo>
                <a:lnTo>
                  <a:pt x="744" y="1261"/>
                </a:lnTo>
                <a:lnTo>
                  <a:pt x="751" y="1268"/>
                </a:lnTo>
                <a:lnTo>
                  <a:pt x="758" y="1275"/>
                </a:lnTo>
                <a:lnTo>
                  <a:pt x="765" y="1282"/>
                </a:lnTo>
                <a:lnTo>
                  <a:pt x="765" y="1289"/>
                </a:lnTo>
                <a:lnTo>
                  <a:pt x="772" y="1296"/>
                </a:lnTo>
                <a:lnTo>
                  <a:pt x="772" y="1304"/>
                </a:lnTo>
                <a:lnTo>
                  <a:pt x="779" y="1311"/>
                </a:lnTo>
                <a:lnTo>
                  <a:pt x="779" y="1318"/>
                </a:lnTo>
                <a:lnTo>
                  <a:pt x="786" y="1325"/>
                </a:lnTo>
                <a:lnTo>
                  <a:pt x="786" y="1332"/>
                </a:lnTo>
                <a:lnTo>
                  <a:pt x="793" y="1339"/>
                </a:lnTo>
                <a:lnTo>
                  <a:pt x="793" y="1346"/>
                </a:lnTo>
                <a:lnTo>
                  <a:pt x="793" y="1353"/>
                </a:lnTo>
                <a:lnTo>
                  <a:pt x="800" y="1360"/>
                </a:lnTo>
                <a:lnTo>
                  <a:pt x="800" y="1367"/>
                </a:lnTo>
                <a:lnTo>
                  <a:pt x="800" y="1374"/>
                </a:lnTo>
                <a:lnTo>
                  <a:pt x="800" y="1382"/>
                </a:lnTo>
                <a:lnTo>
                  <a:pt x="808" y="1389"/>
                </a:lnTo>
                <a:lnTo>
                  <a:pt x="808" y="1403"/>
                </a:lnTo>
                <a:lnTo>
                  <a:pt x="808" y="1410"/>
                </a:lnTo>
                <a:lnTo>
                  <a:pt x="815" y="1417"/>
                </a:lnTo>
                <a:lnTo>
                  <a:pt x="815" y="1424"/>
                </a:lnTo>
                <a:lnTo>
                  <a:pt x="815" y="1431"/>
                </a:lnTo>
                <a:lnTo>
                  <a:pt x="822" y="1445"/>
                </a:lnTo>
                <a:lnTo>
                  <a:pt x="822" y="1452"/>
                </a:lnTo>
                <a:lnTo>
                  <a:pt x="822" y="1459"/>
                </a:lnTo>
                <a:lnTo>
                  <a:pt x="829" y="1474"/>
                </a:lnTo>
                <a:lnTo>
                  <a:pt x="829" y="1481"/>
                </a:lnTo>
                <a:lnTo>
                  <a:pt x="829" y="1495"/>
                </a:lnTo>
                <a:lnTo>
                  <a:pt x="836" y="1502"/>
                </a:lnTo>
                <a:lnTo>
                  <a:pt x="836" y="1516"/>
                </a:lnTo>
                <a:lnTo>
                  <a:pt x="836" y="1523"/>
                </a:lnTo>
                <a:lnTo>
                  <a:pt x="836" y="1537"/>
                </a:lnTo>
                <a:lnTo>
                  <a:pt x="843" y="1544"/>
                </a:lnTo>
                <a:lnTo>
                  <a:pt x="843" y="1559"/>
                </a:lnTo>
                <a:lnTo>
                  <a:pt x="843" y="1573"/>
                </a:lnTo>
                <a:lnTo>
                  <a:pt x="850" y="1587"/>
                </a:lnTo>
                <a:lnTo>
                  <a:pt x="850" y="1594"/>
                </a:lnTo>
                <a:lnTo>
                  <a:pt x="850" y="1608"/>
                </a:lnTo>
                <a:lnTo>
                  <a:pt x="857" y="1594"/>
                </a:lnTo>
                <a:lnTo>
                  <a:pt x="857" y="1580"/>
                </a:lnTo>
                <a:lnTo>
                  <a:pt x="857" y="1573"/>
                </a:lnTo>
                <a:lnTo>
                  <a:pt x="864" y="1559"/>
                </a:lnTo>
                <a:lnTo>
                  <a:pt x="864" y="1544"/>
                </a:lnTo>
                <a:lnTo>
                  <a:pt x="864" y="1530"/>
                </a:lnTo>
                <a:lnTo>
                  <a:pt x="871" y="1516"/>
                </a:lnTo>
                <a:lnTo>
                  <a:pt x="871" y="1502"/>
                </a:lnTo>
                <a:lnTo>
                  <a:pt x="871" y="1488"/>
                </a:lnTo>
                <a:lnTo>
                  <a:pt x="878" y="1474"/>
                </a:lnTo>
                <a:lnTo>
                  <a:pt x="878" y="1459"/>
                </a:lnTo>
                <a:lnTo>
                  <a:pt x="878" y="1445"/>
                </a:lnTo>
                <a:lnTo>
                  <a:pt x="878" y="1431"/>
                </a:lnTo>
                <a:lnTo>
                  <a:pt x="885" y="1417"/>
                </a:lnTo>
                <a:lnTo>
                  <a:pt x="885" y="1403"/>
                </a:lnTo>
                <a:lnTo>
                  <a:pt x="885" y="1382"/>
                </a:lnTo>
                <a:lnTo>
                  <a:pt x="893" y="1367"/>
                </a:lnTo>
                <a:lnTo>
                  <a:pt x="893" y="1353"/>
                </a:lnTo>
                <a:lnTo>
                  <a:pt x="893" y="1339"/>
                </a:lnTo>
                <a:lnTo>
                  <a:pt x="900" y="1325"/>
                </a:lnTo>
                <a:lnTo>
                  <a:pt x="900" y="1304"/>
                </a:lnTo>
                <a:lnTo>
                  <a:pt x="900" y="1289"/>
                </a:lnTo>
                <a:lnTo>
                  <a:pt x="907" y="1275"/>
                </a:lnTo>
                <a:lnTo>
                  <a:pt x="907" y="1261"/>
                </a:lnTo>
                <a:lnTo>
                  <a:pt x="907" y="1240"/>
                </a:lnTo>
                <a:lnTo>
                  <a:pt x="914" y="1226"/>
                </a:lnTo>
                <a:lnTo>
                  <a:pt x="914" y="1211"/>
                </a:lnTo>
                <a:lnTo>
                  <a:pt x="914" y="1190"/>
                </a:lnTo>
                <a:lnTo>
                  <a:pt x="914" y="1176"/>
                </a:lnTo>
                <a:lnTo>
                  <a:pt x="921" y="1162"/>
                </a:lnTo>
                <a:lnTo>
                  <a:pt x="921" y="1141"/>
                </a:lnTo>
                <a:lnTo>
                  <a:pt x="921" y="1126"/>
                </a:lnTo>
                <a:lnTo>
                  <a:pt x="928" y="1105"/>
                </a:lnTo>
                <a:lnTo>
                  <a:pt x="928" y="1091"/>
                </a:lnTo>
                <a:lnTo>
                  <a:pt x="928" y="1077"/>
                </a:lnTo>
                <a:lnTo>
                  <a:pt x="935" y="1056"/>
                </a:lnTo>
                <a:lnTo>
                  <a:pt x="935" y="1041"/>
                </a:lnTo>
                <a:lnTo>
                  <a:pt x="935" y="1020"/>
                </a:lnTo>
                <a:lnTo>
                  <a:pt x="942" y="1006"/>
                </a:lnTo>
                <a:lnTo>
                  <a:pt x="942" y="992"/>
                </a:lnTo>
                <a:lnTo>
                  <a:pt x="942" y="971"/>
                </a:lnTo>
                <a:lnTo>
                  <a:pt x="949" y="956"/>
                </a:lnTo>
                <a:lnTo>
                  <a:pt x="949" y="935"/>
                </a:lnTo>
                <a:lnTo>
                  <a:pt x="949" y="921"/>
                </a:lnTo>
                <a:lnTo>
                  <a:pt x="949" y="900"/>
                </a:lnTo>
                <a:lnTo>
                  <a:pt x="956" y="886"/>
                </a:lnTo>
                <a:lnTo>
                  <a:pt x="956" y="871"/>
                </a:lnTo>
                <a:lnTo>
                  <a:pt x="956" y="850"/>
                </a:lnTo>
                <a:lnTo>
                  <a:pt x="963" y="836"/>
                </a:lnTo>
                <a:lnTo>
                  <a:pt x="963" y="815"/>
                </a:lnTo>
                <a:lnTo>
                  <a:pt x="963" y="800"/>
                </a:lnTo>
                <a:lnTo>
                  <a:pt x="971" y="786"/>
                </a:lnTo>
                <a:lnTo>
                  <a:pt x="971" y="765"/>
                </a:lnTo>
                <a:lnTo>
                  <a:pt x="971" y="751"/>
                </a:lnTo>
                <a:lnTo>
                  <a:pt x="978" y="730"/>
                </a:lnTo>
                <a:lnTo>
                  <a:pt x="978" y="715"/>
                </a:lnTo>
                <a:lnTo>
                  <a:pt x="978" y="701"/>
                </a:lnTo>
                <a:lnTo>
                  <a:pt x="985" y="680"/>
                </a:lnTo>
                <a:lnTo>
                  <a:pt x="985" y="666"/>
                </a:lnTo>
                <a:lnTo>
                  <a:pt x="985" y="652"/>
                </a:lnTo>
                <a:lnTo>
                  <a:pt x="985" y="630"/>
                </a:lnTo>
                <a:lnTo>
                  <a:pt x="992" y="616"/>
                </a:lnTo>
                <a:lnTo>
                  <a:pt x="992" y="602"/>
                </a:lnTo>
                <a:lnTo>
                  <a:pt x="992" y="581"/>
                </a:lnTo>
                <a:lnTo>
                  <a:pt x="999" y="567"/>
                </a:lnTo>
                <a:lnTo>
                  <a:pt x="999" y="552"/>
                </a:lnTo>
                <a:lnTo>
                  <a:pt x="999" y="538"/>
                </a:lnTo>
                <a:lnTo>
                  <a:pt x="1006" y="524"/>
                </a:lnTo>
                <a:lnTo>
                  <a:pt x="1006" y="503"/>
                </a:lnTo>
                <a:lnTo>
                  <a:pt x="1006" y="489"/>
                </a:lnTo>
                <a:lnTo>
                  <a:pt x="1013" y="475"/>
                </a:lnTo>
                <a:lnTo>
                  <a:pt x="1013" y="460"/>
                </a:lnTo>
                <a:lnTo>
                  <a:pt x="1013" y="446"/>
                </a:lnTo>
                <a:lnTo>
                  <a:pt x="1020" y="432"/>
                </a:lnTo>
                <a:lnTo>
                  <a:pt x="1020" y="418"/>
                </a:lnTo>
                <a:lnTo>
                  <a:pt x="1020" y="404"/>
                </a:lnTo>
                <a:lnTo>
                  <a:pt x="1027" y="390"/>
                </a:lnTo>
                <a:lnTo>
                  <a:pt x="1027" y="375"/>
                </a:lnTo>
                <a:lnTo>
                  <a:pt x="1027" y="361"/>
                </a:lnTo>
                <a:lnTo>
                  <a:pt x="1027" y="347"/>
                </a:lnTo>
                <a:lnTo>
                  <a:pt x="1034" y="333"/>
                </a:lnTo>
                <a:lnTo>
                  <a:pt x="1034" y="319"/>
                </a:lnTo>
                <a:lnTo>
                  <a:pt x="1034" y="304"/>
                </a:lnTo>
                <a:lnTo>
                  <a:pt x="1041" y="297"/>
                </a:lnTo>
                <a:lnTo>
                  <a:pt x="1041" y="283"/>
                </a:lnTo>
                <a:lnTo>
                  <a:pt x="1041" y="269"/>
                </a:lnTo>
                <a:lnTo>
                  <a:pt x="1048" y="255"/>
                </a:lnTo>
                <a:lnTo>
                  <a:pt x="1048" y="248"/>
                </a:lnTo>
                <a:lnTo>
                  <a:pt x="1048" y="234"/>
                </a:lnTo>
                <a:lnTo>
                  <a:pt x="1056" y="227"/>
                </a:lnTo>
                <a:lnTo>
                  <a:pt x="1056" y="212"/>
                </a:lnTo>
                <a:lnTo>
                  <a:pt x="1056" y="198"/>
                </a:lnTo>
                <a:lnTo>
                  <a:pt x="1063" y="191"/>
                </a:lnTo>
                <a:lnTo>
                  <a:pt x="1063" y="177"/>
                </a:lnTo>
                <a:lnTo>
                  <a:pt x="1063" y="170"/>
                </a:lnTo>
                <a:lnTo>
                  <a:pt x="1063" y="163"/>
                </a:lnTo>
                <a:lnTo>
                  <a:pt x="1070" y="149"/>
                </a:lnTo>
                <a:lnTo>
                  <a:pt x="1070" y="142"/>
                </a:lnTo>
                <a:lnTo>
                  <a:pt x="1070" y="134"/>
                </a:lnTo>
                <a:lnTo>
                  <a:pt x="1077" y="120"/>
                </a:lnTo>
                <a:lnTo>
                  <a:pt x="1077" y="113"/>
                </a:lnTo>
                <a:lnTo>
                  <a:pt x="1077" y="106"/>
                </a:lnTo>
                <a:lnTo>
                  <a:pt x="1084" y="99"/>
                </a:lnTo>
                <a:lnTo>
                  <a:pt x="1084" y="92"/>
                </a:lnTo>
                <a:lnTo>
                  <a:pt x="1084" y="85"/>
                </a:lnTo>
                <a:lnTo>
                  <a:pt x="1091" y="78"/>
                </a:lnTo>
                <a:lnTo>
                  <a:pt x="1091" y="71"/>
                </a:lnTo>
                <a:lnTo>
                  <a:pt x="1091" y="64"/>
                </a:lnTo>
                <a:lnTo>
                  <a:pt x="1098" y="56"/>
                </a:lnTo>
                <a:lnTo>
                  <a:pt x="1098" y="49"/>
                </a:lnTo>
                <a:lnTo>
                  <a:pt x="1098" y="42"/>
                </a:lnTo>
                <a:lnTo>
                  <a:pt x="1105" y="35"/>
                </a:lnTo>
                <a:lnTo>
                  <a:pt x="1105" y="28"/>
                </a:lnTo>
                <a:lnTo>
                  <a:pt x="1112" y="21"/>
                </a:lnTo>
                <a:lnTo>
                  <a:pt x="1119" y="14"/>
                </a:lnTo>
                <a:lnTo>
                  <a:pt x="1126" y="7"/>
                </a:lnTo>
                <a:lnTo>
                  <a:pt x="1134" y="0"/>
                </a:lnTo>
                <a:lnTo>
                  <a:pt x="1141" y="0"/>
                </a:lnTo>
                <a:lnTo>
                  <a:pt x="1148" y="7"/>
                </a:lnTo>
                <a:lnTo>
                  <a:pt x="1155" y="14"/>
                </a:lnTo>
                <a:lnTo>
                  <a:pt x="1162" y="21"/>
                </a:lnTo>
                <a:lnTo>
                  <a:pt x="1169" y="28"/>
                </a:lnTo>
                <a:lnTo>
                  <a:pt x="1169" y="35"/>
                </a:lnTo>
                <a:lnTo>
                  <a:pt x="1176" y="42"/>
                </a:lnTo>
                <a:lnTo>
                  <a:pt x="1176" y="49"/>
                </a:lnTo>
                <a:lnTo>
                  <a:pt x="1176" y="56"/>
                </a:lnTo>
                <a:lnTo>
                  <a:pt x="1183" y="64"/>
                </a:lnTo>
                <a:lnTo>
                  <a:pt x="1183" y="71"/>
                </a:lnTo>
                <a:lnTo>
                  <a:pt x="1183" y="78"/>
                </a:lnTo>
                <a:lnTo>
                  <a:pt x="1190" y="85"/>
                </a:lnTo>
                <a:lnTo>
                  <a:pt x="1190" y="92"/>
                </a:lnTo>
                <a:lnTo>
                  <a:pt x="1190" y="99"/>
                </a:lnTo>
                <a:lnTo>
                  <a:pt x="1197" y="106"/>
                </a:lnTo>
                <a:lnTo>
                  <a:pt x="1197" y="113"/>
                </a:lnTo>
                <a:lnTo>
                  <a:pt x="1197" y="120"/>
                </a:lnTo>
                <a:lnTo>
                  <a:pt x="1204" y="134"/>
                </a:lnTo>
                <a:lnTo>
                  <a:pt x="1204" y="142"/>
                </a:lnTo>
                <a:lnTo>
                  <a:pt x="1204" y="149"/>
                </a:lnTo>
                <a:lnTo>
                  <a:pt x="1211" y="163"/>
                </a:lnTo>
                <a:lnTo>
                  <a:pt x="1211" y="170"/>
                </a:lnTo>
                <a:lnTo>
                  <a:pt x="1211" y="177"/>
                </a:lnTo>
                <a:lnTo>
                  <a:pt x="1211" y="191"/>
                </a:lnTo>
                <a:lnTo>
                  <a:pt x="1219" y="198"/>
                </a:lnTo>
                <a:lnTo>
                  <a:pt x="1219" y="212"/>
                </a:lnTo>
                <a:lnTo>
                  <a:pt x="1219" y="227"/>
                </a:lnTo>
                <a:lnTo>
                  <a:pt x="1226" y="234"/>
                </a:lnTo>
                <a:lnTo>
                  <a:pt x="1226" y="248"/>
                </a:lnTo>
                <a:lnTo>
                  <a:pt x="1226" y="255"/>
                </a:lnTo>
                <a:lnTo>
                  <a:pt x="1233" y="269"/>
                </a:lnTo>
                <a:lnTo>
                  <a:pt x="1233" y="283"/>
                </a:lnTo>
                <a:lnTo>
                  <a:pt x="1233" y="297"/>
                </a:lnTo>
                <a:lnTo>
                  <a:pt x="1240" y="304"/>
                </a:lnTo>
                <a:lnTo>
                  <a:pt x="1240" y="319"/>
                </a:lnTo>
                <a:lnTo>
                  <a:pt x="1240" y="333"/>
                </a:lnTo>
                <a:lnTo>
                  <a:pt x="1247" y="347"/>
                </a:lnTo>
                <a:lnTo>
                  <a:pt x="1247" y="361"/>
                </a:lnTo>
                <a:lnTo>
                  <a:pt x="1247" y="375"/>
                </a:lnTo>
                <a:lnTo>
                  <a:pt x="1247" y="390"/>
                </a:lnTo>
                <a:lnTo>
                  <a:pt x="1254" y="404"/>
                </a:lnTo>
                <a:lnTo>
                  <a:pt x="1254" y="418"/>
                </a:lnTo>
                <a:lnTo>
                  <a:pt x="1254" y="432"/>
                </a:lnTo>
                <a:lnTo>
                  <a:pt x="1261" y="446"/>
                </a:lnTo>
                <a:lnTo>
                  <a:pt x="1261" y="460"/>
                </a:lnTo>
                <a:lnTo>
                  <a:pt x="1261" y="475"/>
                </a:lnTo>
                <a:lnTo>
                  <a:pt x="1268" y="489"/>
                </a:lnTo>
                <a:lnTo>
                  <a:pt x="1268" y="503"/>
                </a:lnTo>
                <a:lnTo>
                  <a:pt x="1268" y="524"/>
                </a:lnTo>
                <a:lnTo>
                  <a:pt x="1275" y="538"/>
                </a:lnTo>
                <a:lnTo>
                  <a:pt x="1275" y="552"/>
                </a:lnTo>
                <a:lnTo>
                  <a:pt x="1275" y="567"/>
                </a:lnTo>
                <a:lnTo>
                  <a:pt x="1282" y="581"/>
                </a:lnTo>
                <a:lnTo>
                  <a:pt x="1282" y="602"/>
                </a:lnTo>
                <a:lnTo>
                  <a:pt x="1282" y="616"/>
                </a:lnTo>
                <a:lnTo>
                  <a:pt x="1289" y="630"/>
                </a:lnTo>
                <a:lnTo>
                  <a:pt x="1289" y="652"/>
                </a:lnTo>
                <a:lnTo>
                  <a:pt x="1289" y="666"/>
                </a:lnTo>
                <a:lnTo>
                  <a:pt x="1289" y="680"/>
                </a:lnTo>
                <a:lnTo>
                  <a:pt x="1297" y="701"/>
                </a:lnTo>
                <a:lnTo>
                  <a:pt x="1297" y="715"/>
                </a:lnTo>
                <a:lnTo>
                  <a:pt x="1297" y="730"/>
                </a:lnTo>
                <a:lnTo>
                  <a:pt x="1304" y="751"/>
                </a:lnTo>
                <a:lnTo>
                  <a:pt x="1304" y="765"/>
                </a:lnTo>
                <a:lnTo>
                  <a:pt x="1304" y="786"/>
                </a:lnTo>
                <a:lnTo>
                  <a:pt x="1311" y="800"/>
                </a:lnTo>
                <a:lnTo>
                  <a:pt x="1311" y="815"/>
                </a:lnTo>
                <a:lnTo>
                  <a:pt x="1311" y="836"/>
                </a:lnTo>
                <a:lnTo>
                  <a:pt x="1318" y="850"/>
                </a:lnTo>
                <a:lnTo>
                  <a:pt x="1318" y="871"/>
                </a:lnTo>
                <a:lnTo>
                  <a:pt x="1318" y="886"/>
                </a:lnTo>
                <a:lnTo>
                  <a:pt x="1325" y="900"/>
                </a:lnTo>
                <a:lnTo>
                  <a:pt x="1325" y="921"/>
                </a:lnTo>
                <a:lnTo>
                  <a:pt x="1325" y="935"/>
                </a:lnTo>
                <a:lnTo>
                  <a:pt x="1325" y="956"/>
                </a:lnTo>
                <a:lnTo>
                  <a:pt x="1332" y="971"/>
                </a:lnTo>
                <a:lnTo>
                  <a:pt x="1332" y="992"/>
                </a:lnTo>
                <a:lnTo>
                  <a:pt x="1332" y="1006"/>
                </a:lnTo>
                <a:lnTo>
                  <a:pt x="1339" y="1020"/>
                </a:lnTo>
                <a:lnTo>
                  <a:pt x="1339" y="1041"/>
                </a:lnTo>
                <a:lnTo>
                  <a:pt x="1339" y="1056"/>
                </a:lnTo>
                <a:lnTo>
                  <a:pt x="1346" y="1077"/>
                </a:lnTo>
                <a:lnTo>
                  <a:pt x="1346" y="1091"/>
                </a:lnTo>
                <a:lnTo>
                  <a:pt x="1346" y="1105"/>
                </a:lnTo>
                <a:lnTo>
                  <a:pt x="1353" y="1126"/>
                </a:lnTo>
                <a:lnTo>
                  <a:pt x="1353" y="1141"/>
                </a:lnTo>
                <a:lnTo>
                  <a:pt x="1353" y="1162"/>
                </a:lnTo>
                <a:lnTo>
                  <a:pt x="1360" y="1176"/>
                </a:lnTo>
                <a:lnTo>
                  <a:pt x="1360" y="1190"/>
                </a:lnTo>
                <a:lnTo>
                  <a:pt x="1360" y="1211"/>
                </a:lnTo>
                <a:lnTo>
                  <a:pt x="1360" y="1226"/>
                </a:lnTo>
                <a:lnTo>
                  <a:pt x="1367" y="1240"/>
                </a:lnTo>
                <a:lnTo>
                  <a:pt x="1367" y="1261"/>
                </a:lnTo>
                <a:lnTo>
                  <a:pt x="1367" y="1275"/>
                </a:lnTo>
                <a:lnTo>
                  <a:pt x="1374" y="1289"/>
                </a:lnTo>
                <a:lnTo>
                  <a:pt x="1374" y="1304"/>
                </a:lnTo>
                <a:lnTo>
                  <a:pt x="1374" y="1325"/>
                </a:lnTo>
                <a:lnTo>
                  <a:pt x="1382" y="1339"/>
                </a:lnTo>
                <a:lnTo>
                  <a:pt x="1382" y="1353"/>
                </a:lnTo>
                <a:lnTo>
                  <a:pt x="1382" y="1367"/>
                </a:lnTo>
                <a:lnTo>
                  <a:pt x="1389" y="1382"/>
                </a:lnTo>
                <a:lnTo>
                  <a:pt x="1389" y="1403"/>
                </a:lnTo>
                <a:lnTo>
                  <a:pt x="1389" y="1417"/>
                </a:lnTo>
                <a:lnTo>
                  <a:pt x="1396" y="1431"/>
                </a:lnTo>
                <a:lnTo>
                  <a:pt x="1396" y="1445"/>
                </a:lnTo>
                <a:lnTo>
                  <a:pt x="1396" y="1459"/>
                </a:lnTo>
                <a:lnTo>
                  <a:pt x="1396" y="1474"/>
                </a:lnTo>
                <a:lnTo>
                  <a:pt x="1403" y="1488"/>
                </a:lnTo>
                <a:lnTo>
                  <a:pt x="1403" y="1502"/>
                </a:lnTo>
                <a:lnTo>
                  <a:pt x="1403" y="1516"/>
                </a:lnTo>
                <a:lnTo>
                  <a:pt x="1410" y="1530"/>
                </a:lnTo>
                <a:lnTo>
                  <a:pt x="1410" y="1544"/>
                </a:lnTo>
                <a:lnTo>
                  <a:pt x="1410" y="1559"/>
                </a:lnTo>
                <a:lnTo>
                  <a:pt x="1417" y="1573"/>
                </a:lnTo>
                <a:lnTo>
                  <a:pt x="1417" y="1580"/>
                </a:lnTo>
                <a:lnTo>
                  <a:pt x="1417" y="1594"/>
                </a:lnTo>
                <a:lnTo>
                  <a:pt x="1424" y="1608"/>
                </a:lnTo>
                <a:lnTo>
                  <a:pt x="1424" y="1594"/>
                </a:lnTo>
                <a:lnTo>
                  <a:pt x="1424" y="1587"/>
                </a:lnTo>
                <a:lnTo>
                  <a:pt x="1431" y="1573"/>
                </a:lnTo>
                <a:lnTo>
                  <a:pt x="1431" y="1559"/>
                </a:lnTo>
                <a:lnTo>
                  <a:pt x="1431" y="1544"/>
                </a:lnTo>
                <a:lnTo>
                  <a:pt x="1438" y="1537"/>
                </a:lnTo>
                <a:lnTo>
                  <a:pt x="1438" y="1523"/>
                </a:lnTo>
                <a:lnTo>
                  <a:pt x="1438" y="1516"/>
                </a:lnTo>
                <a:lnTo>
                  <a:pt x="1438" y="1502"/>
                </a:lnTo>
                <a:lnTo>
                  <a:pt x="1445" y="1495"/>
                </a:lnTo>
                <a:lnTo>
                  <a:pt x="1445" y="1481"/>
                </a:lnTo>
                <a:lnTo>
                  <a:pt x="1445" y="1474"/>
                </a:lnTo>
                <a:lnTo>
                  <a:pt x="1452" y="1459"/>
                </a:lnTo>
                <a:lnTo>
                  <a:pt x="1452" y="1452"/>
                </a:lnTo>
                <a:lnTo>
                  <a:pt x="1452" y="1445"/>
                </a:lnTo>
                <a:lnTo>
                  <a:pt x="1460" y="1431"/>
                </a:lnTo>
                <a:lnTo>
                  <a:pt x="1460" y="1424"/>
                </a:lnTo>
                <a:lnTo>
                  <a:pt x="1460" y="1417"/>
                </a:lnTo>
                <a:lnTo>
                  <a:pt x="1467" y="1410"/>
                </a:lnTo>
                <a:lnTo>
                  <a:pt x="1467" y="1403"/>
                </a:lnTo>
                <a:lnTo>
                  <a:pt x="1467" y="1389"/>
                </a:lnTo>
                <a:lnTo>
                  <a:pt x="1474" y="1382"/>
                </a:lnTo>
                <a:lnTo>
                  <a:pt x="1474" y="1374"/>
                </a:lnTo>
                <a:lnTo>
                  <a:pt x="1474" y="1367"/>
                </a:lnTo>
                <a:lnTo>
                  <a:pt x="1474" y="1360"/>
                </a:lnTo>
                <a:lnTo>
                  <a:pt x="1481" y="1353"/>
                </a:lnTo>
                <a:lnTo>
                  <a:pt x="1481" y="1346"/>
                </a:lnTo>
                <a:lnTo>
                  <a:pt x="1488" y="1339"/>
                </a:lnTo>
                <a:lnTo>
                  <a:pt x="1488" y="1332"/>
                </a:lnTo>
                <a:lnTo>
                  <a:pt x="1488" y="1325"/>
                </a:lnTo>
                <a:lnTo>
                  <a:pt x="1495" y="1318"/>
                </a:lnTo>
                <a:lnTo>
                  <a:pt x="1495" y="1311"/>
                </a:lnTo>
                <a:lnTo>
                  <a:pt x="1502" y="1304"/>
                </a:lnTo>
                <a:lnTo>
                  <a:pt x="1502" y="1296"/>
                </a:lnTo>
                <a:lnTo>
                  <a:pt x="1509" y="1289"/>
                </a:lnTo>
                <a:lnTo>
                  <a:pt x="1509" y="1282"/>
                </a:lnTo>
                <a:lnTo>
                  <a:pt x="1516" y="1275"/>
                </a:lnTo>
                <a:lnTo>
                  <a:pt x="1523" y="1268"/>
                </a:lnTo>
                <a:lnTo>
                  <a:pt x="1530" y="1261"/>
                </a:lnTo>
                <a:lnTo>
                  <a:pt x="1537" y="1261"/>
                </a:lnTo>
                <a:lnTo>
                  <a:pt x="1545" y="1261"/>
                </a:lnTo>
                <a:lnTo>
                  <a:pt x="1552" y="1261"/>
                </a:lnTo>
                <a:lnTo>
                  <a:pt x="1559" y="1268"/>
                </a:lnTo>
                <a:lnTo>
                  <a:pt x="1566" y="1268"/>
                </a:lnTo>
                <a:lnTo>
                  <a:pt x="1573" y="1275"/>
                </a:lnTo>
                <a:lnTo>
                  <a:pt x="1580" y="1282"/>
                </a:lnTo>
                <a:lnTo>
                  <a:pt x="1587" y="1289"/>
                </a:lnTo>
                <a:lnTo>
                  <a:pt x="1587" y="1296"/>
                </a:lnTo>
                <a:lnTo>
                  <a:pt x="1594" y="1304"/>
                </a:lnTo>
                <a:lnTo>
                  <a:pt x="1594" y="1311"/>
                </a:lnTo>
                <a:lnTo>
                  <a:pt x="1601" y="1318"/>
                </a:lnTo>
                <a:lnTo>
                  <a:pt x="1601" y="1325"/>
                </a:lnTo>
                <a:lnTo>
                  <a:pt x="1608" y="1332"/>
                </a:lnTo>
                <a:lnTo>
                  <a:pt x="1608" y="1339"/>
                </a:lnTo>
                <a:lnTo>
                  <a:pt x="1615" y="1346"/>
                </a:lnTo>
                <a:lnTo>
                  <a:pt x="1615" y="1353"/>
                </a:lnTo>
                <a:lnTo>
                  <a:pt x="1622" y="1360"/>
                </a:lnTo>
                <a:lnTo>
                  <a:pt x="1622" y="1367"/>
                </a:lnTo>
                <a:lnTo>
                  <a:pt x="1622" y="1374"/>
                </a:lnTo>
                <a:lnTo>
                  <a:pt x="1630" y="1382"/>
                </a:lnTo>
                <a:lnTo>
                  <a:pt x="1630" y="1389"/>
                </a:lnTo>
                <a:lnTo>
                  <a:pt x="1630" y="1396"/>
                </a:lnTo>
                <a:lnTo>
                  <a:pt x="1637" y="1403"/>
                </a:lnTo>
                <a:lnTo>
                  <a:pt x="1637" y="1410"/>
                </a:lnTo>
                <a:lnTo>
                  <a:pt x="1644" y="1417"/>
                </a:lnTo>
                <a:lnTo>
                  <a:pt x="1644" y="1424"/>
                </a:lnTo>
                <a:lnTo>
                  <a:pt x="1644" y="1431"/>
                </a:lnTo>
                <a:lnTo>
                  <a:pt x="1651" y="1438"/>
                </a:lnTo>
                <a:lnTo>
                  <a:pt x="1651" y="1445"/>
                </a:lnTo>
                <a:lnTo>
                  <a:pt x="1651" y="1452"/>
                </a:lnTo>
                <a:lnTo>
                  <a:pt x="1658" y="1459"/>
                </a:lnTo>
                <a:lnTo>
                  <a:pt x="1658" y="1467"/>
                </a:lnTo>
                <a:lnTo>
                  <a:pt x="1658" y="1474"/>
                </a:lnTo>
                <a:lnTo>
                  <a:pt x="1665" y="1481"/>
                </a:lnTo>
                <a:lnTo>
                  <a:pt x="1665" y="1488"/>
                </a:lnTo>
                <a:lnTo>
                  <a:pt x="1665" y="1495"/>
                </a:lnTo>
                <a:lnTo>
                  <a:pt x="1672" y="1502"/>
                </a:lnTo>
                <a:lnTo>
                  <a:pt x="1672" y="1509"/>
                </a:lnTo>
                <a:lnTo>
                  <a:pt x="1672" y="1516"/>
                </a:lnTo>
                <a:lnTo>
                  <a:pt x="1679" y="1523"/>
                </a:lnTo>
                <a:lnTo>
                  <a:pt x="1679" y="1530"/>
                </a:lnTo>
                <a:lnTo>
                  <a:pt x="1679" y="1537"/>
                </a:lnTo>
                <a:lnTo>
                  <a:pt x="1686" y="1544"/>
                </a:lnTo>
                <a:lnTo>
                  <a:pt x="1686" y="1552"/>
                </a:lnTo>
                <a:lnTo>
                  <a:pt x="1686" y="1559"/>
                </a:lnTo>
                <a:lnTo>
                  <a:pt x="1693" y="1566"/>
                </a:lnTo>
                <a:lnTo>
                  <a:pt x="1693" y="1573"/>
                </a:lnTo>
                <a:lnTo>
                  <a:pt x="1693" y="1580"/>
                </a:lnTo>
                <a:lnTo>
                  <a:pt x="1700" y="1587"/>
                </a:lnTo>
                <a:lnTo>
                  <a:pt x="1700" y="1594"/>
                </a:lnTo>
                <a:lnTo>
                  <a:pt x="1700" y="1601"/>
                </a:lnTo>
                <a:lnTo>
                  <a:pt x="1708" y="1608"/>
                </a:lnTo>
                <a:lnTo>
                  <a:pt x="1708" y="1601"/>
                </a:lnTo>
                <a:lnTo>
                  <a:pt x="1708" y="1594"/>
                </a:lnTo>
                <a:lnTo>
                  <a:pt x="1715" y="1587"/>
                </a:lnTo>
                <a:lnTo>
                  <a:pt x="1715" y="1580"/>
                </a:lnTo>
                <a:lnTo>
                  <a:pt x="1722" y="1573"/>
                </a:lnTo>
                <a:lnTo>
                  <a:pt x="1722" y="1566"/>
                </a:lnTo>
                <a:lnTo>
                  <a:pt x="1722" y="1559"/>
                </a:lnTo>
                <a:lnTo>
                  <a:pt x="1729" y="1552"/>
                </a:lnTo>
                <a:lnTo>
                  <a:pt x="1729" y="1544"/>
                </a:lnTo>
                <a:lnTo>
                  <a:pt x="1736" y="1537"/>
                </a:lnTo>
                <a:lnTo>
                  <a:pt x="1736" y="1530"/>
                </a:lnTo>
                <a:lnTo>
                  <a:pt x="1736" y="1523"/>
                </a:lnTo>
                <a:lnTo>
                  <a:pt x="1743" y="1516"/>
                </a:lnTo>
                <a:lnTo>
                  <a:pt x="1743" y="1509"/>
                </a:lnTo>
                <a:lnTo>
                  <a:pt x="1750" y="1502"/>
                </a:lnTo>
                <a:lnTo>
                  <a:pt x="1750" y="1495"/>
                </a:lnTo>
                <a:lnTo>
                  <a:pt x="1757" y="1488"/>
                </a:lnTo>
                <a:lnTo>
                  <a:pt x="1757" y="1481"/>
                </a:lnTo>
                <a:lnTo>
                  <a:pt x="1764" y="1474"/>
                </a:lnTo>
                <a:lnTo>
                  <a:pt x="1764" y="1467"/>
                </a:lnTo>
                <a:lnTo>
                  <a:pt x="1771" y="1459"/>
                </a:lnTo>
                <a:lnTo>
                  <a:pt x="1771" y="1452"/>
                </a:lnTo>
                <a:lnTo>
                  <a:pt x="1778" y="1445"/>
                </a:lnTo>
                <a:lnTo>
                  <a:pt x="1785" y="1438"/>
                </a:lnTo>
                <a:lnTo>
                  <a:pt x="1793" y="1431"/>
                </a:lnTo>
                <a:lnTo>
                  <a:pt x="1800" y="1424"/>
                </a:lnTo>
                <a:lnTo>
                  <a:pt x="1807" y="1417"/>
                </a:lnTo>
                <a:lnTo>
                  <a:pt x="1814" y="1410"/>
                </a:lnTo>
                <a:lnTo>
                  <a:pt x="1821" y="1403"/>
                </a:lnTo>
                <a:lnTo>
                  <a:pt x="1828" y="1403"/>
                </a:lnTo>
                <a:lnTo>
                  <a:pt x="1835" y="1403"/>
                </a:lnTo>
                <a:lnTo>
                  <a:pt x="1842" y="1403"/>
                </a:lnTo>
                <a:lnTo>
                  <a:pt x="1849" y="1403"/>
                </a:lnTo>
                <a:lnTo>
                  <a:pt x="1856" y="1410"/>
                </a:lnTo>
                <a:lnTo>
                  <a:pt x="1863" y="1410"/>
                </a:lnTo>
                <a:lnTo>
                  <a:pt x="1871" y="1417"/>
                </a:lnTo>
                <a:lnTo>
                  <a:pt x="1878" y="1424"/>
                </a:lnTo>
                <a:lnTo>
                  <a:pt x="1885" y="1431"/>
                </a:lnTo>
                <a:lnTo>
                  <a:pt x="1892" y="1438"/>
                </a:lnTo>
                <a:lnTo>
                  <a:pt x="1899" y="1445"/>
                </a:lnTo>
                <a:lnTo>
                  <a:pt x="1906" y="1452"/>
                </a:lnTo>
                <a:lnTo>
                  <a:pt x="1913" y="1459"/>
                </a:lnTo>
                <a:lnTo>
                  <a:pt x="1913" y="1467"/>
                </a:lnTo>
                <a:lnTo>
                  <a:pt x="1920" y="1474"/>
                </a:lnTo>
                <a:lnTo>
                  <a:pt x="1920" y="1481"/>
                </a:lnTo>
                <a:lnTo>
                  <a:pt x="1927" y="1488"/>
                </a:lnTo>
                <a:lnTo>
                  <a:pt x="1927" y="1495"/>
                </a:lnTo>
                <a:lnTo>
                  <a:pt x="1934" y="1502"/>
                </a:lnTo>
                <a:lnTo>
                  <a:pt x="1941" y="1509"/>
                </a:lnTo>
                <a:lnTo>
                  <a:pt x="1941" y="1516"/>
                </a:lnTo>
                <a:lnTo>
                  <a:pt x="1948" y="1523"/>
                </a:lnTo>
                <a:lnTo>
                  <a:pt x="1948" y="1530"/>
                </a:lnTo>
                <a:lnTo>
                  <a:pt x="1956" y="1537"/>
                </a:lnTo>
                <a:lnTo>
                  <a:pt x="1956" y="1544"/>
                </a:lnTo>
                <a:lnTo>
                  <a:pt x="1963" y="1552"/>
                </a:lnTo>
                <a:lnTo>
                  <a:pt x="1963" y="1559"/>
                </a:lnTo>
                <a:lnTo>
                  <a:pt x="1970" y="1566"/>
                </a:lnTo>
                <a:lnTo>
                  <a:pt x="1970" y="1573"/>
                </a:lnTo>
                <a:lnTo>
                  <a:pt x="1977" y="1580"/>
                </a:lnTo>
                <a:lnTo>
                  <a:pt x="1977" y="1587"/>
                </a:lnTo>
                <a:lnTo>
                  <a:pt x="1984" y="1594"/>
                </a:lnTo>
                <a:lnTo>
                  <a:pt x="1991" y="1601"/>
                </a:lnTo>
                <a:lnTo>
                  <a:pt x="1991" y="1608"/>
                </a:lnTo>
                <a:lnTo>
                  <a:pt x="1998" y="1601"/>
                </a:lnTo>
                <a:lnTo>
                  <a:pt x="1998" y="1594"/>
                </a:lnTo>
                <a:lnTo>
                  <a:pt x="2005" y="1587"/>
                </a:lnTo>
                <a:lnTo>
                  <a:pt x="2005" y="1580"/>
                </a:lnTo>
                <a:lnTo>
                  <a:pt x="2012" y="1573"/>
                </a:lnTo>
                <a:lnTo>
                  <a:pt x="2012" y="1566"/>
                </a:lnTo>
                <a:lnTo>
                  <a:pt x="2019" y="1559"/>
                </a:lnTo>
                <a:lnTo>
                  <a:pt x="2026" y="1552"/>
                </a:lnTo>
                <a:lnTo>
                  <a:pt x="2026" y="1544"/>
                </a:lnTo>
                <a:lnTo>
                  <a:pt x="2034" y="1537"/>
                </a:lnTo>
                <a:lnTo>
                  <a:pt x="2034" y="1530"/>
                </a:lnTo>
                <a:lnTo>
                  <a:pt x="2041" y="1523"/>
                </a:lnTo>
                <a:lnTo>
                  <a:pt x="2048" y="1516"/>
                </a:lnTo>
                <a:lnTo>
                  <a:pt x="2055" y="1509"/>
                </a:lnTo>
                <a:lnTo>
                  <a:pt x="2062" y="1502"/>
                </a:lnTo>
                <a:lnTo>
                  <a:pt x="2069" y="1495"/>
                </a:lnTo>
                <a:lnTo>
                  <a:pt x="2069" y="1488"/>
                </a:lnTo>
                <a:lnTo>
                  <a:pt x="2076" y="1481"/>
                </a:lnTo>
                <a:lnTo>
                  <a:pt x="2083" y="1474"/>
                </a:lnTo>
                <a:lnTo>
                  <a:pt x="2090" y="1474"/>
                </a:lnTo>
                <a:lnTo>
                  <a:pt x="2097" y="1467"/>
                </a:lnTo>
                <a:lnTo>
                  <a:pt x="2104" y="1467"/>
                </a:lnTo>
                <a:lnTo>
                  <a:pt x="2111" y="1459"/>
                </a:lnTo>
                <a:lnTo>
                  <a:pt x="2119" y="1459"/>
                </a:lnTo>
                <a:lnTo>
                  <a:pt x="2126" y="1459"/>
                </a:lnTo>
                <a:lnTo>
                  <a:pt x="2133" y="1459"/>
                </a:lnTo>
                <a:lnTo>
                  <a:pt x="2140" y="1467"/>
                </a:lnTo>
                <a:lnTo>
                  <a:pt x="2147" y="1467"/>
                </a:lnTo>
                <a:lnTo>
                  <a:pt x="2154" y="1474"/>
                </a:lnTo>
                <a:lnTo>
                  <a:pt x="2161" y="1474"/>
                </a:lnTo>
                <a:lnTo>
                  <a:pt x="2168" y="1481"/>
                </a:lnTo>
                <a:lnTo>
                  <a:pt x="2175" y="1488"/>
                </a:lnTo>
                <a:lnTo>
                  <a:pt x="2182" y="1495"/>
                </a:lnTo>
                <a:lnTo>
                  <a:pt x="2189" y="1502"/>
                </a:lnTo>
                <a:lnTo>
                  <a:pt x="2197" y="1509"/>
                </a:lnTo>
                <a:lnTo>
                  <a:pt x="2204" y="1516"/>
                </a:lnTo>
                <a:lnTo>
                  <a:pt x="2211" y="1523"/>
                </a:lnTo>
                <a:lnTo>
                  <a:pt x="2218" y="1530"/>
                </a:lnTo>
                <a:lnTo>
                  <a:pt x="2225" y="1537"/>
                </a:lnTo>
                <a:lnTo>
                  <a:pt x="2232" y="1544"/>
                </a:lnTo>
                <a:lnTo>
                  <a:pt x="2239" y="1552"/>
                </a:lnTo>
                <a:lnTo>
                  <a:pt x="2239" y="1559"/>
                </a:lnTo>
                <a:lnTo>
                  <a:pt x="2246" y="1566"/>
                </a:lnTo>
                <a:lnTo>
                  <a:pt x="2253" y="1573"/>
                </a:lnTo>
                <a:lnTo>
                  <a:pt x="2253" y="1580"/>
                </a:lnTo>
                <a:lnTo>
                  <a:pt x="2260" y="1587"/>
                </a:lnTo>
                <a:lnTo>
                  <a:pt x="2267" y="1594"/>
                </a:lnTo>
                <a:lnTo>
                  <a:pt x="2267" y="1601"/>
                </a:lnTo>
                <a:lnTo>
                  <a:pt x="2274" y="160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172200" y="2965320"/>
            <a:ext cx="9907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6400" y="2203560"/>
            <a:ext cx="1476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Pulse Sha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00"/>
                </a:solidFill>
                <a:latin typeface="Times New Roman"/>
              </a:rPr>
              <a:t>Enve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0" y="2432160"/>
            <a:ext cx="304812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88560" y="1736640"/>
            <a:ext cx="152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onstitu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tack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34640" y="867240"/>
            <a:ext cx="70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pread Spectrum:  Stacked Carriers Com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57200" y="4471920"/>
            <a:ext cx="1828800" cy="1395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90720" y="3124080"/>
            <a:ext cx="1143000" cy="10670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B55-5F63-4D78-9E0E-5E1B0E07D7E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3352680" cy="2629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3276360" cy="2657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910200" y="2514600"/>
            <a:ext cx="192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zFreqRespDe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.49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24.96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90.4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7.68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38.6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138.67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57.68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0.4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4.96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40.49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920" y="2514600"/>
            <a:ext cx="156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pFreqRe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28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7800" y="2514600"/>
            <a:ext cx="1084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eq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2438280"/>
            <a:ext cx="4647960" cy="358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2819520"/>
            <a:ext cx="464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24382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2438280"/>
            <a:ext cx="0" cy="358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14480" y="98964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b-C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mplitude/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121-DA15-4C24-A7BB-16CEE44C1937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688000" y="2666880"/>
            <a:ext cx="70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 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23320" y="2438280"/>
            <a:ext cx="1195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p/P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carr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21160" y="2362320"/>
            <a:ext cx="12952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2362320"/>
            <a:ext cx="83844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83120" y="266688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590920"/>
            <a:ext cx="685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24040" y="4038480"/>
            <a:ext cx="111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1160" y="39625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69400" y="2590920"/>
            <a:ext cx="137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PSK/Q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68320" y="2514600"/>
            <a:ext cx="129564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7120" y="257652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t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87440" y="2819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6396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16440" y="2819520"/>
            <a:ext cx="82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12680" y="837720"/>
            <a:ext cx="519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 and 2 Mbps BARKER M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 Domain Mod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2819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3505320" cy="2819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520" y="3733920"/>
            <a:ext cx="186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Const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Ma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69680" y="3792240"/>
            <a:ext cx="3624480" cy="2657520"/>
            <a:chOff x="5269680" y="3792240"/>
            <a:chExt cx="3624480" cy="2657520"/>
          </a:xfrm>
        </p:grpSpPr>
        <p:sp>
          <p:nvSpPr>
            <p:cNvPr id="229" name=""/>
            <p:cNvSpPr/>
            <p:nvPr/>
          </p:nvSpPr>
          <p:spPr>
            <a:xfrm>
              <a:off x="5417640" y="6194160"/>
              <a:ext cx="31046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561280" y="6168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5720" y="6219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84136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11840" y="6219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12036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1200" y="6219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640692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78480" y="6219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687360" y="6168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57480" y="6219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6973560" y="6168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7356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25364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5472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753300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3264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820280" y="6168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2028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8099640" y="6168600"/>
              <a:ext cx="72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9928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379720" y="6168600"/>
              <a:ext cx="1080" cy="24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0080" y="6219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532840" y="4356360"/>
              <a:ext cx="64440" cy="572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11840" y="4356360"/>
              <a:ext cx="64800" cy="5724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2280" y="4337280"/>
              <a:ext cx="6372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78480" y="4337280"/>
              <a:ext cx="6444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58920" y="4337280"/>
              <a:ext cx="6372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45120" y="5645880"/>
              <a:ext cx="64440" cy="5652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24480" y="4337280"/>
              <a:ext cx="6480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04560" y="4337280"/>
              <a:ext cx="6444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91120" y="4337280"/>
              <a:ext cx="6444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071200" y="4337280"/>
              <a:ext cx="6444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50560" y="4337280"/>
              <a:ext cx="64800" cy="57600"/>
            </a:xfrm>
            <a:prstGeom prst="ellips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561280" y="4382640"/>
              <a:ext cx="72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84136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612036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40692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687360" y="4382640"/>
              <a:ext cx="72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6973560" y="5670720"/>
              <a:ext cx="720" cy="523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25364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753300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7820280" y="4382640"/>
              <a:ext cx="72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8099640" y="4382640"/>
              <a:ext cx="72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8379720" y="4382640"/>
              <a:ext cx="1080" cy="181152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746040" y="6327720"/>
              <a:ext cx="51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req (MHz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69680" y="380016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0200" y="404352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91760" y="37922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35000" y="37922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33680" y="40514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17240" y="522576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72360" y="4051440"/>
              <a:ext cx="7218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55280" y="404352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387200" y="379224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873920" y="3792240"/>
              <a:ext cx="7218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2000" y="4052520"/>
              <a:ext cx="6058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1400" spc="-1" strike="noStrike" baseline="44000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 flipV="1">
            <a:off x="4038480" y="35809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962160" y="37339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181480" y="2743200"/>
            <a:ext cx="1526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200040" y="27432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39560" y="36565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6600" y="24372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74840" y="2437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5257800" y="2285640"/>
            <a:ext cx="609120" cy="152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5A4-94A4-491C-8B80-73D4C57F73C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Mark Webster</dc:creator>
  <dc:description/>
  <dc:language>en-US</dc:language>
  <cp:lastModifiedBy>Harris Semiconductor</cp:lastModifiedBy>
  <cp:lastPrinted>2000-07-06T16:37:24Z</cp:lastPrinted>
  <dcterms:modified xsi:type="dcterms:W3CDTF">2000-07-10T21:18:12Z</dcterms:modified>
  <cp:revision>91</cp:revision>
  <dc:subject/>
  <dc:title>Frequency Domain Modulators for 802.11b</dc:title>
</cp:coreProperties>
</file>