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8.png" ContentType="image/png"/>
  <Override PartName="/ppt/media/image30.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98480" y="97200"/>
            <a:ext cx="2838600" cy="213480"/>
          </a:xfrm>
          <a:prstGeom prst="rect">
            <a:avLst/>
          </a:prstGeom>
          <a:noFill/>
          <a:ln w="0">
            <a:noFill/>
          </a:ln>
        </p:spPr>
        <p:txBody>
          <a:bodyPr lIns="0" rIns="0" tIns="0" bIns="0" anchor="b">
            <a:noAutofit/>
          </a:bodyPr>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9880" y="97200"/>
            <a:ext cx="2760840" cy="213480"/>
          </a:xfrm>
          <a:prstGeom prst="rect">
            <a:avLst/>
          </a:prstGeom>
          <a:noFill/>
          <a:ln w="0">
            <a:noFill/>
          </a:ln>
        </p:spPr>
        <p:txBody>
          <a:bodyPr lIns="0" rIns="0" tIns="0" bIns="0" anchor="b">
            <a:noAutofit/>
          </a:bodyPr>
          <a:lstStyle>
            <a:lvl1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1" lang="en-US" sz="1400" spc="-1" strike="noStrike">
                <a:solidFill>
                  <a:srgbClr val="000000"/>
                </a:solidFill>
                <a:latin typeface="Times New Roman"/>
              </a:defRPr>
            </a:lvl1pPr>
          </a:lstStyle>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85840" y="701280"/>
            <a:ext cx="462456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805200" y="8986680"/>
            <a:ext cx="2532240" cy="182880"/>
          </a:xfrm>
          <a:prstGeom prst="rect">
            <a:avLst/>
          </a:prstGeom>
          <a:noFill/>
          <a:ln w="0">
            <a:noFill/>
          </a:ln>
        </p:spPr>
        <p:txBody>
          <a:bodyPr lIns="0" rIns="0" tIns="0" bIns="0" anchor="t">
            <a:noAutofit/>
          </a:bodyPr>
          <a:lstStyle>
            <a:lvl1pPr lvl="4" marL="458640" indent="0" algn="r">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lvl="4" marL="458640" indent="0" algn="r">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58840" y="8986680"/>
            <a:ext cx="809640" cy="365400"/>
          </a:xfrm>
          <a:prstGeom prst="rect">
            <a:avLst/>
          </a:prstGeom>
          <a:noFill/>
          <a:ln w="0">
            <a:noFill/>
          </a:ln>
        </p:spPr>
        <p:txBody>
          <a:bodyPr lIns="0" rIns="0" tIns="0" bIns="0" anchor="t">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D1CC2E96-515A-4BCB-A4AB-8210C5DF25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30080" y="8986680"/>
            <a:ext cx="717840" cy="182880"/>
          </a:xfrm>
          <a:prstGeom prst="rect">
            <a:avLst/>
          </a:prstGeom>
          <a:noFill/>
          <a:ln w="0">
            <a:noFill/>
          </a:ln>
        </p:spPr>
        <p:style>
          <a:lnRef idx="0"/>
          <a:fillRef idx="0"/>
          <a:effectRef idx="0"/>
          <a:fontRef idx="minor"/>
        </p:style>
        <p:txBody>
          <a:bodyPr lIns="0" rIns="0" tIns="0" bIns="0"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30080" y="8985240"/>
            <a:ext cx="553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54120" y="297000"/>
            <a:ext cx="568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85840" y="701640"/>
            <a:ext cx="4624560" cy="3468600"/>
          </a:xfrm>
          <a:prstGeom prst="rect">
            <a:avLst/>
          </a:prstGeom>
          <a:ln w="0">
            <a:noFill/>
          </a:ln>
        </p:spPr>
      </p:sp>
      <p:sp>
        <p:nvSpPr>
          <p:cNvPr id="743"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presentation describes how the IEEE 802.11b signals can be generated using frequency domain modulators.  The signal is constructed in the frequency domain and, then, transformed to the time domain before transmission.</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85840" y="701640"/>
            <a:ext cx="4624560" cy="3468600"/>
          </a:xfrm>
          <a:prstGeom prst="rect">
            <a:avLst/>
          </a:prstGeom>
          <a:ln w="0">
            <a:noFill/>
          </a:ln>
        </p:spPr>
      </p:sp>
      <p:sp>
        <p:nvSpPr>
          <p:cNvPr id="761"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slide shows the QPSK constellation points associated with all 11 sub-carriers.  The QPSK modulation contains a phase tilt not usually seen.  However, this presents no fundamental problem, it is simply unconventional.</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tice the center sub-carrier has a smaller amplitud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85840" y="701640"/>
            <a:ext cx="4624560" cy="3468600"/>
          </a:xfrm>
          <a:prstGeom prst="rect">
            <a:avLst/>
          </a:prstGeom>
          <a:ln w="0">
            <a:noFill/>
          </a:ln>
        </p:spPr>
      </p:sp>
      <p:sp>
        <p:nvSpPr>
          <p:cNvPr id="763"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w, let us develop the same type of modulator for 5.5 Mbps CCK.  Here, 2 bits of information specify the phase of a QPSK signal which runs at 1.375 MHz = 11 MHz / 8.  This base waveform is spread using 1-of-4 eight chip spreading codes.  Representative 8 chip codes are shown for reference.  Two more information bits are used to select one of the codeword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ach of these 8 chip codes possess a frequency spectrum with 8 discrete lines.  These will be shown shortly.  The frequency location of the spectral lines are identical for each of the 4 codewords.  The amplitude and phase of the spectral lines vary as a function of the particular codewor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narrow QPSK signal “distributes” onto these discrete line spectra, just as in the 1-and-2 Mbps Barker modul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85840" y="701640"/>
            <a:ext cx="4624560" cy="3468600"/>
          </a:xfrm>
          <a:prstGeom prst="rect">
            <a:avLst/>
          </a:prstGeom>
          <a:ln w="0">
            <a:noFill/>
          </a:ln>
        </p:spPr>
      </p:sp>
      <p:sp>
        <p:nvSpPr>
          <p:cNvPr id="765"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se figures show the DFT of each of the four codewords.  Notice that the amplitude varies of the sub-carrier as a function of codewor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85840" y="701640"/>
            <a:ext cx="4624560" cy="3468600"/>
          </a:xfrm>
          <a:prstGeom prst="rect">
            <a:avLst/>
          </a:prstGeom>
          <a:ln w="0">
            <a:noFill/>
          </a:ln>
        </p:spPr>
      </p:sp>
      <p:sp>
        <p:nvSpPr>
          <p:cNvPr id="767"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diagram shows how processing in the frequency domain achieves the same effect.  2 information bits select one of the four codewords.  Each codeword has a sub-carrier description, stored in a table.  Two more information bits are used to redundantly QPSK modulate each sub-carrie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wo bits of information are contained in the amplitude and phases of the codeword spectrum.  The other two bits are contained in the quadriphase modulation of each sub-carrie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or 5.5 Mbps, there are 4 bits of information mapped to 8 chips transmitted at 11 MHz.</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85840" y="701640"/>
            <a:ext cx="4624560" cy="3468600"/>
          </a:xfrm>
          <a:prstGeom prst="rect">
            <a:avLst/>
          </a:prstGeom>
          <a:ln w="0">
            <a:noFill/>
          </a:ln>
        </p:spPr>
      </p:sp>
      <p:sp>
        <p:nvSpPr>
          <p:cNvPr id="769"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se diagrams show the composite effect.  Each of the 8 sub-carriers has an associated constellation, which are specified by the information bits.  The 1st and 5th constellation is QPSK.  The 2nd, 4th, 6th and 8th sub-carrier is modulated with 8 QAM.  The 3rd and 7ths sub-carrier carry 5 QA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Recall, OFDM has constellations on sub-carriers.  For DSL systems (e.g., ADSL using DMT) the constellations can vary across sub-carriers (as a function of bit loading).</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5.5 Mbps CCK has an  equivalent signal structure in the frequency domai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85840" y="701640"/>
            <a:ext cx="4624560" cy="3468600"/>
          </a:xfrm>
          <a:prstGeom prst="rect">
            <a:avLst/>
          </a:prstGeom>
          <a:ln w="0">
            <a:noFill/>
          </a:ln>
        </p:spPr>
      </p:sp>
      <p:sp>
        <p:nvSpPr>
          <p:cNvPr id="771"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only difference between the 5.5 Mbps and 11 Mbps CCK modes, is 11 Mbps CCK has 64 spreading codes.  Six bits of information are used to select one-of-64 codeword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ach of these 8 chip codewords has an equivalent description in the frequency domain, which consists of 8 spectral lines.  These spectral lines act as sub-carriers in the spreading process.  A lower-rate 1.375 MHz symbol-rate QPSK signal sits centered on each subcarrier.  But, the amplitude and phase of each sub-carrier varies with the index of the spreading cod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85840" y="701640"/>
            <a:ext cx="4624560" cy="3468600"/>
          </a:xfrm>
          <a:prstGeom prst="rect">
            <a:avLst/>
          </a:prstGeom>
          <a:ln w="0">
            <a:noFill/>
          </a:ln>
        </p:spPr>
      </p:sp>
      <p:sp>
        <p:nvSpPr>
          <p:cNvPr id="773"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same effect can be directly created in the frequency domai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85840" y="701640"/>
            <a:ext cx="4624560" cy="3468600"/>
          </a:xfrm>
          <a:prstGeom prst="rect">
            <a:avLst/>
          </a:prstGeom>
          <a:ln w="0">
            <a:noFill/>
          </a:ln>
        </p:spPr>
      </p:sp>
      <p:sp>
        <p:nvSpPr>
          <p:cNvPr id="775"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y combining the QPSK modulation with the amplitude/phase sub-carrier variation with codeword, the composite effect results in a QAM signal sitting on 8 sub-carriers.  The odd sub-carriers use 9 QAM.  The even sub-carriers use 24 QA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tice that this is similar to conventional OFD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85840" y="701640"/>
            <a:ext cx="4624560" cy="3468600"/>
          </a:xfrm>
          <a:prstGeom prst="rect">
            <a:avLst/>
          </a:prstGeom>
          <a:ln w="0">
            <a:noFill/>
          </a:ln>
        </p:spPr>
      </p:sp>
      <p:sp>
        <p:nvSpPr>
          <p:cNvPr id="777"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same type of processing can be formulated for PBCC, but the constellation mapping for each sub-carrier is much more complex, since a simple relationship does not exist between the convolution code and the spectru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number of chips “synthesized” by the IFFT is arbitrary.  8 chips, 12 chips, 16 chips or any number can be used.  The number of chips blocked together in time specify the number of spectral lines (sub-carriers) in the frequency domai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85840" y="701640"/>
            <a:ext cx="4624560" cy="3468600"/>
          </a:xfrm>
          <a:prstGeom prst="rect">
            <a:avLst/>
          </a:prstGeom>
          <a:ln w="0">
            <a:noFill/>
          </a:ln>
        </p:spPr>
      </p:sp>
      <p:sp>
        <p:nvSpPr>
          <p:cNvPr id="779"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 emphasize the similarity between OFDM and 802.11b’s modulations, the block diagram for 802.11a is shown.  OFDM directly embraces signal synthesis in the frequency domain, so that frequency domain equalization and decoding can be performed in the receive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cyclic extension is an additional waveform feature often used for OFDM, but is not a requirement to be OFDM.  If the multipath spread is much smaller than the OFDM symbol duration, the cyclic extension is not neede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cyclic extension is used to sidestep the equalization problem produced by inter-block interference.  The cyclic extension absorbs the signal smearing, so sub-carrier orthogonality is maintained in the receiver’s FF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85840" y="701640"/>
            <a:ext cx="4624560" cy="3468600"/>
          </a:xfrm>
          <a:prstGeom prst="rect">
            <a:avLst/>
          </a:prstGeom>
          <a:ln w="0">
            <a:noFill/>
          </a:ln>
        </p:spPr>
      </p:sp>
      <p:sp>
        <p:nvSpPr>
          <p:cNvPr id="745"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ur normal habit is to think of signals in the time domain.  This presentation hopes to provide new insights by describing some common signals in the frequency domai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t will be shown that the802.11 1-and-2  Mbps DSSS signals have the same signal structure as OFDM when viewed in the frequency domain.  Also, it will be shown that the 802.11b signals for 5.5-and-11 Mbps CCK have the same signal structure as OFDM when viewed in the frequency domai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particular, it will be shown that the 802.11b  signals are comprised of discrete carriers which are modulated with BPSK, QPSK or QAM, similar to 802.11a.</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85840" y="701640"/>
            <a:ext cx="4624560" cy="3468600"/>
          </a:xfrm>
          <a:prstGeom prst="rect">
            <a:avLst/>
          </a:prstGeom>
          <a:ln w="0">
            <a:noFill/>
          </a:ln>
        </p:spPr>
      </p:sp>
      <p:sp>
        <p:nvSpPr>
          <p:cNvPr id="781"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diagram shows the signal structure for 802.11a.  Here 52 sub-carriers are used and the receiver uses a 64 point FFT.  This waveform is equivalent to a 64 chip codeword in the time domain, for all the reasons shown earlie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Here the cyclic extension is 16 samples.  This merely extends the sub-carriers in tim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85840" y="701640"/>
            <a:ext cx="4624560" cy="3468600"/>
          </a:xfrm>
          <a:prstGeom prst="rect">
            <a:avLst/>
          </a:prstGeom>
          <a:ln w="0">
            <a:noFill/>
          </a:ln>
        </p:spPr>
      </p:sp>
      <p:sp>
        <p:nvSpPr>
          <p:cNvPr id="783"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ne may contend that the difference between OFDM and 802.11b signals is the cyclic extens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f so, this slide shows that the codeword based modulations also can use a cyclic extension.  The technique is to do the same thing that is done in conventional OFDM.  Replicate some tails chips, and move them to the front.  Since it was shown earlier that the signal consists of discrete tones, this process merely cyclically extends the tones in tim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Here, also, frequency domain equalization can be used of the codewords, and the cyclic extension eliminates the problems associated with inter-block iterferenc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85840" y="701640"/>
            <a:ext cx="4624560" cy="3468600"/>
          </a:xfrm>
          <a:prstGeom prst="rect">
            <a:avLst/>
          </a:prstGeom>
          <a:ln w="0">
            <a:noFill/>
          </a:ln>
        </p:spPr>
      </p:sp>
      <p:sp>
        <p:nvSpPr>
          <p:cNvPr id="747"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irst, let’s start with the 1-and-2 Mbps Barker DSSS signal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block diagram shows the conventional direct-sequence spread spectrum technique.  The 1 Mbps BPSK has an information signal bandwidth of about 1 MHz.  The 2 Mbps QPSK has an information signal bandwidth of about 1 MHz also.  With square pulse shaping, the frequency response is sin x/x in shap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or 802.11 the spreading sequence is not pseudo random, but rather fixed.  This is often called a “signature sequence,” in CDMA systems.  The Barker spreading sequence has 11 chips.  These 11 chips multiply the information BPSK/QPSK signal in the time domain.  This produces a spread signal with approximately 11 times more bandwidth than the original BPSK/QPSK information signal.</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w let’s begin examining the frequency domain properties of this syst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85840" y="701640"/>
            <a:ext cx="4624560" cy="3468600"/>
          </a:xfrm>
          <a:prstGeom prst="rect">
            <a:avLst/>
          </a:prstGeom>
          <a:ln w="0">
            <a:noFill/>
          </a:ln>
        </p:spPr>
      </p:sp>
      <p:sp>
        <p:nvSpPr>
          <p:cNvPr id="749"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11 Barker code chips are shown in the discrete-time domain on the left.  On the right, the equivalent frequency domain representation is shown by using the discrete Fourier transfor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viewpoint is mathematically exact, because the spreading code is repeated over-and-over again, creating a Fourier series.  The time-domain signal is periodically extended over all-time, and the frequency-domain equivalent is periodically extended over all-frequencies.  Both the time-domain and frequency-domain representation is discrete and periodic.</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the frequency domain, the 11 chip spreading sequence creates fundamental 11 discrete spectral lines.  These 11 discrete spectral lines (amplitude/phase) are infinitely repeated across the frequency axi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85840" y="701640"/>
            <a:ext cx="4624560" cy="3468600"/>
          </a:xfrm>
          <a:prstGeom prst="rect">
            <a:avLst/>
          </a:prstGeom>
          <a:ln w="0">
            <a:noFill/>
          </a:ln>
        </p:spPr>
      </p:sp>
      <p:sp>
        <p:nvSpPr>
          <p:cNvPr id="751"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a real spread-spectrum modem, the discrete signal found in a baseband processor is converted to an analog signal.  This conversion is often generated using a zero-order-hold, or square pulse.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square pulse is convolved with the discrete lines in time.  This produces a multiplication in the frequency domain, so the line sprectra of the previous slide are now weighted by a sin x/x respons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signal at this point looks like the spread spectrum signal, but on a spectrum analyzer, all one would see would be discrete lines (comb spectrum).  That is the spectrum before the information has been imposed upon i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85840" y="701640"/>
            <a:ext cx="4624560" cy="3468600"/>
          </a:xfrm>
          <a:prstGeom prst="rect">
            <a:avLst/>
          </a:prstGeom>
          <a:ln w="0">
            <a:noFill/>
          </a:ln>
        </p:spPr>
      </p:sp>
      <p:sp>
        <p:nvSpPr>
          <p:cNvPr id="753"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slide shows how the information signal on the left actually “distributes” with the spreading process.  Since the information signal and the spreading signal are multiplied in the time domain, in the frequency domain they are convolved.  This causes replicate copies of the narrow signal to sit centered upon each spectral line in the spreading function, only weighted by the amplitude and phase the sin x/x pulse shap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ll these individual copies of the original signal appear stacked side-by-side, as duplicate copies of information.  This duplicate, redundant information provides the processing gain the FCC require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replicate copies all sum together to form the composite spread spectrum signal.  The composite then is a spectral density, and no discrete spectral lines remai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85840" y="701640"/>
            <a:ext cx="4624560" cy="3468600"/>
          </a:xfrm>
          <a:prstGeom prst="rect">
            <a:avLst/>
          </a:prstGeom>
          <a:ln w="0">
            <a:noFill/>
          </a:ln>
        </p:spPr>
      </p:sp>
      <p:sp>
        <p:nvSpPr>
          <p:cNvPr id="755"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slides is a “enlarged” version of the previous slide, just to help the reader see the discrete copies of the narrow signal that comprise the broad signal.  Only a few copies of the narrow signal are shown stacked, but, in reality, there are an infinite number.  The stacking in the frequency domain extends over all frequencies.  However, the analog-pulse spectrum acts as a lowpass filter to limit the effective bandwidth of the composite sign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85840" y="701640"/>
            <a:ext cx="4624560" cy="3468600"/>
          </a:xfrm>
          <a:prstGeom prst="rect">
            <a:avLst/>
          </a:prstGeom>
          <a:ln w="0">
            <a:noFill/>
          </a:ln>
        </p:spPr>
      </p:sp>
      <p:sp>
        <p:nvSpPr>
          <p:cNvPr id="757"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e can now show the 1-and-2 Mbps Barker modulations has the same signal structure as OFD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se two data rates are formed using 11 sub-carriers, in contrast to 52 sub-carriers of 802.11a.  The 11 sub-carriers are shown in the top left figure.  Each of these sub-carriers have an amplitude and phase.  10 of the sub-carriers have the same amplitude, while the center one has a smaller amplitud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ach of the sub-carriers have a corresponding phase as shown in the table on the right.  The combined amplitude and phase for each sub-carrier is shown in the quadrature plot on the lower lef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or the 1 Mbps mode, each of the 11 sub-carriers are bi-phase modulated (B PSK).  For the 2 Mbps mode, each of the 11 sub-carriers is quadriphase modulate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ach sub-carrier is modulated with the same information, provided 11th-order redundancy.  This gives a processing gain of 10 *log10( 11) in the receiver, through the RAKE receiver coherent combining.</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85840" y="701640"/>
            <a:ext cx="4624560" cy="3468600"/>
          </a:xfrm>
          <a:prstGeom prst="rect">
            <a:avLst/>
          </a:prstGeom>
          <a:ln w="0">
            <a:noFill/>
          </a:ln>
        </p:spPr>
      </p:sp>
      <p:sp>
        <p:nvSpPr>
          <p:cNvPr id="759"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frequency domain modulator is shown in the figure.  Notice, that it performs the same processing that a conventional OFDM transmitter does.  The information bits are mapped onto the sub-carriers using BPSK for 1 Mbps and QPSK for 2 Mbp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cyclic extension associated with OFDM will be discussed la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C8A6D3-5F10-45FD-B261-B44375C11F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7B561-D52C-4AFB-95AA-EF10FC493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521C4B-6614-4B74-A639-E346A75658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9A4F42-B3A2-49EC-80AE-AC03A60202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C26F2-0A27-4E51-AC95-40E3D0294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CFE4A-1C70-4070-AE04-558A10C19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040AE-2D18-4C9B-B83B-8E8509CC1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9876E-1273-4094-B75D-91CBA6DEF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821A9-3BB4-4C72-9852-7458AB7C1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0FD9C-1E6F-4186-BCC6-48501C87E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FAE55-D504-413E-9B3C-A2B21C4AA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3AE60-2422-4E41-9728-DDC5FD01B4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148280" y="6474960"/>
            <a:ext cx="923760" cy="54792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2D62419-A8F6-4BA7-AC0C-324BDD0C14BD}" type="slidenum">
              <a:rPr b="0" lang="en-US" sz="1200" spc="-1" strike="noStrike">
                <a:solidFill>
                  <a:srgbClr val="000000"/>
                </a:solidFill>
                <a:latin typeface="Times New Roman"/>
              </a:rPr>
              <a:t>&lt;number&gt;</a:t>
            </a:fld>
            <a:r>
              <a:rPr b="0" lang="en-US" sz="1200" spc="-1" strike="noStrike">
                <a:solidFill>
                  <a:srgbClr val="000000"/>
                </a:solidFill>
                <a:latin typeface="Times New Roman"/>
              </a:rPr>
              <a:t> of  22</a:t>
            </a:r>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202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slideLayout" Target="../slideLayouts/slideLayout1.xml"/><Relationship Id="rId1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32.png"/><Relationship Id="rId9" Type="http://schemas.openxmlformats.org/officeDocument/2006/relationships/slideLayout" Target="../slideLayouts/slideLayout1.xml"/><Relationship Id="rId1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image" Target="../media/image35.png"/><Relationship Id="rId4" Type="http://schemas.openxmlformats.org/officeDocument/2006/relationships/image" Target="../media/image35.png"/><Relationship Id="rId5" Type="http://schemas.openxmlformats.org/officeDocument/2006/relationships/image" Target="../media/image35.png"/><Relationship Id="rId6" Type="http://schemas.openxmlformats.org/officeDocument/2006/relationships/image" Target="../media/image35.png"/><Relationship Id="rId7" Type="http://schemas.openxmlformats.org/officeDocument/2006/relationships/image" Target="../media/image35.png"/><Relationship Id="rId8" Type="http://schemas.openxmlformats.org/officeDocument/2006/relationships/image" Target="../media/image35.png"/><Relationship Id="rId9" Type="http://schemas.openxmlformats.org/officeDocument/2006/relationships/image" Target="../media/image22.png"/><Relationship Id="rId10" Type="http://schemas.openxmlformats.org/officeDocument/2006/relationships/slideLayout" Target="../slideLayouts/slideLayout1.xml"/><Relationship Id="rId11"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167652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Frequency Domain Modulators</a:t>
            </a:r>
            <a:br>
              <a:rPr sz="4400"/>
            </a:br>
            <a:r>
              <a:rPr b="1" lang="en-US" sz="4400" spc="-1" strike="noStrike">
                <a:solidFill>
                  <a:srgbClr val="3333cc"/>
                </a:solidFill>
                <a:latin typeface="Times New Roman"/>
              </a:rPr>
              <a:t>for 802.11b</a:t>
            </a:r>
            <a:endParaRPr b="0" lang="en-US" sz="4400" spc="-1" strike="noStrike">
              <a:solidFill>
                <a:srgbClr val="000000"/>
              </a:solidFill>
              <a:latin typeface="Times New Roman"/>
            </a:endParaRPr>
          </a:p>
        </p:txBody>
      </p:sp>
      <p:sp>
        <p:nvSpPr>
          <p:cNvPr id="56" name=""/>
          <p:cNvSpPr/>
          <p:nvPr/>
        </p:nvSpPr>
        <p:spPr>
          <a:xfrm>
            <a:off x="1371600" y="4038480"/>
            <a:ext cx="6400800" cy="1295640"/>
          </a:xfrm>
          <a:prstGeom prst="rect">
            <a:avLst/>
          </a:prstGeom>
          <a:noFill/>
          <a:ln w="0">
            <a:noFill/>
          </a:ln>
        </p:spPr>
        <p:style>
          <a:lnRef idx="0"/>
          <a:fillRef idx="0"/>
          <a:effectRef idx="0"/>
          <a:fontRef idx="minor"/>
        </p:style>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 Webster</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sil Corporation</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ly 2000</a:t>
            </a:r>
            <a:endParaRPr b="0" lang="en-US" sz="2000" spc="-1" strike="noStrike">
              <a:solidFill>
                <a:srgbClr val="000000"/>
              </a:solidFill>
              <a:latin typeface="Times New Roman"/>
            </a:endParaRPr>
          </a:p>
        </p:txBody>
      </p:sp>
      <p:sp>
        <p:nvSpPr>
          <p:cNvPr id="57" name=""/>
          <p:cNvSpPr/>
          <p:nvPr/>
        </p:nvSpPr>
        <p:spPr>
          <a:xfrm>
            <a:off x="655200" y="5726160"/>
            <a:ext cx="4481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This Microsoft Powerpoint presentation has notes attach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lease expand to “Notes Page View” mode.</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02B4C655-5816-44E5-896D-A5212EED1BC7}" type="slidenum">
              <a:t>1</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228600" y="917640"/>
            <a:ext cx="2057400" cy="1598400"/>
          </a:xfrm>
          <a:prstGeom prst="rect">
            <a:avLst/>
          </a:prstGeom>
          <a:ln w="0">
            <a:noFill/>
          </a:ln>
        </p:spPr>
      </p:pic>
      <p:pic>
        <p:nvPicPr>
          <p:cNvPr id="307" name="" descr=""/>
          <p:cNvPicPr/>
          <p:nvPr/>
        </p:nvPicPr>
        <p:blipFill>
          <a:blip r:embed="rId2"/>
          <a:stretch/>
        </p:blipFill>
        <p:spPr>
          <a:xfrm>
            <a:off x="2362320" y="914400"/>
            <a:ext cx="2133360" cy="1650960"/>
          </a:xfrm>
          <a:prstGeom prst="rect">
            <a:avLst/>
          </a:prstGeom>
          <a:ln w="0">
            <a:noFill/>
          </a:ln>
        </p:spPr>
      </p:pic>
      <p:pic>
        <p:nvPicPr>
          <p:cNvPr id="308" name="" descr=""/>
          <p:cNvPicPr/>
          <p:nvPr/>
        </p:nvPicPr>
        <p:blipFill>
          <a:blip r:embed="rId3"/>
          <a:stretch/>
        </p:blipFill>
        <p:spPr>
          <a:xfrm>
            <a:off x="4572000" y="914400"/>
            <a:ext cx="2133720" cy="1657440"/>
          </a:xfrm>
          <a:prstGeom prst="rect">
            <a:avLst/>
          </a:prstGeom>
          <a:ln w="0">
            <a:noFill/>
          </a:ln>
        </p:spPr>
      </p:pic>
      <p:pic>
        <p:nvPicPr>
          <p:cNvPr id="309" name="" descr=""/>
          <p:cNvPicPr/>
          <p:nvPr/>
        </p:nvPicPr>
        <p:blipFill>
          <a:blip r:embed="rId4"/>
          <a:stretch/>
        </p:blipFill>
        <p:spPr>
          <a:xfrm>
            <a:off x="2362320" y="2743200"/>
            <a:ext cx="2133360" cy="1662120"/>
          </a:xfrm>
          <a:prstGeom prst="rect">
            <a:avLst/>
          </a:prstGeom>
          <a:ln w="0">
            <a:noFill/>
          </a:ln>
        </p:spPr>
      </p:pic>
      <p:sp>
        <p:nvSpPr>
          <p:cNvPr id="310" name=""/>
          <p:cNvSpPr/>
          <p:nvPr/>
        </p:nvSpPr>
        <p:spPr>
          <a:xfrm>
            <a:off x="1851480" y="226080"/>
            <a:ext cx="4223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2 Mbps Subcarrier Constellations</a:t>
            </a:r>
            <a:endParaRPr b="0" lang="en-US" sz="2000" spc="-1" strike="noStrike">
              <a:solidFill>
                <a:srgbClr val="000000"/>
              </a:solidFill>
              <a:latin typeface="Times New Roman"/>
            </a:endParaRPr>
          </a:p>
        </p:txBody>
      </p:sp>
      <p:pic>
        <p:nvPicPr>
          <p:cNvPr id="311" name="" descr=""/>
          <p:cNvPicPr/>
          <p:nvPr/>
        </p:nvPicPr>
        <p:blipFill>
          <a:blip r:embed="rId5"/>
          <a:stretch/>
        </p:blipFill>
        <p:spPr>
          <a:xfrm>
            <a:off x="6810480" y="914400"/>
            <a:ext cx="2181240" cy="1689120"/>
          </a:xfrm>
          <a:prstGeom prst="rect">
            <a:avLst/>
          </a:prstGeom>
          <a:ln w="0">
            <a:noFill/>
          </a:ln>
        </p:spPr>
      </p:pic>
      <p:pic>
        <p:nvPicPr>
          <p:cNvPr id="312" name="" descr=""/>
          <p:cNvPicPr/>
          <p:nvPr/>
        </p:nvPicPr>
        <p:blipFill>
          <a:blip r:embed="rId6"/>
          <a:stretch/>
        </p:blipFill>
        <p:spPr>
          <a:xfrm>
            <a:off x="171360" y="2743200"/>
            <a:ext cx="2114640" cy="1638360"/>
          </a:xfrm>
          <a:prstGeom prst="rect">
            <a:avLst/>
          </a:prstGeom>
          <a:ln w="0">
            <a:noFill/>
          </a:ln>
        </p:spPr>
      </p:pic>
      <p:pic>
        <p:nvPicPr>
          <p:cNvPr id="313" name="" descr=""/>
          <p:cNvPicPr/>
          <p:nvPr/>
        </p:nvPicPr>
        <p:blipFill>
          <a:blip r:embed="rId7"/>
          <a:stretch/>
        </p:blipFill>
        <p:spPr>
          <a:xfrm>
            <a:off x="4572000" y="2666880"/>
            <a:ext cx="2133720" cy="1676520"/>
          </a:xfrm>
          <a:prstGeom prst="rect">
            <a:avLst/>
          </a:prstGeom>
          <a:ln w="0">
            <a:noFill/>
          </a:ln>
        </p:spPr>
      </p:pic>
      <p:pic>
        <p:nvPicPr>
          <p:cNvPr id="314" name="" descr=""/>
          <p:cNvPicPr/>
          <p:nvPr/>
        </p:nvPicPr>
        <p:blipFill>
          <a:blip r:embed="rId8"/>
          <a:stretch/>
        </p:blipFill>
        <p:spPr>
          <a:xfrm>
            <a:off x="6781680" y="2666880"/>
            <a:ext cx="2210040" cy="1665360"/>
          </a:xfrm>
          <a:prstGeom prst="rect">
            <a:avLst/>
          </a:prstGeom>
          <a:ln w="0">
            <a:noFill/>
          </a:ln>
        </p:spPr>
      </p:pic>
      <p:pic>
        <p:nvPicPr>
          <p:cNvPr id="315" name="" descr=""/>
          <p:cNvPicPr/>
          <p:nvPr/>
        </p:nvPicPr>
        <p:blipFill>
          <a:blip r:embed="rId9"/>
          <a:stretch/>
        </p:blipFill>
        <p:spPr>
          <a:xfrm>
            <a:off x="152280" y="4648320"/>
            <a:ext cx="2133720" cy="1617480"/>
          </a:xfrm>
          <a:prstGeom prst="rect">
            <a:avLst/>
          </a:prstGeom>
          <a:ln w="0">
            <a:noFill/>
          </a:ln>
        </p:spPr>
      </p:pic>
      <p:pic>
        <p:nvPicPr>
          <p:cNvPr id="316" name="" descr=""/>
          <p:cNvPicPr/>
          <p:nvPr/>
        </p:nvPicPr>
        <p:blipFill>
          <a:blip r:embed="rId10"/>
          <a:stretch/>
        </p:blipFill>
        <p:spPr>
          <a:xfrm>
            <a:off x="2362320" y="4653000"/>
            <a:ext cx="2133360" cy="1595520"/>
          </a:xfrm>
          <a:prstGeom prst="rect">
            <a:avLst/>
          </a:prstGeom>
          <a:ln w="0">
            <a:noFill/>
          </a:ln>
        </p:spPr>
      </p:pic>
      <p:pic>
        <p:nvPicPr>
          <p:cNvPr id="317" name="" descr=""/>
          <p:cNvPicPr/>
          <p:nvPr/>
        </p:nvPicPr>
        <p:blipFill>
          <a:blip r:embed="rId11"/>
          <a:stretch/>
        </p:blipFill>
        <p:spPr>
          <a:xfrm>
            <a:off x="4619520" y="4581360"/>
            <a:ext cx="2086200" cy="1587600"/>
          </a:xfrm>
          <a:prstGeom prst="rect">
            <a:avLst/>
          </a:prstGeom>
          <a:ln w="0">
            <a:noFill/>
          </a:ln>
        </p:spPr>
      </p:pic>
      <p:sp>
        <p:nvSpPr>
          <p:cNvPr id="318" name=""/>
          <p:cNvSpPr/>
          <p:nvPr/>
        </p:nvSpPr>
        <p:spPr>
          <a:xfrm>
            <a:off x="6911640" y="4480920"/>
            <a:ext cx="1678680" cy="1067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cc"/>
                </a:solidFill>
                <a:latin typeface="Arial"/>
              </a:rPr>
              <a:t>All Subcarrie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cc"/>
                </a:solidFill>
                <a:latin typeface="Arial"/>
              </a:rPr>
              <a:t>carry QPSK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cc"/>
                </a:solidFill>
                <a:latin typeface="Arial"/>
              </a:rPr>
              <a:t>their respectiv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cc"/>
                </a:solidFill>
                <a:latin typeface="Arial"/>
              </a:rPr>
              <a:t>phase tilt.</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0BA5CDFE-3A16-4F6C-B0DA-E5C17B2DED14}" type="slidenum">
              <a:t>10</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2396520" y="761760"/>
            <a:ext cx="422532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5.5 Mbps CCK Mod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Time Domain Modulator</a:t>
            </a:r>
            <a:endParaRPr b="0" lang="en-US" sz="2800" spc="-1" strike="noStrike">
              <a:solidFill>
                <a:srgbClr val="000000"/>
              </a:solidFill>
              <a:latin typeface="Times New Roman"/>
            </a:endParaRPr>
          </a:p>
        </p:txBody>
      </p:sp>
      <p:sp>
        <p:nvSpPr>
          <p:cNvPr id="320" name=""/>
          <p:cNvSpPr/>
          <p:nvPr/>
        </p:nvSpPr>
        <p:spPr>
          <a:xfrm>
            <a:off x="777960" y="2622600"/>
            <a:ext cx="13716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2149560" y="2851200"/>
            <a:ext cx="13716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25320" y="2851200"/>
            <a:ext cx="31244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4359240" y="2622600"/>
            <a:ext cx="380880" cy="380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825720" y="3765600"/>
            <a:ext cx="15264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3978360" y="399420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4130640" y="376560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a:off x="4282920" y="3765600"/>
            <a:ext cx="15264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4435560" y="399420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4587840" y="376560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4740120" y="3765600"/>
            <a:ext cx="15264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4892760" y="376560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3597120" y="3994200"/>
            <a:ext cx="2057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13160" y="2216160"/>
            <a:ext cx="73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PSK</a:t>
            </a:r>
            <a:endParaRPr b="0" lang="en-US" sz="1600" spc="-1" strike="noStrike">
              <a:solidFill>
                <a:srgbClr val="000000"/>
              </a:solidFill>
              <a:latin typeface="Times New Roman"/>
            </a:endParaRPr>
          </a:p>
        </p:txBody>
      </p:sp>
      <p:sp>
        <p:nvSpPr>
          <p:cNvPr id="334" name=""/>
          <p:cNvSpPr/>
          <p:nvPr/>
        </p:nvSpPr>
        <p:spPr>
          <a:xfrm>
            <a:off x="3978360" y="2622600"/>
            <a:ext cx="380880" cy="380880"/>
          </a:xfrm>
          <a:prstGeom prst="rightArrow">
            <a:avLst>
              <a:gd name="adj1" fmla="val 50000"/>
              <a:gd name="adj2"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36040" y="288756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p:txBody>
      </p:sp>
      <p:sp>
        <p:nvSpPr>
          <p:cNvPr id="336" name=""/>
          <p:cNvSpPr/>
          <p:nvPr/>
        </p:nvSpPr>
        <p:spPr>
          <a:xfrm>
            <a:off x="5565240" y="403056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p:txBody>
      </p:sp>
      <p:sp>
        <p:nvSpPr>
          <p:cNvPr id="337" name=""/>
          <p:cNvSpPr/>
          <p:nvPr/>
        </p:nvSpPr>
        <p:spPr>
          <a:xfrm>
            <a:off x="4359240" y="3003480"/>
            <a:ext cx="380880" cy="381240"/>
          </a:xfrm>
          <a:prstGeom prst="upArrow">
            <a:avLst>
              <a:gd name="adj1" fmla="val 50000"/>
              <a:gd name="adj2" fmla="val 25024"/>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4435560" y="2698920"/>
            <a:ext cx="2286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4435560" y="2698560"/>
            <a:ext cx="2286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724280" y="2629080"/>
            <a:ext cx="381240" cy="380880"/>
          </a:xfrm>
          <a:prstGeom prst="rightArrow">
            <a:avLst>
              <a:gd name="adj1" fmla="val 50000"/>
              <a:gd name="adj2" fmla="val 25024"/>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963600" y="1905120"/>
            <a:ext cx="1521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Time Doma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Multiply</a:t>
            </a:r>
            <a:endParaRPr b="0" lang="en-US" sz="1800" spc="-1" strike="noStrike">
              <a:solidFill>
                <a:srgbClr val="000000"/>
              </a:solidFill>
              <a:latin typeface="Times New Roman"/>
            </a:endParaRPr>
          </a:p>
        </p:txBody>
      </p:sp>
      <p:sp>
        <p:nvSpPr>
          <p:cNvPr id="342" name=""/>
          <p:cNvSpPr/>
          <p:nvPr/>
        </p:nvSpPr>
        <p:spPr>
          <a:xfrm>
            <a:off x="5565240" y="457056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p:txBody>
      </p:sp>
      <p:sp>
        <p:nvSpPr>
          <p:cNvPr id="343" name=""/>
          <p:cNvSpPr/>
          <p:nvPr/>
        </p:nvSpPr>
        <p:spPr>
          <a:xfrm>
            <a:off x="3809880" y="4343400"/>
            <a:ext cx="15264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4" name=""/>
          <p:cNvSpPr/>
          <p:nvPr/>
        </p:nvSpPr>
        <p:spPr>
          <a:xfrm>
            <a:off x="3962520" y="4343400"/>
            <a:ext cx="152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5" name=""/>
          <p:cNvSpPr/>
          <p:nvPr/>
        </p:nvSpPr>
        <p:spPr>
          <a:xfrm>
            <a:off x="4114800" y="4572000"/>
            <a:ext cx="152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4267080" y="4343400"/>
            <a:ext cx="15264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7" name=""/>
          <p:cNvSpPr/>
          <p:nvPr/>
        </p:nvSpPr>
        <p:spPr>
          <a:xfrm>
            <a:off x="4419720" y="4572000"/>
            <a:ext cx="152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8" name=""/>
          <p:cNvSpPr/>
          <p:nvPr/>
        </p:nvSpPr>
        <p:spPr>
          <a:xfrm>
            <a:off x="4572000" y="4343400"/>
            <a:ext cx="152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9" name=""/>
          <p:cNvSpPr/>
          <p:nvPr/>
        </p:nvSpPr>
        <p:spPr>
          <a:xfrm>
            <a:off x="4724280" y="4572000"/>
            <a:ext cx="15264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0" name=""/>
          <p:cNvSpPr/>
          <p:nvPr/>
        </p:nvSpPr>
        <p:spPr>
          <a:xfrm>
            <a:off x="4876920" y="4343400"/>
            <a:ext cx="152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1" name=""/>
          <p:cNvSpPr/>
          <p:nvPr/>
        </p:nvSpPr>
        <p:spPr>
          <a:xfrm>
            <a:off x="3581280" y="4572000"/>
            <a:ext cx="2057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5565240" y="518004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p:txBody>
      </p:sp>
      <p:sp>
        <p:nvSpPr>
          <p:cNvPr id="353" name=""/>
          <p:cNvSpPr/>
          <p:nvPr/>
        </p:nvSpPr>
        <p:spPr>
          <a:xfrm>
            <a:off x="3809880" y="4952880"/>
            <a:ext cx="15264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4" name=""/>
          <p:cNvSpPr/>
          <p:nvPr/>
        </p:nvSpPr>
        <p:spPr>
          <a:xfrm>
            <a:off x="3962520" y="4952880"/>
            <a:ext cx="152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4114800" y="4952880"/>
            <a:ext cx="152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6" name=""/>
          <p:cNvSpPr/>
          <p:nvPr/>
        </p:nvSpPr>
        <p:spPr>
          <a:xfrm>
            <a:off x="4267080" y="5181480"/>
            <a:ext cx="15264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7" name=""/>
          <p:cNvSpPr/>
          <p:nvPr/>
        </p:nvSpPr>
        <p:spPr>
          <a:xfrm>
            <a:off x="4419720" y="4952880"/>
            <a:ext cx="152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8" name=""/>
          <p:cNvSpPr/>
          <p:nvPr/>
        </p:nvSpPr>
        <p:spPr>
          <a:xfrm>
            <a:off x="4572000" y="4952880"/>
            <a:ext cx="152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9" name=""/>
          <p:cNvSpPr/>
          <p:nvPr/>
        </p:nvSpPr>
        <p:spPr>
          <a:xfrm>
            <a:off x="4724280" y="5181480"/>
            <a:ext cx="15264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0" name=""/>
          <p:cNvSpPr/>
          <p:nvPr/>
        </p:nvSpPr>
        <p:spPr>
          <a:xfrm>
            <a:off x="4876920" y="4952880"/>
            <a:ext cx="152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3581280" y="5181480"/>
            <a:ext cx="2057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5565240" y="578952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p:txBody>
      </p:sp>
      <p:sp>
        <p:nvSpPr>
          <p:cNvPr id="363" name=""/>
          <p:cNvSpPr/>
          <p:nvPr/>
        </p:nvSpPr>
        <p:spPr>
          <a:xfrm>
            <a:off x="3809880" y="5562720"/>
            <a:ext cx="15264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4" name=""/>
          <p:cNvSpPr/>
          <p:nvPr/>
        </p:nvSpPr>
        <p:spPr>
          <a:xfrm>
            <a:off x="3962520" y="5562720"/>
            <a:ext cx="152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5" name=""/>
          <p:cNvSpPr/>
          <p:nvPr/>
        </p:nvSpPr>
        <p:spPr>
          <a:xfrm>
            <a:off x="4114800" y="5791320"/>
            <a:ext cx="152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6" name=""/>
          <p:cNvSpPr/>
          <p:nvPr/>
        </p:nvSpPr>
        <p:spPr>
          <a:xfrm>
            <a:off x="4267080" y="5791320"/>
            <a:ext cx="15264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4419720" y="5562720"/>
            <a:ext cx="152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8" name=""/>
          <p:cNvSpPr/>
          <p:nvPr/>
        </p:nvSpPr>
        <p:spPr>
          <a:xfrm>
            <a:off x="4572000" y="5562720"/>
            <a:ext cx="152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9" name=""/>
          <p:cNvSpPr/>
          <p:nvPr/>
        </p:nvSpPr>
        <p:spPr>
          <a:xfrm>
            <a:off x="4724280" y="5791320"/>
            <a:ext cx="15264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0" name=""/>
          <p:cNvSpPr/>
          <p:nvPr/>
        </p:nvSpPr>
        <p:spPr>
          <a:xfrm>
            <a:off x="4876920" y="5562720"/>
            <a:ext cx="152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1" name=""/>
          <p:cNvSpPr/>
          <p:nvPr/>
        </p:nvSpPr>
        <p:spPr>
          <a:xfrm>
            <a:off x="3581280" y="5791320"/>
            <a:ext cx="2057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6479640" y="4419720"/>
            <a:ext cx="134064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 Spread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des</a:t>
            </a:r>
            <a:endParaRPr b="0" lang="en-US" sz="1600" spc="-1" strike="noStrike">
              <a:solidFill>
                <a:srgbClr val="000000"/>
              </a:solidFill>
              <a:latin typeface="Times New Roman"/>
            </a:endParaRPr>
          </a:p>
        </p:txBody>
      </p:sp>
      <p:pic>
        <p:nvPicPr>
          <p:cNvPr id="373" name="" descr=""/>
          <p:cNvPicPr/>
          <p:nvPr/>
        </p:nvPicPr>
        <p:blipFill>
          <a:blip r:embed="rId1"/>
          <a:stretch/>
        </p:blipFill>
        <p:spPr>
          <a:xfrm>
            <a:off x="228600" y="3559320"/>
            <a:ext cx="3200400" cy="2342880"/>
          </a:xfrm>
          <a:prstGeom prst="rect">
            <a:avLst/>
          </a:prstGeom>
          <a:ln w="0">
            <a:noFill/>
          </a:ln>
        </p:spPr>
      </p:pic>
      <p:pic>
        <p:nvPicPr>
          <p:cNvPr id="374" name="" descr=""/>
          <p:cNvPicPr/>
          <p:nvPr/>
        </p:nvPicPr>
        <p:blipFill>
          <a:blip r:embed="rId2"/>
          <a:stretch/>
        </p:blipFill>
        <p:spPr>
          <a:xfrm>
            <a:off x="5867280" y="1752480"/>
            <a:ext cx="3048120" cy="2238480"/>
          </a:xfrm>
          <a:prstGeom prst="rect">
            <a:avLst/>
          </a:prstGeom>
          <a:ln w="0">
            <a:noFill/>
          </a:ln>
        </p:spPr>
      </p:pic>
      <p:sp>
        <p:nvSpPr>
          <p:cNvPr id="375" name=""/>
          <p:cNvSpPr/>
          <p:nvPr/>
        </p:nvSpPr>
        <p:spPr>
          <a:xfrm>
            <a:off x="6324480" y="4800600"/>
            <a:ext cx="1295640" cy="990720"/>
          </a:xfrm>
          <a:prstGeom prst="leftArrow">
            <a:avLst>
              <a:gd name="adj1" fmla="val 50000"/>
              <a:gd name="adj2" fmla="val 32694"/>
            </a:avLst>
          </a:prstGeom>
          <a:gradFill rotWithShape="0">
            <a:gsLst>
              <a:gs pos="0">
                <a:srgbClr val="ffffff"/>
              </a:gs>
              <a:gs pos="50000">
                <a:srgbClr val="757575"/>
              </a:gs>
              <a:gs pos="100000">
                <a:srgbClr val="ffffff"/>
              </a:gs>
            </a:gsLst>
            <a:lin ang="135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733A7319-AC14-494C-83A8-2C4FC8BB6DA5}" type="slidenum">
              <a:t>11</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1312920" y="226080"/>
            <a:ext cx="53121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5.5 Mbps Codeword Subcarrier Spectrums</a:t>
            </a:r>
            <a:endParaRPr b="0" lang="en-US" sz="2000" spc="-1" strike="noStrike">
              <a:solidFill>
                <a:srgbClr val="000000"/>
              </a:solidFill>
              <a:latin typeface="Times New Roman"/>
            </a:endParaRPr>
          </a:p>
        </p:txBody>
      </p:sp>
      <p:pic>
        <p:nvPicPr>
          <p:cNvPr id="377" name="" descr=""/>
          <p:cNvPicPr/>
          <p:nvPr/>
        </p:nvPicPr>
        <p:blipFill>
          <a:blip r:embed="rId1"/>
          <a:stretch/>
        </p:blipFill>
        <p:spPr>
          <a:xfrm>
            <a:off x="4495680" y="3581280"/>
            <a:ext cx="3733920" cy="2745000"/>
          </a:xfrm>
          <a:prstGeom prst="rect">
            <a:avLst/>
          </a:prstGeom>
          <a:ln w="0">
            <a:noFill/>
          </a:ln>
        </p:spPr>
      </p:pic>
      <p:pic>
        <p:nvPicPr>
          <p:cNvPr id="378" name="" descr=""/>
          <p:cNvPicPr/>
          <p:nvPr/>
        </p:nvPicPr>
        <p:blipFill>
          <a:blip r:embed="rId2"/>
          <a:stretch/>
        </p:blipFill>
        <p:spPr>
          <a:xfrm>
            <a:off x="609480" y="762120"/>
            <a:ext cx="3733920" cy="2735280"/>
          </a:xfrm>
          <a:prstGeom prst="rect">
            <a:avLst/>
          </a:prstGeom>
          <a:ln w="0">
            <a:noFill/>
          </a:ln>
        </p:spPr>
      </p:pic>
      <p:pic>
        <p:nvPicPr>
          <p:cNvPr id="379" name="" descr=""/>
          <p:cNvPicPr/>
          <p:nvPr/>
        </p:nvPicPr>
        <p:blipFill>
          <a:blip r:embed="rId3"/>
          <a:stretch/>
        </p:blipFill>
        <p:spPr>
          <a:xfrm>
            <a:off x="4495680" y="762120"/>
            <a:ext cx="3733920" cy="2727360"/>
          </a:xfrm>
          <a:prstGeom prst="rect">
            <a:avLst/>
          </a:prstGeom>
          <a:ln w="0">
            <a:noFill/>
          </a:ln>
        </p:spPr>
      </p:pic>
      <p:pic>
        <p:nvPicPr>
          <p:cNvPr id="380" name="" descr=""/>
          <p:cNvPicPr/>
          <p:nvPr/>
        </p:nvPicPr>
        <p:blipFill>
          <a:blip r:embed="rId4"/>
          <a:stretch/>
        </p:blipFill>
        <p:spPr>
          <a:xfrm>
            <a:off x="685800" y="3581280"/>
            <a:ext cx="3657600" cy="2687760"/>
          </a:xfrm>
          <a:prstGeom prst="rect">
            <a:avLst/>
          </a:prstGeom>
          <a:ln w="0">
            <a:noFill/>
          </a:ln>
        </p:spPr>
      </p:pic>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396DB540-1CF8-4FB6-8413-765D5978B683}" type="slidenum">
              <a:t>12</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5687280" y="2666880"/>
            <a:ext cx="607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 p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FT</a:t>
            </a:r>
            <a:endParaRPr b="0" lang="en-US" sz="1600" spc="-1" strike="noStrike">
              <a:solidFill>
                <a:srgbClr val="000000"/>
              </a:solidFill>
              <a:latin typeface="Times New Roman"/>
            </a:endParaRPr>
          </a:p>
        </p:txBody>
      </p:sp>
      <p:sp>
        <p:nvSpPr>
          <p:cNvPr id="382" name=""/>
          <p:cNvSpPr/>
          <p:nvPr/>
        </p:nvSpPr>
        <p:spPr>
          <a:xfrm>
            <a:off x="3523320" y="2438280"/>
            <a:ext cx="119556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p/Phz</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 eac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carrier</a:t>
            </a:r>
            <a:endParaRPr b="0" lang="en-US" sz="1600" spc="-1" strike="noStrike">
              <a:solidFill>
                <a:srgbClr val="000000"/>
              </a:solidFill>
              <a:latin typeface="Times New Roman"/>
            </a:endParaRPr>
          </a:p>
        </p:txBody>
      </p:sp>
      <p:sp>
        <p:nvSpPr>
          <p:cNvPr id="383" name=""/>
          <p:cNvSpPr/>
          <p:nvPr/>
        </p:nvSpPr>
        <p:spPr>
          <a:xfrm>
            <a:off x="3521160" y="2362320"/>
            <a:ext cx="1295280" cy="1218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5638680" y="2362320"/>
            <a:ext cx="838440" cy="1218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6783120" y="26668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S</a:t>
            </a:r>
            <a:endParaRPr b="0" lang="en-US" sz="1600" spc="-1" strike="noStrike">
              <a:solidFill>
                <a:srgbClr val="000000"/>
              </a:solidFill>
              <a:latin typeface="Times New Roman"/>
            </a:endParaRPr>
          </a:p>
        </p:txBody>
      </p:sp>
      <p:sp>
        <p:nvSpPr>
          <p:cNvPr id="386" name=""/>
          <p:cNvSpPr/>
          <p:nvPr/>
        </p:nvSpPr>
        <p:spPr>
          <a:xfrm>
            <a:off x="6705720" y="2590920"/>
            <a:ext cx="685800" cy="53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524760" y="4038480"/>
            <a:ext cx="1338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Codewor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ectrums</a:t>
            </a:r>
            <a:endParaRPr b="0" lang="en-US" sz="1600" spc="-1" strike="noStrike">
              <a:solidFill>
                <a:srgbClr val="000000"/>
              </a:solidFill>
              <a:latin typeface="Times New Roman"/>
            </a:endParaRPr>
          </a:p>
        </p:txBody>
      </p:sp>
      <p:sp>
        <p:nvSpPr>
          <p:cNvPr id="388" name=""/>
          <p:cNvSpPr/>
          <p:nvPr/>
        </p:nvSpPr>
        <p:spPr>
          <a:xfrm>
            <a:off x="3521160" y="3962520"/>
            <a:ext cx="1295280" cy="761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771920" y="2590920"/>
            <a:ext cx="1000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P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tation</a:t>
            </a:r>
            <a:endParaRPr b="0" lang="en-US" sz="1600" spc="-1" strike="noStrike">
              <a:solidFill>
                <a:srgbClr val="000000"/>
              </a:solidFill>
              <a:latin typeface="Times New Roman"/>
            </a:endParaRPr>
          </a:p>
        </p:txBody>
      </p:sp>
      <p:sp>
        <p:nvSpPr>
          <p:cNvPr id="390" name=""/>
          <p:cNvSpPr/>
          <p:nvPr/>
        </p:nvSpPr>
        <p:spPr>
          <a:xfrm>
            <a:off x="1768320" y="2514600"/>
            <a:ext cx="1295640" cy="76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35320" y="2576520"/>
            <a:ext cx="694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 Inf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its</a:t>
            </a:r>
            <a:endParaRPr b="0" lang="en-US" sz="1600" spc="-1" strike="noStrike">
              <a:solidFill>
                <a:srgbClr val="000000"/>
              </a:solidFill>
              <a:latin typeface="Times New Roman"/>
            </a:endParaRPr>
          </a:p>
        </p:txBody>
      </p:sp>
      <p:sp>
        <p:nvSpPr>
          <p:cNvPr id="392" name=""/>
          <p:cNvSpPr/>
          <p:nvPr/>
        </p:nvSpPr>
        <p:spPr>
          <a:xfrm>
            <a:off x="1387440" y="281952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063960" y="281952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816440" y="2819520"/>
            <a:ext cx="82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477120" y="28195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1912680" y="837720"/>
            <a:ext cx="51930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5.5 Mbps CCK Mod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requency Domain Modulator</a:t>
            </a:r>
            <a:endParaRPr b="0" lang="en-US" sz="2800" spc="-1" strike="noStrike">
              <a:solidFill>
                <a:srgbClr val="000000"/>
              </a:solidFill>
              <a:latin typeface="Times New Roman"/>
            </a:endParaRPr>
          </a:p>
        </p:txBody>
      </p:sp>
      <p:sp>
        <p:nvSpPr>
          <p:cNvPr id="397" name=""/>
          <p:cNvSpPr/>
          <p:nvPr/>
        </p:nvSpPr>
        <p:spPr>
          <a:xfrm>
            <a:off x="7391520" y="28195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523880" y="2133720"/>
            <a:ext cx="3505320" cy="2819160"/>
          </a:xfrm>
          <a:prstGeom prst="rect">
            <a:avLst/>
          </a:prstGeom>
          <a:noFill/>
          <a:ln w="1260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697760" y="3249720"/>
            <a:ext cx="1579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Times New Roman"/>
              </a:rPr>
              <a:t>Constell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Times New Roman"/>
              </a:rPr>
              <a:t>Mapper</a:t>
            </a:r>
            <a:endParaRPr b="0" lang="en-US" sz="2000" spc="-1" strike="noStrike">
              <a:solidFill>
                <a:srgbClr val="000000"/>
              </a:solidFill>
              <a:latin typeface="Times New Roman"/>
            </a:endParaRPr>
          </a:p>
        </p:txBody>
      </p:sp>
      <p:sp>
        <p:nvSpPr>
          <p:cNvPr id="400" name=""/>
          <p:cNvSpPr/>
          <p:nvPr/>
        </p:nvSpPr>
        <p:spPr>
          <a:xfrm flipV="1">
            <a:off x="4038480" y="35809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flipH="1">
            <a:off x="3962160" y="3733920"/>
            <a:ext cx="15228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H="1">
            <a:off x="5181480" y="2743200"/>
            <a:ext cx="1526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H="1">
            <a:off x="3200040" y="2743200"/>
            <a:ext cx="15228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4089240" y="365652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Times New Roman"/>
            </a:endParaRPr>
          </a:p>
        </p:txBody>
      </p:sp>
      <p:sp>
        <p:nvSpPr>
          <p:cNvPr id="405" name=""/>
          <p:cNvSpPr/>
          <p:nvPr/>
        </p:nvSpPr>
        <p:spPr>
          <a:xfrm>
            <a:off x="5155920" y="243720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Times New Roman"/>
            </a:endParaRPr>
          </a:p>
        </p:txBody>
      </p:sp>
      <p:sp>
        <p:nvSpPr>
          <p:cNvPr id="406" name=""/>
          <p:cNvSpPr/>
          <p:nvPr/>
        </p:nvSpPr>
        <p:spPr>
          <a:xfrm>
            <a:off x="3174840" y="243720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407" name=""/>
          <p:cNvSpPr/>
          <p:nvPr/>
        </p:nvSpPr>
        <p:spPr>
          <a:xfrm flipH="1" flipV="1">
            <a:off x="5257800" y="2285640"/>
            <a:ext cx="60912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cc0000"/>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8" name=""/>
          <p:cNvSpPr/>
          <p:nvPr/>
        </p:nvSpPr>
        <p:spPr>
          <a:xfrm>
            <a:off x="535320" y="4067280"/>
            <a:ext cx="694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 Inf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its</a:t>
            </a:r>
            <a:endParaRPr b="0" lang="en-US" sz="1600" spc="-1" strike="noStrike">
              <a:solidFill>
                <a:srgbClr val="000000"/>
              </a:solidFill>
              <a:latin typeface="Times New Roman"/>
            </a:endParaRPr>
          </a:p>
        </p:txBody>
      </p:sp>
      <p:sp>
        <p:nvSpPr>
          <p:cNvPr id="409" name=""/>
          <p:cNvSpPr/>
          <p:nvPr/>
        </p:nvSpPr>
        <p:spPr>
          <a:xfrm>
            <a:off x="1371600" y="4343400"/>
            <a:ext cx="2133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0" name=""/>
          <p:cNvGrpSpPr/>
          <p:nvPr/>
        </p:nvGrpSpPr>
        <p:grpSpPr>
          <a:xfrm>
            <a:off x="5038560" y="3786480"/>
            <a:ext cx="3473640" cy="2691720"/>
            <a:chOff x="5038560" y="3786480"/>
            <a:chExt cx="3473640" cy="2691720"/>
          </a:xfrm>
        </p:grpSpPr>
        <p:sp>
          <p:nvSpPr>
            <p:cNvPr id="411" name=""/>
            <p:cNvSpPr/>
            <p:nvPr/>
          </p:nvSpPr>
          <p:spPr>
            <a:xfrm>
              <a:off x="5038560" y="6226560"/>
              <a:ext cx="347364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12" name=""/>
            <p:cNvSpPr/>
            <p:nvPr/>
          </p:nvSpPr>
          <p:spPr>
            <a:xfrm>
              <a:off x="5504400" y="4358880"/>
              <a:ext cx="72360" cy="58320"/>
            </a:xfrm>
            <a:prstGeom prst="ellipse">
              <a:avLst/>
            </a:prstGeom>
            <a:noFill/>
            <a:ln w="0">
              <a:solidFill>
                <a:srgbClr val="0000ff"/>
              </a:solid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413" name=""/>
            <p:cNvSpPr/>
            <p:nvPr/>
          </p:nvSpPr>
          <p:spPr>
            <a:xfrm>
              <a:off x="5818320" y="4339800"/>
              <a:ext cx="71280" cy="58680"/>
            </a:xfrm>
            <a:prstGeom prst="ellipse">
              <a:avLst/>
            </a:prstGeom>
            <a:noFill/>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14" name=""/>
            <p:cNvSpPr/>
            <p:nvPr/>
          </p:nvSpPr>
          <p:spPr>
            <a:xfrm>
              <a:off x="6138360" y="4339800"/>
              <a:ext cx="72360" cy="58680"/>
            </a:xfrm>
            <a:prstGeom prst="ellipse">
              <a:avLst/>
            </a:prstGeom>
            <a:noFill/>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15" name=""/>
            <p:cNvSpPr/>
            <p:nvPr/>
          </p:nvSpPr>
          <p:spPr>
            <a:xfrm>
              <a:off x="6451920" y="4339800"/>
              <a:ext cx="71280" cy="58680"/>
            </a:xfrm>
            <a:prstGeom prst="ellipse">
              <a:avLst/>
            </a:prstGeom>
            <a:noFill/>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16" name=""/>
            <p:cNvSpPr/>
            <p:nvPr/>
          </p:nvSpPr>
          <p:spPr>
            <a:xfrm>
              <a:off x="6754320" y="4339800"/>
              <a:ext cx="72360" cy="58680"/>
            </a:xfrm>
            <a:prstGeom prst="ellipse">
              <a:avLst/>
            </a:prstGeom>
            <a:noFill/>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17" name=""/>
            <p:cNvSpPr/>
            <p:nvPr/>
          </p:nvSpPr>
          <p:spPr>
            <a:xfrm>
              <a:off x="7067880" y="4339800"/>
              <a:ext cx="72360" cy="58680"/>
            </a:xfrm>
            <a:prstGeom prst="ellipse">
              <a:avLst/>
            </a:prstGeom>
            <a:noFill/>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18" name=""/>
            <p:cNvSpPr/>
            <p:nvPr/>
          </p:nvSpPr>
          <p:spPr>
            <a:xfrm>
              <a:off x="7387920" y="4339800"/>
              <a:ext cx="72360" cy="58680"/>
            </a:xfrm>
            <a:prstGeom prst="ellipse">
              <a:avLst/>
            </a:prstGeom>
            <a:noFill/>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19" name=""/>
            <p:cNvSpPr/>
            <p:nvPr/>
          </p:nvSpPr>
          <p:spPr>
            <a:xfrm>
              <a:off x="7701840" y="4339800"/>
              <a:ext cx="72360" cy="58680"/>
            </a:xfrm>
            <a:prstGeom prst="ellipse">
              <a:avLst/>
            </a:prstGeom>
            <a:noFill/>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20" name=""/>
            <p:cNvSpPr/>
            <p:nvPr/>
          </p:nvSpPr>
          <p:spPr>
            <a:xfrm flipV="1">
              <a:off x="5537520" y="4385160"/>
              <a:ext cx="1080" cy="18406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flipV="1">
              <a:off x="5849640" y="4385160"/>
              <a:ext cx="1080" cy="18406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flipV="1">
              <a:off x="6170040" y="4385160"/>
              <a:ext cx="1080" cy="18406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V="1">
              <a:off x="6483960" y="4385160"/>
              <a:ext cx="720" cy="18406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flipV="1">
              <a:off x="6787080" y="4385160"/>
              <a:ext cx="720" cy="18406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flipV="1">
              <a:off x="7099560" y="4385160"/>
              <a:ext cx="720" cy="18406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flipV="1">
              <a:off x="7421040" y="4385160"/>
              <a:ext cx="720" cy="18406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flipV="1">
              <a:off x="7733160" y="4385160"/>
              <a:ext cx="720" cy="18406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5332680" y="379656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1</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1</a:t>
              </a:r>
              <a:endParaRPr b="0" lang="en-US" sz="1400" spc="-1" strike="noStrike">
                <a:solidFill>
                  <a:srgbClr val="000000"/>
                </a:solidFill>
                <a:latin typeface="Times New Roman"/>
              </a:endParaRPr>
            </a:p>
          </p:txBody>
        </p:sp>
        <p:sp>
          <p:nvSpPr>
            <p:cNvPr id="429" name=""/>
            <p:cNvSpPr/>
            <p:nvPr/>
          </p:nvSpPr>
          <p:spPr>
            <a:xfrm>
              <a:off x="5658480" y="404064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2</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2</a:t>
              </a:r>
              <a:endParaRPr b="0" lang="en-US" sz="1400" spc="-1" strike="noStrike">
                <a:solidFill>
                  <a:srgbClr val="000000"/>
                </a:solidFill>
                <a:latin typeface="Times New Roman"/>
              </a:endParaRPr>
            </a:p>
          </p:txBody>
        </p:sp>
        <p:sp>
          <p:nvSpPr>
            <p:cNvPr id="430" name=""/>
            <p:cNvSpPr/>
            <p:nvPr/>
          </p:nvSpPr>
          <p:spPr>
            <a:xfrm>
              <a:off x="6029640" y="378648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3</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3</a:t>
              </a:r>
              <a:endParaRPr b="0" lang="en-US" sz="1400" spc="-1" strike="noStrike">
                <a:solidFill>
                  <a:srgbClr val="000000"/>
                </a:solidFill>
                <a:latin typeface="Times New Roman"/>
              </a:endParaRPr>
            </a:p>
          </p:txBody>
        </p:sp>
        <p:sp>
          <p:nvSpPr>
            <p:cNvPr id="431" name=""/>
            <p:cNvSpPr/>
            <p:nvPr/>
          </p:nvSpPr>
          <p:spPr>
            <a:xfrm>
              <a:off x="6636600" y="378648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5</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5</a:t>
              </a:r>
              <a:endParaRPr b="0" lang="en-US" sz="1400" spc="-1" strike="noStrike">
                <a:solidFill>
                  <a:srgbClr val="000000"/>
                </a:solidFill>
                <a:latin typeface="Times New Roman"/>
              </a:endParaRPr>
            </a:p>
          </p:txBody>
        </p:sp>
        <p:sp>
          <p:nvSpPr>
            <p:cNvPr id="432" name=""/>
            <p:cNvSpPr/>
            <p:nvPr/>
          </p:nvSpPr>
          <p:spPr>
            <a:xfrm>
              <a:off x="6301080" y="404964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4</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4</a:t>
              </a:r>
              <a:endParaRPr b="0" lang="en-US" sz="1400" spc="-1" strike="noStrike">
                <a:solidFill>
                  <a:srgbClr val="000000"/>
                </a:solidFill>
                <a:latin typeface="Times New Roman"/>
              </a:endParaRPr>
            </a:p>
          </p:txBody>
        </p:sp>
        <p:sp>
          <p:nvSpPr>
            <p:cNvPr id="433" name=""/>
            <p:cNvSpPr/>
            <p:nvPr/>
          </p:nvSpPr>
          <p:spPr>
            <a:xfrm>
              <a:off x="6908040" y="404064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6</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6</a:t>
              </a:r>
              <a:endParaRPr b="0" lang="en-US" sz="1400" spc="-1" strike="noStrike">
                <a:solidFill>
                  <a:srgbClr val="000000"/>
                </a:solidFill>
                <a:latin typeface="Times New Roman"/>
              </a:endParaRPr>
            </a:p>
          </p:txBody>
        </p:sp>
        <p:sp>
          <p:nvSpPr>
            <p:cNvPr id="434" name=""/>
            <p:cNvSpPr/>
            <p:nvPr/>
          </p:nvSpPr>
          <p:spPr>
            <a:xfrm>
              <a:off x="7279200" y="378648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7</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7</a:t>
              </a:r>
              <a:endParaRPr b="0" lang="en-US" sz="1400" spc="-1" strike="noStrike">
                <a:solidFill>
                  <a:srgbClr val="000000"/>
                </a:solidFill>
                <a:latin typeface="Times New Roman"/>
              </a:endParaRPr>
            </a:p>
          </p:txBody>
        </p:sp>
        <p:sp>
          <p:nvSpPr>
            <p:cNvPr id="435" name=""/>
            <p:cNvSpPr/>
            <p:nvPr/>
          </p:nvSpPr>
          <p:spPr>
            <a:xfrm>
              <a:off x="7551000" y="404964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8</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8</a:t>
              </a:r>
              <a:endParaRPr b="0" lang="en-US" sz="1400" spc="-1" strike="noStrike">
                <a:solidFill>
                  <a:srgbClr val="000000"/>
                </a:solidFill>
                <a:latin typeface="Times New Roman"/>
              </a:endParaRPr>
            </a:p>
          </p:txBody>
        </p:sp>
        <p:sp>
          <p:nvSpPr>
            <p:cNvPr id="436" name=""/>
            <p:cNvSpPr/>
            <p:nvPr/>
          </p:nvSpPr>
          <p:spPr>
            <a:xfrm>
              <a:off x="5462640" y="6231960"/>
              <a:ext cx="26694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2       3       4       5       6      7       8        </a:t>
              </a:r>
              <a:endParaRPr b="0" lang="en-US" sz="1000" spc="-1" strike="noStrike">
                <a:solidFill>
                  <a:srgbClr val="000000"/>
                </a:solidFill>
                <a:latin typeface="Times New Roman"/>
              </a:endParaRPr>
            </a:p>
          </p:txBody>
        </p:sp>
      </p:gr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EC5FC92C-E985-41FD-A082-3CE6C57266BF}" type="slidenum">
              <a:t>13</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 descr=""/>
          <p:cNvPicPr/>
          <p:nvPr/>
        </p:nvPicPr>
        <p:blipFill>
          <a:blip r:embed="rId1"/>
          <a:stretch/>
        </p:blipFill>
        <p:spPr>
          <a:xfrm>
            <a:off x="457200" y="733320"/>
            <a:ext cx="2438280" cy="1860480"/>
          </a:xfrm>
          <a:prstGeom prst="rect">
            <a:avLst/>
          </a:prstGeom>
          <a:ln w="0">
            <a:noFill/>
          </a:ln>
        </p:spPr>
      </p:pic>
      <p:pic>
        <p:nvPicPr>
          <p:cNvPr id="438" name="" descr=""/>
          <p:cNvPicPr/>
          <p:nvPr/>
        </p:nvPicPr>
        <p:blipFill>
          <a:blip r:embed="rId2"/>
          <a:stretch/>
        </p:blipFill>
        <p:spPr>
          <a:xfrm>
            <a:off x="3200400" y="723960"/>
            <a:ext cx="2438280" cy="1866960"/>
          </a:xfrm>
          <a:prstGeom prst="rect">
            <a:avLst/>
          </a:prstGeom>
          <a:ln w="0">
            <a:noFill/>
          </a:ln>
        </p:spPr>
      </p:pic>
      <p:pic>
        <p:nvPicPr>
          <p:cNvPr id="439" name="" descr=""/>
          <p:cNvPicPr/>
          <p:nvPr/>
        </p:nvPicPr>
        <p:blipFill>
          <a:blip r:embed="rId3"/>
          <a:stretch/>
        </p:blipFill>
        <p:spPr>
          <a:xfrm>
            <a:off x="5943600" y="762120"/>
            <a:ext cx="2590920" cy="1915920"/>
          </a:xfrm>
          <a:prstGeom prst="rect">
            <a:avLst/>
          </a:prstGeom>
          <a:ln w="0">
            <a:noFill/>
          </a:ln>
        </p:spPr>
      </p:pic>
      <p:pic>
        <p:nvPicPr>
          <p:cNvPr id="440" name="" descr=""/>
          <p:cNvPicPr/>
          <p:nvPr/>
        </p:nvPicPr>
        <p:blipFill>
          <a:blip r:embed="rId4"/>
          <a:stretch/>
        </p:blipFill>
        <p:spPr>
          <a:xfrm>
            <a:off x="457200" y="2705040"/>
            <a:ext cx="2362320" cy="1808280"/>
          </a:xfrm>
          <a:prstGeom prst="rect">
            <a:avLst/>
          </a:prstGeom>
          <a:ln w="0">
            <a:noFill/>
          </a:ln>
        </p:spPr>
      </p:pic>
      <p:pic>
        <p:nvPicPr>
          <p:cNvPr id="441" name="" descr=""/>
          <p:cNvPicPr/>
          <p:nvPr/>
        </p:nvPicPr>
        <p:blipFill>
          <a:blip r:embed="rId5"/>
          <a:stretch/>
        </p:blipFill>
        <p:spPr>
          <a:xfrm>
            <a:off x="457200" y="4597560"/>
            <a:ext cx="2362320" cy="1803240"/>
          </a:xfrm>
          <a:prstGeom prst="rect">
            <a:avLst/>
          </a:prstGeom>
          <a:ln w="0">
            <a:noFill/>
          </a:ln>
        </p:spPr>
      </p:pic>
      <p:pic>
        <p:nvPicPr>
          <p:cNvPr id="442" name="" descr=""/>
          <p:cNvPicPr/>
          <p:nvPr/>
        </p:nvPicPr>
        <p:blipFill>
          <a:blip r:embed="rId6"/>
          <a:stretch/>
        </p:blipFill>
        <p:spPr>
          <a:xfrm>
            <a:off x="3209760" y="2666880"/>
            <a:ext cx="2428920" cy="1865520"/>
          </a:xfrm>
          <a:prstGeom prst="rect">
            <a:avLst/>
          </a:prstGeom>
          <a:ln w="0">
            <a:noFill/>
          </a:ln>
        </p:spPr>
      </p:pic>
      <p:pic>
        <p:nvPicPr>
          <p:cNvPr id="443" name="" descr=""/>
          <p:cNvPicPr/>
          <p:nvPr/>
        </p:nvPicPr>
        <p:blipFill>
          <a:blip r:embed="rId7"/>
          <a:stretch/>
        </p:blipFill>
        <p:spPr>
          <a:xfrm>
            <a:off x="5943600" y="2743200"/>
            <a:ext cx="2438280" cy="1866960"/>
          </a:xfrm>
          <a:prstGeom prst="rect">
            <a:avLst/>
          </a:prstGeom>
          <a:ln w="0">
            <a:noFill/>
          </a:ln>
        </p:spPr>
      </p:pic>
      <p:pic>
        <p:nvPicPr>
          <p:cNvPr id="444" name="" descr=""/>
          <p:cNvPicPr/>
          <p:nvPr/>
        </p:nvPicPr>
        <p:blipFill>
          <a:blip r:embed="rId8"/>
          <a:stretch/>
        </p:blipFill>
        <p:spPr>
          <a:xfrm>
            <a:off x="3200400" y="4599000"/>
            <a:ext cx="2352600" cy="1801800"/>
          </a:xfrm>
          <a:prstGeom prst="rect">
            <a:avLst/>
          </a:prstGeom>
          <a:ln w="0">
            <a:noFill/>
          </a:ln>
        </p:spPr>
      </p:pic>
      <p:sp>
        <p:nvSpPr>
          <p:cNvPr id="445" name=""/>
          <p:cNvSpPr/>
          <p:nvPr/>
        </p:nvSpPr>
        <p:spPr>
          <a:xfrm>
            <a:off x="1747800" y="226080"/>
            <a:ext cx="44355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5.5 Mbps Subcarrier Constellations</a:t>
            </a:r>
            <a:endParaRPr b="0" lang="en-US" sz="2000" spc="-1" strike="noStrike">
              <a:solidFill>
                <a:srgbClr val="000000"/>
              </a:solidFill>
              <a:latin typeface="Times New Roman"/>
            </a:endParaRPr>
          </a:p>
        </p:txBody>
      </p:sp>
      <p:sp>
        <p:nvSpPr>
          <p:cNvPr id="446" name=""/>
          <p:cNvSpPr/>
          <p:nvPr/>
        </p:nvSpPr>
        <p:spPr>
          <a:xfrm>
            <a:off x="6018120" y="4800240"/>
            <a:ext cx="1541520" cy="1067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3 unique QA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constellati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to within 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phase tilt.</a:t>
            </a:r>
            <a:endParaRPr b="0" lang="en-US" sz="1600" spc="-1" strike="noStrike">
              <a:solidFill>
                <a:srgbClr val="000000"/>
              </a:solidFill>
              <a:latin typeface="Times New Roman"/>
            </a:endParaRPr>
          </a:p>
        </p:txBody>
      </p:sp>
      <p:sp>
        <p:nvSpPr>
          <p:cNvPr id="447" name=""/>
          <p:cNvSpPr/>
          <p:nvPr/>
        </p:nvSpPr>
        <p:spPr>
          <a:xfrm>
            <a:off x="868680" y="913320"/>
            <a:ext cx="685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QPSK</a:t>
            </a:r>
            <a:endParaRPr b="0" lang="en-US" sz="1400" spc="-1" strike="noStrike">
              <a:solidFill>
                <a:srgbClr val="000000"/>
              </a:solidFill>
              <a:latin typeface="Times New Roman"/>
            </a:endParaRPr>
          </a:p>
        </p:txBody>
      </p:sp>
      <p:sp>
        <p:nvSpPr>
          <p:cNvPr id="448" name=""/>
          <p:cNvSpPr/>
          <p:nvPr/>
        </p:nvSpPr>
        <p:spPr>
          <a:xfrm>
            <a:off x="4572720" y="913320"/>
            <a:ext cx="744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8 QAM</a:t>
            </a:r>
            <a:endParaRPr b="0" lang="en-US" sz="1400" spc="-1" strike="noStrike">
              <a:solidFill>
                <a:srgbClr val="000000"/>
              </a:solidFill>
              <a:latin typeface="Times New Roman"/>
            </a:endParaRPr>
          </a:p>
        </p:txBody>
      </p:sp>
      <p:sp>
        <p:nvSpPr>
          <p:cNvPr id="449" name=""/>
          <p:cNvSpPr/>
          <p:nvPr/>
        </p:nvSpPr>
        <p:spPr>
          <a:xfrm>
            <a:off x="3503880" y="2894400"/>
            <a:ext cx="685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QPSK</a:t>
            </a:r>
            <a:endParaRPr b="0" lang="en-US" sz="1400" spc="-1" strike="noStrike">
              <a:solidFill>
                <a:srgbClr val="000000"/>
              </a:solidFill>
              <a:latin typeface="Times New Roman"/>
            </a:endParaRPr>
          </a:p>
        </p:txBody>
      </p:sp>
      <p:sp>
        <p:nvSpPr>
          <p:cNvPr id="450" name=""/>
          <p:cNvSpPr/>
          <p:nvPr/>
        </p:nvSpPr>
        <p:spPr>
          <a:xfrm>
            <a:off x="810360" y="4799520"/>
            <a:ext cx="744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5 QAM</a:t>
            </a:r>
            <a:endParaRPr b="0" lang="en-US" sz="1400" spc="-1" strike="noStrike">
              <a:solidFill>
                <a:srgbClr val="000000"/>
              </a:solidFill>
              <a:latin typeface="Times New Roman"/>
            </a:endParaRPr>
          </a:p>
        </p:txBody>
      </p:sp>
      <p:sp>
        <p:nvSpPr>
          <p:cNvPr id="451" name=""/>
          <p:cNvSpPr/>
          <p:nvPr/>
        </p:nvSpPr>
        <p:spPr>
          <a:xfrm>
            <a:off x="7408080" y="913320"/>
            <a:ext cx="744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5 QAM</a:t>
            </a:r>
            <a:endParaRPr b="0" lang="en-US" sz="1400" spc="-1" strike="noStrike">
              <a:solidFill>
                <a:srgbClr val="000000"/>
              </a:solidFill>
              <a:latin typeface="Times New Roman"/>
            </a:endParaRPr>
          </a:p>
        </p:txBody>
      </p:sp>
      <p:sp>
        <p:nvSpPr>
          <p:cNvPr id="452" name=""/>
          <p:cNvSpPr/>
          <p:nvPr/>
        </p:nvSpPr>
        <p:spPr>
          <a:xfrm>
            <a:off x="3582000" y="4799520"/>
            <a:ext cx="744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8 QAM</a:t>
            </a:r>
            <a:endParaRPr b="0" lang="en-US" sz="1400" spc="-1" strike="noStrike">
              <a:solidFill>
                <a:srgbClr val="000000"/>
              </a:solidFill>
              <a:latin typeface="Times New Roman"/>
            </a:endParaRPr>
          </a:p>
        </p:txBody>
      </p:sp>
      <p:sp>
        <p:nvSpPr>
          <p:cNvPr id="453" name=""/>
          <p:cNvSpPr/>
          <p:nvPr/>
        </p:nvSpPr>
        <p:spPr>
          <a:xfrm>
            <a:off x="7239600" y="2970720"/>
            <a:ext cx="744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8 QAM</a:t>
            </a:r>
            <a:endParaRPr b="0" lang="en-US" sz="1400" spc="-1" strike="noStrike">
              <a:solidFill>
                <a:srgbClr val="000000"/>
              </a:solidFill>
              <a:latin typeface="Times New Roman"/>
            </a:endParaRPr>
          </a:p>
        </p:txBody>
      </p:sp>
      <p:sp>
        <p:nvSpPr>
          <p:cNvPr id="454" name=""/>
          <p:cNvSpPr/>
          <p:nvPr/>
        </p:nvSpPr>
        <p:spPr>
          <a:xfrm>
            <a:off x="854640" y="2894400"/>
            <a:ext cx="744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8 QAM</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9638C106-3C07-4131-BE6A-6DED811A91FC}" type="slidenum">
              <a:t>14</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p:nvPr/>
        </p:nvSpPr>
        <p:spPr>
          <a:xfrm>
            <a:off x="2396520" y="761760"/>
            <a:ext cx="422532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11 Mbps CCK Mod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Time Domain Modulator</a:t>
            </a:r>
            <a:endParaRPr b="0" lang="en-US" sz="2800" spc="-1" strike="noStrike">
              <a:solidFill>
                <a:srgbClr val="000000"/>
              </a:solidFill>
              <a:latin typeface="Times New Roman"/>
            </a:endParaRPr>
          </a:p>
        </p:txBody>
      </p:sp>
      <p:sp>
        <p:nvSpPr>
          <p:cNvPr id="456" name=""/>
          <p:cNvSpPr/>
          <p:nvPr/>
        </p:nvSpPr>
        <p:spPr>
          <a:xfrm>
            <a:off x="777960" y="2622600"/>
            <a:ext cx="13716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2149560" y="2851200"/>
            <a:ext cx="13716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25320" y="2851200"/>
            <a:ext cx="31244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4359240" y="2622600"/>
            <a:ext cx="380880" cy="380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3825720" y="3765600"/>
            <a:ext cx="15264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
          <p:cNvSpPr/>
          <p:nvPr/>
        </p:nvSpPr>
        <p:spPr>
          <a:xfrm>
            <a:off x="3978360" y="399420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
          <p:cNvSpPr/>
          <p:nvPr/>
        </p:nvSpPr>
        <p:spPr>
          <a:xfrm>
            <a:off x="4130640" y="376560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
          <p:cNvSpPr/>
          <p:nvPr/>
        </p:nvSpPr>
        <p:spPr>
          <a:xfrm>
            <a:off x="4282920" y="3765600"/>
            <a:ext cx="15264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
          <p:cNvSpPr/>
          <p:nvPr/>
        </p:nvSpPr>
        <p:spPr>
          <a:xfrm>
            <a:off x="4435560" y="399420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
          <p:cNvSpPr/>
          <p:nvPr/>
        </p:nvSpPr>
        <p:spPr>
          <a:xfrm>
            <a:off x="4587840" y="376560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
          <p:cNvSpPr/>
          <p:nvPr/>
        </p:nvSpPr>
        <p:spPr>
          <a:xfrm>
            <a:off x="4740120" y="3765600"/>
            <a:ext cx="15264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4892760" y="376560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597120" y="3994200"/>
            <a:ext cx="2057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713160" y="2216160"/>
            <a:ext cx="73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PSK</a:t>
            </a:r>
            <a:endParaRPr b="0" lang="en-US" sz="1600" spc="-1" strike="noStrike">
              <a:solidFill>
                <a:srgbClr val="000000"/>
              </a:solidFill>
              <a:latin typeface="Times New Roman"/>
            </a:endParaRPr>
          </a:p>
        </p:txBody>
      </p:sp>
      <p:sp>
        <p:nvSpPr>
          <p:cNvPr id="470" name=""/>
          <p:cNvSpPr/>
          <p:nvPr/>
        </p:nvSpPr>
        <p:spPr>
          <a:xfrm>
            <a:off x="3978360" y="2622600"/>
            <a:ext cx="380880" cy="380880"/>
          </a:xfrm>
          <a:prstGeom prst="rightArrow">
            <a:avLst>
              <a:gd name="adj1" fmla="val 50000"/>
              <a:gd name="adj2"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36040" y="288756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p:txBody>
      </p:sp>
      <p:sp>
        <p:nvSpPr>
          <p:cNvPr id="472" name=""/>
          <p:cNvSpPr/>
          <p:nvPr/>
        </p:nvSpPr>
        <p:spPr>
          <a:xfrm>
            <a:off x="5565240" y="403056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p:txBody>
      </p:sp>
      <p:sp>
        <p:nvSpPr>
          <p:cNvPr id="473" name=""/>
          <p:cNvSpPr/>
          <p:nvPr/>
        </p:nvSpPr>
        <p:spPr>
          <a:xfrm>
            <a:off x="4359240" y="3003480"/>
            <a:ext cx="380880" cy="381240"/>
          </a:xfrm>
          <a:prstGeom prst="upArrow">
            <a:avLst>
              <a:gd name="adj1" fmla="val 50000"/>
              <a:gd name="adj2" fmla="val 25024"/>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4435560" y="2698920"/>
            <a:ext cx="2286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V="1">
            <a:off x="4435560" y="2698560"/>
            <a:ext cx="2286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724280" y="2629080"/>
            <a:ext cx="381240" cy="380880"/>
          </a:xfrm>
          <a:prstGeom prst="rightArrow">
            <a:avLst>
              <a:gd name="adj1" fmla="val 50000"/>
              <a:gd name="adj2" fmla="val 25024"/>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963600" y="1905120"/>
            <a:ext cx="1521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Time Doma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Multiply</a:t>
            </a:r>
            <a:endParaRPr b="0" lang="en-US" sz="1800" spc="-1" strike="noStrike">
              <a:solidFill>
                <a:srgbClr val="000000"/>
              </a:solidFill>
              <a:latin typeface="Times New Roman"/>
            </a:endParaRPr>
          </a:p>
        </p:txBody>
      </p:sp>
      <p:sp>
        <p:nvSpPr>
          <p:cNvPr id="478" name=""/>
          <p:cNvSpPr/>
          <p:nvPr/>
        </p:nvSpPr>
        <p:spPr>
          <a:xfrm>
            <a:off x="5565240" y="457056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p:txBody>
      </p:sp>
      <p:sp>
        <p:nvSpPr>
          <p:cNvPr id="479" name=""/>
          <p:cNvSpPr/>
          <p:nvPr/>
        </p:nvSpPr>
        <p:spPr>
          <a:xfrm>
            <a:off x="3809880" y="4343400"/>
            <a:ext cx="15264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0" name=""/>
          <p:cNvSpPr/>
          <p:nvPr/>
        </p:nvSpPr>
        <p:spPr>
          <a:xfrm>
            <a:off x="3962520" y="4343400"/>
            <a:ext cx="152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1" name=""/>
          <p:cNvSpPr/>
          <p:nvPr/>
        </p:nvSpPr>
        <p:spPr>
          <a:xfrm>
            <a:off x="4114800" y="4572000"/>
            <a:ext cx="152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2" name=""/>
          <p:cNvSpPr/>
          <p:nvPr/>
        </p:nvSpPr>
        <p:spPr>
          <a:xfrm>
            <a:off x="4267080" y="4343400"/>
            <a:ext cx="15264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3" name=""/>
          <p:cNvSpPr/>
          <p:nvPr/>
        </p:nvSpPr>
        <p:spPr>
          <a:xfrm>
            <a:off x="4419720" y="4572000"/>
            <a:ext cx="152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4" name=""/>
          <p:cNvSpPr/>
          <p:nvPr/>
        </p:nvSpPr>
        <p:spPr>
          <a:xfrm>
            <a:off x="4572000" y="4343400"/>
            <a:ext cx="152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5" name=""/>
          <p:cNvSpPr/>
          <p:nvPr/>
        </p:nvSpPr>
        <p:spPr>
          <a:xfrm>
            <a:off x="4724280" y="4572000"/>
            <a:ext cx="15264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6" name=""/>
          <p:cNvSpPr/>
          <p:nvPr/>
        </p:nvSpPr>
        <p:spPr>
          <a:xfrm>
            <a:off x="4876920" y="4343400"/>
            <a:ext cx="152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7" name=""/>
          <p:cNvSpPr/>
          <p:nvPr/>
        </p:nvSpPr>
        <p:spPr>
          <a:xfrm>
            <a:off x="3581280" y="4572000"/>
            <a:ext cx="2057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565240" y="518004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p:txBody>
      </p:sp>
      <p:sp>
        <p:nvSpPr>
          <p:cNvPr id="489" name=""/>
          <p:cNvSpPr/>
          <p:nvPr/>
        </p:nvSpPr>
        <p:spPr>
          <a:xfrm>
            <a:off x="3809880" y="4952880"/>
            <a:ext cx="15264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0" name=""/>
          <p:cNvSpPr/>
          <p:nvPr/>
        </p:nvSpPr>
        <p:spPr>
          <a:xfrm>
            <a:off x="3962520" y="4952880"/>
            <a:ext cx="152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1" name=""/>
          <p:cNvSpPr/>
          <p:nvPr/>
        </p:nvSpPr>
        <p:spPr>
          <a:xfrm>
            <a:off x="4114800" y="4952880"/>
            <a:ext cx="152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2" name=""/>
          <p:cNvSpPr/>
          <p:nvPr/>
        </p:nvSpPr>
        <p:spPr>
          <a:xfrm>
            <a:off x="4267080" y="5181480"/>
            <a:ext cx="15264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3" name=""/>
          <p:cNvSpPr/>
          <p:nvPr/>
        </p:nvSpPr>
        <p:spPr>
          <a:xfrm>
            <a:off x="4419720" y="4952880"/>
            <a:ext cx="152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4" name=""/>
          <p:cNvSpPr/>
          <p:nvPr/>
        </p:nvSpPr>
        <p:spPr>
          <a:xfrm>
            <a:off x="4572000" y="4952880"/>
            <a:ext cx="152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5" name=""/>
          <p:cNvSpPr/>
          <p:nvPr/>
        </p:nvSpPr>
        <p:spPr>
          <a:xfrm>
            <a:off x="4724280" y="5181480"/>
            <a:ext cx="15264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6" name=""/>
          <p:cNvSpPr/>
          <p:nvPr/>
        </p:nvSpPr>
        <p:spPr>
          <a:xfrm>
            <a:off x="4876920" y="4952880"/>
            <a:ext cx="152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7" name=""/>
          <p:cNvSpPr/>
          <p:nvPr/>
        </p:nvSpPr>
        <p:spPr>
          <a:xfrm>
            <a:off x="3581280" y="5181480"/>
            <a:ext cx="2057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5565240" y="578952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p:txBody>
      </p:sp>
      <p:sp>
        <p:nvSpPr>
          <p:cNvPr id="499" name=""/>
          <p:cNvSpPr/>
          <p:nvPr/>
        </p:nvSpPr>
        <p:spPr>
          <a:xfrm>
            <a:off x="3809880" y="5562720"/>
            <a:ext cx="15264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0" name=""/>
          <p:cNvSpPr/>
          <p:nvPr/>
        </p:nvSpPr>
        <p:spPr>
          <a:xfrm>
            <a:off x="3962520" y="5562720"/>
            <a:ext cx="152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1" name=""/>
          <p:cNvSpPr/>
          <p:nvPr/>
        </p:nvSpPr>
        <p:spPr>
          <a:xfrm>
            <a:off x="4114800" y="5791320"/>
            <a:ext cx="152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2" name=""/>
          <p:cNvSpPr/>
          <p:nvPr/>
        </p:nvSpPr>
        <p:spPr>
          <a:xfrm>
            <a:off x="4267080" y="5791320"/>
            <a:ext cx="15264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3" name=""/>
          <p:cNvSpPr/>
          <p:nvPr/>
        </p:nvSpPr>
        <p:spPr>
          <a:xfrm>
            <a:off x="4419720" y="5562720"/>
            <a:ext cx="152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4" name=""/>
          <p:cNvSpPr/>
          <p:nvPr/>
        </p:nvSpPr>
        <p:spPr>
          <a:xfrm>
            <a:off x="4572000" y="5562720"/>
            <a:ext cx="152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5" name=""/>
          <p:cNvSpPr/>
          <p:nvPr/>
        </p:nvSpPr>
        <p:spPr>
          <a:xfrm>
            <a:off x="4724280" y="5791320"/>
            <a:ext cx="15264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6" name=""/>
          <p:cNvSpPr/>
          <p:nvPr/>
        </p:nvSpPr>
        <p:spPr>
          <a:xfrm>
            <a:off x="4876920" y="5562720"/>
            <a:ext cx="152280" cy="228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7" name=""/>
          <p:cNvSpPr/>
          <p:nvPr/>
        </p:nvSpPr>
        <p:spPr>
          <a:xfrm>
            <a:off x="3581280" y="5791320"/>
            <a:ext cx="2057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424200" y="4419720"/>
            <a:ext cx="14533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64 Spread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Codes</a:t>
            </a:r>
            <a:endParaRPr b="0" lang="en-US" sz="1600" spc="-1" strike="noStrike">
              <a:solidFill>
                <a:srgbClr val="000000"/>
              </a:solidFill>
              <a:latin typeface="Times New Roman"/>
            </a:endParaRPr>
          </a:p>
        </p:txBody>
      </p:sp>
      <p:pic>
        <p:nvPicPr>
          <p:cNvPr id="509" name="" descr=""/>
          <p:cNvPicPr/>
          <p:nvPr/>
        </p:nvPicPr>
        <p:blipFill>
          <a:blip r:embed="rId1"/>
          <a:stretch/>
        </p:blipFill>
        <p:spPr>
          <a:xfrm>
            <a:off x="228600" y="3559320"/>
            <a:ext cx="3200400" cy="2342880"/>
          </a:xfrm>
          <a:prstGeom prst="rect">
            <a:avLst/>
          </a:prstGeom>
          <a:ln w="0">
            <a:noFill/>
          </a:ln>
        </p:spPr>
      </p:pic>
      <p:pic>
        <p:nvPicPr>
          <p:cNvPr id="510" name="" descr=""/>
          <p:cNvPicPr/>
          <p:nvPr/>
        </p:nvPicPr>
        <p:blipFill>
          <a:blip r:embed="rId2"/>
          <a:stretch/>
        </p:blipFill>
        <p:spPr>
          <a:xfrm>
            <a:off x="5867280" y="1752480"/>
            <a:ext cx="3048120" cy="2238480"/>
          </a:xfrm>
          <a:prstGeom prst="rect">
            <a:avLst/>
          </a:prstGeom>
          <a:ln w="0">
            <a:noFill/>
          </a:ln>
        </p:spPr>
      </p:pic>
      <p:sp>
        <p:nvSpPr>
          <p:cNvPr id="511" name=""/>
          <p:cNvSpPr/>
          <p:nvPr/>
        </p:nvSpPr>
        <p:spPr>
          <a:xfrm>
            <a:off x="6324480" y="4800600"/>
            <a:ext cx="1295640" cy="990720"/>
          </a:xfrm>
          <a:prstGeom prst="leftArrow">
            <a:avLst>
              <a:gd name="adj1" fmla="val 50000"/>
              <a:gd name="adj2" fmla="val 32694"/>
            </a:avLst>
          </a:prstGeom>
          <a:gradFill rotWithShape="0">
            <a:gsLst>
              <a:gs pos="0">
                <a:srgbClr val="ffffff"/>
              </a:gs>
              <a:gs pos="50000">
                <a:srgbClr val="757575"/>
              </a:gs>
              <a:gs pos="100000">
                <a:srgbClr val="ffffff"/>
              </a:gs>
            </a:gsLst>
            <a:lin ang="135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6A445BA2-E359-4A8B-8E63-CE8A472A6A68}" type="slidenum">
              <a:t>15</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5687280" y="2666880"/>
            <a:ext cx="607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 p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FT</a:t>
            </a:r>
            <a:endParaRPr b="0" lang="en-US" sz="1600" spc="-1" strike="noStrike">
              <a:solidFill>
                <a:srgbClr val="000000"/>
              </a:solidFill>
              <a:latin typeface="Times New Roman"/>
            </a:endParaRPr>
          </a:p>
        </p:txBody>
      </p:sp>
      <p:sp>
        <p:nvSpPr>
          <p:cNvPr id="513" name=""/>
          <p:cNvSpPr/>
          <p:nvPr/>
        </p:nvSpPr>
        <p:spPr>
          <a:xfrm>
            <a:off x="3523320" y="2438280"/>
            <a:ext cx="119556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p/Phz</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 eac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carrier</a:t>
            </a:r>
            <a:endParaRPr b="0" lang="en-US" sz="1600" spc="-1" strike="noStrike">
              <a:solidFill>
                <a:srgbClr val="000000"/>
              </a:solidFill>
              <a:latin typeface="Times New Roman"/>
            </a:endParaRPr>
          </a:p>
        </p:txBody>
      </p:sp>
      <p:sp>
        <p:nvSpPr>
          <p:cNvPr id="514" name=""/>
          <p:cNvSpPr/>
          <p:nvPr/>
        </p:nvSpPr>
        <p:spPr>
          <a:xfrm>
            <a:off x="3521160" y="2362320"/>
            <a:ext cx="1295280" cy="1218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5638680" y="2362320"/>
            <a:ext cx="838440" cy="1218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6783120" y="26668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S</a:t>
            </a:r>
            <a:endParaRPr b="0" lang="en-US" sz="1600" spc="-1" strike="noStrike">
              <a:solidFill>
                <a:srgbClr val="000000"/>
              </a:solidFill>
              <a:latin typeface="Times New Roman"/>
            </a:endParaRPr>
          </a:p>
        </p:txBody>
      </p:sp>
      <p:sp>
        <p:nvSpPr>
          <p:cNvPr id="517" name=""/>
          <p:cNvSpPr/>
          <p:nvPr/>
        </p:nvSpPr>
        <p:spPr>
          <a:xfrm>
            <a:off x="6705720" y="2590920"/>
            <a:ext cx="685800" cy="53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56280" y="4038480"/>
            <a:ext cx="14518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4 Codewor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ectrums</a:t>
            </a:r>
            <a:endParaRPr b="0" lang="en-US" sz="1600" spc="-1" strike="noStrike">
              <a:solidFill>
                <a:srgbClr val="000000"/>
              </a:solidFill>
              <a:latin typeface="Times New Roman"/>
            </a:endParaRPr>
          </a:p>
        </p:txBody>
      </p:sp>
      <p:sp>
        <p:nvSpPr>
          <p:cNvPr id="519" name=""/>
          <p:cNvSpPr/>
          <p:nvPr/>
        </p:nvSpPr>
        <p:spPr>
          <a:xfrm>
            <a:off x="3276720" y="3962520"/>
            <a:ext cx="1539720" cy="761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1771920" y="2590920"/>
            <a:ext cx="1000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P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tation</a:t>
            </a:r>
            <a:endParaRPr b="0" lang="en-US" sz="1600" spc="-1" strike="noStrike">
              <a:solidFill>
                <a:srgbClr val="000000"/>
              </a:solidFill>
              <a:latin typeface="Times New Roman"/>
            </a:endParaRPr>
          </a:p>
        </p:txBody>
      </p:sp>
      <p:sp>
        <p:nvSpPr>
          <p:cNvPr id="521" name=""/>
          <p:cNvSpPr/>
          <p:nvPr/>
        </p:nvSpPr>
        <p:spPr>
          <a:xfrm>
            <a:off x="1768320" y="2514600"/>
            <a:ext cx="1295640" cy="76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535320" y="2576520"/>
            <a:ext cx="694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 Inf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its</a:t>
            </a:r>
            <a:endParaRPr b="0" lang="en-US" sz="1600" spc="-1" strike="noStrike">
              <a:solidFill>
                <a:srgbClr val="000000"/>
              </a:solidFill>
              <a:latin typeface="Times New Roman"/>
            </a:endParaRPr>
          </a:p>
        </p:txBody>
      </p:sp>
      <p:sp>
        <p:nvSpPr>
          <p:cNvPr id="523" name=""/>
          <p:cNvSpPr/>
          <p:nvPr/>
        </p:nvSpPr>
        <p:spPr>
          <a:xfrm>
            <a:off x="1387440" y="281952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3063960" y="281952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816440" y="2819520"/>
            <a:ext cx="82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477120" y="28195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1912680" y="837720"/>
            <a:ext cx="51930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11 Mbps CCK Mod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requency Domain Modulator</a:t>
            </a:r>
            <a:endParaRPr b="0" lang="en-US" sz="2800" spc="-1" strike="noStrike">
              <a:solidFill>
                <a:srgbClr val="000000"/>
              </a:solidFill>
              <a:latin typeface="Times New Roman"/>
            </a:endParaRPr>
          </a:p>
        </p:txBody>
      </p:sp>
      <p:sp>
        <p:nvSpPr>
          <p:cNvPr id="528" name=""/>
          <p:cNvSpPr/>
          <p:nvPr/>
        </p:nvSpPr>
        <p:spPr>
          <a:xfrm>
            <a:off x="7391520" y="28195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523880" y="2133720"/>
            <a:ext cx="3505320" cy="2819160"/>
          </a:xfrm>
          <a:prstGeom prst="rect">
            <a:avLst/>
          </a:prstGeom>
          <a:noFill/>
          <a:ln w="1260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697760" y="3413160"/>
            <a:ext cx="1579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Times New Roman"/>
              </a:rPr>
              <a:t>Constell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Times New Roman"/>
              </a:rPr>
              <a:t>Mapper</a:t>
            </a:r>
            <a:endParaRPr b="0" lang="en-US" sz="2000" spc="-1" strike="noStrike">
              <a:solidFill>
                <a:srgbClr val="000000"/>
              </a:solidFill>
              <a:latin typeface="Times New Roman"/>
            </a:endParaRPr>
          </a:p>
        </p:txBody>
      </p:sp>
      <p:sp>
        <p:nvSpPr>
          <p:cNvPr id="531" name=""/>
          <p:cNvSpPr/>
          <p:nvPr/>
        </p:nvSpPr>
        <p:spPr>
          <a:xfrm flipV="1">
            <a:off x="4038480" y="35809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H="1">
            <a:off x="3962160" y="3733920"/>
            <a:ext cx="15228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a:off x="5181480" y="2743200"/>
            <a:ext cx="1526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flipH="1">
            <a:off x="3200040" y="2743200"/>
            <a:ext cx="15228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4089240" y="365652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Times New Roman"/>
            </a:endParaRPr>
          </a:p>
        </p:txBody>
      </p:sp>
      <p:sp>
        <p:nvSpPr>
          <p:cNvPr id="536" name=""/>
          <p:cNvSpPr/>
          <p:nvPr/>
        </p:nvSpPr>
        <p:spPr>
          <a:xfrm>
            <a:off x="5155920" y="243720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Times New Roman"/>
            </a:endParaRPr>
          </a:p>
        </p:txBody>
      </p:sp>
      <p:sp>
        <p:nvSpPr>
          <p:cNvPr id="537" name=""/>
          <p:cNvSpPr/>
          <p:nvPr/>
        </p:nvSpPr>
        <p:spPr>
          <a:xfrm>
            <a:off x="3174840" y="243720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538" name=""/>
          <p:cNvSpPr/>
          <p:nvPr/>
        </p:nvSpPr>
        <p:spPr>
          <a:xfrm flipH="1" flipV="1">
            <a:off x="5257800" y="2285640"/>
            <a:ext cx="60912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cc0000"/>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39" name=""/>
          <p:cNvSpPr/>
          <p:nvPr/>
        </p:nvSpPr>
        <p:spPr>
          <a:xfrm>
            <a:off x="535320" y="4067280"/>
            <a:ext cx="694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 Inf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its</a:t>
            </a:r>
            <a:endParaRPr b="0" lang="en-US" sz="1600" spc="-1" strike="noStrike">
              <a:solidFill>
                <a:srgbClr val="000000"/>
              </a:solidFill>
              <a:latin typeface="Times New Roman"/>
            </a:endParaRPr>
          </a:p>
        </p:txBody>
      </p:sp>
      <p:sp>
        <p:nvSpPr>
          <p:cNvPr id="540" name=""/>
          <p:cNvSpPr/>
          <p:nvPr/>
        </p:nvSpPr>
        <p:spPr>
          <a:xfrm>
            <a:off x="1371600" y="4343400"/>
            <a:ext cx="1905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5038560" y="3786480"/>
            <a:ext cx="3473640" cy="2691720"/>
            <a:chOff x="5038560" y="3786480"/>
            <a:chExt cx="3473640" cy="2691720"/>
          </a:xfrm>
        </p:grpSpPr>
        <p:sp>
          <p:nvSpPr>
            <p:cNvPr id="542" name=""/>
            <p:cNvSpPr/>
            <p:nvPr/>
          </p:nvSpPr>
          <p:spPr>
            <a:xfrm>
              <a:off x="5038560" y="6226560"/>
              <a:ext cx="347364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43" name=""/>
            <p:cNvSpPr/>
            <p:nvPr/>
          </p:nvSpPr>
          <p:spPr>
            <a:xfrm>
              <a:off x="5504400" y="4358880"/>
              <a:ext cx="72360" cy="58320"/>
            </a:xfrm>
            <a:prstGeom prst="ellipse">
              <a:avLst/>
            </a:prstGeom>
            <a:noFill/>
            <a:ln w="0">
              <a:solidFill>
                <a:srgbClr val="0000ff"/>
              </a:solid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44" name=""/>
            <p:cNvSpPr/>
            <p:nvPr/>
          </p:nvSpPr>
          <p:spPr>
            <a:xfrm>
              <a:off x="5818320" y="4339800"/>
              <a:ext cx="71280" cy="58680"/>
            </a:xfrm>
            <a:prstGeom prst="ellipse">
              <a:avLst/>
            </a:prstGeom>
            <a:noFill/>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45" name=""/>
            <p:cNvSpPr/>
            <p:nvPr/>
          </p:nvSpPr>
          <p:spPr>
            <a:xfrm>
              <a:off x="6138360" y="4339800"/>
              <a:ext cx="72360" cy="58680"/>
            </a:xfrm>
            <a:prstGeom prst="ellipse">
              <a:avLst/>
            </a:prstGeom>
            <a:noFill/>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46" name=""/>
            <p:cNvSpPr/>
            <p:nvPr/>
          </p:nvSpPr>
          <p:spPr>
            <a:xfrm>
              <a:off x="6451920" y="4339800"/>
              <a:ext cx="71280" cy="58680"/>
            </a:xfrm>
            <a:prstGeom prst="ellipse">
              <a:avLst/>
            </a:prstGeom>
            <a:noFill/>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47" name=""/>
            <p:cNvSpPr/>
            <p:nvPr/>
          </p:nvSpPr>
          <p:spPr>
            <a:xfrm>
              <a:off x="6754320" y="4339800"/>
              <a:ext cx="72360" cy="58680"/>
            </a:xfrm>
            <a:prstGeom prst="ellipse">
              <a:avLst/>
            </a:prstGeom>
            <a:noFill/>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48" name=""/>
            <p:cNvSpPr/>
            <p:nvPr/>
          </p:nvSpPr>
          <p:spPr>
            <a:xfrm>
              <a:off x="7067880" y="4339800"/>
              <a:ext cx="72360" cy="58680"/>
            </a:xfrm>
            <a:prstGeom prst="ellipse">
              <a:avLst/>
            </a:prstGeom>
            <a:noFill/>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49" name=""/>
            <p:cNvSpPr/>
            <p:nvPr/>
          </p:nvSpPr>
          <p:spPr>
            <a:xfrm>
              <a:off x="7387920" y="4339800"/>
              <a:ext cx="72360" cy="58680"/>
            </a:xfrm>
            <a:prstGeom prst="ellipse">
              <a:avLst/>
            </a:prstGeom>
            <a:noFill/>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50" name=""/>
            <p:cNvSpPr/>
            <p:nvPr/>
          </p:nvSpPr>
          <p:spPr>
            <a:xfrm>
              <a:off x="7701840" y="4339800"/>
              <a:ext cx="72360" cy="58680"/>
            </a:xfrm>
            <a:prstGeom prst="ellipse">
              <a:avLst/>
            </a:prstGeom>
            <a:noFill/>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51" name=""/>
            <p:cNvSpPr/>
            <p:nvPr/>
          </p:nvSpPr>
          <p:spPr>
            <a:xfrm flipV="1">
              <a:off x="5537520" y="4385160"/>
              <a:ext cx="1080" cy="18406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flipV="1">
              <a:off x="5849640" y="4385160"/>
              <a:ext cx="1080" cy="18406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flipV="1">
              <a:off x="6170040" y="4385160"/>
              <a:ext cx="1080" cy="18406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flipV="1">
              <a:off x="6483960" y="4385160"/>
              <a:ext cx="720" cy="18406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flipV="1">
              <a:off x="6787080" y="4385160"/>
              <a:ext cx="720" cy="18406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flipV="1">
              <a:off x="7099560" y="4385160"/>
              <a:ext cx="720" cy="18406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flipV="1">
              <a:off x="7421040" y="4385160"/>
              <a:ext cx="720" cy="18406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flipV="1">
              <a:off x="7733160" y="4385160"/>
              <a:ext cx="720" cy="18406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5332680" y="379656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1</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1</a:t>
              </a:r>
              <a:endParaRPr b="0" lang="en-US" sz="1400" spc="-1" strike="noStrike">
                <a:solidFill>
                  <a:srgbClr val="000000"/>
                </a:solidFill>
                <a:latin typeface="Times New Roman"/>
              </a:endParaRPr>
            </a:p>
          </p:txBody>
        </p:sp>
        <p:sp>
          <p:nvSpPr>
            <p:cNvPr id="560" name=""/>
            <p:cNvSpPr/>
            <p:nvPr/>
          </p:nvSpPr>
          <p:spPr>
            <a:xfrm>
              <a:off x="5658480" y="404064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2</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2</a:t>
              </a:r>
              <a:endParaRPr b="0" lang="en-US" sz="1400" spc="-1" strike="noStrike">
                <a:solidFill>
                  <a:srgbClr val="000000"/>
                </a:solidFill>
                <a:latin typeface="Times New Roman"/>
              </a:endParaRPr>
            </a:p>
          </p:txBody>
        </p:sp>
        <p:sp>
          <p:nvSpPr>
            <p:cNvPr id="561" name=""/>
            <p:cNvSpPr/>
            <p:nvPr/>
          </p:nvSpPr>
          <p:spPr>
            <a:xfrm>
              <a:off x="6029640" y="378648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3</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3</a:t>
              </a:r>
              <a:endParaRPr b="0" lang="en-US" sz="1400" spc="-1" strike="noStrike">
                <a:solidFill>
                  <a:srgbClr val="000000"/>
                </a:solidFill>
                <a:latin typeface="Times New Roman"/>
              </a:endParaRPr>
            </a:p>
          </p:txBody>
        </p:sp>
        <p:sp>
          <p:nvSpPr>
            <p:cNvPr id="562" name=""/>
            <p:cNvSpPr/>
            <p:nvPr/>
          </p:nvSpPr>
          <p:spPr>
            <a:xfrm>
              <a:off x="6636600" y="378648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5</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5</a:t>
              </a:r>
              <a:endParaRPr b="0" lang="en-US" sz="1400" spc="-1" strike="noStrike">
                <a:solidFill>
                  <a:srgbClr val="000000"/>
                </a:solidFill>
                <a:latin typeface="Times New Roman"/>
              </a:endParaRPr>
            </a:p>
          </p:txBody>
        </p:sp>
        <p:sp>
          <p:nvSpPr>
            <p:cNvPr id="563" name=""/>
            <p:cNvSpPr/>
            <p:nvPr/>
          </p:nvSpPr>
          <p:spPr>
            <a:xfrm>
              <a:off x="6301080" y="404964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4</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4</a:t>
              </a:r>
              <a:endParaRPr b="0" lang="en-US" sz="1400" spc="-1" strike="noStrike">
                <a:solidFill>
                  <a:srgbClr val="000000"/>
                </a:solidFill>
                <a:latin typeface="Times New Roman"/>
              </a:endParaRPr>
            </a:p>
          </p:txBody>
        </p:sp>
        <p:sp>
          <p:nvSpPr>
            <p:cNvPr id="564" name=""/>
            <p:cNvSpPr/>
            <p:nvPr/>
          </p:nvSpPr>
          <p:spPr>
            <a:xfrm>
              <a:off x="6908040" y="404064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6</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6</a:t>
              </a:r>
              <a:endParaRPr b="0" lang="en-US" sz="1400" spc="-1" strike="noStrike">
                <a:solidFill>
                  <a:srgbClr val="000000"/>
                </a:solidFill>
                <a:latin typeface="Times New Roman"/>
              </a:endParaRPr>
            </a:p>
          </p:txBody>
        </p:sp>
        <p:sp>
          <p:nvSpPr>
            <p:cNvPr id="565" name=""/>
            <p:cNvSpPr/>
            <p:nvPr/>
          </p:nvSpPr>
          <p:spPr>
            <a:xfrm>
              <a:off x="7279200" y="378648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7</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7</a:t>
              </a:r>
              <a:endParaRPr b="0" lang="en-US" sz="1400" spc="-1" strike="noStrike">
                <a:solidFill>
                  <a:srgbClr val="000000"/>
                </a:solidFill>
                <a:latin typeface="Times New Roman"/>
              </a:endParaRPr>
            </a:p>
          </p:txBody>
        </p:sp>
        <p:sp>
          <p:nvSpPr>
            <p:cNvPr id="566" name=""/>
            <p:cNvSpPr/>
            <p:nvPr/>
          </p:nvSpPr>
          <p:spPr>
            <a:xfrm>
              <a:off x="7551000" y="404964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8</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8</a:t>
              </a:r>
              <a:endParaRPr b="0" lang="en-US" sz="1400" spc="-1" strike="noStrike">
                <a:solidFill>
                  <a:srgbClr val="000000"/>
                </a:solidFill>
                <a:latin typeface="Times New Roman"/>
              </a:endParaRPr>
            </a:p>
          </p:txBody>
        </p:sp>
        <p:sp>
          <p:nvSpPr>
            <p:cNvPr id="567" name=""/>
            <p:cNvSpPr/>
            <p:nvPr/>
          </p:nvSpPr>
          <p:spPr>
            <a:xfrm>
              <a:off x="5462640" y="6231960"/>
              <a:ext cx="26694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2       3       4       5       6      7       8        </a:t>
              </a:r>
              <a:endParaRPr b="0" lang="en-US" sz="1000" spc="-1" strike="noStrike">
                <a:solidFill>
                  <a:srgbClr val="000000"/>
                </a:solidFill>
                <a:latin typeface="Times New Roman"/>
              </a:endParaRPr>
            </a:p>
          </p:txBody>
        </p:sp>
      </p:gr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59DE70EB-D439-48FD-81A6-74121006CFB0}" type="slidenum">
              <a:t>16</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1782720" y="226080"/>
            <a:ext cx="43657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11 Mbps Subcarrier Constellations</a:t>
            </a:r>
            <a:endParaRPr b="0" lang="en-US" sz="2000" spc="-1" strike="noStrike">
              <a:solidFill>
                <a:srgbClr val="000000"/>
              </a:solidFill>
              <a:latin typeface="Times New Roman"/>
            </a:endParaRPr>
          </a:p>
        </p:txBody>
      </p:sp>
      <p:pic>
        <p:nvPicPr>
          <p:cNvPr id="569" name="" descr=""/>
          <p:cNvPicPr/>
          <p:nvPr/>
        </p:nvPicPr>
        <p:blipFill>
          <a:blip r:embed="rId1"/>
          <a:stretch/>
        </p:blipFill>
        <p:spPr>
          <a:xfrm>
            <a:off x="628560" y="2577960"/>
            <a:ext cx="3791160" cy="3060720"/>
          </a:xfrm>
          <a:prstGeom prst="rect">
            <a:avLst/>
          </a:prstGeom>
          <a:ln w="0">
            <a:noFill/>
          </a:ln>
        </p:spPr>
      </p:pic>
      <p:pic>
        <p:nvPicPr>
          <p:cNvPr id="570" name="" descr=""/>
          <p:cNvPicPr/>
          <p:nvPr/>
        </p:nvPicPr>
        <p:blipFill>
          <a:blip r:embed="rId2"/>
          <a:stretch/>
        </p:blipFill>
        <p:spPr>
          <a:xfrm>
            <a:off x="4743360" y="2587680"/>
            <a:ext cx="3791160" cy="3051000"/>
          </a:xfrm>
          <a:prstGeom prst="rect">
            <a:avLst/>
          </a:prstGeom>
          <a:ln w="0">
            <a:noFill/>
          </a:ln>
        </p:spPr>
      </p:pic>
      <p:sp>
        <p:nvSpPr>
          <p:cNvPr id="571" name=""/>
          <p:cNvSpPr/>
          <p:nvPr/>
        </p:nvSpPr>
        <p:spPr>
          <a:xfrm>
            <a:off x="1524960" y="1812240"/>
            <a:ext cx="15631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Carri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3, 5, 7</a:t>
            </a:r>
            <a:endParaRPr b="0" lang="en-US" sz="1800" spc="-1" strike="noStrike">
              <a:solidFill>
                <a:srgbClr val="000000"/>
              </a:solidFill>
              <a:latin typeface="Times New Roman"/>
            </a:endParaRPr>
          </a:p>
        </p:txBody>
      </p:sp>
      <p:sp>
        <p:nvSpPr>
          <p:cNvPr id="572" name=""/>
          <p:cNvSpPr/>
          <p:nvPr/>
        </p:nvSpPr>
        <p:spPr>
          <a:xfrm>
            <a:off x="5749200" y="1828440"/>
            <a:ext cx="15631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Carri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4, 6, 8</a:t>
            </a:r>
            <a:endParaRPr b="0" lang="en-US" sz="1800" spc="-1" strike="noStrike">
              <a:solidFill>
                <a:srgbClr val="000000"/>
              </a:solidFill>
              <a:latin typeface="Times New Roman"/>
            </a:endParaRPr>
          </a:p>
        </p:txBody>
      </p:sp>
      <p:sp>
        <p:nvSpPr>
          <p:cNvPr id="573" name=""/>
          <p:cNvSpPr/>
          <p:nvPr/>
        </p:nvSpPr>
        <p:spPr>
          <a:xfrm>
            <a:off x="3405960" y="1005480"/>
            <a:ext cx="193500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QA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Constellations</a:t>
            </a:r>
            <a:endParaRPr b="0" lang="en-US" sz="2000" spc="-1" strike="noStrike">
              <a:solidFill>
                <a:srgbClr val="000000"/>
              </a:solidFill>
              <a:latin typeface="Times New Roman"/>
            </a:endParaRPr>
          </a:p>
        </p:txBody>
      </p:sp>
      <p:sp>
        <p:nvSpPr>
          <p:cNvPr id="574" name=""/>
          <p:cNvSpPr/>
          <p:nvPr/>
        </p:nvSpPr>
        <p:spPr>
          <a:xfrm>
            <a:off x="1170720" y="2970720"/>
            <a:ext cx="744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9 QAM</a:t>
            </a:r>
            <a:endParaRPr b="0" lang="en-US" sz="1400" spc="-1" strike="noStrike">
              <a:solidFill>
                <a:srgbClr val="000000"/>
              </a:solidFill>
              <a:latin typeface="Times New Roman"/>
            </a:endParaRPr>
          </a:p>
        </p:txBody>
      </p:sp>
      <p:sp>
        <p:nvSpPr>
          <p:cNvPr id="575" name=""/>
          <p:cNvSpPr/>
          <p:nvPr/>
        </p:nvSpPr>
        <p:spPr>
          <a:xfrm>
            <a:off x="5251680" y="2970720"/>
            <a:ext cx="8438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24 QAM</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C67603DE-C559-41BA-AA2D-D503322500A0}" type="slidenum">
              <a:t>17</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5687280" y="2666880"/>
            <a:ext cx="6073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 p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FT</a:t>
            </a:r>
            <a:endParaRPr b="0" lang="en-US" sz="1600" spc="-1" strike="noStrike">
              <a:solidFill>
                <a:srgbClr val="000000"/>
              </a:solidFill>
              <a:latin typeface="Times New Roman"/>
            </a:endParaRPr>
          </a:p>
        </p:txBody>
      </p:sp>
      <p:sp>
        <p:nvSpPr>
          <p:cNvPr id="577" name=""/>
          <p:cNvSpPr/>
          <p:nvPr/>
        </p:nvSpPr>
        <p:spPr>
          <a:xfrm>
            <a:off x="3523320" y="2438280"/>
            <a:ext cx="119556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p/Phz</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 eac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carrier</a:t>
            </a:r>
            <a:endParaRPr b="0" lang="en-US" sz="1600" spc="-1" strike="noStrike">
              <a:solidFill>
                <a:srgbClr val="000000"/>
              </a:solidFill>
              <a:latin typeface="Times New Roman"/>
            </a:endParaRPr>
          </a:p>
        </p:txBody>
      </p:sp>
      <p:sp>
        <p:nvSpPr>
          <p:cNvPr id="578" name=""/>
          <p:cNvSpPr/>
          <p:nvPr/>
        </p:nvSpPr>
        <p:spPr>
          <a:xfrm>
            <a:off x="3521160" y="2362320"/>
            <a:ext cx="1295280" cy="1218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5638680" y="2362320"/>
            <a:ext cx="838440" cy="1218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6783120" y="26668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S</a:t>
            </a:r>
            <a:endParaRPr b="0" lang="en-US" sz="1600" spc="-1" strike="noStrike">
              <a:solidFill>
                <a:srgbClr val="000000"/>
              </a:solidFill>
              <a:latin typeface="Times New Roman"/>
            </a:endParaRPr>
          </a:p>
        </p:txBody>
      </p:sp>
      <p:sp>
        <p:nvSpPr>
          <p:cNvPr id="581" name=""/>
          <p:cNvSpPr/>
          <p:nvPr/>
        </p:nvSpPr>
        <p:spPr>
          <a:xfrm>
            <a:off x="6705720" y="2590920"/>
            <a:ext cx="685800" cy="53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2271960" y="2590920"/>
            <a:ext cx="694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 Inf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its</a:t>
            </a:r>
            <a:endParaRPr b="0" lang="en-US" sz="1600" spc="-1" strike="noStrike">
              <a:solidFill>
                <a:srgbClr val="000000"/>
              </a:solidFill>
              <a:latin typeface="Times New Roman"/>
            </a:endParaRPr>
          </a:p>
        </p:txBody>
      </p:sp>
      <p:sp>
        <p:nvSpPr>
          <p:cNvPr id="583" name=""/>
          <p:cNvSpPr/>
          <p:nvPr/>
        </p:nvSpPr>
        <p:spPr>
          <a:xfrm>
            <a:off x="3124080" y="2833560"/>
            <a:ext cx="381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4816440" y="2819520"/>
            <a:ext cx="82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477120" y="28195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1912680" y="837720"/>
            <a:ext cx="51930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11 Mbps PBCC Mod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requency Domain Modulator</a:t>
            </a:r>
            <a:endParaRPr b="0" lang="en-US" sz="2800" spc="-1" strike="noStrike">
              <a:solidFill>
                <a:srgbClr val="000000"/>
              </a:solidFill>
              <a:latin typeface="Times New Roman"/>
            </a:endParaRPr>
          </a:p>
        </p:txBody>
      </p:sp>
      <p:sp>
        <p:nvSpPr>
          <p:cNvPr id="587" name=""/>
          <p:cNvSpPr/>
          <p:nvPr/>
        </p:nvSpPr>
        <p:spPr>
          <a:xfrm>
            <a:off x="7391520" y="28195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1817640" y="4648320"/>
            <a:ext cx="3292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Times New Roman"/>
              </a:rPr>
              <a:t>Constellation Mapper Exist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Times New Roman"/>
              </a:rPr>
              <a:t>but is Complicated</a:t>
            </a:r>
            <a:endParaRPr b="0" lang="en-US" sz="2000" spc="-1" strike="noStrike">
              <a:solidFill>
                <a:srgbClr val="000000"/>
              </a:solidFill>
              <a:latin typeface="Times New Roman"/>
            </a:endParaRPr>
          </a:p>
        </p:txBody>
      </p:sp>
      <p:sp>
        <p:nvSpPr>
          <p:cNvPr id="589" name=""/>
          <p:cNvSpPr/>
          <p:nvPr/>
        </p:nvSpPr>
        <p:spPr>
          <a:xfrm flipH="1">
            <a:off x="5181480" y="2743200"/>
            <a:ext cx="1526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5155920" y="243720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a:t>
            </a:r>
            <a:endParaRPr b="0" lang="en-US" sz="1400" spc="-1" strike="noStrike">
              <a:solidFill>
                <a:srgbClr val="000000"/>
              </a:solidFill>
              <a:latin typeface="Times New Roman"/>
            </a:endParaRPr>
          </a:p>
        </p:txBody>
      </p:sp>
      <p:sp>
        <p:nvSpPr>
          <p:cNvPr id="591" name=""/>
          <p:cNvSpPr/>
          <p:nvPr/>
        </p:nvSpPr>
        <p:spPr>
          <a:xfrm flipH="1" flipV="1">
            <a:off x="5257800" y="2285640"/>
            <a:ext cx="60912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cc0000"/>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92" name=""/>
          <p:cNvGrpSpPr/>
          <p:nvPr/>
        </p:nvGrpSpPr>
        <p:grpSpPr>
          <a:xfrm>
            <a:off x="5038560" y="3786480"/>
            <a:ext cx="3473640" cy="2691720"/>
            <a:chOff x="5038560" y="3786480"/>
            <a:chExt cx="3473640" cy="2691720"/>
          </a:xfrm>
        </p:grpSpPr>
        <p:sp>
          <p:nvSpPr>
            <p:cNvPr id="593" name=""/>
            <p:cNvSpPr/>
            <p:nvPr/>
          </p:nvSpPr>
          <p:spPr>
            <a:xfrm>
              <a:off x="5038560" y="6226560"/>
              <a:ext cx="347364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94" name=""/>
            <p:cNvSpPr/>
            <p:nvPr/>
          </p:nvSpPr>
          <p:spPr>
            <a:xfrm>
              <a:off x="5504400" y="4358880"/>
              <a:ext cx="72360" cy="58320"/>
            </a:xfrm>
            <a:prstGeom prst="ellipse">
              <a:avLst/>
            </a:prstGeom>
            <a:noFill/>
            <a:ln w="0">
              <a:solidFill>
                <a:srgbClr val="0000ff"/>
              </a:solid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595" name=""/>
            <p:cNvSpPr/>
            <p:nvPr/>
          </p:nvSpPr>
          <p:spPr>
            <a:xfrm>
              <a:off x="5818320" y="4339800"/>
              <a:ext cx="71280" cy="58680"/>
            </a:xfrm>
            <a:prstGeom prst="ellipse">
              <a:avLst/>
            </a:prstGeom>
            <a:noFill/>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96" name=""/>
            <p:cNvSpPr/>
            <p:nvPr/>
          </p:nvSpPr>
          <p:spPr>
            <a:xfrm>
              <a:off x="6138360" y="4339800"/>
              <a:ext cx="72360" cy="58680"/>
            </a:xfrm>
            <a:prstGeom prst="ellipse">
              <a:avLst/>
            </a:prstGeom>
            <a:noFill/>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97" name=""/>
            <p:cNvSpPr/>
            <p:nvPr/>
          </p:nvSpPr>
          <p:spPr>
            <a:xfrm>
              <a:off x="6451920" y="4339800"/>
              <a:ext cx="71280" cy="58680"/>
            </a:xfrm>
            <a:prstGeom prst="ellipse">
              <a:avLst/>
            </a:prstGeom>
            <a:noFill/>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98" name=""/>
            <p:cNvSpPr/>
            <p:nvPr/>
          </p:nvSpPr>
          <p:spPr>
            <a:xfrm>
              <a:off x="6754320" y="4339800"/>
              <a:ext cx="72360" cy="58680"/>
            </a:xfrm>
            <a:prstGeom prst="ellipse">
              <a:avLst/>
            </a:prstGeom>
            <a:noFill/>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99" name=""/>
            <p:cNvSpPr/>
            <p:nvPr/>
          </p:nvSpPr>
          <p:spPr>
            <a:xfrm>
              <a:off x="7067880" y="4339800"/>
              <a:ext cx="72360" cy="58680"/>
            </a:xfrm>
            <a:prstGeom prst="ellipse">
              <a:avLst/>
            </a:prstGeom>
            <a:noFill/>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00" name=""/>
            <p:cNvSpPr/>
            <p:nvPr/>
          </p:nvSpPr>
          <p:spPr>
            <a:xfrm>
              <a:off x="7387920" y="4339800"/>
              <a:ext cx="72360" cy="58680"/>
            </a:xfrm>
            <a:prstGeom prst="ellipse">
              <a:avLst/>
            </a:prstGeom>
            <a:noFill/>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01" name=""/>
            <p:cNvSpPr/>
            <p:nvPr/>
          </p:nvSpPr>
          <p:spPr>
            <a:xfrm>
              <a:off x="7701840" y="4339800"/>
              <a:ext cx="72360" cy="58680"/>
            </a:xfrm>
            <a:prstGeom prst="ellipse">
              <a:avLst/>
            </a:prstGeom>
            <a:noFill/>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02" name=""/>
            <p:cNvSpPr/>
            <p:nvPr/>
          </p:nvSpPr>
          <p:spPr>
            <a:xfrm flipV="1">
              <a:off x="5537520" y="4385160"/>
              <a:ext cx="1080" cy="18406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flipV="1">
              <a:off x="5849640" y="4385160"/>
              <a:ext cx="1080" cy="18406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flipV="1">
              <a:off x="6170040" y="4385160"/>
              <a:ext cx="1080" cy="18406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flipV="1">
              <a:off x="6483960" y="4385160"/>
              <a:ext cx="720" cy="18406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flipV="1">
              <a:off x="6787080" y="4385160"/>
              <a:ext cx="720" cy="18406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flipV="1">
              <a:off x="7099560" y="4385160"/>
              <a:ext cx="720" cy="18406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flipV="1">
              <a:off x="7421040" y="4385160"/>
              <a:ext cx="720" cy="18406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flipV="1">
              <a:off x="7733160" y="4385160"/>
              <a:ext cx="720" cy="18406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5332680" y="379656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1</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1</a:t>
              </a:r>
              <a:endParaRPr b="0" lang="en-US" sz="1400" spc="-1" strike="noStrike">
                <a:solidFill>
                  <a:srgbClr val="000000"/>
                </a:solidFill>
                <a:latin typeface="Times New Roman"/>
              </a:endParaRPr>
            </a:p>
          </p:txBody>
        </p:sp>
        <p:sp>
          <p:nvSpPr>
            <p:cNvPr id="611" name=""/>
            <p:cNvSpPr/>
            <p:nvPr/>
          </p:nvSpPr>
          <p:spPr>
            <a:xfrm>
              <a:off x="5658480" y="404064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2</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2</a:t>
              </a:r>
              <a:endParaRPr b="0" lang="en-US" sz="1400" spc="-1" strike="noStrike">
                <a:solidFill>
                  <a:srgbClr val="000000"/>
                </a:solidFill>
                <a:latin typeface="Times New Roman"/>
              </a:endParaRPr>
            </a:p>
          </p:txBody>
        </p:sp>
        <p:sp>
          <p:nvSpPr>
            <p:cNvPr id="612" name=""/>
            <p:cNvSpPr/>
            <p:nvPr/>
          </p:nvSpPr>
          <p:spPr>
            <a:xfrm>
              <a:off x="6029640" y="378648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3</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3</a:t>
              </a:r>
              <a:endParaRPr b="0" lang="en-US" sz="1400" spc="-1" strike="noStrike">
                <a:solidFill>
                  <a:srgbClr val="000000"/>
                </a:solidFill>
                <a:latin typeface="Times New Roman"/>
              </a:endParaRPr>
            </a:p>
          </p:txBody>
        </p:sp>
        <p:sp>
          <p:nvSpPr>
            <p:cNvPr id="613" name=""/>
            <p:cNvSpPr/>
            <p:nvPr/>
          </p:nvSpPr>
          <p:spPr>
            <a:xfrm>
              <a:off x="6636600" y="378648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5</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5</a:t>
              </a:r>
              <a:endParaRPr b="0" lang="en-US" sz="1400" spc="-1" strike="noStrike">
                <a:solidFill>
                  <a:srgbClr val="000000"/>
                </a:solidFill>
                <a:latin typeface="Times New Roman"/>
              </a:endParaRPr>
            </a:p>
          </p:txBody>
        </p:sp>
        <p:sp>
          <p:nvSpPr>
            <p:cNvPr id="614" name=""/>
            <p:cNvSpPr/>
            <p:nvPr/>
          </p:nvSpPr>
          <p:spPr>
            <a:xfrm>
              <a:off x="6301080" y="404964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4</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4</a:t>
              </a:r>
              <a:endParaRPr b="0" lang="en-US" sz="1400" spc="-1" strike="noStrike">
                <a:solidFill>
                  <a:srgbClr val="000000"/>
                </a:solidFill>
                <a:latin typeface="Times New Roman"/>
              </a:endParaRPr>
            </a:p>
          </p:txBody>
        </p:sp>
        <p:sp>
          <p:nvSpPr>
            <p:cNvPr id="615" name=""/>
            <p:cNvSpPr/>
            <p:nvPr/>
          </p:nvSpPr>
          <p:spPr>
            <a:xfrm>
              <a:off x="6908040" y="404064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6</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6</a:t>
              </a:r>
              <a:endParaRPr b="0" lang="en-US" sz="1400" spc="-1" strike="noStrike">
                <a:solidFill>
                  <a:srgbClr val="000000"/>
                </a:solidFill>
                <a:latin typeface="Times New Roman"/>
              </a:endParaRPr>
            </a:p>
          </p:txBody>
        </p:sp>
        <p:sp>
          <p:nvSpPr>
            <p:cNvPr id="616" name=""/>
            <p:cNvSpPr/>
            <p:nvPr/>
          </p:nvSpPr>
          <p:spPr>
            <a:xfrm>
              <a:off x="7279200" y="378648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7</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7</a:t>
              </a:r>
              <a:endParaRPr b="0" lang="en-US" sz="1400" spc="-1" strike="noStrike">
                <a:solidFill>
                  <a:srgbClr val="000000"/>
                </a:solidFill>
                <a:latin typeface="Times New Roman"/>
              </a:endParaRPr>
            </a:p>
          </p:txBody>
        </p:sp>
        <p:sp>
          <p:nvSpPr>
            <p:cNvPr id="617" name=""/>
            <p:cNvSpPr/>
            <p:nvPr/>
          </p:nvSpPr>
          <p:spPr>
            <a:xfrm>
              <a:off x="7551000" y="404964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8</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8</a:t>
              </a:r>
              <a:endParaRPr b="0" lang="en-US" sz="1400" spc="-1" strike="noStrike">
                <a:solidFill>
                  <a:srgbClr val="000000"/>
                </a:solidFill>
                <a:latin typeface="Times New Roman"/>
              </a:endParaRPr>
            </a:p>
          </p:txBody>
        </p:sp>
        <p:sp>
          <p:nvSpPr>
            <p:cNvPr id="618" name=""/>
            <p:cNvSpPr/>
            <p:nvPr/>
          </p:nvSpPr>
          <p:spPr>
            <a:xfrm>
              <a:off x="5462640" y="6231960"/>
              <a:ext cx="266940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2       3       4       5       6      7       8        </a:t>
              </a:r>
              <a:endParaRPr b="0" lang="en-US" sz="1000" spc="-1" strike="noStrike">
                <a:solidFill>
                  <a:srgbClr val="000000"/>
                </a:solidFill>
                <a:latin typeface="Times New Roman"/>
              </a:endParaRPr>
            </a:p>
          </p:txBody>
        </p:sp>
      </p:grpSp>
      <p:sp>
        <p:nvSpPr>
          <p:cNvPr id="619" name=""/>
          <p:cNvSpPr/>
          <p:nvPr/>
        </p:nvSpPr>
        <p:spPr>
          <a:xfrm rot="18209400">
            <a:off x="2895480" y="3809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ffff"/>
              </a:gs>
              <a:gs pos="100000">
                <a:srgbClr val="ffffff"/>
              </a:gs>
            </a:gsLst>
            <a:lin ang="5400000"/>
          </a:gra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5D97D09C-4930-4257-8415-D57D4FB47DA5}" type="slidenum">
              <a:t>18</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914400" y="3333600"/>
            <a:ext cx="1066680" cy="6858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1" name=""/>
          <p:cNvSpPr/>
          <p:nvPr/>
        </p:nvSpPr>
        <p:spPr>
          <a:xfrm>
            <a:off x="914400" y="3485160"/>
            <a:ext cx="1054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rambler</a:t>
            </a:r>
            <a:endParaRPr b="0" lang="en-US" sz="1400" spc="-1" strike="noStrike">
              <a:solidFill>
                <a:srgbClr val="000000"/>
              </a:solidFill>
              <a:latin typeface="Times New Roman"/>
            </a:endParaRPr>
          </a:p>
        </p:txBody>
      </p:sp>
      <p:sp>
        <p:nvSpPr>
          <p:cNvPr id="622" name=""/>
          <p:cNvSpPr/>
          <p:nvPr/>
        </p:nvSpPr>
        <p:spPr>
          <a:xfrm>
            <a:off x="2237400" y="3408840"/>
            <a:ext cx="89244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terb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coder</a:t>
            </a:r>
            <a:endParaRPr b="0" lang="en-US" sz="1400" spc="-1" strike="noStrike">
              <a:solidFill>
                <a:srgbClr val="000000"/>
              </a:solidFill>
              <a:latin typeface="Times New Roman"/>
            </a:endParaRPr>
          </a:p>
        </p:txBody>
      </p:sp>
      <p:sp>
        <p:nvSpPr>
          <p:cNvPr id="623" name=""/>
          <p:cNvSpPr/>
          <p:nvPr/>
        </p:nvSpPr>
        <p:spPr>
          <a:xfrm>
            <a:off x="3351240" y="3485160"/>
            <a:ext cx="10843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leaver</a:t>
            </a:r>
            <a:endParaRPr b="0" lang="en-US" sz="1400" spc="-1" strike="noStrike">
              <a:solidFill>
                <a:srgbClr val="000000"/>
              </a:solidFill>
              <a:latin typeface="Times New Roman"/>
            </a:endParaRPr>
          </a:p>
        </p:txBody>
      </p:sp>
      <p:sp>
        <p:nvSpPr>
          <p:cNvPr id="624" name=""/>
          <p:cNvSpPr/>
          <p:nvPr/>
        </p:nvSpPr>
        <p:spPr>
          <a:xfrm>
            <a:off x="4570200" y="3408840"/>
            <a:ext cx="130860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tell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pper</a:t>
            </a:r>
            <a:endParaRPr b="0" lang="en-US" sz="1400" spc="-1" strike="noStrike">
              <a:solidFill>
                <a:srgbClr val="000000"/>
              </a:solidFill>
              <a:latin typeface="Times New Roman"/>
            </a:endParaRPr>
          </a:p>
        </p:txBody>
      </p:sp>
      <p:sp>
        <p:nvSpPr>
          <p:cNvPr id="625" name=""/>
          <p:cNvSpPr/>
          <p:nvPr/>
        </p:nvSpPr>
        <p:spPr>
          <a:xfrm>
            <a:off x="6020640" y="3485160"/>
            <a:ext cx="5554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FT</a:t>
            </a:r>
            <a:endParaRPr b="0" lang="en-US" sz="1400" spc="-1" strike="noStrike">
              <a:solidFill>
                <a:srgbClr val="000000"/>
              </a:solidFill>
              <a:latin typeface="Times New Roman"/>
            </a:endParaRPr>
          </a:p>
        </p:txBody>
      </p:sp>
      <p:sp>
        <p:nvSpPr>
          <p:cNvPr id="626" name=""/>
          <p:cNvSpPr/>
          <p:nvPr/>
        </p:nvSpPr>
        <p:spPr>
          <a:xfrm>
            <a:off x="6781320" y="3287880"/>
            <a:ext cx="1031040" cy="73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yclic</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nsion</a:t>
            </a:r>
            <a:endParaRPr b="0" lang="en-US" sz="1400" spc="-1" strike="noStrike">
              <a:solidFill>
                <a:srgbClr val="000000"/>
              </a:solidFill>
              <a:latin typeface="Times New Roman"/>
            </a:endParaRPr>
          </a:p>
        </p:txBody>
      </p:sp>
      <p:sp>
        <p:nvSpPr>
          <p:cNvPr id="627" name=""/>
          <p:cNvSpPr/>
          <p:nvPr/>
        </p:nvSpPr>
        <p:spPr>
          <a:xfrm>
            <a:off x="2133720" y="3333600"/>
            <a:ext cx="1066680" cy="6858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8" name=""/>
          <p:cNvSpPr/>
          <p:nvPr/>
        </p:nvSpPr>
        <p:spPr>
          <a:xfrm>
            <a:off x="3352680" y="3333600"/>
            <a:ext cx="1067040" cy="6858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9" name=""/>
          <p:cNvSpPr/>
          <p:nvPr/>
        </p:nvSpPr>
        <p:spPr>
          <a:xfrm>
            <a:off x="4572000" y="3333600"/>
            <a:ext cx="1295280" cy="6858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0" name=""/>
          <p:cNvSpPr/>
          <p:nvPr/>
        </p:nvSpPr>
        <p:spPr>
          <a:xfrm>
            <a:off x="6019920" y="3333600"/>
            <a:ext cx="609480" cy="6858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1" name=""/>
          <p:cNvSpPr/>
          <p:nvPr/>
        </p:nvSpPr>
        <p:spPr>
          <a:xfrm>
            <a:off x="6781680" y="3333600"/>
            <a:ext cx="1067040" cy="6858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2" name=""/>
          <p:cNvSpPr/>
          <p:nvPr/>
        </p:nvSpPr>
        <p:spPr>
          <a:xfrm>
            <a:off x="1981080" y="3638520"/>
            <a:ext cx="1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3200400" y="363852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4419720" y="363852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5867280" y="3638520"/>
            <a:ext cx="1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6629400" y="363852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575720" y="2647080"/>
            <a:ext cx="53607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802.11A OFDM MODULATOR BLOCK DIAGRAM</a:t>
            </a:r>
            <a:endParaRPr b="0" lang="en-US" sz="1800" spc="-1" strike="noStrike">
              <a:solidFill>
                <a:srgbClr val="000000"/>
              </a:solidFill>
              <a:latin typeface="Times New Roman"/>
            </a:endParaRPr>
          </a:p>
        </p:txBody>
      </p:sp>
      <p:sp>
        <p:nvSpPr>
          <p:cNvPr id="638" name=""/>
          <p:cNvSpPr/>
          <p:nvPr/>
        </p:nvSpPr>
        <p:spPr>
          <a:xfrm>
            <a:off x="4883040" y="4250160"/>
            <a:ext cx="2264040" cy="1691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Data Sub-Carri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0000"/>
                </a:solidFill>
                <a:uFillTx/>
                <a:latin typeface="Arial"/>
              </a:rPr>
              <a:t>Constella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BPSK:  6, 9 Mbp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QPSK:  12, 18 Mbp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16 QAM:  24, 36 Mbp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64 QAM:  48, 54 Mbps</a:t>
            </a:r>
            <a:endParaRPr b="0" lang="en-US" sz="1600" spc="-1" strike="noStrike">
              <a:solidFill>
                <a:srgbClr val="000000"/>
              </a:solidFill>
              <a:latin typeface="Times New Roman"/>
            </a:endParaRPr>
          </a:p>
        </p:txBody>
      </p:sp>
      <p:sp>
        <p:nvSpPr>
          <p:cNvPr id="639" name=""/>
          <p:cNvSpPr/>
          <p:nvPr/>
        </p:nvSpPr>
        <p:spPr>
          <a:xfrm flipV="1">
            <a:off x="5943600" y="379080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1979640" y="897480"/>
            <a:ext cx="436716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OFDM DIRECTLY EMBRAC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REQUENCY DOMAIN SIGNALING</a:t>
            </a:r>
            <a:endParaRPr b="0" lang="en-US" sz="2000" spc="-1" strike="noStrike">
              <a:solidFill>
                <a:srgbClr val="000000"/>
              </a:solidFill>
              <a:latin typeface="Times New Roman"/>
            </a:endParaRPr>
          </a:p>
        </p:txBody>
      </p:sp>
      <p:sp>
        <p:nvSpPr>
          <p:cNvPr id="641" name=""/>
          <p:cNvSpPr/>
          <p:nvPr/>
        </p:nvSpPr>
        <p:spPr>
          <a:xfrm flipH="1">
            <a:off x="7314840" y="2590920"/>
            <a:ext cx="22860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5950440" y="1981080"/>
            <a:ext cx="279144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Used to Eliminate the Ne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for IBI Equalizer</a:t>
            </a:r>
            <a:endParaRPr b="0" lang="en-US" sz="1600" spc="-1" strike="noStrike">
              <a:solidFill>
                <a:srgbClr val="000000"/>
              </a:solidFill>
              <a:latin typeface="Times New Roman"/>
            </a:endParaRPr>
          </a:p>
        </p:txBody>
      </p:sp>
      <p:sp>
        <p:nvSpPr>
          <p:cNvPr id="643" name=""/>
          <p:cNvSpPr/>
          <p:nvPr/>
        </p:nvSpPr>
        <p:spPr>
          <a:xfrm>
            <a:off x="3379680" y="4191120"/>
            <a:ext cx="1067040" cy="8380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4" name=""/>
          <p:cNvSpPr/>
          <p:nvPr/>
        </p:nvSpPr>
        <p:spPr>
          <a:xfrm>
            <a:off x="3323520" y="4281480"/>
            <a:ext cx="1172880" cy="73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PS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ilo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carriers</a:t>
            </a:r>
            <a:endParaRPr b="0" lang="en-US" sz="1400" spc="-1" strike="noStrike">
              <a:solidFill>
                <a:srgbClr val="000000"/>
              </a:solidFill>
              <a:latin typeface="Times New Roman"/>
            </a:endParaRPr>
          </a:p>
        </p:txBody>
      </p:sp>
      <p:sp>
        <p:nvSpPr>
          <p:cNvPr id="645" name=""/>
          <p:cNvSpPr/>
          <p:nvPr/>
        </p:nvSpPr>
        <p:spPr>
          <a:xfrm flipV="1">
            <a:off x="4724280" y="40384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419720" y="457200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flipH="1" flipV="1">
            <a:off x="7467480" y="4114440"/>
            <a:ext cx="15264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7161120" y="4373640"/>
            <a:ext cx="1261080" cy="733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yclicall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Extend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ub-Carriers</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FD4CE3BC-79DA-421A-B46E-A60CA54F525F}" type="slidenum">
              <a:t>19</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682080" y="1065960"/>
            <a:ext cx="17625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Overview</a:t>
            </a:r>
            <a:endParaRPr b="0" lang="en-US" sz="2800" spc="-1" strike="noStrike">
              <a:solidFill>
                <a:srgbClr val="000000"/>
              </a:solidFill>
              <a:latin typeface="Times New Roman"/>
            </a:endParaRPr>
          </a:p>
        </p:txBody>
      </p:sp>
      <p:sp>
        <p:nvSpPr>
          <p:cNvPr id="59" name=""/>
          <p:cNvSpPr/>
          <p:nvPr/>
        </p:nvSpPr>
        <p:spPr>
          <a:xfrm>
            <a:off x="1365120" y="1902240"/>
            <a:ext cx="6590160" cy="3691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xamine frequency domain modulator for 802.11</a:t>
            </a:r>
            <a:br>
              <a:rPr sz="2000"/>
            </a:br>
            <a:r>
              <a:rPr b="1" lang="en-US" sz="2000" spc="-1" strike="noStrike">
                <a:solidFill>
                  <a:srgbClr val="000000"/>
                </a:solidFill>
                <a:latin typeface="Arial"/>
              </a:rPr>
              <a:t>   1 and 2 Mbps Barker signaling.</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xamine frequency domain modulator for </a:t>
            </a:r>
            <a:br>
              <a:rPr sz="2000"/>
            </a:br>
            <a:r>
              <a:rPr b="1" lang="en-US" sz="2000" spc="-1" strike="noStrike">
                <a:solidFill>
                  <a:srgbClr val="000000"/>
                </a:solidFill>
                <a:latin typeface="Arial"/>
              </a:rPr>
              <a:t>   5.5 and 11 Mbps CCK signaling.</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xamine frequency domain modulator for </a:t>
            </a:r>
            <a:br>
              <a:rPr sz="2000"/>
            </a:br>
            <a:r>
              <a:rPr b="1" lang="en-US" sz="2000" spc="-1" strike="noStrike">
                <a:solidFill>
                  <a:srgbClr val="000000"/>
                </a:solidFill>
                <a:latin typeface="Arial"/>
              </a:rPr>
              <a:t>   5.5 and 11 Mbps PBCC signaling.</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mpare 802.11b frequency domain modulators</a:t>
            </a:r>
            <a:br>
              <a:rPr sz="2000"/>
            </a:br>
            <a:r>
              <a:rPr b="1" lang="en-US" sz="2000" spc="-1" strike="noStrike">
                <a:solidFill>
                  <a:srgbClr val="000000"/>
                </a:solidFill>
                <a:latin typeface="Arial"/>
              </a:rPr>
              <a:t>    to OFDM modulato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yclic extensions for Barker or CCK transmissions</a:t>
            </a:r>
            <a:br>
              <a:rPr sz="2000"/>
            </a:br>
            <a:r>
              <a:rPr b="1" lang="en-US" sz="2000" spc="-1" strike="noStrike">
                <a:solidFill>
                  <a:srgbClr val="000000"/>
                </a:solidFill>
                <a:latin typeface="Arial"/>
              </a:rPr>
              <a:t>   (non 802.11b variant).</a:t>
            </a:r>
            <a:endParaRPr b="0" lang="en-US" sz="2000" spc="-1" strike="noStrike">
              <a:solidFill>
                <a:srgbClr val="000000"/>
              </a:solidFill>
              <a:latin typeface="Times New Roman"/>
            </a:endParaRPr>
          </a:p>
        </p:txBody>
      </p:sp>
      <p:sp>
        <p:nvSpPr>
          <p:cNvPr id="60" name=""/>
          <p:cNvSpPr/>
          <p:nvPr/>
        </p:nvSpPr>
        <p:spPr>
          <a:xfrm>
            <a:off x="655200" y="5726160"/>
            <a:ext cx="4481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This Microsoft Powerpoint presentation has notes attach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lease expand to “Notes Page View” mode.</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0FA34329-7848-4EB3-8688-4B459E262A93}" type="slidenum">
              <a:t>2</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2151000" y="2600280"/>
            <a:ext cx="762120" cy="8571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50" name=""/>
          <p:cNvSpPr/>
          <p:nvPr/>
        </p:nvSpPr>
        <p:spPr>
          <a:xfrm>
            <a:off x="2913120" y="2600280"/>
            <a:ext cx="3962520" cy="8571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51" name=""/>
          <p:cNvSpPr/>
          <p:nvPr/>
        </p:nvSpPr>
        <p:spPr>
          <a:xfrm>
            <a:off x="2075400" y="3583440"/>
            <a:ext cx="9136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mples</a:t>
            </a:r>
            <a:endParaRPr b="0" lang="en-US" sz="1400" spc="-1" strike="noStrike">
              <a:solidFill>
                <a:srgbClr val="000000"/>
              </a:solidFill>
              <a:latin typeface="Times New Roman"/>
            </a:endParaRPr>
          </a:p>
        </p:txBody>
      </p:sp>
      <p:sp>
        <p:nvSpPr>
          <p:cNvPr id="652" name=""/>
          <p:cNvSpPr/>
          <p:nvPr/>
        </p:nvSpPr>
        <p:spPr>
          <a:xfrm>
            <a:off x="4285080" y="3583440"/>
            <a:ext cx="9136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mples</a:t>
            </a:r>
            <a:endParaRPr b="0" lang="en-US" sz="1400" spc="-1" strike="noStrike">
              <a:solidFill>
                <a:srgbClr val="000000"/>
              </a:solidFill>
              <a:latin typeface="Times New Roman"/>
            </a:endParaRPr>
          </a:p>
        </p:txBody>
      </p:sp>
      <p:sp>
        <p:nvSpPr>
          <p:cNvPr id="653" name=""/>
          <p:cNvSpPr/>
          <p:nvPr/>
        </p:nvSpPr>
        <p:spPr>
          <a:xfrm>
            <a:off x="3787920" y="2804040"/>
            <a:ext cx="14745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FFT/FFT SPAN</a:t>
            </a:r>
            <a:endParaRPr b="0" lang="en-US" sz="1400" spc="-1" strike="noStrike">
              <a:solidFill>
                <a:srgbClr val="000000"/>
              </a:solidFill>
              <a:latin typeface="Times New Roman"/>
            </a:endParaRPr>
          </a:p>
        </p:txBody>
      </p:sp>
      <p:sp>
        <p:nvSpPr>
          <p:cNvPr id="654" name=""/>
          <p:cNvSpPr/>
          <p:nvPr/>
        </p:nvSpPr>
        <p:spPr>
          <a:xfrm>
            <a:off x="2121120" y="2725920"/>
            <a:ext cx="77364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Cyclic</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Extend</a:t>
            </a:r>
            <a:endParaRPr b="0" lang="en-US" sz="1400" spc="-1" strike="noStrike">
              <a:solidFill>
                <a:srgbClr val="000000"/>
              </a:solidFill>
              <a:latin typeface="Times New Roman"/>
            </a:endParaRPr>
          </a:p>
        </p:txBody>
      </p:sp>
      <p:sp>
        <p:nvSpPr>
          <p:cNvPr id="655" name=""/>
          <p:cNvSpPr/>
          <p:nvPr/>
        </p:nvSpPr>
        <p:spPr>
          <a:xfrm>
            <a:off x="2151000" y="3600360"/>
            <a:ext cx="762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2913120" y="3600360"/>
            <a:ext cx="3962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2151000" y="2457360"/>
            <a:ext cx="4724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408120" y="2161080"/>
            <a:ext cx="2151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usecs OFDM Symbol</a:t>
            </a:r>
            <a:endParaRPr b="0" lang="en-US" sz="1400" spc="-1" strike="noStrike">
              <a:solidFill>
                <a:srgbClr val="000000"/>
              </a:solidFill>
              <a:latin typeface="Times New Roman"/>
            </a:endParaRPr>
          </a:p>
        </p:txBody>
      </p:sp>
      <p:sp>
        <p:nvSpPr>
          <p:cNvPr id="659" name=""/>
          <p:cNvSpPr/>
          <p:nvPr/>
        </p:nvSpPr>
        <p:spPr>
          <a:xfrm>
            <a:off x="1998720" y="5958000"/>
            <a:ext cx="4724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V="1">
            <a:off x="2303640" y="502920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V="1">
            <a:off x="2455920" y="502920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V="1">
            <a:off x="2608200" y="502920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V="1">
            <a:off x="2760840" y="502920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V="1">
            <a:off x="2913120" y="502920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V="1">
            <a:off x="3065400" y="502920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flipV="1">
            <a:off x="3218040" y="502920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V="1">
            <a:off x="3370320" y="502920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V="1">
            <a:off x="3522600" y="502920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V="1">
            <a:off x="3675240" y="502920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flipV="1">
            <a:off x="3827520" y="502920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V="1">
            <a:off x="3979800" y="502920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flipV="1">
            <a:off x="4132440" y="502920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flipV="1">
            <a:off x="4284720" y="502920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4437000" y="502920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V="1">
            <a:off x="4589640" y="502920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V="1">
            <a:off x="4741920" y="502920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V="1">
            <a:off x="4894200" y="502920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flipV="1">
            <a:off x="5046840" y="502920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V="1">
            <a:off x="5199120" y="502920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V="1">
            <a:off x="5808600" y="502920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flipV="1">
            <a:off x="5961240" y="502920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flipV="1">
            <a:off x="6113520" y="502920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flipV="1">
            <a:off x="6265800" y="502920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V="1">
            <a:off x="6418440" y="502920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3370320" y="481500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522600" y="481500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3522240" y="4886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141720" y="4886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725280" y="4732920"/>
            <a:ext cx="22395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Arial"/>
              </a:rPr>
              <a:t>312.5 KHz Tone Spacing</a:t>
            </a:r>
            <a:endParaRPr b="0" lang="en-US" sz="1400" spc="-1" strike="noStrike">
              <a:solidFill>
                <a:srgbClr val="000000"/>
              </a:solidFill>
              <a:latin typeface="Times New Roman"/>
            </a:endParaRPr>
          </a:p>
        </p:txBody>
      </p:sp>
      <p:sp>
        <p:nvSpPr>
          <p:cNvPr id="690" name=""/>
          <p:cNvSpPr/>
          <p:nvPr/>
        </p:nvSpPr>
        <p:spPr>
          <a:xfrm>
            <a:off x="1066320" y="5197680"/>
            <a:ext cx="11728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5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Subcarriers</a:t>
            </a:r>
            <a:endParaRPr b="0" lang="en-US" sz="1400" spc="-1" strike="noStrike">
              <a:solidFill>
                <a:srgbClr val="000000"/>
              </a:solidFill>
              <a:latin typeface="Times New Roman"/>
            </a:endParaRPr>
          </a:p>
        </p:txBody>
      </p:sp>
      <p:sp>
        <p:nvSpPr>
          <p:cNvPr id="691" name=""/>
          <p:cNvSpPr/>
          <p:nvPr/>
        </p:nvSpPr>
        <p:spPr>
          <a:xfrm>
            <a:off x="5198400" y="5259960"/>
            <a:ext cx="5313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 .</a:t>
            </a:r>
            <a:endParaRPr b="0" lang="en-US" sz="2000" spc="-1" strike="noStrike">
              <a:solidFill>
                <a:srgbClr val="000000"/>
              </a:solidFill>
              <a:latin typeface="Times New Roman"/>
            </a:endParaRPr>
          </a:p>
        </p:txBody>
      </p:sp>
      <p:sp>
        <p:nvSpPr>
          <p:cNvPr id="692" name=""/>
          <p:cNvSpPr/>
          <p:nvPr/>
        </p:nvSpPr>
        <p:spPr>
          <a:xfrm>
            <a:off x="5903640" y="6018840"/>
            <a:ext cx="1031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frequency</a:t>
            </a:r>
            <a:endParaRPr b="0" lang="en-US" sz="1400" spc="-1" strike="noStrike">
              <a:solidFill>
                <a:srgbClr val="000000"/>
              </a:solidFill>
              <a:latin typeface="Times New Roman"/>
            </a:endParaRPr>
          </a:p>
        </p:txBody>
      </p:sp>
      <p:sp>
        <p:nvSpPr>
          <p:cNvPr id="693" name=""/>
          <p:cNvSpPr/>
          <p:nvPr/>
        </p:nvSpPr>
        <p:spPr>
          <a:xfrm>
            <a:off x="6190200" y="3661200"/>
            <a:ext cx="547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cc0000"/>
                </a:solidFill>
                <a:latin typeface="Arial"/>
              </a:rPr>
              <a:t>time</a:t>
            </a:r>
            <a:endParaRPr b="0" lang="en-US" sz="1400" spc="-1" strike="noStrike">
              <a:solidFill>
                <a:srgbClr val="000000"/>
              </a:solidFill>
              <a:latin typeface="Times New Roman"/>
            </a:endParaRPr>
          </a:p>
        </p:txBody>
      </p:sp>
      <p:sp>
        <p:nvSpPr>
          <p:cNvPr id="694" name=""/>
          <p:cNvSpPr/>
          <p:nvPr/>
        </p:nvSpPr>
        <p:spPr>
          <a:xfrm>
            <a:off x="2473200" y="883440"/>
            <a:ext cx="39924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802.11a OFDM Symbol</a:t>
            </a:r>
            <a:endParaRPr b="0" lang="en-US" sz="2800" spc="-1" strike="noStrike">
              <a:solidFill>
                <a:srgbClr val="000000"/>
              </a:solidFill>
              <a:latin typeface="Times New Roman"/>
            </a:endParaRPr>
          </a:p>
        </p:txBody>
      </p:sp>
      <p:sp>
        <p:nvSpPr>
          <p:cNvPr id="695" name=""/>
          <p:cNvSpPr/>
          <p:nvPr/>
        </p:nvSpPr>
        <p:spPr>
          <a:xfrm>
            <a:off x="543240" y="1946880"/>
            <a:ext cx="28141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rPr>
              <a:t>20 MHz x 4 usecs = 80 samples</a:t>
            </a:r>
            <a:endParaRPr b="0" lang="en-US" sz="1400" spc="-1" strike="noStrike">
              <a:solidFill>
                <a:srgbClr val="000000"/>
              </a:solidFill>
              <a:latin typeface="Times New Roman"/>
            </a:endParaRPr>
          </a:p>
        </p:txBody>
      </p:sp>
      <p:sp>
        <p:nvSpPr>
          <p:cNvPr id="696" name=""/>
          <p:cNvSpPr/>
          <p:nvPr/>
        </p:nvSpPr>
        <p:spPr>
          <a:xfrm flipV="1">
            <a:off x="2303640" y="4457520"/>
            <a:ext cx="0" cy="50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V="1">
            <a:off x="6418440" y="4457520"/>
            <a:ext cx="0" cy="50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3653280" y="4447080"/>
            <a:ext cx="11469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Arial"/>
              </a:rPr>
              <a:t>~16.25 MHz</a:t>
            </a:r>
            <a:endParaRPr b="0" lang="en-US" sz="1400" spc="-1" strike="noStrike">
              <a:solidFill>
                <a:srgbClr val="000000"/>
              </a:solidFill>
              <a:latin typeface="Times New Roman"/>
            </a:endParaRPr>
          </a:p>
        </p:txBody>
      </p:sp>
      <p:sp>
        <p:nvSpPr>
          <p:cNvPr id="699" name=""/>
          <p:cNvSpPr/>
          <p:nvPr/>
        </p:nvSpPr>
        <p:spPr>
          <a:xfrm>
            <a:off x="4818240" y="460044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flipH="1">
            <a:off x="2303640" y="460044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rot="7458600">
            <a:off x="6590520" y="2324160"/>
            <a:ext cx="1143000" cy="762120"/>
          </a:xfrm>
          <a:custGeom>
            <a:avLst/>
            <a:gdLst>
              <a:gd name="textAreaLeft" fmla="*/ 178560 w 1143000"/>
              <a:gd name="textAreaRight" fmla="*/ 1000440 w 11430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757575"/>
              </a:gs>
            </a:gsLst>
            <a:lin ang="54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02" name=""/>
          <p:cNvSpPr/>
          <p:nvPr/>
        </p:nvSpPr>
        <p:spPr>
          <a:xfrm>
            <a:off x="6627600" y="1461960"/>
            <a:ext cx="20703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Equivalent t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64 Chip Codewords</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D5262280-D8EF-4CD8-A462-A3B704E6AC74}" type="slidenum">
              <a:t>20</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2215080" y="671040"/>
            <a:ext cx="454716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yclic Extensions Can B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Used on Any Codeword</a:t>
            </a:r>
            <a:endParaRPr b="0" lang="en-US" sz="2800" spc="-1" strike="noStrike">
              <a:solidFill>
                <a:srgbClr val="000000"/>
              </a:solidFill>
              <a:latin typeface="Times New Roman"/>
            </a:endParaRPr>
          </a:p>
        </p:txBody>
      </p:sp>
      <p:sp>
        <p:nvSpPr>
          <p:cNvPr id="704" name=""/>
          <p:cNvSpPr/>
          <p:nvPr/>
        </p:nvSpPr>
        <p:spPr>
          <a:xfrm>
            <a:off x="2395440" y="2057400"/>
            <a:ext cx="228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05" name=""/>
          <p:cNvSpPr/>
          <p:nvPr/>
        </p:nvSpPr>
        <p:spPr>
          <a:xfrm>
            <a:off x="2624040" y="2514600"/>
            <a:ext cx="228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06" name=""/>
          <p:cNvSpPr/>
          <p:nvPr/>
        </p:nvSpPr>
        <p:spPr>
          <a:xfrm>
            <a:off x="2852640" y="2057400"/>
            <a:ext cx="228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07" name=""/>
          <p:cNvSpPr/>
          <p:nvPr/>
        </p:nvSpPr>
        <p:spPr>
          <a:xfrm>
            <a:off x="3081240" y="2057400"/>
            <a:ext cx="228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08" name=""/>
          <p:cNvSpPr/>
          <p:nvPr/>
        </p:nvSpPr>
        <p:spPr>
          <a:xfrm>
            <a:off x="3309840" y="2514600"/>
            <a:ext cx="228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09" name=""/>
          <p:cNvSpPr/>
          <p:nvPr/>
        </p:nvSpPr>
        <p:spPr>
          <a:xfrm>
            <a:off x="3538440" y="2057400"/>
            <a:ext cx="228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10" name=""/>
          <p:cNvSpPr/>
          <p:nvPr/>
        </p:nvSpPr>
        <p:spPr>
          <a:xfrm>
            <a:off x="3767040" y="2057400"/>
            <a:ext cx="228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11" name=""/>
          <p:cNvSpPr/>
          <p:nvPr/>
        </p:nvSpPr>
        <p:spPr>
          <a:xfrm>
            <a:off x="3995640" y="2057400"/>
            <a:ext cx="228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12" name=""/>
          <p:cNvSpPr/>
          <p:nvPr/>
        </p:nvSpPr>
        <p:spPr>
          <a:xfrm>
            <a:off x="4224240" y="2514600"/>
            <a:ext cx="228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13" name=""/>
          <p:cNvSpPr/>
          <p:nvPr/>
        </p:nvSpPr>
        <p:spPr>
          <a:xfrm>
            <a:off x="4452840" y="2514600"/>
            <a:ext cx="228600" cy="45720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14" name=""/>
          <p:cNvSpPr/>
          <p:nvPr/>
        </p:nvSpPr>
        <p:spPr>
          <a:xfrm>
            <a:off x="4681440" y="2514600"/>
            <a:ext cx="228600" cy="457200"/>
          </a:xfrm>
          <a:prstGeom prst="rect">
            <a:avLst/>
          </a:prstGeom>
          <a:blipFill rotWithShape="0">
            <a:blip r:embed="rId2"/>
            <a:srcRect/>
            <a:tile tx="0" ty="0" sx="100000" sy="100000" algn="ctr"/>
          </a:blip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15" name=""/>
          <p:cNvSpPr/>
          <p:nvPr/>
        </p:nvSpPr>
        <p:spPr>
          <a:xfrm>
            <a:off x="2395440" y="4191120"/>
            <a:ext cx="228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16" name=""/>
          <p:cNvSpPr/>
          <p:nvPr/>
        </p:nvSpPr>
        <p:spPr>
          <a:xfrm>
            <a:off x="2624040" y="4648320"/>
            <a:ext cx="228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17" name=""/>
          <p:cNvSpPr/>
          <p:nvPr/>
        </p:nvSpPr>
        <p:spPr>
          <a:xfrm>
            <a:off x="2852640" y="4191120"/>
            <a:ext cx="228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18" name=""/>
          <p:cNvSpPr/>
          <p:nvPr/>
        </p:nvSpPr>
        <p:spPr>
          <a:xfrm>
            <a:off x="3081240" y="4191120"/>
            <a:ext cx="228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19" name=""/>
          <p:cNvSpPr/>
          <p:nvPr/>
        </p:nvSpPr>
        <p:spPr>
          <a:xfrm>
            <a:off x="3309840" y="4648320"/>
            <a:ext cx="228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0" name=""/>
          <p:cNvSpPr/>
          <p:nvPr/>
        </p:nvSpPr>
        <p:spPr>
          <a:xfrm>
            <a:off x="3538440" y="4191120"/>
            <a:ext cx="228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1" name=""/>
          <p:cNvSpPr/>
          <p:nvPr/>
        </p:nvSpPr>
        <p:spPr>
          <a:xfrm>
            <a:off x="3767040" y="4191120"/>
            <a:ext cx="228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2" name=""/>
          <p:cNvSpPr/>
          <p:nvPr/>
        </p:nvSpPr>
        <p:spPr>
          <a:xfrm>
            <a:off x="3995640" y="4191120"/>
            <a:ext cx="228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3" name=""/>
          <p:cNvSpPr/>
          <p:nvPr/>
        </p:nvSpPr>
        <p:spPr>
          <a:xfrm>
            <a:off x="4224240" y="4648320"/>
            <a:ext cx="22860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4" name=""/>
          <p:cNvSpPr/>
          <p:nvPr/>
        </p:nvSpPr>
        <p:spPr>
          <a:xfrm>
            <a:off x="4452840" y="4648320"/>
            <a:ext cx="228600" cy="457200"/>
          </a:xfrm>
          <a:prstGeom prst="rect">
            <a:avLst/>
          </a:prstGeom>
          <a:blipFill rotWithShape="0">
            <a:blip r:embed="rId3"/>
            <a:srcRect/>
            <a:tile tx="0" ty="0" sx="100000" sy="100000" algn="ctr"/>
          </a:blip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5" name=""/>
          <p:cNvSpPr/>
          <p:nvPr/>
        </p:nvSpPr>
        <p:spPr>
          <a:xfrm>
            <a:off x="4681440" y="4648320"/>
            <a:ext cx="228600" cy="457200"/>
          </a:xfrm>
          <a:prstGeom prst="rect">
            <a:avLst/>
          </a:prstGeom>
          <a:blipFill rotWithShape="0">
            <a:blip r:embed="rId4"/>
            <a:srcRect/>
            <a:tile tx="0" ty="0" sx="100000" sy="100000" algn="ctr"/>
          </a:blip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6" name=""/>
          <p:cNvSpPr/>
          <p:nvPr/>
        </p:nvSpPr>
        <p:spPr>
          <a:xfrm>
            <a:off x="1938240" y="4648320"/>
            <a:ext cx="228600" cy="45720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7" name=""/>
          <p:cNvSpPr/>
          <p:nvPr/>
        </p:nvSpPr>
        <p:spPr>
          <a:xfrm>
            <a:off x="2166840" y="4648320"/>
            <a:ext cx="228600" cy="45720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8" name=""/>
          <p:cNvSpPr/>
          <p:nvPr/>
        </p:nvSpPr>
        <p:spPr>
          <a:xfrm>
            <a:off x="1938240" y="4648320"/>
            <a:ext cx="228600" cy="457200"/>
          </a:xfrm>
          <a:prstGeom prst="rect">
            <a:avLst/>
          </a:prstGeom>
          <a:blipFill rotWithShape="0">
            <a:blip r:embed="rId7"/>
            <a:srcRect/>
            <a:tile tx="0" ty="0" sx="100000" sy="100000" algn="ctr"/>
          </a:blip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9" name=""/>
          <p:cNvSpPr/>
          <p:nvPr/>
        </p:nvSpPr>
        <p:spPr>
          <a:xfrm>
            <a:off x="2166840" y="4648320"/>
            <a:ext cx="228600" cy="457200"/>
          </a:xfrm>
          <a:prstGeom prst="rect">
            <a:avLst/>
          </a:prstGeom>
          <a:blipFill rotWithShape="0">
            <a:blip r:embed="rId8"/>
            <a:srcRect/>
            <a:tile tx="0" ty="0" sx="100000" sy="100000" algn="ctr"/>
          </a:blip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30" name=""/>
          <p:cNvSpPr/>
          <p:nvPr/>
        </p:nvSpPr>
        <p:spPr>
          <a:xfrm>
            <a:off x="458280" y="2026800"/>
            <a:ext cx="129924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rigin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deword</a:t>
            </a:r>
            <a:endParaRPr b="0" lang="en-US" sz="1800" spc="-1" strike="noStrike">
              <a:solidFill>
                <a:srgbClr val="000000"/>
              </a:solidFill>
              <a:latin typeface="Times New Roman"/>
            </a:endParaRPr>
          </a:p>
        </p:txBody>
      </p:sp>
      <p:sp>
        <p:nvSpPr>
          <p:cNvPr id="731" name=""/>
          <p:cNvSpPr/>
          <p:nvPr/>
        </p:nvSpPr>
        <p:spPr>
          <a:xfrm>
            <a:off x="492840" y="4128840"/>
            <a:ext cx="131004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yclical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Extend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deword</a:t>
            </a:r>
            <a:endParaRPr b="0" lang="en-US" sz="1800" spc="-1" strike="noStrike">
              <a:solidFill>
                <a:srgbClr val="000000"/>
              </a:solidFill>
              <a:latin typeface="Times New Roman"/>
            </a:endParaRPr>
          </a:p>
        </p:txBody>
      </p:sp>
      <p:sp>
        <p:nvSpPr>
          <p:cNvPr id="732" name=""/>
          <p:cNvSpPr/>
          <p:nvPr/>
        </p:nvSpPr>
        <p:spPr>
          <a:xfrm>
            <a:off x="2335320" y="1767600"/>
            <a:ext cx="26557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2   3    4   5   6   7    8   9   </a:t>
            </a:r>
            <a:r>
              <a:rPr b="1" lang="en-US" sz="1200" spc="-1" strike="noStrike">
                <a:solidFill>
                  <a:srgbClr val="3333cc"/>
                </a:solidFill>
                <a:latin typeface="Arial"/>
              </a:rPr>
              <a:t>10  11</a:t>
            </a:r>
            <a:endParaRPr b="0" lang="en-US" sz="1200" spc="-1" strike="noStrike">
              <a:solidFill>
                <a:srgbClr val="000000"/>
              </a:solidFill>
              <a:latin typeface="Times New Roman"/>
            </a:endParaRPr>
          </a:p>
        </p:txBody>
      </p:sp>
      <p:sp>
        <p:nvSpPr>
          <p:cNvPr id="733" name=""/>
          <p:cNvSpPr/>
          <p:nvPr/>
        </p:nvSpPr>
        <p:spPr>
          <a:xfrm>
            <a:off x="1823760" y="3915720"/>
            <a:ext cx="31676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0  11</a:t>
            </a:r>
            <a:r>
              <a:rPr b="1" lang="en-US" sz="1200" spc="-1" strike="noStrike">
                <a:solidFill>
                  <a:srgbClr val="000000"/>
                </a:solidFill>
                <a:latin typeface="Arial"/>
              </a:rPr>
              <a:t>  1    2   3    4   5   6   7    8   9   10  11</a:t>
            </a:r>
            <a:endParaRPr b="0" lang="en-US" sz="1200" spc="-1" strike="noStrike">
              <a:solidFill>
                <a:srgbClr val="000000"/>
              </a:solidFill>
              <a:latin typeface="Times New Roman"/>
            </a:endParaRPr>
          </a:p>
        </p:txBody>
      </p:sp>
      <p:sp>
        <p:nvSpPr>
          <p:cNvPr id="734" name=""/>
          <p:cNvSpPr/>
          <p:nvPr/>
        </p:nvSpPr>
        <p:spPr>
          <a:xfrm flipH="1">
            <a:off x="1751760" y="5334120"/>
            <a:ext cx="2971800" cy="609480"/>
          </a:xfrm>
          <a:custGeom>
            <a:avLst/>
            <a:gdLst>
              <a:gd name="textAreaLeft" fmla="*/ 519840 w 2971800"/>
              <a:gd name="textAreaRight" fmla="*/ 2154600 w 2971800"/>
              <a:gd name="textAreaTop" fmla="*/ 81360 h 609480"/>
              <a:gd name="textAreaBottom" fmla="*/ 528120 h 6094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gradFill rotWithShape="0">
            <a:gsLst>
              <a:gs pos="0">
                <a:srgbClr val="ffffff"/>
              </a:gs>
              <a:gs pos="100000">
                <a:srgbClr val="00cc99"/>
              </a:gs>
            </a:gsLst>
            <a:lin ang="108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735" name="" descr=""/>
          <p:cNvPicPr/>
          <p:nvPr/>
        </p:nvPicPr>
        <p:blipFill>
          <a:blip r:embed="rId9"/>
          <a:stretch/>
        </p:blipFill>
        <p:spPr>
          <a:xfrm>
            <a:off x="5486400" y="3141720"/>
            <a:ext cx="3200400" cy="2344680"/>
          </a:xfrm>
          <a:prstGeom prst="rect">
            <a:avLst/>
          </a:prstGeom>
          <a:ln w="0">
            <a:noFill/>
          </a:ln>
        </p:spPr>
      </p:pic>
      <p:sp>
        <p:nvSpPr>
          <p:cNvPr id="736" name=""/>
          <p:cNvSpPr/>
          <p:nvPr/>
        </p:nvSpPr>
        <p:spPr>
          <a:xfrm>
            <a:off x="5872320" y="2438280"/>
            <a:ext cx="217404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Smoothly Extend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Sub-Carriers in Time</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8C1EB3C3-287B-4804-8202-A165FA30A54E}" type="slidenum">
              <a:t>21</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
          <p:cNvSpPr/>
          <p:nvPr/>
        </p:nvSpPr>
        <p:spPr>
          <a:xfrm>
            <a:off x="3665160" y="761400"/>
            <a:ext cx="17992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Summary</a:t>
            </a:r>
            <a:endParaRPr b="0" lang="en-US" sz="2800" spc="-1" strike="noStrike">
              <a:solidFill>
                <a:srgbClr val="000000"/>
              </a:solidFill>
              <a:latin typeface="Times New Roman"/>
            </a:endParaRPr>
          </a:p>
        </p:txBody>
      </p:sp>
      <p:sp>
        <p:nvSpPr>
          <p:cNvPr id="738" name=""/>
          <p:cNvSpPr/>
          <p:nvPr/>
        </p:nvSpPr>
        <p:spPr>
          <a:xfrm>
            <a:off x="829800" y="1583280"/>
            <a:ext cx="754164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 and 2 DSSS Barker code modulation is actually OFDM </a:t>
            </a:r>
            <a:br>
              <a:rPr sz="2000"/>
            </a:br>
            <a:r>
              <a:rPr b="1" lang="en-US" sz="2000" spc="-1" strike="noStrike">
                <a:solidFill>
                  <a:srgbClr val="000000"/>
                </a:solidFill>
                <a:latin typeface="Arial"/>
              </a:rPr>
              <a:t>    with 11 sub-carriers.  Each sub-carrier uses phase-tilted </a:t>
            </a:r>
            <a:br>
              <a:rPr sz="2000"/>
            </a:br>
            <a:r>
              <a:rPr b="1" lang="en-US" sz="2000" spc="-1" strike="noStrike">
                <a:solidFill>
                  <a:srgbClr val="000000"/>
                </a:solidFill>
                <a:latin typeface="Arial"/>
              </a:rPr>
              <a:t>   QPSK.  All sub-carriers are equal amplitude, but the center.</a:t>
            </a:r>
            <a:endParaRPr b="0" lang="en-US" sz="2000" spc="-1" strike="noStrike">
              <a:solidFill>
                <a:srgbClr val="000000"/>
              </a:solidFill>
              <a:latin typeface="Times New Roman"/>
            </a:endParaRPr>
          </a:p>
        </p:txBody>
      </p:sp>
      <p:sp>
        <p:nvSpPr>
          <p:cNvPr id="739" name=""/>
          <p:cNvSpPr/>
          <p:nvPr/>
        </p:nvSpPr>
        <p:spPr>
          <a:xfrm>
            <a:off x="828720" y="2710440"/>
            <a:ext cx="733284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802.11b 5.5 Mbps CCK is actually OFDM with 8 sub-</a:t>
            </a:r>
            <a:br>
              <a:rPr sz="2000"/>
            </a:br>
            <a:r>
              <a:rPr b="1" lang="en-US" sz="2000" spc="-1" strike="noStrike">
                <a:solidFill>
                  <a:srgbClr val="000000"/>
                </a:solidFill>
                <a:latin typeface="Arial"/>
              </a:rPr>
              <a:t>   carriers.  Two sub-carriers carry QPSK.  Two sub-carriers</a:t>
            </a:r>
            <a:br>
              <a:rPr sz="2000"/>
            </a:br>
            <a:r>
              <a:rPr b="1" lang="en-US" sz="2000" spc="-1" strike="noStrike">
                <a:solidFill>
                  <a:srgbClr val="000000"/>
                </a:solidFill>
                <a:latin typeface="Arial"/>
              </a:rPr>
              <a:t>   carry 5 QAM.  Four sub-carriers carry 8 QAM.</a:t>
            </a:r>
            <a:endParaRPr b="0" lang="en-US" sz="2000" spc="-1" strike="noStrike">
              <a:solidFill>
                <a:srgbClr val="000000"/>
              </a:solidFill>
              <a:latin typeface="Times New Roman"/>
            </a:endParaRPr>
          </a:p>
        </p:txBody>
      </p:sp>
      <p:sp>
        <p:nvSpPr>
          <p:cNvPr id="740" name=""/>
          <p:cNvSpPr/>
          <p:nvPr/>
        </p:nvSpPr>
        <p:spPr>
          <a:xfrm>
            <a:off x="828000" y="3869280"/>
            <a:ext cx="753084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802.11b 11 Mbps CCK is actually OFDM with 8 sub-</a:t>
            </a:r>
            <a:br>
              <a:rPr sz="2000"/>
            </a:br>
            <a:r>
              <a:rPr b="1" lang="en-US" sz="2000" spc="-1" strike="noStrike">
                <a:solidFill>
                  <a:srgbClr val="000000"/>
                </a:solidFill>
                <a:latin typeface="Arial"/>
              </a:rPr>
              <a:t>   carriers.  Four sub-carriers carry 9 QAM.  Four sub-carriers</a:t>
            </a:r>
            <a:br>
              <a:rPr sz="2000"/>
            </a:br>
            <a:r>
              <a:rPr b="1" lang="en-US" sz="2000" spc="-1" strike="noStrike">
                <a:solidFill>
                  <a:srgbClr val="000000"/>
                </a:solidFill>
                <a:latin typeface="Arial"/>
              </a:rPr>
              <a:t>   carry 24 QAM.</a:t>
            </a:r>
            <a:endParaRPr b="0" lang="en-US" sz="2000" spc="-1" strike="noStrike">
              <a:solidFill>
                <a:srgbClr val="000000"/>
              </a:solidFill>
              <a:latin typeface="Times New Roman"/>
            </a:endParaRPr>
          </a:p>
        </p:txBody>
      </p:sp>
      <p:sp>
        <p:nvSpPr>
          <p:cNvPr id="741" name=""/>
          <p:cNvSpPr/>
          <p:nvPr/>
        </p:nvSpPr>
        <p:spPr>
          <a:xfrm>
            <a:off x="827640" y="5012280"/>
            <a:ext cx="679644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yclic extensions can be added to all these signals</a:t>
            </a:r>
            <a:br>
              <a:rPr sz="2000"/>
            </a:br>
            <a:r>
              <a:rPr b="1" lang="en-US" sz="2000" spc="-1" strike="noStrike">
                <a:solidFill>
                  <a:srgbClr val="000000"/>
                </a:solidFill>
                <a:latin typeface="Arial"/>
              </a:rPr>
              <a:t>   to eliminate the need for inter-block interference (IBI)</a:t>
            </a:r>
            <a:br>
              <a:rPr sz="2000"/>
            </a:br>
            <a:r>
              <a:rPr b="1" lang="en-US" sz="2000" spc="-1" strike="noStrike">
                <a:solidFill>
                  <a:srgbClr val="000000"/>
                </a:solidFill>
                <a:latin typeface="Arial"/>
              </a:rPr>
              <a:t>   equalization.</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B640D921-DD36-4A95-B45F-2F03484AEA0A}" type="slidenum">
              <a:t>22</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1913400" y="837720"/>
            <a:ext cx="519156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1 and 2 Mbps BARKER Mod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Time Domain Modulator</a:t>
            </a:r>
            <a:endParaRPr b="0" lang="en-US" sz="2800" spc="-1" strike="noStrike">
              <a:solidFill>
                <a:srgbClr val="000000"/>
              </a:solidFill>
              <a:latin typeface="Times New Roman"/>
            </a:endParaRPr>
          </a:p>
        </p:txBody>
      </p:sp>
      <p:sp>
        <p:nvSpPr>
          <p:cNvPr id="62" name=""/>
          <p:cNvSpPr/>
          <p:nvPr/>
        </p:nvSpPr>
        <p:spPr>
          <a:xfrm>
            <a:off x="777960" y="3117960"/>
            <a:ext cx="13716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149560" y="3346560"/>
            <a:ext cx="13716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25320" y="3346560"/>
            <a:ext cx="31244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359240" y="3117960"/>
            <a:ext cx="380880" cy="380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825720" y="4260960"/>
            <a:ext cx="15264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3978360" y="448956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4130640" y="426096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4282920" y="4260960"/>
            <a:ext cx="15264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4435560" y="448956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4587840" y="426096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4740120" y="4260960"/>
            <a:ext cx="15264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4892760" y="426096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5045040" y="448956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5197320" y="4489560"/>
            <a:ext cx="15264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5349960" y="448956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3597120" y="4489560"/>
            <a:ext cx="2057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06320" y="2558880"/>
            <a:ext cx="15476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Mbps:  BPS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 Mbps:  QPSK</a:t>
            </a:r>
            <a:endParaRPr b="0" lang="en-US" sz="1600" spc="-1" strike="noStrike">
              <a:solidFill>
                <a:srgbClr val="000000"/>
              </a:solidFill>
              <a:latin typeface="Times New Roman"/>
            </a:endParaRPr>
          </a:p>
        </p:txBody>
      </p:sp>
      <p:sp>
        <p:nvSpPr>
          <p:cNvPr id="79" name=""/>
          <p:cNvSpPr/>
          <p:nvPr/>
        </p:nvSpPr>
        <p:spPr>
          <a:xfrm>
            <a:off x="3978360" y="3117960"/>
            <a:ext cx="380880" cy="380880"/>
          </a:xfrm>
          <a:prstGeom prst="rightArrow">
            <a:avLst>
              <a:gd name="adj1" fmla="val 50000"/>
              <a:gd name="adj2"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36040" y="338292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p:txBody>
      </p:sp>
      <p:sp>
        <p:nvSpPr>
          <p:cNvPr id="81" name=""/>
          <p:cNvSpPr/>
          <p:nvPr/>
        </p:nvSpPr>
        <p:spPr>
          <a:xfrm>
            <a:off x="5565240" y="452592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p:txBody>
      </p:sp>
      <p:sp>
        <p:nvSpPr>
          <p:cNvPr id="82" name=""/>
          <p:cNvSpPr/>
          <p:nvPr/>
        </p:nvSpPr>
        <p:spPr>
          <a:xfrm>
            <a:off x="4359240" y="3498840"/>
            <a:ext cx="380880" cy="380880"/>
          </a:xfrm>
          <a:prstGeom prst="upArrow">
            <a:avLst>
              <a:gd name="adj1" fmla="val 50000"/>
              <a:gd name="adj2"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435560" y="3193920"/>
            <a:ext cx="2286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4435560" y="3193560"/>
            <a:ext cx="2286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5" name="" descr=""/>
          <p:cNvPicPr/>
          <p:nvPr/>
        </p:nvPicPr>
        <p:blipFill>
          <a:blip r:embed="rId1"/>
          <a:stretch/>
        </p:blipFill>
        <p:spPr>
          <a:xfrm>
            <a:off x="533520" y="3886200"/>
            <a:ext cx="2971800" cy="2225520"/>
          </a:xfrm>
          <a:prstGeom prst="rect">
            <a:avLst/>
          </a:prstGeom>
          <a:ln w="0">
            <a:noFill/>
          </a:ln>
        </p:spPr>
      </p:pic>
      <p:sp>
        <p:nvSpPr>
          <p:cNvPr id="86" name=""/>
          <p:cNvSpPr/>
          <p:nvPr/>
        </p:nvSpPr>
        <p:spPr>
          <a:xfrm>
            <a:off x="4724280" y="3124080"/>
            <a:ext cx="381240" cy="381240"/>
          </a:xfrm>
          <a:prstGeom prst="rightArrow">
            <a:avLst>
              <a:gd name="adj1" fmla="val 50000"/>
              <a:gd name="adj2"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 name="" descr=""/>
          <p:cNvPicPr/>
          <p:nvPr/>
        </p:nvPicPr>
        <p:blipFill>
          <a:blip r:embed="rId2"/>
          <a:stretch/>
        </p:blipFill>
        <p:spPr>
          <a:xfrm>
            <a:off x="5562720" y="1941480"/>
            <a:ext cx="3047760" cy="2325600"/>
          </a:xfrm>
          <a:prstGeom prst="rect">
            <a:avLst/>
          </a:prstGeom>
          <a:ln w="0">
            <a:noFill/>
          </a:ln>
        </p:spPr>
      </p:pic>
      <p:sp>
        <p:nvSpPr>
          <p:cNvPr id="88" name=""/>
          <p:cNvSpPr/>
          <p:nvPr/>
        </p:nvSpPr>
        <p:spPr>
          <a:xfrm>
            <a:off x="3963600" y="2400480"/>
            <a:ext cx="1521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Time Doma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Multiply</a:t>
            </a:r>
            <a:endParaRPr b="0" lang="en-US" sz="1800" spc="-1" strike="noStrike">
              <a:solidFill>
                <a:srgbClr val="000000"/>
              </a:solidFill>
              <a:latin typeface="Times New Roman"/>
            </a:endParaRPr>
          </a:p>
        </p:txBody>
      </p:sp>
      <p:sp>
        <p:nvSpPr>
          <p:cNvPr id="89" name=""/>
          <p:cNvSpPr/>
          <p:nvPr/>
        </p:nvSpPr>
        <p:spPr>
          <a:xfrm>
            <a:off x="3584880" y="5535720"/>
            <a:ext cx="15994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Narro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Sinc Spectrum</a:t>
            </a:r>
            <a:endParaRPr b="0" lang="en-US" sz="1600" spc="-1" strike="noStrike">
              <a:solidFill>
                <a:srgbClr val="000000"/>
              </a:solidFill>
              <a:latin typeface="Times New Roman"/>
            </a:endParaRPr>
          </a:p>
        </p:txBody>
      </p:sp>
      <p:sp>
        <p:nvSpPr>
          <p:cNvPr id="90" name=""/>
          <p:cNvSpPr/>
          <p:nvPr/>
        </p:nvSpPr>
        <p:spPr>
          <a:xfrm>
            <a:off x="7007400" y="4343400"/>
            <a:ext cx="15994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Wi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Sinc Spectrum</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44BC83B7-2D92-4440-9498-CF951E07DD33}" type="slidenum">
              <a:t>3</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5029200" y="2743200"/>
            <a:ext cx="3657600" cy="2981160"/>
          </a:xfrm>
          <a:prstGeom prst="rect">
            <a:avLst/>
          </a:prstGeom>
          <a:ln w="0">
            <a:noFill/>
          </a:ln>
        </p:spPr>
      </p:pic>
      <p:sp>
        <p:nvSpPr>
          <p:cNvPr id="92" name=""/>
          <p:cNvSpPr/>
          <p:nvPr/>
        </p:nvSpPr>
        <p:spPr>
          <a:xfrm flipV="1">
            <a:off x="1371600" y="380988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1523880" y="4267080"/>
            <a:ext cx="0" cy="457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1981080" y="4267080"/>
            <a:ext cx="0" cy="457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2133720" y="380988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V="1">
            <a:off x="1676520" y="380988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V="1">
            <a:off x="1828800" y="380988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2286000" y="380988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2438280" y="380988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2590920" y="4267080"/>
            <a:ext cx="0" cy="457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2743200" y="4267080"/>
            <a:ext cx="0" cy="457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2895480" y="4267080"/>
            <a:ext cx="0" cy="457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143000" y="4267080"/>
            <a:ext cx="1981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951120" y="3618000"/>
            <a:ext cx="34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05" name=""/>
          <p:cNvSpPr/>
          <p:nvPr/>
        </p:nvSpPr>
        <p:spPr>
          <a:xfrm>
            <a:off x="966960" y="4525920"/>
            <a:ext cx="30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06" name=""/>
          <p:cNvSpPr/>
          <p:nvPr/>
        </p:nvSpPr>
        <p:spPr>
          <a:xfrm>
            <a:off x="1080720" y="1202760"/>
            <a:ext cx="69364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arker Code Viewed in Discrete Domain</a:t>
            </a:r>
            <a:endParaRPr b="0" lang="en-US" sz="2800" spc="-1" strike="noStrike">
              <a:solidFill>
                <a:srgbClr val="000000"/>
              </a:solidFill>
              <a:latin typeface="Times New Roman"/>
            </a:endParaRPr>
          </a:p>
        </p:txBody>
      </p:sp>
      <p:sp>
        <p:nvSpPr>
          <p:cNvPr id="107" name=""/>
          <p:cNvSpPr/>
          <p:nvPr/>
        </p:nvSpPr>
        <p:spPr>
          <a:xfrm>
            <a:off x="916200" y="2984400"/>
            <a:ext cx="254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11 Chip BARKER Code</a:t>
            </a:r>
            <a:endParaRPr b="0" lang="en-US" sz="1800" spc="-1" strike="noStrike">
              <a:solidFill>
                <a:srgbClr val="000000"/>
              </a:solidFill>
              <a:latin typeface="Times New Roman"/>
            </a:endParaRPr>
          </a:p>
        </p:txBody>
      </p:sp>
      <p:sp>
        <p:nvSpPr>
          <p:cNvPr id="108" name=""/>
          <p:cNvSpPr/>
          <p:nvPr/>
        </p:nvSpPr>
        <p:spPr>
          <a:xfrm>
            <a:off x="5716800" y="2262240"/>
            <a:ext cx="197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DFT SPECTRUM</a:t>
            </a:r>
            <a:endParaRPr b="0" lang="en-US" sz="1800" spc="-1" strike="noStrike">
              <a:solidFill>
                <a:srgbClr val="000000"/>
              </a:solidFill>
              <a:latin typeface="Times New Roman"/>
            </a:endParaRPr>
          </a:p>
        </p:txBody>
      </p:sp>
      <p:sp>
        <p:nvSpPr>
          <p:cNvPr id="109" name=""/>
          <p:cNvSpPr/>
          <p:nvPr/>
        </p:nvSpPr>
        <p:spPr>
          <a:xfrm>
            <a:off x="3733920" y="3429000"/>
            <a:ext cx="609480" cy="1600200"/>
          </a:xfrm>
          <a:prstGeom prst="rightArrow">
            <a:avLst>
              <a:gd name="adj1" fmla="val 50000"/>
              <a:gd name="adj2" fmla="val 25000"/>
            </a:avLst>
          </a:prstGeom>
          <a:gradFill rotWithShape="0">
            <a:gsLst>
              <a:gs pos="0">
                <a:srgbClr val="ffffff"/>
              </a:gs>
              <a:gs pos="50000">
                <a:srgbClr val="00cc99"/>
              </a:gs>
              <a:gs pos="100000">
                <a:srgbClr val="fffff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B0267140-AD23-45D9-9EFE-74C11AB78652}" type="slidenum">
              <a:t>4</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flipV="1">
            <a:off x="1641600" y="42037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793880" y="4660920"/>
            <a:ext cx="0" cy="457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V="1">
            <a:off x="2251080" y="4660920"/>
            <a:ext cx="0" cy="457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2403360" y="42037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1946160" y="42037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2098800" y="42037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2556000" y="42037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2708280" y="42037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2860560" y="4660920"/>
            <a:ext cx="0" cy="457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V="1">
            <a:off x="3013200" y="4660920"/>
            <a:ext cx="0" cy="457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V="1">
            <a:off x="3165480" y="4660920"/>
            <a:ext cx="0" cy="457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413000" y="4660920"/>
            <a:ext cx="1981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221120" y="4011480"/>
            <a:ext cx="34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23" name=""/>
          <p:cNvSpPr/>
          <p:nvPr/>
        </p:nvSpPr>
        <p:spPr>
          <a:xfrm>
            <a:off x="1236960" y="4919760"/>
            <a:ext cx="30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24" name=""/>
          <p:cNvSpPr/>
          <p:nvPr/>
        </p:nvSpPr>
        <p:spPr>
          <a:xfrm>
            <a:off x="4191120" y="4468680"/>
            <a:ext cx="152280" cy="374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4038480" y="4087800"/>
            <a:ext cx="609840" cy="990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868560" y="3718080"/>
            <a:ext cx="100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ip Pulse</a:t>
            </a:r>
            <a:endParaRPr b="0" lang="en-US" sz="1400" spc="-1" strike="noStrike">
              <a:solidFill>
                <a:srgbClr val="000000"/>
              </a:solidFill>
              <a:latin typeface="Times New Roman"/>
            </a:endParaRPr>
          </a:p>
        </p:txBody>
      </p:sp>
      <p:sp>
        <p:nvSpPr>
          <p:cNvPr id="127" name=""/>
          <p:cNvSpPr/>
          <p:nvPr/>
        </p:nvSpPr>
        <p:spPr>
          <a:xfrm>
            <a:off x="4114800" y="484992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581280" y="4468680"/>
            <a:ext cx="457200" cy="381240"/>
          </a:xfrm>
          <a:prstGeom prst="rightArrow">
            <a:avLst>
              <a:gd name="adj1" fmla="val 50000"/>
              <a:gd name="adj2" fmla="val 29981"/>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648320" y="4468680"/>
            <a:ext cx="457200" cy="381240"/>
          </a:xfrm>
          <a:prstGeom prst="rightArrow">
            <a:avLst>
              <a:gd name="adj1" fmla="val 50000"/>
              <a:gd name="adj2" fmla="val 29981"/>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578560" y="439272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5730840" y="462132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5883120" y="4392720"/>
            <a:ext cx="15264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6035760" y="439272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6188040" y="462132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6340320" y="4392720"/>
            <a:ext cx="15264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6492960" y="439272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6645240" y="439272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6797520" y="4621320"/>
            <a:ext cx="15264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6950160" y="462132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102440" y="462132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5349960" y="4621320"/>
            <a:ext cx="2057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7317720" y="46576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p:txBody>
      </p:sp>
      <p:pic>
        <p:nvPicPr>
          <p:cNvPr id="143" name="" descr=""/>
          <p:cNvPicPr/>
          <p:nvPr/>
        </p:nvPicPr>
        <p:blipFill>
          <a:blip r:embed="rId1"/>
          <a:stretch/>
        </p:blipFill>
        <p:spPr>
          <a:xfrm>
            <a:off x="5562720" y="1828800"/>
            <a:ext cx="3200400" cy="2282760"/>
          </a:xfrm>
          <a:prstGeom prst="rect">
            <a:avLst/>
          </a:prstGeom>
          <a:ln w="0">
            <a:noFill/>
          </a:ln>
        </p:spPr>
      </p:pic>
      <p:sp>
        <p:nvSpPr>
          <p:cNvPr id="144" name=""/>
          <p:cNvSpPr/>
          <p:nvPr/>
        </p:nvSpPr>
        <p:spPr>
          <a:xfrm>
            <a:off x="1603080" y="5194440"/>
            <a:ext cx="15735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Periodically</a:t>
            </a:r>
            <a:br>
              <a:rPr sz="1600"/>
            </a:br>
            <a:r>
              <a:rPr b="1" lang="en-US" sz="1600" spc="-1" strike="noStrike">
                <a:solidFill>
                  <a:srgbClr val="cc0000"/>
                </a:solidFill>
                <a:latin typeface="Times New Roman"/>
              </a:rPr>
              <a:t>Extend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Barker Samples</a:t>
            </a:r>
            <a:endParaRPr b="0" lang="en-US" sz="1600" spc="-1" strike="noStrike">
              <a:solidFill>
                <a:srgbClr val="000000"/>
              </a:solidFill>
              <a:latin typeface="Times New Roman"/>
            </a:endParaRPr>
          </a:p>
        </p:txBody>
      </p:sp>
      <p:sp>
        <p:nvSpPr>
          <p:cNvPr id="145" name=""/>
          <p:cNvSpPr/>
          <p:nvPr/>
        </p:nvSpPr>
        <p:spPr>
          <a:xfrm>
            <a:off x="5509440" y="5194440"/>
            <a:ext cx="13586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Periodically</a:t>
            </a:r>
            <a:br>
              <a:rPr sz="1600"/>
            </a:br>
            <a:r>
              <a:rPr b="1" lang="en-US" sz="1600" spc="-1" strike="noStrike">
                <a:solidFill>
                  <a:srgbClr val="cc0000"/>
                </a:solidFill>
                <a:latin typeface="Times New Roman"/>
              </a:rPr>
              <a:t>Extend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Barker Chips</a:t>
            </a:r>
            <a:endParaRPr b="0" lang="en-US" sz="1600" spc="-1" strike="noStrike">
              <a:solidFill>
                <a:srgbClr val="000000"/>
              </a:solidFill>
              <a:latin typeface="Times New Roman"/>
            </a:endParaRPr>
          </a:p>
        </p:txBody>
      </p:sp>
      <p:sp>
        <p:nvSpPr>
          <p:cNvPr id="146" name=""/>
          <p:cNvSpPr/>
          <p:nvPr/>
        </p:nvSpPr>
        <p:spPr>
          <a:xfrm>
            <a:off x="3884040" y="5079960"/>
            <a:ext cx="1056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Times New Roman"/>
              </a:rPr>
              <a:t>convolution</a:t>
            </a:r>
            <a:endParaRPr b="0" lang="en-US" sz="1400" spc="-1" strike="noStrike">
              <a:solidFill>
                <a:srgbClr val="000000"/>
              </a:solidFill>
              <a:latin typeface="Times New Roman"/>
            </a:endParaRPr>
          </a:p>
        </p:txBody>
      </p:sp>
      <p:sp>
        <p:nvSpPr>
          <p:cNvPr id="147" name=""/>
          <p:cNvSpPr/>
          <p:nvPr/>
        </p:nvSpPr>
        <p:spPr>
          <a:xfrm>
            <a:off x="1218960" y="1218240"/>
            <a:ext cx="3387240" cy="1068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Barker Cod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Spreading Detail</a:t>
            </a:r>
            <a:endParaRPr b="0" lang="en-US" sz="3200" spc="-1" strike="noStrike">
              <a:solidFill>
                <a:srgbClr val="000000"/>
              </a:solidFill>
              <a:latin typeface="Times New Roman"/>
            </a:endParaRPr>
          </a:p>
        </p:txBody>
      </p:sp>
      <p:sp>
        <p:nvSpPr>
          <p:cNvPr id="148" name=""/>
          <p:cNvSpPr/>
          <p:nvPr/>
        </p:nvSpPr>
        <p:spPr>
          <a:xfrm>
            <a:off x="7162200" y="762120"/>
            <a:ext cx="147600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Times New Roman"/>
              </a:rPr>
              <a:t>Pulse Shap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Times New Roman"/>
              </a:rPr>
              <a:t>Envelop</a:t>
            </a:r>
            <a:endParaRPr b="0" lang="en-US" sz="2000" spc="-1" strike="noStrike">
              <a:solidFill>
                <a:srgbClr val="000000"/>
              </a:solidFill>
              <a:latin typeface="Times New Roman"/>
            </a:endParaRPr>
          </a:p>
        </p:txBody>
      </p:sp>
      <p:sp>
        <p:nvSpPr>
          <p:cNvPr id="149" name=""/>
          <p:cNvSpPr/>
          <p:nvPr/>
        </p:nvSpPr>
        <p:spPr>
          <a:xfrm flipH="1">
            <a:off x="7467480" y="1523880"/>
            <a:ext cx="457200" cy="83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034BD91A-43FE-4AF4-9F5A-657D4ABD7780}" type="slidenum">
              <a:t>5</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683720" y="990000"/>
            <a:ext cx="57114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arker Mode Signaling Revisited</a:t>
            </a:r>
            <a:endParaRPr b="0" lang="en-US" sz="2800" spc="-1" strike="noStrike">
              <a:solidFill>
                <a:srgbClr val="000000"/>
              </a:solidFill>
              <a:latin typeface="Times New Roman"/>
            </a:endParaRPr>
          </a:p>
        </p:txBody>
      </p:sp>
      <p:sp>
        <p:nvSpPr>
          <p:cNvPr id="151" name=""/>
          <p:cNvSpPr/>
          <p:nvPr/>
        </p:nvSpPr>
        <p:spPr>
          <a:xfrm>
            <a:off x="777960" y="2833560"/>
            <a:ext cx="13716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149560" y="3062160"/>
            <a:ext cx="13716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25320" y="3062160"/>
            <a:ext cx="31244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359240" y="2833560"/>
            <a:ext cx="380880" cy="3812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825720" y="3747960"/>
            <a:ext cx="15264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3978360" y="397656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4130640" y="374796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4282920" y="3747960"/>
            <a:ext cx="15264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4435560" y="397656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4587840" y="374796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4740120" y="3747960"/>
            <a:ext cx="15264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4892760" y="374796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5045040" y="397656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5197320" y="3976560"/>
            <a:ext cx="15264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5349960" y="3976560"/>
            <a:ext cx="15228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3597120" y="3976560"/>
            <a:ext cx="2057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01640" y="2300400"/>
            <a:ext cx="1383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Mbps:  BPSK</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Mbps:  QPSK</a:t>
            </a:r>
            <a:endParaRPr b="0" lang="en-US" sz="1400" spc="-1" strike="noStrike">
              <a:solidFill>
                <a:srgbClr val="000000"/>
              </a:solidFill>
              <a:latin typeface="Times New Roman"/>
            </a:endParaRPr>
          </a:p>
        </p:txBody>
      </p:sp>
      <p:sp>
        <p:nvSpPr>
          <p:cNvPr id="168" name=""/>
          <p:cNvSpPr/>
          <p:nvPr/>
        </p:nvSpPr>
        <p:spPr>
          <a:xfrm>
            <a:off x="3978360" y="2833560"/>
            <a:ext cx="380880" cy="381240"/>
          </a:xfrm>
          <a:prstGeom prst="rightArrow">
            <a:avLst>
              <a:gd name="adj1" fmla="val 50000"/>
              <a:gd name="adj2"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36040" y="309888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p:txBody>
      </p:sp>
      <p:sp>
        <p:nvSpPr>
          <p:cNvPr id="170" name=""/>
          <p:cNvSpPr/>
          <p:nvPr/>
        </p:nvSpPr>
        <p:spPr>
          <a:xfrm>
            <a:off x="4359240" y="3214800"/>
            <a:ext cx="380880" cy="380880"/>
          </a:xfrm>
          <a:prstGeom prst="upArrow">
            <a:avLst>
              <a:gd name="adj1" fmla="val 50000"/>
              <a:gd name="adj2" fmla="val 25000"/>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435560" y="2909880"/>
            <a:ext cx="2286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V="1">
            <a:off x="4435560" y="2909520"/>
            <a:ext cx="2286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3" name="" descr=""/>
          <p:cNvPicPr/>
          <p:nvPr/>
        </p:nvPicPr>
        <p:blipFill>
          <a:blip r:embed="rId1"/>
          <a:stretch/>
        </p:blipFill>
        <p:spPr>
          <a:xfrm>
            <a:off x="533520" y="3525840"/>
            <a:ext cx="2209680" cy="1655640"/>
          </a:xfrm>
          <a:prstGeom prst="rect">
            <a:avLst/>
          </a:prstGeom>
          <a:ln w="0">
            <a:noFill/>
          </a:ln>
        </p:spPr>
      </p:pic>
      <p:sp>
        <p:nvSpPr>
          <p:cNvPr id="174" name=""/>
          <p:cNvSpPr/>
          <p:nvPr/>
        </p:nvSpPr>
        <p:spPr>
          <a:xfrm>
            <a:off x="4724280" y="2840040"/>
            <a:ext cx="1143000" cy="380880"/>
          </a:xfrm>
          <a:prstGeom prst="rightArrow">
            <a:avLst>
              <a:gd name="adj1" fmla="val 50000"/>
              <a:gd name="adj2" fmla="val 75024"/>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2"/>
          <a:stretch/>
        </p:blipFill>
        <p:spPr>
          <a:xfrm>
            <a:off x="6553080" y="4572000"/>
            <a:ext cx="2286000" cy="1744560"/>
          </a:xfrm>
          <a:prstGeom prst="rect">
            <a:avLst/>
          </a:prstGeom>
          <a:ln w="0">
            <a:noFill/>
          </a:ln>
        </p:spPr>
      </p:pic>
      <p:pic>
        <p:nvPicPr>
          <p:cNvPr id="176" name="" descr=""/>
          <p:cNvPicPr/>
          <p:nvPr/>
        </p:nvPicPr>
        <p:blipFill>
          <a:blip r:embed="rId3"/>
          <a:stretch/>
        </p:blipFill>
        <p:spPr>
          <a:xfrm>
            <a:off x="3124080" y="4267080"/>
            <a:ext cx="2695680" cy="2117880"/>
          </a:xfrm>
          <a:prstGeom prst="rect">
            <a:avLst/>
          </a:prstGeom>
          <a:ln w="0">
            <a:noFill/>
          </a:ln>
        </p:spPr>
      </p:pic>
      <p:sp>
        <p:nvSpPr>
          <p:cNvPr id="177" name=""/>
          <p:cNvSpPr/>
          <p:nvPr/>
        </p:nvSpPr>
        <p:spPr>
          <a:xfrm>
            <a:off x="2820600" y="1981080"/>
            <a:ext cx="331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Time Domain Multiply Equal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Times New Roman"/>
              </a:rPr>
              <a:t>Frequency Domain Convolution</a:t>
            </a:r>
            <a:endParaRPr b="0" lang="en-US" sz="1800" spc="-1" strike="noStrike">
              <a:solidFill>
                <a:srgbClr val="000000"/>
              </a:solidFill>
              <a:latin typeface="Times New Roman"/>
            </a:endParaRPr>
          </a:p>
        </p:txBody>
      </p:sp>
      <p:sp>
        <p:nvSpPr>
          <p:cNvPr id="178" name=""/>
          <p:cNvSpPr/>
          <p:nvPr/>
        </p:nvSpPr>
        <p:spPr>
          <a:xfrm>
            <a:off x="5565240" y="3962520"/>
            <a:ext cx="452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p:txBody>
      </p:sp>
      <p:grpSp>
        <p:nvGrpSpPr>
          <p:cNvPr id="179" name=""/>
          <p:cNvGrpSpPr/>
          <p:nvPr/>
        </p:nvGrpSpPr>
        <p:grpSpPr>
          <a:xfrm>
            <a:off x="6248520" y="1752480"/>
            <a:ext cx="2666880" cy="1987560"/>
            <a:chOff x="6248520" y="1752480"/>
            <a:chExt cx="2666880" cy="1987560"/>
          </a:xfrm>
        </p:grpSpPr>
        <p:pic>
          <p:nvPicPr>
            <p:cNvPr id="180" name="" descr=""/>
            <p:cNvPicPr/>
            <p:nvPr/>
          </p:nvPicPr>
          <p:blipFill>
            <a:blip r:embed="rId4"/>
            <a:stretch/>
          </p:blipFill>
          <p:spPr>
            <a:xfrm>
              <a:off x="6248520" y="1752480"/>
              <a:ext cx="2666880" cy="1987560"/>
            </a:xfrm>
            <a:prstGeom prst="rect">
              <a:avLst/>
            </a:prstGeom>
            <a:ln w="12600">
              <a:solidFill>
                <a:srgbClr val="3333cc"/>
              </a:solidFill>
              <a:miter/>
            </a:ln>
          </p:spPr>
        </p:pic>
        <p:sp>
          <p:nvSpPr>
            <p:cNvPr id="181" name=""/>
            <p:cNvSpPr/>
            <p:nvPr/>
          </p:nvSpPr>
          <p:spPr>
            <a:xfrm>
              <a:off x="7481880" y="1947600"/>
              <a:ext cx="166680" cy="1562040"/>
            </a:xfrm>
            <a:custGeom>
              <a:avLst/>
              <a:gdLst/>
              <a:ahLst/>
              <a:rect l="l" t="t" r="r" b="b"/>
              <a:pathLst>
                <a:path w="2274" h="1608">
                  <a:moveTo>
                    <a:pt x="0" y="1608"/>
                  </a:moveTo>
                  <a:lnTo>
                    <a:pt x="7" y="1601"/>
                  </a:lnTo>
                  <a:lnTo>
                    <a:pt x="14" y="1594"/>
                  </a:lnTo>
                  <a:lnTo>
                    <a:pt x="14" y="1587"/>
                  </a:lnTo>
                  <a:lnTo>
                    <a:pt x="21" y="1580"/>
                  </a:lnTo>
                  <a:lnTo>
                    <a:pt x="28" y="1573"/>
                  </a:lnTo>
                  <a:lnTo>
                    <a:pt x="28" y="1566"/>
                  </a:lnTo>
                  <a:lnTo>
                    <a:pt x="35" y="1559"/>
                  </a:lnTo>
                  <a:lnTo>
                    <a:pt x="42" y="1552"/>
                  </a:lnTo>
                  <a:lnTo>
                    <a:pt x="49" y="1544"/>
                  </a:lnTo>
                  <a:lnTo>
                    <a:pt x="49" y="1537"/>
                  </a:lnTo>
                  <a:lnTo>
                    <a:pt x="56" y="1530"/>
                  </a:lnTo>
                  <a:lnTo>
                    <a:pt x="63" y="1523"/>
                  </a:lnTo>
                  <a:lnTo>
                    <a:pt x="71" y="1516"/>
                  </a:lnTo>
                  <a:lnTo>
                    <a:pt x="78" y="1509"/>
                  </a:lnTo>
                  <a:lnTo>
                    <a:pt x="85" y="1502"/>
                  </a:lnTo>
                  <a:lnTo>
                    <a:pt x="92" y="1495"/>
                  </a:lnTo>
                  <a:lnTo>
                    <a:pt x="99" y="1488"/>
                  </a:lnTo>
                  <a:lnTo>
                    <a:pt x="106" y="1481"/>
                  </a:lnTo>
                  <a:lnTo>
                    <a:pt x="113" y="1474"/>
                  </a:lnTo>
                  <a:lnTo>
                    <a:pt x="120" y="1467"/>
                  </a:lnTo>
                  <a:lnTo>
                    <a:pt x="127" y="1467"/>
                  </a:lnTo>
                  <a:lnTo>
                    <a:pt x="134" y="1459"/>
                  </a:lnTo>
                  <a:lnTo>
                    <a:pt x="141" y="1459"/>
                  </a:lnTo>
                  <a:lnTo>
                    <a:pt x="148" y="1459"/>
                  </a:lnTo>
                  <a:lnTo>
                    <a:pt x="156" y="1459"/>
                  </a:lnTo>
                  <a:lnTo>
                    <a:pt x="163" y="1467"/>
                  </a:lnTo>
                  <a:lnTo>
                    <a:pt x="170" y="1467"/>
                  </a:lnTo>
                  <a:lnTo>
                    <a:pt x="177" y="1467"/>
                  </a:lnTo>
                  <a:lnTo>
                    <a:pt x="184" y="1474"/>
                  </a:lnTo>
                  <a:lnTo>
                    <a:pt x="191" y="1481"/>
                  </a:lnTo>
                  <a:lnTo>
                    <a:pt x="198" y="1481"/>
                  </a:lnTo>
                  <a:lnTo>
                    <a:pt x="205" y="1488"/>
                  </a:lnTo>
                  <a:lnTo>
                    <a:pt x="212" y="1495"/>
                  </a:lnTo>
                  <a:lnTo>
                    <a:pt x="219" y="1502"/>
                  </a:lnTo>
                  <a:lnTo>
                    <a:pt x="226" y="1509"/>
                  </a:lnTo>
                  <a:lnTo>
                    <a:pt x="234" y="1516"/>
                  </a:lnTo>
                  <a:lnTo>
                    <a:pt x="234" y="1523"/>
                  </a:lnTo>
                  <a:lnTo>
                    <a:pt x="241" y="1530"/>
                  </a:lnTo>
                  <a:lnTo>
                    <a:pt x="241" y="1537"/>
                  </a:lnTo>
                  <a:lnTo>
                    <a:pt x="248" y="1544"/>
                  </a:lnTo>
                  <a:lnTo>
                    <a:pt x="255" y="1552"/>
                  </a:lnTo>
                  <a:lnTo>
                    <a:pt x="255" y="1559"/>
                  </a:lnTo>
                  <a:lnTo>
                    <a:pt x="262" y="1566"/>
                  </a:lnTo>
                  <a:lnTo>
                    <a:pt x="269" y="1573"/>
                  </a:lnTo>
                  <a:lnTo>
                    <a:pt x="269" y="1580"/>
                  </a:lnTo>
                  <a:lnTo>
                    <a:pt x="276" y="1587"/>
                  </a:lnTo>
                  <a:lnTo>
                    <a:pt x="276" y="1594"/>
                  </a:lnTo>
                  <a:lnTo>
                    <a:pt x="283" y="1601"/>
                  </a:lnTo>
                  <a:lnTo>
                    <a:pt x="283" y="1608"/>
                  </a:lnTo>
                  <a:lnTo>
                    <a:pt x="290" y="1601"/>
                  </a:lnTo>
                  <a:lnTo>
                    <a:pt x="290" y="1594"/>
                  </a:lnTo>
                  <a:lnTo>
                    <a:pt x="297" y="1587"/>
                  </a:lnTo>
                  <a:lnTo>
                    <a:pt x="297" y="1580"/>
                  </a:lnTo>
                  <a:lnTo>
                    <a:pt x="304" y="1573"/>
                  </a:lnTo>
                  <a:lnTo>
                    <a:pt x="304" y="1566"/>
                  </a:lnTo>
                  <a:lnTo>
                    <a:pt x="311" y="1559"/>
                  </a:lnTo>
                  <a:lnTo>
                    <a:pt x="319" y="1552"/>
                  </a:lnTo>
                  <a:lnTo>
                    <a:pt x="319" y="1544"/>
                  </a:lnTo>
                  <a:lnTo>
                    <a:pt x="319" y="1537"/>
                  </a:lnTo>
                  <a:lnTo>
                    <a:pt x="326" y="1530"/>
                  </a:lnTo>
                  <a:lnTo>
                    <a:pt x="326" y="1523"/>
                  </a:lnTo>
                  <a:lnTo>
                    <a:pt x="333" y="1516"/>
                  </a:lnTo>
                  <a:lnTo>
                    <a:pt x="340" y="1509"/>
                  </a:lnTo>
                  <a:lnTo>
                    <a:pt x="340" y="1502"/>
                  </a:lnTo>
                  <a:lnTo>
                    <a:pt x="347" y="1495"/>
                  </a:lnTo>
                  <a:lnTo>
                    <a:pt x="347" y="1488"/>
                  </a:lnTo>
                  <a:lnTo>
                    <a:pt x="354" y="1481"/>
                  </a:lnTo>
                  <a:lnTo>
                    <a:pt x="354" y="1474"/>
                  </a:lnTo>
                  <a:lnTo>
                    <a:pt x="361" y="1467"/>
                  </a:lnTo>
                  <a:lnTo>
                    <a:pt x="368" y="1459"/>
                  </a:lnTo>
                  <a:lnTo>
                    <a:pt x="375" y="1452"/>
                  </a:lnTo>
                  <a:lnTo>
                    <a:pt x="375" y="1445"/>
                  </a:lnTo>
                  <a:lnTo>
                    <a:pt x="382" y="1438"/>
                  </a:lnTo>
                  <a:lnTo>
                    <a:pt x="389" y="1431"/>
                  </a:lnTo>
                  <a:lnTo>
                    <a:pt x="397" y="1424"/>
                  </a:lnTo>
                  <a:lnTo>
                    <a:pt x="404" y="1417"/>
                  </a:lnTo>
                  <a:lnTo>
                    <a:pt x="411" y="1410"/>
                  </a:lnTo>
                  <a:lnTo>
                    <a:pt x="418" y="1403"/>
                  </a:lnTo>
                  <a:lnTo>
                    <a:pt x="425" y="1403"/>
                  </a:lnTo>
                  <a:lnTo>
                    <a:pt x="432" y="1403"/>
                  </a:lnTo>
                  <a:lnTo>
                    <a:pt x="439" y="1403"/>
                  </a:lnTo>
                  <a:lnTo>
                    <a:pt x="446" y="1403"/>
                  </a:lnTo>
                  <a:lnTo>
                    <a:pt x="453" y="1403"/>
                  </a:lnTo>
                  <a:lnTo>
                    <a:pt x="460" y="1410"/>
                  </a:lnTo>
                  <a:lnTo>
                    <a:pt x="467" y="1417"/>
                  </a:lnTo>
                  <a:lnTo>
                    <a:pt x="474" y="1424"/>
                  </a:lnTo>
                  <a:lnTo>
                    <a:pt x="482" y="1431"/>
                  </a:lnTo>
                  <a:lnTo>
                    <a:pt x="489" y="1438"/>
                  </a:lnTo>
                  <a:lnTo>
                    <a:pt x="496" y="1445"/>
                  </a:lnTo>
                  <a:lnTo>
                    <a:pt x="503" y="1452"/>
                  </a:lnTo>
                  <a:lnTo>
                    <a:pt x="503" y="1459"/>
                  </a:lnTo>
                  <a:lnTo>
                    <a:pt x="510" y="1467"/>
                  </a:lnTo>
                  <a:lnTo>
                    <a:pt x="510" y="1474"/>
                  </a:lnTo>
                  <a:lnTo>
                    <a:pt x="517" y="1481"/>
                  </a:lnTo>
                  <a:lnTo>
                    <a:pt x="517" y="1488"/>
                  </a:lnTo>
                  <a:lnTo>
                    <a:pt x="524" y="1495"/>
                  </a:lnTo>
                  <a:lnTo>
                    <a:pt x="524" y="1502"/>
                  </a:lnTo>
                  <a:lnTo>
                    <a:pt x="531" y="1509"/>
                  </a:lnTo>
                  <a:lnTo>
                    <a:pt x="531" y="1516"/>
                  </a:lnTo>
                  <a:lnTo>
                    <a:pt x="538" y="1523"/>
                  </a:lnTo>
                  <a:lnTo>
                    <a:pt x="538" y="1530"/>
                  </a:lnTo>
                  <a:lnTo>
                    <a:pt x="538" y="1537"/>
                  </a:lnTo>
                  <a:lnTo>
                    <a:pt x="545" y="1544"/>
                  </a:lnTo>
                  <a:lnTo>
                    <a:pt x="545" y="1552"/>
                  </a:lnTo>
                  <a:lnTo>
                    <a:pt x="552" y="1559"/>
                  </a:lnTo>
                  <a:lnTo>
                    <a:pt x="552" y="1566"/>
                  </a:lnTo>
                  <a:lnTo>
                    <a:pt x="552" y="1573"/>
                  </a:lnTo>
                  <a:lnTo>
                    <a:pt x="560" y="1580"/>
                  </a:lnTo>
                  <a:lnTo>
                    <a:pt x="560" y="1587"/>
                  </a:lnTo>
                  <a:lnTo>
                    <a:pt x="567" y="1594"/>
                  </a:lnTo>
                  <a:lnTo>
                    <a:pt x="567" y="1601"/>
                  </a:lnTo>
                  <a:lnTo>
                    <a:pt x="567" y="1608"/>
                  </a:lnTo>
                  <a:lnTo>
                    <a:pt x="574" y="1601"/>
                  </a:lnTo>
                  <a:lnTo>
                    <a:pt x="574" y="1594"/>
                  </a:lnTo>
                  <a:lnTo>
                    <a:pt x="574" y="1587"/>
                  </a:lnTo>
                  <a:lnTo>
                    <a:pt x="581" y="1580"/>
                  </a:lnTo>
                  <a:lnTo>
                    <a:pt x="581" y="1573"/>
                  </a:lnTo>
                  <a:lnTo>
                    <a:pt x="581" y="1566"/>
                  </a:lnTo>
                  <a:lnTo>
                    <a:pt x="588" y="1559"/>
                  </a:lnTo>
                  <a:lnTo>
                    <a:pt x="588" y="1552"/>
                  </a:lnTo>
                  <a:lnTo>
                    <a:pt x="588" y="1544"/>
                  </a:lnTo>
                  <a:lnTo>
                    <a:pt x="595" y="1537"/>
                  </a:lnTo>
                  <a:lnTo>
                    <a:pt x="595" y="1530"/>
                  </a:lnTo>
                  <a:lnTo>
                    <a:pt x="595" y="1523"/>
                  </a:lnTo>
                  <a:lnTo>
                    <a:pt x="602" y="1516"/>
                  </a:lnTo>
                  <a:lnTo>
                    <a:pt x="602" y="1509"/>
                  </a:lnTo>
                  <a:lnTo>
                    <a:pt x="602" y="1502"/>
                  </a:lnTo>
                  <a:lnTo>
                    <a:pt x="609" y="1495"/>
                  </a:lnTo>
                  <a:lnTo>
                    <a:pt x="609" y="1488"/>
                  </a:lnTo>
                  <a:lnTo>
                    <a:pt x="616" y="1481"/>
                  </a:lnTo>
                  <a:lnTo>
                    <a:pt x="616" y="1474"/>
                  </a:lnTo>
                  <a:lnTo>
                    <a:pt x="616" y="1467"/>
                  </a:lnTo>
                  <a:lnTo>
                    <a:pt x="616" y="1459"/>
                  </a:lnTo>
                  <a:lnTo>
                    <a:pt x="623" y="1452"/>
                  </a:lnTo>
                  <a:lnTo>
                    <a:pt x="623" y="1445"/>
                  </a:lnTo>
                  <a:lnTo>
                    <a:pt x="623" y="1438"/>
                  </a:lnTo>
                  <a:lnTo>
                    <a:pt x="630" y="1431"/>
                  </a:lnTo>
                  <a:lnTo>
                    <a:pt x="630" y="1424"/>
                  </a:lnTo>
                  <a:lnTo>
                    <a:pt x="637" y="1417"/>
                  </a:lnTo>
                  <a:lnTo>
                    <a:pt x="637" y="1410"/>
                  </a:lnTo>
                  <a:lnTo>
                    <a:pt x="637" y="1403"/>
                  </a:lnTo>
                  <a:lnTo>
                    <a:pt x="645" y="1396"/>
                  </a:lnTo>
                  <a:lnTo>
                    <a:pt x="645" y="1389"/>
                  </a:lnTo>
                  <a:lnTo>
                    <a:pt x="652" y="1382"/>
                  </a:lnTo>
                  <a:lnTo>
                    <a:pt x="652" y="1374"/>
                  </a:lnTo>
                  <a:lnTo>
                    <a:pt x="652" y="1367"/>
                  </a:lnTo>
                  <a:lnTo>
                    <a:pt x="652" y="1360"/>
                  </a:lnTo>
                  <a:lnTo>
                    <a:pt x="659" y="1353"/>
                  </a:lnTo>
                  <a:lnTo>
                    <a:pt x="659" y="1346"/>
                  </a:lnTo>
                  <a:lnTo>
                    <a:pt x="666" y="1339"/>
                  </a:lnTo>
                  <a:lnTo>
                    <a:pt x="666" y="1332"/>
                  </a:lnTo>
                  <a:lnTo>
                    <a:pt x="673" y="1325"/>
                  </a:lnTo>
                  <a:lnTo>
                    <a:pt x="673" y="1318"/>
                  </a:lnTo>
                  <a:lnTo>
                    <a:pt x="680" y="1311"/>
                  </a:lnTo>
                  <a:lnTo>
                    <a:pt x="687" y="1304"/>
                  </a:lnTo>
                  <a:lnTo>
                    <a:pt x="687" y="1296"/>
                  </a:lnTo>
                  <a:lnTo>
                    <a:pt x="694" y="1289"/>
                  </a:lnTo>
                  <a:lnTo>
                    <a:pt x="694" y="1282"/>
                  </a:lnTo>
                  <a:lnTo>
                    <a:pt x="701" y="1275"/>
                  </a:lnTo>
                  <a:lnTo>
                    <a:pt x="708" y="1268"/>
                  </a:lnTo>
                  <a:lnTo>
                    <a:pt x="715" y="1261"/>
                  </a:lnTo>
                  <a:lnTo>
                    <a:pt x="723" y="1261"/>
                  </a:lnTo>
                  <a:lnTo>
                    <a:pt x="730" y="1261"/>
                  </a:lnTo>
                  <a:lnTo>
                    <a:pt x="737" y="1261"/>
                  </a:lnTo>
                  <a:lnTo>
                    <a:pt x="744" y="1261"/>
                  </a:lnTo>
                  <a:lnTo>
                    <a:pt x="751" y="1268"/>
                  </a:lnTo>
                  <a:lnTo>
                    <a:pt x="758" y="1275"/>
                  </a:lnTo>
                  <a:lnTo>
                    <a:pt x="765" y="1282"/>
                  </a:lnTo>
                  <a:lnTo>
                    <a:pt x="765" y="1289"/>
                  </a:lnTo>
                  <a:lnTo>
                    <a:pt x="772" y="1296"/>
                  </a:lnTo>
                  <a:lnTo>
                    <a:pt x="772" y="1304"/>
                  </a:lnTo>
                  <a:lnTo>
                    <a:pt x="779" y="1311"/>
                  </a:lnTo>
                  <a:lnTo>
                    <a:pt x="779" y="1318"/>
                  </a:lnTo>
                  <a:lnTo>
                    <a:pt x="786" y="1325"/>
                  </a:lnTo>
                  <a:lnTo>
                    <a:pt x="786" y="1332"/>
                  </a:lnTo>
                  <a:lnTo>
                    <a:pt x="793" y="1339"/>
                  </a:lnTo>
                  <a:lnTo>
                    <a:pt x="793" y="1346"/>
                  </a:lnTo>
                  <a:lnTo>
                    <a:pt x="793" y="1353"/>
                  </a:lnTo>
                  <a:lnTo>
                    <a:pt x="800" y="1360"/>
                  </a:lnTo>
                  <a:lnTo>
                    <a:pt x="800" y="1367"/>
                  </a:lnTo>
                  <a:lnTo>
                    <a:pt x="800" y="1374"/>
                  </a:lnTo>
                  <a:lnTo>
                    <a:pt x="800" y="1382"/>
                  </a:lnTo>
                  <a:lnTo>
                    <a:pt x="808" y="1389"/>
                  </a:lnTo>
                  <a:lnTo>
                    <a:pt x="808" y="1403"/>
                  </a:lnTo>
                  <a:lnTo>
                    <a:pt x="808" y="1410"/>
                  </a:lnTo>
                  <a:lnTo>
                    <a:pt x="815" y="1417"/>
                  </a:lnTo>
                  <a:lnTo>
                    <a:pt x="815" y="1424"/>
                  </a:lnTo>
                  <a:lnTo>
                    <a:pt x="815" y="1431"/>
                  </a:lnTo>
                  <a:lnTo>
                    <a:pt x="822" y="1445"/>
                  </a:lnTo>
                  <a:lnTo>
                    <a:pt x="822" y="1452"/>
                  </a:lnTo>
                  <a:lnTo>
                    <a:pt x="822" y="1459"/>
                  </a:lnTo>
                  <a:lnTo>
                    <a:pt x="829" y="1474"/>
                  </a:lnTo>
                  <a:lnTo>
                    <a:pt x="829" y="1481"/>
                  </a:lnTo>
                  <a:lnTo>
                    <a:pt x="829" y="1495"/>
                  </a:lnTo>
                  <a:lnTo>
                    <a:pt x="836" y="1502"/>
                  </a:lnTo>
                  <a:lnTo>
                    <a:pt x="836" y="1516"/>
                  </a:lnTo>
                  <a:lnTo>
                    <a:pt x="836" y="1523"/>
                  </a:lnTo>
                  <a:lnTo>
                    <a:pt x="836" y="1537"/>
                  </a:lnTo>
                  <a:lnTo>
                    <a:pt x="843" y="1544"/>
                  </a:lnTo>
                  <a:lnTo>
                    <a:pt x="843" y="1559"/>
                  </a:lnTo>
                  <a:lnTo>
                    <a:pt x="843" y="1573"/>
                  </a:lnTo>
                  <a:lnTo>
                    <a:pt x="850" y="1587"/>
                  </a:lnTo>
                  <a:lnTo>
                    <a:pt x="850" y="1594"/>
                  </a:lnTo>
                  <a:lnTo>
                    <a:pt x="850" y="1608"/>
                  </a:lnTo>
                  <a:lnTo>
                    <a:pt x="857" y="1594"/>
                  </a:lnTo>
                  <a:lnTo>
                    <a:pt x="857" y="1580"/>
                  </a:lnTo>
                  <a:lnTo>
                    <a:pt x="857" y="1573"/>
                  </a:lnTo>
                  <a:lnTo>
                    <a:pt x="864" y="1559"/>
                  </a:lnTo>
                  <a:lnTo>
                    <a:pt x="864" y="1544"/>
                  </a:lnTo>
                  <a:lnTo>
                    <a:pt x="864" y="1530"/>
                  </a:lnTo>
                  <a:lnTo>
                    <a:pt x="871" y="1516"/>
                  </a:lnTo>
                  <a:lnTo>
                    <a:pt x="871" y="1502"/>
                  </a:lnTo>
                  <a:lnTo>
                    <a:pt x="871" y="1488"/>
                  </a:lnTo>
                  <a:lnTo>
                    <a:pt x="878" y="1474"/>
                  </a:lnTo>
                  <a:lnTo>
                    <a:pt x="878" y="1459"/>
                  </a:lnTo>
                  <a:lnTo>
                    <a:pt x="878" y="1445"/>
                  </a:lnTo>
                  <a:lnTo>
                    <a:pt x="878" y="1431"/>
                  </a:lnTo>
                  <a:lnTo>
                    <a:pt x="885" y="1417"/>
                  </a:lnTo>
                  <a:lnTo>
                    <a:pt x="885" y="1403"/>
                  </a:lnTo>
                  <a:lnTo>
                    <a:pt x="885" y="1382"/>
                  </a:lnTo>
                  <a:lnTo>
                    <a:pt x="893" y="1367"/>
                  </a:lnTo>
                  <a:lnTo>
                    <a:pt x="893" y="1353"/>
                  </a:lnTo>
                  <a:lnTo>
                    <a:pt x="893" y="1339"/>
                  </a:lnTo>
                  <a:lnTo>
                    <a:pt x="900" y="1325"/>
                  </a:lnTo>
                  <a:lnTo>
                    <a:pt x="900" y="1304"/>
                  </a:lnTo>
                  <a:lnTo>
                    <a:pt x="900" y="1289"/>
                  </a:lnTo>
                  <a:lnTo>
                    <a:pt x="907" y="1275"/>
                  </a:lnTo>
                  <a:lnTo>
                    <a:pt x="907" y="1261"/>
                  </a:lnTo>
                  <a:lnTo>
                    <a:pt x="907" y="1240"/>
                  </a:lnTo>
                  <a:lnTo>
                    <a:pt x="914" y="1226"/>
                  </a:lnTo>
                  <a:lnTo>
                    <a:pt x="914" y="1211"/>
                  </a:lnTo>
                  <a:lnTo>
                    <a:pt x="914" y="1190"/>
                  </a:lnTo>
                  <a:lnTo>
                    <a:pt x="914" y="1176"/>
                  </a:lnTo>
                  <a:lnTo>
                    <a:pt x="921" y="1162"/>
                  </a:lnTo>
                  <a:lnTo>
                    <a:pt x="921" y="1141"/>
                  </a:lnTo>
                  <a:lnTo>
                    <a:pt x="921" y="1126"/>
                  </a:lnTo>
                  <a:lnTo>
                    <a:pt x="928" y="1105"/>
                  </a:lnTo>
                  <a:lnTo>
                    <a:pt x="928" y="1091"/>
                  </a:lnTo>
                  <a:lnTo>
                    <a:pt x="928" y="1077"/>
                  </a:lnTo>
                  <a:lnTo>
                    <a:pt x="935" y="1056"/>
                  </a:lnTo>
                  <a:lnTo>
                    <a:pt x="935" y="1041"/>
                  </a:lnTo>
                  <a:lnTo>
                    <a:pt x="935" y="1020"/>
                  </a:lnTo>
                  <a:lnTo>
                    <a:pt x="942" y="1006"/>
                  </a:lnTo>
                  <a:lnTo>
                    <a:pt x="942" y="992"/>
                  </a:lnTo>
                  <a:lnTo>
                    <a:pt x="942" y="971"/>
                  </a:lnTo>
                  <a:lnTo>
                    <a:pt x="949" y="956"/>
                  </a:lnTo>
                  <a:lnTo>
                    <a:pt x="949" y="935"/>
                  </a:lnTo>
                  <a:lnTo>
                    <a:pt x="949" y="921"/>
                  </a:lnTo>
                  <a:lnTo>
                    <a:pt x="949" y="900"/>
                  </a:lnTo>
                  <a:lnTo>
                    <a:pt x="956" y="886"/>
                  </a:lnTo>
                  <a:lnTo>
                    <a:pt x="956" y="871"/>
                  </a:lnTo>
                  <a:lnTo>
                    <a:pt x="956" y="850"/>
                  </a:lnTo>
                  <a:lnTo>
                    <a:pt x="963" y="836"/>
                  </a:lnTo>
                  <a:lnTo>
                    <a:pt x="963" y="815"/>
                  </a:lnTo>
                  <a:lnTo>
                    <a:pt x="963" y="800"/>
                  </a:lnTo>
                  <a:lnTo>
                    <a:pt x="971" y="786"/>
                  </a:lnTo>
                  <a:lnTo>
                    <a:pt x="971" y="765"/>
                  </a:lnTo>
                  <a:lnTo>
                    <a:pt x="971" y="751"/>
                  </a:lnTo>
                  <a:lnTo>
                    <a:pt x="978" y="730"/>
                  </a:lnTo>
                  <a:lnTo>
                    <a:pt x="978" y="715"/>
                  </a:lnTo>
                  <a:lnTo>
                    <a:pt x="978" y="701"/>
                  </a:lnTo>
                  <a:lnTo>
                    <a:pt x="985" y="680"/>
                  </a:lnTo>
                  <a:lnTo>
                    <a:pt x="985" y="666"/>
                  </a:lnTo>
                  <a:lnTo>
                    <a:pt x="985" y="652"/>
                  </a:lnTo>
                  <a:lnTo>
                    <a:pt x="985" y="630"/>
                  </a:lnTo>
                  <a:lnTo>
                    <a:pt x="992" y="616"/>
                  </a:lnTo>
                  <a:lnTo>
                    <a:pt x="992" y="602"/>
                  </a:lnTo>
                  <a:lnTo>
                    <a:pt x="992" y="581"/>
                  </a:lnTo>
                  <a:lnTo>
                    <a:pt x="999" y="567"/>
                  </a:lnTo>
                  <a:lnTo>
                    <a:pt x="999" y="552"/>
                  </a:lnTo>
                  <a:lnTo>
                    <a:pt x="999" y="538"/>
                  </a:lnTo>
                  <a:lnTo>
                    <a:pt x="1006" y="524"/>
                  </a:lnTo>
                  <a:lnTo>
                    <a:pt x="1006" y="503"/>
                  </a:lnTo>
                  <a:lnTo>
                    <a:pt x="1006" y="489"/>
                  </a:lnTo>
                  <a:lnTo>
                    <a:pt x="1013" y="475"/>
                  </a:lnTo>
                  <a:lnTo>
                    <a:pt x="1013" y="460"/>
                  </a:lnTo>
                  <a:lnTo>
                    <a:pt x="1013" y="446"/>
                  </a:lnTo>
                  <a:lnTo>
                    <a:pt x="1020" y="432"/>
                  </a:lnTo>
                  <a:lnTo>
                    <a:pt x="1020" y="418"/>
                  </a:lnTo>
                  <a:lnTo>
                    <a:pt x="1020" y="404"/>
                  </a:lnTo>
                  <a:lnTo>
                    <a:pt x="1027" y="390"/>
                  </a:lnTo>
                  <a:lnTo>
                    <a:pt x="1027" y="375"/>
                  </a:lnTo>
                  <a:lnTo>
                    <a:pt x="1027" y="361"/>
                  </a:lnTo>
                  <a:lnTo>
                    <a:pt x="1027" y="347"/>
                  </a:lnTo>
                  <a:lnTo>
                    <a:pt x="1034" y="333"/>
                  </a:lnTo>
                  <a:lnTo>
                    <a:pt x="1034" y="319"/>
                  </a:lnTo>
                  <a:lnTo>
                    <a:pt x="1034" y="304"/>
                  </a:lnTo>
                  <a:lnTo>
                    <a:pt x="1041" y="297"/>
                  </a:lnTo>
                  <a:lnTo>
                    <a:pt x="1041" y="283"/>
                  </a:lnTo>
                  <a:lnTo>
                    <a:pt x="1041" y="269"/>
                  </a:lnTo>
                  <a:lnTo>
                    <a:pt x="1048" y="255"/>
                  </a:lnTo>
                  <a:lnTo>
                    <a:pt x="1048" y="248"/>
                  </a:lnTo>
                  <a:lnTo>
                    <a:pt x="1048" y="234"/>
                  </a:lnTo>
                  <a:lnTo>
                    <a:pt x="1056" y="227"/>
                  </a:lnTo>
                  <a:lnTo>
                    <a:pt x="1056" y="212"/>
                  </a:lnTo>
                  <a:lnTo>
                    <a:pt x="1056" y="198"/>
                  </a:lnTo>
                  <a:lnTo>
                    <a:pt x="1063" y="191"/>
                  </a:lnTo>
                  <a:lnTo>
                    <a:pt x="1063" y="177"/>
                  </a:lnTo>
                  <a:lnTo>
                    <a:pt x="1063" y="170"/>
                  </a:lnTo>
                  <a:lnTo>
                    <a:pt x="1063" y="163"/>
                  </a:lnTo>
                  <a:lnTo>
                    <a:pt x="1070" y="149"/>
                  </a:lnTo>
                  <a:lnTo>
                    <a:pt x="1070" y="142"/>
                  </a:lnTo>
                  <a:lnTo>
                    <a:pt x="1070" y="134"/>
                  </a:lnTo>
                  <a:lnTo>
                    <a:pt x="1077" y="120"/>
                  </a:lnTo>
                  <a:lnTo>
                    <a:pt x="1077" y="113"/>
                  </a:lnTo>
                  <a:lnTo>
                    <a:pt x="1077" y="106"/>
                  </a:lnTo>
                  <a:lnTo>
                    <a:pt x="1084" y="99"/>
                  </a:lnTo>
                  <a:lnTo>
                    <a:pt x="1084" y="92"/>
                  </a:lnTo>
                  <a:lnTo>
                    <a:pt x="1084" y="85"/>
                  </a:lnTo>
                  <a:lnTo>
                    <a:pt x="1091" y="78"/>
                  </a:lnTo>
                  <a:lnTo>
                    <a:pt x="1091" y="71"/>
                  </a:lnTo>
                  <a:lnTo>
                    <a:pt x="1091" y="64"/>
                  </a:lnTo>
                  <a:lnTo>
                    <a:pt x="1098" y="56"/>
                  </a:lnTo>
                  <a:lnTo>
                    <a:pt x="1098" y="49"/>
                  </a:lnTo>
                  <a:lnTo>
                    <a:pt x="1098" y="42"/>
                  </a:lnTo>
                  <a:lnTo>
                    <a:pt x="1105" y="35"/>
                  </a:lnTo>
                  <a:lnTo>
                    <a:pt x="1105" y="28"/>
                  </a:lnTo>
                  <a:lnTo>
                    <a:pt x="1112" y="21"/>
                  </a:lnTo>
                  <a:lnTo>
                    <a:pt x="1119" y="14"/>
                  </a:lnTo>
                  <a:lnTo>
                    <a:pt x="1126" y="7"/>
                  </a:lnTo>
                  <a:lnTo>
                    <a:pt x="1134" y="0"/>
                  </a:lnTo>
                  <a:lnTo>
                    <a:pt x="1141" y="0"/>
                  </a:lnTo>
                  <a:lnTo>
                    <a:pt x="1148" y="7"/>
                  </a:lnTo>
                  <a:lnTo>
                    <a:pt x="1155" y="14"/>
                  </a:lnTo>
                  <a:lnTo>
                    <a:pt x="1162" y="21"/>
                  </a:lnTo>
                  <a:lnTo>
                    <a:pt x="1169" y="28"/>
                  </a:lnTo>
                  <a:lnTo>
                    <a:pt x="1169" y="35"/>
                  </a:lnTo>
                  <a:lnTo>
                    <a:pt x="1176" y="42"/>
                  </a:lnTo>
                  <a:lnTo>
                    <a:pt x="1176" y="49"/>
                  </a:lnTo>
                  <a:lnTo>
                    <a:pt x="1176" y="56"/>
                  </a:lnTo>
                  <a:lnTo>
                    <a:pt x="1183" y="64"/>
                  </a:lnTo>
                  <a:lnTo>
                    <a:pt x="1183" y="71"/>
                  </a:lnTo>
                  <a:lnTo>
                    <a:pt x="1183" y="78"/>
                  </a:lnTo>
                  <a:lnTo>
                    <a:pt x="1190" y="85"/>
                  </a:lnTo>
                  <a:lnTo>
                    <a:pt x="1190" y="92"/>
                  </a:lnTo>
                  <a:lnTo>
                    <a:pt x="1190" y="99"/>
                  </a:lnTo>
                  <a:lnTo>
                    <a:pt x="1197" y="106"/>
                  </a:lnTo>
                  <a:lnTo>
                    <a:pt x="1197" y="113"/>
                  </a:lnTo>
                  <a:lnTo>
                    <a:pt x="1197" y="120"/>
                  </a:lnTo>
                  <a:lnTo>
                    <a:pt x="1204" y="134"/>
                  </a:lnTo>
                  <a:lnTo>
                    <a:pt x="1204" y="142"/>
                  </a:lnTo>
                  <a:lnTo>
                    <a:pt x="1204" y="149"/>
                  </a:lnTo>
                  <a:lnTo>
                    <a:pt x="1211" y="163"/>
                  </a:lnTo>
                  <a:lnTo>
                    <a:pt x="1211" y="170"/>
                  </a:lnTo>
                  <a:lnTo>
                    <a:pt x="1211" y="177"/>
                  </a:lnTo>
                  <a:lnTo>
                    <a:pt x="1211" y="191"/>
                  </a:lnTo>
                  <a:lnTo>
                    <a:pt x="1219" y="198"/>
                  </a:lnTo>
                  <a:lnTo>
                    <a:pt x="1219" y="212"/>
                  </a:lnTo>
                  <a:lnTo>
                    <a:pt x="1219" y="227"/>
                  </a:lnTo>
                  <a:lnTo>
                    <a:pt x="1226" y="234"/>
                  </a:lnTo>
                  <a:lnTo>
                    <a:pt x="1226" y="248"/>
                  </a:lnTo>
                  <a:lnTo>
                    <a:pt x="1226" y="255"/>
                  </a:lnTo>
                  <a:lnTo>
                    <a:pt x="1233" y="269"/>
                  </a:lnTo>
                  <a:lnTo>
                    <a:pt x="1233" y="283"/>
                  </a:lnTo>
                  <a:lnTo>
                    <a:pt x="1233" y="297"/>
                  </a:lnTo>
                  <a:lnTo>
                    <a:pt x="1240" y="304"/>
                  </a:lnTo>
                  <a:lnTo>
                    <a:pt x="1240" y="319"/>
                  </a:lnTo>
                  <a:lnTo>
                    <a:pt x="1240" y="333"/>
                  </a:lnTo>
                  <a:lnTo>
                    <a:pt x="1247" y="347"/>
                  </a:lnTo>
                  <a:lnTo>
                    <a:pt x="1247" y="361"/>
                  </a:lnTo>
                  <a:lnTo>
                    <a:pt x="1247" y="375"/>
                  </a:lnTo>
                  <a:lnTo>
                    <a:pt x="1247" y="390"/>
                  </a:lnTo>
                  <a:lnTo>
                    <a:pt x="1254" y="404"/>
                  </a:lnTo>
                  <a:lnTo>
                    <a:pt x="1254" y="418"/>
                  </a:lnTo>
                  <a:lnTo>
                    <a:pt x="1254" y="432"/>
                  </a:lnTo>
                  <a:lnTo>
                    <a:pt x="1261" y="446"/>
                  </a:lnTo>
                  <a:lnTo>
                    <a:pt x="1261" y="460"/>
                  </a:lnTo>
                  <a:lnTo>
                    <a:pt x="1261" y="475"/>
                  </a:lnTo>
                  <a:lnTo>
                    <a:pt x="1268" y="489"/>
                  </a:lnTo>
                  <a:lnTo>
                    <a:pt x="1268" y="503"/>
                  </a:lnTo>
                  <a:lnTo>
                    <a:pt x="1268" y="524"/>
                  </a:lnTo>
                  <a:lnTo>
                    <a:pt x="1275" y="538"/>
                  </a:lnTo>
                  <a:lnTo>
                    <a:pt x="1275" y="552"/>
                  </a:lnTo>
                  <a:lnTo>
                    <a:pt x="1275" y="567"/>
                  </a:lnTo>
                  <a:lnTo>
                    <a:pt x="1282" y="581"/>
                  </a:lnTo>
                  <a:lnTo>
                    <a:pt x="1282" y="602"/>
                  </a:lnTo>
                  <a:lnTo>
                    <a:pt x="1282" y="616"/>
                  </a:lnTo>
                  <a:lnTo>
                    <a:pt x="1289" y="630"/>
                  </a:lnTo>
                  <a:lnTo>
                    <a:pt x="1289" y="652"/>
                  </a:lnTo>
                  <a:lnTo>
                    <a:pt x="1289" y="666"/>
                  </a:lnTo>
                  <a:lnTo>
                    <a:pt x="1289" y="680"/>
                  </a:lnTo>
                  <a:lnTo>
                    <a:pt x="1297" y="701"/>
                  </a:lnTo>
                  <a:lnTo>
                    <a:pt x="1297" y="715"/>
                  </a:lnTo>
                  <a:lnTo>
                    <a:pt x="1297" y="730"/>
                  </a:lnTo>
                  <a:lnTo>
                    <a:pt x="1304" y="751"/>
                  </a:lnTo>
                  <a:lnTo>
                    <a:pt x="1304" y="765"/>
                  </a:lnTo>
                  <a:lnTo>
                    <a:pt x="1304" y="786"/>
                  </a:lnTo>
                  <a:lnTo>
                    <a:pt x="1311" y="800"/>
                  </a:lnTo>
                  <a:lnTo>
                    <a:pt x="1311" y="815"/>
                  </a:lnTo>
                  <a:lnTo>
                    <a:pt x="1311" y="836"/>
                  </a:lnTo>
                  <a:lnTo>
                    <a:pt x="1318" y="850"/>
                  </a:lnTo>
                  <a:lnTo>
                    <a:pt x="1318" y="871"/>
                  </a:lnTo>
                  <a:lnTo>
                    <a:pt x="1318" y="886"/>
                  </a:lnTo>
                  <a:lnTo>
                    <a:pt x="1325" y="900"/>
                  </a:lnTo>
                  <a:lnTo>
                    <a:pt x="1325" y="921"/>
                  </a:lnTo>
                  <a:lnTo>
                    <a:pt x="1325" y="935"/>
                  </a:lnTo>
                  <a:lnTo>
                    <a:pt x="1325" y="956"/>
                  </a:lnTo>
                  <a:lnTo>
                    <a:pt x="1332" y="971"/>
                  </a:lnTo>
                  <a:lnTo>
                    <a:pt x="1332" y="992"/>
                  </a:lnTo>
                  <a:lnTo>
                    <a:pt x="1332" y="1006"/>
                  </a:lnTo>
                  <a:lnTo>
                    <a:pt x="1339" y="1020"/>
                  </a:lnTo>
                  <a:lnTo>
                    <a:pt x="1339" y="1041"/>
                  </a:lnTo>
                  <a:lnTo>
                    <a:pt x="1339" y="1056"/>
                  </a:lnTo>
                  <a:lnTo>
                    <a:pt x="1346" y="1077"/>
                  </a:lnTo>
                  <a:lnTo>
                    <a:pt x="1346" y="1091"/>
                  </a:lnTo>
                  <a:lnTo>
                    <a:pt x="1346" y="1105"/>
                  </a:lnTo>
                  <a:lnTo>
                    <a:pt x="1353" y="1126"/>
                  </a:lnTo>
                  <a:lnTo>
                    <a:pt x="1353" y="1141"/>
                  </a:lnTo>
                  <a:lnTo>
                    <a:pt x="1353" y="1162"/>
                  </a:lnTo>
                  <a:lnTo>
                    <a:pt x="1360" y="1176"/>
                  </a:lnTo>
                  <a:lnTo>
                    <a:pt x="1360" y="1190"/>
                  </a:lnTo>
                  <a:lnTo>
                    <a:pt x="1360" y="1211"/>
                  </a:lnTo>
                  <a:lnTo>
                    <a:pt x="1360" y="1226"/>
                  </a:lnTo>
                  <a:lnTo>
                    <a:pt x="1367" y="1240"/>
                  </a:lnTo>
                  <a:lnTo>
                    <a:pt x="1367" y="1261"/>
                  </a:lnTo>
                  <a:lnTo>
                    <a:pt x="1367" y="1275"/>
                  </a:lnTo>
                  <a:lnTo>
                    <a:pt x="1374" y="1289"/>
                  </a:lnTo>
                  <a:lnTo>
                    <a:pt x="1374" y="1304"/>
                  </a:lnTo>
                  <a:lnTo>
                    <a:pt x="1374" y="1325"/>
                  </a:lnTo>
                  <a:lnTo>
                    <a:pt x="1382" y="1339"/>
                  </a:lnTo>
                  <a:lnTo>
                    <a:pt x="1382" y="1353"/>
                  </a:lnTo>
                  <a:lnTo>
                    <a:pt x="1382" y="1367"/>
                  </a:lnTo>
                  <a:lnTo>
                    <a:pt x="1389" y="1382"/>
                  </a:lnTo>
                  <a:lnTo>
                    <a:pt x="1389" y="1403"/>
                  </a:lnTo>
                  <a:lnTo>
                    <a:pt x="1389" y="1417"/>
                  </a:lnTo>
                  <a:lnTo>
                    <a:pt x="1396" y="1431"/>
                  </a:lnTo>
                  <a:lnTo>
                    <a:pt x="1396" y="1445"/>
                  </a:lnTo>
                  <a:lnTo>
                    <a:pt x="1396" y="1459"/>
                  </a:lnTo>
                  <a:lnTo>
                    <a:pt x="1396" y="1474"/>
                  </a:lnTo>
                  <a:lnTo>
                    <a:pt x="1403" y="1488"/>
                  </a:lnTo>
                  <a:lnTo>
                    <a:pt x="1403" y="1502"/>
                  </a:lnTo>
                  <a:lnTo>
                    <a:pt x="1403" y="1516"/>
                  </a:lnTo>
                  <a:lnTo>
                    <a:pt x="1410" y="1530"/>
                  </a:lnTo>
                  <a:lnTo>
                    <a:pt x="1410" y="1544"/>
                  </a:lnTo>
                  <a:lnTo>
                    <a:pt x="1410" y="1559"/>
                  </a:lnTo>
                  <a:lnTo>
                    <a:pt x="1417" y="1573"/>
                  </a:lnTo>
                  <a:lnTo>
                    <a:pt x="1417" y="1580"/>
                  </a:lnTo>
                  <a:lnTo>
                    <a:pt x="1417" y="1594"/>
                  </a:lnTo>
                  <a:lnTo>
                    <a:pt x="1424" y="1608"/>
                  </a:lnTo>
                  <a:lnTo>
                    <a:pt x="1424" y="1594"/>
                  </a:lnTo>
                  <a:lnTo>
                    <a:pt x="1424" y="1587"/>
                  </a:lnTo>
                  <a:lnTo>
                    <a:pt x="1431" y="1573"/>
                  </a:lnTo>
                  <a:lnTo>
                    <a:pt x="1431" y="1559"/>
                  </a:lnTo>
                  <a:lnTo>
                    <a:pt x="1431" y="1544"/>
                  </a:lnTo>
                  <a:lnTo>
                    <a:pt x="1438" y="1537"/>
                  </a:lnTo>
                  <a:lnTo>
                    <a:pt x="1438" y="1523"/>
                  </a:lnTo>
                  <a:lnTo>
                    <a:pt x="1438" y="1516"/>
                  </a:lnTo>
                  <a:lnTo>
                    <a:pt x="1438" y="1502"/>
                  </a:lnTo>
                  <a:lnTo>
                    <a:pt x="1445" y="1495"/>
                  </a:lnTo>
                  <a:lnTo>
                    <a:pt x="1445" y="1481"/>
                  </a:lnTo>
                  <a:lnTo>
                    <a:pt x="1445" y="1474"/>
                  </a:lnTo>
                  <a:lnTo>
                    <a:pt x="1452" y="1459"/>
                  </a:lnTo>
                  <a:lnTo>
                    <a:pt x="1452" y="1452"/>
                  </a:lnTo>
                  <a:lnTo>
                    <a:pt x="1452" y="1445"/>
                  </a:lnTo>
                  <a:lnTo>
                    <a:pt x="1460" y="1431"/>
                  </a:lnTo>
                  <a:lnTo>
                    <a:pt x="1460" y="1424"/>
                  </a:lnTo>
                  <a:lnTo>
                    <a:pt x="1460" y="1417"/>
                  </a:lnTo>
                  <a:lnTo>
                    <a:pt x="1467" y="1410"/>
                  </a:lnTo>
                  <a:lnTo>
                    <a:pt x="1467" y="1403"/>
                  </a:lnTo>
                  <a:lnTo>
                    <a:pt x="1467" y="1389"/>
                  </a:lnTo>
                  <a:lnTo>
                    <a:pt x="1474" y="1382"/>
                  </a:lnTo>
                  <a:lnTo>
                    <a:pt x="1474" y="1374"/>
                  </a:lnTo>
                  <a:lnTo>
                    <a:pt x="1474" y="1367"/>
                  </a:lnTo>
                  <a:lnTo>
                    <a:pt x="1474" y="1360"/>
                  </a:lnTo>
                  <a:lnTo>
                    <a:pt x="1481" y="1353"/>
                  </a:lnTo>
                  <a:lnTo>
                    <a:pt x="1481" y="1346"/>
                  </a:lnTo>
                  <a:lnTo>
                    <a:pt x="1488" y="1339"/>
                  </a:lnTo>
                  <a:lnTo>
                    <a:pt x="1488" y="1332"/>
                  </a:lnTo>
                  <a:lnTo>
                    <a:pt x="1488" y="1325"/>
                  </a:lnTo>
                  <a:lnTo>
                    <a:pt x="1495" y="1318"/>
                  </a:lnTo>
                  <a:lnTo>
                    <a:pt x="1495" y="1311"/>
                  </a:lnTo>
                  <a:lnTo>
                    <a:pt x="1502" y="1304"/>
                  </a:lnTo>
                  <a:lnTo>
                    <a:pt x="1502" y="1296"/>
                  </a:lnTo>
                  <a:lnTo>
                    <a:pt x="1509" y="1289"/>
                  </a:lnTo>
                  <a:lnTo>
                    <a:pt x="1509" y="1282"/>
                  </a:lnTo>
                  <a:lnTo>
                    <a:pt x="1516" y="1275"/>
                  </a:lnTo>
                  <a:lnTo>
                    <a:pt x="1523" y="1268"/>
                  </a:lnTo>
                  <a:lnTo>
                    <a:pt x="1530" y="1261"/>
                  </a:lnTo>
                  <a:lnTo>
                    <a:pt x="1537" y="1261"/>
                  </a:lnTo>
                  <a:lnTo>
                    <a:pt x="1545" y="1261"/>
                  </a:lnTo>
                  <a:lnTo>
                    <a:pt x="1552" y="1261"/>
                  </a:lnTo>
                  <a:lnTo>
                    <a:pt x="1559" y="1268"/>
                  </a:lnTo>
                  <a:lnTo>
                    <a:pt x="1566" y="1268"/>
                  </a:lnTo>
                  <a:lnTo>
                    <a:pt x="1573" y="1275"/>
                  </a:lnTo>
                  <a:lnTo>
                    <a:pt x="1580" y="1282"/>
                  </a:lnTo>
                  <a:lnTo>
                    <a:pt x="1587" y="1289"/>
                  </a:lnTo>
                  <a:lnTo>
                    <a:pt x="1587" y="1296"/>
                  </a:lnTo>
                  <a:lnTo>
                    <a:pt x="1594" y="1304"/>
                  </a:lnTo>
                  <a:lnTo>
                    <a:pt x="1594" y="1311"/>
                  </a:lnTo>
                  <a:lnTo>
                    <a:pt x="1601" y="1318"/>
                  </a:lnTo>
                  <a:lnTo>
                    <a:pt x="1601" y="1325"/>
                  </a:lnTo>
                  <a:lnTo>
                    <a:pt x="1608" y="1332"/>
                  </a:lnTo>
                  <a:lnTo>
                    <a:pt x="1608" y="1339"/>
                  </a:lnTo>
                  <a:lnTo>
                    <a:pt x="1615" y="1346"/>
                  </a:lnTo>
                  <a:lnTo>
                    <a:pt x="1615" y="1353"/>
                  </a:lnTo>
                  <a:lnTo>
                    <a:pt x="1622" y="1360"/>
                  </a:lnTo>
                  <a:lnTo>
                    <a:pt x="1622" y="1367"/>
                  </a:lnTo>
                  <a:lnTo>
                    <a:pt x="1622" y="1374"/>
                  </a:lnTo>
                  <a:lnTo>
                    <a:pt x="1630" y="1382"/>
                  </a:lnTo>
                  <a:lnTo>
                    <a:pt x="1630" y="1389"/>
                  </a:lnTo>
                  <a:lnTo>
                    <a:pt x="1630" y="1396"/>
                  </a:lnTo>
                  <a:lnTo>
                    <a:pt x="1637" y="1403"/>
                  </a:lnTo>
                  <a:lnTo>
                    <a:pt x="1637" y="1410"/>
                  </a:lnTo>
                  <a:lnTo>
                    <a:pt x="1644" y="1417"/>
                  </a:lnTo>
                  <a:lnTo>
                    <a:pt x="1644" y="1424"/>
                  </a:lnTo>
                  <a:lnTo>
                    <a:pt x="1644" y="1431"/>
                  </a:lnTo>
                  <a:lnTo>
                    <a:pt x="1651" y="1438"/>
                  </a:lnTo>
                  <a:lnTo>
                    <a:pt x="1651" y="1445"/>
                  </a:lnTo>
                  <a:lnTo>
                    <a:pt x="1651" y="1452"/>
                  </a:lnTo>
                  <a:lnTo>
                    <a:pt x="1658" y="1459"/>
                  </a:lnTo>
                  <a:lnTo>
                    <a:pt x="1658" y="1467"/>
                  </a:lnTo>
                  <a:lnTo>
                    <a:pt x="1658" y="1474"/>
                  </a:lnTo>
                  <a:lnTo>
                    <a:pt x="1665" y="1481"/>
                  </a:lnTo>
                  <a:lnTo>
                    <a:pt x="1665" y="1488"/>
                  </a:lnTo>
                  <a:lnTo>
                    <a:pt x="1665" y="1495"/>
                  </a:lnTo>
                  <a:lnTo>
                    <a:pt x="1672" y="1502"/>
                  </a:lnTo>
                  <a:lnTo>
                    <a:pt x="1672" y="1509"/>
                  </a:lnTo>
                  <a:lnTo>
                    <a:pt x="1672" y="1516"/>
                  </a:lnTo>
                  <a:lnTo>
                    <a:pt x="1679" y="1523"/>
                  </a:lnTo>
                  <a:lnTo>
                    <a:pt x="1679" y="1530"/>
                  </a:lnTo>
                  <a:lnTo>
                    <a:pt x="1679" y="1537"/>
                  </a:lnTo>
                  <a:lnTo>
                    <a:pt x="1686" y="1544"/>
                  </a:lnTo>
                  <a:lnTo>
                    <a:pt x="1686" y="1552"/>
                  </a:lnTo>
                  <a:lnTo>
                    <a:pt x="1686" y="1559"/>
                  </a:lnTo>
                  <a:lnTo>
                    <a:pt x="1693" y="1566"/>
                  </a:lnTo>
                  <a:lnTo>
                    <a:pt x="1693" y="1573"/>
                  </a:lnTo>
                  <a:lnTo>
                    <a:pt x="1693" y="1580"/>
                  </a:lnTo>
                  <a:lnTo>
                    <a:pt x="1700" y="1587"/>
                  </a:lnTo>
                  <a:lnTo>
                    <a:pt x="1700" y="1594"/>
                  </a:lnTo>
                  <a:lnTo>
                    <a:pt x="1700" y="1601"/>
                  </a:lnTo>
                  <a:lnTo>
                    <a:pt x="1708" y="1608"/>
                  </a:lnTo>
                  <a:lnTo>
                    <a:pt x="1708" y="1601"/>
                  </a:lnTo>
                  <a:lnTo>
                    <a:pt x="1708" y="1594"/>
                  </a:lnTo>
                  <a:lnTo>
                    <a:pt x="1715" y="1587"/>
                  </a:lnTo>
                  <a:lnTo>
                    <a:pt x="1715" y="1580"/>
                  </a:lnTo>
                  <a:lnTo>
                    <a:pt x="1722" y="1573"/>
                  </a:lnTo>
                  <a:lnTo>
                    <a:pt x="1722" y="1566"/>
                  </a:lnTo>
                  <a:lnTo>
                    <a:pt x="1722" y="1559"/>
                  </a:lnTo>
                  <a:lnTo>
                    <a:pt x="1729" y="1552"/>
                  </a:lnTo>
                  <a:lnTo>
                    <a:pt x="1729" y="1544"/>
                  </a:lnTo>
                  <a:lnTo>
                    <a:pt x="1736" y="1537"/>
                  </a:lnTo>
                  <a:lnTo>
                    <a:pt x="1736" y="1530"/>
                  </a:lnTo>
                  <a:lnTo>
                    <a:pt x="1736" y="1523"/>
                  </a:lnTo>
                  <a:lnTo>
                    <a:pt x="1743" y="1516"/>
                  </a:lnTo>
                  <a:lnTo>
                    <a:pt x="1743" y="1509"/>
                  </a:lnTo>
                  <a:lnTo>
                    <a:pt x="1750" y="1502"/>
                  </a:lnTo>
                  <a:lnTo>
                    <a:pt x="1750" y="1495"/>
                  </a:lnTo>
                  <a:lnTo>
                    <a:pt x="1757" y="1488"/>
                  </a:lnTo>
                  <a:lnTo>
                    <a:pt x="1757" y="1481"/>
                  </a:lnTo>
                  <a:lnTo>
                    <a:pt x="1764" y="1474"/>
                  </a:lnTo>
                  <a:lnTo>
                    <a:pt x="1764" y="1467"/>
                  </a:lnTo>
                  <a:lnTo>
                    <a:pt x="1771" y="1459"/>
                  </a:lnTo>
                  <a:lnTo>
                    <a:pt x="1771" y="1452"/>
                  </a:lnTo>
                  <a:lnTo>
                    <a:pt x="1778" y="1445"/>
                  </a:lnTo>
                  <a:lnTo>
                    <a:pt x="1785" y="1438"/>
                  </a:lnTo>
                  <a:lnTo>
                    <a:pt x="1793" y="1431"/>
                  </a:lnTo>
                  <a:lnTo>
                    <a:pt x="1800" y="1424"/>
                  </a:lnTo>
                  <a:lnTo>
                    <a:pt x="1807" y="1417"/>
                  </a:lnTo>
                  <a:lnTo>
                    <a:pt x="1814" y="1410"/>
                  </a:lnTo>
                  <a:lnTo>
                    <a:pt x="1821" y="1403"/>
                  </a:lnTo>
                  <a:lnTo>
                    <a:pt x="1828" y="1403"/>
                  </a:lnTo>
                  <a:lnTo>
                    <a:pt x="1835" y="1403"/>
                  </a:lnTo>
                  <a:lnTo>
                    <a:pt x="1842" y="1403"/>
                  </a:lnTo>
                  <a:lnTo>
                    <a:pt x="1849" y="1403"/>
                  </a:lnTo>
                  <a:lnTo>
                    <a:pt x="1856" y="1410"/>
                  </a:lnTo>
                  <a:lnTo>
                    <a:pt x="1863" y="1410"/>
                  </a:lnTo>
                  <a:lnTo>
                    <a:pt x="1871" y="1417"/>
                  </a:lnTo>
                  <a:lnTo>
                    <a:pt x="1878" y="1424"/>
                  </a:lnTo>
                  <a:lnTo>
                    <a:pt x="1885" y="1431"/>
                  </a:lnTo>
                  <a:lnTo>
                    <a:pt x="1892" y="1438"/>
                  </a:lnTo>
                  <a:lnTo>
                    <a:pt x="1899" y="1445"/>
                  </a:lnTo>
                  <a:lnTo>
                    <a:pt x="1906" y="1452"/>
                  </a:lnTo>
                  <a:lnTo>
                    <a:pt x="1913" y="1459"/>
                  </a:lnTo>
                  <a:lnTo>
                    <a:pt x="1913" y="1467"/>
                  </a:lnTo>
                  <a:lnTo>
                    <a:pt x="1920" y="1474"/>
                  </a:lnTo>
                  <a:lnTo>
                    <a:pt x="1920" y="1481"/>
                  </a:lnTo>
                  <a:lnTo>
                    <a:pt x="1927" y="1488"/>
                  </a:lnTo>
                  <a:lnTo>
                    <a:pt x="1927" y="1495"/>
                  </a:lnTo>
                  <a:lnTo>
                    <a:pt x="1934" y="1502"/>
                  </a:lnTo>
                  <a:lnTo>
                    <a:pt x="1941" y="1509"/>
                  </a:lnTo>
                  <a:lnTo>
                    <a:pt x="1941" y="1516"/>
                  </a:lnTo>
                  <a:lnTo>
                    <a:pt x="1948" y="1523"/>
                  </a:lnTo>
                  <a:lnTo>
                    <a:pt x="1948" y="1530"/>
                  </a:lnTo>
                  <a:lnTo>
                    <a:pt x="1956" y="1537"/>
                  </a:lnTo>
                  <a:lnTo>
                    <a:pt x="1956" y="1544"/>
                  </a:lnTo>
                  <a:lnTo>
                    <a:pt x="1963" y="1552"/>
                  </a:lnTo>
                  <a:lnTo>
                    <a:pt x="1963" y="1559"/>
                  </a:lnTo>
                  <a:lnTo>
                    <a:pt x="1970" y="1566"/>
                  </a:lnTo>
                  <a:lnTo>
                    <a:pt x="1970" y="1573"/>
                  </a:lnTo>
                  <a:lnTo>
                    <a:pt x="1977" y="1580"/>
                  </a:lnTo>
                  <a:lnTo>
                    <a:pt x="1977" y="1587"/>
                  </a:lnTo>
                  <a:lnTo>
                    <a:pt x="1984" y="1594"/>
                  </a:lnTo>
                  <a:lnTo>
                    <a:pt x="1991" y="1601"/>
                  </a:lnTo>
                  <a:lnTo>
                    <a:pt x="1991" y="1608"/>
                  </a:lnTo>
                  <a:lnTo>
                    <a:pt x="1998" y="1601"/>
                  </a:lnTo>
                  <a:lnTo>
                    <a:pt x="1998" y="1594"/>
                  </a:lnTo>
                  <a:lnTo>
                    <a:pt x="2005" y="1587"/>
                  </a:lnTo>
                  <a:lnTo>
                    <a:pt x="2005" y="1580"/>
                  </a:lnTo>
                  <a:lnTo>
                    <a:pt x="2012" y="1573"/>
                  </a:lnTo>
                  <a:lnTo>
                    <a:pt x="2012" y="1566"/>
                  </a:lnTo>
                  <a:lnTo>
                    <a:pt x="2019" y="1559"/>
                  </a:lnTo>
                  <a:lnTo>
                    <a:pt x="2026" y="1552"/>
                  </a:lnTo>
                  <a:lnTo>
                    <a:pt x="2026" y="1544"/>
                  </a:lnTo>
                  <a:lnTo>
                    <a:pt x="2034" y="1537"/>
                  </a:lnTo>
                  <a:lnTo>
                    <a:pt x="2034" y="1530"/>
                  </a:lnTo>
                  <a:lnTo>
                    <a:pt x="2041" y="1523"/>
                  </a:lnTo>
                  <a:lnTo>
                    <a:pt x="2048" y="1516"/>
                  </a:lnTo>
                  <a:lnTo>
                    <a:pt x="2055" y="1509"/>
                  </a:lnTo>
                  <a:lnTo>
                    <a:pt x="2062" y="1502"/>
                  </a:lnTo>
                  <a:lnTo>
                    <a:pt x="2069" y="1495"/>
                  </a:lnTo>
                  <a:lnTo>
                    <a:pt x="2069" y="1488"/>
                  </a:lnTo>
                  <a:lnTo>
                    <a:pt x="2076" y="1481"/>
                  </a:lnTo>
                  <a:lnTo>
                    <a:pt x="2083" y="1474"/>
                  </a:lnTo>
                  <a:lnTo>
                    <a:pt x="2090" y="1474"/>
                  </a:lnTo>
                  <a:lnTo>
                    <a:pt x="2097" y="1467"/>
                  </a:lnTo>
                  <a:lnTo>
                    <a:pt x="2104" y="1467"/>
                  </a:lnTo>
                  <a:lnTo>
                    <a:pt x="2111" y="1459"/>
                  </a:lnTo>
                  <a:lnTo>
                    <a:pt x="2119" y="1459"/>
                  </a:lnTo>
                  <a:lnTo>
                    <a:pt x="2126" y="1459"/>
                  </a:lnTo>
                  <a:lnTo>
                    <a:pt x="2133" y="1459"/>
                  </a:lnTo>
                  <a:lnTo>
                    <a:pt x="2140" y="1467"/>
                  </a:lnTo>
                  <a:lnTo>
                    <a:pt x="2147" y="1467"/>
                  </a:lnTo>
                  <a:lnTo>
                    <a:pt x="2154" y="1474"/>
                  </a:lnTo>
                  <a:lnTo>
                    <a:pt x="2161" y="1474"/>
                  </a:lnTo>
                  <a:lnTo>
                    <a:pt x="2168" y="1481"/>
                  </a:lnTo>
                  <a:lnTo>
                    <a:pt x="2175" y="1488"/>
                  </a:lnTo>
                  <a:lnTo>
                    <a:pt x="2182" y="1495"/>
                  </a:lnTo>
                  <a:lnTo>
                    <a:pt x="2189" y="1502"/>
                  </a:lnTo>
                  <a:lnTo>
                    <a:pt x="2197" y="1509"/>
                  </a:lnTo>
                  <a:lnTo>
                    <a:pt x="2204" y="1516"/>
                  </a:lnTo>
                  <a:lnTo>
                    <a:pt x="2211" y="1523"/>
                  </a:lnTo>
                  <a:lnTo>
                    <a:pt x="2218" y="1530"/>
                  </a:lnTo>
                  <a:lnTo>
                    <a:pt x="2225" y="1537"/>
                  </a:lnTo>
                  <a:lnTo>
                    <a:pt x="2232" y="1544"/>
                  </a:lnTo>
                  <a:lnTo>
                    <a:pt x="2239" y="1552"/>
                  </a:lnTo>
                  <a:lnTo>
                    <a:pt x="2239" y="1559"/>
                  </a:lnTo>
                  <a:lnTo>
                    <a:pt x="2246" y="1566"/>
                  </a:lnTo>
                  <a:lnTo>
                    <a:pt x="2253" y="1573"/>
                  </a:lnTo>
                  <a:lnTo>
                    <a:pt x="2253" y="1580"/>
                  </a:lnTo>
                  <a:lnTo>
                    <a:pt x="2260" y="1587"/>
                  </a:lnTo>
                  <a:lnTo>
                    <a:pt x="2267" y="1594"/>
                  </a:lnTo>
                  <a:lnTo>
                    <a:pt x="2267" y="1601"/>
                  </a:lnTo>
                  <a:lnTo>
                    <a:pt x="2274" y="1608"/>
                  </a:lnTo>
                </a:path>
              </a:pathLst>
            </a:cu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515360" y="1947600"/>
              <a:ext cx="166680" cy="1562040"/>
            </a:xfrm>
            <a:custGeom>
              <a:avLst/>
              <a:gdLst/>
              <a:ahLst/>
              <a:rect l="l" t="t" r="r" b="b"/>
              <a:pathLst>
                <a:path w="2274" h="1608">
                  <a:moveTo>
                    <a:pt x="0" y="1608"/>
                  </a:moveTo>
                  <a:lnTo>
                    <a:pt x="7" y="1601"/>
                  </a:lnTo>
                  <a:lnTo>
                    <a:pt x="14" y="1594"/>
                  </a:lnTo>
                  <a:lnTo>
                    <a:pt x="14" y="1587"/>
                  </a:lnTo>
                  <a:lnTo>
                    <a:pt x="21" y="1580"/>
                  </a:lnTo>
                  <a:lnTo>
                    <a:pt x="28" y="1573"/>
                  </a:lnTo>
                  <a:lnTo>
                    <a:pt x="28" y="1566"/>
                  </a:lnTo>
                  <a:lnTo>
                    <a:pt x="35" y="1559"/>
                  </a:lnTo>
                  <a:lnTo>
                    <a:pt x="42" y="1552"/>
                  </a:lnTo>
                  <a:lnTo>
                    <a:pt x="49" y="1544"/>
                  </a:lnTo>
                  <a:lnTo>
                    <a:pt x="49" y="1537"/>
                  </a:lnTo>
                  <a:lnTo>
                    <a:pt x="56" y="1530"/>
                  </a:lnTo>
                  <a:lnTo>
                    <a:pt x="63" y="1523"/>
                  </a:lnTo>
                  <a:lnTo>
                    <a:pt x="71" y="1516"/>
                  </a:lnTo>
                  <a:lnTo>
                    <a:pt x="78" y="1509"/>
                  </a:lnTo>
                  <a:lnTo>
                    <a:pt x="85" y="1502"/>
                  </a:lnTo>
                  <a:lnTo>
                    <a:pt x="92" y="1495"/>
                  </a:lnTo>
                  <a:lnTo>
                    <a:pt x="99" y="1488"/>
                  </a:lnTo>
                  <a:lnTo>
                    <a:pt x="106" y="1481"/>
                  </a:lnTo>
                  <a:lnTo>
                    <a:pt x="113" y="1474"/>
                  </a:lnTo>
                  <a:lnTo>
                    <a:pt x="120" y="1467"/>
                  </a:lnTo>
                  <a:lnTo>
                    <a:pt x="127" y="1467"/>
                  </a:lnTo>
                  <a:lnTo>
                    <a:pt x="134" y="1459"/>
                  </a:lnTo>
                  <a:lnTo>
                    <a:pt x="141" y="1459"/>
                  </a:lnTo>
                  <a:lnTo>
                    <a:pt x="148" y="1459"/>
                  </a:lnTo>
                  <a:lnTo>
                    <a:pt x="156" y="1459"/>
                  </a:lnTo>
                  <a:lnTo>
                    <a:pt x="163" y="1467"/>
                  </a:lnTo>
                  <a:lnTo>
                    <a:pt x="170" y="1467"/>
                  </a:lnTo>
                  <a:lnTo>
                    <a:pt x="177" y="1467"/>
                  </a:lnTo>
                  <a:lnTo>
                    <a:pt x="184" y="1474"/>
                  </a:lnTo>
                  <a:lnTo>
                    <a:pt x="191" y="1481"/>
                  </a:lnTo>
                  <a:lnTo>
                    <a:pt x="198" y="1481"/>
                  </a:lnTo>
                  <a:lnTo>
                    <a:pt x="205" y="1488"/>
                  </a:lnTo>
                  <a:lnTo>
                    <a:pt x="212" y="1495"/>
                  </a:lnTo>
                  <a:lnTo>
                    <a:pt x="219" y="1502"/>
                  </a:lnTo>
                  <a:lnTo>
                    <a:pt x="226" y="1509"/>
                  </a:lnTo>
                  <a:lnTo>
                    <a:pt x="234" y="1516"/>
                  </a:lnTo>
                  <a:lnTo>
                    <a:pt x="234" y="1523"/>
                  </a:lnTo>
                  <a:lnTo>
                    <a:pt x="241" y="1530"/>
                  </a:lnTo>
                  <a:lnTo>
                    <a:pt x="241" y="1537"/>
                  </a:lnTo>
                  <a:lnTo>
                    <a:pt x="248" y="1544"/>
                  </a:lnTo>
                  <a:lnTo>
                    <a:pt x="255" y="1552"/>
                  </a:lnTo>
                  <a:lnTo>
                    <a:pt x="255" y="1559"/>
                  </a:lnTo>
                  <a:lnTo>
                    <a:pt x="262" y="1566"/>
                  </a:lnTo>
                  <a:lnTo>
                    <a:pt x="269" y="1573"/>
                  </a:lnTo>
                  <a:lnTo>
                    <a:pt x="269" y="1580"/>
                  </a:lnTo>
                  <a:lnTo>
                    <a:pt x="276" y="1587"/>
                  </a:lnTo>
                  <a:lnTo>
                    <a:pt x="276" y="1594"/>
                  </a:lnTo>
                  <a:lnTo>
                    <a:pt x="283" y="1601"/>
                  </a:lnTo>
                  <a:lnTo>
                    <a:pt x="283" y="1608"/>
                  </a:lnTo>
                  <a:lnTo>
                    <a:pt x="290" y="1601"/>
                  </a:lnTo>
                  <a:lnTo>
                    <a:pt x="290" y="1594"/>
                  </a:lnTo>
                  <a:lnTo>
                    <a:pt x="297" y="1587"/>
                  </a:lnTo>
                  <a:lnTo>
                    <a:pt x="297" y="1580"/>
                  </a:lnTo>
                  <a:lnTo>
                    <a:pt x="304" y="1573"/>
                  </a:lnTo>
                  <a:lnTo>
                    <a:pt x="304" y="1566"/>
                  </a:lnTo>
                  <a:lnTo>
                    <a:pt x="311" y="1559"/>
                  </a:lnTo>
                  <a:lnTo>
                    <a:pt x="319" y="1552"/>
                  </a:lnTo>
                  <a:lnTo>
                    <a:pt x="319" y="1544"/>
                  </a:lnTo>
                  <a:lnTo>
                    <a:pt x="319" y="1537"/>
                  </a:lnTo>
                  <a:lnTo>
                    <a:pt x="326" y="1530"/>
                  </a:lnTo>
                  <a:lnTo>
                    <a:pt x="326" y="1523"/>
                  </a:lnTo>
                  <a:lnTo>
                    <a:pt x="333" y="1516"/>
                  </a:lnTo>
                  <a:lnTo>
                    <a:pt x="340" y="1509"/>
                  </a:lnTo>
                  <a:lnTo>
                    <a:pt x="340" y="1502"/>
                  </a:lnTo>
                  <a:lnTo>
                    <a:pt x="347" y="1495"/>
                  </a:lnTo>
                  <a:lnTo>
                    <a:pt x="347" y="1488"/>
                  </a:lnTo>
                  <a:lnTo>
                    <a:pt x="354" y="1481"/>
                  </a:lnTo>
                  <a:lnTo>
                    <a:pt x="354" y="1474"/>
                  </a:lnTo>
                  <a:lnTo>
                    <a:pt x="361" y="1467"/>
                  </a:lnTo>
                  <a:lnTo>
                    <a:pt x="368" y="1459"/>
                  </a:lnTo>
                  <a:lnTo>
                    <a:pt x="375" y="1452"/>
                  </a:lnTo>
                  <a:lnTo>
                    <a:pt x="375" y="1445"/>
                  </a:lnTo>
                  <a:lnTo>
                    <a:pt x="382" y="1438"/>
                  </a:lnTo>
                  <a:lnTo>
                    <a:pt x="389" y="1431"/>
                  </a:lnTo>
                  <a:lnTo>
                    <a:pt x="397" y="1424"/>
                  </a:lnTo>
                  <a:lnTo>
                    <a:pt x="404" y="1417"/>
                  </a:lnTo>
                  <a:lnTo>
                    <a:pt x="411" y="1410"/>
                  </a:lnTo>
                  <a:lnTo>
                    <a:pt x="418" y="1403"/>
                  </a:lnTo>
                  <a:lnTo>
                    <a:pt x="425" y="1403"/>
                  </a:lnTo>
                  <a:lnTo>
                    <a:pt x="432" y="1403"/>
                  </a:lnTo>
                  <a:lnTo>
                    <a:pt x="439" y="1403"/>
                  </a:lnTo>
                  <a:lnTo>
                    <a:pt x="446" y="1403"/>
                  </a:lnTo>
                  <a:lnTo>
                    <a:pt x="453" y="1403"/>
                  </a:lnTo>
                  <a:lnTo>
                    <a:pt x="460" y="1410"/>
                  </a:lnTo>
                  <a:lnTo>
                    <a:pt x="467" y="1417"/>
                  </a:lnTo>
                  <a:lnTo>
                    <a:pt x="474" y="1424"/>
                  </a:lnTo>
                  <a:lnTo>
                    <a:pt x="482" y="1431"/>
                  </a:lnTo>
                  <a:lnTo>
                    <a:pt x="489" y="1438"/>
                  </a:lnTo>
                  <a:lnTo>
                    <a:pt x="496" y="1445"/>
                  </a:lnTo>
                  <a:lnTo>
                    <a:pt x="503" y="1452"/>
                  </a:lnTo>
                  <a:lnTo>
                    <a:pt x="503" y="1459"/>
                  </a:lnTo>
                  <a:lnTo>
                    <a:pt x="510" y="1467"/>
                  </a:lnTo>
                  <a:lnTo>
                    <a:pt x="510" y="1474"/>
                  </a:lnTo>
                  <a:lnTo>
                    <a:pt x="517" y="1481"/>
                  </a:lnTo>
                  <a:lnTo>
                    <a:pt x="517" y="1488"/>
                  </a:lnTo>
                  <a:lnTo>
                    <a:pt x="524" y="1495"/>
                  </a:lnTo>
                  <a:lnTo>
                    <a:pt x="524" y="1502"/>
                  </a:lnTo>
                  <a:lnTo>
                    <a:pt x="531" y="1509"/>
                  </a:lnTo>
                  <a:lnTo>
                    <a:pt x="531" y="1516"/>
                  </a:lnTo>
                  <a:lnTo>
                    <a:pt x="538" y="1523"/>
                  </a:lnTo>
                  <a:lnTo>
                    <a:pt x="538" y="1530"/>
                  </a:lnTo>
                  <a:lnTo>
                    <a:pt x="538" y="1537"/>
                  </a:lnTo>
                  <a:lnTo>
                    <a:pt x="545" y="1544"/>
                  </a:lnTo>
                  <a:lnTo>
                    <a:pt x="545" y="1552"/>
                  </a:lnTo>
                  <a:lnTo>
                    <a:pt x="552" y="1559"/>
                  </a:lnTo>
                  <a:lnTo>
                    <a:pt x="552" y="1566"/>
                  </a:lnTo>
                  <a:lnTo>
                    <a:pt x="552" y="1573"/>
                  </a:lnTo>
                  <a:lnTo>
                    <a:pt x="560" y="1580"/>
                  </a:lnTo>
                  <a:lnTo>
                    <a:pt x="560" y="1587"/>
                  </a:lnTo>
                  <a:lnTo>
                    <a:pt x="567" y="1594"/>
                  </a:lnTo>
                  <a:lnTo>
                    <a:pt x="567" y="1601"/>
                  </a:lnTo>
                  <a:lnTo>
                    <a:pt x="567" y="1608"/>
                  </a:lnTo>
                  <a:lnTo>
                    <a:pt x="574" y="1601"/>
                  </a:lnTo>
                  <a:lnTo>
                    <a:pt x="574" y="1594"/>
                  </a:lnTo>
                  <a:lnTo>
                    <a:pt x="574" y="1587"/>
                  </a:lnTo>
                  <a:lnTo>
                    <a:pt x="581" y="1580"/>
                  </a:lnTo>
                  <a:lnTo>
                    <a:pt x="581" y="1573"/>
                  </a:lnTo>
                  <a:lnTo>
                    <a:pt x="581" y="1566"/>
                  </a:lnTo>
                  <a:lnTo>
                    <a:pt x="588" y="1559"/>
                  </a:lnTo>
                  <a:lnTo>
                    <a:pt x="588" y="1552"/>
                  </a:lnTo>
                  <a:lnTo>
                    <a:pt x="588" y="1544"/>
                  </a:lnTo>
                  <a:lnTo>
                    <a:pt x="595" y="1537"/>
                  </a:lnTo>
                  <a:lnTo>
                    <a:pt x="595" y="1530"/>
                  </a:lnTo>
                  <a:lnTo>
                    <a:pt x="595" y="1523"/>
                  </a:lnTo>
                  <a:lnTo>
                    <a:pt x="602" y="1516"/>
                  </a:lnTo>
                  <a:lnTo>
                    <a:pt x="602" y="1509"/>
                  </a:lnTo>
                  <a:lnTo>
                    <a:pt x="602" y="1502"/>
                  </a:lnTo>
                  <a:lnTo>
                    <a:pt x="609" y="1495"/>
                  </a:lnTo>
                  <a:lnTo>
                    <a:pt x="609" y="1488"/>
                  </a:lnTo>
                  <a:lnTo>
                    <a:pt x="616" y="1481"/>
                  </a:lnTo>
                  <a:lnTo>
                    <a:pt x="616" y="1474"/>
                  </a:lnTo>
                  <a:lnTo>
                    <a:pt x="616" y="1467"/>
                  </a:lnTo>
                  <a:lnTo>
                    <a:pt x="616" y="1459"/>
                  </a:lnTo>
                  <a:lnTo>
                    <a:pt x="623" y="1452"/>
                  </a:lnTo>
                  <a:lnTo>
                    <a:pt x="623" y="1445"/>
                  </a:lnTo>
                  <a:lnTo>
                    <a:pt x="623" y="1438"/>
                  </a:lnTo>
                  <a:lnTo>
                    <a:pt x="630" y="1431"/>
                  </a:lnTo>
                  <a:lnTo>
                    <a:pt x="630" y="1424"/>
                  </a:lnTo>
                  <a:lnTo>
                    <a:pt x="637" y="1417"/>
                  </a:lnTo>
                  <a:lnTo>
                    <a:pt x="637" y="1410"/>
                  </a:lnTo>
                  <a:lnTo>
                    <a:pt x="637" y="1403"/>
                  </a:lnTo>
                  <a:lnTo>
                    <a:pt x="645" y="1396"/>
                  </a:lnTo>
                  <a:lnTo>
                    <a:pt x="645" y="1389"/>
                  </a:lnTo>
                  <a:lnTo>
                    <a:pt x="652" y="1382"/>
                  </a:lnTo>
                  <a:lnTo>
                    <a:pt x="652" y="1374"/>
                  </a:lnTo>
                  <a:lnTo>
                    <a:pt x="652" y="1367"/>
                  </a:lnTo>
                  <a:lnTo>
                    <a:pt x="652" y="1360"/>
                  </a:lnTo>
                  <a:lnTo>
                    <a:pt x="659" y="1353"/>
                  </a:lnTo>
                  <a:lnTo>
                    <a:pt x="659" y="1346"/>
                  </a:lnTo>
                  <a:lnTo>
                    <a:pt x="666" y="1339"/>
                  </a:lnTo>
                  <a:lnTo>
                    <a:pt x="666" y="1332"/>
                  </a:lnTo>
                  <a:lnTo>
                    <a:pt x="673" y="1325"/>
                  </a:lnTo>
                  <a:lnTo>
                    <a:pt x="673" y="1318"/>
                  </a:lnTo>
                  <a:lnTo>
                    <a:pt x="680" y="1311"/>
                  </a:lnTo>
                  <a:lnTo>
                    <a:pt x="687" y="1304"/>
                  </a:lnTo>
                  <a:lnTo>
                    <a:pt x="687" y="1296"/>
                  </a:lnTo>
                  <a:lnTo>
                    <a:pt x="694" y="1289"/>
                  </a:lnTo>
                  <a:lnTo>
                    <a:pt x="694" y="1282"/>
                  </a:lnTo>
                  <a:lnTo>
                    <a:pt x="701" y="1275"/>
                  </a:lnTo>
                  <a:lnTo>
                    <a:pt x="708" y="1268"/>
                  </a:lnTo>
                  <a:lnTo>
                    <a:pt x="715" y="1261"/>
                  </a:lnTo>
                  <a:lnTo>
                    <a:pt x="723" y="1261"/>
                  </a:lnTo>
                  <a:lnTo>
                    <a:pt x="730" y="1261"/>
                  </a:lnTo>
                  <a:lnTo>
                    <a:pt x="737" y="1261"/>
                  </a:lnTo>
                  <a:lnTo>
                    <a:pt x="744" y="1261"/>
                  </a:lnTo>
                  <a:lnTo>
                    <a:pt x="751" y="1268"/>
                  </a:lnTo>
                  <a:lnTo>
                    <a:pt x="758" y="1275"/>
                  </a:lnTo>
                  <a:lnTo>
                    <a:pt x="765" y="1282"/>
                  </a:lnTo>
                  <a:lnTo>
                    <a:pt x="765" y="1289"/>
                  </a:lnTo>
                  <a:lnTo>
                    <a:pt x="772" y="1296"/>
                  </a:lnTo>
                  <a:lnTo>
                    <a:pt x="772" y="1304"/>
                  </a:lnTo>
                  <a:lnTo>
                    <a:pt x="779" y="1311"/>
                  </a:lnTo>
                  <a:lnTo>
                    <a:pt x="779" y="1318"/>
                  </a:lnTo>
                  <a:lnTo>
                    <a:pt x="786" y="1325"/>
                  </a:lnTo>
                  <a:lnTo>
                    <a:pt x="786" y="1332"/>
                  </a:lnTo>
                  <a:lnTo>
                    <a:pt x="793" y="1339"/>
                  </a:lnTo>
                  <a:lnTo>
                    <a:pt x="793" y="1346"/>
                  </a:lnTo>
                  <a:lnTo>
                    <a:pt x="793" y="1353"/>
                  </a:lnTo>
                  <a:lnTo>
                    <a:pt x="800" y="1360"/>
                  </a:lnTo>
                  <a:lnTo>
                    <a:pt x="800" y="1367"/>
                  </a:lnTo>
                  <a:lnTo>
                    <a:pt x="800" y="1374"/>
                  </a:lnTo>
                  <a:lnTo>
                    <a:pt x="800" y="1382"/>
                  </a:lnTo>
                  <a:lnTo>
                    <a:pt x="808" y="1389"/>
                  </a:lnTo>
                  <a:lnTo>
                    <a:pt x="808" y="1403"/>
                  </a:lnTo>
                  <a:lnTo>
                    <a:pt x="808" y="1410"/>
                  </a:lnTo>
                  <a:lnTo>
                    <a:pt x="815" y="1417"/>
                  </a:lnTo>
                  <a:lnTo>
                    <a:pt x="815" y="1424"/>
                  </a:lnTo>
                  <a:lnTo>
                    <a:pt x="815" y="1431"/>
                  </a:lnTo>
                  <a:lnTo>
                    <a:pt x="822" y="1445"/>
                  </a:lnTo>
                  <a:lnTo>
                    <a:pt x="822" y="1452"/>
                  </a:lnTo>
                  <a:lnTo>
                    <a:pt x="822" y="1459"/>
                  </a:lnTo>
                  <a:lnTo>
                    <a:pt x="829" y="1474"/>
                  </a:lnTo>
                  <a:lnTo>
                    <a:pt x="829" y="1481"/>
                  </a:lnTo>
                  <a:lnTo>
                    <a:pt x="829" y="1495"/>
                  </a:lnTo>
                  <a:lnTo>
                    <a:pt x="836" y="1502"/>
                  </a:lnTo>
                  <a:lnTo>
                    <a:pt x="836" y="1516"/>
                  </a:lnTo>
                  <a:lnTo>
                    <a:pt x="836" y="1523"/>
                  </a:lnTo>
                  <a:lnTo>
                    <a:pt x="836" y="1537"/>
                  </a:lnTo>
                  <a:lnTo>
                    <a:pt x="843" y="1544"/>
                  </a:lnTo>
                  <a:lnTo>
                    <a:pt x="843" y="1559"/>
                  </a:lnTo>
                  <a:lnTo>
                    <a:pt x="843" y="1573"/>
                  </a:lnTo>
                  <a:lnTo>
                    <a:pt x="850" y="1587"/>
                  </a:lnTo>
                  <a:lnTo>
                    <a:pt x="850" y="1594"/>
                  </a:lnTo>
                  <a:lnTo>
                    <a:pt x="850" y="1608"/>
                  </a:lnTo>
                  <a:lnTo>
                    <a:pt x="857" y="1594"/>
                  </a:lnTo>
                  <a:lnTo>
                    <a:pt x="857" y="1580"/>
                  </a:lnTo>
                  <a:lnTo>
                    <a:pt x="857" y="1573"/>
                  </a:lnTo>
                  <a:lnTo>
                    <a:pt x="864" y="1559"/>
                  </a:lnTo>
                  <a:lnTo>
                    <a:pt x="864" y="1544"/>
                  </a:lnTo>
                  <a:lnTo>
                    <a:pt x="864" y="1530"/>
                  </a:lnTo>
                  <a:lnTo>
                    <a:pt x="871" y="1516"/>
                  </a:lnTo>
                  <a:lnTo>
                    <a:pt x="871" y="1502"/>
                  </a:lnTo>
                  <a:lnTo>
                    <a:pt x="871" y="1488"/>
                  </a:lnTo>
                  <a:lnTo>
                    <a:pt x="878" y="1474"/>
                  </a:lnTo>
                  <a:lnTo>
                    <a:pt x="878" y="1459"/>
                  </a:lnTo>
                  <a:lnTo>
                    <a:pt x="878" y="1445"/>
                  </a:lnTo>
                  <a:lnTo>
                    <a:pt x="878" y="1431"/>
                  </a:lnTo>
                  <a:lnTo>
                    <a:pt x="885" y="1417"/>
                  </a:lnTo>
                  <a:lnTo>
                    <a:pt x="885" y="1403"/>
                  </a:lnTo>
                  <a:lnTo>
                    <a:pt x="885" y="1382"/>
                  </a:lnTo>
                  <a:lnTo>
                    <a:pt x="893" y="1367"/>
                  </a:lnTo>
                  <a:lnTo>
                    <a:pt x="893" y="1353"/>
                  </a:lnTo>
                  <a:lnTo>
                    <a:pt x="893" y="1339"/>
                  </a:lnTo>
                  <a:lnTo>
                    <a:pt x="900" y="1325"/>
                  </a:lnTo>
                  <a:lnTo>
                    <a:pt x="900" y="1304"/>
                  </a:lnTo>
                  <a:lnTo>
                    <a:pt x="900" y="1289"/>
                  </a:lnTo>
                  <a:lnTo>
                    <a:pt x="907" y="1275"/>
                  </a:lnTo>
                  <a:lnTo>
                    <a:pt x="907" y="1261"/>
                  </a:lnTo>
                  <a:lnTo>
                    <a:pt x="907" y="1240"/>
                  </a:lnTo>
                  <a:lnTo>
                    <a:pt x="914" y="1226"/>
                  </a:lnTo>
                  <a:lnTo>
                    <a:pt x="914" y="1211"/>
                  </a:lnTo>
                  <a:lnTo>
                    <a:pt x="914" y="1190"/>
                  </a:lnTo>
                  <a:lnTo>
                    <a:pt x="914" y="1176"/>
                  </a:lnTo>
                  <a:lnTo>
                    <a:pt x="921" y="1162"/>
                  </a:lnTo>
                  <a:lnTo>
                    <a:pt x="921" y="1141"/>
                  </a:lnTo>
                  <a:lnTo>
                    <a:pt x="921" y="1126"/>
                  </a:lnTo>
                  <a:lnTo>
                    <a:pt x="928" y="1105"/>
                  </a:lnTo>
                  <a:lnTo>
                    <a:pt x="928" y="1091"/>
                  </a:lnTo>
                  <a:lnTo>
                    <a:pt x="928" y="1077"/>
                  </a:lnTo>
                  <a:lnTo>
                    <a:pt x="935" y="1056"/>
                  </a:lnTo>
                  <a:lnTo>
                    <a:pt x="935" y="1041"/>
                  </a:lnTo>
                  <a:lnTo>
                    <a:pt x="935" y="1020"/>
                  </a:lnTo>
                  <a:lnTo>
                    <a:pt x="942" y="1006"/>
                  </a:lnTo>
                  <a:lnTo>
                    <a:pt x="942" y="992"/>
                  </a:lnTo>
                  <a:lnTo>
                    <a:pt x="942" y="971"/>
                  </a:lnTo>
                  <a:lnTo>
                    <a:pt x="949" y="956"/>
                  </a:lnTo>
                  <a:lnTo>
                    <a:pt x="949" y="935"/>
                  </a:lnTo>
                  <a:lnTo>
                    <a:pt x="949" y="921"/>
                  </a:lnTo>
                  <a:lnTo>
                    <a:pt x="949" y="900"/>
                  </a:lnTo>
                  <a:lnTo>
                    <a:pt x="956" y="886"/>
                  </a:lnTo>
                  <a:lnTo>
                    <a:pt x="956" y="871"/>
                  </a:lnTo>
                  <a:lnTo>
                    <a:pt x="956" y="850"/>
                  </a:lnTo>
                  <a:lnTo>
                    <a:pt x="963" y="836"/>
                  </a:lnTo>
                  <a:lnTo>
                    <a:pt x="963" y="815"/>
                  </a:lnTo>
                  <a:lnTo>
                    <a:pt x="963" y="800"/>
                  </a:lnTo>
                  <a:lnTo>
                    <a:pt x="971" y="786"/>
                  </a:lnTo>
                  <a:lnTo>
                    <a:pt x="971" y="765"/>
                  </a:lnTo>
                  <a:lnTo>
                    <a:pt x="971" y="751"/>
                  </a:lnTo>
                  <a:lnTo>
                    <a:pt x="978" y="730"/>
                  </a:lnTo>
                  <a:lnTo>
                    <a:pt x="978" y="715"/>
                  </a:lnTo>
                  <a:lnTo>
                    <a:pt x="978" y="701"/>
                  </a:lnTo>
                  <a:lnTo>
                    <a:pt x="985" y="680"/>
                  </a:lnTo>
                  <a:lnTo>
                    <a:pt x="985" y="666"/>
                  </a:lnTo>
                  <a:lnTo>
                    <a:pt x="985" y="652"/>
                  </a:lnTo>
                  <a:lnTo>
                    <a:pt x="985" y="630"/>
                  </a:lnTo>
                  <a:lnTo>
                    <a:pt x="992" y="616"/>
                  </a:lnTo>
                  <a:lnTo>
                    <a:pt x="992" y="602"/>
                  </a:lnTo>
                  <a:lnTo>
                    <a:pt x="992" y="581"/>
                  </a:lnTo>
                  <a:lnTo>
                    <a:pt x="999" y="567"/>
                  </a:lnTo>
                  <a:lnTo>
                    <a:pt x="999" y="552"/>
                  </a:lnTo>
                  <a:lnTo>
                    <a:pt x="999" y="538"/>
                  </a:lnTo>
                  <a:lnTo>
                    <a:pt x="1006" y="524"/>
                  </a:lnTo>
                  <a:lnTo>
                    <a:pt x="1006" y="503"/>
                  </a:lnTo>
                  <a:lnTo>
                    <a:pt x="1006" y="489"/>
                  </a:lnTo>
                  <a:lnTo>
                    <a:pt x="1013" y="475"/>
                  </a:lnTo>
                  <a:lnTo>
                    <a:pt x="1013" y="460"/>
                  </a:lnTo>
                  <a:lnTo>
                    <a:pt x="1013" y="446"/>
                  </a:lnTo>
                  <a:lnTo>
                    <a:pt x="1020" y="432"/>
                  </a:lnTo>
                  <a:lnTo>
                    <a:pt x="1020" y="418"/>
                  </a:lnTo>
                  <a:lnTo>
                    <a:pt x="1020" y="404"/>
                  </a:lnTo>
                  <a:lnTo>
                    <a:pt x="1027" y="390"/>
                  </a:lnTo>
                  <a:lnTo>
                    <a:pt x="1027" y="375"/>
                  </a:lnTo>
                  <a:lnTo>
                    <a:pt x="1027" y="361"/>
                  </a:lnTo>
                  <a:lnTo>
                    <a:pt x="1027" y="347"/>
                  </a:lnTo>
                  <a:lnTo>
                    <a:pt x="1034" y="333"/>
                  </a:lnTo>
                  <a:lnTo>
                    <a:pt x="1034" y="319"/>
                  </a:lnTo>
                  <a:lnTo>
                    <a:pt x="1034" y="304"/>
                  </a:lnTo>
                  <a:lnTo>
                    <a:pt x="1041" y="297"/>
                  </a:lnTo>
                  <a:lnTo>
                    <a:pt x="1041" y="283"/>
                  </a:lnTo>
                  <a:lnTo>
                    <a:pt x="1041" y="269"/>
                  </a:lnTo>
                  <a:lnTo>
                    <a:pt x="1048" y="255"/>
                  </a:lnTo>
                  <a:lnTo>
                    <a:pt x="1048" y="248"/>
                  </a:lnTo>
                  <a:lnTo>
                    <a:pt x="1048" y="234"/>
                  </a:lnTo>
                  <a:lnTo>
                    <a:pt x="1056" y="227"/>
                  </a:lnTo>
                  <a:lnTo>
                    <a:pt x="1056" y="212"/>
                  </a:lnTo>
                  <a:lnTo>
                    <a:pt x="1056" y="198"/>
                  </a:lnTo>
                  <a:lnTo>
                    <a:pt x="1063" y="191"/>
                  </a:lnTo>
                  <a:lnTo>
                    <a:pt x="1063" y="177"/>
                  </a:lnTo>
                  <a:lnTo>
                    <a:pt x="1063" y="170"/>
                  </a:lnTo>
                  <a:lnTo>
                    <a:pt x="1063" y="163"/>
                  </a:lnTo>
                  <a:lnTo>
                    <a:pt x="1070" y="149"/>
                  </a:lnTo>
                  <a:lnTo>
                    <a:pt x="1070" y="142"/>
                  </a:lnTo>
                  <a:lnTo>
                    <a:pt x="1070" y="134"/>
                  </a:lnTo>
                  <a:lnTo>
                    <a:pt x="1077" y="120"/>
                  </a:lnTo>
                  <a:lnTo>
                    <a:pt x="1077" y="113"/>
                  </a:lnTo>
                  <a:lnTo>
                    <a:pt x="1077" y="106"/>
                  </a:lnTo>
                  <a:lnTo>
                    <a:pt x="1084" y="99"/>
                  </a:lnTo>
                  <a:lnTo>
                    <a:pt x="1084" y="92"/>
                  </a:lnTo>
                  <a:lnTo>
                    <a:pt x="1084" y="85"/>
                  </a:lnTo>
                  <a:lnTo>
                    <a:pt x="1091" y="78"/>
                  </a:lnTo>
                  <a:lnTo>
                    <a:pt x="1091" y="71"/>
                  </a:lnTo>
                  <a:lnTo>
                    <a:pt x="1091" y="64"/>
                  </a:lnTo>
                  <a:lnTo>
                    <a:pt x="1098" y="56"/>
                  </a:lnTo>
                  <a:lnTo>
                    <a:pt x="1098" y="49"/>
                  </a:lnTo>
                  <a:lnTo>
                    <a:pt x="1098" y="42"/>
                  </a:lnTo>
                  <a:lnTo>
                    <a:pt x="1105" y="35"/>
                  </a:lnTo>
                  <a:lnTo>
                    <a:pt x="1105" y="28"/>
                  </a:lnTo>
                  <a:lnTo>
                    <a:pt x="1112" y="21"/>
                  </a:lnTo>
                  <a:lnTo>
                    <a:pt x="1119" y="14"/>
                  </a:lnTo>
                  <a:lnTo>
                    <a:pt x="1126" y="7"/>
                  </a:lnTo>
                  <a:lnTo>
                    <a:pt x="1134" y="0"/>
                  </a:lnTo>
                  <a:lnTo>
                    <a:pt x="1141" y="0"/>
                  </a:lnTo>
                  <a:lnTo>
                    <a:pt x="1148" y="7"/>
                  </a:lnTo>
                  <a:lnTo>
                    <a:pt x="1155" y="14"/>
                  </a:lnTo>
                  <a:lnTo>
                    <a:pt x="1162" y="21"/>
                  </a:lnTo>
                  <a:lnTo>
                    <a:pt x="1169" y="28"/>
                  </a:lnTo>
                  <a:lnTo>
                    <a:pt x="1169" y="35"/>
                  </a:lnTo>
                  <a:lnTo>
                    <a:pt x="1176" y="42"/>
                  </a:lnTo>
                  <a:lnTo>
                    <a:pt x="1176" y="49"/>
                  </a:lnTo>
                  <a:lnTo>
                    <a:pt x="1176" y="56"/>
                  </a:lnTo>
                  <a:lnTo>
                    <a:pt x="1183" y="64"/>
                  </a:lnTo>
                  <a:lnTo>
                    <a:pt x="1183" y="71"/>
                  </a:lnTo>
                  <a:lnTo>
                    <a:pt x="1183" y="78"/>
                  </a:lnTo>
                  <a:lnTo>
                    <a:pt x="1190" y="85"/>
                  </a:lnTo>
                  <a:lnTo>
                    <a:pt x="1190" y="92"/>
                  </a:lnTo>
                  <a:lnTo>
                    <a:pt x="1190" y="99"/>
                  </a:lnTo>
                  <a:lnTo>
                    <a:pt x="1197" y="106"/>
                  </a:lnTo>
                  <a:lnTo>
                    <a:pt x="1197" y="113"/>
                  </a:lnTo>
                  <a:lnTo>
                    <a:pt x="1197" y="120"/>
                  </a:lnTo>
                  <a:lnTo>
                    <a:pt x="1204" y="134"/>
                  </a:lnTo>
                  <a:lnTo>
                    <a:pt x="1204" y="142"/>
                  </a:lnTo>
                  <a:lnTo>
                    <a:pt x="1204" y="149"/>
                  </a:lnTo>
                  <a:lnTo>
                    <a:pt x="1211" y="163"/>
                  </a:lnTo>
                  <a:lnTo>
                    <a:pt x="1211" y="170"/>
                  </a:lnTo>
                  <a:lnTo>
                    <a:pt x="1211" y="177"/>
                  </a:lnTo>
                  <a:lnTo>
                    <a:pt x="1211" y="191"/>
                  </a:lnTo>
                  <a:lnTo>
                    <a:pt x="1219" y="198"/>
                  </a:lnTo>
                  <a:lnTo>
                    <a:pt x="1219" y="212"/>
                  </a:lnTo>
                  <a:lnTo>
                    <a:pt x="1219" y="227"/>
                  </a:lnTo>
                  <a:lnTo>
                    <a:pt x="1226" y="234"/>
                  </a:lnTo>
                  <a:lnTo>
                    <a:pt x="1226" y="248"/>
                  </a:lnTo>
                  <a:lnTo>
                    <a:pt x="1226" y="255"/>
                  </a:lnTo>
                  <a:lnTo>
                    <a:pt x="1233" y="269"/>
                  </a:lnTo>
                  <a:lnTo>
                    <a:pt x="1233" y="283"/>
                  </a:lnTo>
                  <a:lnTo>
                    <a:pt x="1233" y="297"/>
                  </a:lnTo>
                  <a:lnTo>
                    <a:pt x="1240" y="304"/>
                  </a:lnTo>
                  <a:lnTo>
                    <a:pt x="1240" y="319"/>
                  </a:lnTo>
                  <a:lnTo>
                    <a:pt x="1240" y="333"/>
                  </a:lnTo>
                  <a:lnTo>
                    <a:pt x="1247" y="347"/>
                  </a:lnTo>
                  <a:lnTo>
                    <a:pt x="1247" y="361"/>
                  </a:lnTo>
                  <a:lnTo>
                    <a:pt x="1247" y="375"/>
                  </a:lnTo>
                  <a:lnTo>
                    <a:pt x="1247" y="390"/>
                  </a:lnTo>
                  <a:lnTo>
                    <a:pt x="1254" y="404"/>
                  </a:lnTo>
                  <a:lnTo>
                    <a:pt x="1254" y="418"/>
                  </a:lnTo>
                  <a:lnTo>
                    <a:pt x="1254" y="432"/>
                  </a:lnTo>
                  <a:lnTo>
                    <a:pt x="1261" y="446"/>
                  </a:lnTo>
                  <a:lnTo>
                    <a:pt x="1261" y="460"/>
                  </a:lnTo>
                  <a:lnTo>
                    <a:pt x="1261" y="475"/>
                  </a:lnTo>
                  <a:lnTo>
                    <a:pt x="1268" y="489"/>
                  </a:lnTo>
                  <a:lnTo>
                    <a:pt x="1268" y="503"/>
                  </a:lnTo>
                  <a:lnTo>
                    <a:pt x="1268" y="524"/>
                  </a:lnTo>
                  <a:lnTo>
                    <a:pt x="1275" y="538"/>
                  </a:lnTo>
                  <a:lnTo>
                    <a:pt x="1275" y="552"/>
                  </a:lnTo>
                  <a:lnTo>
                    <a:pt x="1275" y="567"/>
                  </a:lnTo>
                  <a:lnTo>
                    <a:pt x="1282" y="581"/>
                  </a:lnTo>
                  <a:lnTo>
                    <a:pt x="1282" y="602"/>
                  </a:lnTo>
                  <a:lnTo>
                    <a:pt x="1282" y="616"/>
                  </a:lnTo>
                  <a:lnTo>
                    <a:pt x="1289" y="630"/>
                  </a:lnTo>
                  <a:lnTo>
                    <a:pt x="1289" y="652"/>
                  </a:lnTo>
                  <a:lnTo>
                    <a:pt x="1289" y="666"/>
                  </a:lnTo>
                  <a:lnTo>
                    <a:pt x="1289" y="680"/>
                  </a:lnTo>
                  <a:lnTo>
                    <a:pt x="1297" y="701"/>
                  </a:lnTo>
                  <a:lnTo>
                    <a:pt x="1297" y="715"/>
                  </a:lnTo>
                  <a:lnTo>
                    <a:pt x="1297" y="730"/>
                  </a:lnTo>
                  <a:lnTo>
                    <a:pt x="1304" y="751"/>
                  </a:lnTo>
                  <a:lnTo>
                    <a:pt x="1304" y="765"/>
                  </a:lnTo>
                  <a:lnTo>
                    <a:pt x="1304" y="786"/>
                  </a:lnTo>
                  <a:lnTo>
                    <a:pt x="1311" y="800"/>
                  </a:lnTo>
                  <a:lnTo>
                    <a:pt x="1311" y="815"/>
                  </a:lnTo>
                  <a:lnTo>
                    <a:pt x="1311" y="836"/>
                  </a:lnTo>
                  <a:lnTo>
                    <a:pt x="1318" y="850"/>
                  </a:lnTo>
                  <a:lnTo>
                    <a:pt x="1318" y="871"/>
                  </a:lnTo>
                  <a:lnTo>
                    <a:pt x="1318" y="886"/>
                  </a:lnTo>
                  <a:lnTo>
                    <a:pt x="1325" y="900"/>
                  </a:lnTo>
                  <a:lnTo>
                    <a:pt x="1325" y="921"/>
                  </a:lnTo>
                  <a:lnTo>
                    <a:pt x="1325" y="935"/>
                  </a:lnTo>
                  <a:lnTo>
                    <a:pt x="1325" y="956"/>
                  </a:lnTo>
                  <a:lnTo>
                    <a:pt x="1332" y="971"/>
                  </a:lnTo>
                  <a:lnTo>
                    <a:pt x="1332" y="992"/>
                  </a:lnTo>
                  <a:lnTo>
                    <a:pt x="1332" y="1006"/>
                  </a:lnTo>
                  <a:lnTo>
                    <a:pt x="1339" y="1020"/>
                  </a:lnTo>
                  <a:lnTo>
                    <a:pt x="1339" y="1041"/>
                  </a:lnTo>
                  <a:lnTo>
                    <a:pt x="1339" y="1056"/>
                  </a:lnTo>
                  <a:lnTo>
                    <a:pt x="1346" y="1077"/>
                  </a:lnTo>
                  <a:lnTo>
                    <a:pt x="1346" y="1091"/>
                  </a:lnTo>
                  <a:lnTo>
                    <a:pt x="1346" y="1105"/>
                  </a:lnTo>
                  <a:lnTo>
                    <a:pt x="1353" y="1126"/>
                  </a:lnTo>
                  <a:lnTo>
                    <a:pt x="1353" y="1141"/>
                  </a:lnTo>
                  <a:lnTo>
                    <a:pt x="1353" y="1162"/>
                  </a:lnTo>
                  <a:lnTo>
                    <a:pt x="1360" y="1176"/>
                  </a:lnTo>
                  <a:lnTo>
                    <a:pt x="1360" y="1190"/>
                  </a:lnTo>
                  <a:lnTo>
                    <a:pt x="1360" y="1211"/>
                  </a:lnTo>
                  <a:lnTo>
                    <a:pt x="1360" y="1226"/>
                  </a:lnTo>
                  <a:lnTo>
                    <a:pt x="1367" y="1240"/>
                  </a:lnTo>
                  <a:lnTo>
                    <a:pt x="1367" y="1261"/>
                  </a:lnTo>
                  <a:lnTo>
                    <a:pt x="1367" y="1275"/>
                  </a:lnTo>
                  <a:lnTo>
                    <a:pt x="1374" y="1289"/>
                  </a:lnTo>
                  <a:lnTo>
                    <a:pt x="1374" y="1304"/>
                  </a:lnTo>
                  <a:lnTo>
                    <a:pt x="1374" y="1325"/>
                  </a:lnTo>
                  <a:lnTo>
                    <a:pt x="1382" y="1339"/>
                  </a:lnTo>
                  <a:lnTo>
                    <a:pt x="1382" y="1353"/>
                  </a:lnTo>
                  <a:lnTo>
                    <a:pt x="1382" y="1367"/>
                  </a:lnTo>
                  <a:lnTo>
                    <a:pt x="1389" y="1382"/>
                  </a:lnTo>
                  <a:lnTo>
                    <a:pt x="1389" y="1403"/>
                  </a:lnTo>
                  <a:lnTo>
                    <a:pt x="1389" y="1417"/>
                  </a:lnTo>
                  <a:lnTo>
                    <a:pt x="1396" y="1431"/>
                  </a:lnTo>
                  <a:lnTo>
                    <a:pt x="1396" y="1445"/>
                  </a:lnTo>
                  <a:lnTo>
                    <a:pt x="1396" y="1459"/>
                  </a:lnTo>
                  <a:lnTo>
                    <a:pt x="1396" y="1474"/>
                  </a:lnTo>
                  <a:lnTo>
                    <a:pt x="1403" y="1488"/>
                  </a:lnTo>
                  <a:lnTo>
                    <a:pt x="1403" y="1502"/>
                  </a:lnTo>
                  <a:lnTo>
                    <a:pt x="1403" y="1516"/>
                  </a:lnTo>
                  <a:lnTo>
                    <a:pt x="1410" y="1530"/>
                  </a:lnTo>
                  <a:lnTo>
                    <a:pt x="1410" y="1544"/>
                  </a:lnTo>
                  <a:lnTo>
                    <a:pt x="1410" y="1559"/>
                  </a:lnTo>
                  <a:lnTo>
                    <a:pt x="1417" y="1573"/>
                  </a:lnTo>
                  <a:lnTo>
                    <a:pt x="1417" y="1580"/>
                  </a:lnTo>
                  <a:lnTo>
                    <a:pt x="1417" y="1594"/>
                  </a:lnTo>
                  <a:lnTo>
                    <a:pt x="1424" y="1608"/>
                  </a:lnTo>
                  <a:lnTo>
                    <a:pt x="1424" y="1594"/>
                  </a:lnTo>
                  <a:lnTo>
                    <a:pt x="1424" y="1587"/>
                  </a:lnTo>
                  <a:lnTo>
                    <a:pt x="1431" y="1573"/>
                  </a:lnTo>
                  <a:lnTo>
                    <a:pt x="1431" y="1559"/>
                  </a:lnTo>
                  <a:lnTo>
                    <a:pt x="1431" y="1544"/>
                  </a:lnTo>
                  <a:lnTo>
                    <a:pt x="1438" y="1537"/>
                  </a:lnTo>
                  <a:lnTo>
                    <a:pt x="1438" y="1523"/>
                  </a:lnTo>
                  <a:lnTo>
                    <a:pt x="1438" y="1516"/>
                  </a:lnTo>
                  <a:lnTo>
                    <a:pt x="1438" y="1502"/>
                  </a:lnTo>
                  <a:lnTo>
                    <a:pt x="1445" y="1495"/>
                  </a:lnTo>
                  <a:lnTo>
                    <a:pt x="1445" y="1481"/>
                  </a:lnTo>
                  <a:lnTo>
                    <a:pt x="1445" y="1474"/>
                  </a:lnTo>
                  <a:lnTo>
                    <a:pt x="1452" y="1459"/>
                  </a:lnTo>
                  <a:lnTo>
                    <a:pt x="1452" y="1452"/>
                  </a:lnTo>
                  <a:lnTo>
                    <a:pt x="1452" y="1445"/>
                  </a:lnTo>
                  <a:lnTo>
                    <a:pt x="1460" y="1431"/>
                  </a:lnTo>
                  <a:lnTo>
                    <a:pt x="1460" y="1424"/>
                  </a:lnTo>
                  <a:lnTo>
                    <a:pt x="1460" y="1417"/>
                  </a:lnTo>
                  <a:lnTo>
                    <a:pt x="1467" y="1410"/>
                  </a:lnTo>
                  <a:lnTo>
                    <a:pt x="1467" y="1403"/>
                  </a:lnTo>
                  <a:lnTo>
                    <a:pt x="1467" y="1389"/>
                  </a:lnTo>
                  <a:lnTo>
                    <a:pt x="1474" y="1382"/>
                  </a:lnTo>
                  <a:lnTo>
                    <a:pt x="1474" y="1374"/>
                  </a:lnTo>
                  <a:lnTo>
                    <a:pt x="1474" y="1367"/>
                  </a:lnTo>
                  <a:lnTo>
                    <a:pt x="1474" y="1360"/>
                  </a:lnTo>
                  <a:lnTo>
                    <a:pt x="1481" y="1353"/>
                  </a:lnTo>
                  <a:lnTo>
                    <a:pt x="1481" y="1346"/>
                  </a:lnTo>
                  <a:lnTo>
                    <a:pt x="1488" y="1339"/>
                  </a:lnTo>
                  <a:lnTo>
                    <a:pt x="1488" y="1332"/>
                  </a:lnTo>
                  <a:lnTo>
                    <a:pt x="1488" y="1325"/>
                  </a:lnTo>
                  <a:lnTo>
                    <a:pt x="1495" y="1318"/>
                  </a:lnTo>
                  <a:lnTo>
                    <a:pt x="1495" y="1311"/>
                  </a:lnTo>
                  <a:lnTo>
                    <a:pt x="1502" y="1304"/>
                  </a:lnTo>
                  <a:lnTo>
                    <a:pt x="1502" y="1296"/>
                  </a:lnTo>
                  <a:lnTo>
                    <a:pt x="1509" y="1289"/>
                  </a:lnTo>
                  <a:lnTo>
                    <a:pt x="1509" y="1282"/>
                  </a:lnTo>
                  <a:lnTo>
                    <a:pt x="1516" y="1275"/>
                  </a:lnTo>
                  <a:lnTo>
                    <a:pt x="1523" y="1268"/>
                  </a:lnTo>
                  <a:lnTo>
                    <a:pt x="1530" y="1261"/>
                  </a:lnTo>
                  <a:lnTo>
                    <a:pt x="1537" y="1261"/>
                  </a:lnTo>
                  <a:lnTo>
                    <a:pt x="1545" y="1261"/>
                  </a:lnTo>
                  <a:lnTo>
                    <a:pt x="1552" y="1261"/>
                  </a:lnTo>
                  <a:lnTo>
                    <a:pt x="1559" y="1268"/>
                  </a:lnTo>
                  <a:lnTo>
                    <a:pt x="1566" y="1268"/>
                  </a:lnTo>
                  <a:lnTo>
                    <a:pt x="1573" y="1275"/>
                  </a:lnTo>
                  <a:lnTo>
                    <a:pt x="1580" y="1282"/>
                  </a:lnTo>
                  <a:lnTo>
                    <a:pt x="1587" y="1289"/>
                  </a:lnTo>
                  <a:lnTo>
                    <a:pt x="1587" y="1296"/>
                  </a:lnTo>
                  <a:lnTo>
                    <a:pt x="1594" y="1304"/>
                  </a:lnTo>
                  <a:lnTo>
                    <a:pt x="1594" y="1311"/>
                  </a:lnTo>
                  <a:lnTo>
                    <a:pt x="1601" y="1318"/>
                  </a:lnTo>
                  <a:lnTo>
                    <a:pt x="1601" y="1325"/>
                  </a:lnTo>
                  <a:lnTo>
                    <a:pt x="1608" y="1332"/>
                  </a:lnTo>
                  <a:lnTo>
                    <a:pt x="1608" y="1339"/>
                  </a:lnTo>
                  <a:lnTo>
                    <a:pt x="1615" y="1346"/>
                  </a:lnTo>
                  <a:lnTo>
                    <a:pt x="1615" y="1353"/>
                  </a:lnTo>
                  <a:lnTo>
                    <a:pt x="1622" y="1360"/>
                  </a:lnTo>
                  <a:lnTo>
                    <a:pt x="1622" y="1367"/>
                  </a:lnTo>
                  <a:lnTo>
                    <a:pt x="1622" y="1374"/>
                  </a:lnTo>
                  <a:lnTo>
                    <a:pt x="1630" y="1382"/>
                  </a:lnTo>
                  <a:lnTo>
                    <a:pt x="1630" y="1389"/>
                  </a:lnTo>
                  <a:lnTo>
                    <a:pt x="1630" y="1396"/>
                  </a:lnTo>
                  <a:lnTo>
                    <a:pt x="1637" y="1403"/>
                  </a:lnTo>
                  <a:lnTo>
                    <a:pt x="1637" y="1410"/>
                  </a:lnTo>
                  <a:lnTo>
                    <a:pt x="1644" y="1417"/>
                  </a:lnTo>
                  <a:lnTo>
                    <a:pt x="1644" y="1424"/>
                  </a:lnTo>
                  <a:lnTo>
                    <a:pt x="1644" y="1431"/>
                  </a:lnTo>
                  <a:lnTo>
                    <a:pt x="1651" y="1438"/>
                  </a:lnTo>
                  <a:lnTo>
                    <a:pt x="1651" y="1445"/>
                  </a:lnTo>
                  <a:lnTo>
                    <a:pt x="1651" y="1452"/>
                  </a:lnTo>
                  <a:lnTo>
                    <a:pt x="1658" y="1459"/>
                  </a:lnTo>
                  <a:lnTo>
                    <a:pt x="1658" y="1467"/>
                  </a:lnTo>
                  <a:lnTo>
                    <a:pt x="1658" y="1474"/>
                  </a:lnTo>
                  <a:lnTo>
                    <a:pt x="1665" y="1481"/>
                  </a:lnTo>
                  <a:lnTo>
                    <a:pt x="1665" y="1488"/>
                  </a:lnTo>
                  <a:lnTo>
                    <a:pt x="1665" y="1495"/>
                  </a:lnTo>
                  <a:lnTo>
                    <a:pt x="1672" y="1502"/>
                  </a:lnTo>
                  <a:lnTo>
                    <a:pt x="1672" y="1509"/>
                  </a:lnTo>
                  <a:lnTo>
                    <a:pt x="1672" y="1516"/>
                  </a:lnTo>
                  <a:lnTo>
                    <a:pt x="1679" y="1523"/>
                  </a:lnTo>
                  <a:lnTo>
                    <a:pt x="1679" y="1530"/>
                  </a:lnTo>
                  <a:lnTo>
                    <a:pt x="1679" y="1537"/>
                  </a:lnTo>
                  <a:lnTo>
                    <a:pt x="1686" y="1544"/>
                  </a:lnTo>
                  <a:lnTo>
                    <a:pt x="1686" y="1552"/>
                  </a:lnTo>
                  <a:lnTo>
                    <a:pt x="1686" y="1559"/>
                  </a:lnTo>
                  <a:lnTo>
                    <a:pt x="1693" y="1566"/>
                  </a:lnTo>
                  <a:lnTo>
                    <a:pt x="1693" y="1573"/>
                  </a:lnTo>
                  <a:lnTo>
                    <a:pt x="1693" y="1580"/>
                  </a:lnTo>
                  <a:lnTo>
                    <a:pt x="1700" y="1587"/>
                  </a:lnTo>
                  <a:lnTo>
                    <a:pt x="1700" y="1594"/>
                  </a:lnTo>
                  <a:lnTo>
                    <a:pt x="1700" y="1601"/>
                  </a:lnTo>
                  <a:lnTo>
                    <a:pt x="1708" y="1608"/>
                  </a:lnTo>
                  <a:lnTo>
                    <a:pt x="1708" y="1601"/>
                  </a:lnTo>
                  <a:lnTo>
                    <a:pt x="1708" y="1594"/>
                  </a:lnTo>
                  <a:lnTo>
                    <a:pt x="1715" y="1587"/>
                  </a:lnTo>
                  <a:lnTo>
                    <a:pt x="1715" y="1580"/>
                  </a:lnTo>
                  <a:lnTo>
                    <a:pt x="1722" y="1573"/>
                  </a:lnTo>
                  <a:lnTo>
                    <a:pt x="1722" y="1566"/>
                  </a:lnTo>
                  <a:lnTo>
                    <a:pt x="1722" y="1559"/>
                  </a:lnTo>
                  <a:lnTo>
                    <a:pt x="1729" y="1552"/>
                  </a:lnTo>
                  <a:lnTo>
                    <a:pt x="1729" y="1544"/>
                  </a:lnTo>
                  <a:lnTo>
                    <a:pt x="1736" y="1537"/>
                  </a:lnTo>
                  <a:lnTo>
                    <a:pt x="1736" y="1530"/>
                  </a:lnTo>
                  <a:lnTo>
                    <a:pt x="1736" y="1523"/>
                  </a:lnTo>
                  <a:lnTo>
                    <a:pt x="1743" y="1516"/>
                  </a:lnTo>
                  <a:lnTo>
                    <a:pt x="1743" y="1509"/>
                  </a:lnTo>
                  <a:lnTo>
                    <a:pt x="1750" y="1502"/>
                  </a:lnTo>
                  <a:lnTo>
                    <a:pt x="1750" y="1495"/>
                  </a:lnTo>
                  <a:lnTo>
                    <a:pt x="1757" y="1488"/>
                  </a:lnTo>
                  <a:lnTo>
                    <a:pt x="1757" y="1481"/>
                  </a:lnTo>
                  <a:lnTo>
                    <a:pt x="1764" y="1474"/>
                  </a:lnTo>
                  <a:lnTo>
                    <a:pt x="1764" y="1467"/>
                  </a:lnTo>
                  <a:lnTo>
                    <a:pt x="1771" y="1459"/>
                  </a:lnTo>
                  <a:lnTo>
                    <a:pt x="1771" y="1452"/>
                  </a:lnTo>
                  <a:lnTo>
                    <a:pt x="1778" y="1445"/>
                  </a:lnTo>
                  <a:lnTo>
                    <a:pt x="1785" y="1438"/>
                  </a:lnTo>
                  <a:lnTo>
                    <a:pt x="1793" y="1431"/>
                  </a:lnTo>
                  <a:lnTo>
                    <a:pt x="1800" y="1424"/>
                  </a:lnTo>
                  <a:lnTo>
                    <a:pt x="1807" y="1417"/>
                  </a:lnTo>
                  <a:lnTo>
                    <a:pt x="1814" y="1410"/>
                  </a:lnTo>
                  <a:lnTo>
                    <a:pt x="1821" y="1403"/>
                  </a:lnTo>
                  <a:lnTo>
                    <a:pt x="1828" y="1403"/>
                  </a:lnTo>
                  <a:lnTo>
                    <a:pt x="1835" y="1403"/>
                  </a:lnTo>
                  <a:lnTo>
                    <a:pt x="1842" y="1403"/>
                  </a:lnTo>
                  <a:lnTo>
                    <a:pt x="1849" y="1403"/>
                  </a:lnTo>
                  <a:lnTo>
                    <a:pt x="1856" y="1410"/>
                  </a:lnTo>
                  <a:lnTo>
                    <a:pt x="1863" y="1410"/>
                  </a:lnTo>
                  <a:lnTo>
                    <a:pt x="1871" y="1417"/>
                  </a:lnTo>
                  <a:lnTo>
                    <a:pt x="1878" y="1424"/>
                  </a:lnTo>
                  <a:lnTo>
                    <a:pt x="1885" y="1431"/>
                  </a:lnTo>
                  <a:lnTo>
                    <a:pt x="1892" y="1438"/>
                  </a:lnTo>
                  <a:lnTo>
                    <a:pt x="1899" y="1445"/>
                  </a:lnTo>
                  <a:lnTo>
                    <a:pt x="1906" y="1452"/>
                  </a:lnTo>
                  <a:lnTo>
                    <a:pt x="1913" y="1459"/>
                  </a:lnTo>
                  <a:lnTo>
                    <a:pt x="1913" y="1467"/>
                  </a:lnTo>
                  <a:lnTo>
                    <a:pt x="1920" y="1474"/>
                  </a:lnTo>
                  <a:lnTo>
                    <a:pt x="1920" y="1481"/>
                  </a:lnTo>
                  <a:lnTo>
                    <a:pt x="1927" y="1488"/>
                  </a:lnTo>
                  <a:lnTo>
                    <a:pt x="1927" y="1495"/>
                  </a:lnTo>
                  <a:lnTo>
                    <a:pt x="1934" y="1502"/>
                  </a:lnTo>
                  <a:lnTo>
                    <a:pt x="1941" y="1509"/>
                  </a:lnTo>
                  <a:lnTo>
                    <a:pt x="1941" y="1516"/>
                  </a:lnTo>
                  <a:lnTo>
                    <a:pt x="1948" y="1523"/>
                  </a:lnTo>
                  <a:lnTo>
                    <a:pt x="1948" y="1530"/>
                  </a:lnTo>
                  <a:lnTo>
                    <a:pt x="1956" y="1537"/>
                  </a:lnTo>
                  <a:lnTo>
                    <a:pt x="1956" y="1544"/>
                  </a:lnTo>
                  <a:lnTo>
                    <a:pt x="1963" y="1552"/>
                  </a:lnTo>
                  <a:lnTo>
                    <a:pt x="1963" y="1559"/>
                  </a:lnTo>
                  <a:lnTo>
                    <a:pt x="1970" y="1566"/>
                  </a:lnTo>
                  <a:lnTo>
                    <a:pt x="1970" y="1573"/>
                  </a:lnTo>
                  <a:lnTo>
                    <a:pt x="1977" y="1580"/>
                  </a:lnTo>
                  <a:lnTo>
                    <a:pt x="1977" y="1587"/>
                  </a:lnTo>
                  <a:lnTo>
                    <a:pt x="1984" y="1594"/>
                  </a:lnTo>
                  <a:lnTo>
                    <a:pt x="1991" y="1601"/>
                  </a:lnTo>
                  <a:lnTo>
                    <a:pt x="1991" y="1608"/>
                  </a:lnTo>
                  <a:lnTo>
                    <a:pt x="1998" y="1601"/>
                  </a:lnTo>
                  <a:lnTo>
                    <a:pt x="1998" y="1594"/>
                  </a:lnTo>
                  <a:lnTo>
                    <a:pt x="2005" y="1587"/>
                  </a:lnTo>
                  <a:lnTo>
                    <a:pt x="2005" y="1580"/>
                  </a:lnTo>
                  <a:lnTo>
                    <a:pt x="2012" y="1573"/>
                  </a:lnTo>
                  <a:lnTo>
                    <a:pt x="2012" y="1566"/>
                  </a:lnTo>
                  <a:lnTo>
                    <a:pt x="2019" y="1559"/>
                  </a:lnTo>
                  <a:lnTo>
                    <a:pt x="2026" y="1552"/>
                  </a:lnTo>
                  <a:lnTo>
                    <a:pt x="2026" y="1544"/>
                  </a:lnTo>
                  <a:lnTo>
                    <a:pt x="2034" y="1537"/>
                  </a:lnTo>
                  <a:lnTo>
                    <a:pt x="2034" y="1530"/>
                  </a:lnTo>
                  <a:lnTo>
                    <a:pt x="2041" y="1523"/>
                  </a:lnTo>
                  <a:lnTo>
                    <a:pt x="2048" y="1516"/>
                  </a:lnTo>
                  <a:lnTo>
                    <a:pt x="2055" y="1509"/>
                  </a:lnTo>
                  <a:lnTo>
                    <a:pt x="2062" y="1502"/>
                  </a:lnTo>
                  <a:lnTo>
                    <a:pt x="2069" y="1495"/>
                  </a:lnTo>
                  <a:lnTo>
                    <a:pt x="2069" y="1488"/>
                  </a:lnTo>
                  <a:lnTo>
                    <a:pt x="2076" y="1481"/>
                  </a:lnTo>
                  <a:lnTo>
                    <a:pt x="2083" y="1474"/>
                  </a:lnTo>
                  <a:lnTo>
                    <a:pt x="2090" y="1474"/>
                  </a:lnTo>
                  <a:lnTo>
                    <a:pt x="2097" y="1467"/>
                  </a:lnTo>
                  <a:lnTo>
                    <a:pt x="2104" y="1467"/>
                  </a:lnTo>
                  <a:lnTo>
                    <a:pt x="2111" y="1459"/>
                  </a:lnTo>
                  <a:lnTo>
                    <a:pt x="2119" y="1459"/>
                  </a:lnTo>
                  <a:lnTo>
                    <a:pt x="2126" y="1459"/>
                  </a:lnTo>
                  <a:lnTo>
                    <a:pt x="2133" y="1459"/>
                  </a:lnTo>
                  <a:lnTo>
                    <a:pt x="2140" y="1467"/>
                  </a:lnTo>
                  <a:lnTo>
                    <a:pt x="2147" y="1467"/>
                  </a:lnTo>
                  <a:lnTo>
                    <a:pt x="2154" y="1474"/>
                  </a:lnTo>
                  <a:lnTo>
                    <a:pt x="2161" y="1474"/>
                  </a:lnTo>
                  <a:lnTo>
                    <a:pt x="2168" y="1481"/>
                  </a:lnTo>
                  <a:lnTo>
                    <a:pt x="2175" y="1488"/>
                  </a:lnTo>
                  <a:lnTo>
                    <a:pt x="2182" y="1495"/>
                  </a:lnTo>
                  <a:lnTo>
                    <a:pt x="2189" y="1502"/>
                  </a:lnTo>
                  <a:lnTo>
                    <a:pt x="2197" y="1509"/>
                  </a:lnTo>
                  <a:lnTo>
                    <a:pt x="2204" y="1516"/>
                  </a:lnTo>
                  <a:lnTo>
                    <a:pt x="2211" y="1523"/>
                  </a:lnTo>
                  <a:lnTo>
                    <a:pt x="2218" y="1530"/>
                  </a:lnTo>
                  <a:lnTo>
                    <a:pt x="2225" y="1537"/>
                  </a:lnTo>
                  <a:lnTo>
                    <a:pt x="2232" y="1544"/>
                  </a:lnTo>
                  <a:lnTo>
                    <a:pt x="2239" y="1552"/>
                  </a:lnTo>
                  <a:lnTo>
                    <a:pt x="2239" y="1559"/>
                  </a:lnTo>
                  <a:lnTo>
                    <a:pt x="2246" y="1566"/>
                  </a:lnTo>
                  <a:lnTo>
                    <a:pt x="2253" y="1573"/>
                  </a:lnTo>
                  <a:lnTo>
                    <a:pt x="2253" y="1580"/>
                  </a:lnTo>
                  <a:lnTo>
                    <a:pt x="2260" y="1587"/>
                  </a:lnTo>
                  <a:lnTo>
                    <a:pt x="2267" y="1594"/>
                  </a:lnTo>
                  <a:lnTo>
                    <a:pt x="2267" y="1601"/>
                  </a:lnTo>
                  <a:lnTo>
                    <a:pt x="2274" y="1608"/>
                  </a:lnTo>
                </a:path>
              </a:pathLst>
            </a:cu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448400" y="2109600"/>
              <a:ext cx="166680" cy="1400040"/>
            </a:xfrm>
            <a:custGeom>
              <a:avLst/>
              <a:gdLst/>
              <a:ahLst/>
              <a:rect l="l" t="t" r="r" b="b"/>
              <a:pathLst>
                <a:path w="2274" h="1608">
                  <a:moveTo>
                    <a:pt x="0" y="1608"/>
                  </a:moveTo>
                  <a:lnTo>
                    <a:pt x="7" y="1601"/>
                  </a:lnTo>
                  <a:lnTo>
                    <a:pt x="14" y="1594"/>
                  </a:lnTo>
                  <a:lnTo>
                    <a:pt x="14" y="1587"/>
                  </a:lnTo>
                  <a:lnTo>
                    <a:pt x="21" y="1580"/>
                  </a:lnTo>
                  <a:lnTo>
                    <a:pt x="28" y="1573"/>
                  </a:lnTo>
                  <a:lnTo>
                    <a:pt x="28" y="1566"/>
                  </a:lnTo>
                  <a:lnTo>
                    <a:pt x="35" y="1559"/>
                  </a:lnTo>
                  <a:lnTo>
                    <a:pt x="42" y="1552"/>
                  </a:lnTo>
                  <a:lnTo>
                    <a:pt x="49" y="1544"/>
                  </a:lnTo>
                  <a:lnTo>
                    <a:pt x="49" y="1537"/>
                  </a:lnTo>
                  <a:lnTo>
                    <a:pt x="56" y="1530"/>
                  </a:lnTo>
                  <a:lnTo>
                    <a:pt x="63" y="1523"/>
                  </a:lnTo>
                  <a:lnTo>
                    <a:pt x="71" y="1516"/>
                  </a:lnTo>
                  <a:lnTo>
                    <a:pt x="78" y="1509"/>
                  </a:lnTo>
                  <a:lnTo>
                    <a:pt x="85" y="1502"/>
                  </a:lnTo>
                  <a:lnTo>
                    <a:pt x="92" y="1495"/>
                  </a:lnTo>
                  <a:lnTo>
                    <a:pt x="99" y="1488"/>
                  </a:lnTo>
                  <a:lnTo>
                    <a:pt x="106" y="1481"/>
                  </a:lnTo>
                  <a:lnTo>
                    <a:pt x="113" y="1474"/>
                  </a:lnTo>
                  <a:lnTo>
                    <a:pt x="120" y="1467"/>
                  </a:lnTo>
                  <a:lnTo>
                    <a:pt x="127" y="1467"/>
                  </a:lnTo>
                  <a:lnTo>
                    <a:pt x="134" y="1459"/>
                  </a:lnTo>
                  <a:lnTo>
                    <a:pt x="141" y="1459"/>
                  </a:lnTo>
                  <a:lnTo>
                    <a:pt x="148" y="1459"/>
                  </a:lnTo>
                  <a:lnTo>
                    <a:pt x="156" y="1459"/>
                  </a:lnTo>
                  <a:lnTo>
                    <a:pt x="163" y="1467"/>
                  </a:lnTo>
                  <a:lnTo>
                    <a:pt x="170" y="1467"/>
                  </a:lnTo>
                  <a:lnTo>
                    <a:pt x="177" y="1467"/>
                  </a:lnTo>
                  <a:lnTo>
                    <a:pt x="184" y="1474"/>
                  </a:lnTo>
                  <a:lnTo>
                    <a:pt x="191" y="1481"/>
                  </a:lnTo>
                  <a:lnTo>
                    <a:pt x="198" y="1481"/>
                  </a:lnTo>
                  <a:lnTo>
                    <a:pt x="205" y="1488"/>
                  </a:lnTo>
                  <a:lnTo>
                    <a:pt x="212" y="1495"/>
                  </a:lnTo>
                  <a:lnTo>
                    <a:pt x="219" y="1502"/>
                  </a:lnTo>
                  <a:lnTo>
                    <a:pt x="226" y="1509"/>
                  </a:lnTo>
                  <a:lnTo>
                    <a:pt x="234" y="1516"/>
                  </a:lnTo>
                  <a:lnTo>
                    <a:pt x="234" y="1523"/>
                  </a:lnTo>
                  <a:lnTo>
                    <a:pt x="241" y="1530"/>
                  </a:lnTo>
                  <a:lnTo>
                    <a:pt x="241" y="1537"/>
                  </a:lnTo>
                  <a:lnTo>
                    <a:pt x="248" y="1544"/>
                  </a:lnTo>
                  <a:lnTo>
                    <a:pt x="255" y="1552"/>
                  </a:lnTo>
                  <a:lnTo>
                    <a:pt x="255" y="1559"/>
                  </a:lnTo>
                  <a:lnTo>
                    <a:pt x="262" y="1566"/>
                  </a:lnTo>
                  <a:lnTo>
                    <a:pt x="269" y="1573"/>
                  </a:lnTo>
                  <a:lnTo>
                    <a:pt x="269" y="1580"/>
                  </a:lnTo>
                  <a:lnTo>
                    <a:pt x="276" y="1587"/>
                  </a:lnTo>
                  <a:lnTo>
                    <a:pt x="276" y="1594"/>
                  </a:lnTo>
                  <a:lnTo>
                    <a:pt x="283" y="1601"/>
                  </a:lnTo>
                  <a:lnTo>
                    <a:pt x="283" y="1608"/>
                  </a:lnTo>
                  <a:lnTo>
                    <a:pt x="290" y="1601"/>
                  </a:lnTo>
                  <a:lnTo>
                    <a:pt x="290" y="1594"/>
                  </a:lnTo>
                  <a:lnTo>
                    <a:pt x="297" y="1587"/>
                  </a:lnTo>
                  <a:lnTo>
                    <a:pt x="297" y="1580"/>
                  </a:lnTo>
                  <a:lnTo>
                    <a:pt x="304" y="1573"/>
                  </a:lnTo>
                  <a:lnTo>
                    <a:pt x="304" y="1566"/>
                  </a:lnTo>
                  <a:lnTo>
                    <a:pt x="311" y="1559"/>
                  </a:lnTo>
                  <a:lnTo>
                    <a:pt x="319" y="1552"/>
                  </a:lnTo>
                  <a:lnTo>
                    <a:pt x="319" y="1544"/>
                  </a:lnTo>
                  <a:lnTo>
                    <a:pt x="319" y="1537"/>
                  </a:lnTo>
                  <a:lnTo>
                    <a:pt x="326" y="1530"/>
                  </a:lnTo>
                  <a:lnTo>
                    <a:pt x="326" y="1523"/>
                  </a:lnTo>
                  <a:lnTo>
                    <a:pt x="333" y="1516"/>
                  </a:lnTo>
                  <a:lnTo>
                    <a:pt x="340" y="1509"/>
                  </a:lnTo>
                  <a:lnTo>
                    <a:pt x="340" y="1502"/>
                  </a:lnTo>
                  <a:lnTo>
                    <a:pt x="347" y="1495"/>
                  </a:lnTo>
                  <a:lnTo>
                    <a:pt x="347" y="1488"/>
                  </a:lnTo>
                  <a:lnTo>
                    <a:pt x="354" y="1481"/>
                  </a:lnTo>
                  <a:lnTo>
                    <a:pt x="354" y="1474"/>
                  </a:lnTo>
                  <a:lnTo>
                    <a:pt x="361" y="1467"/>
                  </a:lnTo>
                  <a:lnTo>
                    <a:pt x="368" y="1459"/>
                  </a:lnTo>
                  <a:lnTo>
                    <a:pt x="375" y="1452"/>
                  </a:lnTo>
                  <a:lnTo>
                    <a:pt x="375" y="1445"/>
                  </a:lnTo>
                  <a:lnTo>
                    <a:pt x="382" y="1438"/>
                  </a:lnTo>
                  <a:lnTo>
                    <a:pt x="389" y="1431"/>
                  </a:lnTo>
                  <a:lnTo>
                    <a:pt x="397" y="1424"/>
                  </a:lnTo>
                  <a:lnTo>
                    <a:pt x="404" y="1417"/>
                  </a:lnTo>
                  <a:lnTo>
                    <a:pt x="411" y="1410"/>
                  </a:lnTo>
                  <a:lnTo>
                    <a:pt x="418" y="1403"/>
                  </a:lnTo>
                  <a:lnTo>
                    <a:pt x="425" y="1403"/>
                  </a:lnTo>
                  <a:lnTo>
                    <a:pt x="432" y="1403"/>
                  </a:lnTo>
                  <a:lnTo>
                    <a:pt x="439" y="1403"/>
                  </a:lnTo>
                  <a:lnTo>
                    <a:pt x="446" y="1403"/>
                  </a:lnTo>
                  <a:lnTo>
                    <a:pt x="453" y="1403"/>
                  </a:lnTo>
                  <a:lnTo>
                    <a:pt x="460" y="1410"/>
                  </a:lnTo>
                  <a:lnTo>
                    <a:pt x="467" y="1417"/>
                  </a:lnTo>
                  <a:lnTo>
                    <a:pt x="474" y="1424"/>
                  </a:lnTo>
                  <a:lnTo>
                    <a:pt x="482" y="1431"/>
                  </a:lnTo>
                  <a:lnTo>
                    <a:pt x="489" y="1438"/>
                  </a:lnTo>
                  <a:lnTo>
                    <a:pt x="496" y="1445"/>
                  </a:lnTo>
                  <a:lnTo>
                    <a:pt x="503" y="1452"/>
                  </a:lnTo>
                  <a:lnTo>
                    <a:pt x="503" y="1459"/>
                  </a:lnTo>
                  <a:lnTo>
                    <a:pt x="510" y="1467"/>
                  </a:lnTo>
                  <a:lnTo>
                    <a:pt x="510" y="1474"/>
                  </a:lnTo>
                  <a:lnTo>
                    <a:pt x="517" y="1481"/>
                  </a:lnTo>
                  <a:lnTo>
                    <a:pt x="517" y="1488"/>
                  </a:lnTo>
                  <a:lnTo>
                    <a:pt x="524" y="1495"/>
                  </a:lnTo>
                  <a:lnTo>
                    <a:pt x="524" y="1502"/>
                  </a:lnTo>
                  <a:lnTo>
                    <a:pt x="531" y="1509"/>
                  </a:lnTo>
                  <a:lnTo>
                    <a:pt x="531" y="1516"/>
                  </a:lnTo>
                  <a:lnTo>
                    <a:pt x="538" y="1523"/>
                  </a:lnTo>
                  <a:lnTo>
                    <a:pt x="538" y="1530"/>
                  </a:lnTo>
                  <a:lnTo>
                    <a:pt x="538" y="1537"/>
                  </a:lnTo>
                  <a:lnTo>
                    <a:pt x="545" y="1544"/>
                  </a:lnTo>
                  <a:lnTo>
                    <a:pt x="545" y="1552"/>
                  </a:lnTo>
                  <a:lnTo>
                    <a:pt x="552" y="1559"/>
                  </a:lnTo>
                  <a:lnTo>
                    <a:pt x="552" y="1566"/>
                  </a:lnTo>
                  <a:lnTo>
                    <a:pt x="552" y="1573"/>
                  </a:lnTo>
                  <a:lnTo>
                    <a:pt x="560" y="1580"/>
                  </a:lnTo>
                  <a:lnTo>
                    <a:pt x="560" y="1587"/>
                  </a:lnTo>
                  <a:lnTo>
                    <a:pt x="567" y="1594"/>
                  </a:lnTo>
                  <a:lnTo>
                    <a:pt x="567" y="1601"/>
                  </a:lnTo>
                  <a:lnTo>
                    <a:pt x="567" y="1608"/>
                  </a:lnTo>
                  <a:lnTo>
                    <a:pt x="574" y="1601"/>
                  </a:lnTo>
                  <a:lnTo>
                    <a:pt x="574" y="1594"/>
                  </a:lnTo>
                  <a:lnTo>
                    <a:pt x="574" y="1587"/>
                  </a:lnTo>
                  <a:lnTo>
                    <a:pt x="581" y="1580"/>
                  </a:lnTo>
                  <a:lnTo>
                    <a:pt x="581" y="1573"/>
                  </a:lnTo>
                  <a:lnTo>
                    <a:pt x="581" y="1566"/>
                  </a:lnTo>
                  <a:lnTo>
                    <a:pt x="588" y="1559"/>
                  </a:lnTo>
                  <a:lnTo>
                    <a:pt x="588" y="1552"/>
                  </a:lnTo>
                  <a:lnTo>
                    <a:pt x="588" y="1544"/>
                  </a:lnTo>
                  <a:lnTo>
                    <a:pt x="595" y="1537"/>
                  </a:lnTo>
                  <a:lnTo>
                    <a:pt x="595" y="1530"/>
                  </a:lnTo>
                  <a:lnTo>
                    <a:pt x="595" y="1523"/>
                  </a:lnTo>
                  <a:lnTo>
                    <a:pt x="602" y="1516"/>
                  </a:lnTo>
                  <a:lnTo>
                    <a:pt x="602" y="1509"/>
                  </a:lnTo>
                  <a:lnTo>
                    <a:pt x="602" y="1502"/>
                  </a:lnTo>
                  <a:lnTo>
                    <a:pt x="609" y="1495"/>
                  </a:lnTo>
                  <a:lnTo>
                    <a:pt x="609" y="1488"/>
                  </a:lnTo>
                  <a:lnTo>
                    <a:pt x="616" y="1481"/>
                  </a:lnTo>
                  <a:lnTo>
                    <a:pt x="616" y="1474"/>
                  </a:lnTo>
                  <a:lnTo>
                    <a:pt x="616" y="1467"/>
                  </a:lnTo>
                  <a:lnTo>
                    <a:pt x="616" y="1459"/>
                  </a:lnTo>
                  <a:lnTo>
                    <a:pt x="623" y="1452"/>
                  </a:lnTo>
                  <a:lnTo>
                    <a:pt x="623" y="1445"/>
                  </a:lnTo>
                  <a:lnTo>
                    <a:pt x="623" y="1438"/>
                  </a:lnTo>
                  <a:lnTo>
                    <a:pt x="630" y="1431"/>
                  </a:lnTo>
                  <a:lnTo>
                    <a:pt x="630" y="1424"/>
                  </a:lnTo>
                  <a:lnTo>
                    <a:pt x="637" y="1417"/>
                  </a:lnTo>
                  <a:lnTo>
                    <a:pt x="637" y="1410"/>
                  </a:lnTo>
                  <a:lnTo>
                    <a:pt x="637" y="1403"/>
                  </a:lnTo>
                  <a:lnTo>
                    <a:pt x="645" y="1396"/>
                  </a:lnTo>
                  <a:lnTo>
                    <a:pt x="645" y="1389"/>
                  </a:lnTo>
                  <a:lnTo>
                    <a:pt x="652" y="1382"/>
                  </a:lnTo>
                  <a:lnTo>
                    <a:pt x="652" y="1374"/>
                  </a:lnTo>
                  <a:lnTo>
                    <a:pt x="652" y="1367"/>
                  </a:lnTo>
                  <a:lnTo>
                    <a:pt x="652" y="1360"/>
                  </a:lnTo>
                  <a:lnTo>
                    <a:pt x="659" y="1353"/>
                  </a:lnTo>
                  <a:lnTo>
                    <a:pt x="659" y="1346"/>
                  </a:lnTo>
                  <a:lnTo>
                    <a:pt x="666" y="1339"/>
                  </a:lnTo>
                  <a:lnTo>
                    <a:pt x="666" y="1332"/>
                  </a:lnTo>
                  <a:lnTo>
                    <a:pt x="673" y="1325"/>
                  </a:lnTo>
                  <a:lnTo>
                    <a:pt x="673" y="1318"/>
                  </a:lnTo>
                  <a:lnTo>
                    <a:pt x="680" y="1311"/>
                  </a:lnTo>
                  <a:lnTo>
                    <a:pt x="687" y="1304"/>
                  </a:lnTo>
                  <a:lnTo>
                    <a:pt x="687" y="1296"/>
                  </a:lnTo>
                  <a:lnTo>
                    <a:pt x="694" y="1289"/>
                  </a:lnTo>
                  <a:lnTo>
                    <a:pt x="694" y="1282"/>
                  </a:lnTo>
                  <a:lnTo>
                    <a:pt x="701" y="1275"/>
                  </a:lnTo>
                  <a:lnTo>
                    <a:pt x="708" y="1268"/>
                  </a:lnTo>
                  <a:lnTo>
                    <a:pt x="715" y="1261"/>
                  </a:lnTo>
                  <a:lnTo>
                    <a:pt x="723" y="1261"/>
                  </a:lnTo>
                  <a:lnTo>
                    <a:pt x="730" y="1261"/>
                  </a:lnTo>
                  <a:lnTo>
                    <a:pt x="737" y="1261"/>
                  </a:lnTo>
                  <a:lnTo>
                    <a:pt x="744" y="1261"/>
                  </a:lnTo>
                  <a:lnTo>
                    <a:pt x="751" y="1268"/>
                  </a:lnTo>
                  <a:lnTo>
                    <a:pt x="758" y="1275"/>
                  </a:lnTo>
                  <a:lnTo>
                    <a:pt x="765" y="1282"/>
                  </a:lnTo>
                  <a:lnTo>
                    <a:pt x="765" y="1289"/>
                  </a:lnTo>
                  <a:lnTo>
                    <a:pt x="772" y="1296"/>
                  </a:lnTo>
                  <a:lnTo>
                    <a:pt x="772" y="1304"/>
                  </a:lnTo>
                  <a:lnTo>
                    <a:pt x="779" y="1311"/>
                  </a:lnTo>
                  <a:lnTo>
                    <a:pt x="779" y="1318"/>
                  </a:lnTo>
                  <a:lnTo>
                    <a:pt x="786" y="1325"/>
                  </a:lnTo>
                  <a:lnTo>
                    <a:pt x="786" y="1332"/>
                  </a:lnTo>
                  <a:lnTo>
                    <a:pt x="793" y="1339"/>
                  </a:lnTo>
                  <a:lnTo>
                    <a:pt x="793" y="1346"/>
                  </a:lnTo>
                  <a:lnTo>
                    <a:pt x="793" y="1353"/>
                  </a:lnTo>
                  <a:lnTo>
                    <a:pt x="800" y="1360"/>
                  </a:lnTo>
                  <a:lnTo>
                    <a:pt x="800" y="1367"/>
                  </a:lnTo>
                  <a:lnTo>
                    <a:pt x="800" y="1374"/>
                  </a:lnTo>
                  <a:lnTo>
                    <a:pt x="800" y="1382"/>
                  </a:lnTo>
                  <a:lnTo>
                    <a:pt x="808" y="1389"/>
                  </a:lnTo>
                  <a:lnTo>
                    <a:pt x="808" y="1403"/>
                  </a:lnTo>
                  <a:lnTo>
                    <a:pt x="808" y="1410"/>
                  </a:lnTo>
                  <a:lnTo>
                    <a:pt x="815" y="1417"/>
                  </a:lnTo>
                  <a:lnTo>
                    <a:pt x="815" y="1424"/>
                  </a:lnTo>
                  <a:lnTo>
                    <a:pt x="815" y="1431"/>
                  </a:lnTo>
                  <a:lnTo>
                    <a:pt x="822" y="1445"/>
                  </a:lnTo>
                  <a:lnTo>
                    <a:pt x="822" y="1452"/>
                  </a:lnTo>
                  <a:lnTo>
                    <a:pt x="822" y="1459"/>
                  </a:lnTo>
                  <a:lnTo>
                    <a:pt x="829" y="1474"/>
                  </a:lnTo>
                  <a:lnTo>
                    <a:pt x="829" y="1481"/>
                  </a:lnTo>
                  <a:lnTo>
                    <a:pt x="829" y="1495"/>
                  </a:lnTo>
                  <a:lnTo>
                    <a:pt x="836" y="1502"/>
                  </a:lnTo>
                  <a:lnTo>
                    <a:pt x="836" y="1516"/>
                  </a:lnTo>
                  <a:lnTo>
                    <a:pt x="836" y="1523"/>
                  </a:lnTo>
                  <a:lnTo>
                    <a:pt x="836" y="1537"/>
                  </a:lnTo>
                  <a:lnTo>
                    <a:pt x="843" y="1544"/>
                  </a:lnTo>
                  <a:lnTo>
                    <a:pt x="843" y="1559"/>
                  </a:lnTo>
                  <a:lnTo>
                    <a:pt x="843" y="1573"/>
                  </a:lnTo>
                  <a:lnTo>
                    <a:pt x="850" y="1587"/>
                  </a:lnTo>
                  <a:lnTo>
                    <a:pt x="850" y="1594"/>
                  </a:lnTo>
                  <a:lnTo>
                    <a:pt x="850" y="1608"/>
                  </a:lnTo>
                  <a:lnTo>
                    <a:pt x="857" y="1594"/>
                  </a:lnTo>
                  <a:lnTo>
                    <a:pt x="857" y="1580"/>
                  </a:lnTo>
                  <a:lnTo>
                    <a:pt x="857" y="1573"/>
                  </a:lnTo>
                  <a:lnTo>
                    <a:pt x="864" y="1559"/>
                  </a:lnTo>
                  <a:lnTo>
                    <a:pt x="864" y="1544"/>
                  </a:lnTo>
                  <a:lnTo>
                    <a:pt x="864" y="1530"/>
                  </a:lnTo>
                  <a:lnTo>
                    <a:pt x="871" y="1516"/>
                  </a:lnTo>
                  <a:lnTo>
                    <a:pt x="871" y="1502"/>
                  </a:lnTo>
                  <a:lnTo>
                    <a:pt x="871" y="1488"/>
                  </a:lnTo>
                  <a:lnTo>
                    <a:pt x="878" y="1474"/>
                  </a:lnTo>
                  <a:lnTo>
                    <a:pt x="878" y="1459"/>
                  </a:lnTo>
                  <a:lnTo>
                    <a:pt x="878" y="1445"/>
                  </a:lnTo>
                  <a:lnTo>
                    <a:pt x="878" y="1431"/>
                  </a:lnTo>
                  <a:lnTo>
                    <a:pt x="885" y="1417"/>
                  </a:lnTo>
                  <a:lnTo>
                    <a:pt x="885" y="1403"/>
                  </a:lnTo>
                  <a:lnTo>
                    <a:pt x="885" y="1382"/>
                  </a:lnTo>
                  <a:lnTo>
                    <a:pt x="893" y="1367"/>
                  </a:lnTo>
                  <a:lnTo>
                    <a:pt x="893" y="1353"/>
                  </a:lnTo>
                  <a:lnTo>
                    <a:pt x="893" y="1339"/>
                  </a:lnTo>
                  <a:lnTo>
                    <a:pt x="900" y="1325"/>
                  </a:lnTo>
                  <a:lnTo>
                    <a:pt x="900" y="1304"/>
                  </a:lnTo>
                  <a:lnTo>
                    <a:pt x="900" y="1289"/>
                  </a:lnTo>
                  <a:lnTo>
                    <a:pt x="907" y="1275"/>
                  </a:lnTo>
                  <a:lnTo>
                    <a:pt x="907" y="1261"/>
                  </a:lnTo>
                  <a:lnTo>
                    <a:pt x="907" y="1240"/>
                  </a:lnTo>
                  <a:lnTo>
                    <a:pt x="914" y="1226"/>
                  </a:lnTo>
                  <a:lnTo>
                    <a:pt x="914" y="1211"/>
                  </a:lnTo>
                  <a:lnTo>
                    <a:pt x="914" y="1190"/>
                  </a:lnTo>
                  <a:lnTo>
                    <a:pt x="914" y="1176"/>
                  </a:lnTo>
                  <a:lnTo>
                    <a:pt x="921" y="1162"/>
                  </a:lnTo>
                  <a:lnTo>
                    <a:pt x="921" y="1141"/>
                  </a:lnTo>
                  <a:lnTo>
                    <a:pt x="921" y="1126"/>
                  </a:lnTo>
                  <a:lnTo>
                    <a:pt x="928" y="1105"/>
                  </a:lnTo>
                  <a:lnTo>
                    <a:pt x="928" y="1091"/>
                  </a:lnTo>
                  <a:lnTo>
                    <a:pt x="928" y="1077"/>
                  </a:lnTo>
                  <a:lnTo>
                    <a:pt x="935" y="1056"/>
                  </a:lnTo>
                  <a:lnTo>
                    <a:pt x="935" y="1041"/>
                  </a:lnTo>
                  <a:lnTo>
                    <a:pt x="935" y="1020"/>
                  </a:lnTo>
                  <a:lnTo>
                    <a:pt x="942" y="1006"/>
                  </a:lnTo>
                  <a:lnTo>
                    <a:pt x="942" y="992"/>
                  </a:lnTo>
                  <a:lnTo>
                    <a:pt x="942" y="971"/>
                  </a:lnTo>
                  <a:lnTo>
                    <a:pt x="949" y="956"/>
                  </a:lnTo>
                  <a:lnTo>
                    <a:pt x="949" y="935"/>
                  </a:lnTo>
                  <a:lnTo>
                    <a:pt x="949" y="921"/>
                  </a:lnTo>
                  <a:lnTo>
                    <a:pt x="949" y="900"/>
                  </a:lnTo>
                  <a:lnTo>
                    <a:pt x="956" y="886"/>
                  </a:lnTo>
                  <a:lnTo>
                    <a:pt x="956" y="871"/>
                  </a:lnTo>
                  <a:lnTo>
                    <a:pt x="956" y="850"/>
                  </a:lnTo>
                  <a:lnTo>
                    <a:pt x="963" y="836"/>
                  </a:lnTo>
                  <a:lnTo>
                    <a:pt x="963" y="815"/>
                  </a:lnTo>
                  <a:lnTo>
                    <a:pt x="963" y="800"/>
                  </a:lnTo>
                  <a:lnTo>
                    <a:pt x="971" y="786"/>
                  </a:lnTo>
                  <a:lnTo>
                    <a:pt x="971" y="765"/>
                  </a:lnTo>
                  <a:lnTo>
                    <a:pt x="971" y="751"/>
                  </a:lnTo>
                  <a:lnTo>
                    <a:pt x="978" y="730"/>
                  </a:lnTo>
                  <a:lnTo>
                    <a:pt x="978" y="715"/>
                  </a:lnTo>
                  <a:lnTo>
                    <a:pt x="978" y="701"/>
                  </a:lnTo>
                  <a:lnTo>
                    <a:pt x="985" y="680"/>
                  </a:lnTo>
                  <a:lnTo>
                    <a:pt x="985" y="666"/>
                  </a:lnTo>
                  <a:lnTo>
                    <a:pt x="985" y="652"/>
                  </a:lnTo>
                  <a:lnTo>
                    <a:pt x="985" y="630"/>
                  </a:lnTo>
                  <a:lnTo>
                    <a:pt x="992" y="616"/>
                  </a:lnTo>
                  <a:lnTo>
                    <a:pt x="992" y="602"/>
                  </a:lnTo>
                  <a:lnTo>
                    <a:pt x="992" y="581"/>
                  </a:lnTo>
                  <a:lnTo>
                    <a:pt x="999" y="567"/>
                  </a:lnTo>
                  <a:lnTo>
                    <a:pt x="999" y="552"/>
                  </a:lnTo>
                  <a:lnTo>
                    <a:pt x="999" y="538"/>
                  </a:lnTo>
                  <a:lnTo>
                    <a:pt x="1006" y="524"/>
                  </a:lnTo>
                  <a:lnTo>
                    <a:pt x="1006" y="503"/>
                  </a:lnTo>
                  <a:lnTo>
                    <a:pt x="1006" y="489"/>
                  </a:lnTo>
                  <a:lnTo>
                    <a:pt x="1013" y="475"/>
                  </a:lnTo>
                  <a:lnTo>
                    <a:pt x="1013" y="460"/>
                  </a:lnTo>
                  <a:lnTo>
                    <a:pt x="1013" y="446"/>
                  </a:lnTo>
                  <a:lnTo>
                    <a:pt x="1020" y="432"/>
                  </a:lnTo>
                  <a:lnTo>
                    <a:pt x="1020" y="418"/>
                  </a:lnTo>
                  <a:lnTo>
                    <a:pt x="1020" y="404"/>
                  </a:lnTo>
                  <a:lnTo>
                    <a:pt x="1027" y="390"/>
                  </a:lnTo>
                  <a:lnTo>
                    <a:pt x="1027" y="375"/>
                  </a:lnTo>
                  <a:lnTo>
                    <a:pt x="1027" y="361"/>
                  </a:lnTo>
                  <a:lnTo>
                    <a:pt x="1027" y="347"/>
                  </a:lnTo>
                  <a:lnTo>
                    <a:pt x="1034" y="333"/>
                  </a:lnTo>
                  <a:lnTo>
                    <a:pt x="1034" y="319"/>
                  </a:lnTo>
                  <a:lnTo>
                    <a:pt x="1034" y="304"/>
                  </a:lnTo>
                  <a:lnTo>
                    <a:pt x="1041" y="297"/>
                  </a:lnTo>
                  <a:lnTo>
                    <a:pt x="1041" y="283"/>
                  </a:lnTo>
                  <a:lnTo>
                    <a:pt x="1041" y="269"/>
                  </a:lnTo>
                  <a:lnTo>
                    <a:pt x="1048" y="255"/>
                  </a:lnTo>
                  <a:lnTo>
                    <a:pt x="1048" y="248"/>
                  </a:lnTo>
                  <a:lnTo>
                    <a:pt x="1048" y="234"/>
                  </a:lnTo>
                  <a:lnTo>
                    <a:pt x="1056" y="227"/>
                  </a:lnTo>
                  <a:lnTo>
                    <a:pt x="1056" y="212"/>
                  </a:lnTo>
                  <a:lnTo>
                    <a:pt x="1056" y="198"/>
                  </a:lnTo>
                  <a:lnTo>
                    <a:pt x="1063" y="191"/>
                  </a:lnTo>
                  <a:lnTo>
                    <a:pt x="1063" y="177"/>
                  </a:lnTo>
                  <a:lnTo>
                    <a:pt x="1063" y="170"/>
                  </a:lnTo>
                  <a:lnTo>
                    <a:pt x="1063" y="163"/>
                  </a:lnTo>
                  <a:lnTo>
                    <a:pt x="1070" y="149"/>
                  </a:lnTo>
                  <a:lnTo>
                    <a:pt x="1070" y="142"/>
                  </a:lnTo>
                  <a:lnTo>
                    <a:pt x="1070" y="134"/>
                  </a:lnTo>
                  <a:lnTo>
                    <a:pt x="1077" y="120"/>
                  </a:lnTo>
                  <a:lnTo>
                    <a:pt x="1077" y="113"/>
                  </a:lnTo>
                  <a:lnTo>
                    <a:pt x="1077" y="106"/>
                  </a:lnTo>
                  <a:lnTo>
                    <a:pt x="1084" y="99"/>
                  </a:lnTo>
                  <a:lnTo>
                    <a:pt x="1084" y="92"/>
                  </a:lnTo>
                  <a:lnTo>
                    <a:pt x="1084" y="85"/>
                  </a:lnTo>
                  <a:lnTo>
                    <a:pt x="1091" y="78"/>
                  </a:lnTo>
                  <a:lnTo>
                    <a:pt x="1091" y="71"/>
                  </a:lnTo>
                  <a:lnTo>
                    <a:pt x="1091" y="64"/>
                  </a:lnTo>
                  <a:lnTo>
                    <a:pt x="1098" y="56"/>
                  </a:lnTo>
                  <a:lnTo>
                    <a:pt x="1098" y="49"/>
                  </a:lnTo>
                  <a:lnTo>
                    <a:pt x="1098" y="42"/>
                  </a:lnTo>
                  <a:lnTo>
                    <a:pt x="1105" y="35"/>
                  </a:lnTo>
                  <a:lnTo>
                    <a:pt x="1105" y="28"/>
                  </a:lnTo>
                  <a:lnTo>
                    <a:pt x="1112" y="21"/>
                  </a:lnTo>
                  <a:lnTo>
                    <a:pt x="1119" y="14"/>
                  </a:lnTo>
                  <a:lnTo>
                    <a:pt x="1126" y="7"/>
                  </a:lnTo>
                  <a:lnTo>
                    <a:pt x="1134" y="0"/>
                  </a:lnTo>
                  <a:lnTo>
                    <a:pt x="1141" y="0"/>
                  </a:lnTo>
                  <a:lnTo>
                    <a:pt x="1148" y="7"/>
                  </a:lnTo>
                  <a:lnTo>
                    <a:pt x="1155" y="14"/>
                  </a:lnTo>
                  <a:lnTo>
                    <a:pt x="1162" y="21"/>
                  </a:lnTo>
                  <a:lnTo>
                    <a:pt x="1169" y="28"/>
                  </a:lnTo>
                  <a:lnTo>
                    <a:pt x="1169" y="35"/>
                  </a:lnTo>
                  <a:lnTo>
                    <a:pt x="1176" y="42"/>
                  </a:lnTo>
                  <a:lnTo>
                    <a:pt x="1176" y="49"/>
                  </a:lnTo>
                  <a:lnTo>
                    <a:pt x="1176" y="56"/>
                  </a:lnTo>
                  <a:lnTo>
                    <a:pt x="1183" y="64"/>
                  </a:lnTo>
                  <a:lnTo>
                    <a:pt x="1183" y="71"/>
                  </a:lnTo>
                  <a:lnTo>
                    <a:pt x="1183" y="78"/>
                  </a:lnTo>
                  <a:lnTo>
                    <a:pt x="1190" y="85"/>
                  </a:lnTo>
                  <a:lnTo>
                    <a:pt x="1190" y="92"/>
                  </a:lnTo>
                  <a:lnTo>
                    <a:pt x="1190" y="99"/>
                  </a:lnTo>
                  <a:lnTo>
                    <a:pt x="1197" y="106"/>
                  </a:lnTo>
                  <a:lnTo>
                    <a:pt x="1197" y="113"/>
                  </a:lnTo>
                  <a:lnTo>
                    <a:pt x="1197" y="120"/>
                  </a:lnTo>
                  <a:lnTo>
                    <a:pt x="1204" y="134"/>
                  </a:lnTo>
                  <a:lnTo>
                    <a:pt x="1204" y="142"/>
                  </a:lnTo>
                  <a:lnTo>
                    <a:pt x="1204" y="149"/>
                  </a:lnTo>
                  <a:lnTo>
                    <a:pt x="1211" y="163"/>
                  </a:lnTo>
                  <a:lnTo>
                    <a:pt x="1211" y="170"/>
                  </a:lnTo>
                  <a:lnTo>
                    <a:pt x="1211" y="177"/>
                  </a:lnTo>
                  <a:lnTo>
                    <a:pt x="1211" y="191"/>
                  </a:lnTo>
                  <a:lnTo>
                    <a:pt x="1219" y="198"/>
                  </a:lnTo>
                  <a:lnTo>
                    <a:pt x="1219" y="212"/>
                  </a:lnTo>
                  <a:lnTo>
                    <a:pt x="1219" y="227"/>
                  </a:lnTo>
                  <a:lnTo>
                    <a:pt x="1226" y="234"/>
                  </a:lnTo>
                  <a:lnTo>
                    <a:pt x="1226" y="248"/>
                  </a:lnTo>
                  <a:lnTo>
                    <a:pt x="1226" y="255"/>
                  </a:lnTo>
                  <a:lnTo>
                    <a:pt x="1233" y="269"/>
                  </a:lnTo>
                  <a:lnTo>
                    <a:pt x="1233" y="283"/>
                  </a:lnTo>
                  <a:lnTo>
                    <a:pt x="1233" y="297"/>
                  </a:lnTo>
                  <a:lnTo>
                    <a:pt x="1240" y="304"/>
                  </a:lnTo>
                  <a:lnTo>
                    <a:pt x="1240" y="319"/>
                  </a:lnTo>
                  <a:lnTo>
                    <a:pt x="1240" y="333"/>
                  </a:lnTo>
                  <a:lnTo>
                    <a:pt x="1247" y="347"/>
                  </a:lnTo>
                  <a:lnTo>
                    <a:pt x="1247" y="361"/>
                  </a:lnTo>
                  <a:lnTo>
                    <a:pt x="1247" y="375"/>
                  </a:lnTo>
                  <a:lnTo>
                    <a:pt x="1247" y="390"/>
                  </a:lnTo>
                  <a:lnTo>
                    <a:pt x="1254" y="404"/>
                  </a:lnTo>
                  <a:lnTo>
                    <a:pt x="1254" y="418"/>
                  </a:lnTo>
                  <a:lnTo>
                    <a:pt x="1254" y="432"/>
                  </a:lnTo>
                  <a:lnTo>
                    <a:pt x="1261" y="446"/>
                  </a:lnTo>
                  <a:lnTo>
                    <a:pt x="1261" y="460"/>
                  </a:lnTo>
                  <a:lnTo>
                    <a:pt x="1261" y="475"/>
                  </a:lnTo>
                  <a:lnTo>
                    <a:pt x="1268" y="489"/>
                  </a:lnTo>
                  <a:lnTo>
                    <a:pt x="1268" y="503"/>
                  </a:lnTo>
                  <a:lnTo>
                    <a:pt x="1268" y="524"/>
                  </a:lnTo>
                  <a:lnTo>
                    <a:pt x="1275" y="538"/>
                  </a:lnTo>
                  <a:lnTo>
                    <a:pt x="1275" y="552"/>
                  </a:lnTo>
                  <a:lnTo>
                    <a:pt x="1275" y="567"/>
                  </a:lnTo>
                  <a:lnTo>
                    <a:pt x="1282" y="581"/>
                  </a:lnTo>
                  <a:lnTo>
                    <a:pt x="1282" y="602"/>
                  </a:lnTo>
                  <a:lnTo>
                    <a:pt x="1282" y="616"/>
                  </a:lnTo>
                  <a:lnTo>
                    <a:pt x="1289" y="630"/>
                  </a:lnTo>
                  <a:lnTo>
                    <a:pt x="1289" y="652"/>
                  </a:lnTo>
                  <a:lnTo>
                    <a:pt x="1289" y="666"/>
                  </a:lnTo>
                  <a:lnTo>
                    <a:pt x="1289" y="680"/>
                  </a:lnTo>
                  <a:lnTo>
                    <a:pt x="1297" y="701"/>
                  </a:lnTo>
                  <a:lnTo>
                    <a:pt x="1297" y="715"/>
                  </a:lnTo>
                  <a:lnTo>
                    <a:pt x="1297" y="730"/>
                  </a:lnTo>
                  <a:lnTo>
                    <a:pt x="1304" y="751"/>
                  </a:lnTo>
                  <a:lnTo>
                    <a:pt x="1304" y="765"/>
                  </a:lnTo>
                  <a:lnTo>
                    <a:pt x="1304" y="786"/>
                  </a:lnTo>
                  <a:lnTo>
                    <a:pt x="1311" y="800"/>
                  </a:lnTo>
                  <a:lnTo>
                    <a:pt x="1311" y="815"/>
                  </a:lnTo>
                  <a:lnTo>
                    <a:pt x="1311" y="836"/>
                  </a:lnTo>
                  <a:lnTo>
                    <a:pt x="1318" y="850"/>
                  </a:lnTo>
                  <a:lnTo>
                    <a:pt x="1318" y="871"/>
                  </a:lnTo>
                  <a:lnTo>
                    <a:pt x="1318" y="886"/>
                  </a:lnTo>
                  <a:lnTo>
                    <a:pt x="1325" y="900"/>
                  </a:lnTo>
                  <a:lnTo>
                    <a:pt x="1325" y="921"/>
                  </a:lnTo>
                  <a:lnTo>
                    <a:pt x="1325" y="935"/>
                  </a:lnTo>
                  <a:lnTo>
                    <a:pt x="1325" y="956"/>
                  </a:lnTo>
                  <a:lnTo>
                    <a:pt x="1332" y="971"/>
                  </a:lnTo>
                  <a:lnTo>
                    <a:pt x="1332" y="992"/>
                  </a:lnTo>
                  <a:lnTo>
                    <a:pt x="1332" y="1006"/>
                  </a:lnTo>
                  <a:lnTo>
                    <a:pt x="1339" y="1020"/>
                  </a:lnTo>
                  <a:lnTo>
                    <a:pt x="1339" y="1041"/>
                  </a:lnTo>
                  <a:lnTo>
                    <a:pt x="1339" y="1056"/>
                  </a:lnTo>
                  <a:lnTo>
                    <a:pt x="1346" y="1077"/>
                  </a:lnTo>
                  <a:lnTo>
                    <a:pt x="1346" y="1091"/>
                  </a:lnTo>
                  <a:lnTo>
                    <a:pt x="1346" y="1105"/>
                  </a:lnTo>
                  <a:lnTo>
                    <a:pt x="1353" y="1126"/>
                  </a:lnTo>
                  <a:lnTo>
                    <a:pt x="1353" y="1141"/>
                  </a:lnTo>
                  <a:lnTo>
                    <a:pt x="1353" y="1162"/>
                  </a:lnTo>
                  <a:lnTo>
                    <a:pt x="1360" y="1176"/>
                  </a:lnTo>
                  <a:lnTo>
                    <a:pt x="1360" y="1190"/>
                  </a:lnTo>
                  <a:lnTo>
                    <a:pt x="1360" y="1211"/>
                  </a:lnTo>
                  <a:lnTo>
                    <a:pt x="1360" y="1226"/>
                  </a:lnTo>
                  <a:lnTo>
                    <a:pt x="1367" y="1240"/>
                  </a:lnTo>
                  <a:lnTo>
                    <a:pt x="1367" y="1261"/>
                  </a:lnTo>
                  <a:lnTo>
                    <a:pt x="1367" y="1275"/>
                  </a:lnTo>
                  <a:lnTo>
                    <a:pt x="1374" y="1289"/>
                  </a:lnTo>
                  <a:lnTo>
                    <a:pt x="1374" y="1304"/>
                  </a:lnTo>
                  <a:lnTo>
                    <a:pt x="1374" y="1325"/>
                  </a:lnTo>
                  <a:lnTo>
                    <a:pt x="1382" y="1339"/>
                  </a:lnTo>
                  <a:lnTo>
                    <a:pt x="1382" y="1353"/>
                  </a:lnTo>
                  <a:lnTo>
                    <a:pt x="1382" y="1367"/>
                  </a:lnTo>
                  <a:lnTo>
                    <a:pt x="1389" y="1382"/>
                  </a:lnTo>
                  <a:lnTo>
                    <a:pt x="1389" y="1403"/>
                  </a:lnTo>
                  <a:lnTo>
                    <a:pt x="1389" y="1417"/>
                  </a:lnTo>
                  <a:lnTo>
                    <a:pt x="1396" y="1431"/>
                  </a:lnTo>
                  <a:lnTo>
                    <a:pt x="1396" y="1445"/>
                  </a:lnTo>
                  <a:lnTo>
                    <a:pt x="1396" y="1459"/>
                  </a:lnTo>
                  <a:lnTo>
                    <a:pt x="1396" y="1474"/>
                  </a:lnTo>
                  <a:lnTo>
                    <a:pt x="1403" y="1488"/>
                  </a:lnTo>
                  <a:lnTo>
                    <a:pt x="1403" y="1502"/>
                  </a:lnTo>
                  <a:lnTo>
                    <a:pt x="1403" y="1516"/>
                  </a:lnTo>
                  <a:lnTo>
                    <a:pt x="1410" y="1530"/>
                  </a:lnTo>
                  <a:lnTo>
                    <a:pt x="1410" y="1544"/>
                  </a:lnTo>
                  <a:lnTo>
                    <a:pt x="1410" y="1559"/>
                  </a:lnTo>
                  <a:lnTo>
                    <a:pt x="1417" y="1573"/>
                  </a:lnTo>
                  <a:lnTo>
                    <a:pt x="1417" y="1580"/>
                  </a:lnTo>
                  <a:lnTo>
                    <a:pt x="1417" y="1594"/>
                  </a:lnTo>
                  <a:lnTo>
                    <a:pt x="1424" y="1608"/>
                  </a:lnTo>
                  <a:lnTo>
                    <a:pt x="1424" y="1594"/>
                  </a:lnTo>
                  <a:lnTo>
                    <a:pt x="1424" y="1587"/>
                  </a:lnTo>
                  <a:lnTo>
                    <a:pt x="1431" y="1573"/>
                  </a:lnTo>
                  <a:lnTo>
                    <a:pt x="1431" y="1559"/>
                  </a:lnTo>
                  <a:lnTo>
                    <a:pt x="1431" y="1544"/>
                  </a:lnTo>
                  <a:lnTo>
                    <a:pt x="1438" y="1537"/>
                  </a:lnTo>
                  <a:lnTo>
                    <a:pt x="1438" y="1523"/>
                  </a:lnTo>
                  <a:lnTo>
                    <a:pt x="1438" y="1516"/>
                  </a:lnTo>
                  <a:lnTo>
                    <a:pt x="1438" y="1502"/>
                  </a:lnTo>
                  <a:lnTo>
                    <a:pt x="1445" y="1495"/>
                  </a:lnTo>
                  <a:lnTo>
                    <a:pt x="1445" y="1481"/>
                  </a:lnTo>
                  <a:lnTo>
                    <a:pt x="1445" y="1474"/>
                  </a:lnTo>
                  <a:lnTo>
                    <a:pt x="1452" y="1459"/>
                  </a:lnTo>
                  <a:lnTo>
                    <a:pt x="1452" y="1452"/>
                  </a:lnTo>
                  <a:lnTo>
                    <a:pt x="1452" y="1445"/>
                  </a:lnTo>
                  <a:lnTo>
                    <a:pt x="1460" y="1431"/>
                  </a:lnTo>
                  <a:lnTo>
                    <a:pt x="1460" y="1424"/>
                  </a:lnTo>
                  <a:lnTo>
                    <a:pt x="1460" y="1417"/>
                  </a:lnTo>
                  <a:lnTo>
                    <a:pt x="1467" y="1410"/>
                  </a:lnTo>
                  <a:lnTo>
                    <a:pt x="1467" y="1403"/>
                  </a:lnTo>
                  <a:lnTo>
                    <a:pt x="1467" y="1389"/>
                  </a:lnTo>
                  <a:lnTo>
                    <a:pt x="1474" y="1382"/>
                  </a:lnTo>
                  <a:lnTo>
                    <a:pt x="1474" y="1374"/>
                  </a:lnTo>
                  <a:lnTo>
                    <a:pt x="1474" y="1367"/>
                  </a:lnTo>
                  <a:lnTo>
                    <a:pt x="1474" y="1360"/>
                  </a:lnTo>
                  <a:lnTo>
                    <a:pt x="1481" y="1353"/>
                  </a:lnTo>
                  <a:lnTo>
                    <a:pt x="1481" y="1346"/>
                  </a:lnTo>
                  <a:lnTo>
                    <a:pt x="1488" y="1339"/>
                  </a:lnTo>
                  <a:lnTo>
                    <a:pt x="1488" y="1332"/>
                  </a:lnTo>
                  <a:lnTo>
                    <a:pt x="1488" y="1325"/>
                  </a:lnTo>
                  <a:lnTo>
                    <a:pt x="1495" y="1318"/>
                  </a:lnTo>
                  <a:lnTo>
                    <a:pt x="1495" y="1311"/>
                  </a:lnTo>
                  <a:lnTo>
                    <a:pt x="1502" y="1304"/>
                  </a:lnTo>
                  <a:lnTo>
                    <a:pt x="1502" y="1296"/>
                  </a:lnTo>
                  <a:lnTo>
                    <a:pt x="1509" y="1289"/>
                  </a:lnTo>
                  <a:lnTo>
                    <a:pt x="1509" y="1282"/>
                  </a:lnTo>
                  <a:lnTo>
                    <a:pt x="1516" y="1275"/>
                  </a:lnTo>
                  <a:lnTo>
                    <a:pt x="1523" y="1268"/>
                  </a:lnTo>
                  <a:lnTo>
                    <a:pt x="1530" y="1261"/>
                  </a:lnTo>
                  <a:lnTo>
                    <a:pt x="1537" y="1261"/>
                  </a:lnTo>
                  <a:lnTo>
                    <a:pt x="1545" y="1261"/>
                  </a:lnTo>
                  <a:lnTo>
                    <a:pt x="1552" y="1261"/>
                  </a:lnTo>
                  <a:lnTo>
                    <a:pt x="1559" y="1268"/>
                  </a:lnTo>
                  <a:lnTo>
                    <a:pt x="1566" y="1268"/>
                  </a:lnTo>
                  <a:lnTo>
                    <a:pt x="1573" y="1275"/>
                  </a:lnTo>
                  <a:lnTo>
                    <a:pt x="1580" y="1282"/>
                  </a:lnTo>
                  <a:lnTo>
                    <a:pt x="1587" y="1289"/>
                  </a:lnTo>
                  <a:lnTo>
                    <a:pt x="1587" y="1296"/>
                  </a:lnTo>
                  <a:lnTo>
                    <a:pt x="1594" y="1304"/>
                  </a:lnTo>
                  <a:lnTo>
                    <a:pt x="1594" y="1311"/>
                  </a:lnTo>
                  <a:lnTo>
                    <a:pt x="1601" y="1318"/>
                  </a:lnTo>
                  <a:lnTo>
                    <a:pt x="1601" y="1325"/>
                  </a:lnTo>
                  <a:lnTo>
                    <a:pt x="1608" y="1332"/>
                  </a:lnTo>
                  <a:lnTo>
                    <a:pt x="1608" y="1339"/>
                  </a:lnTo>
                  <a:lnTo>
                    <a:pt x="1615" y="1346"/>
                  </a:lnTo>
                  <a:lnTo>
                    <a:pt x="1615" y="1353"/>
                  </a:lnTo>
                  <a:lnTo>
                    <a:pt x="1622" y="1360"/>
                  </a:lnTo>
                  <a:lnTo>
                    <a:pt x="1622" y="1367"/>
                  </a:lnTo>
                  <a:lnTo>
                    <a:pt x="1622" y="1374"/>
                  </a:lnTo>
                  <a:lnTo>
                    <a:pt x="1630" y="1382"/>
                  </a:lnTo>
                  <a:lnTo>
                    <a:pt x="1630" y="1389"/>
                  </a:lnTo>
                  <a:lnTo>
                    <a:pt x="1630" y="1396"/>
                  </a:lnTo>
                  <a:lnTo>
                    <a:pt x="1637" y="1403"/>
                  </a:lnTo>
                  <a:lnTo>
                    <a:pt x="1637" y="1410"/>
                  </a:lnTo>
                  <a:lnTo>
                    <a:pt x="1644" y="1417"/>
                  </a:lnTo>
                  <a:lnTo>
                    <a:pt x="1644" y="1424"/>
                  </a:lnTo>
                  <a:lnTo>
                    <a:pt x="1644" y="1431"/>
                  </a:lnTo>
                  <a:lnTo>
                    <a:pt x="1651" y="1438"/>
                  </a:lnTo>
                  <a:lnTo>
                    <a:pt x="1651" y="1445"/>
                  </a:lnTo>
                  <a:lnTo>
                    <a:pt x="1651" y="1452"/>
                  </a:lnTo>
                  <a:lnTo>
                    <a:pt x="1658" y="1459"/>
                  </a:lnTo>
                  <a:lnTo>
                    <a:pt x="1658" y="1467"/>
                  </a:lnTo>
                  <a:lnTo>
                    <a:pt x="1658" y="1474"/>
                  </a:lnTo>
                  <a:lnTo>
                    <a:pt x="1665" y="1481"/>
                  </a:lnTo>
                  <a:lnTo>
                    <a:pt x="1665" y="1488"/>
                  </a:lnTo>
                  <a:lnTo>
                    <a:pt x="1665" y="1495"/>
                  </a:lnTo>
                  <a:lnTo>
                    <a:pt x="1672" y="1502"/>
                  </a:lnTo>
                  <a:lnTo>
                    <a:pt x="1672" y="1509"/>
                  </a:lnTo>
                  <a:lnTo>
                    <a:pt x="1672" y="1516"/>
                  </a:lnTo>
                  <a:lnTo>
                    <a:pt x="1679" y="1523"/>
                  </a:lnTo>
                  <a:lnTo>
                    <a:pt x="1679" y="1530"/>
                  </a:lnTo>
                  <a:lnTo>
                    <a:pt x="1679" y="1537"/>
                  </a:lnTo>
                  <a:lnTo>
                    <a:pt x="1686" y="1544"/>
                  </a:lnTo>
                  <a:lnTo>
                    <a:pt x="1686" y="1552"/>
                  </a:lnTo>
                  <a:lnTo>
                    <a:pt x="1686" y="1559"/>
                  </a:lnTo>
                  <a:lnTo>
                    <a:pt x="1693" y="1566"/>
                  </a:lnTo>
                  <a:lnTo>
                    <a:pt x="1693" y="1573"/>
                  </a:lnTo>
                  <a:lnTo>
                    <a:pt x="1693" y="1580"/>
                  </a:lnTo>
                  <a:lnTo>
                    <a:pt x="1700" y="1587"/>
                  </a:lnTo>
                  <a:lnTo>
                    <a:pt x="1700" y="1594"/>
                  </a:lnTo>
                  <a:lnTo>
                    <a:pt x="1700" y="1601"/>
                  </a:lnTo>
                  <a:lnTo>
                    <a:pt x="1708" y="1608"/>
                  </a:lnTo>
                  <a:lnTo>
                    <a:pt x="1708" y="1601"/>
                  </a:lnTo>
                  <a:lnTo>
                    <a:pt x="1708" y="1594"/>
                  </a:lnTo>
                  <a:lnTo>
                    <a:pt x="1715" y="1587"/>
                  </a:lnTo>
                  <a:lnTo>
                    <a:pt x="1715" y="1580"/>
                  </a:lnTo>
                  <a:lnTo>
                    <a:pt x="1722" y="1573"/>
                  </a:lnTo>
                  <a:lnTo>
                    <a:pt x="1722" y="1566"/>
                  </a:lnTo>
                  <a:lnTo>
                    <a:pt x="1722" y="1559"/>
                  </a:lnTo>
                  <a:lnTo>
                    <a:pt x="1729" y="1552"/>
                  </a:lnTo>
                  <a:lnTo>
                    <a:pt x="1729" y="1544"/>
                  </a:lnTo>
                  <a:lnTo>
                    <a:pt x="1736" y="1537"/>
                  </a:lnTo>
                  <a:lnTo>
                    <a:pt x="1736" y="1530"/>
                  </a:lnTo>
                  <a:lnTo>
                    <a:pt x="1736" y="1523"/>
                  </a:lnTo>
                  <a:lnTo>
                    <a:pt x="1743" y="1516"/>
                  </a:lnTo>
                  <a:lnTo>
                    <a:pt x="1743" y="1509"/>
                  </a:lnTo>
                  <a:lnTo>
                    <a:pt x="1750" y="1502"/>
                  </a:lnTo>
                  <a:lnTo>
                    <a:pt x="1750" y="1495"/>
                  </a:lnTo>
                  <a:lnTo>
                    <a:pt x="1757" y="1488"/>
                  </a:lnTo>
                  <a:lnTo>
                    <a:pt x="1757" y="1481"/>
                  </a:lnTo>
                  <a:lnTo>
                    <a:pt x="1764" y="1474"/>
                  </a:lnTo>
                  <a:lnTo>
                    <a:pt x="1764" y="1467"/>
                  </a:lnTo>
                  <a:lnTo>
                    <a:pt x="1771" y="1459"/>
                  </a:lnTo>
                  <a:lnTo>
                    <a:pt x="1771" y="1452"/>
                  </a:lnTo>
                  <a:lnTo>
                    <a:pt x="1778" y="1445"/>
                  </a:lnTo>
                  <a:lnTo>
                    <a:pt x="1785" y="1438"/>
                  </a:lnTo>
                  <a:lnTo>
                    <a:pt x="1793" y="1431"/>
                  </a:lnTo>
                  <a:lnTo>
                    <a:pt x="1800" y="1424"/>
                  </a:lnTo>
                  <a:lnTo>
                    <a:pt x="1807" y="1417"/>
                  </a:lnTo>
                  <a:lnTo>
                    <a:pt x="1814" y="1410"/>
                  </a:lnTo>
                  <a:lnTo>
                    <a:pt x="1821" y="1403"/>
                  </a:lnTo>
                  <a:lnTo>
                    <a:pt x="1828" y="1403"/>
                  </a:lnTo>
                  <a:lnTo>
                    <a:pt x="1835" y="1403"/>
                  </a:lnTo>
                  <a:lnTo>
                    <a:pt x="1842" y="1403"/>
                  </a:lnTo>
                  <a:lnTo>
                    <a:pt x="1849" y="1403"/>
                  </a:lnTo>
                  <a:lnTo>
                    <a:pt x="1856" y="1410"/>
                  </a:lnTo>
                  <a:lnTo>
                    <a:pt x="1863" y="1410"/>
                  </a:lnTo>
                  <a:lnTo>
                    <a:pt x="1871" y="1417"/>
                  </a:lnTo>
                  <a:lnTo>
                    <a:pt x="1878" y="1424"/>
                  </a:lnTo>
                  <a:lnTo>
                    <a:pt x="1885" y="1431"/>
                  </a:lnTo>
                  <a:lnTo>
                    <a:pt x="1892" y="1438"/>
                  </a:lnTo>
                  <a:lnTo>
                    <a:pt x="1899" y="1445"/>
                  </a:lnTo>
                  <a:lnTo>
                    <a:pt x="1906" y="1452"/>
                  </a:lnTo>
                  <a:lnTo>
                    <a:pt x="1913" y="1459"/>
                  </a:lnTo>
                  <a:lnTo>
                    <a:pt x="1913" y="1467"/>
                  </a:lnTo>
                  <a:lnTo>
                    <a:pt x="1920" y="1474"/>
                  </a:lnTo>
                  <a:lnTo>
                    <a:pt x="1920" y="1481"/>
                  </a:lnTo>
                  <a:lnTo>
                    <a:pt x="1927" y="1488"/>
                  </a:lnTo>
                  <a:lnTo>
                    <a:pt x="1927" y="1495"/>
                  </a:lnTo>
                  <a:lnTo>
                    <a:pt x="1934" y="1502"/>
                  </a:lnTo>
                  <a:lnTo>
                    <a:pt x="1941" y="1509"/>
                  </a:lnTo>
                  <a:lnTo>
                    <a:pt x="1941" y="1516"/>
                  </a:lnTo>
                  <a:lnTo>
                    <a:pt x="1948" y="1523"/>
                  </a:lnTo>
                  <a:lnTo>
                    <a:pt x="1948" y="1530"/>
                  </a:lnTo>
                  <a:lnTo>
                    <a:pt x="1956" y="1537"/>
                  </a:lnTo>
                  <a:lnTo>
                    <a:pt x="1956" y="1544"/>
                  </a:lnTo>
                  <a:lnTo>
                    <a:pt x="1963" y="1552"/>
                  </a:lnTo>
                  <a:lnTo>
                    <a:pt x="1963" y="1559"/>
                  </a:lnTo>
                  <a:lnTo>
                    <a:pt x="1970" y="1566"/>
                  </a:lnTo>
                  <a:lnTo>
                    <a:pt x="1970" y="1573"/>
                  </a:lnTo>
                  <a:lnTo>
                    <a:pt x="1977" y="1580"/>
                  </a:lnTo>
                  <a:lnTo>
                    <a:pt x="1977" y="1587"/>
                  </a:lnTo>
                  <a:lnTo>
                    <a:pt x="1984" y="1594"/>
                  </a:lnTo>
                  <a:lnTo>
                    <a:pt x="1991" y="1601"/>
                  </a:lnTo>
                  <a:lnTo>
                    <a:pt x="1991" y="1608"/>
                  </a:lnTo>
                  <a:lnTo>
                    <a:pt x="1998" y="1601"/>
                  </a:lnTo>
                  <a:lnTo>
                    <a:pt x="1998" y="1594"/>
                  </a:lnTo>
                  <a:lnTo>
                    <a:pt x="2005" y="1587"/>
                  </a:lnTo>
                  <a:lnTo>
                    <a:pt x="2005" y="1580"/>
                  </a:lnTo>
                  <a:lnTo>
                    <a:pt x="2012" y="1573"/>
                  </a:lnTo>
                  <a:lnTo>
                    <a:pt x="2012" y="1566"/>
                  </a:lnTo>
                  <a:lnTo>
                    <a:pt x="2019" y="1559"/>
                  </a:lnTo>
                  <a:lnTo>
                    <a:pt x="2026" y="1552"/>
                  </a:lnTo>
                  <a:lnTo>
                    <a:pt x="2026" y="1544"/>
                  </a:lnTo>
                  <a:lnTo>
                    <a:pt x="2034" y="1537"/>
                  </a:lnTo>
                  <a:lnTo>
                    <a:pt x="2034" y="1530"/>
                  </a:lnTo>
                  <a:lnTo>
                    <a:pt x="2041" y="1523"/>
                  </a:lnTo>
                  <a:lnTo>
                    <a:pt x="2048" y="1516"/>
                  </a:lnTo>
                  <a:lnTo>
                    <a:pt x="2055" y="1509"/>
                  </a:lnTo>
                  <a:lnTo>
                    <a:pt x="2062" y="1502"/>
                  </a:lnTo>
                  <a:lnTo>
                    <a:pt x="2069" y="1495"/>
                  </a:lnTo>
                  <a:lnTo>
                    <a:pt x="2069" y="1488"/>
                  </a:lnTo>
                  <a:lnTo>
                    <a:pt x="2076" y="1481"/>
                  </a:lnTo>
                  <a:lnTo>
                    <a:pt x="2083" y="1474"/>
                  </a:lnTo>
                  <a:lnTo>
                    <a:pt x="2090" y="1474"/>
                  </a:lnTo>
                  <a:lnTo>
                    <a:pt x="2097" y="1467"/>
                  </a:lnTo>
                  <a:lnTo>
                    <a:pt x="2104" y="1467"/>
                  </a:lnTo>
                  <a:lnTo>
                    <a:pt x="2111" y="1459"/>
                  </a:lnTo>
                  <a:lnTo>
                    <a:pt x="2119" y="1459"/>
                  </a:lnTo>
                  <a:lnTo>
                    <a:pt x="2126" y="1459"/>
                  </a:lnTo>
                  <a:lnTo>
                    <a:pt x="2133" y="1459"/>
                  </a:lnTo>
                  <a:lnTo>
                    <a:pt x="2140" y="1467"/>
                  </a:lnTo>
                  <a:lnTo>
                    <a:pt x="2147" y="1467"/>
                  </a:lnTo>
                  <a:lnTo>
                    <a:pt x="2154" y="1474"/>
                  </a:lnTo>
                  <a:lnTo>
                    <a:pt x="2161" y="1474"/>
                  </a:lnTo>
                  <a:lnTo>
                    <a:pt x="2168" y="1481"/>
                  </a:lnTo>
                  <a:lnTo>
                    <a:pt x="2175" y="1488"/>
                  </a:lnTo>
                  <a:lnTo>
                    <a:pt x="2182" y="1495"/>
                  </a:lnTo>
                  <a:lnTo>
                    <a:pt x="2189" y="1502"/>
                  </a:lnTo>
                  <a:lnTo>
                    <a:pt x="2197" y="1509"/>
                  </a:lnTo>
                  <a:lnTo>
                    <a:pt x="2204" y="1516"/>
                  </a:lnTo>
                  <a:lnTo>
                    <a:pt x="2211" y="1523"/>
                  </a:lnTo>
                  <a:lnTo>
                    <a:pt x="2218" y="1530"/>
                  </a:lnTo>
                  <a:lnTo>
                    <a:pt x="2225" y="1537"/>
                  </a:lnTo>
                  <a:lnTo>
                    <a:pt x="2232" y="1544"/>
                  </a:lnTo>
                  <a:lnTo>
                    <a:pt x="2239" y="1552"/>
                  </a:lnTo>
                  <a:lnTo>
                    <a:pt x="2239" y="1559"/>
                  </a:lnTo>
                  <a:lnTo>
                    <a:pt x="2246" y="1566"/>
                  </a:lnTo>
                  <a:lnTo>
                    <a:pt x="2253" y="1573"/>
                  </a:lnTo>
                  <a:lnTo>
                    <a:pt x="2253" y="1580"/>
                  </a:lnTo>
                  <a:lnTo>
                    <a:pt x="2260" y="1587"/>
                  </a:lnTo>
                  <a:lnTo>
                    <a:pt x="2267" y="1594"/>
                  </a:lnTo>
                  <a:lnTo>
                    <a:pt x="2267" y="1601"/>
                  </a:lnTo>
                  <a:lnTo>
                    <a:pt x="2274" y="1608"/>
                  </a:lnTo>
                </a:path>
              </a:pathLst>
            </a:cu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415280" y="2239560"/>
              <a:ext cx="166680" cy="1270080"/>
            </a:xfrm>
            <a:custGeom>
              <a:avLst/>
              <a:gdLst/>
              <a:ahLst/>
              <a:rect l="l" t="t" r="r" b="b"/>
              <a:pathLst>
                <a:path w="2274" h="1608">
                  <a:moveTo>
                    <a:pt x="0" y="1608"/>
                  </a:moveTo>
                  <a:lnTo>
                    <a:pt x="7" y="1601"/>
                  </a:lnTo>
                  <a:lnTo>
                    <a:pt x="14" y="1594"/>
                  </a:lnTo>
                  <a:lnTo>
                    <a:pt x="14" y="1587"/>
                  </a:lnTo>
                  <a:lnTo>
                    <a:pt x="21" y="1580"/>
                  </a:lnTo>
                  <a:lnTo>
                    <a:pt x="28" y="1573"/>
                  </a:lnTo>
                  <a:lnTo>
                    <a:pt x="28" y="1566"/>
                  </a:lnTo>
                  <a:lnTo>
                    <a:pt x="35" y="1559"/>
                  </a:lnTo>
                  <a:lnTo>
                    <a:pt x="42" y="1552"/>
                  </a:lnTo>
                  <a:lnTo>
                    <a:pt x="49" y="1544"/>
                  </a:lnTo>
                  <a:lnTo>
                    <a:pt x="49" y="1537"/>
                  </a:lnTo>
                  <a:lnTo>
                    <a:pt x="56" y="1530"/>
                  </a:lnTo>
                  <a:lnTo>
                    <a:pt x="63" y="1523"/>
                  </a:lnTo>
                  <a:lnTo>
                    <a:pt x="71" y="1516"/>
                  </a:lnTo>
                  <a:lnTo>
                    <a:pt x="78" y="1509"/>
                  </a:lnTo>
                  <a:lnTo>
                    <a:pt x="85" y="1502"/>
                  </a:lnTo>
                  <a:lnTo>
                    <a:pt x="92" y="1495"/>
                  </a:lnTo>
                  <a:lnTo>
                    <a:pt x="99" y="1488"/>
                  </a:lnTo>
                  <a:lnTo>
                    <a:pt x="106" y="1481"/>
                  </a:lnTo>
                  <a:lnTo>
                    <a:pt x="113" y="1474"/>
                  </a:lnTo>
                  <a:lnTo>
                    <a:pt x="120" y="1467"/>
                  </a:lnTo>
                  <a:lnTo>
                    <a:pt x="127" y="1467"/>
                  </a:lnTo>
                  <a:lnTo>
                    <a:pt x="134" y="1459"/>
                  </a:lnTo>
                  <a:lnTo>
                    <a:pt x="141" y="1459"/>
                  </a:lnTo>
                  <a:lnTo>
                    <a:pt x="148" y="1459"/>
                  </a:lnTo>
                  <a:lnTo>
                    <a:pt x="156" y="1459"/>
                  </a:lnTo>
                  <a:lnTo>
                    <a:pt x="163" y="1467"/>
                  </a:lnTo>
                  <a:lnTo>
                    <a:pt x="170" y="1467"/>
                  </a:lnTo>
                  <a:lnTo>
                    <a:pt x="177" y="1467"/>
                  </a:lnTo>
                  <a:lnTo>
                    <a:pt x="184" y="1474"/>
                  </a:lnTo>
                  <a:lnTo>
                    <a:pt x="191" y="1481"/>
                  </a:lnTo>
                  <a:lnTo>
                    <a:pt x="198" y="1481"/>
                  </a:lnTo>
                  <a:lnTo>
                    <a:pt x="205" y="1488"/>
                  </a:lnTo>
                  <a:lnTo>
                    <a:pt x="212" y="1495"/>
                  </a:lnTo>
                  <a:lnTo>
                    <a:pt x="219" y="1502"/>
                  </a:lnTo>
                  <a:lnTo>
                    <a:pt x="226" y="1509"/>
                  </a:lnTo>
                  <a:lnTo>
                    <a:pt x="234" y="1516"/>
                  </a:lnTo>
                  <a:lnTo>
                    <a:pt x="234" y="1523"/>
                  </a:lnTo>
                  <a:lnTo>
                    <a:pt x="241" y="1530"/>
                  </a:lnTo>
                  <a:lnTo>
                    <a:pt x="241" y="1537"/>
                  </a:lnTo>
                  <a:lnTo>
                    <a:pt x="248" y="1544"/>
                  </a:lnTo>
                  <a:lnTo>
                    <a:pt x="255" y="1552"/>
                  </a:lnTo>
                  <a:lnTo>
                    <a:pt x="255" y="1559"/>
                  </a:lnTo>
                  <a:lnTo>
                    <a:pt x="262" y="1566"/>
                  </a:lnTo>
                  <a:lnTo>
                    <a:pt x="269" y="1573"/>
                  </a:lnTo>
                  <a:lnTo>
                    <a:pt x="269" y="1580"/>
                  </a:lnTo>
                  <a:lnTo>
                    <a:pt x="276" y="1587"/>
                  </a:lnTo>
                  <a:lnTo>
                    <a:pt x="276" y="1594"/>
                  </a:lnTo>
                  <a:lnTo>
                    <a:pt x="283" y="1601"/>
                  </a:lnTo>
                  <a:lnTo>
                    <a:pt x="283" y="1608"/>
                  </a:lnTo>
                  <a:lnTo>
                    <a:pt x="290" y="1601"/>
                  </a:lnTo>
                  <a:lnTo>
                    <a:pt x="290" y="1594"/>
                  </a:lnTo>
                  <a:lnTo>
                    <a:pt x="297" y="1587"/>
                  </a:lnTo>
                  <a:lnTo>
                    <a:pt x="297" y="1580"/>
                  </a:lnTo>
                  <a:lnTo>
                    <a:pt x="304" y="1573"/>
                  </a:lnTo>
                  <a:lnTo>
                    <a:pt x="304" y="1566"/>
                  </a:lnTo>
                  <a:lnTo>
                    <a:pt x="311" y="1559"/>
                  </a:lnTo>
                  <a:lnTo>
                    <a:pt x="319" y="1552"/>
                  </a:lnTo>
                  <a:lnTo>
                    <a:pt x="319" y="1544"/>
                  </a:lnTo>
                  <a:lnTo>
                    <a:pt x="319" y="1537"/>
                  </a:lnTo>
                  <a:lnTo>
                    <a:pt x="326" y="1530"/>
                  </a:lnTo>
                  <a:lnTo>
                    <a:pt x="326" y="1523"/>
                  </a:lnTo>
                  <a:lnTo>
                    <a:pt x="333" y="1516"/>
                  </a:lnTo>
                  <a:lnTo>
                    <a:pt x="340" y="1509"/>
                  </a:lnTo>
                  <a:lnTo>
                    <a:pt x="340" y="1502"/>
                  </a:lnTo>
                  <a:lnTo>
                    <a:pt x="347" y="1495"/>
                  </a:lnTo>
                  <a:lnTo>
                    <a:pt x="347" y="1488"/>
                  </a:lnTo>
                  <a:lnTo>
                    <a:pt x="354" y="1481"/>
                  </a:lnTo>
                  <a:lnTo>
                    <a:pt x="354" y="1474"/>
                  </a:lnTo>
                  <a:lnTo>
                    <a:pt x="361" y="1467"/>
                  </a:lnTo>
                  <a:lnTo>
                    <a:pt x="368" y="1459"/>
                  </a:lnTo>
                  <a:lnTo>
                    <a:pt x="375" y="1452"/>
                  </a:lnTo>
                  <a:lnTo>
                    <a:pt x="375" y="1445"/>
                  </a:lnTo>
                  <a:lnTo>
                    <a:pt x="382" y="1438"/>
                  </a:lnTo>
                  <a:lnTo>
                    <a:pt x="389" y="1431"/>
                  </a:lnTo>
                  <a:lnTo>
                    <a:pt x="397" y="1424"/>
                  </a:lnTo>
                  <a:lnTo>
                    <a:pt x="404" y="1417"/>
                  </a:lnTo>
                  <a:lnTo>
                    <a:pt x="411" y="1410"/>
                  </a:lnTo>
                  <a:lnTo>
                    <a:pt x="418" y="1403"/>
                  </a:lnTo>
                  <a:lnTo>
                    <a:pt x="425" y="1403"/>
                  </a:lnTo>
                  <a:lnTo>
                    <a:pt x="432" y="1403"/>
                  </a:lnTo>
                  <a:lnTo>
                    <a:pt x="439" y="1403"/>
                  </a:lnTo>
                  <a:lnTo>
                    <a:pt x="446" y="1403"/>
                  </a:lnTo>
                  <a:lnTo>
                    <a:pt x="453" y="1403"/>
                  </a:lnTo>
                  <a:lnTo>
                    <a:pt x="460" y="1410"/>
                  </a:lnTo>
                  <a:lnTo>
                    <a:pt x="467" y="1417"/>
                  </a:lnTo>
                  <a:lnTo>
                    <a:pt x="474" y="1424"/>
                  </a:lnTo>
                  <a:lnTo>
                    <a:pt x="482" y="1431"/>
                  </a:lnTo>
                  <a:lnTo>
                    <a:pt x="489" y="1438"/>
                  </a:lnTo>
                  <a:lnTo>
                    <a:pt x="496" y="1445"/>
                  </a:lnTo>
                  <a:lnTo>
                    <a:pt x="503" y="1452"/>
                  </a:lnTo>
                  <a:lnTo>
                    <a:pt x="503" y="1459"/>
                  </a:lnTo>
                  <a:lnTo>
                    <a:pt x="510" y="1467"/>
                  </a:lnTo>
                  <a:lnTo>
                    <a:pt x="510" y="1474"/>
                  </a:lnTo>
                  <a:lnTo>
                    <a:pt x="517" y="1481"/>
                  </a:lnTo>
                  <a:lnTo>
                    <a:pt x="517" y="1488"/>
                  </a:lnTo>
                  <a:lnTo>
                    <a:pt x="524" y="1495"/>
                  </a:lnTo>
                  <a:lnTo>
                    <a:pt x="524" y="1502"/>
                  </a:lnTo>
                  <a:lnTo>
                    <a:pt x="531" y="1509"/>
                  </a:lnTo>
                  <a:lnTo>
                    <a:pt x="531" y="1516"/>
                  </a:lnTo>
                  <a:lnTo>
                    <a:pt x="538" y="1523"/>
                  </a:lnTo>
                  <a:lnTo>
                    <a:pt x="538" y="1530"/>
                  </a:lnTo>
                  <a:lnTo>
                    <a:pt x="538" y="1537"/>
                  </a:lnTo>
                  <a:lnTo>
                    <a:pt x="545" y="1544"/>
                  </a:lnTo>
                  <a:lnTo>
                    <a:pt x="545" y="1552"/>
                  </a:lnTo>
                  <a:lnTo>
                    <a:pt x="552" y="1559"/>
                  </a:lnTo>
                  <a:lnTo>
                    <a:pt x="552" y="1566"/>
                  </a:lnTo>
                  <a:lnTo>
                    <a:pt x="552" y="1573"/>
                  </a:lnTo>
                  <a:lnTo>
                    <a:pt x="560" y="1580"/>
                  </a:lnTo>
                  <a:lnTo>
                    <a:pt x="560" y="1587"/>
                  </a:lnTo>
                  <a:lnTo>
                    <a:pt x="567" y="1594"/>
                  </a:lnTo>
                  <a:lnTo>
                    <a:pt x="567" y="1601"/>
                  </a:lnTo>
                  <a:lnTo>
                    <a:pt x="567" y="1608"/>
                  </a:lnTo>
                  <a:lnTo>
                    <a:pt x="574" y="1601"/>
                  </a:lnTo>
                  <a:lnTo>
                    <a:pt x="574" y="1594"/>
                  </a:lnTo>
                  <a:lnTo>
                    <a:pt x="574" y="1587"/>
                  </a:lnTo>
                  <a:lnTo>
                    <a:pt x="581" y="1580"/>
                  </a:lnTo>
                  <a:lnTo>
                    <a:pt x="581" y="1573"/>
                  </a:lnTo>
                  <a:lnTo>
                    <a:pt x="581" y="1566"/>
                  </a:lnTo>
                  <a:lnTo>
                    <a:pt x="588" y="1559"/>
                  </a:lnTo>
                  <a:lnTo>
                    <a:pt x="588" y="1552"/>
                  </a:lnTo>
                  <a:lnTo>
                    <a:pt x="588" y="1544"/>
                  </a:lnTo>
                  <a:lnTo>
                    <a:pt x="595" y="1537"/>
                  </a:lnTo>
                  <a:lnTo>
                    <a:pt x="595" y="1530"/>
                  </a:lnTo>
                  <a:lnTo>
                    <a:pt x="595" y="1523"/>
                  </a:lnTo>
                  <a:lnTo>
                    <a:pt x="602" y="1516"/>
                  </a:lnTo>
                  <a:lnTo>
                    <a:pt x="602" y="1509"/>
                  </a:lnTo>
                  <a:lnTo>
                    <a:pt x="602" y="1502"/>
                  </a:lnTo>
                  <a:lnTo>
                    <a:pt x="609" y="1495"/>
                  </a:lnTo>
                  <a:lnTo>
                    <a:pt x="609" y="1488"/>
                  </a:lnTo>
                  <a:lnTo>
                    <a:pt x="616" y="1481"/>
                  </a:lnTo>
                  <a:lnTo>
                    <a:pt x="616" y="1474"/>
                  </a:lnTo>
                  <a:lnTo>
                    <a:pt x="616" y="1467"/>
                  </a:lnTo>
                  <a:lnTo>
                    <a:pt x="616" y="1459"/>
                  </a:lnTo>
                  <a:lnTo>
                    <a:pt x="623" y="1452"/>
                  </a:lnTo>
                  <a:lnTo>
                    <a:pt x="623" y="1445"/>
                  </a:lnTo>
                  <a:lnTo>
                    <a:pt x="623" y="1438"/>
                  </a:lnTo>
                  <a:lnTo>
                    <a:pt x="630" y="1431"/>
                  </a:lnTo>
                  <a:lnTo>
                    <a:pt x="630" y="1424"/>
                  </a:lnTo>
                  <a:lnTo>
                    <a:pt x="637" y="1417"/>
                  </a:lnTo>
                  <a:lnTo>
                    <a:pt x="637" y="1410"/>
                  </a:lnTo>
                  <a:lnTo>
                    <a:pt x="637" y="1403"/>
                  </a:lnTo>
                  <a:lnTo>
                    <a:pt x="645" y="1396"/>
                  </a:lnTo>
                  <a:lnTo>
                    <a:pt x="645" y="1389"/>
                  </a:lnTo>
                  <a:lnTo>
                    <a:pt x="652" y="1382"/>
                  </a:lnTo>
                  <a:lnTo>
                    <a:pt x="652" y="1374"/>
                  </a:lnTo>
                  <a:lnTo>
                    <a:pt x="652" y="1367"/>
                  </a:lnTo>
                  <a:lnTo>
                    <a:pt x="652" y="1360"/>
                  </a:lnTo>
                  <a:lnTo>
                    <a:pt x="659" y="1353"/>
                  </a:lnTo>
                  <a:lnTo>
                    <a:pt x="659" y="1346"/>
                  </a:lnTo>
                  <a:lnTo>
                    <a:pt x="666" y="1339"/>
                  </a:lnTo>
                  <a:lnTo>
                    <a:pt x="666" y="1332"/>
                  </a:lnTo>
                  <a:lnTo>
                    <a:pt x="673" y="1325"/>
                  </a:lnTo>
                  <a:lnTo>
                    <a:pt x="673" y="1318"/>
                  </a:lnTo>
                  <a:lnTo>
                    <a:pt x="680" y="1311"/>
                  </a:lnTo>
                  <a:lnTo>
                    <a:pt x="687" y="1304"/>
                  </a:lnTo>
                  <a:lnTo>
                    <a:pt x="687" y="1296"/>
                  </a:lnTo>
                  <a:lnTo>
                    <a:pt x="694" y="1289"/>
                  </a:lnTo>
                  <a:lnTo>
                    <a:pt x="694" y="1282"/>
                  </a:lnTo>
                  <a:lnTo>
                    <a:pt x="701" y="1275"/>
                  </a:lnTo>
                  <a:lnTo>
                    <a:pt x="708" y="1268"/>
                  </a:lnTo>
                  <a:lnTo>
                    <a:pt x="715" y="1261"/>
                  </a:lnTo>
                  <a:lnTo>
                    <a:pt x="723" y="1261"/>
                  </a:lnTo>
                  <a:lnTo>
                    <a:pt x="730" y="1261"/>
                  </a:lnTo>
                  <a:lnTo>
                    <a:pt x="737" y="1261"/>
                  </a:lnTo>
                  <a:lnTo>
                    <a:pt x="744" y="1261"/>
                  </a:lnTo>
                  <a:lnTo>
                    <a:pt x="751" y="1268"/>
                  </a:lnTo>
                  <a:lnTo>
                    <a:pt x="758" y="1275"/>
                  </a:lnTo>
                  <a:lnTo>
                    <a:pt x="765" y="1282"/>
                  </a:lnTo>
                  <a:lnTo>
                    <a:pt x="765" y="1289"/>
                  </a:lnTo>
                  <a:lnTo>
                    <a:pt x="772" y="1296"/>
                  </a:lnTo>
                  <a:lnTo>
                    <a:pt x="772" y="1304"/>
                  </a:lnTo>
                  <a:lnTo>
                    <a:pt x="779" y="1311"/>
                  </a:lnTo>
                  <a:lnTo>
                    <a:pt x="779" y="1318"/>
                  </a:lnTo>
                  <a:lnTo>
                    <a:pt x="786" y="1325"/>
                  </a:lnTo>
                  <a:lnTo>
                    <a:pt x="786" y="1332"/>
                  </a:lnTo>
                  <a:lnTo>
                    <a:pt x="793" y="1339"/>
                  </a:lnTo>
                  <a:lnTo>
                    <a:pt x="793" y="1346"/>
                  </a:lnTo>
                  <a:lnTo>
                    <a:pt x="793" y="1353"/>
                  </a:lnTo>
                  <a:lnTo>
                    <a:pt x="800" y="1360"/>
                  </a:lnTo>
                  <a:lnTo>
                    <a:pt x="800" y="1367"/>
                  </a:lnTo>
                  <a:lnTo>
                    <a:pt x="800" y="1374"/>
                  </a:lnTo>
                  <a:lnTo>
                    <a:pt x="800" y="1382"/>
                  </a:lnTo>
                  <a:lnTo>
                    <a:pt x="808" y="1389"/>
                  </a:lnTo>
                  <a:lnTo>
                    <a:pt x="808" y="1403"/>
                  </a:lnTo>
                  <a:lnTo>
                    <a:pt x="808" y="1410"/>
                  </a:lnTo>
                  <a:lnTo>
                    <a:pt x="815" y="1417"/>
                  </a:lnTo>
                  <a:lnTo>
                    <a:pt x="815" y="1424"/>
                  </a:lnTo>
                  <a:lnTo>
                    <a:pt x="815" y="1431"/>
                  </a:lnTo>
                  <a:lnTo>
                    <a:pt x="822" y="1445"/>
                  </a:lnTo>
                  <a:lnTo>
                    <a:pt x="822" y="1452"/>
                  </a:lnTo>
                  <a:lnTo>
                    <a:pt x="822" y="1459"/>
                  </a:lnTo>
                  <a:lnTo>
                    <a:pt x="829" y="1474"/>
                  </a:lnTo>
                  <a:lnTo>
                    <a:pt x="829" y="1481"/>
                  </a:lnTo>
                  <a:lnTo>
                    <a:pt x="829" y="1495"/>
                  </a:lnTo>
                  <a:lnTo>
                    <a:pt x="836" y="1502"/>
                  </a:lnTo>
                  <a:lnTo>
                    <a:pt x="836" y="1516"/>
                  </a:lnTo>
                  <a:lnTo>
                    <a:pt x="836" y="1523"/>
                  </a:lnTo>
                  <a:lnTo>
                    <a:pt x="836" y="1537"/>
                  </a:lnTo>
                  <a:lnTo>
                    <a:pt x="843" y="1544"/>
                  </a:lnTo>
                  <a:lnTo>
                    <a:pt x="843" y="1559"/>
                  </a:lnTo>
                  <a:lnTo>
                    <a:pt x="843" y="1573"/>
                  </a:lnTo>
                  <a:lnTo>
                    <a:pt x="850" y="1587"/>
                  </a:lnTo>
                  <a:lnTo>
                    <a:pt x="850" y="1594"/>
                  </a:lnTo>
                  <a:lnTo>
                    <a:pt x="850" y="1608"/>
                  </a:lnTo>
                  <a:lnTo>
                    <a:pt x="857" y="1594"/>
                  </a:lnTo>
                  <a:lnTo>
                    <a:pt x="857" y="1580"/>
                  </a:lnTo>
                  <a:lnTo>
                    <a:pt x="857" y="1573"/>
                  </a:lnTo>
                  <a:lnTo>
                    <a:pt x="864" y="1559"/>
                  </a:lnTo>
                  <a:lnTo>
                    <a:pt x="864" y="1544"/>
                  </a:lnTo>
                  <a:lnTo>
                    <a:pt x="864" y="1530"/>
                  </a:lnTo>
                  <a:lnTo>
                    <a:pt x="871" y="1516"/>
                  </a:lnTo>
                  <a:lnTo>
                    <a:pt x="871" y="1502"/>
                  </a:lnTo>
                  <a:lnTo>
                    <a:pt x="871" y="1488"/>
                  </a:lnTo>
                  <a:lnTo>
                    <a:pt x="878" y="1474"/>
                  </a:lnTo>
                  <a:lnTo>
                    <a:pt x="878" y="1459"/>
                  </a:lnTo>
                  <a:lnTo>
                    <a:pt x="878" y="1445"/>
                  </a:lnTo>
                  <a:lnTo>
                    <a:pt x="878" y="1431"/>
                  </a:lnTo>
                  <a:lnTo>
                    <a:pt x="885" y="1417"/>
                  </a:lnTo>
                  <a:lnTo>
                    <a:pt x="885" y="1403"/>
                  </a:lnTo>
                  <a:lnTo>
                    <a:pt x="885" y="1382"/>
                  </a:lnTo>
                  <a:lnTo>
                    <a:pt x="893" y="1367"/>
                  </a:lnTo>
                  <a:lnTo>
                    <a:pt x="893" y="1353"/>
                  </a:lnTo>
                  <a:lnTo>
                    <a:pt x="893" y="1339"/>
                  </a:lnTo>
                  <a:lnTo>
                    <a:pt x="900" y="1325"/>
                  </a:lnTo>
                  <a:lnTo>
                    <a:pt x="900" y="1304"/>
                  </a:lnTo>
                  <a:lnTo>
                    <a:pt x="900" y="1289"/>
                  </a:lnTo>
                  <a:lnTo>
                    <a:pt x="907" y="1275"/>
                  </a:lnTo>
                  <a:lnTo>
                    <a:pt x="907" y="1261"/>
                  </a:lnTo>
                  <a:lnTo>
                    <a:pt x="907" y="1240"/>
                  </a:lnTo>
                  <a:lnTo>
                    <a:pt x="914" y="1226"/>
                  </a:lnTo>
                  <a:lnTo>
                    <a:pt x="914" y="1211"/>
                  </a:lnTo>
                  <a:lnTo>
                    <a:pt x="914" y="1190"/>
                  </a:lnTo>
                  <a:lnTo>
                    <a:pt x="914" y="1176"/>
                  </a:lnTo>
                  <a:lnTo>
                    <a:pt x="921" y="1162"/>
                  </a:lnTo>
                  <a:lnTo>
                    <a:pt x="921" y="1141"/>
                  </a:lnTo>
                  <a:lnTo>
                    <a:pt x="921" y="1126"/>
                  </a:lnTo>
                  <a:lnTo>
                    <a:pt x="928" y="1105"/>
                  </a:lnTo>
                  <a:lnTo>
                    <a:pt x="928" y="1091"/>
                  </a:lnTo>
                  <a:lnTo>
                    <a:pt x="928" y="1077"/>
                  </a:lnTo>
                  <a:lnTo>
                    <a:pt x="935" y="1056"/>
                  </a:lnTo>
                  <a:lnTo>
                    <a:pt x="935" y="1041"/>
                  </a:lnTo>
                  <a:lnTo>
                    <a:pt x="935" y="1020"/>
                  </a:lnTo>
                  <a:lnTo>
                    <a:pt x="942" y="1006"/>
                  </a:lnTo>
                  <a:lnTo>
                    <a:pt x="942" y="992"/>
                  </a:lnTo>
                  <a:lnTo>
                    <a:pt x="942" y="971"/>
                  </a:lnTo>
                  <a:lnTo>
                    <a:pt x="949" y="956"/>
                  </a:lnTo>
                  <a:lnTo>
                    <a:pt x="949" y="935"/>
                  </a:lnTo>
                  <a:lnTo>
                    <a:pt x="949" y="921"/>
                  </a:lnTo>
                  <a:lnTo>
                    <a:pt x="949" y="900"/>
                  </a:lnTo>
                  <a:lnTo>
                    <a:pt x="956" y="886"/>
                  </a:lnTo>
                  <a:lnTo>
                    <a:pt x="956" y="871"/>
                  </a:lnTo>
                  <a:lnTo>
                    <a:pt x="956" y="850"/>
                  </a:lnTo>
                  <a:lnTo>
                    <a:pt x="963" y="836"/>
                  </a:lnTo>
                  <a:lnTo>
                    <a:pt x="963" y="815"/>
                  </a:lnTo>
                  <a:lnTo>
                    <a:pt x="963" y="800"/>
                  </a:lnTo>
                  <a:lnTo>
                    <a:pt x="971" y="786"/>
                  </a:lnTo>
                  <a:lnTo>
                    <a:pt x="971" y="765"/>
                  </a:lnTo>
                  <a:lnTo>
                    <a:pt x="971" y="751"/>
                  </a:lnTo>
                  <a:lnTo>
                    <a:pt x="978" y="730"/>
                  </a:lnTo>
                  <a:lnTo>
                    <a:pt x="978" y="715"/>
                  </a:lnTo>
                  <a:lnTo>
                    <a:pt x="978" y="701"/>
                  </a:lnTo>
                  <a:lnTo>
                    <a:pt x="985" y="680"/>
                  </a:lnTo>
                  <a:lnTo>
                    <a:pt x="985" y="666"/>
                  </a:lnTo>
                  <a:lnTo>
                    <a:pt x="985" y="652"/>
                  </a:lnTo>
                  <a:lnTo>
                    <a:pt x="985" y="630"/>
                  </a:lnTo>
                  <a:lnTo>
                    <a:pt x="992" y="616"/>
                  </a:lnTo>
                  <a:lnTo>
                    <a:pt x="992" y="602"/>
                  </a:lnTo>
                  <a:lnTo>
                    <a:pt x="992" y="581"/>
                  </a:lnTo>
                  <a:lnTo>
                    <a:pt x="999" y="567"/>
                  </a:lnTo>
                  <a:lnTo>
                    <a:pt x="999" y="552"/>
                  </a:lnTo>
                  <a:lnTo>
                    <a:pt x="999" y="538"/>
                  </a:lnTo>
                  <a:lnTo>
                    <a:pt x="1006" y="524"/>
                  </a:lnTo>
                  <a:lnTo>
                    <a:pt x="1006" y="503"/>
                  </a:lnTo>
                  <a:lnTo>
                    <a:pt x="1006" y="489"/>
                  </a:lnTo>
                  <a:lnTo>
                    <a:pt x="1013" y="475"/>
                  </a:lnTo>
                  <a:lnTo>
                    <a:pt x="1013" y="460"/>
                  </a:lnTo>
                  <a:lnTo>
                    <a:pt x="1013" y="446"/>
                  </a:lnTo>
                  <a:lnTo>
                    <a:pt x="1020" y="432"/>
                  </a:lnTo>
                  <a:lnTo>
                    <a:pt x="1020" y="418"/>
                  </a:lnTo>
                  <a:lnTo>
                    <a:pt x="1020" y="404"/>
                  </a:lnTo>
                  <a:lnTo>
                    <a:pt x="1027" y="390"/>
                  </a:lnTo>
                  <a:lnTo>
                    <a:pt x="1027" y="375"/>
                  </a:lnTo>
                  <a:lnTo>
                    <a:pt x="1027" y="361"/>
                  </a:lnTo>
                  <a:lnTo>
                    <a:pt x="1027" y="347"/>
                  </a:lnTo>
                  <a:lnTo>
                    <a:pt x="1034" y="333"/>
                  </a:lnTo>
                  <a:lnTo>
                    <a:pt x="1034" y="319"/>
                  </a:lnTo>
                  <a:lnTo>
                    <a:pt x="1034" y="304"/>
                  </a:lnTo>
                  <a:lnTo>
                    <a:pt x="1041" y="297"/>
                  </a:lnTo>
                  <a:lnTo>
                    <a:pt x="1041" y="283"/>
                  </a:lnTo>
                  <a:lnTo>
                    <a:pt x="1041" y="269"/>
                  </a:lnTo>
                  <a:lnTo>
                    <a:pt x="1048" y="255"/>
                  </a:lnTo>
                  <a:lnTo>
                    <a:pt x="1048" y="248"/>
                  </a:lnTo>
                  <a:lnTo>
                    <a:pt x="1048" y="234"/>
                  </a:lnTo>
                  <a:lnTo>
                    <a:pt x="1056" y="227"/>
                  </a:lnTo>
                  <a:lnTo>
                    <a:pt x="1056" y="212"/>
                  </a:lnTo>
                  <a:lnTo>
                    <a:pt x="1056" y="198"/>
                  </a:lnTo>
                  <a:lnTo>
                    <a:pt x="1063" y="191"/>
                  </a:lnTo>
                  <a:lnTo>
                    <a:pt x="1063" y="177"/>
                  </a:lnTo>
                  <a:lnTo>
                    <a:pt x="1063" y="170"/>
                  </a:lnTo>
                  <a:lnTo>
                    <a:pt x="1063" y="163"/>
                  </a:lnTo>
                  <a:lnTo>
                    <a:pt x="1070" y="149"/>
                  </a:lnTo>
                  <a:lnTo>
                    <a:pt x="1070" y="142"/>
                  </a:lnTo>
                  <a:lnTo>
                    <a:pt x="1070" y="134"/>
                  </a:lnTo>
                  <a:lnTo>
                    <a:pt x="1077" y="120"/>
                  </a:lnTo>
                  <a:lnTo>
                    <a:pt x="1077" y="113"/>
                  </a:lnTo>
                  <a:lnTo>
                    <a:pt x="1077" y="106"/>
                  </a:lnTo>
                  <a:lnTo>
                    <a:pt x="1084" y="99"/>
                  </a:lnTo>
                  <a:lnTo>
                    <a:pt x="1084" y="92"/>
                  </a:lnTo>
                  <a:lnTo>
                    <a:pt x="1084" y="85"/>
                  </a:lnTo>
                  <a:lnTo>
                    <a:pt x="1091" y="78"/>
                  </a:lnTo>
                  <a:lnTo>
                    <a:pt x="1091" y="71"/>
                  </a:lnTo>
                  <a:lnTo>
                    <a:pt x="1091" y="64"/>
                  </a:lnTo>
                  <a:lnTo>
                    <a:pt x="1098" y="56"/>
                  </a:lnTo>
                  <a:lnTo>
                    <a:pt x="1098" y="49"/>
                  </a:lnTo>
                  <a:lnTo>
                    <a:pt x="1098" y="42"/>
                  </a:lnTo>
                  <a:lnTo>
                    <a:pt x="1105" y="35"/>
                  </a:lnTo>
                  <a:lnTo>
                    <a:pt x="1105" y="28"/>
                  </a:lnTo>
                  <a:lnTo>
                    <a:pt x="1112" y="21"/>
                  </a:lnTo>
                  <a:lnTo>
                    <a:pt x="1119" y="14"/>
                  </a:lnTo>
                  <a:lnTo>
                    <a:pt x="1126" y="7"/>
                  </a:lnTo>
                  <a:lnTo>
                    <a:pt x="1134" y="0"/>
                  </a:lnTo>
                  <a:lnTo>
                    <a:pt x="1141" y="0"/>
                  </a:lnTo>
                  <a:lnTo>
                    <a:pt x="1148" y="7"/>
                  </a:lnTo>
                  <a:lnTo>
                    <a:pt x="1155" y="14"/>
                  </a:lnTo>
                  <a:lnTo>
                    <a:pt x="1162" y="21"/>
                  </a:lnTo>
                  <a:lnTo>
                    <a:pt x="1169" y="28"/>
                  </a:lnTo>
                  <a:lnTo>
                    <a:pt x="1169" y="35"/>
                  </a:lnTo>
                  <a:lnTo>
                    <a:pt x="1176" y="42"/>
                  </a:lnTo>
                  <a:lnTo>
                    <a:pt x="1176" y="49"/>
                  </a:lnTo>
                  <a:lnTo>
                    <a:pt x="1176" y="56"/>
                  </a:lnTo>
                  <a:lnTo>
                    <a:pt x="1183" y="64"/>
                  </a:lnTo>
                  <a:lnTo>
                    <a:pt x="1183" y="71"/>
                  </a:lnTo>
                  <a:lnTo>
                    <a:pt x="1183" y="78"/>
                  </a:lnTo>
                  <a:lnTo>
                    <a:pt x="1190" y="85"/>
                  </a:lnTo>
                  <a:lnTo>
                    <a:pt x="1190" y="92"/>
                  </a:lnTo>
                  <a:lnTo>
                    <a:pt x="1190" y="99"/>
                  </a:lnTo>
                  <a:lnTo>
                    <a:pt x="1197" y="106"/>
                  </a:lnTo>
                  <a:lnTo>
                    <a:pt x="1197" y="113"/>
                  </a:lnTo>
                  <a:lnTo>
                    <a:pt x="1197" y="120"/>
                  </a:lnTo>
                  <a:lnTo>
                    <a:pt x="1204" y="134"/>
                  </a:lnTo>
                  <a:lnTo>
                    <a:pt x="1204" y="142"/>
                  </a:lnTo>
                  <a:lnTo>
                    <a:pt x="1204" y="149"/>
                  </a:lnTo>
                  <a:lnTo>
                    <a:pt x="1211" y="163"/>
                  </a:lnTo>
                  <a:lnTo>
                    <a:pt x="1211" y="170"/>
                  </a:lnTo>
                  <a:lnTo>
                    <a:pt x="1211" y="177"/>
                  </a:lnTo>
                  <a:lnTo>
                    <a:pt x="1211" y="191"/>
                  </a:lnTo>
                  <a:lnTo>
                    <a:pt x="1219" y="198"/>
                  </a:lnTo>
                  <a:lnTo>
                    <a:pt x="1219" y="212"/>
                  </a:lnTo>
                  <a:lnTo>
                    <a:pt x="1219" y="227"/>
                  </a:lnTo>
                  <a:lnTo>
                    <a:pt x="1226" y="234"/>
                  </a:lnTo>
                  <a:lnTo>
                    <a:pt x="1226" y="248"/>
                  </a:lnTo>
                  <a:lnTo>
                    <a:pt x="1226" y="255"/>
                  </a:lnTo>
                  <a:lnTo>
                    <a:pt x="1233" y="269"/>
                  </a:lnTo>
                  <a:lnTo>
                    <a:pt x="1233" y="283"/>
                  </a:lnTo>
                  <a:lnTo>
                    <a:pt x="1233" y="297"/>
                  </a:lnTo>
                  <a:lnTo>
                    <a:pt x="1240" y="304"/>
                  </a:lnTo>
                  <a:lnTo>
                    <a:pt x="1240" y="319"/>
                  </a:lnTo>
                  <a:lnTo>
                    <a:pt x="1240" y="333"/>
                  </a:lnTo>
                  <a:lnTo>
                    <a:pt x="1247" y="347"/>
                  </a:lnTo>
                  <a:lnTo>
                    <a:pt x="1247" y="361"/>
                  </a:lnTo>
                  <a:lnTo>
                    <a:pt x="1247" y="375"/>
                  </a:lnTo>
                  <a:lnTo>
                    <a:pt x="1247" y="390"/>
                  </a:lnTo>
                  <a:lnTo>
                    <a:pt x="1254" y="404"/>
                  </a:lnTo>
                  <a:lnTo>
                    <a:pt x="1254" y="418"/>
                  </a:lnTo>
                  <a:lnTo>
                    <a:pt x="1254" y="432"/>
                  </a:lnTo>
                  <a:lnTo>
                    <a:pt x="1261" y="446"/>
                  </a:lnTo>
                  <a:lnTo>
                    <a:pt x="1261" y="460"/>
                  </a:lnTo>
                  <a:lnTo>
                    <a:pt x="1261" y="475"/>
                  </a:lnTo>
                  <a:lnTo>
                    <a:pt x="1268" y="489"/>
                  </a:lnTo>
                  <a:lnTo>
                    <a:pt x="1268" y="503"/>
                  </a:lnTo>
                  <a:lnTo>
                    <a:pt x="1268" y="524"/>
                  </a:lnTo>
                  <a:lnTo>
                    <a:pt x="1275" y="538"/>
                  </a:lnTo>
                  <a:lnTo>
                    <a:pt x="1275" y="552"/>
                  </a:lnTo>
                  <a:lnTo>
                    <a:pt x="1275" y="567"/>
                  </a:lnTo>
                  <a:lnTo>
                    <a:pt x="1282" y="581"/>
                  </a:lnTo>
                  <a:lnTo>
                    <a:pt x="1282" y="602"/>
                  </a:lnTo>
                  <a:lnTo>
                    <a:pt x="1282" y="616"/>
                  </a:lnTo>
                  <a:lnTo>
                    <a:pt x="1289" y="630"/>
                  </a:lnTo>
                  <a:lnTo>
                    <a:pt x="1289" y="652"/>
                  </a:lnTo>
                  <a:lnTo>
                    <a:pt x="1289" y="666"/>
                  </a:lnTo>
                  <a:lnTo>
                    <a:pt x="1289" y="680"/>
                  </a:lnTo>
                  <a:lnTo>
                    <a:pt x="1297" y="701"/>
                  </a:lnTo>
                  <a:lnTo>
                    <a:pt x="1297" y="715"/>
                  </a:lnTo>
                  <a:lnTo>
                    <a:pt x="1297" y="730"/>
                  </a:lnTo>
                  <a:lnTo>
                    <a:pt x="1304" y="751"/>
                  </a:lnTo>
                  <a:lnTo>
                    <a:pt x="1304" y="765"/>
                  </a:lnTo>
                  <a:lnTo>
                    <a:pt x="1304" y="786"/>
                  </a:lnTo>
                  <a:lnTo>
                    <a:pt x="1311" y="800"/>
                  </a:lnTo>
                  <a:lnTo>
                    <a:pt x="1311" y="815"/>
                  </a:lnTo>
                  <a:lnTo>
                    <a:pt x="1311" y="836"/>
                  </a:lnTo>
                  <a:lnTo>
                    <a:pt x="1318" y="850"/>
                  </a:lnTo>
                  <a:lnTo>
                    <a:pt x="1318" y="871"/>
                  </a:lnTo>
                  <a:lnTo>
                    <a:pt x="1318" y="886"/>
                  </a:lnTo>
                  <a:lnTo>
                    <a:pt x="1325" y="900"/>
                  </a:lnTo>
                  <a:lnTo>
                    <a:pt x="1325" y="921"/>
                  </a:lnTo>
                  <a:lnTo>
                    <a:pt x="1325" y="935"/>
                  </a:lnTo>
                  <a:lnTo>
                    <a:pt x="1325" y="956"/>
                  </a:lnTo>
                  <a:lnTo>
                    <a:pt x="1332" y="971"/>
                  </a:lnTo>
                  <a:lnTo>
                    <a:pt x="1332" y="992"/>
                  </a:lnTo>
                  <a:lnTo>
                    <a:pt x="1332" y="1006"/>
                  </a:lnTo>
                  <a:lnTo>
                    <a:pt x="1339" y="1020"/>
                  </a:lnTo>
                  <a:lnTo>
                    <a:pt x="1339" y="1041"/>
                  </a:lnTo>
                  <a:lnTo>
                    <a:pt x="1339" y="1056"/>
                  </a:lnTo>
                  <a:lnTo>
                    <a:pt x="1346" y="1077"/>
                  </a:lnTo>
                  <a:lnTo>
                    <a:pt x="1346" y="1091"/>
                  </a:lnTo>
                  <a:lnTo>
                    <a:pt x="1346" y="1105"/>
                  </a:lnTo>
                  <a:lnTo>
                    <a:pt x="1353" y="1126"/>
                  </a:lnTo>
                  <a:lnTo>
                    <a:pt x="1353" y="1141"/>
                  </a:lnTo>
                  <a:lnTo>
                    <a:pt x="1353" y="1162"/>
                  </a:lnTo>
                  <a:lnTo>
                    <a:pt x="1360" y="1176"/>
                  </a:lnTo>
                  <a:lnTo>
                    <a:pt x="1360" y="1190"/>
                  </a:lnTo>
                  <a:lnTo>
                    <a:pt x="1360" y="1211"/>
                  </a:lnTo>
                  <a:lnTo>
                    <a:pt x="1360" y="1226"/>
                  </a:lnTo>
                  <a:lnTo>
                    <a:pt x="1367" y="1240"/>
                  </a:lnTo>
                  <a:lnTo>
                    <a:pt x="1367" y="1261"/>
                  </a:lnTo>
                  <a:lnTo>
                    <a:pt x="1367" y="1275"/>
                  </a:lnTo>
                  <a:lnTo>
                    <a:pt x="1374" y="1289"/>
                  </a:lnTo>
                  <a:lnTo>
                    <a:pt x="1374" y="1304"/>
                  </a:lnTo>
                  <a:lnTo>
                    <a:pt x="1374" y="1325"/>
                  </a:lnTo>
                  <a:lnTo>
                    <a:pt x="1382" y="1339"/>
                  </a:lnTo>
                  <a:lnTo>
                    <a:pt x="1382" y="1353"/>
                  </a:lnTo>
                  <a:lnTo>
                    <a:pt x="1382" y="1367"/>
                  </a:lnTo>
                  <a:lnTo>
                    <a:pt x="1389" y="1382"/>
                  </a:lnTo>
                  <a:lnTo>
                    <a:pt x="1389" y="1403"/>
                  </a:lnTo>
                  <a:lnTo>
                    <a:pt x="1389" y="1417"/>
                  </a:lnTo>
                  <a:lnTo>
                    <a:pt x="1396" y="1431"/>
                  </a:lnTo>
                  <a:lnTo>
                    <a:pt x="1396" y="1445"/>
                  </a:lnTo>
                  <a:lnTo>
                    <a:pt x="1396" y="1459"/>
                  </a:lnTo>
                  <a:lnTo>
                    <a:pt x="1396" y="1474"/>
                  </a:lnTo>
                  <a:lnTo>
                    <a:pt x="1403" y="1488"/>
                  </a:lnTo>
                  <a:lnTo>
                    <a:pt x="1403" y="1502"/>
                  </a:lnTo>
                  <a:lnTo>
                    <a:pt x="1403" y="1516"/>
                  </a:lnTo>
                  <a:lnTo>
                    <a:pt x="1410" y="1530"/>
                  </a:lnTo>
                  <a:lnTo>
                    <a:pt x="1410" y="1544"/>
                  </a:lnTo>
                  <a:lnTo>
                    <a:pt x="1410" y="1559"/>
                  </a:lnTo>
                  <a:lnTo>
                    <a:pt x="1417" y="1573"/>
                  </a:lnTo>
                  <a:lnTo>
                    <a:pt x="1417" y="1580"/>
                  </a:lnTo>
                  <a:lnTo>
                    <a:pt x="1417" y="1594"/>
                  </a:lnTo>
                  <a:lnTo>
                    <a:pt x="1424" y="1608"/>
                  </a:lnTo>
                  <a:lnTo>
                    <a:pt x="1424" y="1594"/>
                  </a:lnTo>
                  <a:lnTo>
                    <a:pt x="1424" y="1587"/>
                  </a:lnTo>
                  <a:lnTo>
                    <a:pt x="1431" y="1573"/>
                  </a:lnTo>
                  <a:lnTo>
                    <a:pt x="1431" y="1559"/>
                  </a:lnTo>
                  <a:lnTo>
                    <a:pt x="1431" y="1544"/>
                  </a:lnTo>
                  <a:lnTo>
                    <a:pt x="1438" y="1537"/>
                  </a:lnTo>
                  <a:lnTo>
                    <a:pt x="1438" y="1523"/>
                  </a:lnTo>
                  <a:lnTo>
                    <a:pt x="1438" y="1516"/>
                  </a:lnTo>
                  <a:lnTo>
                    <a:pt x="1438" y="1502"/>
                  </a:lnTo>
                  <a:lnTo>
                    <a:pt x="1445" y="1495"/>
                  </a:lnTo>
                  <a:lnTo>
                    <a:pt x="1445" y="1481"/>
                  </a:lnTo>
                  <a:lnTo>
                    <a:pt x="1445" y="1474"/>
                  </a:lnTo>
                  <a:lnTo>
                    <a:pt x="1452" y="1459"/>
                  </a:lnTo>
                  <a:lnTo>
                    <a:pt x="1452" y="1452"/>
                  </a:lnTo>
                  <a:lnTo>
                    <a:pt x="1452" y="1445"/>
                  </a:lnTo>
                  <a:lnTo>
                    <a:pt x="1460" y="1431"/>
                  </a:lnTo>
                  <a:lnTo>
                    <a:pt x="1460" y="1424"/>
                  </a:lnTo>
                  <a:lnTo>
                    <a:pt x="1460" y="1417"/>
                  </a:lnTo>
                  <a:lnTo>
                    <a:pt x="1467" y="1410"/>
                  </a:lnTo>
                  <a:lnTo>
                    <a:pt x="1467" y="1403"/>
                  </a:lnTo>
                  <a:lnTo>
                    <a:pt x="1467" y="1389"/>
                  </a:lnTo>
                  <a:lnTo>
                    <a:pt x="1474" y="1382"/>
                  </a:lnTo>
                  <a:lnTo>
                    <a:pt x="1474" y="1374"/>
                  </a:lnTo>
                  <a:lnTo>
                    <a:pt x="1474" y="1367"/>
                  </a:lnTo>
                  <a:lnTo>
                    <a:pt x="1474" y="1360"/>
                  </a:lnTo>
                  <a:lnTo>
                    <a:pt x="1481" y="1353"/>
                  </a:lnTo>
                  <a:lnTo>
                    <a:pt x="1481" y="1346"/>
                  </a:lnTo>
                  <a:lnTo>
                    <a:pt x="1488" y="1339"/>
                  </a:lnTo>
                  <a:lnTo>
                    <a:pt x="1488" y="1332"/>
                  </a:lnTo>
                  <a:lnTo>
                    <a:pt x="1488" y="1325"/>
                  </a:lnTo>
                  <a:lnTo>
                    <a:pt x="1495" y="1318"/>
                  </a:lnTo>
                  <a:lnTo>
                    <a:pt x="1495" y="1311"/>
                  </a:lnTo>
                  <a:lnTo>
                    <a:pt x="1502" y="1304"/>
                  </a:lnTo>
                  <a:lnTo>
                    <a:pt x="1502" y="1296"/>
                  </a:lnTo>
                  <a:lnTo>
                    <a:pt x="1509" y="1289"/>
                  </a:lnTo>
                  <a:lnTo>
                    <a:pt x="1509" y="1282"/>
                  </a:lnTo>
                  <a:lnTo>
                    <a:pt x="1516" y="1275"/>
                  </a:lnTo>
                  <a:lnTo>
                    <a:pt x="1523" y="1268"/>
                  </a:lnTo>
                  <a:lnTo>
                    <a:pt x="1530" y="1261"/>
                  </a:lnTo>
                  <a:lnTo>
                    <a:pt x="1537" y="1261"/>
                  </a:lnTo>
                  <a:lnTo>
                    <a:pt x="1545" y="1261"/>
                  </a:lnTo>
                  <a:lnTo>
                    <a:pt x="1552" y="1261"/>
                  </a:lnTo>
                  <a:lnTo>
                    <a:pt x="1559" y="1268"/>
                  </a:lnTo>
                  <a:lnTo>
                    <a:pt x="1566" y="1268"/>
                  </a:lnTo>
                  <a:lnTo>
                    <a:pt x="1573" y="1275"/>
                  </a:lnTo>
                  <a:lnTo>
                    <a:pt x="1580" y="1282"/>
                  </a:lnTo>
                  <a:lnTo>
                    <a:pt x="1587" y="1289"/>
                  </a:lnTo>
                  <a:lnTo>
                    <a:pt x="1587" y="1296"/>
                  </a:lnTo>
                  <a:lnTo>
                    <a:pt x="1594" y="1304"/>
                  </a:lnTo>
                  <a:lnTo>
                    <a:pt x="1594" y="1311"/>
                  </a:lnTo>
                  <a:lnTo>
                    <a:pt x="1601" y="1318"/>
                  </a:lnTo>
                  <a:lnTo>
                    <a:pt x="1601" y="1325"/>
                  </a:lnTo>
                  <a:lnTo>
                    <a:pt x="1608" y="1332"/>
                  </a:lnTo>
                  <a:lnTo>
                    <a:pt x="1608" y="1339"/>
                  </a:lnTo>
                  <a:lnTo>
                    <a:pt x="1615" y="1346"/>
                  </a:lnTo>
                  <a:lnTo>
                    <a:pt x="1615" y="1353"/>
                  </a:lnTo>
                  <a:lnTo>
                    <a:pt x="1622" y="1360"/>
                  </a:lnTo>
                  <a:lnTo>
                    <a:pt x="1622" y="1367"/>
                  </a:lnTo>
                  <a:lnTo>
                    <a:pt x="1622" y="1374"/>
                  </a:lnTo>
                  <a:lnTo>
                    <a:pt x="1630" y="1382"/>
                  </a:lnTo>
                  <a:lnTo>
                    <a:pt x="1630" y="1389"/>
                  </a:lnTo>
                  <a:lnTo>
                    <a:pt x="1630" y="1396"/>
                  </a:lnTo>
                  <a:lnTo>
                    <a:pt x="1637" y="1403"/>
                  </a:lnTo>
                  <a:lnTo>
                    <a:pt x="1637" y="1410"/>
                  </a:lnTo>
                  <a:lnTo>
                    <a:pt x="1644" y="1417"/>
                  </a:lnTo>
                  <a:lnTo>
                    <a:pt x="1644" y="1424"/>
                  </a:lnTo>
                  <a:lnTo>
                    <a:pt x="1644" y="1431"/>
                  </a:lnTo>
                  <a:lnTo>
                    <a:pt x="1651" y="1438"/>
                  </a:lnTo>
                  <a:lnTo>
                    <a:pt x="1651" y="1445"/>
                  </a:lnTo>
                  <a:lnTo>
                    <a:pt x="1651" y="1452"/>
                  </a:lnTo>
                  <a:lnTo>
                    <a:pt x="1658" y="1459"/>
                  </a:lnTo>
                  <a:lnTo>
                    <a:pt x="1658" y="1467"/>
                  </a:lnTo>
                  <a:lnTo>
                    <a:pt x="1658" y="1474"/>
                  </a:lnTo>
                  <a:lnTo>
                    <a:pt x="1665" y="1481"/>
                  </a:lnTo>
                  <a:lnTo>
                    <a:pt x="1665" y="1488"/>
                  </a:lnTo>
                  <a:lnTo>
                    <a:pt x="1665" y="1495"/>
                  </a:lnTo>
                  <a:lnTo>
                    <a:pt x="1672" y="1502"/>
                  </a:lnTo>
                  <a:lnTo>
                    <a:pt x="1672" y="1509"/>
                  </a:lnTo>
                  <a:lnTo>
                    <a:pt x="1672" y="1516"/>
                  </a:lnTo>
                  <a:lnTo>
                    <a:pt x="1679" y="1523"/>
                  </a:lnTo>
                  <a:lnTo>
                    <a:pt x="1679" y="1530"/>
                  </a:lnTo>
                  <a:lnTo>
                    <a:pt x="1679" y="1537"/>
                  </a:lnTo>
                  <a:lnTo>
                    <a:pt x="1686" y="1544"/>
                  </a:lnTo>
                  <a:lnTo>
                    <a:pt x="1686" y="1552"/>
                  </a:lnTo>
                  <a:lnTo>
                    <a:pt x="1686" y="1559"/>
                  </a:lnTo>
                  <a:lnTo>
                    <a:pt x="1693" y="1566"/>
                  </a:lnTo>
                  <a:lnTo>
                    <a:pt x="1693" y="1573"/>
                  </a:lnTo>
                  <a:lnTo>
                    <a:pt x="1693" y="1580"/>
                  </a:lnTo>
                  <a:lnTo>
                    <a:pt x="1700" y="1587"/>
                  </a:lnTo>
                  <a:lnTo>
                    <a:pt x="1700" y="1594"/>
                  </a:lnTo>
                  <a:lnTo>
                    <a:pt x="1700" y="1601"/>
                  </a:lnTo>
                  <a:lnTo>
                    <a:pt x="1708" y="1608"/>
                  </a:lnTo>
                  <a:lnTo>
                    <a:pt x="1708" y="1601"/>
                  </a:lnTo>
                  <a:lnTo>
                    <a:pt x="1708" y="1594"/>
                  </a:lnTo>
                  <a:lnTo>
                    <a:pt x="1715" y="1587"/>
                  </a:lnTo>
                  <a:lnTo>
                    <a:pt x="1715" y="1580"/>
                  </a:lnTo>
                  <a:lnTo>
                    <a:pt x="1722" y="1573"/>
                  </a:lnTo>
                  <a:lnTo>
                    <a:pt x="1722" y="1566"/>
                  </a:lnTo>
                  <a:lnTo>
                    <a:pt x="1722" y="1559"/>
                  </a:lnTo>
                  <a:lnTo>
                    <a:pt x="1729" y="1552"/>
                  </a:lnTo>
                  <a:lnTo>
                    <a:pt x="1729" y="1544"/>
                  </a:lnTo>
                  <a:lnTo>
                    <a:pt x="1736" y="1537"/>
                  </a:lnTo>
                  <a:lnTo>
                    <a:pt x="1736" y="1530"/>
                  </a:lnTo>
                  <a:lnTo>
                    <a:pt x="1736" y="1523"/>
                  </a:lnTo>
                  <a:lnTo>
                    <a:pt x="1743" y="1516"/>
                  </a:lnTo>
                  <a:lnTo>
                    <a:pt x="1743" y="1509"/>
                  </a:lnTo>
                  <a:lnTo>
                    <a:pt x="1750" y="1502"/>
                  </a:lnTo>
                  <a:lnTo>
                    <a:pt x="1750" y="1495"/>
                  </a:lnTo>
                  <a:lnTo>
                    <a:pt x="1757" y="1488"/>
                  </a:lnTo>
                  <a:lnTo>
                    <a:pt x="1757" y="1481"/>
                  </a:lnTo>
                  <a:lnTo>
                    <a:pt x="1764" y="1474"/>
                  </a:lnTo>
                  <a:lnTo>
                    <a:pt x="1764" y="1467"/>
                  </a:lnTo>
                  <a:lnTo>
                    <a:pt x="1771" y="1459"/>
                  </a:lnTo>
                  <a:lnTo>
                    <a:pt x="1771" y="1452"/>
                  </a:lnTo>
                  <a:lnTo>
                    <a:pt x="1778" y="1445"/>
                  </a:lnTo>
                  <a:lnTo>
                    <a:pt x="1785" y="1438"/>
                  </a:lnTo>
                  <a:lnTo>
                    <a:pt x="1793" y="1431"/>
                  </a:lnTo>
                  <a:lnTo>
                    <a:pt x="1800" y="1424"/>
                  </a:lnTo>
                  <a:lnTo>
                    <a:pt x="1807" y="1417"/>
                  </a:lnTo>
                  <a:lnTo>
                    <a:pt x="1814" y="1410"/>
                  </a:lnTo>
                  <a:lnTo>
                    <a:pt x="1821" y="1403"/>
                  </a:lnTo>
                  <a:lnTo>
                    <a:pt x="1828" y="1403"/>
                  </a:lnTo>
                  <a:lnTo>
                    <a:pt x="1835" y="1403"/>
                  </a:lnTo>
                  <a:lnTo>
                    <a:pt x="1842" y="1403"/>
                  </a:lnTo>
                  <a:lnTo>
                    <a:pt x="1849" y="1403"/>
                  </a:lnTo>
                  <a:lnTo>
                    <a:pt x="1856" y="1410"/>
                  </a:lnTo>
                  <a:lnTo>
                    <a:pt x="1863" y="1410"/>
                  </a:lnTo>
                  <a:lnTo>
                    <a:pt x="1871" y="1417"/>
                  </a:lnTo>
                  <a:lnTo>
                    <a:pt x="1878" y="1424"/>
                  </a:lnTo>
                  <a:lnTo>
                    <a:pt x="1885" y="1431"/>
                  </a:lnTo>
                  <a:lnTo>
                    <a:pt x="1892" y="1438"/>
                  </a:lnTo>
                  <a:lnTo>
                    <a:pt x="1899" y="1445"/>
                  </a:lnTo>
                  <a:lnTo>
                    <a:pt x="1906" y="1452"/>
                  </a:lnTo>
                  <a:lnTo>
                    <a:pt x="1913" y="1459"/>
                  </a:lnTo>
                  <a:lnTo>
                    <a:pt x="1913" y="1467"/>
                  </a:lnTo>
                  <a:lnTo>
                    <a:pt x="1920" y="1474"/>
                  </a:lnTo>
                  <a:lnTo>
                    <a:pt x="1920" y="1481"/>
                  </a:lnTo>
                  <a:lnTo>
                    <a:pt x="1927" y="1488"/>
                  </a:lnTo>
                  <a:lnTo>
                    <a:pt x="1927" y="1495"/>
                  </a:lnTo>
                  <a:lnTo>
                    <a:pt x="1934" y="1502"/>
                  </a:lnTo>
                  <a:lnTo>
                    <a:pt x="1941" y="1509"/>
                  </a:lnTo>
                  <a:lnTo>
                    <a:pt x="1941" y="1516"/>
                  </a:lnTo>
                  <a:lnTo>
                    <a:pt x="1948" y="1523"/>
                  </a:lnTo>
                  <a:lnTo>
                    <a:pt x="1948" y="1530"/>
                  </a:lnTo>
                  <a:lnTo>
                    <a:pt x="1956" y="1537"/>
                  </a:lnTo>
                  <a:lnTo>
                    <a:pt x="1956" y="1544"/>
                  </a:lnTo>
                  <a:lnTo>
                    <a:pt x="1963" y="1552"/>
                  </a:lnTo>
                  <a:lnTo>
                    <a:pt x="1963" y="1559"/>
                  </a:lnTo>
                  <a:lnTo>
                    <a:pt x="1970" y="1566"/>
                  </a:lnTo>
                  <a:lnTo>
                    <a:pt x="1970" y="1573"/>
                  </a:lnTo>
                  <a:lnTo>
                    <a:pt x="1977" y="1580"/>
                  </a:lnTo>
                  <a:lnTo>
                    <a:pt x="1977" y="1587"/>
                  </a:lnTo>
                  <a:lnTo>
                    <a:pt x="1984" y="1594"/>
                  </a:lnTo>
                  <a:lnTo>
                    <a:pt x="1991" y="1601"/>
                  </a:lnTo>
                  <a:lnTo>
                    <a:pt x="1991" y="1608"/>
                  </a:lnTo>
                  <a:lnTo>
                    <a:pt x="1998" y="1601"/>
                  </a:lnTo>
                  <a:lnTo>
                    <a:pt x="1998" y="1594"/>
                  </a:lnTo>
                  <a:lnTo>
                    <a:pt x="2005" y="1587"/>
                  </a:lnTo>
                  <a:lnTo>
                    <a:pt x="2005" y="1580"/>
                  </a:lnTo>
                  <a:lnTo>
                    <a:pt x="2012" y="1573"/>
                  </a:lnTo>
                  <a:lnTo>
                    <a:pt x="2012" y="1566"/>
                  </a:lnTo>
                  <a:lnTo>
                    <a:pt x="2019" y="1559"/>
                  </a:lnTo>
                  <a:lnTo>
                    <a:pt x="2026" y="1552"/>
                  </a:lnTo>
                  <a:lnTo>
                    <a:pt x="2026" y="1544"/>
                  </a:lnTo>
                  <a:lnTo>
                    <a:pt x="2034" y="1537"/>
                  </a:lnTo>
                  <a:lnTo>
                    <a:pt x="2034" y="1530"/>
                  </a:lnTo>
                  <a:lnTo>
                    <a:pt x="2041" y="1523"/>
                  </a:lnTo>
                  <a:lnTo>
                    <a:pt x="2048" y="1516"/>
                  </a:lnTo>
                  <a:lnTo>
                    <a:pt x="2055" y="1509"/>
                  </a:lnTo>
                  <a:lnTo>
                    <a:pt x="2062" y="1502"/>
                  </a:lnTo>
                  <a:lnTo>
                    <a:pt x="2069" y="1495"/>
                  </a:lnTo>
                  <a:lnTo>
                    <a:pt x="2069" y="1488"/>
                  </a:lnTo>
                  <a:lnTo>
                    <a:pt x="2076" y="1481"/>
                  </a:lnTo>
                  <a:lnTo>
                    <a:pt x="2083" y="1474"/>
                  </a:lnTo>
                  <a:lnTo>
                    <a:pt x="2090" y="1474"/>
                  </a:lnTo>
                  <a:lnTo>
                    <a:pt x="2097" y="1467"/>
                  </a:lnTo>
                  <a:lnTo>
                    <a:pt x="2104" y="1467"/>
                  </a:lnTo>
                  <a:lnTo>
                    <a:pt x="2111" y="1459"/>
                  </a:lnTo>
                  <a:lnTo>
                    <a:pt x="2119" y="1459"/>
                  </a:lnTo>
                  <a:lnTo>
                    <a:pt x="2126" y="1459"/>
                  </a:lnTo>
                  <a:lnTo>
                    <a:pt x="2133" y="1459"/>
                  </a:lnTo>
                  <a:lnTo>
                    <a:pt x="2140" y="1467"/>
                  </a:lnTo>
                  <a:lnTo>
                    <a:pt x="2147" y="1467"/>
                  </a:lnTo>
                  <a:lnTo>
                    <a:pt x="2154" y="1474"/>
                  </a:lnTo>
                  <a:lnTo>
                    <a:pt x="2161" y="1474"/>
                  </a:lnTo>
                  <a:lnTo>
                    <a:pt x="2168" y="1481"/>
                  </a:lnTo>
                  <a:lnTo>
                    <a:pt x="2175" y="1488"/>
                  </a:lnTo>
                  <a:lnTo>
                    <a:pt x="2182" y="1495"/>
                  </a:lnTo>
                  <a:lnTo>
                    <a:pt x="2189" y="1502"/>
                  </a:lnTo>
                  <a:lnTo>
                    <a:pt x="2197" y="1509"/>
                  </a:lnTo>
                  <a:lnTo>
                    <a:pt x="2204" y="1516"/>
                  </a:lnTo>
                  <a:lnTo>
                    <a:pt x="2211" y="1523"/>
                  </a:lnTo>
                  <a:lnTo>
                    <a:pt x="2218" y="1530"/>
                  </a:lnTo>
                  <a:lnTo>
                    <a:pt x="2225" y="1537"/>
                  </a:lnTo>
                  <a:lnTo>
                    <a:pt x="2232" y="1544"/>
                  </a:lnTo>
                  <a:lnTo>
                    <a:pt x="2239" y="1552"/>
                  </a:lnTo>
                  <a:lnTo>
                    <a:pt x="2239" y="1559"/>
                  </a:lnTo>
                  <a:lnTo>
                    <a:pt x="2246" y="1566"/>
                  </a:lnTo>
                  <a:lnTo>
                    <a:pt x="2253" y="1573"/>
                  </a:lnTo>
                  <a:lnTo>
                    <a:pt x="2253" y="1580"/>
                  </a:lnTo>
                  <a:lnTo>
                    <a:pt x="2260" y="1587"/>
                  </a:lnTo>
                  <a:lnTo>
                    <a:pt x="2267" y="1594"/>
                  </a:lnTo>
                  <a:lnTo>
                    <a:pt x="2267" y="1601"/>
                  </a:lnTo>
                  <a:lnTo>
                    <a:pt x="2274" y="1608"/>
                  </a:lnTo>
                </a:path>
              </a:pathLst>
            </a:cu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7381800" y="2369880"/>
              <a:ext cx="166680" cy="1139760"/>
            </a:xfrm>
            <a:custGeom>
              <a:avLst/>
              <a:gdLst/>
              <a:ahLst/>
              <a:rect l="l" t="t" r="r" b="b"/>
              <a:pathLst>
                <a:path w="2274" h="1608">
                  <a:moveTo>
                    <a:pt x="0" y="1608"/>
                  </a:moveTo>
                  <a:lnTo>
                    <a:pt x="7" y="1601"/>
                  </a:lnTo>
                  <a:lnTo>
                    <a:pt x="14" y="1594"/>
                  </a:lnTo>
                  <a:lnTo>
                    <a:pt x="14" y="1587"/>
                  </a:lnTo>
                  <a:lnTo>
                    <a:pt x="21" y="1580"/>
                  </a:lnTo>
                  <a:lnTo>
                    <a:pt x="28" y="1573"/>
                  </a:lnTo>
                  <a:lnTo>
                    <a:pt x="28" y="1566"/>
                  </a:lnTo>
                  <a:lnTo>
                    <a:pt x="35" y="1559"/>
                  </a:lnTo>
                  <a:lnTo>
                    <a:pt x="42" y="1552"/>
                  </a:lnTo>
                  <a:lnTo>
                    <a:pt x="49" y="1544"/>
                  </a:lnTo>
                  <a:lnTo>
                    <a:pt x="49" y="1537"/>
                  </a:lnTo>
                  <a:lnTo>
                    <a:pt x="56" y="1530"/>
                  </a:lnTo>
                  <a:lnTo>
                    <a:pt x="63" y="1523"/>
                  </a:lnTo>
                  <a:lnTo>
                    <a:pt x="71" y="1516"/>
                  </a:lnTo>
                  <a:lnTo>
                    <a:pt x="78" y="1509"/>
                  </a:lnTo>
                  <a:lnTo>
                    <a:pt x="85" y="1502"/>
                  </a:lnTo>
                  <a:lnTo>
                    <a:pt x="92" y="1495"/>
                  </a:lnTo>
                  <a:lnTo>
                    <a:pt x="99" y="1488"/>
                  </a:lnTo>
                  <a:lnTo>
                    <a:pt x="106" y="1481"/>
                  </a:lnTo>
                  <a:lnTo>
                    <a:pt x="113" y="1474"/>
                  </a:lnTo>
                  <a:lnTo>
                    <a:pt x="120" y="1467"/>
                  </a:lnTo>
                  <a:lnTo>
                    <a:pt x="127" y="1467"/>
                  </a:lnTo>
                  <a:lnTo>
                    <a:pt x="134" y="1459"/>
                  </a:lnTo>
                  <a:lnTo>
                    <a:pt x="141" y="1459"/>
                  </a:lnTo>
                  <a:lnTo>
                    <a:pt x="148" y="1459"/>
                  </a:lnTo>
                  <a:lnTo>
                    <a:pt x="156" y="1459"/>
                  </a:lnTo>
                  <a:lnTo>
                    <a:pt x="163" y="1467"/>
                  </a:lnTo>
                  <a:lnTo>
                    <a:pt x="170" y="1467"/>
                  </a:lnTo>
                  <a:lnTo>
                    <a:pt x="177" y="1467"/>
                  </a:lnTo>
                  <a:lnTo>
                    <a:pt x="184" y="1474"/>
                  </a:lnTo>
                  <a:lnTo>
                    <a:pt x="191" y="1481"/>
                  </a:lnTo>
                  <a:lnTo>
                    <a:pt x="198" y="1481"/>
                  </a:lnTo>
                  <a:lnTo>
                    <a:pt x="205" y="1488"/>
                  </a:lnTo>
                  <a:lnTo>
                    <a:pt x="212" y="1495"/>
                  </a:lnTo>
                  <a:lnTo>
                    <a:pt x="219" y="1502"/>
                  </a:lnTo>
                  <a:lnTo>
                    <a:pt x="226" y="1509"/>
                  </a:lnTo>
                  <a:lnTo>
                    <a:pt x="234" y="1516"/>
                  </a:lnTo>
                  <a:lnTo>
                    <a:pt x="234" y="1523"/>
                  </a:lnTo>
                  <a:lnTo>
                    <a:pt x="241" y="1530"/>
                  </a:lnTo>
                  <a:lnTo>
                    <a:pt x="241" y="1537"/>
                  </a:lnTo>
                  <a:lnTo>
                    <a:pt x="248" y="1544"/>
                  </a:lnTo>
                  <a:lnTo>
                    <a:pt x="255" y="1552"/>
                  </a:lnTo>
                  <a:lnTo>
                    <a:pt x="255" y="1559"/>
                  </a:lnTo>
                  <a:lnTo>
                    <a:pt x="262" y="1566"/>
                  </a:lnTo>
                  <a:lnTo>
                    <a:pt x="269" y="1573"/>
                  </a:lnTo>
                  <a:lnTo>
                    <a:pt x="269" y="1580"/>
                  </a:lnTo>
                  <a:lnTo>
                    <a:pt x="276" y="1587"/>
                  </a:lnTo>
                  <a:lnTo>
                    <a:pt x="276" y="1594"/>
                  </a:lnTo>
                  <a:lnTo>
                    <a:pt x="283" y="1601"/>
                  </a:lnTo>
                  <a:lnTo>
                    <a:pt x="283" y="1608"/>
                  </a:lnTo>
                  <a:lnTo>
                    <a:pt x="290" y="1601"/>
                  </a:lnTo>
                  <a:lnTo>
                    <a:pt x="290" y="1594"/>
                  </a:lnTo>
                  <a:lnTo>
                    <a:pt x="297" y="1587"/>
                  </a:lnTo>
                  <a:lnTo>
                    <a:pt x="297" y="1580"/>
                  </a:lnTo>
                  <a:lnTo>
                    <a:pt x="304" y="1573"/>
                  </a:lnTo>
                  <a:lnTo>
                    <a:pt x="304" y="1566"/>
                  </a:lnTo>
                  <a:lnTo>
                    <a:pt x="311" y="1559"/>
                  </a:lnTo>
                  <a:lnTo>
                    <a:pt x="319" y="1552"/>
                  </a:lnTo>
                  <a:lnTo>
                    <a:pt x="319" y="1544"/>
                  </a:lnTo>
                  <a:lnTo>
                    <a:pt x="319" y="1537"/>
                  </a:lnTo>
                  <a:lnTo>
                    <a:pt x="326" y="1530"/>
                  </a:lnTo>
                  <a:lnTo>
                    <a:pt x="326" y="1523"/>
                  </a:lnTo>
                  <a:lnTo>
                    <a:pt x="333" y="1516"/>
                  </a:lnTo>
                  <a:lnTo>
                    <a:pt x="340" y="1509"/>
                  </a:lnTo>
                  <a:lnTo>
                    <a:pt x="340" y="1502"/>
                  </a:lnTo>
                  <a:lnTo>
                    <a:pt x="347" y="1495"/>
                  </a:lnTo>
                  <a:lnTo>
                    <a:pt x="347" y="1488"/>
                  </a:lnTo>
                  <a:lnTo>
                    <a:pt x="354" y="1481"/>
                  </a:lnTo>
                  <a:lnTo>
                    <a:pt x="354" y="1474"/>
                  </a:lnTo>
                  <a:lnTo>
                    <a:pt x="361" y="1467"/>
                  </a:lnTo>
                  <a:lnTo>
                    <a:pt x="368" y="1459"/>
                  </a:lnTo>
                  <a:lnTo>
                    <a:pt x="375" y="1452"/>
                  </a:lnTo>
                  <a:lnTo>
                    <a:pt x="375" y="1445"/>
                  </a:lnTo>
                  <a:lnTo>
                    <a:pt x="382" y="1438"/>
                  </a:lnTo>
                  <a:lnTo>
                    <a:pt x="389" y="1431"/>
                  </a:lnTo>
                  <a:lnTo>
                    <a:pt x="397" y="1424"/>
                  </a:lnTo>
                  <a:lnTo>
                    <a:pt x="404" y="1417"/>
                  </a:lnTo>
                  <a:lnTo>
                    <a:pt x="411" y="1410"/>
                  </a:lnTo>
                  <a:lnTo>
                    <a:pt x="418" y="1403"/>
                  </a:lnTo>
                  <a:lnTo>
                    <a:pt x="425" y="1403"/>
                  </a:lnTo>
                  <a:lnTo>
                    <a:pt x="432" y="1403"/>
                  </a:lnTo>
                  <a:lnTo>
                    <a:pt x="439" y="1403"/>
                  </a:lnTo>
                  <a:lnTo>
                    <a:pt x="446" y="1403"/>
                  </a:lnTo>
                  <a:lnTo>
                    <a:pt x="453" y="1403"/>
                  </a:lnTo>
                  <a:lnTo>
                    <a:pt x="460" y="1410"/>
                  </a:lnTo>
                  <a:lnTo>
                    <a:pt x="467" y="1417"/>
                  </a:lnTo>
                  <a:lnTo>
                    <a:pt x="474" y="1424"/>
                  </a:lnTo>
                  <a:lnTo>
                    <a:pt x="482" y="1431"/>
                  </a:lnTo>
                  <a:lnTo>
                    <a:pt x="489" y="1438"/>
                  </a:lnTo>
                  <a:lnTo>
                    <a:pt x="496" y="1445"/>
                  </a:lnTo>
                  <a:lnTo>
                    <a:pt x="503" y="1452"/>
                  </a:lnTo>
                  <a:lnTo>
                    <a:pt x="503" y="1459"/>
                  </a:lnTo>
                  <a:lnTo>
                    <a:pt x="510" y="1467"/>
                  </a:lnTo>
                  <a:lnTo>
                    <a:pt x="510" y="1474"/>
                  </a:lnTo>
                  <a:lnTo>
                    <a:pt x="517" y="1481"/>
                  </a:lnTo>
                  <a:lnTo>
                    <a:pt x="517" y="1488"/>
                  </a:lnTo>
                  <a:lnTo>
                    <a:pt x="524" y="1495"/>
                  </a:lnTo>
                  <a:lnTo>
                    <a:pt x="524" y="1502"/>
                  </a:lnTo>
                  <a:lnTo>
                    <a:pt x="531" y="1509"/>
                  </a:lnTo>
                  <a:lnTo>
                    <a:pt x="531" y="1516"/>
                  </a:lnTo>
                  <a:lnTo>
                    <a:pt x="538" y="1523"/>
                  </a:lnTo>
                  <a:lnTo>
                    <a:pt x="538" y="1530"/>
                  </a:lnTo>
                  <a:lnTo>
                    <a:pt x="538" y="1537"/>
                  </a:lnTo>
                  <a:lnTo>
                    <a:pt x="545" y="1544"/>
                  </a:lnTo>
                  <a:lnTo>
                    <a:pt x="545" y="1552"/>
                  </a:lnTo>
                  <a:lnTo>
                    <a:pt x="552" y="1559"/>
                  </a:lnTo>
                  <a:lnTo>
                    <a:pt x="552" y="1566"/>
                  </a:lnTo>
                  <a:lnTo>
                    <a:pt x="552" y="1573"/>
                  </a:lnTo>
                  <a:lnTo>
                    <a:pt x="560" y="1580"/>
                  </a:lnTo>
                  <a:lnTo>
                    <a:pt x="560" y="1587"/>
                  </a:lnTo>
                  <a:lnTo>
                    <a:pt x="567" y="1594"/>
                  </a:lnTo>
                  <a:lnTo>
                    <a:pt x="567" y="1601"/>
                  </a:lnTo>
                  <a:lnTo>
                    <a:pt x="567" y="1608"/>
                  </a:lnTo>
                  <a:lnTo>
                    <a:pt x="574" y="1601"/>
                  </a:lnTo>
                  <a:lnTo>
                    <a:pt x="574" y="1594"/>
                  </a:lnTo>
                  <a:lnTo>
                    <a:pt x="574" y="1587"/>
                  </a:lnTo>
                  <a:lnTo>
                    <a:pt x="581" y="1580"/>
                  </a:lnTo>
                  <a:lnTo>
                    <a:pt x="581" y="1573"/>
                  </a:lnTo>
                  <a:lnTo>
                    <a:pt x="581" y="1566"/>
                  </a:lnTo>
                  <a:lnTo>
                    <a:pt x="588" y="1559"/>
                  </a:lnTo>
                  <a:lnTo>
                    <a:pt x="588" y="1552"/>
                  </a:lnTo>
                  <a:lnTo>
                    <a:pt x="588" y="1544"/>
                  </a:lnTo>
                  <a:lnTo>
                    <a:pt x="595" y="1537"/>
                  </a:lnTo>
                  <a:lnTo>
                    <a:pt x="595" y="1530"/>
                  </a:lnTo>
                  <a:lnTo>
                    <a:pt x="595" y="1523"/>
                  </a:lnTo>
                  <a:lnTo>
                    <a:pt x="602" y="1516"/>
                  </a:lnTo>
                  <a:lnTo>
                    <a:pt x="602" y="1509"/>
                  </a:lnTo>
                  <a:lnTo>
                    <a:pt x="602" y="1502"/>
                  </a:lnTo>
                  <a:lnTo>
                    <a:pt x="609" y="1495"/>
                  </a:lnTo>
                  <a:lnTo>
                    <a:pt x="609" y="1488"/>
                  </a:lnTo>
                  <a:lnTo>
                    <a:pt x="616" y="1481"/>
                  </a:lnTo>
                  <a:lnTo>
                    <a:pt x="616" y="1474"/>
                  </a:lnTo>
                  <a:lnTo>
                    <a:pt x="616" y="1467"/>
                  </a:lnTo>
                  <a:lnTo>
                    <a:pt x="616" y="1459"/>
                  </a:lnTo>
                  <a:lnTo>
                    <a:pt x="623" y="1452"/>
                  </a:lnTo>
                  <a:lnTo>
                    <a:pt x="623" y="1445"/>
                  </a:lnTo>
                  <a:lnTo>
                    <a:pt x="623" y="1438"/>
                  </a:lnTo>
                  <a:lnTo>
                    <a:pt x="630" y="1431"/>
                  </a:lnTo>
                  <a:lnTo>
                    <a:pt x="630" y="1424"/>
                  </a:lnTo>
                  <a:lnTo>
                    <a:pt x="637" y="1417"/>
                  </a:lnTo>
                  <a:lnTo>
                    <a:pt x="637" y="1410"/>
                  </a:lnTo>
                  <a:lnTo>
                    <a:pt x="637" y="1403"/>
                  </a:lnTo>
                  <a:lnTo>
                    <a:pt x="645" y="1396"/>
                  </a:lnTo>
                  <a:lnTo>
                    <a:pt x="645" y="1389"/>
                  </a:lnTo>
                  <a:lnTo>
                    <a:pt x="652" y="1382"/>
                  </a:lnTo>
                  <a:lnTo>
                    <a:pt x="652" y="1374"/>
                  </a:lnTo>
                  <a:lnTo>
                    <a:pt x="652" y="1367"/>
                  </a:lnTo>
                  <a:lnTo>
                    <a:pt x="652" y="1360"/>
                  </a:lnTo>
                  <a:lnTo>
                    <a:pt x="659" y="1353"/>
                  </a:lnTo>
                  <a:lnTo>
                    <a:pt x="659" y="1346"/>
                  </a:lnTo>
                  <a:lnTo>
                    <a:pt x="666" y="1339"/>
                  </a:lnTo>
                  <a:lnTo>
                    <a:pt x="666" y="1332"/>
                  </a:lnTo>
                  <a:lnTo>
                    <a:pt x="673" y="1325"/>
                  </a:lnTo>
                  <a:lnTo>
                    <a:pt x="673" y="1318"/>
                  </a:lnTo>
                  <a:lnTo>
                    <a:pt x="680" y="1311"/>
                  </a:lnTo>
                  <a:lnTo>
                    <a:pt x="687" y="1304"/>
                  </a:lnTo>
                  <a:lnTo>
                    <a:pt x="687" y="1296"/>
                  </a:lnTo>
                  <a:lnTo>
                    <a:pt x="694" y="1289"/>
                  </a:lnTo>
                  <a:lnTo>
                    <a:pt x="694" y="1282"/>
                  </a:lnTo>
                  <a:lnTo>
                    <a:pt x="701" y="1275"/>
                  </a:lnTo>
                  <a:lnTo>
                    <a:pt x="708" y="1268"/>
                  </a:lnTo>
                  <a:lnTo>
                    <a:pt x="715" y="1261"/>
                  </a:lnTo>
                  <a:lnTo>
                    <a:pt x="723" y="1261"/>
                  </a:lnTo>
                  <a:lnTo>
                    <a:pt x="730" y="1261"/>
                  </a:lnTo>
                  <a:lnTo>
                    <a:pt x="737" y="1261"/>
                  </a:lnTo>
                  <a:lnTo>
                    <a:pt x="744" y="1261"/>
                  </a:lnTo>
                  <a:lnTo>
                    <a:pt x="751" y="1268"/>
                  </a:lnTo>
                  <a:lnTo>
                    <a:pt x="758" y="1275"/>
                  </a:lnTo>
                  <a:lnTo>
                    <a:pt x="765" y="1282"/>
                  </a:lnTo>
                  <a:lnTo>
                    <a:pt x="765" y="1289"/>
                  </a:lnTo>
                  <a:lnTo>
                    <a:pt x="772" y="1296"/>
                  </a:lnTo>
                  <a:lnTo>
                    <a:pt x="772" y="1304"/>
                  </a:lnTo>
                  <a:lnTo>
                    <a:pt x="779" y="1311"/>
                  </a:lnTo>
                  <a:lnTo>
                    <a:pt x="779" y="1318"/>
                  </a:lnTo>
                  <a:lnTo>
                    <a:pt x="786" y="1325"/>
                  </a:lnTo>
                  <a:lnTo>
                    <a:pt x="786" y="1332"/>
                  </a:lnTo>
                  <a:lnTo>
                    <a:pt x="793" y="1339"/>
                  </a:lnTo>
                  <a:lnTo>
                    <a:pt x="793" y="1346"/>
                  </a:lnTo>
                  <a:lnTo>
                    <a:pt x="793" y="1353"/>
                  </a:lnTo>
                  <a:lnTo>
                    <a:pt x="800" y="1360"/>
                  </a:lnTo>
                  <a:lnTo>
                    <a:pt x="800" y="1367"/>
                  </a:lnTo>
                  <a:lnTo>
                    <a:pt x="800" y="1374"/>
                  </a:lnTo>
                  <a:lnTo>
                    <a:pt x="800" y="1382"/>
                  </a:lnTo>
                  <a:lnTo>
                    <a:pt x="808" y="1389"/>
                  </a:lnTo>
                  <a:lnTo>
                    <a:pt x="808" y="1403"/>
                  </a:lnTo>
                  <a:lnTo>
                    <a:pt x="808" y="1410"/>
                  </a:lnTo>
                  <a:lnTo>
                    <a:pt x="815" y="1417"/>
                  </a:lnTo>
                  <a:lnTo>
                    <a:pt x="815" y="1424"/>
                  </a:lnTo>
                  <a:lnTo>
                    <a:pt x="815" y="1431"/>
                  </a:lnTo>
                  <a:lnTo>
                    <a:pt x="822" y="1445"/>
                  </a:lnTo>
                  <a:lnTo>
                    <a:pt x="822" y="1452"/>
                  </a:lnTo>
                  <a:lnTo>
                    <a:pt x="822" y="1459"/>
                  </a:lnTo>
                  <a:lnTo>
                    <a:pt x="829" y="1474"/>
                  </a:lnTo>
                  <a:lnTo>
                    <a:pt x="829" y="1481"/>
                  </a:lnTo>
                  <a:lnTo>
                    <a:pt x="829" y="1495"/>
                  </a:lnTo>
                  <a:lnTo>
                    <a:pt x="836" y="1502"/>
                  </a:lnTo>
                  <a:lnTo>
                    <a:pt x="836" y="1516"/>
                  </a:lnTo>
                  <a:lnTo>
                    <a:pt x="836" y="1523"/>
                  </a:lnTo>
                  <a:lnTo>
                    <a:pt x="836" y="1537"/>
                  </a:lnTo>
                  <a:lnTo>
                    <a:pt x="843" y="1544"/>
                  </a:lnTo>
                  <a:lnTo>
                    <a:pt x="843" y="1559"/>
                  </a:lnTo>
                  <a:lnTo>
                    <a:pt x="843" y="1573"/>
                  </a:lnTo>
                  <a:lnTo>
                    <a:pt x="850" y="1587"/>
                  </a:lnTo>
                  <a:lnTo>
                    <a:pt x="850" y="1594"/>
                  </a:lnTo>
                  <a:lnTo>
                    <a:pt x="850" y="1608"/>
                  </a:lnTo>
                  <a:lnTo>
                    <a:pt x="857" y="1594"/>
                  </a:lnTo>
                  <a:lnTo>
                    <a:pt x="857" y="1580"/>
                  </a:lnTo>
                  <a:lnTo>
                    <a:pt x="857" y="1573"/>
                  </a:lnTo>
                  <a:lnTo>
                    <a:pt x="864" y="1559"/>
                  </a:lnTo>
                  <a:lnTo>
                    <a:pt x="864" y="1544"/>
                  </a:lnTo>
                  <a:lnTo>
                    <a:pt x="864" y="1530"/>
                  </a:lnTo>
                  <a:lnTo>
                    <a:pt x="871" y="1516"/>
                  </a:lnTo>
                  <a:lnTo>
                    <a:pt x="871" y="1502"/>
                  </a:lnTo>
                  <a:lnTo>
                    <a:pt x="871" y="1488"/>
                  </a:lnTo>
                  <a:lnTo>
                    <a:pt x="878" y="1474"/>
                  </a:lnTo>
                  <a:lnTo>
                    <a:pt x="878" y="1459"/>
                  </a:lnTo>
                  <a:lnTo>
                    <a:pt x="878" y="1445"/>
                  </a:lnTo>
                  <a:lnTo>
                    <a:pt x="878" y="1431"/>
                  </a:lnTo>
                  <a:lnTo>
                    <a:pt x="885" y="1417"/>
                  </a:lnTo>
                  <a:lnTo>
                    <a:pt x="885" y="1403"/>
                  </a:lnTo>
                  <a:lnTo>
                    <a:pt x="885" y="1382"/>
                  </a:lnTo>
                  <a:lnTo>
                    <a:pt x="893" y="1367"/>
                  </a:lnTo>
                  <a:lnTo>
                    <a:pt x="893" y="1353"/>
                  </a:lnTo>
                  <a:lnTo>
                    <a:pt x="893" y="1339"/>
                  </a:lnTo>
                  <a:lnTo>
                    <a:pt x="900" y="1325"/>
                  </a:lnTo>
                  <a:lnTo>
                    <a:pt x="900" y="1304"/>
                  </a:lnTo>
                  <a:lnTo>
                    <a:pt x="900" y="1289"/>
                  </a:lnTo>
                  <a:lnTo>
                    <a:pt x="907" y="1275"/>
                  </a:lnTo>
                  <a:lnTo>
                    <a:pt x="907" y="1261"/>
                  </a:lnTo>
                  <a:lnTo>
                    <a:pt x="907" y="1240"/>
                  </a:lnTo>
                  <a:lnTo>
                    <a:pt x="914" y="1226"/>
                  </a:lnTo>
                  <a:lnTo>
                    <a:pt x="914" y="1211"/>
                  </a:lnTo>
                  <a:lnTo>
                    <a:pt x="914" y="1190"/>
                  </a:lnTo>
                  <a:lnTo>
                    <a:pt x="914" y="1176"/>
                  </a:lnTo>
                  <a:lnTo>
                    <a:pt x="921" y="1162"/>
                  </a:lnTo>
                  <a:lnTo>
                    <a:pt x="921" y="1141"/>
                  </a:lnTo>
                  <a:lnTo>
                    <a:pt x="921" y="1126"/>
                  </a:lnTo>
                  <a:lnTo>
                    <a:pt x="928" y="1105"/>
                  </a:lnTo>
                  <a:lnTo>
                    <a:pt x="928" y="1091"/>
                  </a:lnTo>
                  <a:lnTo>
                    <a:pt x="928" y="1077"/>
                  </a:lnTo>
                  <a:lnTo>
                    <a:pt x="935" y="1056"/>
                  </a:lnTo>
                  <a:lnTo>
                    <a:pt x="935" y="1041"/>
                  </a:lnTo>
                  <a:lnTo>
                    <a:pt x="935" y="1020"/>
                  </a:lnTo>
                  <a:lnTo>
                    <a:pt x="942" y="1006"/>
                  </a:lnTo>
                  <a:lnTo>
                    <a:pt x="942" y="992"/>
                  </a:lnTo>
                  <a:lnTo>
                    <a:pt x="942" y="971"/>
                  </a:lnTo>
                  <a:lnTo>
                    <a:pt x="949" y="956"/>
                  </a:lnTo>
                  <a:lnTo>
                    <a:pt x="949" y="935"/>
                  </a:lnTo>
                  <a:lnTo>
                    <a:pt x="949" y="921"/>
                  </a:lnTo>
                  <a:lnTo>
                    <a:pt x="949" y="900"/>
                  </a:lnTo>
                  <a:lnTo>
                    <a:pt x="956" y="886"/>
                  </a:lnTo>
                  <a:lnTo>
                    <a:pt x="956" y="871"/>
                  </a:lnTo>
                  <a:lnTo>
                    <a:pt x="956" y="850"/>
                  </a:lnTo>
                  <a:lnTo>
                    <a:pt x="963" y="836"/>
                  </a:lnTo>
                  <a:lnTo>
                    <a:pt x="963" y="815"/>
                  </a:lnTo>
                  <a:lnTo>
                    <a:pt x="963" y="800"/>
                  </a:lnTo>
                  <a:lnTo>
                    <a:pt x="971" y="786"/>
                  </a:lnTo>
                  <a:lnTo>
                    <a:pt x="971" y="765"/>
                  </a:lnTo>
                  <a:lnTo>
                    <a:pt x="971" y="751"/>
                  </a:lnTo>
                  <a:lnTo>
                    <a:pt x="978" y="730"/>
                  </a:lnTo>
                  <a:lnTo>
                    <a:pt x="978" y="715"/>
                  </a:lnTo>
                  <a:lnTo>
                    <a:pt x="978" y="701"/>
                  </a:lnTo>
                  <a:lnTo>
                    <a:pt x="985" y="680"/>
                  </a:lnTo>
                  <a:lnTo>
                    <a:pt x="985" y="666"/>
                  </a:lnTo>
                  <a:lnTo>
                    <a:pt x="985" y="652"/>
                  </a:lnTo>
                  <a:lnTo>
                    <a:pt x="985" y="630"/>
                  </a:lnTo>
                  <a:lnTo>
                    <a:pt x="992" y="616"/>
                  </a:lnTo>
                  <a:lnTo>
                    <a:pt x="992" y="602"/>
                  </a:lnTo>
                  <a:lnTo>
                    <a:pt x="992" y="581"/>
                  </a:lnTo>
                  <a:lnTo>
                    <a:pt x="999" y="567"/>
                  </a:lnTo>
                  <a:lnTo>
                    <a:pt x="999" y="552"/>
                  </a:lnTo>
                  <a:lnTo>
                    <a:pt x="999" y="538"/>
                  </a:lnTo>
                  <a:lnTo>
                    <a:pt x="1006" y="524"/>
                  </a:lnTo>
                  <a:lnTo>
                    <a:pt x="1006" y="503"/>
                  </a:lnTo>
                  <a:lnTo>
                    <a:pt x="1006" y="489"/>
                  </a:lnTo>
                  <a:lnTo>
                    <a:pt x="1013" y="475"/>
                  </a:lnTo>
                  <a:lnTo>
                    <a:pt x="1013" y="460"/>
                  </a:lnTo>
                  <a:lnTo>
                    <a:pt x="1013" y="446"/>
                  </a:lnTo>
                  <a:lnTo>
                    <a:pt x="1020" y="432"/>
                  </a:lnTo>
                  <a:lnTo>
                    <a:pt x="1020" y="418"/>
                  </a:lnTo>
                  <a:lnTo>
                    <a:pt x="1020" y="404"/>
                  </a:lnTo>
                  <a:lnTo>
                    <a:pt x="1027" y="390"/>
                  </a:lnTo>
                  <a:lnTo>
                    <a:pt x="1027" y="375"/>
                  </a:lnTo>
                  <a:lnTo>
                    <a:pt x="1027" y="361"/>
                  </a:lnTo>
                  <a:lnTo>
                    <a:pt x="1027" y="347"/>
                  </a:lnTo>
                  <a:lnTo>
                    <a:pt x="1034" y="333"/>
                  </a:lnTo>
                  <a:lnTo>
                    <a:pt x="1034" y="319"/>
                  </a:lnTo>
                  <a:lnTo>
                    <a:pt x="1034" y="304"/>
                  </a:lnTo>
                  <a:lnTo>
                    <a:pt x="1041" y="297"/>
                  </a:lnTo>
                  <a:lnTo>
                    <a:pt x="1041" y="283"/>
                  </a:lnTo>
                  <a:lnTo>
                    <a:pt x="1041" y="269"/>
                  </a:lnTo>
                  <a:lnTo>
                    <a:pt x="1048" y="255"/>
                  </a:lnTo>
                  <a:lnTo>
                    <a:pt x="1048" y="248"/>
                  </a:lnTo>
                  <a:lnTo>
                    <a:pt x="1048" y="234"/>
                  </a:lnTo>
                  <a:lnTo>
                    <a:pt x="1056" y="227"/>
                  </a:lnTo>
                  <a:lnTo>
                    <a:pt x="1056" y="212"/>
                  </a:lnTo>
                  <a:lnTo>
                    <a:pt x="1056" y="198"/>
                  </a:lnTo>
                  <a:lnTo>
                    <a:pt x="1063" y="191"/>
                  </a:lnTo>
                  <a:lnTo>
                    <a:pt x="1063" y="177"/>
                  </a:lnTo>
                  <a:lnTo>
                    <a:pt x="1063" y="170"/>
                  </a:lnTo>
                  <a:lnTo>
                    <a:pt x="1063" y="163"/>
                  </a:lnTo>
                  <a:lnTo>
                    <a:pt x="1070" y="149"/>
                  </a:lnTo>
                  <a:lnTo>
                    <a:pt x="1070" y="142"/>
                  </a:lnTo>
                  <a:lnTo>
                    <a:pt x="1070" y="134"/>
                  </a:lnTo>
                  <a:lnTo>
                    <a:pt x="1077" y="120"/>
                  </a:lnTo>
                  <a:lnTo>
                    <a:pt x="1077" y="113"/>
                  </a:lnTo>
                  <a:lnTo>
                    <a:pt x="1077" y="106"/>
                  </a:lnTo>
                  <a:lnTo>
                    <a:pt x="1084" y="99"/>
                  </a:lnTo>
                  <a:lnTo>
                    <a:pt x="1084" y="92"/>
                  </a:lnTo>
                  <a:lnTo>
                    <a:pt x="1084" y="85"/>
                  </a:lnTo>
                  <a:lnTo>
                    <a:pt x="1091" y="78"/>
                  </a:lnTo>
                  <a:lnTo>
                    <a:pt x="1091" y="71"/>
                  </a:lnTo>
                  <a:lnTo>
                    <a:pt x="1091" y="64"/>
                  </a:lnTo>
                  <a:lnTo>
                    <a:pt x="1098" y="56"/>
                  </a:lnTo>
                  <a:lnTo>
                    <a:pt x="1098" y="49"/>
                  </a:lnTo>
                  <a:lnTo>
                    <a:pt x="1098" y="42"/>
                  </a:lnTo>
                  <a:lnTo>
                    <a:pt x="1105" y="35"/>
                  </a:lnTo>
                  <a:lnTo>
                    <a:pt x="1105" y="28"/>
                  </a:lnTo>
                  <a:lnTo>
                    <a:pt x="1112" y="21"/>
                  </a:lnTo>
                  <a:lnTo>
                    <a:pt x="1119" y="14"/>
                  </a:lnTo>
                  <a:lnTo>
                    <a:pt x="1126" y="7"/>
                  </a:lnTo>
                  <a:lnTo>
                    <a:pt x="1134" y="0"/>
                  </a:lnTo>
                  <a:lnTo>
                    <a:pt x="1141" y="0"/>
                  </a:lnTo>
                  <a:lnTo>
                    <a:pt x="1148" y="7"/>
                  </a:lnTo>
                  <a:lnTo>
                    <a:pt x="1155" y="14"/>
                  </a:lnTo>
                  <a:lnTo>
                    <a:pt x="1162" y="21"/>
                  </a:lnTo>
                  <a:lnTo>
                    <a:pt x="1169" y="28"/>
                  </a:lnTo>
                  <a:lnTo>
                    <a:pt x="1169" y="35"/>
                  </a:lnTo>
                  <a:lnTo>
                    <a:pt x="1176" y="42"/>
                  </a:lnTo>
                  <a:lnTo>
                    <a:pt x="1176" y="49"/>
                  </a:lnTo>
                  <a:lnTo>
                    <a:pt x="1176" y="56"/>
                  </a:lnTo>
                  <a:lnTo>
                    <a:pt x="1183" y="64"/>
                  </a:lnTo>
                  <a:lnTo>
                    <a:pt x="1183" y="71"/>
                  </a:lnTo>
                  <a:lnTo>
                    <a:pt x="1183" y="78"/>
                  </a:lnTo>
                  <a:lnTo>
                    <a:pt x="1190" y="85"/>
                  </a:lnTo>
                  <a:lnTo>
                    <a:pt x="1190" y="92"/>
                  </a:lnTo>
                  <a:lnTo>
                    <a:pt x="1190" y="99"/>
                  </a:lnTo>
                  <a:lnTo>
                    <a:pt x="1197" y="106"/>
                  </a:lnTo>
                  <a:lnTo>
                    <a:pt x="1197" y="113"/>
                  </a:lnTo>
                  <a:lnTo>
                    <a:pt x="1197" y="120"/>
                  </a:lnTo>
                  <a:lnTo>
                    <a:pt x="1204" y="134"/>
                  </a:lnTo>
                  <a:lnTo>
                    <a:pt x="1204" y="142"/>
                  </a:lnTo>
                  <a:lnTo>
                    <a:pt x="1204" y="149"/>
                  </a:lnTo>
                  <a:lnTo>
                    <a:pt x="1211" y="163"/>
                  </a:lnTo>
                  <a:lnTo>
                    <a:pt x="1211" y="170"/>
                  </a:lnTo>
                  <a:lnTo>
                    <a:pt x="1211" y="177"/>
                  </a:lnTo>
                  <a:lnTo>
                    <a:pt x="1211" y="191"/>
                  </a:lnTo>
                  <a:lnTo>
                    <a:pt x="1219" y="198"/>
                  </a:lnTo>
                  <a:lnTo>
                    <a:pt x="1219" y="212"/>
                  </a:lnTo>
                  <a:lnTo>
                    <a:pt x="1219" y="227"/>
                  </a:lnTo>
                  <a:lnTo>
                    <a:pt x="1226" y="234"/>
                  </a:lnTo>
                  <a:lnTo>
                    <a:pt x="1226" y="248"/>
                  </a:lnTo>
                  <a:lnTo>
                    <a:pt x="1226" y="255"/>
                  </a:lnTo>
                  <a:lnTo>
                    <a:pt x="1233" y="269"/>
                  </a:lnTo>
                  <a:lnTo>
                    <a:pt x="1233" y="283"/>
                  </a:lnTo>
                  <a:lnTo>
                    <a:pt x="1233" y="297"/>
                  </a:lnTo>
                  <a:lnTo>
                    <a:pt x="1240" y="304"/>
                  </a:lnTo>
                  <a:lnTo>
                    <a:pt x="1240" y="319"/>
                  </a:lnTo>
                  <a:lnTo>
                    <a:pt x="1240" y="333"/>
                  </a:lnTo>
                  <a:lnTo>
                    <a:pt x="1247" y="347"/>
                  </a:lnTo>
                  <a:lnTo>
                    <a:pt x="1247" y="361"/>
                  </a:lnTo>
                  <a:lnTo>
                    <a:pt x="1247" y="375"/>
                  </a:lnTo>
                  <a:lnTo>
                    <a:pt x="1247" y="390"/>
                  </a:lnTo>
                  <a:lnTo>
                    <a:pt x="1254" y="404"/>
                  </a:lnTo>
                  <a:lnTo>
                    <a:pt x="1254" y="418"/>
                  </a:lnTo>
                  <a:lnTo>
                    <a:pt x="1254" y="432"/>
                  </a:lnTo>
                  <a:lnTo>
                    <a:pt x="1261" y="446"/>
                  </a:lnTo>
                  <a:lnTo>
                    <a:pt x="1261" y="460"/>
                  </a:lnTo>
                  <a:lnTo>
                    <a:pt x="1261" y="475"/>
                  </a:lnTo>
                  <a:lnTo>
                    <a:pt x="1268" y="489"/>
                  </a:lnTo>
                  <a:lnTo>
                    <a:pt x="1268" y="503"/>
                  </a:lnTo>
                  <a:lnTo>
                    <a:pt x="1268" y="524"/>
                  </a:lnTo>
                  <a:lnTo>
                    <a:pt x="1275" y="538"/>
                  </a:lnTo>
                  <a:lnTo>
                    <a:pt x="1275" y="552"/>
                  </a:lnTo>
                  <a:lnTo>
                    <a:pt x="1275" y="567"/>
                  </a:lnTo>
                  <a:lnTo>
                    <a:pt x="1282" y="581"/>
                  </a:lnTo>
                  <a:lnTo>
                    <a:pt x="1282" y="602"/>
                  </a:lnTo>
                  <a:lnTo>
                    <a:pt x="1282" y="616"/>
                  </a:lnTo>
                  <a:lnTo>
                    <a:pt x="1289" y="630"/>
                  </a:lnTo>
                  <a:lnTo>
                    <a:pt x="1289" y="652"/>
                  </a:lnTo>
                  <a:lnTo>
                    <a:pt x="1289" y="666"/>
                  </a:lnTo>
                  <a:lnTo>
                    <a:pt x="1289" y="680"/>
                  </a:lnTo>
                  <a:lnTo>
                    <a:pt x="1297" y="701"/>
                  </a:lnTo>
                  <a:lnTo>
                    <a:pt x="1297" y="715"/>
                  </a:lnTo>
                  <a:lnTo>
                    <a:pt x="1297" y="730"/>
                  </a:lnTo>
                  <a:lnTo>
                    <a:pt x="1304" y="751"/>
                  </a:lnTo>
                  <a:lnTo>
                    <a:pt x="1304" y="765"/>
                  </a:lnTo>
                  <a:lnTo>
                    <a:pt x="1304" y="786"/>
                  </a:lnTo>
                  <a:lnTo>
                    <a:pt x="1311" y="800"/>
                  </a:lnTo>
                  <a:lnTo>
                    <a:pt x="1311" y="815"/>
                  </a:lnTo>
                  <a:lnTo>
                    <a:pt x="1311" y="836"/>
                  </a:lnTo>
                  <a:lnTo>
                    <a:pt x="1318" y="850"/>
                  </a:lnTo>
                  <a:lnTo>
                    <a:pt x="1318" y="871"/>
                  </a:lnTo>
                  <a:lnTo>
                    <a:pt x="1318" y="886"/>
                  </a:lnTo>
                  <a:lnTo>
                    <a:pt x="1325" y="900"/>
                  </a:lnTo>
                  <a:lnTo>
                    <a:pt x="1325" y="921"/>
                  </a:lnTo>
                  <a:lnTo>
                    <a:pt x="1325" y="935"/>
                  </a:lnTo>
                  <a:lnTo>
                    <a:pt x="1325" y="956"/>
                  </a:lnTo>
                  <a:lnTo>
                    <a:pt x="1332" y="971"/>
                  </a:lnTo>
                  <a:lnTo>
                    <a:pt x="1332" y="992"/>
                  </a:lnTo>
                  <a:lnTo>
                    <a:pt x="1332" y="1006"/>
                  </a:lnTo>
                  <a:lnTo>
                    <a:pt x="1339" y="1020"/>
                  </a:lnTo>
                  <a:lnTo>
                    <a:pt x="1339" y="1041"/>
                  </a:lnTo>
                  <a:lnTo>
                    <a:pt x="1339" y="1056"/>
                  </a:lnTo>
                  <a:lnTo>
                    <a:pt x="1346" y="1077"/>
                  </a:lnTo>
                  <a:lnTo>
                    <a:pt x="1346" y="1091"/>
                  </a:lnTo>
                  <a:lnTo>
                    <a:pt x="1346" y="1105"/>
                  </a:lnTo>
                  <a:lnTo>
                    <a:pt x="1353" y="1126"/>
                  </a:lnTo>
                  <a:lnTo>
                    <a:pt x="1353" y="1141"/>
                  </a:lnTo>
                  <a:lnTo>
                    <a:pt x="1353" y="1162"/>
                  </a:lnTo>
                  <a:lnTo>
                    <a:pt x="1360" y="1176"/>
                  </a:lnTo>
                  <a:lnTo>
                    <a:pt x="1360" y="1190"/>
                  </a:lnTo>
                  <a:lnTo>
                    <a:pt x="1360" y="1211"/>
                  </a:lnTo>
                  <a:lnTo>
                    <a:pt x="1360" y="1226"/>
                  </a:lnTo>
                  <a:lnTo>
                    <a:pt x="1367" y="1240"/>
                  </a:lnTo>
                  <a:lnTo>
                    <a:pt x="1367" y="1261"/>
                  </a:lnTo>
                  <a:lnTo>
                    <a:pt x="1367" y="1275"/>
                  </a:lnTo>
                  <a:lnTo>
                    <a:pt x="1374" y="1289"/>
                  </a:lnTo>
                  <a:lnTo>
                    <a:pt x="1374" y="1304"/>
                  </a:lnTo>
                  <a:lnTo>
                    <a:pt x="1374" y="1325"/>
                  </a:lnTo>
                  <a:lnTo>
                    <a:pt x="1382" y="1339"/>
                  </a:lnTo>
                  <a:lnTo>
                    <a:pt x="1382" y="1353"/>
                  </a:lnTo>
                  <a:lnTo>
                    <a:pt x="1382" y="1367"/>
                  </a:lnTo>
                  <a:lnTo>
                    <a:pt x="1389" y="1382"/>
                  </a:lnTo>
                  <a:lnTo>
                    <a:pt x="1389" y="1403"/>
                  </a:lnTo>
                  <a:lnTo>
                    <a:pt x="1389" y="1417"/>
                  </a:lnTo>
                  <a:lnTo>
                    <a:pt x="1396" y="1431"/>
                  </a:lnTo>
                  <a:lnTo>
                    <a:pt x="1396" y="1445"/>
                  </a:lnTo>
                  <a:lnTo>
                    <a:pt x="1396" y="1459"/>
                  </a:lnTo>
                  <a:lnTo>
                    <a:pt x="1396" y="1474"/>
                  </a:lnTo>
                  <a:lnTo>
                    <a:pt x="1403" y="1488"/>
                  </a:lnTo>
                  <a:lnTo>
                    <a:pt x="1403" y="1502"/>
                  </a:lnTo>
                  <a:lnTo>
                    <a:pt x="1403" y="1516"/>
                  </a:lnTo>
                  <a:lnTo>
                    <a:pt x="1410" y="1530"/>
                  </a:lnTo>
                  <a:lnTo>
                    <a:pt x="1410" y="1544"/>
                  </a:lnTo>
                  <a:lnTo>
                    <a:pt x="1410" y="1559"/>
                  </a:lnTo>
                  <a:lnTo>
                    <a:pt x="1417" y="1573"/>
                  </a:lnTo>
                  <a:lnTo>
                    <a:pt x="1417" y="1580"/>
                  </a:lnTo>
                  <a:lnTo>
                    <a:pt x="1417" y="1594"/>
                  </a:lnTo>
                  <a:lnTo>
                    <a:pt x="1424" y="1608"/>
                  </a:lnTo>
                  <a:lnTo>
                    <a:pt x="1424" y="1594"/>
                  </a:lnTo>
                  <a:lnTo>
                    <a:pt x="1424" y="1587"/>
                  </a:lnTo>
                  <a:lnTo>
                    <a:pt x="1431" y="1573"/>
                  </a:lnTo>
                  <a:lnTo>
                    <a:pt x="1431" y="1559"/>
                  </a:lnTo>
                  <a:lnTo>
                    <a:pt x="1431" y="1544"/>
                  </a:lnTo>
                  <a:lnTo>
                    <a:pt x="1438" y="1537"/>
                  </a:lnTo>
                  <a:lnTo>
                    <a:pt x="1438" y="1523"/>
                  </a:lnTo>
                  <a:lnTo>
                    <a:pt x="1438" y="1516"/>
                  </a:lnTo>
                  <a:lnTo>
                    <a:pt x="1438" y="1502"/>
                  </a:lnTo>
                  <a:lnTo>
                    <a:pt x="1445" y="1495"/>
                  </a:lnTo>
                  <a:lnTo>
                    <a:pt x="1445" y="1481"/>
                  </a:lnTo>
                  <a:lnTo>
                    <a:pt x="1445" y="1474"/>
                  </a:lnTo>
                  <a:lnTo>
                    <a:pt x="1452" y="1459"/>
                  </a:lnTo>
                  <a:lnTo>
                    <a:pt x="1452" y="1452"/>
                  </a:lnTo>
                  <a:lnTo>
                    <a:pt x="1452" y="1445"/>
                  </a:lnTo>
                  <a:lnTo>
                    <a:pt x="1460" y="1431"/>
                  </a:lnTo>
                  <a:lnTo>
                    <a:pt x="1460" y="1424"/>
                  </a:lnTo>
                  <a:lnTo>
                    <a:pt x="1460" y="1417"/>
                  </a:lnTo>
                  <a:lnTo>
                    <a:pt x="1467" y="1410"/>
                  </a:lnTo>
                  <a:lnTo>
                    <a:pt x="1467" y="1403"/>
                  </a:lnTo>
                  <a:lnTo>
                    <a:pt x="1467" y="1389"/>
                  </a:lnTo>
                  <a:lnTo>
                    <a:pt x="1474" y="1382"/>
                  </a:lnTo>
                  <a:lnTo>
                    <a:pt x="1474" y="1374"/>
                  </a:lnTo>
                  <a:lnTo>
                    <a:pt x="1474" y="1367"/>
                  </a:lnTo>
                  <a:lnTo>
                    <a:pt x="1474" y="1360"/>
                  </a:lnTo>
                  <a:lnTo>
                    <a:pt x="1481" y="1353"/>
                  </a:lnTo>
                  <a:lnTo>
                    <a:pt x="1481" y="1346"/>
                  </a:lnTo>
                  <a:lnTo>
                    <a:pt x="1488" y="1339"/>
                  </a:lnTo>
                  <a:lnTo>
                    <a:pt x="1488" y="1332"/>
                  </a:lnTo>
                  <a:lnTo>
                    <a:pt x="1488" y="1325"/>
                  </a:lnTo>
                  <a:lnTo>
                    <a:pt x="1495" y="1318"/>
                  </a:lnTo>
                  <a:lnTo>
                    <a:pt x="1495" y="1311"/>
                  </a:lnTo>
                  <a:lnTo>
                    <a:pt x="1502" y="1304"/>
                  </a:lnTo>
                  <a:lnTo>
                    <a:pt x="1502" y="1296"/>
                  </a:lnTo>
                  <a:lnTo>
                    <a:pt x="1509" y="1289"/>
                  </a:lnTo>
                  <a:lnTo>
                    <a:pt x="1509" y="1282"/>
                  </a:lnTo>
                  <a:lnTo>
                    <a:pt x="1516" y="1275"/>
                  </a:lnTo>
                  <a:lnTo>
                    <a:pt x="1523" y="1268"/>
                  </a:lnTo>
                  <a:lnTo>
                    <a:pt x="1530" y="1261"/>
                  </a:lnTo>
                  <a:lnTo>
                    <a:pt x="1537" y="1261"/>
                  </a:lnTo>
                  <a:lnTo>
                    <a:pt x="1545" y="1261"/>
                  </a:lnTo>
                  <a:lnTo>
                    <a:pt x="1552" y="1261"/>
                  </a:lnTo>
                  <a:lnTo>
                    <a:pt x="1559" y="1268"/>
                  </a:lnTo>
                  <a:lnTo>
                    <a:pt x="1566" y="1268"/>
                  </a:lnTo>
                  <a:lnTo>
                    <a:pt x="1573" y="1275"/>
                  </a:lnTo>
                  <a:lnTo>
                    <a:pt x="1580" y="1282"/>
                  </a:lnTo>
                  <a:lnTo>
                    <a:pt x="1587" y="1289"/>
                  </a:lnTo>
                  <a:lnTo>
                    <a:pt x="1587" y="1296"/>
                  </a:lnTo>
                  <a:lnTo>
                    <a:pt x="1594" y="1304"/>
                  </a:lnTo>
                  <a:lnTo>
                    <a:pt x="1594" y="1311"/>
                  </a:lnTo>
                  <a:lnTo>
                    <a:pt x="1601" y="1318"/>
                  </a:lnTo>
                  <a:lnTo>
                    <a:pt x="1601" y="1325"/>
                  </a:lnTo>
                  <a:lnTo>
                    <a:pt x="1608" y="1332"/>
                  </a:lnTo>
                  <a:lnTo>
                    <a:pt x="1608" y="1339"/>
                  </a:lnTo>
                  <a:lnTo>
                    <a:pt x="1615" y="1346"/>
                  </a:lnTo>
                  <a:lnTo>
                    <a:pt x="1615" y="1353"/>
                  </a:lnTo>
                  <a:lnTo>
                    <a:pt x="1622" y="1360"/>
                  </a:lnTo>
                  <a:lnTo>
                    <a:pt x="1622" y="1367"/>
                  </a:lnTo>
                  <a:lnTo>
                    <a:pt x="1622" y="1374"/>
                  </a:lnTo>
                  <a:lnTo>
                    <a:pt x="1630" y="1382"/>
                  </a:lnTo>
                  <a:lnTo>
                    <a:pt x="1630" y="1389"/>
                  </a:lnTo>
                  <a:lnTo>
                    <a:pt x="1630" y="1396"/>
                  </a:lnTo>
                  <a:lnTo>
                    <a:pt x="1637" y="1403"/>
                  </a:lnTo>
                  <a:lnTo>
                    <a:pt x="1637" y="1410"/>
                  </a:lnTo>
                  <a:lnTo>
                    <a:pt x="1644" y="1417"/>
                  </a:lnTo>
                  <a:lnTo>
                    <a:pt x="1644" y="1424"/>
                  </a:lnTo>
                  <a:lnTo>
                    <a:pt x="1644" y="1431"/>
                  </a:lnTo>
                  <a:lnTo>
                    <a:pt x="1651" y="1438"/>
                  </a:lnTo>
                  <a:lnTo>
                    <a:pt x="1651" y="1445"/>
                  </a:lnTo>
                  <a:lnTo>
                    <a:pt x="1651" y="1452"/>
                  </a:lnTo>
                  <a:lnTo>
                    <a:pt x="1658" y="1459"/>
                  </a:lnTo>
                  <a:lnTo>
                    <a:pt x="1658" y="1467"/>
                  </a:lnTo>
                  <a:lnTo>
                    <a:pt x="1658" y="1474"/>
                  </a:lnTo>
                  <a:lnTo>
                    <a:pt x="1665" y="1481"/>
                  </a:lnTo>
                  <a:lnTo>
                    <a:pt x="1665" y="1488"/>
                  </a:lnTo>
                  <a:lnTo>
                    <a:pt x="1665" y="1495"/>
                  </a:lnTo>
                  <a:lnTo>
                    <a:pt x="1672" y="1502"/>
                  </a:lnTo>
                  <a:lnTo>
                    <a:pt x="1672" y="1509"/>
                  </a:lnTo>
                  <a:lnTo>
                    <a:pt x="1672" y="1516"/>
                  </a:lnTo>
                  <a:lnTo>
                    <a:pt x="1679" y="1523"/>
                  </a:lnTo>
                  <a:lnTo>
                    <a:pt x="1679" y="1530"/>
                  </a:lnTo>
                  <a:lnTo>
                    <a:pt x="1679" y="1537"/>
                  </a:lnTo>
                  <a:lnTo>
                    <a:pt x="1686" y="1544"/>
                  </a:lnTo>
                  <a:lnTo>
                    <a:pt x="1686" y="1552"/>
                  </a:lnTo>
                  <a:lnTo>
                    <a:pt x="1686" y="1559"/>
                  </a:lnTo>
                  <a:lnTo>
                    <a:pt x="1693" y="1566"/>
                  </a:lnTo>
                  <a:lnTo>
                    <a:pt x="1693" y="1573"/>
                  </a:lnTo>
                  <a:lnTo>
                    <a:pt x="1693" y="1580"/>
                  </a:lnTo>
                  <a:lnTo>
                    <a:pt x="1700" y="1587"/>
                  </a:lnTo>
                  <a:lnTo>
                    <a:pt x="1700" y="1594"/>
                  </a:lnTo>
                  <a:lnTo>
                    <a:pt x="1700" y="1601"/>
                  </a:lnTo>
                  <a:lnTo>
                    <a:pt x="1708" y="1608"/>
                  </a:lnTo>
                  <a:lnTo>
                    <a:pt x="1708" y="1601"/>
                  </a:lnTo>
                  <a:lnTo>
                    <a:pt x="1708" y="1594"/>
                  </a:lnTo>
                  <a:lnTo>
                    <a:pt x="1715" y="1587"/>
                  </a:lnTo>
                  <a:lnTo>
                    <a:pt x="1715" y="1580"/>
                  </a:lnTo>
                  <a:lnTo>
                    <a:pt x="1722" y="1573"/>
                  </a:lnTo>
                  <a:lnTo>
                    <a:pt x="1722" y="1566"/>
                  </a:lnTo>
                  <a:lnTo>
                    <a:pt x="1722" y="1559"/>
                  </a:lnTo>
                  <a:lnTo>
                    <a:pt x="1729" y="1552"/>
                  </a:lnTo>
                  <a:lnTo>
                    <a:pt x="1729" y="1544"/>
                  </a:lnTo>
                  <a:lnTo>
                    <a:pt x="1736" y="1537"/>
                  </a:lnTo>
                  <a:lnTo>
                    <a:pt x="1736" y="1530"/>
                  </a:lnTo>
                  <a:lnTo>
                    <a:pt x="1736" y="1523"/>
                  </a:lnTo>
                  <a:lnTo>
                    <a:pt x="1743" y="1516"/>
                  </a:lnTo>
                  <a:lnTo>
                    <a:pt x="1743" y="1509"/>
                  </a:lnTo>
                  <a:lnTo>
                    <a:pt x="1750" y="1502"/>
                  </a:lnTo>
                  <a:lnTo>
                    <a:pt x="1750" y="1495"/>
                  </a:lnTo>
                  <a:lnTo>
                    <a:pt x="1757" y="1488"/>
                  </a:lnTo>
                  <a:lnTo>
                    <a:pt x="1757" y="1481"/>
                  </a:lnTo>
                  <a:lnTo>
                    <a:pt x="1764" y="1474"/>
                  </a:lnTo>
                  <a:lnTo>
                    <a:pt x="1764" y="1467"/>
                  </a:lnTo>
                  <a:lnTo>
                    <a:pt x="1771" y="1459"/>
                  </a:lnTo>
                  <a:lnTo>
                    <a:pt x="1771" y="1452"/>
                  </a:lnTo>
                  <a:lnTo>
                    <a:pt x="1778" y="1445"/>
                  </a:lnTo>
                  <a:lnTo>
                    <a:pt x="1785" y="1438"/>
                  </a:lnTo>
                  <a:lnTo>
                    <a:pt x="1793" y="1431"/>
                  </a:lnTo>
                  <a:lnTo>
                    <a:pt x="1800" y="1424"/>
                  </a:lnTo>
                  <a:lnTo>
                    <a:pt x="1807" y="1417"/>
                  </a:lnTo>
                  <a:lnTo>
                    <a:pt x="1814" y="1410"/>
                  </a:lnTo>
                  <a:lnTo>
                    <a:pt x="1821" y="1403"/>
                  </a:lnTo>
                  <a:lnTo>
                    <a:pt x="1828" y="1403"/>
                  </a:lnTo>
                  <a:lnTo>
                    <a:pt x="1835" y="1403"/>
                  </a:lnTo>
                  <a:lnTo>
                    <a:pt x="1842" y="1403"/>
                  </a:lnTo>
                  <a:lnTo>
                    <a:pt x="1849" y="1403"/>
                  </a:lnTo>
                  <a:lnTo>
                    <a:pt x="1856" y="1410"/>
                  </a:lnTo>
                  <a:lnTo>
                    <a:pt x="1863" y="1410"/>
                  </a:lnTo>
                  <a:lnTo>
                    <a:pt x="1871" y="1417"/>
                  </a:lnTo>
                  <a:lnTo>
                    <a:pt x="1878" y="1424"/>
                  </a:lnTo>
                  <a:lnTo>
                    <a:pt x="1885" y="1431"/>
                  </a:lnTo>
                  <a:lnTo>
                    <a:pt x="1892" y="1438"/>
                  </a:lnTo>
                  <a:lnTo>
                    <a:pt x="1899" y="1445"/>
                  </a:lnTo>
                  <a:lnTo>
                    <a:pt x="1906" y="1452"/>
                  </a:lnTo>
                  <a:lnTo>
                    <a:pt x="1913" y="1459"/>
                  </a:lnTo>
                  <a:lnTo>
                    <a:pt x="1913" y="1467"/>
                  </a:lnTo>
                  <a:lnTo>
                    <a:pt x="1920" y="1474"/>
                  </a:lnTo>
                  <a:lnTo>
                    <a:pt x="1920" y="1481"/>
                  </a:lnTo>
                  <a:lnTo>
                    <a:pt x="1927" y="1488"/>
                  </a:lnTo>
                  <a:lnTo>
                    <a:pt x="1927" y="1495"/>
                  </a:lnTo>
                  <a:lnTo>
                    <a:pt x="1934" y="1502"/>
                  </a:lnTo>
                  <a:lnTo>
                    <a:pt x="1941" y="1509"/>
                  </a:lnTo>
                  <a:lnTo>
                    <a:pt x="1941" y="1516"/>
                  </a:lnTo>
                  <a:lnTo>
                    <a:pt x="1948" y="1523"/>
                  </a:lnTo>
                  <a:lnTo>
                    <a:pt x="1948" y="1530"/>
                  </a:lnTo>
                  <a:lnTo>
                    <a:pt x="1956" y="1537"/>
                  </a:lnTo>
                  <a:lnTo>
                    <a:pt x="1956" y="1544"/>
                  </a:lnTo>
                  <a:lnTo>
                    <a:pt x="1963" y="1552"/>
                  </a:lnTo>
                  <a:lnTo>
                    <a:pt x="1963" y="1559"/>
                  </a:lnTo>
                  <a:lnTo>
                    <a:pt x="1970" y="1566"/>
                  </a:lnTo>
                  <a:lnTo>
                    <a:pt x="1970" y="1573"/>
                  </a:lnTo>
                  <a:lnTo>
                    <a:pt x="1977" y="1580"/>
                  </a:lnTo>
                  <a:lnTo>
                    <a:pt x="1977" y="1587"/>
                  </a:lnTo>
                  <a:lnTo>
                    <a:pt x="1984" y="1594"/>
                  </a:lnTo>
                  <a:lnTo>
                    <a:pt x="1991" y="1601"/>
                  </a:lnTo>
                  <a:lnTo>
                    <a:pt x="1991" y="1608"/>
                  </a:lnTo>
                  <a:lnTo>
                    <a:pt x="1998" y="1601"/>
                  </a:lnTo>
                  <a:lnTo>
                    <a:pt x="1998" y="1594"/>
                  </a:lnTo>
                  <a:lnTo>
                    <a:pt x="2005" y="1587"/>
                  </a:lnTo>
                  <a:lnTo>
                    <a:pt x="2005" y="1580"/>
                  </a:lnTo>
                  <a:lnTo>
                    <a:pt x="2012" y="1573"/>
                  </a:lnTo>
                  <a:lnTo>
                    <a:pt x="2012" y="1566"/>
                  </a:lnTo>
                  <a:lnTo>
                    <a:pt x="2019" y="1559"/>
                  </a:lnTo>
                  <a:lnTo>
                    <a:pt x="2026" y="1552"/>
                  </a:lnTo>
                  <a:lnTo>
                    <a:pt x="2026" y="1544"/>
                  </a:lnTo>
                  <a:lnTo>
                    <a:pt x="2034" y="1537"/>
                  </a:lnTo>
                  <a:lnTo>
                    <a:pt x="2034" y="1530"/>
                  </a:lnTo>
                  <a:lnTo>
                    <a:pt x="2041" y="1523"/>
                  </a:lnTo>
                  <a:lnTo>
                    <a:pt x="2048" y="1516"/>
                  </a:lnTo>
                  <a:lnTo>
                    <a:pt x="2055" y="1509"/>
                  </a:lnTo>
                  <a:lnTo>
                    <a:pt x="2062" y="1502"/>
                  </a:lnTo>
                  <a:lnTo>
                    <a:pt x="2069" y="1495"/>
                  </a:lnTo>
                  <a:lnTo>
                    <a:pt x="2069" y="1488"/>
                  </a:lnTo>
                  <a:lnTo>
                    <a:pt x="2076" y="1481"/>
                  </a:lnTo>
                  <a:lnTo>
                    <a:pt x="2083" y="1474"/>
                  </a:lnTo>
                  <a:lnTo>
                    <a:pt x="2090" y="1474"/>
                  </a:lnTo>
                  <a:lnTo>
                    <a:pt x="2097" y="1467"/>
                  </a:lnTo>
                  <a:lnTo>
                    <a:pt x="2104" y="1467"/>
                  </a:lnTo>
                  <a:lnTo>
                    <a:pt x="2111" y="1459"/>
                  </a:lnTo>
                  <a:lnTo>
                    <a:pt x="2119" y="1459"/>
                  </a:lnTo>
                  <a:lnTo>
                    <a:pt x="2126" y="1459"/>
                  </a:lnTo>
                  <a:lnTo>
                    <a:pt x="2133" y="1459"/>
                  </a:lnTo>
                  <a:lnTo>
                    <a:pt x="2140" y="1467"/>
                  </a:lnTo>
                  <a:lnTo>
                    <a:pt x="2147" y="1467"/>
                  </a:lnTo>
                  <a:lnTo>
                    <a:pt x="2154" y="1474"/>
                  </a:lnTo>
                  <a:lnTo>
                    <a:pt x="2161" y="1474"/>
                  </a:lnTo>
                  <a:lnTo>
                    <a:pt x="2168" y="1481"/>
                  </a:lnTo>
                  <a:lnTo>
                    <a:pt x="2175" y="1488"/>
                  </a:lnTo>
                  <a:lnTo>
                    <a:pt x="2182" y="1495"/>
                  </a:lnTo>
                  <a:lnTo>
                    <a:pt x="2189" y="1502"/>
                  </a:lnTo>
                  <a:lnTo>
                    <a:pt x="2197" y="1509"/>
                  </a:lnTo>
                  <a:lnTo>
                    <a:pt x="2204" y="1516"/>
                  </a:lnTo>
                  <a:lnTo>
                    <a:pt x="2211" y="1523"/>
                  </a:lnTo>
                  <a:lnTo>
                    <a:pt x="2218" y="1530"/>
                  </a:lnTo>
                  <a:lnTo>
                    <a:pt x="2225" y="1537"/>
                  </a:lnTo>
                  <a:lnTo>
                    <a:pt x="2232" y="1544"/>
                  </a:lnTo>
                  <a:lnTo>
                    <a:pt x="2239" y="1552"/>
                  </a:lnTo>
                  <a:lnTo>
                    <a:pt x="2239" y="1559"/>
                  </a:lnTo>
                  <a:lnTo>
                    <a:pt x="2246" y="1566"/>
                  </a:lnTo>
                  <a:lnTo>
                    <a:pt x="2253" y="1573"/>
                  </a:lnTo>
                  <a:lnTo>
                    <a:pt x="2253" y="1580"/>
                  </a:lnTo>
                  <a:lnTo>
                    <a:pt x="2260" y="1587"/>
                  </a:lnTo>
                  <a:lnTo>
                    <a:pt x="2267" y="1594"/>
                  </a:lnTo>
                  <a:lnTo>
                    <a:pt x="2267" y="1601"/>
                  </a:lnTo>
                  <a:lnTo>
                    <a:pt x="2274" y="1608"/>
                  </a:lnTo>
                </a:path>
              </a:pathLst>
            </a:cu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548480" y="1947600"/>
              <a:ext cx="166680" cy="1562040"/>
            </a:xfrm>
            <a:custGeom>
              <a:avLst/>
              <a:gdLst/>
              <a:ahLst/>
              <a:rect l="l" t="t" r="r" b="b"/>
              <a:pathLst>
                <a:path w="2274" h="1608">
                  <a:moveTo>
                    <a:pt x="0" y="1608"/>
                  </a:moveTo>
                  <a:lnTo>
                    <a:pt x="7" y="1601"/>
                  </a:lnTo>
                  <a:lnTo>
                    <a:pt x="14" y="1594"/>
                  </a:lnTo>
                  <a:lnTo>
                    <a:pt x="14" y="1587"/>
                  </a:lnTo>
                  <a:lnTo>
                    <a:pt x="21" y="1580"/>
                  </a:lnTo>
                  <a:lnTo>
                    <a:pt x="28" y="1573"/>
                  </a:lnTo>
                  <a:lnTo>
                    <a:pt x="28" y="1566"/>
                  </a:lnTo>
                  <a:lnTo>
                    <a:pt x="35" y="1559"/>
                  </a:lnTo>
                  <a:lnTo>
                    <a:pt x="42" y="1552"/>
                  </a:lnTo>
                  <a:lnTo>
                    <a:pt x="49" y="1544"/>
                  </a:lnTo>
                  <a:lnTo>
                    <a:pt x="49" y="1537"/>
                  </a:lnTo>
                  <a:lnTo>
                    <a:pt x="56" y="1530"/>
                  </a:lnTo>
                  <a:lnTo>
                    <a:pt x="63" y="1523"/>
                  </a:lnTo>
                  <a:lnTo>
                    <a:pt x="71" y="1516"/>
                  </a:lnTo>
                  <a:lnTo>
                    <a:pt x="78" y="1509"/>
                  </a:lnTo>
                  <a:lnTo>
                    <a:pt x="85" y="1502"/>
                  </a:lnTo>
                  <a:lnTo>
                    <a:pt x="92" y="1495"/>
                  </a:lnTo>
                  <a:lnTo>
                    <a:pt x="99" y="1488"/>
                  </a:lnTo>
                  <a:lnTo>
                    <a:pt x="106" y="1481"/>
                  </a:lnTo>
                  <a:lnTo>
                    <a:pt x="113" y="1474"/>
                  </a:lnTo>
                  <a:lnTo>
                    <a:pt x="120" y="1467"/>
                  </a:lnTo>
                  <a:lnTo>
                    <a:pt x="127" y="1467"/>
                  </a:lnTo>
                  <a:lnTo>
                    <a:pt x="134" y="1459"/>
                  </a:lnTo>
                  <a:lnTo>
                    <a:pt x="141" y="1459"/>
                  </a:lnTo>
                  <a:lnTo>
                    <a:pt x="148" y="1459"/>
                  </a:lnTo>
                  <a:lnTo>
                    <a:pt x="156" y="1459"/>
                  </a:lnTo>
                  <a:lnTo>
                    <a:pt x="163" y="1467"/>
                  </a:lnTo>
                  <a:lnTo>
                    <a:pt x="170" y="1467"/>
                  </a:lnTo>
                  <a:lnTo>
                    <a:pt x="177" y="1467"/>
                  </a:lnTo>
                  <a:lnTo>
                    <a:pt x="184" y="1474"/>
                  </a:lnTo>
                  <a:lnTo>
                    <a:pt x="191" y="1481"/>
                  </a:lnTo>
                  <a:lnTo>
                    <a:pt x="198" y="1481"/>
                  </a:lnTo>
                  <a:lnTo>
                    <a:pt x="205" y="1488"/>
                  </a:lnTo>
                  <a:lnTo>
                    <a:pt x="212" y="1495"/>
                  </a:lnTo>
                  <a:lnTo>
                    <a:pt x="219" y="1502"/>
                  </a:lnTo>
                  <a:lnTo>
                    <a:pt x="226" y="1509"/>
                  </a:lnTo>
                  <a:lnTo>
                    <a:pt x="234" y="1516"/>
                  </a:lnTo>
                  <a:lnTo>
                    <a:pt x="234" y="1523"/>
                  </a:lnTo>
                  <a:lnTo>
                    <a:pt x="241" y="1530"/>
                  </a:lnTo>
                  <a:lnTo>
                    <a:pt x="241" y="1537"/>
                  </a:lnTo>
                  <a:lnTo>
                    <a:pt x="248" y="1544"/>
                  </a:lnTo>
                  <a:lnTo>
                    <a:pt x="255" y="1552"/>
                  </a:lnTo>
                  <a:lnTo>
                    <a:pt x="255" y="1559"/>
                  </a:lnTo>
                  <a:lnTo>
                    <a:pt x="262" y="1566"/>
                  </a:lnTo>
                  <a:lnTo>
                    <a:pt x="269" y="1573"/>
                  </a:lnTo>
                  <a:lnTo>
                    <a:pt x="269" y="1580"/>
                  </a:lnTo>
                  <a:lnTo>
                    <a:pt x="276" y="1587"/>
                  </a:lnTo>
                  <a:lnTo>
                    <a:pt x="276" y="1594"/>
                  </a:lnTo>
                  <a:lnTo>
                    <a:pt x="283" y="1601"/>
                  </a:lnTo>
                  <a:lnTo>
                    <a:pt x="283" y="1608"/>
                  </a:lnTo>
                  <a:lnTo>
                    <a:pt x="290" y="1601"/>
                  </a:lnTo>
                  <a:lnTo>
                    <a:pt x="290" y="1594"/>
                  </a:lnTo>
                  <a:lnTo>
                    <a:pt x="297" y="1587"/>
                  </a:lnTo>
                  <a:lnTo>
                    <a:pt x="297" y="1580"/>
                  </a:lnTo>
                  <a:lnTo>
                    <a:pt x="304" y="1573"/>
                  </a:lnTo>
                  <a:lnTo>
                    <a:pt x="304" y="1566"/>
                  </a:lnTo>
                  <a:lnTo>
                    <a:pt x="311" y="1559"/>
                  </a:lnTo>
                  <a:lnTo>
                    <a:pt x="319" y="1552"/>
                  </a:lnTo>
                  <a:lnTo>
                    <a:pt x="319" y="1544"/>
                  </a:lnTo>
                  <a:lnTo>
                    <a:pt x="319" y="1537"/>
                  </a:lnTo>
                  <a:lnTo>
                    <a:pt x="326" y="1530"/>
                  </a:lnTo>
                  <a:lnTo>
                    <a:pt x="326" y="1523"/>
                  </a:lnTo>
                  <a:lnTo>
                    <a:pt x="333" y="1516"/>
                  </a:lnTo>
                  <a:lnTo>
                    <a:pt x="340" y="1509"/>
                  </a:lnTo>
                  <a:lnTo>
                    <a:pt x="340" y="1502"/>
                  </a:lnTo>
                  <a:lnTo>
                    <a:pt x="347" y="1495"/>
                  </a:lnTo>
                  <a:lnTo>
                    <a:pt x="347" y="1488"/>
                  </a:lnTo>
                  <a:lnTo>
                    <a:pt x="354" y="1481"/>
                  </a:lnTo>
                  <a:lnTo>
                    <a:pt x="354" y="1474"/>
                  </a:lnTo>
                  <a:lnTo>
                    <a:pt x="361" y="1467"/>
                  </a:lnTo>
                  <a:lnTo>
                    <a:pt x="368" y="1459"/>
                  </a:lnTo>
                  <a:lnTo>
                    <a:pt x="375" y="1452"/>
                  </a:lnTo>
                  <a:lnTo>
                    <a:pt x="375" y="1445"/>
                  </a:lnTo>
                  <a:lnTo>
                    <a:pt x="382" y="1438"/>
                  </a:lnTo>
                  <a:lnTo>
                    <a:pt x="389" y="1431"/>
                  </a:lnTo>
                  <a:lnTo>
                    <a:pt x="397" y="1424"/>
                  </a:lnTo>
                  <a:lnTo>
                    <a:pt x="404" y="1417"/>
                  </a:lnTo>
                  <a:lnTo>
                    <a:pt x="411" y="1410"/>
                  </a:lnTo>
                  <a:lnTo>
                    <a:pt x="418" y="1403"/>
                  </a:lnTo>
                  <a:lnTo>
                    <a:pt x="425" y="1403"/>
                  </a:lnTo>
                  <a:lnTo>
                    <a:pt x="432" y="1403"/>
                  </a:lnTo>
                  <a:lnTo>
                    <a:pt x="439" y="1403"/>
                  </a:lnTo>
                  <a:lnTo>
                    <a:pt x="446" y="1403"/>
                  </a:lnTo>
                  <a:lnTo>
                    <a:pt x="453" y="1403"/>
                  </a:lnTo>
                  <a:lnTo>
                    <a:pt x="460" y="1410"/>
                  </a:lnTo>
                  <a:lnTo>
                    <a:pt x="467" y="1417"/>
                  </a:lnTo>
                  <a:lnTo>
                    <a:pt x="474" y="1424"/>
                  </a:lnTo>
                  <a:lnTo>
                    <a:pt x="482" y="1431"/>
                  </a:lnTo>
                  <a:lnTo>
                    <a:pt x="489" y="1438"/>
                  </a:lnTo>
                  <a:lnTo>
                    <a:pt x="496" y="1445"/>
                  </a:lnTo>
                  <a:lnTo>
                    <a:pt x="503" y="1452"/>
                  </a:lnTo>
                  <a:lnTo>
                    <a:pt x="503" y="1459"/>
                  </a:lnTo>
                  <a:lnTo>
                    <a:pt x="510" y="1467"/>
                  </a:lnTo>
                  <a:lnTo>
                    <a:pt x="510" y="1474"/>
                  </a:lnTo>
                  <a:lnTo>
                    <a:pt x="517" y="1481"/>
                  </a:lnTo>
                  <a:lnTo>
                    <a:pt x="517" y="1488"/>
                  </a:lnTo>
                  <a:lnTo>
                    <a:pt x="524" y="1495"/>
                  </a:lnTo>
                  <a:lnTo>
                    <a:pt x="524" y="1502"/>
                  </a:lnTo>
                  <a:lnTo>
                    <a:pt x="531" y="1509"/>
                  </a:lnTo>
                  <a:lnTo>
                    <a:pt x="531" y="1516"/>
                  </a:lnTo>
                  <a:lnTo>
                    <a:pt x="538" y="1523"/>
                  </a:lnTo>
                  <a:lnTo>
                    <a:pt x="538" y="1530"/>
                  </a:lnTo>
                  <a:lnTo>
                    <a:pt x="538" y="1537"/>
                  </a:lnTo>
                  <a:lnTo>
                    <a:pt x="545" y="1544"/>
                  </a:lnTo>
                  <a:lnTo>
                    <a:pt x="545" y="1552"/>
                  </a:lnTo>
                  <a:lnTo>
                    <a:pt x="552" y="1559"/>
                  </a:lnTo>
                  <a:lnTo>
                    <a:pt x="552" y="1566"/>
                  </a:lnTo>
                  <a:lnTo>
                    <a:pt x="552" y="1573"/>
                  </a:lnTo>
                  <a:lnTo>
                    <a:pt x="560" y="1580"/>
                  </a:lnTo>
                  <a:lnTo>
                    <a:pt x="560" y="1587"/>
                  </a:lnTo>
                  <a:lnTo>
                    <a:pt x="567" y="1594"/>
                  </a:lnTo>
                  <a:lnTo>
                    <a:pt x="567" y="1601"/>
                  </a:lnTo>
                  <a:lnTo>
                    <a:pt x="567" y="1608"/>
                  </a:lnTo>
                  <a:lnTo>
                    <a:pt x="574" y="1601"/>
                  </a:lnTo>
                  <a:lnTo>
                    <a:pt x="574" y="1594"/>
                  </a:lnTo>
                  <a:lnTo>
                    <a:pt x="574" y="1587"/>
                  </a:lnTo>
                  <a:lnTo>
                    <a:pt x="581" y="1580"/>
                  </a:lnTo>
                  <a:lnTo>
                    <a:pt x="581" y="1573"/>
                  </a:lnTo>
                  <a:lnTo>
                    <a:pt x="581" y="1566"/>
                  </a:lnTo>
                  <a:lnTo>
                    <a:pt x="588" y="1559"/>
                  </a:lnTo>
                  <a:lnTo>
                    <a:pt x="588" y="1552"/>
                  </a:lnTo>
                  <a:lnTo>
                    <a:pt x="588" y="1544"/>
                  </a:lnTo>
                  <a:lnTo>
                    <a:pt x="595" y="1537"/>
                  </a:lnTo>
                  <a:lnTo>
                    <a:pt x="595" y="1530"/>
                  </a:lnTo>
                  <a:lnTo>
                    <a:pt x="595" y="1523"/>
                  </a:lnTo>
                  <a:lnTo>
                    <a:pt x="602" y="1516"/>
                  </a:lnTo>
                  <a:lnTo>
                    <a:pt x="602" y="1509"/>
                  </a:lnTo>
                  <a:lnTo>
                    <a:pt x="602" y="1502"/>
                  </a:lnTo>
                  <a:lnTo>
                    <a:pt x="609" y="1495"/>
                  </a:lnTo>
                  <a:lnTo>
                    <a:pt x="609" y="1488"/>
                  </a:lnTo>
                  <a:lnTo>
                    <a:pt x="616" y="1481"/>
                  </a:lnTo>
                  <a:lnTo>
                    <a:pt x="616" y="1474"/>
                  </a:lnTo>
                  <a:lnTo>
                    <a:pt x="616" y="1467"/>
                  </a:lnTo>
                  <a:lnTo>
                    <a:pt x="616" y="1459"/>
                  </a:lnTo>
                  <a:lnTo>
                    <a:pt x="623" y="1452"/>
                  </a:lnTo>
                  <a:lnTo>
                    <a:pt x="623" y="1445"/>
                  </a:lnTo>
                  <a:lnTo>
                    <a:pt x="623" y="1438"/>
                  </a:lnTo>
                  <a:lnTo>
                    <a:pt x="630" y="1431"/>
                  </a:lnTo>
                  <a:lnTo>
                    <a:pt x="630" y="1424"/>
                  </a:lnTo>
                  <a:lnTo>
                    <a:pt x="637" y="1417"/>
                  </a:lnTo>
                  <a:lnTo>
                    <a:pt x="637" y="1410"/>
                  </a:lnTo>
                  <a:lnTo>
                    <a:pt x="637" y="1403"/>
                  </a:lnTo>
                  <a:lnTo>
                    <a:pt x="645" y="1396"/>
                  </a:lnTo>
                  <a:lnTo>
                    <a:pt x="645" y="1389"/>
                  </a:lnTo>
                  <a:lnTo>
                    <a:pt x="652" y="1382"/>
                  </a:lnTo>
                  <a:lnTo>
                    <a:pt x="652" y="1374"/>
                  </a:lnTo>
                  <a:lnTo>
                    <a:pt x="652" y="1367"/>
                  </a:lnTo>
                  <a:lnTo>
                    <a:pt x="652" y="1360"/>
                  </a:lnTo>
                  <a:lnTo>
                    <a:pt x="659" y="1353"/>
                  </a:lnTo>
                  <a:lnTo>
                    <a:pt x="659" y="1346"/>
                  </a:lnTo>
                  <a:lnTo>
                    <a:pt x="666" y="1339"/>
                  </a:lnTo>
                  <a:lnTo>
                    <a:pt x="666" y="1332"/>
                  </a:lnTo>
                  <a:lnTo>
                    <a:pt x="673" y="1325"/>
                  </a:lnTo>
                  <a:lnTo>
                    <a:pt x="673" y="1318"/>
                  </a:lnTo>
                  <a:lnTo>
                    <a:pt x="680" y="1311"/>
                  </a:lnTo>
                  <a:lnTo>
                    <a:pt x="687" y="1304"/>
                  </a:lnTo>
                  <a:lnTo>
                    <a:pt x="687" y="1296"/>
                  </a:lnTo>
                  <a:lnTo>
                    <a:pt x="694" y="1289"/>
                  </a:lnTo>
                  <a:lnTo>
                    <a:pt x="694" y="1282"/>
                  </a:lnTo>
                  <a:lnTo>
                    <a:pt x="701" y="1275"/>
                  </a:lnTo>
                  <a:lnTo>
                    <a:pt x="708" y="1268"/>
                  </a:lnTo>
                  <a:lnTo>
                    <a:pt x="715" y="1261"/>
                  </a:lnTo>
                  <a:lnTo>
                    <a:pt x="723" y="1261"/>
                  </a:lnTo>
                  <a:lnTo>
                    <a:pt x="730" y="1261"/>
                  </a:lnTo>
                  <a:lnTo>
                    <a:pt x="737" y="1261"/>
                  </a:lnTo>
                  <a:lnTo>
                    <a:pt x="744" y="1261"/>
                  </a:lnTo>
                  <a:lnTo>
                    <a:pt x="751" y="1268"/>
                  </a:lnTo>
                  <a:lnTo>
                    <a:pt x="758" y="1275"/>
                  </a:lnTo>
                  <a:lnTo>
                    <a:pt x="765" y="1282"/>
                  </a:lnTo>
                  <a:lnTo>
                    <a:pt x="765" y="1289"/>
                  </a:lnTo>
                  <a:lnTo>
                    <a:pt x="772" y="1296"/>
                  </a:lnTo>
                  <a:lnTo>
                    <a:pt x="772" y="1304"/>
                  </a:lnTo>
                  <a:lnTo>
                    <a:pt x="779" y="1311"/>
                  </a:lnTo>
                  <a:lnTo>
                    <a:pt x="779" y="1318"/>
                  </a:lnTo>
                  <a:lnTo>
                    <a:pt x="786" y="1325"/>
                  </a:lnTo>
                  <a:lnTo>
                    <a:pt x="786" y="1332"/>
                  </a:lnTo>
                  <a:lnTo>
                    <a:pt x="793" y="1339"/>
                  </a:lnTo>
                  <a:lnTo>
                    <a:pt x="793" y="1346"/>
                  </a:lnTo>
                  <a:lnTo>
                    <a:pt x="793" y="1353"/>
                  </a:lnTo>
                  <a:lnTo>
                    <a:pt x="800" y="1360"/>
                  </a:lnTo>
                  <a:lnTo>
                    <a:pt x="800" y="1367"/>
                  </a:lnTo>
                  <a:lnTo>
                    <a:pt x="800" y="1374"/>
                  </a:lnTo>
                  <a:lnTo>
                    <a:pt x="800" y="1382"/>
                  </a:lnTo>
                  <a:lnTo>
                    <a:pt x="808" y="1389"/>
                  </a:lnTo>
                  <a:lnTo>
                    <a:pt x="808" y="1403"/>
                  </a:lnTo>
                  <a:lnTo>
                    <a:pt x="808" y="1410"/>
                  </a:lnTo>
                  <a:lnTo>
                    <a:pt x="815" y="1417"/>
                  </a:lnTo>
                  <a:lnTo>
                    <a:pt x="815" y="1424"/>
                  </a:lnTo>
                  <a:lnTo>
                    <a:pt x="815" y="1431"/>
                  </a:lnTo>
                  <a:lnTo>
                    <a:pt x="822" y="1445"/>
                  </a:lnTo>
                  <a:lnTo>
                    <a:pt x="822" y="1452"/>
                  </a:lnTo>
                  <a:lnTo>
                    <a:pt x="822" y="1459"/>
                  </a:lnTo>
                  <a:lnTo>
                    <a:pt x="829" y="1474"/>
                  </a:lnTo>
                  <a:lnTo>
                    <a:pt x="829" y="1481"/>
                  </a:lnTo>
                  <a:lnTo>
                    <a:pt x="829" y="1495"/>
                  </a:lnTo>
                  <a:lnTo>
                    <a:pt x="836" y="1502"/>
                  </a:lnTo>
                  <a:lnTo>
                    <a:pt x="836" y="1516"/>
                  </a:lnTo>
                  <a:lnTo>
                    <a:pt x="836" y="1523"/>
                  </a:lnTo>
                  <a:lnTo>
                    <a:pt x="836" y="1537"/>
                  </a:lnTo>
                  <a:lnTo>
                    <a:pt x="843" y="1544"/>
                  </a:lnTo>
                  <a:lnTo>
                    <a:pt x="843" y="1559"/>
                  </a:lnTo>
                  <a:lnTo>
                    <a:pt x="843" y="1573"/>
                  </a:lnTo>
                  <a:lnTo>
                    <a:pt x="850" y="1587"/>
                  </a:lnTo>
                  <a:lnTo>
                    <a:pt x="850" y="1594"/>
                  </a:lnTo>
                  <a:lnTo>
                    <a:pt x="850" y="1608"/>
                  </a:lnTo>
                  <a:lnTo>
                    <a:pt x="857" y="1594"/>
                  </a:lnTo>
                  <a:lnTo>
                    <a:pt x="857" y="1580"/>
                  </a:lnTo>
                  <a:lnTo>
                    <a:pt x="857" y="1573"/>
                  </a:lnTo>
                  <a:lnTo>
                    <a:pt x="864" y="1559"/>
                  </a:lnTo>
                  <a:lnTo>
                    <a:pt x="864" y="1544"/>
                  </a:lnTo>
                  <a:lnTo>
                    <a:pt x="864" y="1530"/>
                  </a:lnTo>
                  <a:lnTo>
                    <a:pt x="871" y="1516"/>
                  </a:lnTo>
                  <a:lnTo>
                    <a:pt x="871" y="1502"/>
                  </a:lnTo>
                  <a:lnTo>
                    <a:pt x="871" y="1488"/>
                  </a:lnTo>
                  <a:lnTo>
                    <a:pt x="878" y="1474"/>
                  </a:lnTo>
                  <a:lnTo>
                    <a:pt x="878" y="1459"/>
                  </a:lnTo>
                  <a:lnTo>
                    <a:pt x="878" y="1445"/>
                  </a:lnTo>
                  <a:lnTo>
                    <a:pt x="878" y="1431"/>
                  </a:lnTo>
                  <a:lnTo>
                    <a:pt x="885" y="1417"/>
                  </a:lnTo>
                  <a:lnTo>
                    <a:pt x="885" y="1403"/>
                  </a:lnTo>
                  <a:lnTo>
                    <a:pt x="885" y="1382"/>
                  </a:lnTo>
                  <a:lnTo>
                    <a:pt x="893" y="1367"/>
                  </a:lnTo>
                  <a:lnTo>
                    <a:pt x="893" y="1353"/>
                  </a:lnTo>
                  <a:lnTo>
                    <a:pt x="893" y="1339"/>
                  </a:lnTo>
                  <a:lnTo>
                    <a:pt x="900" y="1325"/>
                  </a:lnTo>
                  <a:lnTo>
                    <a:pt x="900" y="1304"/>
                  </a:lnTo>
                  <a:lnTo>
                    <a:pt x="900" y="1289"/>
                  </a:lnTo>
                  <a:lnTo>
                    <a:pt x="907" y="1275"/>
                  </a:lnTo>
                  <a:lnTo>
                    <a:pt x="907" y="1261"/>
                  </a:lnTo>
                  <a:lnTo>
                    <a:pt x="907" y="1240"/>
                  </a:lnTo>
                  <a:lnTo>
                    <a:pt x="914" y="1226"/>
                  </a:lnTo>
                  <a:lnTo>
                    <a:pt x="914" y="1211"/>
                  </a:lnTo>
                  <a:lnTo>
                    <a:pt x="914" y="1190"/>
                  </a:lnTo>
                  <a:lnTo>
                    <a:pt x="914" y="1176"/>
                  </a:lnTo>
                  <a:lnTo>
                    <a:pt x="921" y="1162"/>
                  </a:lnTo>
                  <a:lnTo>
                    <a:pt x="921" y="1141"/>
                  </a:lnTo>
                  <a:lnTo>
                    <a:pt x="921" y="1126"/>
                  </a:lnTo>
                  <a:lnTo>
                    <a:pt x="928" y="1105"/>
                  </a:lnTo>
                  <a:lnTo>
                    <a:pt x="928" y="1091"/>
                  </a:lnTo>
                  <a:lnTo>
                    <a:pt x="928" y="1077"/>
                  </a:lnTo>
                  <a:lnTo>
                    <a:pt x="935" y="1056"/>
                  </a:lnTo>
                  <a:lnTo>
                    <a:pt x="935" y="1041"/>
                  </a:lnTo>
                  <a:lnTo>
                    <a:pt x="935" y="1020"/>
                  </a:lnTo>
                  <a:lnTo>
                    <a:pt x="942" y="1006"/>
                  </a:lnTo>
                  <a:lnTo>
                    <a:pt x="942" y="992"/>
                  </a:lnTo>
                  <a:lnTo>
                    <a:pt x="942" y="971"/>
                  </a:lnTo>
                  <a:lnTo>
                    <a:pt x="949" y="956"/>
                  </a:lnTo>
                  <a:lnTo>
                    <a:pt x="949" y="935"/>
                  </a:lnTo>
                  <a:lnTo>
                    <a:pt x="949" y="921"/>
                  </a:lnTo>
                  <a:lnTo>
                    <a:pt x="949" y="900"/>
                  </a:lnTo>
                  <a:lnTo>
                    <a:pt x="956" y="886"/>
                  </a:lnTo>
                  <a:lnTo>
                    <a:pt x="956" y="871"/>
                  </a:lnTo>
                  <a:lnTo>
                    <a:pt x="956" y="850"/>
                  </a:lnTo>
                  <a:lnTo>
                    <a:pt x="963" y="836"/>
                  </a:lnTo>
                  <a:lnTo>
                    <a:pt x="963" y="815"/>
                  </a:lnTo>
                  <a:lnTo>
                    <a:pt x="963" y="800"/>
                  </a:lnTo>
                  <a:lnTo>
                    <a:pt x="971" y="786"/>
                  </a:lnTo>
                  <a:lnTo>
                    <a:pt x="971" y="765"/>
                  </a:lnTo>
                  <a:lnTo>
                    <a:pt x="971" y="751"/>
                  </a:lnTo>
                  <a:lnTo>
                    <a:pt x="978" y="730"/>
                  </a:lnTo>
                  <a:lnTo>
                    <a:pt x="978" y="715"/>
                  </a:lnTo>
                  <a:lnTo>
                    <a:pt x="978" y="701"/>
                  </a:lnTo>
                  <a:lnTo>
                    <a:pt x="985" y="680"/>
                  </a:lnTo>
                  <a:lnTo>
                    <a:pt x="985" y="666"/>
                  </a:lnTo>
                  <a:lnTo>
                    <a:pt x="985" y="652"/>
                  </a:lnTo>
                  <a:lnTo>
                    <a:pt x="985" y="630"/>
                  </a:lnTo>
                  <a:lnTo>
                    <a:pt x="992" y="616"/>
                  </a:lnTo>
                  <a:lnTo>
                    <a:pt x="992" y="602"/>
                  </a:lnTo>
                  <a:lnTo>
                    <a:pt x="992" y="581"/>
                  </a:lnTo>
                  <a:lnTo>
                    <a:pt x="999" y="567"/>
                  </a:lnTo>
                  <a:lnTo>
                    <a:pt x="999" y="552"/>
                  </a:lnTo>
                  <a:lnTo>
                    <a:pt x="999" y="538"/>
                  </a:lnTo>
                  <a:lnTo>
                    <a:pt x="1006" y="524"/>
                  </a:lnTo>
                  <a:lnTo>
                    <a:pt x="1006" y="503"/>
                  </a:lnTo>
                  <a:lnTo>
                    <a:pt x="1006" y="489"/>
                  </a:lnTo>
                  <a:lnTo>
                    <a:pt x="1013" y="475"/>
                  </a:lnTo>
                  <a:lnTo>
                    <a:pt x="1013" y="460"/>
                  </a:lnTo>
                  <a:lnTo>
                    <a:pt x="1013" y="446"/>
                  </a:lnTo>
                  <a:lnTo>
                    <a:pt x="1020" y="432"/>
                  </a:lnTo>
                  <a:lnTo>
                    <a:pt x="1020" y="418"/>
                  </a:lnTo>
                  <a:lnTo>
                    <a:pt x="1020" y="404"/>
                  </a:lnTo>
                  <a:lnTo>
                    <a:pt x="1027" y="390"/>
                  </a:lnTo>
                  <a:lnTo>
                    <a:pt x="1027" y="375"/>
                  </a:lnTo>
                  <a:lnTo>
                    <a:pt x="1027" y="361"/>
                  </a:lnTo>
                  <a:lnTo>
                    <a:pt x="1027" y="347"/>
                  </a:lnTo>
                  <a:lnTo>
                    <a:pt x="1034" y="333"/>
                  </a:lnTo>
                  <a:lnTo>
                    <a:pt x="1034" y="319"/>
                  </a:lnTo>
                  <a:lnTo>
                    <a:pt x="1034" y="304"/>
                  </a:lnTo>
                  <a:lnTo>
                    <a:pt x="1041" y="297"/>
                  </a:lnTo>
                  <a:lnTo>
                    <a:pt x="1041" y="283"/>
                  </a:lnTo>
                  <a:lnTo>
                    <a:pt x="1041" y="269"/>
                  </a:lnTo>
                  <a:lnTo>
                    <a:pt x="1048" y="255"/>
                  </a:lnTo>
                  <a:lnTo>
                    <a:pt x="1048" y="248"/>
                  </a:lnTo>
                  <a:lnTo>
                    <a:pt x="1048" y="234"/>
                  </a:lnTo>
                  <a:lnTo>
                    <a:pt x="1056" y="227"/>
                  </a:lnTo>
                  <a:lnTo>
                    <a:pt x="1056" y="212"/>
                  </a:lnTo>
                  <a:lnTo>
                    <a:pt x="1056" y="198"/>
                  </a:lnTo>
                  <a:lnTo>
                    <a:pt x="1063" y="191"/>
                  </a:lnTo>
                  <a:lnTo>
                    <a:pt x="1063" y="177"/>
                  </a:lnTo>
                  <a:lnTo>
                    <a:pt x="1063" y="170"/>
                  </a:lnTo>
                  <a:lnTo>
                    <a:pt x="1063" y="163"/>
                  </a:lnTo>
                  <a:lnTo>
                    <a:pt x="1070" y="149"/>
                  </a:lnTo>
                  <a:lnTo>
                    <a:pt x="1070" y="142"/>
                  </a:lnTo>
                  <a:lnTo>
                    <a:pt x="1070" y="134"/>
                  </a:lnTo>
                  <a:lnTo>
                    <a:pt x="1077" y="120"/>
                  </a:lnTo>
                  <a:lnTo>
                    <a:pt x="1077" y="113"/>
                  </a:lnTo>
                  <a:lnTo>
                    <a:pt x="1077" y="106"/>
                  </a:lnTo>
                  <a:lnTo>
                    <a:pt x="1084" y="99"/>
                  </a:lnTo>
                  <a:lnTo>
                    <a:pt x="1084" y="92"/>
                  </a:lnTo>
                  <a:lnTo>
                    <a:pt x="1084" y="85"/>
                  </a:lnTo>
                  <a:lnTo>
                    <a:pt x="1091" y="78"/>
                  </a:lnTo>
                  <a:lnTo>
                    <a:pt x="1091" y="71"/>
                  </a:lnTo>
                  <a:lnTo>
                    <a:pt x="1091" y="64"/>
                  </a:lnTo>
                  <a:lnTo>
                    <a:pt x="1098" y="56"/>
                  </a:lnTo>
                  <a:lnTo>
                    <a:pt x="1098" y="49"/>
                  </a:lnTo>
                  <a:lnTo>
                    <a:pt x="1098" y="42"/>
                  </a:lnTo>
                  <a:lnTo>
                    <a:pt x="1105" y="35"/>
                  </a:lnTo>
                  <a:lnTo>
                    <a:pt x="1105" y="28"/>
                  </a:lnTo>
                  <a:lnTo>
                    <a:pt x="1112" y="21"/>
                  </a:lnTo>
                  <a:lnTo>
                    <a:pt x="1119" y="14"/>
                  </a:lnTo>
                  <a:lnTo>
                    <a:pt x="1126" y="7"/>
                  </a:lnTo>
                  <a:lnTo>
                    <a:pt x="1134" y="0"/>
                  </a:lnTo>
                  <a:lnTo>
                    <a:pt x="1141" y="0"/>
                  </a:lnTo>
                  <a:lnTo>
                    <a:pt x="1148" y="7"/>
                  </a:lnTo>
                  <a:lnTo>
                    <a:pt x="1155" y="14"/>
                  </a:lnTo>
                  <a:lnTo>
                    <a:pt x="1162" y="21"/>
                  </a:lnTo>
                  <a:lnTo>
                    <a:pt x="1169" y="28"/>
                  </a:lnTo>
                  <a:lnTo>
                    <a:pt x="1169" y="35"/>
                  </a:lnTo>
                  <a:lnTo>
                    <a:pt x="1176" y="42"/>
                  </a:lnTo>
                  <a:lnTo>
                    <a:pt x="1176" y="49"/>
                  </a:lnTo>
                  <a:lnTo>
                    <a:pt x="1176" y="56"/>
                  </a:lnTo>
                  <a:lnTo>
                    <a:pt x="1183" y="64"/>
                  </a:lnTo>
                  <a:lnTo>
                    <a:pt x="1183" y="71"/>
                  </a:lnTo>
                  <a:lnTo>
                    <a:pt x="1183" y="78"/>
                  </a:lnTo>
                  <a:lnTo>
                    <a:pt x="1190" y="85"/>
                  </a:lnTo>
                  <a:lnTo>
                    <a:pt x="1190" y="92"/>
                  </a:lnTo>
                  <a:lnTo>
                    <a:pt x="1190" y="99"/>
                  </a:lnTo>
                  <a:lnTo>
                    <a:pt x="1197" y="106"/>
                  </a:lnTo>
                  <a:lnTo>
                    <a:pt x="1197" y="113"/>
                  </a:lnTo>
                  <a:lnTo>
                    <a:pt x="1197" y="120"/>
                  </a:lnTo>
                  <a:lnTo>
                    <a:pt x="1204" y="134"/>
                  </a:lnTo>
                  <a:lnTo>
                    <a:pt x="1204" y="142"/>
                  </a:lnTo>
                  <a:lnTo>
                    <a:pt x="1204" y="149"/>
                  </a:lnTo>
                  <a:lnTo>
                    <a:pt x="1211" y="163"/>
                  </a:lnTo>
                  <a:lnTo>
                    <a:pt x="1211" y="170"/>
                  </a:lnTo>
                  <a:lnTo>
                    <a:pt x="1211" y="177"/>
                  </a:lnTo>
                  <a:lnTo>
                    <a:pt x="1211" y="191"/>
                  </a:lnTo>
                  <a:lnTo>
                    <a:pt x="1219" y="198"/>
                  </a:lnTo>
                  <a:lnTo>
                    <a:pt x="1219" y="212"/>
                  </a:lnTo>
                  <a:lnTo>
                    <a:pt x="1219" y="227"/>
                  </a:lnTo>
                  <a:lnTo>
                    <a:pt x="1226" y="234"/>
                  </a:lnTo>
                  <a:lnTo>
                    <a:pt x="1226" y="248"/>
                  </a:lnTo>
                  <a:lnTo>
                    <a:pt x="1226" y="255"/>
                  </a:lnTo>
                  <a:lnTo>
                    <a:pt x="1233" y="269"/>
                  </a:lnTo>
                  <a:lnTo>
                    <a:pt x="1233" y="283"/>
                  </a:lnTo>
                  <a:lnTo>
                    <a:pt x="1233" y="297"/>
                  </a:lnTo>
                  <a:lnTo>
                    <a:pt x="1240" y="304"/>
                  </a:lnTo>
                  <a:lnTo>
                    <a:pt x="1240" y="319"/>
                  </a:lnTo>
                  <a:lnTo>
                    <a:pt x="1240" y="333"/>
                  </a:lnTo>
                  <a:lnTo>
                    <a:pt x="1247" y="347"/>
                  </a:lnTo>
                  <a:lnTo>
                    <a:pt x="1247" y="361"/>
                  </a:lnTo>
                  <a:lnTo>
                    <a:pt x="1247" y="375"/>
                  </a:lnTo>
                  <a:lnTo>
                    <a:pt x="1247" y="390"/>
                  </a:lnTo>
                  <a:lnTo>
                    <a:pt x="1254" y="404"/>
                  </a:lnTo>
                  <a:lnTo>
                    <a:pt x="1254" y="418"/>
                  </a:lnTo>
                  <a:lnTo>
                    <a:pt x="1254" y="432"/>
                  </a:lnTo>
                  <a:lnTo>
                    <a:pt x="1261" y="446"/>
                  </a:lnTo>
                  <a:lnTo>
                    <a:pt x="1261" y="460"/>
                  </a:lnTo>
                  <a:lnTo>
                    <a:pt x="1261" y="475"/>
                  </a:lnTo>
                  <a:lnTo>
                    <a:pt x="1268" y="489"/>
                  </a:lnTo>
                  <a:lnTo>
                    <a:pt x="1268" y="503"/>
                  </a:lnTo>
                  <a:lnTo>
                    <a:pt x="1268" y="524"/>
                  </a:lnTo>
                  <a:lnTo>
                    <a:pt x="1275" y="538"/>
                  </a:lnTo>
                  <a:lnTo>
                    <a:pt x="1275" y="552"/>
                  </a:lnTo>
                  <a:lnTo>
                    <a:pt x="1275" y="567"/>
                  </a:lnTo>
                  <a:lnTo>
                    <a:pt x="1282" y="581"/>
                  </a:lnTo>
                  <a:lnTo>
                    <a:pt x="1282" y="602"/>
                  </a:lnTo>
                  <a:lnTo>
                    <a:pt x="1282" y="616"/>
                  </a:lnTo>
                  <a:lnTo>
                    <a:pt x="1289" y="630"/>
                  </a:lnTo>
                  <a:lnTo>
                    <a:pt x="1289" y="652"/>
                  </a:lnTo>
                  <a:lnTo>
                    <a:pt x="1289" y="666"/>
                  </a:lnTo>
                  <a:lnTo>
                    <a:pt x="1289" y="680"/>
                  </a:lnTo>
                  <a:lnTo>
                    <a:pt x="1297" y="701"/>
                  </a:lnTo>
                  <a:lnTo>
                    <a:pt x="1297" y="715"/>
                  </a:lnTo>
                  <a:lnTo>
                    <a:pt x="1297" y="730"/>
                  </a:lnTo>
                  <a:lnTo>
                    <a:pt x="1304" y="751"/>
                  </a:lnTo>
                  <a:lnTo>
                    <a:pt x="1304" y="765"/>
                  </a:lnTo>
                  <a:lnTo>
                    <a:pt x="1304" y="786"/>
                  </a:lnTo>
                  <a:lnTo>
                    <a:pt x="1311" y="800"/>
                  </a:lnTo>
                  <a:lnTo>
                    <a:pt x="1311" y="815"/>
                  </a:lnTo>
                  <a:lnTo>
                    <a:pt x="1311" y="836"/>
                  </a:lnTo>
                  <a:lnTo>
                    <a:pt x="1318" y="850"/>
                  </a:lnTo>
                  <a:lnTo>
                    <a:pt x="1318" y="871"/>
                  </a:lnTo>
                  <a:lnTo>
                    <a:pt x="1318" y="886"/>
                  </a:lnTo>
                  <a:lnTo>
                    <a:pt x="1325" y="900"/>
                  </a:lnTo>
                  <a:lnTo>
                    <a:pt x="1325" y="921"/>
                  </a:lnTo>
                  <a:lnTo>
                    <a:pt x="1325" y="935"/>
                  </a:lnTo>
                  <a:lnTo>
                    <a:pt x="1325" y="956"/>
                  </a:lnTo>
                  <a:lnTo>
                    <a:pt x="1332" y="971"/>
                  </a:lnTo>
                  <a:lnTo>
                    <a:pt x="1332" y="992"/>
                  </a:lnTo>
                  <a:lnTo>
                    <a:pt x="1332" y="1006"/>
                  </a:lnTo>
                  <a:lnTo>
                    <a:pt x="1339" y="1020"/>
                  </a:lnTo>
                  <a:lnTo>
                    <a:pt x="1339" y="1041"/>
                  </a:lnTo>
                  <a:lnTo>
                    <a:pt x="1339" y="1056"/>
                  </a:lnTo>
                  <a:lnTo>
                    <a:pt x="1346" y="1077"/>
                  </a:lnTo>
                  <a:lnTo>
                    <a:pt x="1346" y="1091"/>
                  </a:lnTo>
                  <a:lnTo>
                    <a:pt x="1346" y="1105"/>
                  </a:lnTo>
                  <a:lnTo>
                    <a:pt x="1353" y="1126"/>
                  </a:lnTo>
                  <a:lnTo>
                    <a:pt x="1353" y="1141"/>
                  </a:lnTo>
                  <a:lnTo>
                    <a:pt x="1353" y="1162"/>
                  </a:lnTo>
                  <a:lnTo>
                    <a:pt x="1360" y="1176"/>
                  </a:lnTo>
                  <a:lnTo>
                    <a:pt x="1360" y="1190"/>
                  </a:lnTo>
                  <a:lnTo>
                    <a:pt x="1360" y="1211"/>
                  </a:lnTo>
                  <a:lnTo>
                    <a:pt x="1360" y="1226"/>
                  </a:lnTo>
                  <a:lnTo>
                    <a:pt x="1367" y="1240"/>
                  </a:lnTo>
                  <a:lnTo>
                    <a:pt x="1367" y="1261"/>
                  </a:lnTo>
                  <a:lnTo>
                    <a:pt x="1367" y="1275"/>
                  </a:lnTo>
                  <a:lnTo>
                    <a:pt x="1374" y="1289"/>
                  </a:lnTo>
                  <a:lnTo>
                    <a:pt x="1374" y="1304"/>
                  </a:lnTo>
                  <a:lnTo>
                    <a:pt x="1374" y="1325"/>
                  </a:lnTo>
                  <a:lnTo>
                    <a:pt x="1382" y="1339"/>
                  </a:lnTo>
                  <a:lnTo>
                    <a:pt x="1382" y="1353"/>
                  </a:lnTo>
                  <a:lnTo>
                    <a:pt x="1382" y="1367"/>
                  </a:lnTo>
                  <a:lnTo>
                    <a:pt x="1389" y="1382"/>
                  </a:lnTo>
                  <a:lnTo>
                    <a:pt x="1389" y="1403"/>
                  </a:lnTo>
                  <a:lnTo>
                    <a:pt x="1389" y="1417"/>
                  </a:lnTo>
                  <a:lnTo>
                    <a:pt x="1396" y="1431"/>
                  </a:lnTo>
                  <a:lnTo>
                    <a:pt x="1396" y="1445"/>
                  </a:lnTo>
                  <a:lnTo>
                    <a:pt x="1396" y="1459"/>
                  </a:lnTo>
                  <a:lnTo>
                    <a:pt x="1396" y="1474"/>
                  </a:lnTo>
                  <a:lnTo>
                    <a:pt x="1403" y="1488"/>
                  </a:lnTo>
                  <a:lnTo>
                    <a:pt x="1403" y="1502"/>
                  </a:lnTo>
                  <a:lnTo>
                    <a:pt x="1403" y="1516"/>
                  </a:lnTo>
                  <a:lnTo>
                    <a:pt x="1410" y="1530"/>
                  </a:lnTo>
                  <a:lnTo>
                    <a:pt x="1410" y="1544"/>
                  </a:lnTo>
                  <a:lnTo>
                    <a:pt x="1410" y="1559"/>
                  </a:lnTo>
                  <a:lnTo>
                    <a:pt x="1417" y="1573"/>
                  </a:lnTo>
                  <a:lnTo>
                    <a:pt x="1417" y="1580"/>
                  </a:lnTo>
                  <a:lnTo>
                    <a:pt x="1417" y="1594"/>
                  </a:lnTo>
                  <a:lnTo>
                    <a:pt x="1424" y="1608"/>
                  </a:lnTo>
                  <a:lnTo>
                    <a:pt x="1424" y="1594"/>
                  </a:lnTo>
                  <a:lnTo>
                    <a:pt x="1424" y="1587"/>
                  </a:lnTo>
                  <a:lnTo>
                    <a:pt x="1431" y="1573"/>
                  </a:lnTo>
                  <a:lnTo>
                    <a:pt x="1431" y="1559"/>
                  </a:lnTo>
                  <a:lnTo>
                    <a:pt x="1431" y="1544"/>
                  </a:lnTo>
                  <a:lnTo>
                    <a:pt x="1438" y="1537"/>
                  </a:lnTo>
                  <a:lnTo>
                    <a:pt x="1438" y="1523"/>
                  </a:lnTo>
                  <a:lnTo>
                    <a:pt x="1438" y="1516"/>
                  </a:lnTo>
                  <a:lnTo>
                    <a:pt x="1438" y="1502"/>
                  </a:lnTo>
                  <a:lnTo>
                    <a:pt x="1445" y="1495"/>
                  </a:lnTo>
                  <a:lnTo>
                    <a:pt x="1445" y="1481"/>
                  </a:lnTo>
                  <a:lnTo>
                    <a:pt x="1445" y="1474"/>
                  </a:lnTo>
                  <a:lnTo>
                    <a:pt x="1452" y="1459"/>
                  </a:lnTo>
                  <a:lnTo>
                    <a:pt x="1452" y="1452"/>
                  </a:lnTo>
                  <a:lnTo>
                    <a:pt x="1452" y="1445"/>
                  </a:lnTo>
                  <a:lnTo>
                    <a:pt x="1460" y="1431"/>
                  </a:lnTo>
                  <a:lnTo>
                    <a:pt x="1460" y="1424"/>
                  </a:lnTo>
                  <a:lnTo>
                    <a:pt x="1460" y="1417"/>
                  </a:lnTo>
                  <a:lnTo>
                    <a:pt x="1467" y="1410"/>
                  </a:lnTo>
                  <a:lnTo>
                    <a:pt x="1467" y="1403"/>
                  </a:lnTo>
                  <a:lnTo>
                    <a:pt x="1467" y="1389"/>
                  </a:lnTo>
                  <a:lnTo>
                    <a:pt x="1474" y="1382"/>
                  </a:lnTo>
                  <a:lnTo>
                    <a:pt x="1474" y="1374"/>
                  </a:lnTo>
                  <a:lnTo>
                    <a:pt x="1474" y="1367"/>
                  </a:lnTo>
                  <a:lnTo>
                    <a:pt x="1474" y="1360"/>
                  </a:lnTo>
                  <a:lnTo>
                    <a:pt x="1481" y="1353"/>
                  </a:lnTo>
                  <a:lnTo>
                    <a:pt x="1481" y="1346"/>
                  </a:lnTo>
                  <a:lnTo>
                    <a:pt x="1488" y="1339"/>
                  </a:lnTo>
                  <a:lnTo>
                    <a:pt x="1488" y="1332"/>
                  </a:lnTo>
                  <a:lnTo>
                    <a:pt x="1488" y="1325"/>
                  </a:lnTo>
                  <a:lnTo>
                    <a:pt x="1495" y="1318"/>
                  </a:lnTo>
                  <a:lnTo>
                    <a:pt x="1495" y="1311"/>
                  </a:lnTo>
                  <a:lnTo>
                    <a:pt x="1502" y="1304"/>
                  </a:lnTo>
                  <a:lnTo>
                    <a:pt x="1502" y="1296"/>
                  </a:lnTo>
                  <a:lnTo>
                    <a:pt x="1509" y="1289"/>
                  </a:lnTo>
                  <a:lnTo>
                    <a:pt x="1509" y="1282"/>
                  </a:lnTo>
                  <a:lnTo>
                    <a:pt x="1516" y="1275"/>
                  </a:lnTo>
                  <a:lnTo>
                    <a:pt x="1523" y="1268"/>
                  </a:lnTo>
                  <a:lnTo>
                    <a:pt x="1530" y="1261"/>
                  </a:lnTo>
                  <a:lnTo>
                    <a:pt x="1537" y="1261"/>
                  </a:lnTo>
                  <a:lnTo>
                    <a:pt x="1545" y="1261"/>
                  </a:lnTo>
                  <a:lnTo>
                    <a:pt x="1552" y="1261"/>
                  </a:lnTo>
                  <a:lnTo>
                    <a:pt x="1559" y="1268"/>
                  </a:lnTo>
                  <a:lnTo>
                    <a:pt x="1566" y="1268"/>
                  </a:lnTo>
                  <a:lnTo>
                    <a:pt x="1573" y="1275"/>
                  </a:lnTo>
                  <a:lnTo>
                    <a:pt x="1580" y="1282"/>
                  </a:lnTo>
                  <a:lnTo>
                    <a:pt x="1587" y="1289"/>
                  </a:lnTo>
                  <a:lnTo>
                    <a:pt x="1587" y="1296"/>
                  </a:lnTo>
                  <a:lnTo>
                    <a:pt x="1594" y="1304"/>
                  </a:lnTo>
                  <a:lnTo>
                    <a:pt x="1594" y="1311"/>
                  </a:lnTo>
                  <a:lnTo>
                    <a:pt x="1601" y="1318"/>
                  </a:lnTo>
                  <a:lnTo>
                    <a:pt x="1601" y="1325"/>
                  </a:lnTo>
                  <a:lnTo>
                    <a:pt x="1608" y="1332"/>
                  </a:lnTo>
                  <a:lnTo>
                    <a:pt x="1608" y="1339"/>
                  </a:lnTo>
                  <a:lnTo>
                    <a:pt x="1615" y="1346"/>
                  </a:lnTo>
                  <a:lnTo>
                    <a:pt x="1615" y="1353"/>
                  </a:lnTo>
                  <a:lnTo>
                    <a:pt x="1622" y="1360"/>
                  </a:lnTo>
                  <a:lnTo>
                    <a:pt x="1622" y="1367"/>
                  </a:lnTo>
                  <a:lnTo>
                    <a:pt x="1622" y="1374"/>
                  </a:lnTo>
                  <a:lnTo>
                    <a:pt x="1630" y="1382"/>
                  </a:lnTo>
                  <a:lnTo>
                    <a:pt x="1630" y="1389"/>
                  </a:lnTo>
                  <a:lnTo>
                    <a:pt x="1630" y="1396"/>
                  </a:lnTo>
                  <a:lnTo>
                    <a:pt x="1637" y="1403"/>
                  </a:lnTo>
                  <a:lnTo>
                    <a:pt x="1637" y="1410"/>
                  </a:lnTo>
                  <a:lnTo>
                    <a:pt x="1644" y="1417"/>
                  </a:lnTo>
                  <a:lnTo>
                    <a:pt x="1644" y="1424"/>
                  </a:lnTo>
                  <a:lnTo>
                    <a:pt x="1644" y="1431"/>
                  </a:lnTo>
                  <a:lnTo>
                    <a:pt x="1651" y="1438"/>
                  </a:lnTo>
                  <a:lnTo>
                    <a:pt x="1651" y="1445"/>
                  </a:lnTo>
                  <a:lnTo>
                    <a:pt x="1651" y="1452"/>
                  </a:lnTo>
                  <a:lnTo>
                    <a:pt x="1658" y="1459"/>
                  </a:lnTo>
                  <a:lnTo>
                    <a:pt x="1658" y="1467"/>
                  </a:lnTo>
                  <a:lnTo>
                    <a:pt x="1658" y="1474"/>
                  </a:lnTo>
                  <a:lnTo>
                    <a:pt x="1665" y="1481"/>
                  </a:lnTo>
                  <a:lnTo>
                    <a:pt x="1665" y="1488"/>
                  </a:lnTo>
                  <a:lnTo>
                    <a:pt x="1665" y="1495"/>
                  </a:lnTo>
                  <a:lnTo>
                    <a:pt x="1672" y="1502"/>
                  </a:lnTo>
                  <a:lnTo>
                    <a:pt x="1672" y="1509"/>
                  </a:lnTo>
                  <a:lnTo>
                    <a:pt x="1672" y="1516"/>
                  </a:lnTo>
                  <a:lnTo>
                    <a:pt x="1679" y="1523"/>
                  </a:lnTo>
                  <a:lnTo>
                    <a:pt x="1679" y="1530"/>
                  </a:lnTo>
                  <a:lnTo>
                    <a:pt x="1679" y="1537"/>
                  </a:lnTo>
                  <a:lnTo>
                    <a:pt x="1686" y="1544"/>
                  </a:lnTo>
                  <a:lnTo>
                    <a:pt x="1686" y="1552"/>
                  </a:lnTo>
                  <a:lnTo>
                    <a:pt x="1686" y="1559"/>
                  </a:lnTo>
                  <a:lnTo>
                    <a:pt x="1693" y="1566"/>
                  </a:lnTo>
                  <a:lnTo>
                    <a:pt x="1693" y="1573"/>
                  </a:lnTo>
                  <a:lnTo>
                    <a:pt x="1693" y="1580"/>
                  </a:lnTo>
                  <a:lnTo>
                    <a:pt x="1700" y="1587"/>
                  </a:lnTo>
                  <a:lnTo>
                    <a:pt x="1700" y="1594"/>
                  </a:lnTo>
                  <a:lnTo>
                    <a:pt x="1700" y="1601"/>
                  </a:lnTo>
                  <a:lnTo>
                    <a:pt x="1708" y="1608"/>
                  </a:lnTo>
                  <a:lnTo>
                    <a:pt x="1708" y="1601"/>
                  </a:lnTo>
                  <a:lnTo>
                    <a:pt x="1708" y="1594"/>
                  </a:lnTo>
                  <a:lnTo>
                    <a:pt x="1715" y="1587"/>
                  </a:lnTo>
                  <a:lnTo>
                    <a:pt x="1715" y="1580"/>
                  </a:lnTo>
                  <a:lnTo>
                    <a:pt x="1722" y="1573"/>
                  </a:lnTo>
                  <a:lnTo>
                    <a:pt x="1722" y="1566"/>
                  </a:lnTo>
                  <a:lnTo>
                    <a:pt x="1722" y="1559"/>
                  </a:lnTo>
                  <a:lnTo>
                    <a:pt x="1729" y="1552"/>
                  </a:lnTo>
                  <a:lnTo>
                    <a:pt x="1729" y="1544"/>
                  </a:lnTo>
                  <a:lnTo>
                    <a:pt x="1736" y="1537"/>
                  </a:lnTo>
                  <a:lnTo>
                    <a:pt x="1736" y="1530"/>
                  </a:lnTo>
                  <a:lnTo>
                    <a:pt x="1736" y="1523"/>
                  </a:lnTo>
                  <a:lnTo>
                    <a:pt x="1743" y="1516"/>
                  </a:lnTo>
                  <a:lnTo>
                    <a:pt x="1743" y="1509"/>
                  </a:lnTo>
                  <a:lnTo>
                    <a:pt x="1750" y="1502"/>
                  </a:lnTo>
                  <a:lnTo>
                    <a:pt x="1750" y="1495"/>
                  </a:lnTo>
                  <a:lnTo>
                    <a:pt x="1757" y="1488"/>
                  </a:lnTo>
                  <a:lnTo>
                    <a:pt x="1757" y="1481"/>
                  </a:lnTo>
                  <a:lnTo>
                    <a:pt x="1764" y="1474"/>
                  </a:lnTo>
                  <a:lnTo>
                    <a:pt x="1764" y="1467"/>
                  </a:lnTo>
                  <a:lnTo>
                    <a:pt x="1771" y="1459"/>
                  </a:lnTo>
                  <a:lnTo>
                    <a:pt x="1771" y="1452"/>
                  </a:lnTo>
                  <a:lnTo>
                    <a:pt x="1778" y="1445"/>
                  </a:lnTo>
                  <a:lnTo>
                    <a:pt x="1785" y="1438"/>
                  </a:lnTo>
                  <a:lnTo>
                    <a:pt x="1793" y="1431"/>
                  </a:lnTo>
                  <a:lnTo>
                    <a:pt x="1800" y="1424"/>
                  </a:lnTo>
                  <a:lnTo>
                    <a:pt x="1807" y="1417"/>
                  </a:lnTo>
                  <a:lnTo>
                    <a:pt x="1814" y="1410"/>
                  </a:lnTo>
                  <a:lnTo>
                    <a:pt x="1821" y="1403"/>
                  </a:lnTo>
                  <a:lnTo>
                    <a:pt x="1828" y="1403"/>
                  </a:lnTo>
                  <a:lnTo>
                    <a:pt x="1835" y="1403"/>
                  </a:lnTo>
                  <a:lnTo>
                    <a:pt x="1842" y="1403"/>
                  </a:lnTo>
                  <a:lnTo>
                    <a:pt x="1849" y="1403"/>
                  </a:lnTo>
                  <a:lnTo>
                    <a:pt x="1856" y="1410"/>
                  </a:lnTo>
                  <a:lnTo>
                    <a:pt x="1863" y="1410"/>
                  </a:lnTo>
                  <a:lnTo>
                    <a:pt x="1871" y="1417"/>
                  </a:lnTo>
                  <a:lnTo>
                    <a:pt x="1878" y="1424"/>
                  </a:lnTo>
                  <a:lnTo>
                    <a:pt x="1885" y="1431"/>
                  </a:lnTo>
                  <a:lnTo>
                    <a:pt x="1892" y="1438"/>
                  </a:lnTo>
                  <a:lnTo>
                    <a:pt x="1899" y="1445"/>
                  </a:lnTo>
                  <a:lnTo>
                    <a:pt x="1906" y="1452"/>
                  </a:lnTo>
                  <a:lnTo>
                    <a:pt x="1913" y="1459"/>
                  </a:lnTo>
                  <a:lnTo>
                    <a:pt x="1913" y="1467"/>
                  </a:lnTo>
                  <a:lnTo>
                    <a:pt x="1920" y="1474"/>
                  </a:lnTo>
                  <a:lnTo>
                    <a:pt x="1920" y="1481"/>
                  </a:lnTo>
                  <a:lnTo>
                    <a:pt x="1927" y="1488"/>
                  </a:lnTo>
                  <a:lnTo>
                    <a:pt x="1927" y="1495"/>
                  </a:lnTo>
                  <a:lnTo>
                    <a:pt x="1934" y="1502"/>
                  </a:lnTo>
                  <a:lnTo>
                    <a:pt x="1941" y="1509"/>
                  </a:lnTo>
                  <a:lnTo>
                    <a:pt x="1941" y="1516"/>
                  </a:lnTo>
                  <a:lnTo>
                    <a:pt x="1948" y="1523"/>
                  </a:lnTo>
                  <a:lnTo>
                    <a:pt x="1948" y="1530"/>
                  </a:lnTo>
                  <a:lnTo>
                    <a:pt x="1956" y="1537"/>
                  </a:lnTo>
                  <a:lnTo>
                    <a:pt x="1956" y="1544"/>
                  </a:lnTo>
                  <a:lnTo>
                    <a:pt x="1963" y="1552"/>
                  </a:lnTo>
                  <a:lnTo>
                    <a:pt x="1963" y="1559"/>
                  </a:lnTo>
                  <a:lnTo>
                    <a:pt x="1970" y="1566"/>
                  </a:lnTo>
                  <a:lnTo>
                    <a:pt x="1970" y="1573"/>
                  </a:lnTo>
                  <a:lnTo>
                    <a:pt x="1977" y="1580"/>
                  </a:lnTo>
                  <a:lnTo>
                    <a:pt x="1977" y="1587"/>
                  </a:lnTo>
                  <a:lnTo>
                    <a:pt x="1984" y="1594"/>
                  </a:lnTo>
                  <a:lnTo>
                    <a:pt x="1991" y="1601"/>
                  </a:lnTo>
                  <a:lnTo>
                    <a:pt x="1991" y="1608"/>
                  </a:lnTo>
                  <a:lnTo>
                    <a:pt x="1998" y="1601"/>
                  </a:lnTo>
                  <a:lnTo>
                    <a:pt x="1998" y="1594"/>
                  </a:lnTo>
                  <a:lnTo>
                    <a:pt x="2005" y="1587"/>
                  </a:lnTo>
                  <a:lnTo>
                    <a:pt x="2005" y="1580"/>
                  </a:lnTo>
                  <a:lnTo>
                    <a:pt x="2012" y="1573"/>
                  </a:lnTo>
                  <a:lnTo>
                    <a:pt x="2012" y="1566"/>
                  </a:lnTo>
                  <a:lnTo>
                    <a:pt x="2019" y="1559"/>
                  </a:lnTo>
                  <a:lnTo>
                    <a:pt x="2026" y="1552"/>
                  </a:lnTo>
                  <a:lnTo>
                    <a:pt x="2026" y="1544"/>
                  </a:lnTo>
                  <a:lnTo>
                    <a:pt x="2034" y="1537"/>
                  </a:lnTo>
                  <a:lnTo>
                    <a:pt x="2034" y="1530"/>
                  </a:lnTo>
                  <a:lnTo>
                    <a:pt x="2041" y="1523"/>
                  </a:lnTo>
                  <a:lnTo>
                    <a:pt x="2048" y="1516"/>
                  </a:lnTo>
                  <a:lnTo>
                    <a:pt x="2055" y="1509"/>
                  </a:lnTo>
                  <a:lnTo>
                    <a:pt x="2062" y="1502"/>
                  </a:lnTo>
                  <a:lnTo>
                    <a:pt x="2069" y="1495"/>
                  </a:lnTo>
                  <a:lnTo>
                    <a:pt x="2069" y="1488"/>
                  </a:lnTo>
                  <a:lnTo>
                    <a:pt x="2076" y="1481"/>
                  </a:lnTo>
                  <a:lnTo>
                    <a:pt x="2083" y="1474"/>
                  </a:lnTo>
                  <a:lnTo>
                    <a:pt x="2090" y="1474"/>
                  </a:lnTo>
                  <a:lnTo>
                    <a:pt x="2097" y="1467"/>
                  </a:lnTo>
                  <a:lnTo>
                    <a:pt x="2104" y="1467"/>
                  </a:lnTo>
                  <a:lnTo>
                    <a:pt x="2111" y="1459"/>
                  </a:lnTo>
                  <a:lnTo>
                    <a:pt x="2119" y="1459"/>
                  </a:lnTo>
                  <a:lnTo>
                    <a:pt x="2126" y="1459"/>
                  </a:lnTo>
                  <a:lnTo>
                    <a:pt x="2133" y="1459"/>
                  </a:lnTo>
                  <a:lnTo>
                    <a:pt x="2140" y="1467"/>
                  </a:lnTo>
                  <a:lnTo>
                    <a:pt x="2147" y="1467"/>
                  </a:lnTo>
                  <a:lnTo>
                    <a:pt x="2154" y="1474"/>
                  </a:lnTo>
                  <a:lnTo>
                    <a:pt x="2161" y="1474"/>
                  </a:lnTo>
                  <a:lnTo>
                    <a:pt x="2168" y="1481"/>
                  </a:lnTo>
                  <a:lnTo>
                    <a:pt x="2175" y="1488"/>
                  </a:lnTo>
                  <a:lnTo>
                    <a:pt x="2182" y="1495"/>
                  </a:lnTo>
                  <a:lnTo>
                    <a:pt x="2189" y="1502"/>
                  </a:lnTo>
                  <a:lnTo>
                    <a:pt x="2197" y="1509"/>
                  </a:lnTo>
                  <a:lnTo>
                    <a:pt x="2204" y="1516"/>
                  </a:lnTo>
                  <a:lnTo>
                    <a:pt x="2211" y="1523"/>
                  </a:lnTo>
                  <a:lnTo>
                    <a:pt x="2218" y="1530"/>
                  </a:lnTo>
                  <a:lnTo>
                    <a:pt x="2225" y="1537"/>
                  </a:lnTo>
                  <a:lnTo>
                    <a:pt x="2232" y="1544"/>
                  </a:lnTo>
                  <a:lnTo>
                    <a:pt x="2239" y="1552"/>
                  </a:lnTo>
                  <a:lnTo>
                    <a:pt x="2239" y="1559"/>
                  </a:lnTo>
                  <a:lnTo>
                    <a:pt x="2246" y="1566"/>
                  </a:lnTo>
                  <a:lnTo>
                    <a:pt x="2253" y="1573"/>
                  </a:lnTo>
                  <a:lnTo>
                    <a:pt x="2253" y="1580"/>
                  </a:lnTo>
                  <a:lnTo>
                    <a:pt x="2260" y="1587"/>
                  </a:lnTo>
                  <a:lnTo>
                    <a:pt x="2267" y="1594"/>
                  </a:lnTo>
                  <a:lnTo>
                    <a:pt x="2267" y="1601"/>
                  </a:lnTo>
                  <a:lnTo>
                    <a:pt x="2274" y="1608"/>
                  </a:lnTo>
                </a:path>
              </a:pathLst>
            </a:cu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7581960" y="1947600"/>
              <a:ext cx="166680" cy="1562040"/>
            </a:xfrm>
            <a:custGeom>
              <a:avLst/>
              <a:gdLst/>
              <a:ahLst/>
              <a:rect l="l" t="t" r="r" b="b"/>
              <a:pathLst>
                <a:path w="2274" h="1608">
                  <a:moveTo>
                    <a:pt x="0" y="1608"/>
                  </a:moveTo>
                  <a:lnTo>
                    <a:pt x="7" y="1601"/>
                  </a:lnTo>
                  <a:lnTo>
                    <a:pt x="14" y="1594"/>
                  </a:lnTo>
                  <a:lnTo>
                    <a:pt x="14" y="1587"/>
                  </a:lnTo>
                  <a:lnTo>
                    <a:pt x="21" y="1580"/>
                  </a:lnTo>
                  <a:lnTo>
                    <a:pt x="28" y="1573"/>
                  </a:lnTo>
                  <a:lnTo>
                    <a:pt x="28" y="1566"/>
                  </a:lnTo>
                  <a:lnTo>
                    <a:pt x="35" y="1559"/>
                  </a:lnTo>
                  <a:lnTo>
                    <a:pt x="42" y="1552"/>
                  </a:lnTo>
                  <a:lnTo>
                    <a:pt x="49" y="1544"/>
                  </a:lnTo>
                  <a:lnTo>
                    <a:pt x="49" y="1537"/>
                  </a:lnTo>
                  <a:lnTo>
                    <a:pt x="56" y="1530"/>
                  </a:lnTo>
                  <a:lnTo>
                    <a:pt x="63" y="1523"/>
                  </a:lnTo>
                  <a:lnTo>
                    <a:pt x="71" y="1516"/>
                  </a:lnTo>
                  <a:lnTo>
                    <a:pt x="78" y="1509"/>
                  </a:lnTo>
                  <a:lnTo>
                    <a:pt x="85" y="1502"/>
                  </a:lnTo>
                  <a:lnTo>
                    <a:pt x="92" y="1495"/>
                  </a:lnTo>
                  <a:lnTo>
                    <a:pt x="99" y="1488"/>
                  </a:lnTo>
                  <a:lnTo>
                    <a:pt x="106" y="1481"/>
                  </a:lnTo>
                  <a:lnTo>
                    <a:pt x="113" y="1474"/>
                  </a:lnTo>
                  <a:lnTo>
                    <a:pt x="120" y="1467"/>
                  </a:lnTo>
                  <a:lnTo>
                    <a:pt x="127" y="1467"/>
                  </a:lnTo>
                  <a:lnTo>
                    <a:pt x="134" y="1459"/>
                  </a:lnTo>
                  <a:lnTo>
                    <a:pt x="141" y="1459"/>
                  </a:lnTo>
                  <a:lnTo>
                    <a:pt x="148" y="1459"/>
                  </a:lnTo>
                  <a:lnTo>
                    <a:pt x="156" y="1459"/>
                  </a:lnTo>
                  <a:lnTo>
                    <a:pt x="163" y="1467"/>
                  </a:lnTo>
                  <a:lnTo>
                    <a:pt x="170" y="1467"/>
                  </a:lnTo>
                  <a:lnTo>
                    <a:pt x="177" y="1467"/>
                  </a:lnTo>
                  <a:lnTo>
                    <a:pt x="184" y="1474"/>
                  </a:lnTo>
                  <a:lnTo>
                    <a:pt x="191" y="1481"/>
                  </a:lnTo>
                  <a:lnTo>
                    <a:pt x="198" y="1481"/>
                  </a:lnTo>
                  <a:lnTo>
                    <a:pt x="205" y="1488"/>
                  </a:lnTo>
                  <a:lnTo>
                    <a:pt x="212" y="1495"/>
                  </a:lnTo>
                  <a:lnTo>
                    <a:pt x="219" y="1502"/>
                  </a:lnTo>
                  <a:lnTo>
                    <a:pt x="226" y="1509"/>
                  </a:lnTo>
                  <a:lnTo>
                    <a:pt x="234" y="1516"/>
                  </a:lnTo>
                  <a:lnTo>
                    <a:pt x="234" y="1523"/>
                  </a:lnTo>
                  <a:lnTo>
                    <a:pt x="241" y="1530"/>
                  </a:lnTo>
                  <a:lnTo>
                    <a:pt x="241" y="1537"/>
                  </a:lnTo>
                  <a:lnTo>
                    <a:pt x="248" y="1544"/>
                  </a:lnTo>
                  <a:lnTo>
                    <a:pt x="255" y="1552"/>
                  </a:lnTo>
                  <a:lnTo>
                    <a:pt x="255" y="1559"/>
                  </a:lnTo>
                  <a:lnTo>
                    <a:pt x="262" y="1566"/>
                  </a:lnTo>
                  <a:lnTo>
                    <a:pt x="269" y="1573"/>
                  </a:lnTo>
                  <a:lnTo>
                    <a:pt x="269" y="1580"/>
                  </a:lnTo>
                  <a:lnTo>
                    <a:pt x="276" y="1587"/>
                  </a:lnTo>
                  <a:lnTo>
                    <a:pt x="276" y="1594"/>
                  </a:lnTo>
                  <a:lnTo>
                    <a:pt x="283" y="1601"/>
                  </a:lnTo>
                  <a:lnTo>
                    <a:pt x="283" y="1608"/>
                  </a:lnTo>
                  <a:lnTo>
                    <a:pt x="290" y="1601"/>
                  </a:lnTo>
                  <a:lnTo>
                    <a:pt x="290" y="1594"/>
                  </a:lnTo>
                  <a:lnTo>
                    <a:pt x="297" y="1587"/>
                  </a:lnTo>
                  <a:lnTo>
                    <a:pt x="297" y="1580"/>
                  </a:lnTo>
                  <a:lnTo>
                    <a:pt x="304" y="1573"/>
                  </a:lnTo>
                  <a:lnTo>
                    <a:pt x="304" y="1566"/>
                  </a:lnTo>
                  <a:lnTo>
                    <a:pt x="311" y="1559"/>
                  </a:lnTo>
                  <a:lnTo>
                    <a:pt x="319" y="1552"/>
                  </a:lnTo>
                  <a:lnTo>
                    <a:pt x="319" y="1544"/>
                  </a:lnTo>
                  <a:lnTo>
                    <a:pt x="319" y="1537"/>
                  </a:lnTo>
                  <a:lnTo>
                    <a:pt x="326" y="1530"/>
                  </a:lnTo>
                  <a:lnTo>
                    <a:pt x="326" y="1523"/>
                  </a:lnTo>
                  <a:lnTo>
                    <a:pt x="333" y="1516"/>
                  </a:lnTo>
                  <a:lnTo>
                    <a:pt x="340" y="1509"/>
                  </a:lnTo>
                  <a:lnTo>
                    <a:pt x="340" y="1502"/>
                  </a:lnTo>
                  <a:lnTo>
                    <a:pt x="347" y="1495"/>
                  </a:lnTo>
                  <a:lnTo>
                    <a:pt x="347" y="1488"/>
                  </a:lnTo>
                  <a:lnTo>
                    <a:pt x="354" y="1481"/>
                  </a:lnTo>
                  <a:lnTo>
                    <a:pt x="354" y="1474"/>
                  </a:lnTo>
                  <a:lnTo>
                    <a:pt x="361" y="1467"/>
                  </a:lnTo>
                  <a:lnTo>
                    <a:pt x="368" y="1459"/>
                  </a:lnTo>
                  <a:lnTo>
                    <a:pt x="375" y="1452"/>
                  </a:lnTo>
                  <a:lnTo>
                    <a:pt x="375" y="1445"/>
                  </a:lnTo>
                  <a:lnTo>
                    <a:pt x="382" y="1438"/>
                  </a:lnTo>
                  <a:lnTo>
                    <a:pt x="389" y="1431"/>
                  </a:lnTo>
                  <a:lnTo>
                    <a:pt x="397" y="1424"/>
                  </a:lnTo>
                  <a:lnTo>
                    <a:pt x="404" y="1417"/>
                  </a:lnTo>
                  <a:lnTo>
                    <a:pt x="411" y="1410"/>
                  </a:lnTo>
                  <a:lnTo>
                    <a:pt x="418" y="1403"/>
                  </a:lnTo>
                  <a:lnTo>
                    <a:pt x="425" y="1403"/>
                  </a:lnTo>
                  <a:lnTo>
                    <a:pt x="432" y="1403"/>
                  </a:lnTo>
                  <a:lnTo>
                    <a:pt x="439" y="1403"/>
                  </a:lnTo>
                  <a:lnTo>
                    <a:pt x="446" y="1403"/>
                  </a:lnTo>
                  <a:lnTo>
                    <a:pt x="453" y="1403"/>
                  </a:lnTo>
                  <a:lnTo>
                    <a:pt x="460" y="1410"/>
                  </a:lnTo>
                  <a:lnTo>
                    <a:pt x="467" y="1417"/>
                  </a:lnTo>
                  <a:lnTo>
                    <a:pt x="474" y="1424"/>
                  </a:lnTo>
                  <a:lnTo>
                    <a:pt x="482" y="1431"/>
                  </a:lnTo>
                  <a:lnTo>
                    <a:pt x="489" y="1438"/>
                  </a:lnTo>
                  <a:lnTo>
                    <a:pt x="496" y="1445"/>
                  </a:lnTo>
                  <a:lnTo>
                    <a:pt x="503" y="1452"/>
                  </a:lnTo>
                  <a:lnTo>
                    <a:pt x="503" y="1459"/>
                  </a:lnTo>
                  <a:lnTo>
                    <a:pt x="510" y="1467"/>
                  </a:lnTo>
                  <a:lnTo>
                    <a:pt x="510" y="1474"/>
                  </a:lnTo>
                  <a:lnTo>
                    <a:pt x="517" y="1481"/>
                  </a:lnTo>
                  <a:lnTo>
                    <a:pt x="517" y="1488"/>
                  </a:lnTo>
                  <a:lnTo>
                    <a:pt x="524" y="1495"/>
                  </a:lnTo>
                  <a:lnTo>
                    <a:pt x="524" y="1502"/>
                  </a:lnTo>
                  <a:lnTo>
                    <a:pt x="531" y="1509"/>
                  </a:lnTo>
                  <a:lnTo>
                    <a:pt x="531" y="1516"/>
                  </a:lnTo>
                  <a:lnTo>
                    <a:pt x="538" y="1523"/>
                  </a:lnTo>
                  <a:lnTo>
                    <a:pt x="538" y="1530"/>
                  </a:lnTo>
                  <a:lnTo>
                    <a:pt x="538" y="1537"/>
                  </a:lnTo>
                  <a:lnTo>
                    <a:pt x="545" y="1544"/>
                  </a:lnTo>
                  <a:lnTo>
                    <a:pt x="545" y="1552"/>
                  </a:lnTo>
                  <a:lnTo>
                    <a:pt x="552" y="1559"/>
                  </a:lnTo>
                  <a:lnTo>
                    <a:pt x="552" y="1566"/>
                  </a:lnTo>
                  <a:lnTo>
                    <a:pt x="552" y="1573"/>
                  </a:lnTo>
                  <a:lnTo>
                    <a:pt x="560" y="1580"/>
                  </a:lnTo>
                  <a:lnTo>
                    <a:pt x="560" y="1587"/>
                  </a:lnTo>
                  <a:lnTo>
                    <a:pt x="567" y="1594"/>
                  </a:lnTo>
                  <a:lnTo>
                    <a:pt x="567" y="1601"/>
                  </a:lnTo>
                  <a:lnTo>
                    <a:pt x="567" y="1608"/>
                  </a:lnTo>
                  <a:lnTo>
                    <a:pt x="574" y="1601"/>
                  </a:lnTo>
                  <a:lnTo>
                    <a:pt x="574" y="1594"/>
                  </a:lnTo>
                  <a:lnTo>
                    <a:pt x="574" y="1587"/>
                  </a:lnTo>
                  <a:lnTo>
                    <a:pt x="581" y="1580"/>
                  </a:lnTo>
                  <a:lnTo>
                    <a:pt x="581" y="1573"/>
                  </a:lnTo>
                  <a:lnTo>
                    <a:pt x="581" y="1566"/>
                  </a:lnTo>
                  <a:lnTo>
                    <a:pt x="588" y="1559"/>
                  </a:lnTo>
                  <a:lnTo>
                    <a:pt x="588" y="1552"/>
                  </a:lnTo>
                  <a:lnTo>
                    <a:pt x="588" y="1544"/>
                  </a:lnTo>
                  <a:lnTo>
                    <a:pt x="595" y="1537"/>
                  </a:lnTo>
                  <a:lnTo>
                    <a:pt x="595" y="1530"/>
                  </a:lnTo>
                  <a:lnTo>
                    <a:pt x="595" y="1523"/>
                  </a:lnTo>
                  <a:lnTo>
                    <a:pt x="602" y="1516"/>
                  </a:lnTo>
                  <a:lnTo>
                    <a:pt x="602" y="1509"/>
                  </a:lnTo>
                  <a:lnTo>
                    <a:pt x="602" y="1502"/>
                  </a:lnTo>
                  <a:lnTo>
                    <a:pt x="609" y="1495"/>
                  </a:lnTo>
                  <a:lnTo>
                    <a:pt x="609" y="1488"/>
                  </a:lnTo>
                  <a:lnTo>
                    <a:pt x="616" y="1481"/>
                  </a:lnTo>
                  <a:lnTo>
                    <a:pt x="616" y="1474"/>
                  </a:lnTo>
                  <a:lnTo>
                    <a:pt x="616" y="1467"/>
                  </a:lnTo>
                  <a:lnTo>
                    <a:pt x="616" y="1459"/>
                  </a:lnTo>
                  <a:lnTo>
                    <a:pt x="623" y="1452"/>
                  </a:lnTo>
                  <a:lnTo>
                    <a:pt x="623" y="1445"/>
                  </a:lnTo>
                  <a:lnTo>
                    <a:pt x="623" y="1438"/>
                  </a:lnTo>
                  <a:lnTo>
                    <a:pt x="630" y="1431"/>
                  </a:lnTo>
                  <a:lnTo>
                    <a:pt x="630" y="1424"/>
                  </a:lnTo>
                  <a:lnTo>
                    <a:pt x="637" y="1417"/>
                  </a:lnTo>
                  <a:lnTo>
                    <a:pt x="637" y="1410"/>
                  </a:lnTo>
                  <a:lnTo>
                    <a:pt x="637" y="1403"/>
                  </a:lnTo>
                  <a:lnTo>
                    <a:pt x="645" y="1396"/>
                  </a:lnTo>
                  <a:lnTo>
                    <a:pt x="645" y="1389"/>
                  </a:lnTo>
                  <a:lnTo>
                    <a:pt x="652" y="1382"/>
                  </a:lnTo>
                  <a:lnTo>
                    <a:pt x="652" y="1374"/>
                  </a:lnTo>
                  <a:lnTo>
                    <a:pt x="652" y="1367"/>
                  </a:lnTo>
                  <a:lnTo>
                    <a:pt x="652" y="1360"/>
                  </a:lnTo>
                  <a:lnTo>
                    <a:pt x="659" y="1353"/>
                  </a:lnTo>
                  <a:lnTo>
                    <a:pt x="659" y="1346"/>
                  </a:lnTo>
                  <a:lnTo>
                    <a:pt x="666" y="1339"/>
                  </a:lnTo>
                  <a:lnTo>
                    <a:pt x="666" y="1332"/>
                  </a:lnTo>
                  <a:lnTo>
                    <a:pt x="673" y="1325"/>
                  </a:lnTo>
                  <a:lnTo>
                    <a:pt x="673" y="1318"/>
                  </a:lnTo>
                  <a:lnTo>
                    <a:pt x="680" y="1311"/>
                  </a:lnTo>
                  <a:lnTo>
                    <a:pt x="687" y="1304"/>
                  </a:lnTo>
                  <a:lnTo>
                    <a:pt x="687" y="1296"/>
                  </a:lnTo>
                  <a:lnTo>
                    <a:pt x="694" y="1289"/>
                  </a:lnTo>
                  <a:lnTo>
                    <a:pt x="694" y="1282"/>
                  </a:lnTo>
                  <a:lnTo>
                    <a:pt x="701" y="1275"/>
                  </a:lnTo>
                  <a:lnTo>
                    <a:pt x="708" y="1268"/>
                  </a:lnTo>
                  <a:lnTo>
                    <a:pt x="715" y="1261"/>
                  </a:lnTo>
                  <a:lnTo>
                    <a:pt x="723" y="1261"/>
                  </a:lnTo>
                  <a:lnTo>
                    <a:pt x="730" y="1261"/>
                  </a:lnTo>
                  <a:lnTo>
                    <a:pt x="737" y="1261"/>
                  </a:lnTo>
                  <a:lnTo>
                    <a:pt x="744" y="1261"/>
                  </a:lnTo>
                  <a:lnTo>
                    <a:pt x="751" y="1268"/>
                  </a:lnTo>
                  <a:lnTo>
                    <a:pt x="758" y="1275"/>
                  </a:lnTo>
                  <a:lnTo>
                    <a:pt x="765" y="1282"/>
                  </a:lnTo>
                  <a:lnTo>
                    <a:pt x="765" y="1289"/>
                  </a:lnTo>
                  <a:lnTo>
                    <a:pt x="772" y="1296"/>
                  </a:lnTo>
                  <a:lnTo>
                    <a:pt x="772" y="1304"/>
                  </a:lnTo>
                  <a:lnTo>
                    <a:pt x="779" y="1311"/>
                  </a:lnTo>
                  <a:lnTo>
                    <a:pt x="779" y="1318"/>
                  </a:lnTo>
                  <a:lnTo>
                    <a:pt x="786" y="1325"/>
                  </a:lnTo>
                  <a:lnTo>
                    <a:pt x="786" y="1332"/>
                  </a:lnTo>
                  <a:lnTo>
                    <a:pt x="793" y="1339"/>
                  </a:lnTo>
                  <a:lnTo>
                    <a:pt x="793" y="1346"/>
                  </a:lnTo>
                  <a:lnTo>
                    <a:pt x="793" y="1353"/>
                  </a:lnTo>
                  <a:lnTo>
                    <a:pt x="800" y="1360"/>
                  </a:lnTo>
                  <a:lnTo>
                    <a:pt x="800" y="1367"/>
                  </a:lnTo>
                  <a:lnTo>
                    <a:pt x="800" y="1374"/>
                  </a:lnTo>
                  <a:lnTo>
                    <a:pt x="800" y="1382"/>
                  </a:lnTo>
                  <a:lnTo>
                    <a:pt x="808" y="1389"/>
                  </a:lnTo>
                  <a:lnTo>
                    <a:pt x="808" y="1403"/>
                  </a:lnTo>
                  <a:lnTo>
                    <a:pt x="808" y="1410"/>
                  </a:lnTo>
                  <a:lnTo>
                    <a:pt x="815" y="1417"/>
                  </a:lnTo>
                  <a:lnTo>
                    <a:pt x="815" y="1424"/>
                  </a:lnTo>
                  <a:lnTo>
                    <a:pt x="815" y="1431"/>
                  </a:lnTo>
                  <a:lnTo>
                    <a:pt x="822" y="1445"/>
                  </a:lnTo>
                  <a:lnTo>
                    <a:pt x="822" y="1452"/>
                  </a:lnTo>
                  <a:lnTo>
                    <a:pt x="822" y="1459"/>
                  </a:lnTo>
                  <a:lnTo>
                    <a:pt x="829" y="1474"/>
                  </a:lnTo>
                  <a:lnTo>
                    <a:pt x="829" y="1481"/>
                  </a:lnTo>
                  <a:lnTo>
                    <a:pt x="829" y="1495"/>
                  </a:lnTo>
                  <a:lnTo>
                    <a:pt x="836" y="1502"/>
                  </a:lnTo>
                  <a:lnTo>
                    <a:pt x="836" y="1516"/>
                  </a:lnTo>
                  <a:lnTo>
                    <a:pt x="836" y="1523"/>
                  </a:lnTo>
                  <a:lnTo>
                    <a:pt x="836" y="1537"/>
                  </a:lnTo>
                  <a:lnTo>
                    <a:pt x="843" y="1544"/>
                  </a:lnTo>
                  <a:lnTo>
                    <a:pt x="843" y="1559"/>
                  </a:lnTo>
                  <a:lnTo>
                    <a:pt x="843" y="1573"/>
                  </a:lnTo>
                  <a:lnTo>
                    <a:pt x="850" y="1587"/>
                  </a:lnTo>
                  <a:lnTo>
                    <a:pt x="850" y="1594"/>
                  </a:lnTo>
                  <a:lnTo>
                    <a:pt x="850" y="1608"/>
                  </a:lnTo>
                  <a:lnTo>
                    <a:pt x="857" y="1594"/>
                  </a:lnTo>
                  <a:lnTo>
                    <a:pt x="857" y="1580"/>
                  </a:lnTo>
                  <a:lnTo>
                    <a:pt x="857" y="1573"/>
                  </a:lnTo>
                  <a:lnTo>
                    <a:pt x="864" y="1559"/>
                  </a:lnTo>
                  <a:lnTo>
                    <a:pt x="864" y="1544"/>
                  </a:lnTo>
                  <a:lnTo>
                    <a:pt x="864" y="1530"/>
                  </a:lnTo>
                  <a:lnTo>
                    <a:pt x="871" y="1516"/>
                  </a:lnTo>
                  <a:lnTo>
                    <a:pt x="871" y="1502"/>
                  </a:lnTo>
                  <a:lnTo>
                    <a:pt x="871" y="1488"/>
                  </a:lnTo>
                  <a:lnTo>
                    <a:pt x="878" y="1474"/>
                  </a:lnTo>
                  <a:lnTo>
                    <a:pt x="878" y="1459"/>
                  </a:lnTo>
                  <a:lnTo>
                    <a:pt x="878" y="1445"/>
                  </a:lnTo>
                  <a:lnTo>
                    <a:pt x="878" y="1431"/>
                  </a:lnTo>
                  <a:lnTo>
                    <a:pt x="885" y="1417"/>
                  </a:lnTo>
                  <a:lnTo>
                    <a:pt x="885" y="1403"/>
                  </a:lnTo>
                  <a:lnTo>
                    <a:pt x="885" y="1382"/>
                  </a:lnTo>
                  <a:lnTo>
                    <a:pt x="893" y="1367"/>
                  </a:lnTo>
                  <a:lnTo>
                    <a:pt x="893" y="1353"/>
                  </a:lnTo>
                  <a:lnTo>
                    <a:pt x="893" y="1339"/>
                  </a:lnTo>
                  <a:lnTo>
                    <a:pt x="900" y="1325"/>
                  </a:lnTo>
                  <a:lnTo>
                    <a:pt x="900" y="1304"/>
                  </a:lnTo>
                  <a:lnTo>
                    <a:pt x="900" y="1289"/>
                  </a:lnTo>
                  <a:lnTo>
                    <a:pt x="907" y="1275"/>
                  </a:lnTo>
                  <a:lnTo>
                    <a:pt x="907" y="1261"/>
                  </a:lnTo>
                  <a:lnTo>
                    <a:pt x="907" y="1240"/>
                  </a:lnTo>
                  <a:lnTo>
                    <a:pt x="914" y="1226"/>
                  </a:lnTo>
                  <a:lnTo>
                    <a:pt x="914" y="1211"/>
                  </a:lnTo>
                  <a:lnTo>
                    <a:pt x="914" y="1190"/>
                  </a:lnTo>
                  <a:lnTo>
                    <a:pt x="914" y="1176"/>
                  </a:lnTo>
                  <a:lnTo>
                    <a:pt x="921" y="1162"/>
                  </a:lnTo>
                  <a:lnTo>
                    <a:pt x="921" y="1141"/>
                  </a:lnTo>
                  <a:lnTo>
                    <a:pt x="921" y="1126"/>
                  </a:lnTo>
                  <a:lnTo>
                    <a:pt x="928" y="1105"/>
                  </a:lnTo>
                  <a:lnTo>
                    <a:pt x="928" y="1091"/>
                  </a:lnTo>
                  <a:lnTo>
                    <a:pt x="928" y="1077"/>
                  </a:lnTo>
                  <a:lnTo>
                    <a:pt x="935" y="1056"/>
                  </a:lnTo>
                  <a:lnTo>
                    <a:pt x="935" y="1041"/>
                  </a:lnTo>
                  <a:lnTo>
                    <a:pt x="935" y="1020"/>
                  </a:lnTo>
                  <a:lnTo>
                    <a:pt x="942" y="1006"/>
                  </a:lnTo>
                  <a:lnTo>
                    <a:pt x="942" y="992"/>
                  </a:lnTo>
                  <a:lnTo>
                    <a:pt x="942" y="971"/>
                  </a:lnTo>
                  <a:lnTo>
                    <a:pt x="949" y="956"/>
                  </a:lnTo>
                  <a:lnTo>
                    <a:pt x="949" y="935"/>
                  </a:lnTo>
                  <a:lnTo>
                    <a:pt x="949" y="921"/>
                  </a:lnTo>
                  <a:lnTo>
                    <a:pt x="949" y="900"/>
                  </a:lnTo>
                  <a:lnTo>
                    <a:pt x="956" y="886"/>
                  </a:lnTo>
                  <a:lnTo>
                    <a:pt x="956" y="871"/>
                  </a:lnTo>
                  <a:lnTo>
                    <a:pt x="956" y="850"/>
                  </a:lnTo>
                  <a:lnTo>
                    <a:pt x="963" y="836"/>
                  </a:lnTo>
                  <a:lnTo>
                    <a:pt x="963" y="815"/>
                  </a:lnTo>
                  <a:lnTo>
                    <a:pt x="963" y="800"/>
                  </a:lnTo>
                  <a:lnTo>
                    <a:pt x="971" y="786"/>
                  </a:lnTo>
                  <a:lnTo>
                    <a:pt x="971" y="765"/>
                  </a:lnTo>
                  <a:lnTo>
                    <a:pt x="971" y="751"/>
                  </a:lnTo>
                  <a:lnTo>
                    <a:pt x="978" y="730"/>
                  </a:lnTo>
                  <a:lnTo>
                    <a:pt x="978" y="715"/>
                  </a:lnTo>
                  <a:lnTo>
                    <a:pt x="978" y="701"/>
                  </a:lnTo>
                  <a:lnTo>
                    <a:pt x="985" y="680"/>
                  </a:lnTo>
                  <a:lnTo>
                    <a:pt x="985" y="666"/>
                  </a:lnTo>
                  <a:lnTo>
                    <a:pt x="985" y="652"/>
                  </a:lnTo>
                  <a:lnTo>
                    <a:pt x="985" y="630"/>
                  </a:lnTo>
                  <a:lnTo>
                    <a:pt x="992" y="616"/>
                  </a:lnTo>
                  <a:lnTo>
                    <a:pt x="992" y="602"/>
                  </a:lnTo>
                  <a:lnTo>
                    <a:pt x="992" y="581"/>
                  </a:lnTo>
                  <a:lnTo>
                    <a:pt x="999" y="567"/>
                  </a:lnTo>
                  <a:lnTo>
                    <a:pt x="999" y="552"/>
                  </a:lnTo>
                  <a:lnTo>
                    <a:pt x="999" y="538"/>
                  </a:lnTo>
                  <a:lnTo>
                    <a:pt x="1006" y="524"/>
                  </a:lnTo>
                  <a:lnTo>
                    <a:pt x="1006" y="503"/>
                  </a:lnTo>
                  <a:lnTo>
                    <a:pt x="1006" y="489"/>
                  </a:lnTo>
                  <a:lnTo>
                    <a:pt x="1013" y="475"/>
                  </a:lnTo>
                  <a:lnTo>
                    <a:pt x="1013" y="460"/>
                  </a:lnTo>
                  <a:lnTo>
                    <a:pt x="1013" y="446"/>
                  </a:lnTo>
                  <a:lnTo>
                    <a:pt x="1020" y="432"/>
                  </a:lnTo>
                  <a:lnTo>
                    <a:pt x="1020" y="418"/>
                  </a:lnTo>
                  <a:lnTo>
                    <a:pt x="1020" y="404"/>
                  </a:lnTo>
                  <a:lnTo>
                    <a:pt x="1027" y="390"/>
                  </a:lnTo>
                  <a:lnTo>
                    <a:pt x="1027" y="375"/>
                  </a:lnTo>
                  <a:lnTo>
                    <a:pt x="1027" y="361"/>
                  </a:lnTo>
                  <a:lnTo>
                    <a:pt x="1027" y="347"/>
                  </a:lnTo>
                  <a:lnTo>
                    <a:pt x="1034" y="333"/>
                  </a:lnTo>
                  <a:lnTo>
                    <a:pt x="1034" y="319"/>
                  </a:lnTo>
                  <a:lnTo>
                    <a:pt x="1034" y="304"/>
                  </a:lnTo>
                  <a:lnTo>
                    <a:pt x="1041" y="297"/>
                  </a:lnTo>
                  <a:lnTo>
                    <a:pt x="1041" y="283"/>
                  </a:lnTo>
                  <a:lnTo>
                    <a:pt x="1041" y="269"/>
                  </a:lnTo>
                  <a:lnTo>
                    <a:pt x="1048" y="255"/>
                  </a:lnTo>
                  <a:lnTo>
                    <a:pt x="1048" y="248"/>
                  </a:lnTo>
                  <a:lnTo>
                    <a:pt x="1048" y="234"/>
                  </a:lnTo>
                  <a:lnTo>
                    <a:pt x="1056" y="227"/>
                  </a:lnTo>
                  <a:lnTo>
                    <a:pt x="1056" y="212"/>
                  </a:lnTo>
                  <a:lnTo>
                    <a:pt x="1056" y="198"/>
                  </a:lnTo>
                  <a:lnTo>
                    <a:pt x="1063" y="191"/>
                  </a:lnTo>
                  <a:lnTo>
                    <a:pt x="1063" y="177"/>
                  </a:lnTo>
                  <a:lnTo>
                    <a:pt x="1063" y="170"/>
                  </a:lnTo>
                  <a:lnTo>
                    <a:pt x="1063" y="163"/>
                  </a:lnTo>
                  <a:lnTo>
                    <a:pt x="1070" y="149"/>
                  </a:lnTo>
                  <a:lnTo>
                    <a:pt x="1070" y="142"/>
                  </a:lnTo>
                  <a:lnTo>
                    <a:pt x="1070" y="134"/>
                  </a:lnTo>
                  <a:lnTo>
                    <a:pt x="1077" y="120"/>
                  </a:lnTo>
                  <a:lnTo>
                    <a:pt x="1077" y="113"/>
                  </a:lnTo>
                  <a:lnTo>
                    <a:pt x="1077" y="106"/>
                  </a:lnTo>
                  <a:lnTo>
                    <a:pt x="1084" y="99"/>
                  </a:lnTo>
                  <a:lnTo>
                    <a:pt x="1084" y="92"/>
                  </a:lnTo>
                  <a:lnTo>
                    <a:pt x="1084" y="85"/>
                  </a:lnTo>
                  <a:lnTo>
                    <a:pt x="1091" y="78"/>
                  </a:lnTo>
                  <a:lnTo>
                    <a:pt x="1091" y="71"/>
                  </a:lnTo>
                  <a:lnTo>
                    <a:pt x="1091" y="64"/>
                  </a:lnTo>
                  <a:lnTo>
                    <a:pt x="1098" y="56"/>
                  </a:lnTo>
                  <a:lnTo>
                    <a:pt x="1098" y="49"/>
                  </a:lnTo>
                  <a:lnTo>
                    <a:pt x="1098" y="42"/>
                  </a:lnTo>
                  <a:lnTo>
                    <a:pt x="1105" y="35"/>
                  </a:lnTo>
                  <a:lnTo>
                    <a:pt x="1105" y="28"/>
                  </a:lnTo>
                  <a:lnTo>
                    <a:pt x="1112" y="21"/>
                  </a:lnTo>
                  <a:lnTo>
                    <a:pt x="1119" y="14"/>
                  </a:lnTo>
                  <a:lnTo>
                    <a:pt x="1126" y="7"/>
                  </a:lnTo>
                  <a:lnTo>
                    <a:pt x="1134" y="0"/>
                  </a:lnTo>
                  <a:lnTo>
                    <a:pt x="1141" y="0"/>
                  </a:lnTo>
                  <a:lnTo>
                    <a:pt x="1148" y="7"/>
                  </a:lnTo>
                  <a:lnTo>
                    <a:pt x="1155" y="14"/>
                  </a:lnTo>
                  <a:lnTo>
                    <a:pt x="1162" y="21"/>
                  </a:lnTo>
                  <a:lnTo>
                    <a:pt x="1169" y="28"/>
                  </a:lnTo>
                  <a:lnTo>
                    <a:pt x="1169" y="35"/>
                  </a:lnTo>
                  <a:lnTo>
                    <a:pt x="1176" y="42"/>
                  </a:lnTo>
                  <a:lnTo>
                    <a:pt x="1176" y="49"/>
                  </a:lnTo>
                  <a:lnTo>
                    <a:pt x="1176" y="56"/>
                  </a:lnTo>
                  <a:lnTo>
                    <a:pt x="1183" y="64"/>
                  </a:lnTo>
                  <a:lnTo>
                    <a:pt x="1183" y="71"/>
                  </a:lnTo>
                  <a:lnTo>
                    <a:pt x="1183" y="78"/>
                  </a:lnTo>
                  <a:lnTo>
                    <a:pt x="1190" y="85"/>
                  </a:lnTo>
                  <a:lnTo>
                    <a:pt x="1190" y="92"/>
                  </a:lnTo>
                  <a:lnTo>
                    <a:pt x="1190" y="99"/>
                  </a:lnTo>
                  <a:lnTo>
                    <a:pt x="1197" y="106"/>
                  </a:lnTo>
                  <a:lnTo>
                    <a:pt x="1197" y="113"/>
                  </a:lnTo>
                  <a:lnTo>
                    <a:pt x="1197" y="120"/>
                  </a:lnTo>
                  <a:lnTo>
                    <a:pt x="1204" y="134"/>
                  </a:lnTo>
                  <a:lnTo>
                    <a:pt x="1204" y="142"/>
                  </a:lnTo>
                  <a:lnTo>
                    <a:pt x="1204" y="149"/>
                  </a:lnTo>
                  <a:lnTo>
                    <a:pt x="1211" y="163"/>
                  </a:lnTo>
                  <a:lnTo>
                    <a:pt x="1211" y="170"/>
                  </a:lnTo>
                  <a:lnTo>
                    <a:pt x="1211" y="177"/>
                  </a:lnTo>
                  <a:lnTo>
                    <a:pt x="1211" y="191"/>
                  </a:lnTo>
                  <a:lnTo>
                    <a:pt x="1219" y="198"/>
                  </a:lnTo>
                  <a:lnTo>
                    <a:pt x="1219" y="212"/>
                  </a:lnTo>
                  <a:lnTo>
                    <a:pt x="1219" y="227"/>
                  </a:lnTo>
                  <a:lnTo>
                    <a:pt x="1226" y="234"/>
                  </a:lnTo>
                  <a:lnTo>
                    <a:pt x="1226" y="248"/>
                  </a:lnTo>
                  <a:lnTo>
                    <a:pt x="1226" y="255"/>
                  </a:lnTo>
                  <a:lnTo>
                    <a:pt x="1233" y="269"/>
                  </a:lnTo>
                  <a:lnTo>
                    <a:pt x="1233" y="283"/>
                  </a:lnTo>
                  <a:lnTo>
                    <a:pt x="1233" y="297"/>
                  </a:lnTo>
                  <a:lnTo>
                    <a:pt x="1240" y="304"/>
                  </a:lnTo>
                  <a:lnTo>
                    <a:pt x="1240" y="319"/>
                  </a:lnTo>
                  <a:lnTo>
                    <a:pt x="1240" y="333"/>
                  </a:lnTo>
                  <a:lnTo>
                    <a:pt x="1247" y="347"/>
                  </a:lnTo>
                  <a:lnTo>
                    <a:pt x="1247" y="361"/>
                  </a:lnTo>
                  <a:lnTo>
                    <a:pt x="1247" y="375"/>
                  </a:lnTo>
                  <a:lnTo>
                    <a:pt x="1247" y="390"/>
                  </a:lnTo>
                  <a:lnTo>
                    <a:pt x="1254" y="404"/>
                  </a:lnTo>
                  <a:lnTo>
                    <a:pt x="1254" y="418"/>
                  </a:lnTo>
                  <a:lnTo>
                    <a:pt x="1254" y="432"/>
                  </a:lnTo>
                  <a:lnTo>
                    <a:pt x="1261" y="446"/>
                  </a:lnTo>
                  <a:lnTo>
                    <a:pt x="1261" y="460"/>
                  </a:lnTo>
                  <a:lnTo>
                    <a:pt x="1261" y="475"/>
                  </a:lnTo>
                  <a:lnTo>
                    <a:pt x="1268" y="489"/>
                  </a:lnTo>
                  <a:lnTo>
                    <a:pt x="1268" y="503"/>
                  </a:lnTo>
                  <a:lnTo>
                    <a:pt x="1268" y="524"/>
                  </a:lnTo>
                  <a:lnTo>
                    <a:pt x="1275" y="538"/>
                  </a:lnTo>
                  <a:lnTo>
                    <a:pt x="1275" y="552"/>
                  </a:lnTo>
                  <a:lnTo>
                    <a:pt x="1275" y="567"/>
                  </a:lnTo>
                  <a:lnTo>
                    <a:pt x="1282" y="581"/>
                  </a:lnTo>
                  <a:lnTo>
                    <a:pt x="1282" y="602"/>
                  </a:lnTo>
                  <a:lnTo>
                    <a:pt x="1282" y="616"/>
                  </a:lnTo>
                  <a:lnTo>
                    <a:pt x="1289" y="630"/>
                  </a:lnTo>
                  <a:lnTo>
                    <a:pt x="1289" y="652"/>
                  </a:lnTo>
                  <a:lnTo>
                    <a:pt x="1289" y="666"/>
                  </a:lnTo>
                  <a:lnTo>
                    <a:pt x="1289" y="680"/>
                  </a:lnTo>
                  <a:lnTo>
                    <a:pt x="1297" y="701"/>
                  </a:lnTo>
                  <a:lnTo>
                    <a:pt x="1297" y="715"/>
                  </a:lnTo>
                  <a:lnTo>
                    <a:pt x="1297" y="730"/>
                  </a:lnTo>
                  <a:lnTo>
                    <a:pt x="1304" y="751"/>
                  </a:lnTo>
                  <a:lnTo>
                    <a:pt x="1304" y="765"/>
                  </a:lnTo>
                  <a:lnTo>
                    <a:pt x="1304" y="786"/>
                  </a:lnTo>
                  <a:lnTo>
                    <a:pt x="1311" y="800"/>
                  </a:lnTo>
                  <a:lnTo>
                    <a:pt x="1311" y="815"/>
                  </a:lnTo>
                  <a:lnTo>
                    <a:pt x="1311" y="836"/>
                  </a:lnTo>
                  <a:lnTo>
                    <a:pt x="1318" y="850"/>
                  </a:lnTo>
                  <a:lnTo>
                    <a:pt x="1318" y="871"/>
                  </a:lnTo>
                  <a:lnTo>
                    <a:pt x="1318" y="886"/>
                  </a:lnTo>
                  <a:lnTo>
                    <a:pt x="1325" y="900"/>
                  </a:lnTo>
                  <a:lnTo>
                    <a:pt x="1325" y="921"/>
                  </a:lnTo>
                  <a:lnTo>
                    <a:pt x="1325" y="935"/>
                  </a:lnTo>
                  <a:lnTo>
                    <a:pt x="1325" y="956"/>
                  </a:lnTo>
                  <a:lnTo>
                    <a:pt x="1332" y="971"/>
                  </a:lnTo>
                  <a:lnTo>
                    <a:pt x="1332" y="992"/>
                  </a:lnTo>
                  <a:lnTo>
                    <a:pt x="1332" y="1006"/>
                  </a:lnTo>
                  <a:lnTo>
                    <a:pt x="1339" y="1020"/>
                  </a:lnTo>
                  <a:lnTo>
                    <a:pt x="1339" y="1041"/>
                  </a:lnTo>
                  <a:lnTo>
                    <a:pt x="1339" y="1056"/>
                  </a:lnTo>
                  <a:lnTo>
                    <a:pt x="1346" y="1077"/>
                  </a:lnTo>
                  <a:lnTo>
                    <a:pt x="1346" y="1091"/>
                  </a:lnTo>
                  <a:lnTo>
                    <a:pt x="1346" y="1105"/>
                  </a:lnTo>
                  <a:lnTo>
                    <a:pt x="1353" y="1126"/>
                  </a:lnTo>
                  <a:lnTo>
                    <a:pt x="1353" y="1141"/>
                  </a:lnTo>
                  <a:lnTo>
                    <a:pt x="1353" y="1162"/>
                  </a:lnTo>
                  <a:lnTo>
                    <a:pt x="1360" y="1176"/>
                  </a:lnTo>
                  <a:lnTo>
                    <a:pt x="1360" y="1190"/>
                  </a:lnTo>
                  <a:lnTo>
                    <a:pt x="1360" y="1211"/>
                  </a:lnTo>
                  <a:lnTo>
                    <a:pt x="1360" y="1226"/>
                  </a:lnTo>
                  <a:lnTo>
                    <a:pt x="1367" y="1240"/>
                  </a:lnTo>
                  <a:lnTo>
                    <a:pt x="1367" y="1261"/>
                  </a:lnTo>
                  <a:lnTo>
                    <a:pt x="1367" y="1275"/>
                  </a:lnTo>
                  <a:lnTo>
                    <a:pt x="1374" y="1289"/>
                  </a:lnTo>
                  <a:lnTo>
                    <a:pt x="1374" y="1304"/>
                  </a:lnTo>
                  <a:lnTo>
                    <a:pt x="1374" y="1325"/>
                  </a:lnTo>
                  <a:lnTo>
                    <a:pt x="1382" y="1339"/>
                  </a:lnTo>
                  <a:lnTo>
                    <a:pt x="1382" y="1353"/>
                  </a:lnTo>
                  <a:lnTo>
                    <a:pt x="1382" y="1367"/>
                  </a:lnTo>
                  <a:lnTo>
                    <a:pt x="1389" y="1382"/>
                  </a:lnTo>
                  <a:lnTo>
                    <a:pt x="1389" y="1403"/>
                  </a:lnTo>
                  <a:lnTo>
                    <a:pt x="1389" y="1417"/>
                  </a:lnTo>
                  <a:lnTo>
                    <a:pt x="1396" y="1431"/>
                  </a:lnTo>
                  <a:lnTo>
                    <a:pt x="1396" y="1445"/>
                  </a:lnTo>
                  <a:lnTo>
                    <a:pt x="1396" y="1459"/>
                  </a:lnTo>
                  <a:lnTo>
                    <a:pt x="1396" y="1474"/>
                  </a:lnTo>
                  <a:lnTo>
                    <a:pt x="1403" y="1488"/>
                  </a:lnTo>
                  <a:lnTo>
                    <a:pt x="1403" y="1502"/>
                  </a:lnTo>
                  <a:lnTo>
                    <a:pt x="1403" y="1516"/>
                  </a:lnTo>
                  <a:lnTo>
                    <a:pt x="1410" y="1530"/>
                  </a:lnTo>
                  <a:lnTo>
                    <a:pt x="1410" y="1544"/>
                  </a:lnTo>
                  <a:lnTo>
                    <a:pt x="1410" y="1559"/>
                  </a:lnTo>
                  <a:lnTo>
                    <a:pt x="1417" y="1573"/>
                  </a:lnTo>
                  <a:lnTo>
                    <a:pt x="1417" y="1580"/>
                  </a:lnTo>
                  <a:lnTo>
                    <a:pt x="1417" y="1594"/>
                  </a:lnTo>
                  <a:lnTo>
                    <a:pt x="1424" y="1608"/>
                  </a:lnTo>
                  <a:lnTo>
                    <a:pt x="1424" y="1594"/>
                  </a:lnTo>
                  <a:lnTo>
                    <a:pt x="1424" y="1587"/>
                  </a:lnTo>
                  <a:lnTo>
                    <a:pt x="1431" y="1573"/>
                  </a:lnTo>
                  <a:lnTo>
                    <a:pt x="1431" y="1559"/>
                  </a:lnTo>
                  <a:lnTo>
                    <a:pt x="1431" y="1544"/>
                  </a:lnTo>
                  <a:lnTo>
                    <a:pt x="1438" y="1537"/>
                  </a:lnTo>
                  <a:lnTo>
                    <a:pt x="1438" y="1523"/>
                  </a:lnTo>
                  <a:lnTo>
                    <a:pt x="1438" y="1516"/>
                  </a:lnTo>
                  <a:lnTo>
                    <a:pt x="1438" y="1502"/>
                  </a:lnTo>
                  <a:lnTo>
                    <a:pt x="1445" y="1495"/>
                  </a:lnTo>
                  <a:lnTo>
                    <a:pt x="1445" y="1481"/>
                  </a:lnTo>
                  <a:lnTo>
                    <a:pt x="1445" y="1474"/>
                  </a:lnTo>
                  <a:lnTo>
                    <a:pt x="1452" y="1459"/>
                  </a:lnTo>
                  <a:lnTo>
                    <a:pt x="1452" y="1452"/>
                  </a:lnTo>
                  <a:lnTo>
                    <a:pt x="1452" y="1445"/>
                  </a:lnTo>
                  <a:lnTo>
                    <a:pt x="1460" y="1431"/>
                  </a:lnTo>
                  <a:lnTo>
                    <a:pt x="1460" y="1424"/>
                  </a:lnTo>
                  <a:lnTo>
                    <a:pt x="1460" y="1417"/>
                  </a:lnTo>
                  <a:lnTo>
                    <a:pt x="1467" y="1410"/>
                  </a:lnTo>
                  <a:lnTo>
                    <a:pt x="1467" y="1403"/>
                  </a:lnTo>
                  <a:lnTo>
                    <a:pt x="1467" y="1389"/>
                  </a:lnTo>
                  <a:lnTo>
                    <a:pt x="1474" y="1382"/>
                  </a:lnTo>
                  <a:lnTo>
                    <a:pt x="1474" y="1374"/>
                  </a:lnTo>
                  <a:lnTo>
                    <a:pt x="1474" y="1367"/>
                  </a:lnTo>
                  <a:lnTo>
                    <a:pt x="1474" y="1360"/>
                  </a:lnTo>
                  <a:lnTo>
                    <a:pt x="1481" y="1353"/>
                  </a:lnTo>
                  <a:lnTo>
                    <a:pt x="1481" y="1346"/>
                  </a:lnTo>
                  <a:lnTo>
                    <a:pt x="1488" y="1339"/>
                  </a:lnTo>
                  <a:lnTo>
                    <a:pt x="1488" y="1332"/>
                  </a:lnTo>
                  <a:lnTo>
                    <a:pt x="1488" y="1325"/>
                  </a:lnTo>
                  <a:lnTo>
                    <a:pt x="1495" y="1318"/>
                  </a:lnTo>
                  <a:lnTo>
                    <a:pt x="1495" y="1311"/>
                  </a:lnTo>
                  <a:lnTo>
                    <a:pt x="1502" y="1304"/>
                  </a:lnTo>
                  <a:lnTo>
                    <a:pt x="1502" y="1296"/>
                  </a:lnTo>
                  <a:lnTo>
                    <a:pt x="1509" y="1289"/>
                  </a:lnTo>
                  <a:lnTo>
                    <a:pt x="1509" y="1282"/>
                  </a:lnTo>
                  <a:lnTo>
                    <a:pt x="1516" y="1275"/>
                  </a:lnTo>
                  <a:lnTo>
                    <a:pt x="1523" y="1268"/>
                  </a:lnTo>
                  <a:lnTo>
                    <a:pt x="1530" y="1261"/>
                  </a:lnTo>
                  <a:lnTo>
                    <a:pt x="1537" y="1261"/>
                  </a:lnTo>
                  <a:lnTo>
                    <a:pt x="1545" y="1261"/>
                  </a:lnTo>
                  <a:lnTo>
                    <a:pt x="1552" y="1261"/>
                  </a:lnTo>
                  <a:lnTo>
                    <a:pt x="1559" y="1268"/>
                  </a:lnTo>
                  <a:lnTo>
                    <a:pt x="1566" y="1268"/>
                  </a:lnTo>
                  <a:lnTo>
                    <a:pt x="1573" y="1275"/>
                  </a:lnTo>
                  <a:lnTo>
                    <a:pt x="1580" y="1282"/>
                  </a:lnTo>
                  <a:lnTo>
                    <a:pt x="1587" y="1289"/>
                  </a:lnTo>
                  <a:lnTo>
                    <a:pt x="1587" y="1296"/>
                  </a:lnTo>
                  <a:lnTo>
                    <a:pt x="1594" y="1304"/>
                  </a:lnTo>
                  <a:lnTo>
                    <a:pt x="1594" y="1311"/>
                  </a:lnTo>
                  <a:lnTo>
                    <a:pt x="1601" y="1318"/>
                  </a:lnTo>
                  <a:lnTo>
                    <a:pt x="1601" y="1325"/>
                  </a:lnTo>
                  <a:lnTo>
                    <a:pt x="1608" y="1332"/>
                  </a:lnTo>
                  <a:lnTo>
                    <a:pt x="1608" y="1339"/>
                  </a:lnTo>
                  <a:lnTo>
                    <a:pt x="1615" y="1346"/>
                  </a:lnTo>
                  <a:lnTo>
                    <a:pt x="1615" y="1353"/>
                  </a:lnTo>
                  <a:lnTo>
                    <a:pt x="1622" y="1360"/>
                  </a:lnTo>
                  <a:lnTo>
                    <a:pt x="1622" y="1367"/>
                  </a:lnTo>
                  <a:lnTo>
                    <a:pt x="1622" y="1374"/>
                  </a:lnTo>
                  <a:lnTo>
                    <a:pt x="1630" y="1382"/>
                  </a:lnTo>
                  <a:lnTo>
                    <a:pt x="1630" y="1389"/>
                  </a:lnTo>
                  <a:lnTo>
                    <a:pt x="1630" y="1396"/>
                  </a:lnTo>
                  <a:lnTo>
                    <a:pt x="1637" y="1403"/>
                  </a:lnTo>
                  <a:lnTo>
                    <a:pt x="1637" y="1410"/>
                  </a:lnTo>
                  <a:lnTo>
                    <a:pt x="1644" y="1417"/>
                  </a:lnTo>
                  <a:lnTo>
                    <a:pt x="1644" y="1424"/>
                  </a:lnTo>
                  <a:lnTo>
                    <a:pt x="1644" y="1431"/>
                  </a:lnTo>
                  <a:lnTo>
                    <a:pt x="1651" y="1438"/>
                  </a:lnTo>
                  <a:lnTo>
                    <a:pt x="1651" y="1445"/>
                  </a:lnTo>
                  <a:lnTo>
                    <a:pt x="1651" y="1452"/>
                  </a:lnTo>
                  <a:lnTo>
                    <a:pt x="1658" y="1459"/>
                  </a:lnTo>
                  <a:lnTo>
                    <a:pt x="1658" y="1467"/>
                  </a:lnTo>
                  <a:lnTo>
                    <a:pt x="1658" y="1474"/>
                  </a:lnTo>
                  <a:lnTo>
                    <a:pt x="1665" y="1481"/>
                  </a:lnTo>
                  <a:lnTo>
                    <a:pt x="1665" y="1488"/>
                  </a:lnTo>
                  <a:lnTo>
                    <a:pt x="1665" y="1495"/>
                  </a:lnTo>
                  <a:lnTo>
                    <a:pt x="1672" y="1502"/>
                  </a:lnTo>
                  <a:lnTo>
                    <a:pt x="1672" y="1509"/>
                  </a:lnTo>
                  <a:lnTo>
                    <a:pt x="1672" y="1516"/>
                  </a:lnTo>
                  <a:lnTo>
                    <a:pt x="1679" y="1523"/>
                  </a:lnTo>
                  <a:lnTo>
                    <a:pt x="1679" y="1530"/>
                  </a:lnTo>
                  <a:lnTo>
                    <a:pt x="1679" y="1537"/>
                  </a:lnTo>
                  <a:lnTo>
                    <a:pt x="1686" y="1544"/>
                  </a:lnTo>
                  <a:lnTo>
                    <a:pt x="1686" y="1552"/>
                  </a:lnTo>
                  <a:lnTo>
                    <a:pt x="1686" y="1559"/>
                  </a:lnTo>
                  <a:lnTo>
                    <a:pt x="1693" y="1566"/>
                  </a:lnTo>
                  <a:lnTo>
                    <a:pt x="1693" y="1573"/>
                  </a:lnTo>
                  <a:lnTo>
                    <a:pt x="1693" y="1580"/>
                  </a:lnTo>
                  <a:lnTo>
                    <a:pt x="1700" y="1587"/>
                  </a:lnTo>
                  <a:lnTo>
                    <a:pt x="1700" y="1594"/>
                  </a:lnTo>
                  <a:lnTo>
                    <a:pt x="1700" y="1601"/>
                  </a:lnTo>
                  <a:lnTo>
                    <a:pt x="1708" y="1608"/>
                  </a:lnTo>
                  <a:lnTo>
                    <a:pt x="1708" y="1601"/>
                  </a:lnTo>
                  <a:lnTo>
                    <a:pt x="1708" y="1594"/>
                  </a:lnTo>
                  <a:lnTo>
                    <a:pt x="1715" y="1587"/>
                  </a:lnTo>
                  <a:lnTo>
                    <a:pt x="1715" y="1580"/>
                  </a:lnTo>
                  <a:lnTo>
                    <a:pt x="1722" y="1573"/>
                  </a:lnTo>
                  <a:lnTo>
                    <a:pt x="1722" y="1566"/>
                  </a:lnTo>
                  <a:lnTo>
                    <a:pt x="1722" y="1559"/>
                  </a:lnTo>
                  <a:lnTo>
                    <a:pt x="1729" y="1552"/>
                  </a:lnTo>
                  <a:lnTo>
                    <a:pt x="1729" y="1544"/>
                  </a:lnTo>
                  <a:lnTo>
                    <a:pt x="1736" y="1537"/>
                  </a:lnTo>
                  <a:lnTo>
                    <a:pt x="1736" y="1530"/>
                  </a:lnTo>
                  <a:lnTo>
                    <a:pt x="1736" y="1523"/>
                  </a:lnTo>
                  <a:lnTo>
                    <a:pt x="1743" y="1516"/>
                  </a:lnTo>
                  <a:lnTo>
                    <a:pt x="1743" y="1509"/>
                  </a:lnTo>
                  <a:lnTo>
                    <a:pt x="1750" y="1502"/>
                  </a:lnTo>
                  <a:lnTo>
                    <a:pt x="1750" y="1495"/>
                  </a:lnTo>
                  <a:lnTo>
                    <a:pt x="1757" y="1488"/>
                  </a:lnTo>
                  <a:lnTo>
                    <a:pt x="1757" y="1481"/>
                  </a:lnTo>
                  <a:lnTo>
                    <a:pt x="1764" y="1474"/>
                  </a:lnTo>
                  <a:lnTo>
                    <a:pt x="1764" y="1467"/>
                  </a:lnTo>
                  <a:lnTo>
                    <a:pt x="1771" y="1459"/>
                  </a:lnTo>
                  <a:lnTo>
                    <a:pt x="1771" y="1452"/>
                  </a:lnTo>
                  <a:lnTo>
                    <a:pt x="1778" y="1445"/>
                  </a:lnTo>
                  <a:lnTo>
                    <a:pt x="1785" y="1438"/>
                  </a:lnTo>
                  <a:lnTo>
                    <a:pt x="1793" y="1431"/>
                  </a:lnTo>
                  <a:lnTo>
                    <a:pt x="1800" y="1424"/>
                  </a:lnTo>
                  <a:lnTo>
                    <a:pt x="1807" y="1417"/>
                  </a:lnTo>
                  <a:lnTo>
                    <a:pt x="1814" y="1410"/>
                  </a:lnTo>
                  <a:lnTo>
                    <a:pt x="1821" y="1403"/>
                  </a:lnTo>
                  <a:lnTo>
                    <a:pt x="1828" y="1403"/>
                  </a:lnTo>
                  <a:lnTo>
                    <a:pt x="1835" y="1403"/>
                  </a:lnTo>
                  <a:lnTo>
                    <a:pt x="1842" y="1403"/>
                  </a:lnTo>
                  <a:lnTo>
                    <a:pt x="1849" y="1403"/>
                  </a:lnTo>
                  <a:lnTo>
                    <a:pt x="1856" y="1410"/>
                  </a:lnTo>
                  <a:lnTo>
                    <a:pt x="1863" y="1410"/>
                  </a:lnTo>
                  <a:lnTo>
                    <a:pt x="1871" y="1417"/>
                  </a:lnTo>
                  <a:lnTo>
                    <a:pt x="1878" y="1424"/>
                  </a:lnTo>
                  <a:lnTo>
                    <a:pt x="1885" y="1431"/>
                  </a:lnTo>
                  <a:lnTo>
                    <a:pt x="1892" y="1438"/>
                  </a:lnTo>
                  <a:lnTo>
                    <a:pt x="1899" y="1445"/>
                  </a:lnTo>
                  <a:lnTo>
                    <a:pt x="1906" y="1452"/>
                  </a:lnTo>
                  <a:lnTo>
                    <a:pt x="1913" y="1459"/>
                  </a:lnTo>
                  <a:lnTo>
                    <a:pt x="1913" y="1467"/>
                  </a:lnTo>
                  <a:lnTo>
                    <a:pt x="1920" y="1474"/>
                  </a:lnTo>
                  <a:lnTo>
                    <a:pt x="1920" y="1481"/>
                  </a:lnTo>
                  <a:lnTo>
                    <a:pt x="1927" y="1488"/>
                  </a:lnTo>
                  <a:lnTo>
                    <a:pt x="1927" y="1495"/>
                  </a:lnTo>
                  <a:lnTo>
                    <a:pt x="1934" y="1502"/>
                  </a:lnTo>
                  <a:lnTo>
                    <a:pt x="1941" y="1509"/>
                  </a:lnTo>
                  <a:lnTo>
                    <a:pt x="1941" y="1516"/>
                  </a:lnTo>
                  <a:lnTo>
                    <a:pt x="1948" y="1523"/>
                  </a:lnTo>
                  <a:lnTo>
                    <a:pt x="1948" y="1530"/>
                  </a:lnTo>
                  <a:lnTo>
                    <a:pt x="1956" y="1537"/>
                  </a:lnTo>
                  <a:lnTo>
                    <a:pt x="1956" y="1544"/>
                  </a:lnTo>
                  <a:lnTo>
                    <a:pt x="1963" y="1552"/>
                  </a:lnTo>
                  <a:lnTo>
                    <a:pt x="1963" y="1559"/>
                  </a:lnTo>
                  <a:lnTo>
                    <a:pt x="1970" y="1566"/>
                  </a:lnTo>
                  <a:lnTo>
                    <a:pt x="1970" y="1573"/>
                  </a:lnTo>
                  <a:lnTo>
                    <a:pt x="1977" y="1580"/>
                  </a:lnTo>
                  <a:lnTo>
                    <a:pt x="1977" y="1587"/>
                  </a:lnTo>
                  <a:lnTo>
                    <a:pt x="1984" y="1594"/>
                  </a:lnTo>
                  <a:lnTo>
                    <a:pt x="1991" y="1601"/>
                  </a:lnTo>
                  <a:lnTo>
                    <a:pt x="1991" y="1608"/>
                  </a:lnTo>
                  <a:lnTo>
                    <a:pt x="1998" y="1601"/>
                  </a:lnTo>
                  <a:lnTo>
                    <a:pt x="1998" y="1594"/>
                  </a:lnTo>
                  <a:lnTo>
                    <a:pt x="2005" y="1587"/>
                  </a:lnTo>
                  <a:lnTo>
                    <a:pt x="2005" y="1580"/>
                  </a:lnTo>
                  <a:lnTo>
                    <a:pt x="2012" y="1573"/>
                  </a:lnTo>
                  <a:lnTo>
                    <a:pt x="2012" y="1566"/>
                  </a:lnTo>
                  <a:lnTo>
                    <a:pt x="2019" y="1559"/>
                  </a:lnTo>
                  <a:lnTo>
                    <a:pt x="2026" y="1552"/>
                  </a:lnTo>
                  <a:lnTo>
                    <a:pt x="2026" y="1544"/>
                  </a:lnTo>
                  <a:lnTo>
                    <a:pt x="2034" y="1537"/>
                  </a:lnTo>
                  <a:lnTo>
                    <a:pt x="2034" y="1530"/>
                  </a:lnTo>
                  <a:lnTo>
                    <a:pt x="2041" y="1523"/>
                  </a:lnTo>
                  <a:lnTo>
                    <a:pt x="2048" y="1516"/>
                  </a:lnTo>
                  <a:lnTo>
                    <a:pt x="2055" y="1509"/>
                  </a:lnTo>
                  <a:lnTo>
                    <a:pt x="2062" y="1502"/>
                  </a:lnTo>
                  <a:lnTo>
                    <a:pt x="2069" y="1495"/>
                  </a:lnTo>
                  <a:lnTo>
                    <a:pt x="2069" y="1488"/>
                  </a:lnTo>
                  <a:lnTo>
                    <a:pt x="2076" y="1481"/>
                  </a:lnTo>
                  <a:lnTo>
                    <a:pt x="2083" y="1474"/>
                  </a:lnTo>
                  <a:lnTo>
                    <a:pt x="2090" y="1474"/>
                  </a:lnTo>
                  <a:lnTo>
                    <a:pt x="2097" y="1467"/>
                  </a:lnTo>
                  <a:lnTo>
                    <a:pt x="2104" y="1467"/>
                  </a:lnTo>
                  <a:lnTo>
                    <a:pt x="2111" y="1459"/>
                  </a:lnTo>
                  <a:lnTo>
                    <a:pt x="2119" y="1459"/>
                  </a:lnTo>
                  <a:lnTo>
                    <a:pt x="2126" y="1459"/>
                  </a:lnTo>
                  <a:lnTo>
                    <a:pt x="2133" y="1459"/>
                  </a:lnTo>
                  <a:lnTo>
                    <a:pt x="2140" y="1467"/>
                  </a:lnTo>
                  <a:lnTo>
                    <a:pt x="2147" y="1467"/>
                  </a:lnTo>
                  <a:lnTo>
                    <a:pt x="2154" y="1474"/>
                  </a:lnTo>
                  <a:lnTo>
                    <a:pt x="2161" y="1474"/>
                  </a:lnTo>
                  <a:lnTo>
                    <a:pt x="2168" y="1481"/>
                  </a:lnTo>
                  <a:lnTo>
                    <a:pt x="2175" y="1488"/>
                  </a:lnTo>
                  <a:lnTo>
                    <a:pt x="2182" y="1495"/>
                  </a:lnTo>
                  <a:lnTo>
                    <a:pt x="2189" y="1502"/>
                  </a:lnTo>
                  <a:lnTo>
                    <a:pt x="2197" y="1509"/>
                  </a:lnTo>
                  <a:lnTo>
                    <a:pt x="2204" y="1516"/>
                  </a:lnTo>
                  <a:lnTo>
                    <a:pt x="2211" y="1523"/>
                  </a:lnTo>
                  <a:lnTo>
                    <a:pt x="2218" y="1530"/>
                  </a:lnTo>
                  <a:lnTo>
                    <a:pt x="2225" y="1537"/>
                  </a:lnTo>
                  <a:lnTo>
                    <a:pt x="2232" y="1544"/>
                  </a:lnTo>
                  <a:lnTo>
                    <a:pt x="2239" y="1552"/>
                  </a:lnTo>
                  <a:lnTo>
                    <a:pt x="2239" y="1559"/>
                  </a:lnTo>
                  <a:lnTo>
                    <a:pt x="2246" y="1566"/>
                  </a:lnTo>
                  <a:lnTo>
                    <a:pt x="2253" y="1573"/>
                  </a:lnTo>
                  <a:lnTo>
                    <a:pt x="2253" y="1580"/>
                  </a:lnTo>
                  <a:lnTo>
                    <a:pt x="2260" y="1587"/>
                  </a:lnTo>
                  <a:lnTo>
                    <a:pt x="2267" y="1594"/>
                  </a:lnTo>
                  <a:lnTo>
                    <a:pt x="2267" y="1601"/>
                  </a:lnTo>
                  <a:lnTo>
                    <a:pt x="2274" y="1608"/>
                  </a:lnTo>
                </a:path>
              </a:pathLst>
            </a:cu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7615080" y="2044440"/>
              <a:ext cx="166680" cy="1465200"/>
            </a:xfrm>
            <a:custGeom>
              <a:avLst/>
              <a:gdLst/>
              <a:ahLst/>
              <a:rect l="l" t="t" r="r" b="b"/>
              <a:pathLst>
                <a:path w="2274" h="1608">
                  <a:moveTo>
                    <a:pt x="0" y="1608"/>
                  </a:moveTo>
                  <a:lnTo>
                    <a:pt x="7" y="1601"/>
                  </a:lnTo>
                  <a:lnTo>
                    <a:pt x="14" y="1594"/>
                  </a:lnTo>
                  <a:lnTo>
                    <a:pt x="14" y="1587"/>
                  </a:lnTo>
                  <a:lnTo>
                    <a:pt x="21" y="1580"/>
                  </a:lnTo>
                  <a:lnTo>
                    <a:pt x="28" y="1573"/>
                  </a:lnTo>
                  <a:lnTo>
                    <a:pt x="28" y="1566"/>
                  </a:lnTo>
                  <a:lnTo>
                    <a:pt x="35" y="1559"/>
                  </a:lnTo>
                  <a:lnTo>
                    <a:pt x="42" y="1552"/>
                  </a:lnTo>
                  <a:lnTo>
                    <a:pt x="49" y="1544"/>
                  </a:lnTo>
                  <a:lnTo>
                    <a:pt x="49" y="1537"/>
                  </a:lnTo>
                  <a:lnTo>
                    <a:pt x="56" y="1530"/>
                  </a:lnTo>
                  <a:lnTo>
                    <a:pt x="63" y="1523"/>
                  </a:lnTo>
                  <a:lnTo>
                    <a:pt x="71" y="1516"/>
                  </a:lnTo>
                  <a:lnTo>
                    <a:pt x="78" y="1509"/>
                  </a:lnTo>
                  <a:lnTo>
                    <a:pt x="85" y="1502"/>
                  </a:lnTo>
                  <a:lnTo>
                    <a:pt x="92" y="1495"/>
                  </a:lnTo>
                  <a:lnTo>
                    <a:pt x="99" y="1488"/>
                  </a:lnTo>
                  <a:lnTo>
                    <a:pt x="106" y="1481"/>
                  </a:lnTo>
                  <a:lnTo>
                    <a:pt x="113" y="1474"/>
                  </a:lnTo>
                  <a:lnTo>
                    <a:pt x="120" y="1467"/>
                  </a:lnTo>
                  <a:lnTo>
                    <a:pt x="127" y="1467"/>
                  </a:lnTo>
                  <a:lnTo>
                    <a:pt x="134" y="1459"/>
                  </a:lnTo>
                  <a:lnTo>
                    <a:pt x="141" y="1459"/>
                  </a:lnTo>
                  <a:lnTo>
                    <a:pt x="148" y="1459"/>
                  </a:lnTo>
                  <a:lnTo>
                    <a:pt x="156" y="1459"/>
                  </a:lnTo>
                  <a:lnTo>
                    <a:pt x="163" y="1467"/>
                  </a:lnTo>
                  <a:lnTo>
                    <a:pt x="170" y="1467"/>
                  </a:lnTo>
                  <a:lnTo>
                    <a:pt x="177" y="1467"/>
                  </a:lnTo>
                  <a:lnTo>
                    <a:pt x="184" y="1474"/>
                  </a:lnTo>
                  <a:lnTo>
                    <a:pt x="191" y="1481"/>
                  </a:lnTo>
                  <a:lnTo>
                    <a:pt x="198" y="1481"/>
                  </a:lnTo>
                  <a:lnTo>
                    <a:pt x="205" y="1488"/>
                  </a:lnTo>
                  <a:lnTo>
                    <a:pt x="212" y="1495"/>
                  </a:lnTo>
                  <a:lnTo>
                    <a:pt x="219" y="1502"/>
                  </a:lnTo>
                  <a:lnTo>
                    <a:pt x="226" y="1509"/>
                  </a:lnTo>
                  <a:lnTo>
                    <a:pt x="234" y="1516"/>
                  </a:lnTo>
                  <a:lnTo>
                    <a:pt x="234" y="1523"/>
                  </a:lnTo>
                  <a:lnTo>
                    <a:pt x="241" y="1530"/>
                  </a:lnTo>
                  <a:lnTo>
                    <a:pt x="241" y="1537"/>
                  </a:lnTo>
                  <a:lnTo>
                    <a:pt x="248" y="1544"/>
                  </a:lnTo>
                  <a:lnTo>
                    <a:pt x="255" y="1552"/>
                  </a:lnTo>
                  <a:lnTo>
                    <a:pt x="255" y="1559"/>
                  </a:lnTo>
                  <a:lnTo>
                    <a:pt x="262" y="1566"/>
                  </a:lnTo>
                  <a:lnTo>
                    <a:pt x="269" y="1573"/>
                  </a:lnTo>
                  <a:lnTo>
                    <a:pt x="269" y="1580"/>
                  </a:lnTo>
                  <a:lnTo>
                    <a:pt x="276" y="1587"/>
                  </a:lnTo>
                  <a:lnTo>
                    <a:pt x="276" y="1594"/>
                  </a:lnTo>
                  <a:lnTo>
                    <a:pt x="283" y="1601"/>
                  </a:lnTo>
                  <a:lnTo>
                    <a:pt x="283" y="1608"/>
                  </a:lnTo>
                  <a:lnTo>
                    <a:pt x="290" y="1601"/>
                  </a:lnTo>
                  <a:lnTo>
                    <a:pt x="290" y="1594"/>
                  </a:lnTo>
                  <a:lnTo>
                    <a:pt x="297" y="1587"/>
                  </a:lnTo>
                  <a:lnTo>
                    <a:pt x="297" y="1580"/>
                  </a:lnTo>
                  <a:lnTo>
                    <a:pt x="304" y="1573"/>
                  </a:lnTo>
                  <a:lnTo>
                    <a:pt x="304" y="1566"/>
                  </a:lnTo>
                  <a:lnTo>
                    <a:pt x="311" y="1559"/>
                  </a:lnTo>
                  <a:lnTo>
                    <a:pt x="319" y="1552"/>
                  </a:lnTo>
                  <a:lnTo>
                    <a:pt x="319" y="1544"/>
                  </a:lnTo>
                  <a:lnTo>
                    <a:pt x="319" y="1537"/>
                  </a:lnTo>
                  <a:lnTo>
                    <a:pt x="326" y="1530"/>
                  </a:lnTo>
                  <a:lnTo>
                    <a:pt x="326" y="1523"/>
                  </a:lnTo>
                  <a:lnTo>
                    <a:pt x="333" y="1516"/>
                  </a:lnTo>
                  <a:lnTo>
                    <a:pt x="340" y="1509"/>
                  </a:lnTo>
                  <a:lnTo>
                    <a:pt x="340" y="1502"/>
                  </a:lnTo>
                  <a:lnTo>
                    <a:pt x="347" y="1495"/>
                  </a:lnTo>
                  <a:lnTo>
                    <a:pt x="347" y="1488"/>
                  </a:lnTo>
                  <a:lnTo>
                    <a:pt x="354" y="1481"/>
                  </a:lnTo>
                  <a:lnTo>
                    <a:pt x="354" y="1474"/>
                  </a:lnTo>
                  <a:lnTo>
                    <a:pt x="361" y="1467"/>
                  </a:lnTo>
                  <a:lnTo>
                    <a:pt x="368" y="1459"/>
                  </a:lnTo>
                  <a:lnTo>
                    <a:pt x="375" y="1452"/>
                  </a:lnTo>
                  <a:lnTo>
                    <a:pt x="375" y="1445"/>
                  </a:lnTo>
                  <a:lnTo>
                    <a:pt x="382" y="1438"/>
                  </a:lnTo>
                  <a:lnTo>
                    <a:pt x="389" y="1431"/>
                  </a:lnTo>
                  <a:lnTo>
                    <a:pt x="397" y="1424"/>
                  </a:lnTo>
                  <a:lnTo>
                    <a:pt x="404" y="1417"/>
                  </a:lnTo>
                  <a:lnTo>
                    <a:pt x="411" y="1410"/>
                  </a:lnTo>
                  <a:lnTo>
                    <a:pt x="418" y="1403"/>
                  </a:lnTo>
                  <a:lnTo>
                    <a:pt x="425" y="1403"/>
                  </a:lnTo>
                  <a:lnTo>
                    <a:pt x="432" y="1403"/>
                  </a:lnTo>
                  <a:lnTo>
                    <a:pt x="439" y="1403"/>
                  </a:lnTo>
                  <a:lnTo>
                    <a:pt x="446" y="1403"/>
                  </a:lnTo>
                  <a:lnTo>
                    <a:pt x="453" y="1403"/>
                  </a:lnTo>
                  <a:lnTo>
                    <a:pt x="460" y="1410"/>
                  </a:lnTo>
                  <a:lnTo>
                    <a:pt x="467" y="1417"/>
                  </a:lnTo>
                  <a:lnTo>
                    <a:pt x="474" y="1424"/>
                  </a:lnTo>
                  <a:lnTo>
                    <a:pt x="482" y="1431"/>
                  </a:lnTo>
                  <a:lnTo>
                    <a:pt x="489" y="1438"/>
                  </a:lnTo>
                  <a:lnTo>
                    <a:pt x="496" y="1445"/>
                  </a:lnTo>
                  <a:lnTo>
                    <a:pt x="503" y="1452"/>
                  </a:lnTo>
                  <a:lnTo>
                    <a:pt x="503" y="1459"/>
                  </a:lnTo>
                  <a:lnTo>
                    <a:pt x="510" y="1467"/>
                  </a:lnTo>
                  <a:lnTo>
                    <a:pt x="510" y="1474"/>
                  </a:lnTo>
                  <a:lnTo>
                    <a:pt x="517" y="1481"/>
                  </a:lnTo>
                  <a:lnTo>
                    <a:pt x="517" y="1488"/>
                  </a:lnTo>
                  <a:lnTo>
                    <a:pt x="524" y="1495"/>
                  </a:lnTo>
                  <a:lnTo>
                    <a:pt x="524" y="1502"/>
                  </a:lnTo>
                  <a:lnTo>
                    <a:pt x="531" y="1509"/>
                  </a:lnTo>
                  <a:lnTo>
                    <a:pt x="531" y="1516"/>
                  </a:lnTo>
                  <a:lnTo>
                    <a:pt x="538" y="1523"/>
                  </a:lnTo>
                  <a:lnTo>
                    <a:pt x="538" y="1530"/>
                  </a:lnTo>
                  <a:lnTo>
                    <a:pt x="538" y="1537"/>
                  </a:lnTo>
                  <a:lnTo>
                    <a:pt x="545" y="1544"/>
                  </a:lnTo>
                  <a:lnTo>
                    <a:pt x="545" y="1552"/>
                  </a:lnTo>
                  <a:lnTo>
                    <a:pt x="552" y="1559"/>
                  </a:lnTo>
                  <a:lnTo>
                    <a:pt x="552" y="1566"/>
                  </a:lnTo>
                  <a:lnTo>
                    <a:pt x="552" y="1573"/>
                  </a:lnTo>
                  <a:lnTo>
                    <a:pt x="560" y="1580"/>
                  </a:lnTo>
                  <a:lnTo>
                    <a:pt x="560" y="1587"/>
                  </a:lnTo>
                  <a:lnTo>
                    <a:pt x="567" y="1594"/>
                  </a:lnTo>
                  <a:lnTo>
                    <a:pt x="567" y="1601"/>
                  </a:lnTo>
                  <a:lnTo>
                    <a:pt x="567" y="1608"/>
                  </a:lnTo>
                  <a:lnTo>
                    <a:pt x="574" y="1601"/>
                  </a:lnTo>
                  <a:lnTo>
                    <a:pt x="574" y="1594"/>
                  </a:lnTo>
                  <a:lnTo>
                    <a:pt x="574" y="1587"/>
                  </a:lnTo>
                  <a:lnTo>
                    <a:pt x="581" y="1580"/>
                  </a:lnTo>
                  <a:lnTo>
                    <a:pt x="581" y="1573"/>
                  </a:lnTo>
                  <a:lnTo>
                    <a:pt x="581" y="1566"/>
                  </a:lnTo>
                  <a:lnTo>
                    <a:pt x="588" y="1559"/>
                  </a:lnTo>
                  <a:lnTo>
                    <a:pt x="588" y="1552"/>
                  </a:lnTo>
                  <a:lnTo>
                    <a:pt x="588" y="1544"/>
                  </a:lnTo>
                  <a:lnTo>
                    <a:pt x="595" y="1537"/>
                  </a:lnTo>
                  <a:lnTo>
                    <a:pt x="595" y="1530"/>
                  </a:lnTo>
                  <a:lnTo>
                    <a:pt x="595" y="1523"/>
                  </a:lnTo>
                  <a:lnTo>
                    <a:pt x="602" y="1516"/>
                  </a:lnTo>
                  <a:lnTo>
                    <a:pt x="602" y="1509"/>
                  </a:lnTo>
                  <a:lnTo>
                    <a:pt x="602" y="1502"/>
                  </a:lnTo>
                  <a:lnTo>
                    <a:pt x="609" y="1495"/>
                  </a:lnTo>
                  <a:lnTo>
                    <a:pt x="609" y="1488"/>
                  </a:lnTo>
                  <a:lnTo>
                    <a:pt x="616" y="1481"/>
                  </a:lnTo>
                  <a:lnTo>
                    <a:pt x="616" y="1474"/>
                  </a:lnTo>
                  <a:lnTo>
                    <a:pt x="616" y="1467"/>
                  </a:lnTo>
                  <a:lnTo>
                    <a:pt x="616" y="1459"/>
                  </a:lnTo>
                  <a:lnTo>
                    <a:pt x="623" y="1452"/>
                  </a:lnTo>
                  <a:lnTo>
                    <a:pt x="623" y="1445"/>
                  </a:lnTo>
                  <a:lnTo>
                    <a:pt x="623" y="1438"/>
                  </a:lnTo>
                  <a:lnTo>
                    <a:pt x="630" y="1431"/>
                  </a:lnTo>
                  <a:lnTo>
                    <a:pt x="630" y="1424"/>
                  </a:lnTo>
                  <a:lnTo>
                    <a:pt x="637" y="1417"/>
                  </a:lnTo>
                  <a:lnTo>
                    <a:pt x="637" y="1410"/>
                  </a:lnTo>
                  <a:lnTo>
                    <a:pt x="637" y="1403"/>
                  </a:lnTo>
                  <a:lnTo>
                    <a:pt x="645" y="1396"/>
                  </a:lnTo>
                  <a:lnTo>
                    <a:pt x="645" y="1389"/>
                  </a:lnTo>
                  <a:lnTo>
                    <a:pt x="652" y="1382"/>
                  </a:lnTo>
                  <a:lnTo>
                    <a:pt x="652" y="1374"/>
                  </a:lnTo>
                  <a:lnTo>
                    <a:pt x="652" y="1367"/>
                  </a:lnTo>
                  <a:lnTo>
                    <a:pt x="652" y="1360"/>
                  </a:lnTo>
                  <a:lnTo>
                    <a:pt x="659" y="1353"/>
                  </a:lnTo>
                  <a:lnTo>
                    <a:pt x="659" y="1346"/>
                  </a:lnTo>
                  <a:lnTo>
                    <a:pt x="666" y="1339"/>
                  </a:lnTo>
                  <a:lnTo>
                    <a:pt x="666" y="1332"/>
                  </a:lnTo>
                  <a:lnTo>
                    <a:pt x="673" y="1325"/>
                  </a:lnTo>
                  <a:lnTo>
                    <a:pt x="673" y="1318"/>
                  </a:lnTo>
                  <a:lnTo>
                    <a:pt x="680" y="1311"/>
                  </a:lnTo>
                  <a:lnTo>
                    <a:pt x="687" y="1304"/>
                  </a:lnTo>
                  <a:lnTo>
                    <a:pt x="687" y="1296"/>
                  </a:lnTo>
                  <a:lnTo>
                    <a:pt x="694" y="1289"/>
                  </a:lnTo>
                  <a:lnTo>
                    <a:pt x="694" y="1282"/>
                  </a:lnTo>
                  <a:lnTo>
                    <a:pt x="701" y="1275"/>
                  </a:lnTo>
                  <a:lnTo>
                    <a:pt x="708" y="1268"/>
                  </a:lnTo>
                  <a:lnTo>
                    <a:pt x="715" y="1261"/>
                  </a:lnTo>
                  <a:lnTo>
                    <a:pt x="723" y="1261"/>
                  </a:lnTo>
                  <a:lnTo>
                    <a:pt x="730" y="1261"/>
                  </a:lnTo>
                  <a:lnTo>
                    <a:pt x="737" y="1261"/>
                  </a:lnTo>
                  <a:lnTo>
                    <a:pt x="744" y="1261"/>
                  </a:lnTo>
                  <a:lnTo>
                    <a:pt x="751" y="1268"/>
                  </a:lnTo>
                  <a:lnTo>
                    <a:pt x="758" y="1275"/>
                  </a:lnTo>
                  <a:lnTo>
                    <a:pt x="765" y="1282"/>
                  </a:lnTo>
                  <a:lnTo>
                    <a:pt x="765" y="1289"/>
                  </a:lnTo>
                  <a:lnTo>
                    <a:pt x="772" y="1296"/>
                  </a:lnTo>
                  <a:lnTo>
                    <a:pt x="772" y="1304"/>
                  </a:lnTo>
                  <a:lnTo>
                    <a:pt x="779" y="1311"/>
                  </a:lnTo>
                  <a:lnTo>
                    <a:pt x="779" y="1318"/>
                  </a:lnTo>
                  <a:lnTo>
                    <a:pt x="786" y="1325"/>
                  </a:lnTo>
                  <a:lnTo>
                    <a:pt x="786" y="1332"/>
                  </a:lnTo>
                  <a:lnTo>
                    <a:pt x="793" y="1339"/>
                  </a:lnTo>
                  <a:lnTo>
                    <a:pt x="793" y="1346"/>
                  </a:lnTo>
                  <a:lnTo>
                    <a:pt x="793" y="1353"/>
                  </a:lnTo>
                  <a:lnTo>
                    <a:pt x="800" y="1360"/>
                  </a:lnTo>
                  <a:lnTo>
                    <a:pt x="800" y="1367"/>
                  </a:lnTo>
                  <a:lnTo>
                    <a:pt x="800" y="1374"/>
                  </a:lnTo>
                  <a:lnTo>
                    <a:pt x="800" y="1382"/>
                  </a:lnTo>
                  <a:lnTo>
                    <a:pt x="808" y="1389"/>
                  </a:lnTo>
                  <a:lnTo>
                    <a:pt x="808" y="1403"/>
                  </a:lnTo>
                  <a:lnTo>
                    <a:pt x="808" y="1410"/>
                  </a:lnTo>
                  <a:lnTo>
                    <a:pt x="815" y="1417"/>
                  </a:lnTo>
                  <a:lnTo>
                    <a:pt x="815" y="1424"/>
                  </a:lnTo>
                  <a:lnTo>
                    <a:pt x="815" y="1431"/>
                  </a:lnTo>
                  <a:lnTo>
                    <a:pt x="822" y="1445"/>
                  </a:lnTo>
                  <a:lnTo>
                    <a:pt x="822" y="1452"/>
                  </a:lnTo>
                  <a:lnTo>
                    <a:pt x="822" y="1459"/>
                  </a:lnTo>
                  <a:lnTo>
                    <a:pt x="829" y="1474"/>
                  </a:lnTo>
                  <a:lnTo>
                    <a:pt x="829" y="1481"/>
                  </a:lnTo>
                  <a:lnTo>
                    <a:pt x="829" y="1495"/>
                  </a:lnTo>
                  <a:lnTo>
                    <a:pt x="836" y="1502"/>
                  </a:lnTo>
                  <a:lnTo>
                    <a:pt x="836" y="1516"/>
                  </a:lnTo>
                  <a:lnTo>
                    <a:pt x="836" y="1523"/>
                  </a:lnTo>
                  <a:lnTo>
                    <a:pt x="836" y="1537"/>
                  </a:lnTo>
                  <a:lnTo>
                    <a:pt x="843" y="1544"/>
                  </a:lnTo>
                  <a:lnTo>
                    <a:pt x="843" y="1559"/>
                  </a:lnTo>
                  <a:lnTo>
                    <a:pt x="843" y="1573"/>
                  </a:lnTo>
                  <a:lnTo>
                    <a:pt x="850" y="1587"/>
                  </a:lnTo>
                  <a:lnTo>
                    <a:pt x="850" y="1594"/>
                  </a:lnTo>
                  <a:lnTo>
                    <a:pt x="850" y="1608"/>
                  </a:lnTo>
                  <a:lnTo>
                    <a:pt x="857" y="1594"/>
                  </a:lnTo>
                  <a:lnTo>
                    <a:pt x="857" y="1580"/>
                  </a:lnTo>
                  <a:lnTo>
                    <a:pt x="857" y="1573"/>
                  </a:lnTo>
                  <a:lnTo>
                    <a:pt x="864" y="1559"/>
                  </a:lnTo>
                  <a:lnTo>
                    <a:pt x="864" y="1544"/>
                  </a:lnTo>
                  <a:lnTo>
                    <a:pt x="864" y="1530"/>
                  </a:lnTo>
                  <a:lnTo>
                    <a:pt x="871" y="1516"/>
                  </a:lnTo>
                  <a:lnTo>
                    <a:pt x="871" y="1502"/>
                  </a:lnTo>
                  <a:lnTo>
                    <a:pt x="871" y="1488"/>
                  </a:lnTo>
                  <a:lnTo>
                    <a:pt x="878" y="1474"/>
                  </a:lnTo>
                  <a:lnTo>
                    <a:pt x="878" y="1459"/>
                  </a:lnTo>
                  <a:lnTo>
                    <a:pt x="878" y="1445"/>
                  </a:lnTo>
                  <a:lnTo>
                    <a:pt x="878" y="1431"/>
                  </a:lnTo>
                  <a:lnTo>
                    <a:pt x="885" y="1417"/>
                  </a:lnTo>
                  <a:lnTo>
                    <a:pt x="885" y="1403"/>
                  </a:lnTo>
                  <a:lnTo>
                    <a:pt x="885" y="1382"/>
                  </a:lnTo>
                  <a:lnTo>
                    <a:pt x="893" y="1367"/>
                  </a:lnTo>
                  <a:lnTo>
                    <a:pt x="893" y="1353"/>
                  </a:lnTo>
                  <a:lnTo>
                    <a:pt x="893" y="1339"/>
                  </a:lnTo>
                  <a:lnTo>
                    <a:pt x="900" y="1325"/>
                  </a:lnTo>
                  <a:lnTo>
                    <a:pt x="900" y="1304"/>
                  </a:lnTo>
                  <a:lnTo>
                    <a:pt x="900" y="1289"/>
                  </a:lnTo>
                  <a:lnTo>
                    <a:pt x="907" y="1275"/>
                  </a:lnTo>
                  <a:lnTo>
                    <a:pt x="907" y="1261"/>
                  </a:lnTo>
                  <a:lnTo>
                    <a:pt x="907" y="1240"/>
                  </a:lnTo>
                  <a:lnTo>
                    <a:pt x="914" y="1226"/>
                  </a:lnTo>
                  <a:lnTo>
                    <a:pt x="914" y="1211"/>
                  </a:lnTo>
                  <a:lnTo>
                    <a:pt x="914" y="1190"/>
                  </a:lnTo>
                  <a:lnTo>
                    <a:pt x="914" y="1176"/>
                  </a:lnTo>
                  <a:lnTo>
                    <a:pt x="921" y="1162"/>
                  </a:lnTo>
                  <a:lnTo>
                    <a:pt x="921" y="1141"/>
                  </a:lnTo>
                  <a:lnTo>
                    <a:pt x="921" y="1126"/>
                  </a:lnTo>
                  <a:lnTo>
                    <a:pt x="928" y="1105"/>
                  </a:lnTo>
                  <a:lnTo>
                    <a:pt x="928" y="1091"/>
                  </a:lnTo>
                  <a:lnTo>
                    <a:pt x="928" y="1077"/>
                  </a:lnTo>
                  <a:lnTo>
                    <a:pt x="935" y="1056"/>
                  </a:lnTo>
                  <a:lnTo>
                    <a:pt x="935" y="1041"/>
                  </a:lnTo>
                  <a:lnTo>
                    <a:pt x="935" y="1020"/>
                  </a:lnTo>
                  <a:lnTo>
                    <a:pt x="942" y="1006"/>
                  </a:lnTo>
                  <a:lnTo>
                    <a:pt x="942" y="992"/>
                  </a:lnTo>
                  <a:lnTo>
                    <a:pt x="942" y="971"/>
                  </a:lnTo>
                  <a:lnTo>
                    <a:pt x="949" y="956"/>
                  </a:lnTo>
                  <a:lnTo>
                    <a:pt x="949" y="935"/>
                  </a:lnTo>
                  <a:lnTo>
                    <a:pt x="949" y="921"/>
                  </a:lnTo>
                  <a:lnTo>
                    <a:pt x="949" y="900"/>
                  </a:lnTo>
                  <a:lnTo>
                    <a:pt x="956" y="886"/>
                  </a:lnTo>
                  <a:lnTo>
                    <a:pt x="956" y="871"/>
                  </a:lnTo>
                  <a:lnTo>
                    <a:pt x="956" y="850"/>
                  </a:lnTo>
                  <a:lnTo>
                    <a:pt x="963" y="836"/>
                  </a:lnTo>
                  <a:lnTo>
                    <a:pt x="963" y="815"/>
                  </a:lnTo>
                  <a:lnTo>
                    <a:pt x="963" y="800"/>
                  </a:lnTo>
                  <a:lnTo>
                    <a:pt x="971" y="786"/>
                  </a:lnTo>
                  <a:lnTo>
                    <a:pt x="971" y="765"/>
                  </a:lnTo>
                  <a:lnTo>
                    <a:pt x="971" y="751"/>
                  </a:lnTo>
                  <a:lnTo>
                    <a:pt x="978" y="730"/>
                  </a:lnTo>
                  <a:lnTo>
                    <a:pt x="978" y="715"/>
                  </a:lnTo>
                  <a:lnTo>
                    <a:pt x="978" y="701"/>
                  </a:lnTo>
                  <a:lnTo>
                    <a:pt x="985" y="680"/>
                  </a:lnTo>
                  <a:lnTo>
                    <a:pt x="985" y="666"/>
                  </a:lnTo>
                  <a:lnTo>
                    <a:pt x="985" y="652"/>
                  </a:lnTo>
                  <a:lnTo>
                    <a:pt x="985" y="630"/>
                  </a:lnTo>
                  <a:lnTo>
                    <a:pt x="992" y="616"/>
                  </a:lnTo>
                  <a:lnTo>
                    <a:pt x="992" y="602"/>
                  </a:lnTo>
                  <a:lnTo>
                    <a:pt x="992" y="581"/>
                  </a:lnTo>
                  <a:lnTo>
                    <a:pt x="999" y="567"/>
                  </a:lnTo>
                  <a:lnTo>
                    <a:pt x="999" y="552"/>
                  </a:lnTo>
                  <a:lnTo>
                    <a:pt x="999" y="538"/>
                  </a:lnTo>
                  <a:lnTo>
                    <a:pt x="1006" y="524"/>
                  </a:lnTo>
                  <a:lnTo>
                    <a:pt x="1006" y="503"/>
                  </a:lnTo>
                  <a:lnTo>
                    <a:pt x="1006" y="489"/>
                  </a:lnTo>
                  <a:lnTo>
                    <a:pt x="1013" y="475"/>
                  </a:lnTo>
                  <a:lnTo>
                    <a:pt x="1013" y="460"/>
                  </a:lnTo>
                  <a:lnTo>
                    <a:pt x="1013" y="446"/>
                  </a:lnTo>
                  <a:lnTo>
                    <a:pt x="1020" y="432"/>
                  </a:lnTo>
                  <a:lnTo>
                    <a:pt x="1020" y="418"/>
                  </a:lnTo>
                  <a:lnTo>
                    <a:pt x="1020" y="404"/>
                  </a:lnTo>
                  <a:lnTo>
                    <a:pt x="1027" y="390"/>
                  </a:lnTo>
                  <a:lnTo>
                    <a:pt x="1027" y="375"/>
                  </a:lnTo>
                  <a:lnTo>
                    <a:pt x="1027" y="361"/>
                  </a:lnTo>
                  <a:lnTo>
                    <a:pt x="1027" y="347"/>
                  </a:lnTo>
                  <a:lnTo>
                    <a:pt x="1034" y="333"/>
                  </a:lnTo>
                  <a:lnTo>
                    <a:pt x="1034" y="319"/>
                  </a:lnTo>
                  <a:lnTo>
                    <a:pt x="1034" y="304"/>
                  </a:lnTo>
                  <a:lnTo>
                    <a:pt x="1041" y="297"/>
                  </a:lnTo>
                  <a:lnTo>
                    <a:pt x="1041" y="283"/>
                  </a:lnTo>
                  <a:lnTo>
                    <a:pt x="1041" y="269"/>
                  </a:lnTo>
                  <a:lnTo>
                    <a:pt x="1048" y="255"/>
                  </a:lnTo>
                  <a:lnTo>
                    <a:pt x="1048" y="248"/>
                  </a:lnTo>
                  <a:lnTo>
                    <a:pt x="1048" y="234"/>
                  </a:lnTo>
                  <a:lnTo>
                    <a:pt x="1056" y="227"/>
                  </a:lnTo>
                  <a:lnTo>
                    <a:pt x="1056" y="212"/>
                  </a:lnTo>
                  <a:lnTo>
                    <a:pt x="1056" y="198"/>
                  </a:lnTo>
                  <a:lnTo>
                    <a:pt x="1063" y="191"/>
                  </a:lnTo>
                  <a:lnTo>
                    <a:pt x="1063" y="177"/>
                  </a:lnTo>
                  <a:lnTo>
                    <a:pt x="1063" y="170"/>
                  </a:lnTo>
                  <a:lnTo>
                    <a:pt x="1063" y="163"/>
                  </a:lnTo>
                  <a:lnTo>
                    <a:pt x="1070" y="149"/>
                  </a:lnTo>
                  <a:lnTo>
                    <a:pt x="1070" y="142"/>
                  </a:lnTo>
                  <a:lnTo>
                    <a:pt x="1070" y="134"/>
                  </a:lnTo>
                  <a:lnTo>
                    <a:pt x="1077" y="120"/>
                  </a:lnTo>
                  <a:lnTo>
                    <a:pt x="1077" y="113"/>
                  </a:lnTo>
                  <a:lnTo>
                    <a:pt x="1077" y="106"/>
                  </a:lnTo>
                  <a:lnTo>
                    <a:pt x="1084" y="99"/>
                  </a:lnTo>
                  <a:lnTo>
                    <a:pt x="1084" y="92"/>
                  </a:lnTo>
                  <a:lnTo>
                    <a:pt x="1084" y="85"/>
                  </a:lnTo>
                  <a:lnTo>
                    <a:pt x="1091" y="78"/>
                  </a:lnTo>
                  <a:lnTo>
                    <a:pt x="1091" y="71"/>
                  </a:lnTo>
                  <a:lnTo>
                    <a:pt x="1091" y="64"/>
                  </a:lnTo>
                  <a:lnTo>
                    <a:pt x="1098" y="56"/>
                  </a:lnTo>
                  <a:lnTo>
                    <a:pt x="1098" y="49"/>
                  </a:lnTo>
                  <a:lnTo>
                    <a:pt x="1098" y="42"/>
                  </a:lnTo>
                  <a:lnTo>
                    <a:pt x="1105" y="35"/>
                  </a:lnTo>
                  <a:lnTo>
                    <a:pt x="1105" y="28"/>
                  </a:lnTo>
                  <a:lnTo>
                    <a:pt x="1112" y="21"/>
                  </a:lnTo>
                  <a:lnTo>
                    <a:pt x="1119" y="14"/>
                  </a:lnTo>
                  <a:lnTo>
                    <a:pt x="1126" y="7"/>
                  </a:lnTo>
                  <a:lnTo>
                    <a:pt x="1134" y="0"/>
                  </a:lnTo>
                  <a:lnTo>
                    <a:pt x="1141" y="0"/>
                  </a:lnTo>
                  <a:lnTo>
                    <a:pt x="1148" y="7"/>
                  </a:lnTo>
                  <a:lnTo>
                    <a:pt x="1155" y="14"/>
                  </a:lnTo>
                  <a:lnTo>
                    <a:pt x="1162" y="21"/>
                  </a:lnTo>
                  <a:lnTo>
                    <a:pt x="1169" y="28"/>
                  </a:lnTo>
                  <a:lnTo>
                    <a:pt x="1169" y="35"/>
                  </a:lnTo>
                  <a:lnTo>
                    <a:pt x="1176" y="42"/>
                  </a:lnTo>
                  <a:lnTo>
                    <a:pt x="1176" y="49"/>
                  </a:lnTo>
                  <a:lnTo>
                    <a:pt x="1176" y="56"/>
                  </a:lnTo>
                  <a:lnTo>
                    <a:pt x="1183" y="64"/>
                  </a:lnTo>
                  <a:lnTo>
                    <a:pt x="1183" y="71"/>
                  </a:lnTo>
                  <a:lnTo>
                    <a:pt x="1183" y="78"/>
                  </a:lnTo>
                  <a:lnTo>
                    <a:pt x="1190" y="85"/>
                  </a:lnTo>
                  <a:lnTo>
                    <a:pt x="1190" y="92"/>
                  </a:lnTo>
                  <a:lnTo>
                    <a:pt x="1190" y="99"/>
                  </a:lnTo>
                  <a:lnTo>
                    <a:pt x="1197" y="106"/>
                  </a:lnTo>
                  <a:lnTo>
                    <a:pt x="1197" y="113"/>
                  </a:lnTo>
                  <a:lnTo>
                    <a:pt x="1197" y="120"/>
                  </a:lnTo>
                  <a:lnTo>
                    <a:pt x="1204" y="134"/>
                  </a:lnTo>
                  <a:lnTo>
                    <a:pt x="1204" y="142"/>
                  </a:lnTo>
                  <a:lnTo>
                    <a:pt x="1204" y="149"/>
                  </a:lnTo>
                  <a:lnTo>
                    <a:pt x="1211" y="163"/>
                  </a:lnTo>
                  <a:lnTo>
                    <a:pt x="1211" y="170"/>
                  </a:lnTo>
                  <a:lnTo>
                    <a:pt x="1211" y="177"/>
                  </a:lnTo>
                  <a:lnTo>
                    <a:pt x="1211" y="191"/>
                  </a:lnTo>
                  <a:lnTo>
                    <a:pt x="1219" y="198"/>
                  </a:lnTo>
                  <a:lnTo>
                    <a:pt x="1219" y="212"/>
                  </a:lnTo>
                  <a:lnTo>
                    <a:pt x="1219" y="227"/>
                  </a:lnTo>
                  <a:lnTo>
                    <a:pt x="1226" y="234"/>
                  </a:lnTo>
                  <a:lnTo>
                    <a:pt x="1226" y="248"/>
                  </a:lnTo>
                  <a:lnTo>
                    <a:pt x="1226" y="255"/>
                  </a:lnTo>
                  <a:lnTo>
                    <a:pt x="1233" y="269"/>
                  </a:lnTo>
                  <a:lnTo>
                    <a:pt x="1233" y="283"/>
                  </a:lnTo>
                  <a:lnTo>
                    <a:pt x="1233" y="297"/>
                  </a:lnTo>
                  <a:lnTo>
                    <a:pt x="1240" y="304"/>
                  </a:lnTo>
                  <a:lnTo>
                    <a:pt x="1240" y="319"/>
                  </a:lnTo>
                  <a:lnTo>
                    <a:pt x="1240" y="333"/>
                  </a:lnTo>
                  <a:lnTo>
                    <a:pt x="1247" y="347"/>
                  </a:lnTo>
                  <a:lnTo>
                    <a:pt x="1247" y="361"/>
                  </a:lnTo>
                  <a:lnTo>
                    <a:pt x="1247" y="375"/>
                  </a:lnTo>
                  <a:lnTo>
                    <a:pt x="1247" y="390"/>
                  </a:lnTo>
                  <a:lnTo>
                    <a:pt x="1254" y="404"/>
                  </a:lnTo>
                  <a:lnTo>
                    <a:pt x="1254" y="418"/>
                  </a:lnTo>
                  <a:lnTo>
                    <a:pt x="1254" y="432"/>
                  </a:lnTo>
                  <a:lnTo>
                    <a:pt x="1261" y="446"/>
                  </a:lnTo>
                  <a:lnTo>
                    <a:pt x="1261" y="460"/>
                  </a:lnTo>
                  <a:lnTo>
                    <a:pt x="1261" y="475"/>
                  </a:lnTo>
                  <a:lnTo>
                    <a:pt x="1268" y="489"/>
                  </a:lnTo>
                  <a:lnTo>
                    <a:pt x="1268" y="503"/>
                  </a:lnTo>
                  <a:lnTo>
                    <a:pt x="1268" y="524"/>
                  </a:lnTo>
                  <a:lnTo>
                    <a:pt x="1275" y="538"/>
                  </a:lnTo>
                  <a:lnTo>
                    <a:pt x="1275" y="552"/>
                  </a:lnTo>
                  <a:lnTo>
                    <a:pt x="1275" y="567"/>
                  </a:lnTo>
                  <a:lnTo>
                    <a:pt x="1282" y="581"/>
                  </a:lnTo>
                  <a:lnTo>
                    <a:pt x="1282" y="602"/>
                  </a:lnTo>
                  <a:lnTo>
                    <a:pt x="1282" y="616"/>
                  </a:lnTo>
                  <a:lnTo>
                    <a:pt x="1289" y="630"/>
                  </a:lnTo>
                  <a:lnTo>
                    <a:pt x="1289" y="652"/>
                  </a:lnTo>
                  <a:lnTo>
                    <a:pt x="1289" y="666"/>
                  </a:lnTo>
                  <a:lnTo>
                    <a:pt x="1289" y="680"/>
                  </a:lnTo>
                  <a:lnTo>
                    <a:pt x="1297" y="701"/>
                  </a:lnTo>
                  <a:lnTo>
                    <a:pt x="1297" y="715"/>
                  </a:lnTo>
                  <a:lnTo>
                    <a:pt x="1297" y="730"/>
                  </a:lnTo>
                  <a:lnTo>
                    <a:pt x="1304" y="751"/>
                  </a:lnTo>
                  <a:lnTo>
                    <a:pt x="1304" y="765"/>
                  </a:lnTo>
                  <a:lnTo>
                    <a:pt x="1304" y="786"/>
                  </a:lnTo>
                  <a:lnTo>
                    <a:pt x="1311" y="800"/>
                  </a:lnTo>
                  <a:lnTo>
                    <a:pt x="1311" y="815"/>
                  </a:lnTo>
                  <a:lnTo>
                    <a:pt x="1311" y="836"/>
                  </a:lnTo>
                  <a:lnTo>
                    <a:pt x="1318" y="850"/>
                  </a:lnTo>
                  <a:lnTo>
                    <a:pt x="1318" y="871"/>
                  </a:lnTo>
                  <a:lnTo>
                    <a:pt x="1318" y="886"/>
                  </a:lnTo>
                  <a:lnTo>
                    <a:pt x="1325" y="900"/>
                  </a:lnTo>
                  <a:lnTo>
                    <a:pt x="1325" y="921"/>
                  </a:lnTo>
                  <a:lnTo>
                    <a:pt x="1325" y="935"/>
                  </a:lnTo>
                  <a:lnTo>
                    <a:pt x="1325" y="956"/>
                  </a:lnTo>
                  <a:lnTo>
                    <a:pt x="1332" y="971"/>
                  </a:lnTo>
                  <a:lnTo>
                    <a:pt x="1332" y="992"/>
                  </a:lnTo>
                  <a:lnTo>
                    <a:pt x="1332" y="1006"/>
                  </a:lnTo>
                  <a:lnTo>
                    <a:pt x="1339" y="1020"/>
                  </a:lnTo>
                  <a:lnTo>
                    <a:pt x="1339" y="1041"/>
                  </a:lnTo>
                  <a:lnTo>
                    <a:pt x="1339" y="1056"/>
                  </a:lnTo>
                  <a:lnTo>
                    <a:pt x="1346" y="1077"/>
                  </a:lnTo>
                  <a:lnTo>
                    <a:pt x="1346" y="1091"/>
                  </a:lnTo>
                  <a:lnTo>
                    <a:pt x="1346" y="1105"/>
                  </a:lnTo>
                  <a:lnTo>
                    <a:pt x="1353" y="1126"/>
                  </a:lnTo>
                  <a:lnTo>
                    <a:pt x="1353" y="1141"/>
                  </a:lnTo>
                  <a:lnTo>
                    <a:pt x="1353" y="1162"/>
                  </a:lnTo>
                  <a:lnTo>
                    <a:pt x="1360" y="1176"/>
                  </a:lnTo>
                  <a:lnTo>
                    <a:pt x="1360" y="1190"/>
                  </a:lnTo>
                  <a:lnTo>
                    <a:pt x="1360" y="1211"/>
                  </a:lnTo>
                  <a:lnTo>
                    <a:pt x="1360" y="1226"/>
                  </a:lnTo>
                  <a:lnTo>
                    <a:pt x="1367" y="1240"/>
                  </a:lnTo>
                  <a:lnTo>
                    <a:pt x="1367" y="1261"/>
                  </a:lnTo>
                  <a:lnTo>
                    <a:pt x="1367" y="1275"/>
                  </a:lnTo>
                  <a:lnTo>
                    <a:pt x="1374" y="1289"/>
                  </a:lnTo>
                  <a:lnTo>
                    <a:pt x="1374" y="1304"/>
                  </a:lnTo>
                  <a:lnTo>
                    <a:pt x="1374" y="1325"/>
                  </a:lnTo>
                  <a:lnTo>
                    <a:pt x="1382" y="1339"/>
                  </a:lnTo>
                  <a:lnTo>
                    <a:pt x="1382" y="1353"/>
                  </a:lnTo>
                  <a:lnTo>
                    <a:pt x="1382" y="1367"/>
                  </a:lnTo>
                  <a:lnTo>
                    <a:pt x="1389" y="1382"/>
                  </a:lnTo>
                  <a:lnTo>
                    <a:pt x="1389" y="1403"/>
                  </a:lnTo>
                  <a:lnTo>
                    <a:pt x="1389" y="1417"/>
                  </a:lnTo>
                  <a:lnTo>
                    <a:pt x="1396" y="1431"/>
                  </a:lnTo>
                  <a:lnTo>
                    <a:pt x="1396" y="1445"/>
                  </a:lnTo>
                  <a:lnTo>
                    <a:pt x="1396" y="1459"/>
                  </a:lnTo>
                  <a:lnTo>
                    <a:pt x="1396" y="1474"/>
                  </a:lnTo>
                  <a:lnTo>
                    <a:pt x="1403" y="1488"/>
                  </a:lnTo>
                  <a:lnTo>
                    <a:pt x="1403" y="1502"/>
                  </a:lnTo>
                  <a:lnTo>
                    <a:pt x="1403" y="1516"/>
                  </a:lnTo>
                  <a:lnTo>
                    <a:pt x="1410" y="1530"/>
                  </a:lnTo>
                  <a:lnTo>
                    <a:pt x="1410" y="1544"/>
                  </a:lnTo>
                  <a:lnTo>
                    <a:pt x="1410" y="1559"/>
                  </a:lnTo>
                  <a:lnTo>
                    <a:pt x="1417" y="1573"/>
                  </a:lnTo>
                  <a:lnTo>
                    <a:pt x="1417" y="1580"/>
                  </a:lnTo>
                  <a:lnTo>
                    <a:pt x="1417" y="1594"/>
                  </a:lnTo>
                  <a:lnTo>
                    <a:pt x="1424" y="1608"/>
                  </a:lnTo>
                  <a:lnTo>
                    <a:pt x="1424" y="1594"/>
                  </a:lnTo>
                  <a:lnTo>
                    <a:pt x="1424" y="1587"/>
                  </a:lnTo>
                  <a:lnTo>
                    <a:pt x="1431" y="1573"/>
                  </a:lnTo>
                  <a:lnTo>
                    <a:pt x="1431" y="1559"/>
                  </a:lnTo>
                  <a:lnTo>
                    <a:pt x="1431" y="1544"/>
                  </a:lnTo>
                  <a:lnTo>
                    <a:pt x="1438" y="1537"/>
                  </a:lnTo>
                  <a:lnTo>
                    <a:pt x="1438" y="1523"/>
                  </a:lnTo>
                  <a:lnTo>
                    <a:pt x="1438" y="1516"/>
                  </a:lnTo>
                  <a:lnTo>
                    <a:pt x="1438" y="1502"/>
                  </a:lnTo>
                  <a:lnTo>
                    <a:pt x="1445" y="1495"/>
                  </a:lnTo>
                  <a:lnTo>
                    <a:pt x="1445" y="1481"/>
                  </a:lnTo>
                  <a:lnTo>
                    <a:pt x="1445" y="1474"/>
                  </a:lnTo>
                  <a:lnTo>
                    <a:pt x="1452" y="1459"/>
                  </a:lnTo>
                  <a:lnTo>
                    <a:pt x="1452" y="1452"/>
                  </a:lnTo>
                  <a:lnTo>
                    <a:pt x="1452" y="1445"/>
                  </a:lnTo>
                  <a:lnTo>
                    <a:pt x="1460" y="1431"/>
                  </a:lnTo>
                  <a:lnTo>
                    <a:pt x="1460" y="1424"/>
                  </a:lnTo>
                  <a:lnTo>
                    <a:pt x="1460" y="1417"/>
                  </a:lnTo>
                  <a:lnTo>
                    <a:pt x="1467" y="1410"/>
                  </a:lnTo>
                  <a:lnTo>
                    <a:pt x="1467" y="1403"/>
                  </a:lnTo>
                  <a:lnTo>
                    <a:pt x="1467" y="1389"/>
                  </a:lnTo>
                  <a:lnTo>
                    <a:pt x="1474" y="1382"/>
                  </a:lnTo>
                  <a:lnTo>
                    <a:pt x="1474" y="1374"/>
                  </a:lnTo>
                  <a:lnTo>
                    <a:pt x="1474" y="1367"/>
                  </a:lnTo>
                  <a:lnTo>
                    <a:pt x="1474" y="1360"/>
                  </a:lnTo>
                  <a:lnTo>
                    <a:pt x="1481" y="1353"/>
                  </a:lnTo>
                  <a:lnTo>
                    <a:pt x="1481" y="1346"/>
                  </a:lnTo>
                  <a:lnTo>
                    <a:pt x="1488" y="1339"/>
                  </a:lnTo>
                  <a:lnTo>
                    <a:pt x="1488" y="1332"/>
                  </a:lnTo>
                  <a:lnTo>
                    <a:pt x="1488" y="1325"/>
                  </a:lnTo>
                  <a:lnTo>
                    <a:pt x="1495" y="1318"/>
                  </a:lnTo>
                  <a:lnTo>
                    <a:pt x="1495" y="1311"/>
                  </a:lnTo>
                  <a:lnTo>
                    <a:pt x="1502" y="1304"/>
                  </a:lnTo>
                  <a:lnTo>
                    <a:pt x="1502" y="1296"/>
                  </a:lnTo>
                  <a:lnTo>
                    <a:pt x="1509" y="1289"/>
                  </a:lnTo>
                  <a:lnTo>
                    <a:pt x="1509" y="1282"/>
                  </a:lnTo>
                  <a:lnTo>
                    <a:pt x="1516" y="1275"/>
                  </a:lnTo>
                  <a:lnTo>
                    <a:pt x="1523" y="1268"/>
                  </a:lnTo>
                  <a:lnTo>
                    <a:pt x="1530" y="1261"/>
                  </a:lnTo>
                  <a:lnTo>
                    <a:pt x="1537" y="1261"/>
                  </a:lnTo>
                  <a:lnTo>
                    <a:pt x="1545" y="1261"/>
                  </a:lnTo>
                  <a:lnTo>
                    <a:pt x="1552" y="1261"/>
                  </a:lnTo>
                  <a:lnTo>
                    <a:pt x="1559" y="1268"/>
                  </a:lnTo>
                  <a:lnTo>
                    <a:pt x="1566" y="1268"/>
                  </a:lnTo>
                  <a:lnTo>
                    <a:pt x="1573" y="1275"/>
                  </a:lnTo>
                  <a:lnTo>
                    <a:pt x="1580" y="1282"/>
                  </a:lnTo>
                  <a:lnTo>
                    <a:pt x="1587" y="1289"/>
                  </a:lnTo>
                  <a:lnTo>
                    <a:pt x="1587" y="1296"/>
                  </a:lnTo>
                  <a:lnTo>
                    <a:pt x="1594" y="1304"/>
                  </a:lnTo>
                  <a:lnTo>
                    <a:pt x="1594" y="1311"/>
                  </a:lnTo>
                  <a:lnTo>
                    <a:pt x="1601" y="1318"/>
                  </a:lnTo>
                  <a:lnTo>
                    <a:pt x="1601" y="1325"/>
                  </a:lnTo>
                  <a:lnTo>
                    <a:pt x="1608" y="1332"/>
                  </a:lnTo>
                  <a:lnTo>
                    <a:pt x="1608" y="1339"/>
                  </a:lnTo>
                  <a:lnTo>
                    <a:pt x="1615" y="1346"/>
                  </a:lnTo>
                  <a:lnTo>
                    <a:pt x="1615" y="1353"/>
                  </a:lnTo>
                  <a:lnTo>
                    <a:pt x="1622" y="1360"/>
                  </a:lnTo>
                  <a:lnTo>
                    <a:pt x="1622" y="1367"/>
                  </a:lnTo>
                  <a:lnTo>
                    <a:pt x="1622" y="1374"/>
                  </a:lnTo>
                  <a:lnTo>
                    <a:pt x="1630" y="1382"/>
                  </a:lnTo>
                  <a:lnTo>
                    <a:pt x="1630" y="1389"/>
                  </a:lnTo>
                  <a:lnTo>
                    <a:pt x="1630" y="1396"/>
                  </a:lnTo>
                  <a:lnTo>
                    <a:pt x="1637" y="1403"/>
                  </a:lnTo>
                  <a:lnTo>
                    <a:pt x="1637" y="1410"/>
                  </a:lnTo>
                  <a:lnTo>
                    <a:pt x="1644" y="1417"/>
                  </a:lnTo>
                  <a:lnTo>
                    <a:pt x="1644" y="1424"/>
                  </a:lnTo>
                  <a:lnTo>
                    <a:pt x="1644" y="1431"/>
                  </a:lnTo>
                  <a:lnTo>
                    <a:pt x="1651" y="1438"/>
                  </a:lnTo>
                  <a:lnTo>
                    <a:pt x="1651" y="1445"/>
                  </a:lnTo>
                  <a:lnTo>
                    <a:pt x="1651" y="1452"/>
                  </a:lnTo>
                  <a:lnTo>
                    <a:pt x="1658" y="1459"/>
                  </a:lnTo>
                  <a:lnTo>
                    <a:pt x="1658" y="1467"/>
                  </a:lnTo>
                  <a:lnTo>
                    <a:pt x="1658" y="1474"/>
                  </a:lnTo>
                  <a:lnTo>
                    <a:pt x="1665" y="1481"/>
                  </a:lnTo>
                  <a:lnTo>
                    <a:pt x="1665" y="1488"/>
                  </a:lnTo>
                  <a:lnTo>
                    <a:pt x="1665" y="1495"/>
                  </a:lnTo>
                  <a:lnTo>
                    <a:pt x="1672" y="1502"/>
                  </a:lnTo>
                  <a:lnTo>
                    <a:pt x="1672" y="1509"/>
                  </a:lnTo>
                  <a:lnTo>
                    <a:pt x="1672" y="1516"/>
                  </a:lnTo>
                  <a:lnTo>
                    <a:pt x="1679" y="1523"/>
                  </a:lnTo>
                  <a:lnTo>
                    <a:pt x="1679" y="1530"/>
                  </a:lnTo>
                  <a:lnTo>
                    <a:pt x="1679" y="1537"/>
                  </a:lnTo>
                  <a:lnTo>
                    <a:pt x="1686" y="1544"/>
                  </a:lnTo>
                  <a:lnTo>
                    <a:pt x="1686" y="1552"/>
                  </a:lnTo>
                  <a:lnTo>
                    <a:pt x="1686" y="1559"/>
                  </a:lnTo>
                  <a:lnTo>
                    <a:pt x="1693" y="1566"/>
                  </a:lnTo>
                  <a:lnTo>
                    <a:pt x="1693" y="1573"/>
                  </a:lnTo>
                  <a:lnTo>
                    <a:pt x="1693" y="1580"/>
                  </a:lnTo>
                  <a:lnTo>
                    <a:pt x="1700" y="1587"/>
                  </a:lnTo>
                  <a:lnTo>
                    <a:pt x="1700" y="1594"/>
                  </a:lnTo>
                  <a:lnTo>
                    <a:pt x="1700" y="1601"/>
                  </a:lnTo>
                  <a:lnTo>
                    <a:pt x="1708" y="1608"/>
                  </a:lnTo>
                  <a:lnTo>
                    <a:pt x="1708" y="1601"/>
                  </a:lnTo>
                  <a:lnTo>
                    <a:pt x="1708" y="1594"/>
                  </a:lnTo>
                  <a:lnTo>
                    <a:pt x="1715" y="1587"/>
                  </a:lnTo>
                  <a:lnTo>
                    <a:pt x="1715" y="1580"/>
                  </a:lnTo>
                  <a:lnTo>
                    <a:pt x="1722" y="1573"/>
                  </a:lnTo>
                  <a:lnTo>
                    <a:pt x="1722" y="1566"/>
                  </a:lnTo>
                  <a:lnTo>
                    <a:pt x="1722" y="1559"/>
                  </a:lnTo>
                  <a:lnTo>
                    <a:pt x="1729" y="1552"/>
                  </a:lnTo>
                  <a:lnTo>
                    <a:pt x="1729" y="1544"/>
                  </a:lnTo>
                  <a:lnTo>
                    <a:pt x="1736" y="1537"/>
                  </a:lnTo>
                  <a:lnTo>
                    <a:pt x="1736" y="1530"/>
                  </a:lnTo>
                  <a:lnTo>
                    <a:pt x="1736" y="1523"/>
                  </a:lnTo>
                  <a:lnTo>
                    <a:pt x="1743" y="1516"/>
                  </a:lnTo>
                  <a:lnTo>
                    <a:pt x="1743" y="1509"/>
                  </a:lnTo>
                  <a:lnTo>
                    <a:pt x="1750" y="1502"/>
                  </a:lnTo>
                  <a:lnTo>
                    <a:pt x="1750" y="1495"/>
                  </a:lnTo>
                  <a:lnTo>
                    <a:pt x="1757" y="1488"/>
                  </a:lnTo>
                  <a:lnTo>
                    <a:pt x="1757" y="1481"/>
                  </a:lnTo>
                  <a:lnTo>
                    <a:pt x="1764" y="1474"/>
                  </a:lnTo>
                  <a:lnTo>
                    <a:pt x="1764" y="1467"/>
                  </a:lnTo>
                  <a:lnTo>
                    <a:pt x="1771" y="1459"/>
                  </a:lnTo>
                  <a:lnTo>
                    <a:pt x="1771" y="1452"/>
                  </a:lnTo>
                  <a:lnTo>
                    <a:pt x="1778" y="1445"/>
                  </a:lnTo>
                  <a:lnTo>
                    <a:pt x="1785" y="1438"/>
                  </a:lnTo>
                  <a:lnTo>
                    <a:pt x="1793" y="1431"/>
                  </a:lnTo>
                  <a:lnTo>
                    <a:pt x="1800" y="1424"/>
                  </a:lnTo>
                  <a:lnTo>
                    <a:pt x="1807" y="1417"/>
                  </a:lnTo>
                  <a:lnTo>
                    <a:pt x="1814" y="1410"/>
                  </a:lnTo>
                  <a:lnTo>
                    <a:pt x="1821" y="1403"/>
                  </a:lnTo>
                  <a:lnTo>
                    <a:pt x="1828" y="1403"/>
                  </a:lnTo>
                  <a:lnTo>
                    <a:pt x="1835" y="1403"/>
                  </a:lnTo>
                  <a:lnTo>
                    <a:pt x="1842" y="1403"/>
                  </a:lnTo>
                  <a:lnTo>
                    <a:pt x="1849" y="1403"/>
                  </a:lnTo>
                  <a:lnTo>
                    <a:pt x="1856" y="1410"/>
                  </a:lnTo>
                  <a:lnTo>
                    <a:pt x="1863" y="1410"/>
                  </a:lnTo>
                  <a:lnTo>
                    <a:pt x="1871" y="1417"/>
                  </a:lnTo>
                  <a:lnTo>
                    <a:pt x="1878" y="1424"/>
                  </a:lnTo>
                  <a:lnTo>
                    <a:pt x="1885" y="1431"/>
                  </a:lnTo>
                  <a:lnTo>
                    <a:pt x="1892" y="1438"/>
                  </a:lnTo>
                  <a:lnTo>
                    <a:pt x="1899" y="1445"/>
                  </a:lnTo>
                  <a:lnTo>
                    <a:pt x="1906" y="1452"/>
                  </a:lnTo>
                  <a:lnTo>
                    <a:pt x="1913" y="1459"/>
                  </a:lnTo>
                  <a:lnTo>
                    <a:pt x="1913" y="1467"/>
                  </a:lnTo>
                  <a:lnTo>
                    <a:pt x="1920" y="1474"/>
                  </a:lnTo>
                  <a:lnTo>
                    <a:pt x="1920" y="1481"/>
                  </a:lnTo>
                  <a:lnTo>
                    <a:pt x="1927" y="1488"/>
                  </a:lnTo>
                  <a:lnTo>
                    <a:pt x="1927" y="1495"/>
                  </a:lnTo>
                  <a:lnTo>
                    <a:pt x="1934" y="1502"/>
                  </a:lnTo>
                  <a:lnTo>
                    <a:pt x="1941" y="1509"/>
                  </a:lnTo>
                  <a:lnTo>
                    <a:pt x="1941" y="1516"/>
                  </a:lnTo>
                  <a:lnTo>
                    <a:pt x="1948" y="1523"/>
                  </a:lnTo>
                  <a:lnTo>
                    <a:pt x="1948" y="1530"/>
                  </a:lnTo>
                  <a:lnTo>
                    <a:pt x="1956" y="1537"/>
                  </a:lnTo>
                  <a:lnTo>
                    <a:pt x="1956" y="1544"/>
                  </a:lnTo>
                  <a:lnTo>
                    <a:pt x="1963" y="1552"/>
                  </a:lnTo>
                  <a:lnTo>
                    <a:pt x="1963" y="1559"/>
                  </a:lnTo>
                  <a:lnTo>
                    <a:pt x="1970" y="1566"/>
                  </a:lnTo>
                  <a:lnTo>
                    <a:pt x="1970" y="1573"/>
                  </a:lnTo>
                  <a:lnTo>
                    <a:pt x="1977" y="1580"/>
                  </a:lnTo>
                  <a:lnTo>
                    <a:pt x="1977" y="1587"/>
                  </a:lnTo>
                  <a:lnTo>
                    <a:pt x="1984" y="1594"/>
                  </a:lnTo>
                  <a:lnTo>
                    <a:pt x="1991" y="1601"/>
                  </a:lnTo>
                  <a:lnTo>
                    <a:pt x="1991" y="1608"/>
                  </a:lnTo>
                  <a:lnTo>
                    <a:pt x="1998" y="1601"/>
                  </a:lnTo>
                  <a:lnTo>
                    <a:pt x="1998" y="1594"/>
                  </a:lnTo>
                  <a:lnTo>
                    <a:pt x="2005" y="1587"/>
                  </a:lnTo>
                  <a:lnTo>
                    <a:pt x="2005" y="1580"/>
                  </a:lnTo>
                  <a:lnTo>
                    <a:pt x="2012" y="1573"/>
                  </a:lnTo>
                  <a:lnTo>
                    <a:pt x="2012" y="1566"/>
                  </a:lnTo>
                  <a:lnTo>
                    <a:pt x="2019" y="1559"/>
                  </a:lnTo>
                  <a:lnTo>
                    <a:pt x="2026" y="1552"/>
                  </a:lnTo>
                  <a:lnTo>
                    <a:pt x="2026" y="1544"/>
                  </a:lnTo>
                  <a:lnTo>
                    <a:pt x="2034" y="1537"/>
                  </a:lnTo>
                  <a:lnTo>
                    <a:pt x="2034" y="1530"/>
                  </a:lnTo>
                  <a:lnTo>
                    <a:pt x="2041" y="1523"/>
                  </a:lnTo>
                  <a:lnTo>
                    <a:pt x="2048" y="1516"/>
                  </a:lnTo>
                  <a:lnTo>
                    <a:pt x="2055" y="1509"/>
                  </a:lnTo>
                  <a:lnTo>
                    <a:pt x="2062" y="1502"/>
                  </a:lnTo>
                  <a:lnTo>
                    <a:pt x="2069" y="1495"/>
                  </a:lnTo>
                  <a:lnTo>
                    <a:pt x="2069" y="1488"/>
                  </a:lnTo>
                  <a:lnTo>
                    <a:pt x="2076" y="1481"/>
                  </a:lnTo>
                  <a:lnTo>
                    <a:pt x="2083" y="1474"/>
                  </a:lnTo>
                  <a:lnTo>
                    <a:pt x="2090" y="1474"/>
                  </a:lnTo>
                  <a:lnTo>
                    <a:pt x="2097" y="1467"/>
                  </a:lnTo>
                  <a:lnTo>
                    <a:pt x="2104" y="1467"/>
                  </a:lnTo>
                  <a:lnTo>
                    <a:pt x="2111" y="1459"/>
                  </a:lnTo>
                  <a:lnTo>
                    <a:pt x="2119" y="1459"/>
                  </a:lnTo>
                  <a:lnTo>
                    <a:pt x="2126" y="1459"/>
                  </a:lnTo>
                  <a:lnTo>
                    <a:pt x="2133" y="1459"/>
                  </a:lnTo>
                  <a:lnTo>
                    <a:pt x="2140" y="1467"/>
                  </a:lnTo>
                  <a:lnTo>
                    <a:pt x="2147" y="1467"/>
                  </a:lnTo>
                  <a:lnTo>
                    <a:pt x="2154" y="1474"/>
                  </a:lnTo>
                  <a:lnTo>
                    <a:pt x="2161" y="1474"/>
                  </a:lnTo>
                  <a:lnTo>
                    <a:pt x="2168" y="1481"/>
                  </a:lnTo>
                  <a:lnTo>
                    <a:pt x="2175" y="1488"/>
                  </a:lnTo>
                  <a:lnTo>
                    <a:pt x="2182" y="1495"/>
                  </a:lnTo>
                  <a:lnTo>
                    <a:pt x="2189" y="1502"/>
                  </a:lnTo>
                  <a:lnTo>
                    <a:pt x="2197" y="1509"/>
                  </a:lnTo>
                  <a:lnTo>
                    <a:pt x="2204" y="1516"/>
                  </a:lnTo>
                  <a:lnTo>
                    <a:pt x="2211" y="1523"/>
                  </a:lnTo>
                  <a:lnTo>
                    <a:pt x="2218" y="1530"/>
                  </a:lnTo>
                  <a:lnTo>
                    <a:pt x="2225" y="1537"/>
                  </a:lnTo>
                  <a:lnTo>
                    <a:pt x="2232" y="1544"/>
                  </a:lnTo>
                  <a:lnTo>
                    <a:pt x="2239" y="1552"/>
                  </a:lnTo>
                  <a:lnTo>
                    <a:pt x="2239" y="1559"/>
                  </a:lnTo>
                  <a:lnTo>
                    <a:pt x="2246" y="1566"/>
                  </a:lnTo>
                  <a:lnTo>
                    <a:pt x="2253" y="1573"/>
                  </a:lnTo>
                  <a:lnTo>
                    <a:pt x="2253" y="1580"/>
                  </a:lnTo>
                  <a:lnTo>
                    <a:pt x="2260" y="1587"/>
                  </a:lnTo>
                  <a:lnTo>
                    <a:pt x="2267" y="1594"/>
                  </a:lnTo>
                  <a:lnTo>
                    <a:pt x="2267" y="1601"/>
                  </a:lnTo>
                  <a:lnTo>
                    <a:pt x="2274" y="1608"/>
                  </a:lnTo>
                </a:path>
              </a:pathLst>
            </a:cu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7648560" y="2174760"/>
              <a:ext cx="166680" cy="1334880"/>
            </a:xfrm>
            <a:custGeom>
              <a:avLst/>
              <a:gdLst/>
              <a:ahLst/>
              <a:rect l="l" t="t" r="r" b="b"/>
              <a:pathLst>
                <a:path w="2274" h="1608">
                  <a:moveTo>
                    <a:pt x="0" y="1608"/>
                  </a:moveTo>
                  <a:lnTo>
                    <a:pt x="7" y="1601"/>
                  </a:lnTo>
                  <a:lnTo>
                    <a:pt x="14" y="1594"/>
                  </a:lnTo>
                  <a:lnTo>
                    <a:pt x="14" y="1587"/>
                  </a:lnTo>
                  <a:lnTo>
                    <a:pt x="21" y="1580"/>
                  </a:lnTo>
                  <a:lnTo>
                    <a:pt x="28" y="1573"/>
                  </a:lnTo>
                  <a:lnTo>
                    <a:pt x="28" y="1566"/>
                  </a:lnTo>
                  <a:lnTo>
                    <a:pt x="35" y="1559"/>
                  </a:lnTo>
                  <a:lnTo>
                    <a:pt x="42" y="1552"/>
                  </a:lnTo>
                  <a:lnTo>
                    <a:pt x="49" y="1544"/>
                  </a:lnTo>
                  <a:lnTo>
                    <a:pt x="49" y="1537"/>
                  </a:lnTo>
                  <a:lnTo>
                    <a:pt x="56" y="1530"/>
                  </a:lnTo>
                  <a:lnTo>
                    <a:pt x="63" y="1523"/>
                  </a:lnTo>
                  <a:lnTo>
                    <a:pt x="71" y="1516"/>
                  </a:lnTo>
                  <a:lnTo>
                    <a:pt x="78" y="1509"/>
                  </a:lnTo>
                  <a:lnTo>
                    <a:pt x="85" y="1502"/>
                  </a:lnTo>
                  <a:lnTo>
                    <a:pt x="92" y="1495"/>
                  </a:lnTo>
                  <a:lnTo>
                    <a:pt x="99" y="1488"/>
                  </a:lnTo>
                  <a:lnTo>
                    <a:pt x="106" y="1481"/>
                  </a:lnTo>
                  <a:lnTo>
                    <a:pt x="113" y="1474"/>
                  </a:lnTo>
                  <a:lnTo>
                    <a:pt x="120" y="1467"/>
                  </a:lnTo>
                  <a:lnTo>
                    <a:pt x="127" y="1467"/>
                  </a:lnTo>
                  <a:lnTo>
                    <a:pt x="134" y="1459"/>
                  </a:lnTo>
                  <a:lnTo>
                    <a:pt x="141" y="1459"/>
                  </a:lnTo>
                  <a:lnTo>
                    <a:pt x="148" y="1459"/>
                  </a:lnTo>
                  <a:lnTo>
                    <a:pt x="156" y="1459"/>
                  </a:lnTo>
                  <a:lnTo>
                    <a:pt x="163" y="1467"/>
                  </a:lnTo>
                  <a:lnTo>
                    <a:pt x="170" y="1467"/>
                  </a:lnTo>
                  <a:lnTo>
                    <a:pt x="177" y="1467"/>
                  </a:lnTo>
                  <a:lnTo>
                    <a:pt x="184" y="1474"/>
                  </a:lnTo>
                  <a:lnTo>
                    <a:pt x="191" y="1481"/>
                  </a:lnTo>
                  <a:lnTo>
                    <a:pt x="198" y="1481"/>
                  </a:lnTo>
                  <a:lnTo>
                    <a:pt x="205" y="1488"/>
                  </a:lnTo>
                  <a:lnTo>
                    <a:pt x="212" y="1495"/>
                  </a:lnTo>
                  <a:lnTo>
                    <a:pt x="219" y="1502"/>
                  </a:lnTo>
                  <a:lnTo>
                    <a:pt x="226" y="1509"/>
                  </a:lnTo>
                  <a:lnTo>
                    <a:pt x="234" y="1516"/>
                  </a:lnTo>
                  <a:lnTo>
                    <a:pt x="234" y="1523"/>
                  </a:lnTo>
                  <a:lnTo>
                    <a:pt x="241" y="1530"/>
                  </a:lnTo>
                  <a:lnTo>
                    <a:pt x="241" y="1537"/>
                  </a:lnTo>
                  <a:lnTo>
                    <a:pt x="248" y="1544"/>
                  </a:lnTo>
                  <a:lnTo>
                    <a:pt x="255" y="1552"/>
                  </a:lnTo>
                  <a:lnTo>
                    <a:pt x="255" y="1559"/>
                  </a:lnTo>
                  <a:lnTo>
                    <a:pt x="262" y="1566"/>
                  </a:lnTo>
                  <a:lnTo>
                    <a:pt x="269" y="1573"/>
                  </a:lnTo>
                  <a:lnTo>
                    <a:pt x="269" y="1580"/>
                  </a:lnTo>
                  <a:lnTo>
                    <a:pt x="276" y="1587"/>
                  </a:lnTo>
                  <a:lnTo>
                    <a:pt x="276" y="1594"/>
                  </a:lnTo>
                  <a:lnTo>
                    <a:pt x="283" y="1601"/>
                  </a:lnTo>
                  <a:lnTo>
                    <a:pt x="283" y="1608"/>
                  </a:lnTo>
                  <a:lnTo>
                    <a:pt x="290" y="1601"/>
                  </a:lnTo>
                  <a:lnTo>
                    <a:pt x="290" y="1594"/>
                  </a:lnTo>
                  <a:lnTo>
                    <a:pt x="297" y="1587"/>
                  </a:lnTo>
                  <a:lnTo>
                    <a:pt x="297" y="1580"/>
                  </a:lnTo>
                  <a:lnTo>
                    <a:pt x="304" y="1573"/>
                  </a:lnTo>
                  <a:lnTo>
                    <a:pt x="304" y="1566"/>
                  </a:lnTo>
                  <a:lnTo>
                    <a:pt x="311" y="1559"/>
                  </a:lnTo>
                  <a:lnTo>
                    <a:pt x="319" y="1552"/>
                  </a:lnTo>
                  <a:lnTo>
                    <a:pt x="319" y="1544"/>
                  </a:lnTo>
                  <a:lnTo>
                    <a:pt x="319" y="1537"/>
                  </a:lnTo>
                  <a:lnTo>
                    <a:pt x="326" y="1530"/>
                  </a:lnTo>
                  <a:lnTo>
                    <a:pt x="326" y="1523"/>
                  </a:lnTo>
                  <a:lnTo>
                    <a:pt x="333" y="1516"/>
                  </a:lnTo>
                  <a:lnTo>
                    <a:pt x="340" y="1509"/>
                  </a:lnTo>
                  <a:lnTo>
                    <a:pt x="340" y="1502"/>
                  </a:lnTo>
                  <a:lnTo>
                    <a:pt x="347" y="1495"/>
                  </a:lnTo>
                  <a:lnTo>
                    <a:pt x="347" y="1488"/>
                  </a:lnTo>
                  <a:lnTo>
                    <a:pt x="354" y="1481"/>
                  </a:lnTo>
                  <a:lnTo>
                    <a:pt x="354" y="1474"/>
                  </a:lnTo>
                  <a:lnTo>
                    <a:pt x="361" y="1467"/>
                  </a:lnTo>
                  <a:lnTo>
                    <a:pt x="368" y="1459"/>
                  </a:lnTo>
                  <a:lnTo>
                    <a:pt x="375" y="1452"/>
                  </a:lnTo>
                  <a:lnTo>
                    <a:pt x="375" y="1445"/>
                  </a:lnTo>
                  <a:lnTo>
                    <a:pt x="382" y="1438"/>
                  </a:lnTo>
                  <a:lnTo>
                    <a:pt x="389" y="1431"/>
                  </a:lnTo>
                  <a:lnTo>
                    <a:pt x="397" y="1424"/>
                  </a:lnTo>
                  <a:lnTo>
                    <a:pt x="404" y="1417"/>
                  </a:lnTo>
                  <a:lnTo>
                    <a:pt x="411" y="1410"/>
                  </a:lnTo>
                  <a:lnTo>
                    <a:pt x="418" y="1403"/>
                  </a:lnTo>
                  <a:lnTo>
                    <a:pt x="425" y="1403"/>
                  </a:lnTo>
                  <a:lnTo>
                    <a:pt x="432" y="1403"/>
                  </a:lnTo>
                  <a:lnTo>
                    <a:pt x="439" y="1403"/>
                  </a:lnTo>
                  <a:lnTo>
                    <a:pt x="446" y="1403"/>
                  </a:lnTo>
                  <a:lnTo>
                    <a:pt x="453" y="1403"/>
                  </a:lnTo>
                  <a:lnTo>
                    <a:pt x="460" y="1410"/>
                  </a:lnTo>
                  <a:lnTo>
                    <a:pt x="467" y="1417"/>
                  </a:lnTo>
                  <a:lnTo>
                    <a:pt x="474" y="1424"/>
                  </a:lnTo>
                  <a:lnTo>
                    <a:pt x="482" y="1431"/>
                  </a:lnTo>
                  <a:lnTo>
                    <a:pt x="489" y="1438"/>
                  </a:lnTo>
                  <a:lnTo>
                    <a:pt x="496" y="1445"/>
                  </a:lnTo>
                  <a:lnTo>
                    <a:pt x="503" y="1452"/>
                  </a:lnTo>
                  <a:lnTo>
                    <a:pt x="503" y="1459"/>
                  </a:lnTo>
                  <a:lnTo>
                    <a:pt x="510" y="1467"/>
                  </a:lnTo>
                  <a:lnTo>
                    <a:pt x="510" y="1474"/>
                  </a:lnTo>
                  <a:lnTo>
                    <a:pt x="517" y="1481"/>
                  </a:lnTo>
                  <a:lnTo>
                    <a:pt x="517" y="1488"/>
                  </a:lnTo>
                  <a:lnTo>
                    <a:pt x="524" y="1495"/>
                  </a:lnTo>
                  <a:lnTo>
                    <a:pt x="524" y="1502"/>
                  </a:lnTo>
                  <a:lnTo>
                    <a:pt x="531" y="1509"/>
                  </a:lnTo>
                  <a:lnTo>
                    <a:pt x="531" y="1516"/>
                  </a:lnTo>
                  <a:lnTo>
                    <a:pt x="538" y="1523"/>
                  </a:lnTo>
                  <a:lnTo>
                    <a:pt x="538" y="1530"/>
                  </a:lnTo>
                  <a:lnTo>
                    <a:pt x="538" y="1537"/>
                  </a:lnTo>
                  <a:lnTo>
                    <a:pt x="545" y="1544"/>
                  </a:lnTo>
                  <a:lnTo>
                    <a:pt x="545" y="1552"/>
                  </a:lnTo>
                  <a:lnTo>
                    <a:pt x="552" y="1559"/>
                  </a:lnTo>
                  <a:lnTo>
                    <a:pt x="552" y="1566"/>
                  </a:lnTo>
                  <a:lnTo>
                    <a:pt x="552" y="1573"/>
                  </a:lnTo>
                  <a:lnTo>
                    <a:pt x="560" y="1580"/>
                  </a:lnTo>
                  <a:lnTo>
                    <a:pt x="560" y="1587"/>
                  </a:lnTo>
                  <a:lnTo>
                    <a:pt x="567" y="1594"/>
                  </a:lnTo>
                  <a:lnTo>
                    <a:pt x="567" y="1601"/>
                  </a:lnTo>
                  <a:lnTo>
                    <a:pt x="567" y="1608"/>
                  </a:lnTo>
                  <a:lnTo>
                    <a:pt x="574" y="1601"/>
                  </a:lnTo>
                  <a:lnTo>
                    <a:pt x="574" y="1594"/>
                  </a:lnTo>
                  <a:lnTo>
                    <a:pt x="574" y="1587"/>
                  </a:lnTo>
                  <a:lnTo>
                    <a:pt x="581" y="1580"/>
                  </a:lnTo>
                  <a:lnTo>
                    <a:pt x="581" y="1573"/>
                  </a:lnTo>
                  <a:lnTo>
                    <a:pt x="581" y="1566"/>
                  </a:lnTo>
                  <a:lnTo>
                    <a:pt x="588" y="1559"/>
                  </a:lnTo>
                  <a:lnTo>
                    <a:pt x="588" y="1552"/>
                  </a:lnTo>
                  <a:lnTo>
                    <a:pt x="588" y="1544"/>
                  </a:lnTo>
                  <a:lnTo>
                    <a:pt x="595" y="1537"/>
                  </a:lnTo>
                  <a:lnTo>
                    <a:pt x="595" y="1530"/>
                  </a:lnTo>
                  <a:lnTo>
                    <a:pt x="595" y="1523"/>
                  </a:lnTo>
                  <a:lnTo>
                    <a:pt x="602" y="1516"/>
                  </a:lnTo>
                  <a:lnTo>
                    <a:pt x="602" y="1509"/>
                  </a:lnTo>
                  <a:lnTo>
                    <a:pt x="602" y="1502"/>
                  </a:lnTo>
                  <a:lnTo>
                    <a:pt x="609" y="1495"/>
                  </a:lnTo>
                  <a:lnTo>
                    <a:pt x="609" y="1488"/>
                  </a:lnTo>
                  <a:lnTo>
                    <a:pt x="616" y="1481"/>
                  </a:lnTo>
                  <a:lnTo>
                    <a:pt x="616" y="1474"/>
                  </a:lnTo>
                  <a:lnTo>
                    <a:pt x="616" y="1467"/>
                  </a:lnTo>
                  <a:lnTo>
                    <a:pt x="616" y="1459"/>
                  </a:lnTo>
                  <a:lnTo>
                    <a:pt x="623" y="1452"/>
                  </a:lnTo>
                  <a:lnTo>
                    <a:pt x="623" y="1445"/>
                  </a:lnTo>
                  <a:lnTo>
                    <a:pt x="623" y="1438"/>
                  </a:lnTo>
                  <a:lnTo>
                    <a:pt x="630" y="1431"/>
                  </a:lnTo>
                  <a:lnTo>
                    <a:pt x="630" y="1424"/>
                  </a:lnTo>
                  <a:lnTo>
                    <a:pt x="637" y="1417"/>
                  </a:lnTo>
                  <a:lnTo>
                    <a:pt x="637" y="1410"/>
                  </a:lnTo>
                  <a:lnTo>
                    <a:pt x="637" y="1403"/>
                  </a:lnTo>
                  <a:lnTo>
                    <a:pt x="645" y="1396"/>
                  </a:lnTo>
                  <a:lnTo>
                    <a:pt x="645" y="1389"/>
                  </a:lnTo>
                  <a:lnTo>
                    <a:pt x="652" y="1382"/>
                  </a:lnTo>
                  <a:lnTo>
                    <a:pt x="652" y="1374"/>
                  </a:lnTo>
                  <a:lnTo>
                    <a:pt x="652" y="1367"/>
                  </a:lnTo>
                  <a:lnTo>
                    <a:pt x="652" y="1360"/>
                  </a:lnTo>
                  <a:lnTo>
                    <a:pt x="659" y="1353"/>
                  </a:lnTo>
                  <a:lnTo>
                    <a:pt x="659" y="1346"/>
                  </a:lnTo>
                  <a:lnTo>
                    <a:pt x="666" y="1339"/>
                  </a:lnTo>
                  <a:lnTo>
                    <a:pt x="666" y="1332"/>
                  </a:lnTo>
                  <a:lnTo>
                    <a:pt x="673" y="1325"/>
                  </a:lnTo>
                  <a:lnTo>
                    <a:pt x="673" y="1318"/>
                  </a:lnTo>
                  <a:lnTo>
                    <a:pt x="680" y="1311"/>
                  </a:lnTo>
                  <a:lnTo>
                    <a:pt x="687" y="1304"/>
                  </a:lnTo>
                  <a:lnTo>
                    <a:pt x="687" y="1296"/>
                  </a:lnTo>
                  <a:lnTo>
                    <a:pt x="694" y="1289"/>
                  </a:lnTo>
                  <a:lnTo>
                    <a:pt x="694" y="1282"/>
                  </a:lnTo>
                  <a:lnTo>
                    <a:pt x="701" y="1275"/>
                  </a:lnTo>
                  <a:lnTo>
                    <a:pt x="708" y="1268"/>
                  </a:lnTo>
                  <a:lnTo>
                    <a:pt x="715" y="1261"/>
                  </a:lnTo>
                  <a:lnTo>
                    <a:pt x="723" y="1261"/>
                  </a:lnTo>
                  <a:lnTo>
                    <a:pt x="730" y="1261"/>
                  </a:lnTo>
                  <a:lnTo>
                    <a:pt x="737" y="1261"/>
                  </a:lnTo>
                  <a:lnTo>
                    <a:pt x="744" y="1261"/>
                  </a:lnTo>
                  <a:lnTo>
                    <a:pt x="751" y="1268"/>
                  </a:lnTo>
                  <a:lnTo>
                    <a:pt x="758" y="1275"/>
                  </a:lnTo>
                  <a:lnTo>
                    <a:pt x="765" y="1282"/>
                  </a:lnTo>
                  <a:lnTo>
                    <a:pt x="765" y="1289"/>
                  </a:lnTo>
                  <a:lnTo>
                    <a:pt x="772" y="1296"/>
                  </a:lnTo>
                  <a:lnTo>
                    <a:pt x="772" y="1304"/>
                  </a:lnTo>
                  <a:lnTo>
                    <a:pt x="779" y="1311"/>
                  </a:lnTo>
                  <a:lnTo>
                    <a:pt x="779" y="1318"/>
                  </a:lnTo>
                  <a:lnTo>
                    <a:pt x="786" y="1325"/>
                  </a:lnTo>
                  <a:lnTo>
                    <a:pt x="786" y="1332"/>
                  </a:lnTo>
                  <a:lnTo>
                    <a:pt x="793" y="1339"/>
                  </a:lnTo>
                  <a:lnTo>
                    <a:pt x="793" y="1346"/>
                  </a:lnTo>
                  <a:lnTo>
                    <a:pt x="793" y="1353"/>
                  </a:lnTo>
                  <a:lnTo>
                    <a:pt x="800" y="1360"/>
                  </a:lnTo>
                  <a:lnTo>
                    <a:pt x="800" y="1367"/>
                  </a:lnTo>
                  <a:lnTo>
                    <a:pt x="800" y="1374"/>
                  </a:lnTo>
                  <a:lnTo>
                    <a:pt x="800" y="1382"/>
                  </a:lnTo>
                  <a:lnTo>
                    <a:pt x="808" y="1389"/>
                  </a:lnTo>
                  <a:lnTo>
                    <a:pt x="808" y="1403"/>
                  </a:lnTo>
                  <a:lnTo>
                    <a:pt x="808" y="1410"/>
                  </a:lnTo>
                  <a:lnTo>
                    <a:pt x="815" y="1417"/>
                  </a:lnTo>
                  <a:lnTo>
                    <a:pt x="815" y="1424"/>
                  </a:lnTo>
                  <a:lnTo>
                    <a:pt x="815" y="1431"/>
                  </a:lnTo>
                  <a:lnTo>
                    <a:pt x="822" y="1445"/>
                  </a:lnTo>
                  <a:lnTo>
                    <a:pt x="822" y="1452"/>
                  </a:lnTo>
                  <a:lnTo>
                    <a:pt x="822" y="1459"/>
                  </a:lnTo>
                  <a:lnTo>
                    <a:pt x="829" y="1474"/>
                  </a:lnTo>
                  <a:lnTo>
                    <a:pt x="829" y="1481"/>
                  </a:lnTo>
                  <a:lnTo>
                    <a:pt x="829" y="1495"/>
                  </a:lnTo>
                  <a:lnTo>
                    <a:pt x="836" y="1502"/>
                  </a:lnTo>
                  <a:lnTo>
                    <a:pt x="836" y="1516"/>
                  </a:lnTo>
                  <a:lnTo>
                    <a:pt x="836" y="1523"/>
                  </a:lnTo>
                  <a:lnTo>
                    <a:pt x="836" y="1537"/>
                  </a:lnTo>
                  <a:lnTo>
                    <a:pt x="843" y="1544"/>
                  </a:lnTo>
                  <a:lnTo>
                    <a:pt x="843" y="1559"/>
                  </a:lnTo>
                  <a:lnTo>
                    <a:pt x="843" y="1573"/>
                  </a:lnTo>
                  <a:lnTo>
                    <a:pt x="850" y="1587"/>
                  </a:lnTo>
                  <a:lnTo>
                    <a:pt x="850" y="1594"/>
                  </a:lnTo>
                  <a:lnTo>
                    <a:pt x="850" y="1608"/>
                  </a:lnTo>
                  <a:lnTo>
                    <a:pt x="857" y="1594"/>
                  </a:lnTo>
                  <a:lnTo>
                    <a:pt x="857" y="1580"/>
                  </a:lnTo>
                  <a:lnTo>
                    <a:pt x="857" y="1573"/>
                  </a:lnTo>
                  <a:lnTo>
                    <a:pt x="864" y="1559"/>
                  </a:lnTo>
                  <a:lnTo>
                    <a:pt x="864" y="1544"/>
                  </a:lnTo>
                  <a:lnTo>
                    <a:pt x="864" y="1530"/>
                  </a:lnTo>
                  <a:lnTo>
                    <a:pt x="871" y="1516"/>
                  </a:lnTo>
                  <a:lnTo>
                    <a:pt x="871" y="1502"/>
                  </a:lnTo>
                  <a:lnTo>
                    <a:pt x="871" y="1488"/>
                  </a:lnTo>
                  <a:lnTo>
                    <a:pt x="878" y="1474"/>
                  </a:lnTo>
                  <a:lnTo>
                    <a:pt x="878" y="1459"/>
                  </a:lnTo>
                  <a:lnTo>
                    <a:pt x="878" y="1445"/>
                  </a:lnTo>
                  <a:lnTo>
                    <a:pt x="878" y="1431"/>
                  </a:lnTo>
                  <a:lnTo>
                    <a:pt x="885" y="1417"/>
                  </a:lnTo>
                  <a:lnTo>
                    <a:pt x="885" y="1403"/>
                  </a:lnTo>
                  <a:lnTo>
                    <a:pt x="885" y="1382"/>
                  </a:lnTo>
                  <a:lnTo>
                    <a:pt x="893" y="1367"/>
                  </a:lnTo>
                  <a:lnTo>
                    <a:pt x="893" y="1353"/>
                  </a:lnTo>
                  <a:lnTo>
                    <a:pt x="893" y="1339"/>
                  </a:lnTo>
                  <a:lnTo>
                    <a:pt x="900" y="1325"/>
                  </a:lnTo>
                  <a:lnTo>
                    <a:pt x="900" y="1304"/>
                  </a:lnTo>
                  <a:lnTo>
                    <a:pt x="900" y="1289"/>
                  </a:lnTo>
                  <a:lnTo>
                    <a:pt x="907" y="1275"/>
                  </a:lnTo>
                  <a:lnTo>
                    <a:pt x="907" y="1261"/>
                  </a:lnTo>
                  <a:lnTo>
                    <a:pt x="907" y="1240"/>
                  </a:lnTo>
                  <a:lnTo>
                    <a:pt x="914" y="1226"/>
                  </a:lnTo>
                  <a:lnTo>
                    <a:pt x="914" y="1211"/>
                  </a:lnTo>
                  <a:lnTo>
                    <a:pt x="914" y="1190"/>
                  </a:lnTo>
                  <a:lnTo>
                    <a:pt x="914" y="1176"/>
                  </a:lnTo>
                  <a:lnTo>
                    <a:pt x="921" y="1162"/>
                  </a:lnTo>
                  <a:lnTo>
                    <a:pt x="921" y="1141"/>
                  </a:lnTo>
                  <a:lnTo>
                    <a:pt x="921" y="1126"/>
                  </a:lnTo>
                  <a:lnTo>
                    <a:pt x="928" y="1105"/>
                  </a:lnTo>
                  <a:lnTo>
                    <a:pt x="928" y="1091"/>
                  </a:lnTo>
                  <a:lnTo>
                    <a:pt x="928" y="1077"/>
                  </a:lnTo>
                  <a:lnTo>
                    <a:pt x="935" y="1056"/>
                  </a:lnTo>
                  <a:lnTo>
                    <a:pt x="935" y="1041"/>
                  </a:lnTo>
                  <a:lnTo>
                    <a:pt x="935" y="1020"/>
                  </a:lnTo>
                  <a:lnTo>
                    <a:pt x="942" y="1006"/>
                  </a:lnTo>
                  <a:lnTo>
                    <a:pt x="942" y="992"/>
                  </a:lnTo>
                  <a:lnTo>
                    <a:pt x="942" y="971"/>
                  </a:lnTo>
                  <a:lnTo>
                    <a:pt x="949" y="956"/>
                  </a:lnTo>
                  <a:lnTo>
                    <a:pt x="949" y="935"/>
                  </a:lnTo>
                  <a:lnTo>
                    <a:pt x="949" y="921"/>
                  </a:lnTo>
                  <a:lnTo>
                    <a:pt x="949" y="900"/>
                  </a:lnTo>
                  <a:lnTo>
                    <a:pt x="956" y="886"/>
                  </a:lnTo>
                  <a:lnTo>
                    <a:pt x="956" y="871"/>
                  </a:lnTo>
                  <a:lnTo>
                    <a:pt x="956" y="850"/>
                  </a:lnTo>
                  <a:lnTo>
                    <a:pt x="963" y="836"/>
                  </a:lnTo>
                  <a:lnTo>
                    <a:pt x="963" y="815"/>
                  </a:lnTo>
                  <a:lnTo>
                    <a:pt x="963" y="800"/>
                  </a:lnTo>
                  <a:lnTo>
                    <a:pt x="971" y="786"/>
                  </a:lnTo>
                  <a:lnTo>
                    <a:pt x="971" y="765"/>
                  </a:lnTo>
                  <a:lnTo>
                    <a:pt x="971" y="751"/>
                  </a:lnTo>
                  <a:lnTo>
                    <a:pt x="978" y="730"/>
                  </a:lnTo>
                  <a:lnTo>
                    <a:pt x="978" y="715"/>
                  </a:lnTo>
                  <a:lnTo>
                    <a:pt x="978" y="701"/>
                  </a:lnTo>
                  <a:lnTo>
                    <a:pt x="985" y="680"/>
                  </a:lnTo>
                  <a:lnTo>
                    <a:pt x="985" y="666"/>
                  </a:lnTo>
                  <a:lnTo>
                    <a:pt x="985" y="652"/>
                  </a:lnTo>
                  <a:lnTo>
                    <a:pt x="985" y="630"/>
                  </a:lnTo>
                  <a:lnTo>
                    <a:pt x="992" y="616"/>
                  </a:lnTo>
                  <a:lnTo>
                    <a:pt x="992" y="602"/>
                  </a:lnTo>
                  <a:lnTo>
                    <a:pt x="992" y="581"/>
                  </a:lnTo>
                  <a:lnTo>
                    <a:pt x="999" y="567"/>
                  </a:lnTo>
                  <a:lnTo>
                    <a:pt x="999" y="552"/>
                  </a:lnTo>
                  <a:lnTo>
                    <a:pt x="999" y="538"/>
                  </a:lnTo>
                  <a:lnTo>
                    <a:pt x="1006" y="524"/>
                  </a:lnTo>
                  <a:lnTo>
                    <a:pt x="1006" y="503"/>
                  </a:lnTo>
                  <a:lnTo>
                    <a:pt x="1006" y="489"/>
                  </a:lnTo>
                  <a:lnTo>
                    <a:pt x="1013" y="475"/>
                  </a:lnTo>
                  <a:lnTo>
                    <a:pt x="1013" y="460"/>
                  </a:lnTo>
                  <a:lnTo>
                    <a:pt x="1013" y="446"/>
                  </a:lnTo>
                  <a:lnTo>
                    <a:pt x="1020" y="432"/>
                  </a:lnTo>
                  <a:lnTo>
                    <a:pt x="1020" y="418"/>
                  </a:lnTo>
                  <a:lnTo>
                    <a:pt x="1020" y="404"/>
                  </a:lnTo>
                  <a:lnTo>
                    <a:pt x="1027" y="390"/>
                  </a:lnTo>
                  <a:lnTo>
                    <a:pt x="1027" y="375"/>
                  </a:lnTo>
                  <a:lnTo>
                    <a:pt x="1027" y="361"/>
                  </a:lnTo>
                  <a:lnTo>
                    <a:pt x="1027" y="347"/>
                  </a:lnTo>
                  <a:lnTo>
                    <a:pt x="1034" y="333"/>
                  </a:lnTo>
                  <a:lnTo>
                    <a:pt x="1034" y="319"/>
                  </a:lnTo>
                  <a:lnTo>
                    <a:pt x="1034" y="304"/>
                  </a:lnTo>
                  <a:lnTo>
                    <a:pt x="1041" y="297"/>
                  </a:lnTo>
                  <a:lnTo>
                    <a:pt x="1041" y="283"/>
                  </a:lnTo>
                  <a:lnTo>
                    <a:pt x="1041" y="269"/>
                  </a:lnTo>
                  <a:lnTo>
                    <a:pt x="1048" y="255"/>
                  </a:lnTo>
                  <a:lnTo>
                    <a:pt x="1048" y="248"/>
                  </a:lnTo>
                  <a:lnTo>
                    <a:pt x="1048" y="234"/>
                  </a:lnTo>
                  <a:lnTo>
                    <a:pt x="1056" y="227"/>
                  </a:lnTo>
                  <a:lnTo>
                    <a:pt x="1056" y="212"/>
                  </a:lnTo>
                  <a:lnTo>
                    <a:pt x="1056" y="198"/>
                  </a:lnTo>
                  <a:lnTo>
                    <a:pt x="1063" y="191"/>
                  </a:lnTo>
                  <a:lnTo>
                    <a:pt x="1063" y="177"/>
                  </a:lnTo>
                  <a:lnTo>
                    <a:pt x="1063" y="170"/>
                  </a:lnTo>
                  <a:lnTo>
                    <a:pt x="1063" y="163"/>
                  </a:lnTo>
                  <a:lnTo>
                    <a:pt x="1070" y="149"/>
                  </a:lnTo>
                  <a:lnTo>
                    <a:pt x="1070" y="142"/>
                  </a:lnTo>
                  <a:lnTo>
                    <a:pt x="1070" y="134"/>
                  </a:lnTo>
                  <a:lnTo>
                    <a:pt x="1077" y="120"/>
                  </a:lnTo>
                  <a:lnTo>
                    <a:pt x="1077" y="113"/>
                  </a:lnTo>
                  <a:lnTo>
                    <a:pt x="1077" y="106"/>
                  </a:lnTo>
                  <a:lnTo>
                    <a:pt x="1084" y="99"/>
                  </a:lnTo>
                  <a:lnTo>
                    <a:pt x="1084" y="92"/>
                  </a:lnTo>
                  <a:lnTo>
                    <a:pt x="1084" y="85"/>
                  </a:lnTo>
                  <a:lnTo>
                    <a:pt x="1091" y="78"/>
                  </a:lnTo>
                  <a:lnTo>
                    <a:pt x="1091" y="71"/>
                  </a:lnTo>
                  <a:lnTo>
                    <a:pt x="1091" y="64"/>
                  </a:lnTo>
                  <a:lnTo>
                    <a:pt x="1098" y="56"/>
                  </a:lnTo>
                  <a:lnTo>
                    <a:pt x="1098" y="49"/>
                  </a:lnTo>
                  <a:lnTo>
                    <a:pt x="1098" y="42"/>
                  </a:lnTo>
                  <a:lnTo>
                    <a:pt x="1105" y="35"/>
                  </a:lnTo>
                  <a:lnTo>
                    <a:pt x="1105" y="28"/>
                  </a:lnTo>
                  <a:lnTo>
                    <a:pt x="1112" y="21"/>
                  </a:lnTo>
                  <a:lnTo>
                    <a:pt x="1119" y="14"/>
                  </a:lnTo>
                  <a:lnTo>
                    <a:pt x="1126" y="7"/>
                  </a:lnTo>
                  <a:lnTo>
                    <a:pt x="1134" y="0"/>
                  </a:lnTo>
                  <a:lnTo>
                    <a:pt x="1141" y="0"/>
                  </a:lnTo>
                  <a:lnTo>
                    <a:pt x="1148" y="7"/>
                  </a:lnTo>
                  <a:lnTo>
                    <a:pt x="1155" y="14"/>
                  </a:lnTo>
                  <a:lnTo>
                    <a:pt x="1162" y="21"/>
                  </a:lnTo>
                  <a:lnTo>
                    <a:pt x="1169" y="28"/>
                  </a:lnTo>
                  <a:lnTo>
                    <a:pt x="1169" y="35"/>
                  </a:lnTo>
                  <a:lnTo>
                    <a:pt x="1176" y="42"/>
                  </a:lnTo>
                  <a:lnTo>
                    <a:pt x="1176" y="49"/>
                  </a:lnTo>
                  <a:lnTo>
                    <a:pt x="1176" y="56"/>
                  </a:lnTo>
                  <a:lnTo>
                    <a:pt x="1183" y="64"/>
                  </a:lnTo>
                  <a:lnTo>
                    <a:pt x="1183" y="71"/>
                  </a:lnTo>
                  <a:lnTo>
                    <a:pt x="1183" y="78"/>
                  </a:lnTo>
                  <a:lnTo>
                    <a:pt x="1190" y="85"/>
                  </a:lnTo>
                  <a:lnTo>
                    <a:pt x="1190" y="92"/>
                  </a:lnTo>
                  <a:lnTo>
                    <a:pt x="1190" y="99"/>
                  </a:lnTo>
                  <a:lnTo>
                    <a:pt x="1197" y="106"/>
                  </a:lnTo>
                  <a:lnTo>
                    <a:pt x="1197" y="113"/>
                  </a:lnTo>
                  <a:lnTo>
                    <a:pt x="1197" y="120"/>
                  </a:lnTo>
                  <a:lnTo>
                    <a:pt x="1204" y="134"/>
                  </a:lnTo>
                  <a:lnTo>
                    <a:pt x="1204" y="142"/>
                  </a:lnTo>
                  <a:lnTo>
                    <a:pt x="1204" y="149"/>
                  </a:lnTo>
                  <a:lnTo>
                    <a:pt x="1211" y="163"/>
                  </a:lnTo>
                  <a:lnTo>
                    <a:pt x="1211" y="170"/>
                  </a:lnTo>
                  <a:lnTo>
                    <a:pt x="1211" y="177"/>
                  </a:lnTo>
                  <a:lnTo>
                    <a:pt x="1211" y="191"/>
                  </a:lnTo>
                  <a:lnTo>
                    <a:pt x="1219" y="198"/>
                  </a:lnTo>
                  <a:lnTo>
                    <a:pt x="1219" y="212"/>
                  </a:lnTo>
                  <a:lnTo>
                    <a:pt x="1219" y="227"/>
                  </a:lnTo>
                  <a:lnTo>
                    <a:pt x="1226" y="234"/>
                  </a:lnTo>
                  <a:lnTo>
                    <a:pt x="1226" y="248"/>
                  </a:lnTo>
                  <a:lnTo>
                    <a:pt x="1226" y="255"/>
                  </a:lnTo>
                  <a:lnTo>
                    <a:pt x="1233" y="269"/>
                  </a:lnTo>
                  <a:lnTo>
                    <a:pt x="1233" y="283"/>
                  </a:lnTo>
                  <a:lnTo>
                    <a:pt x="1233" y="297"/>
                  </a:lnTo>
                  <a:lnTo>
                    <a:pt x="1240" y="304"/>
                  </a:lnTo>
                  <a:lnTo>
                    <a:pt x="1240" y="319"/>
                  </a:lnTo>
                  <a:lnTo>
                    <a:pt x="1240" y="333"/>
                  </a:lnTo>
                  <a:lnTo>
                    <a:pt x="1247" y="347"/>
                  </a:lnTo>
                  <a:lnTo>
                    <a:pt x="1247" y="361"/>
                  </a:lnTo>
                  <a:lnTo>
                    <a:pt x="1247" y="375"/>
                  </a:lnTo>
                  <a:lnTo>
                    <a:pt x="1247" y="390"/>
                  </a:lnTo>
                  <a:lnTo>
                    <a:pt x="1254" y="404"/>
                  </a:lnTo>
                  <a:lnTo>
                    <a:pt x="1254" y="418"/>
                  </a:lnTo>
                  <a:lnTo>
                    <a:pt x="1254" y="432"/>
                  </a:lnTo>
                  <a:lnTo>
                    <a:pt x="1261" y="446"/>
                  </a:lnTo>
                  <a:lnTo>
                    <a:pt x="1261" y="460"/>
                  </a:lnTo>
                  <a:lnTo>
                    <a:pt x="1261" y="475"/>
                  </a:lnTo>
                  <a:lnTo>
                    <a:pt x="1268" y="489"/>
                  </a:lnTo>
                  <a:lnTo>
                    <a:pt x="1268" y="503"/>
                  </a:lnTo>
                  <a:lnTo>
                    <a:pt x="1268" y="524"/>
                  </a:lnTo>
                  <a:lnTo>
                    <a:pt x="1275" y="538"/>
                  </a:lnTo>
                  <a:lnTo>
                    <a:pt x="1275" y="552"/>
                  </a:lnTo>
                  <a:lnTo>
                    <a:pt x="1275" y="567"/>
                  </a:lnTo>
                  <a:lnTo>
                    <a:pt x="1282" y="581"/>
                  </a:lnTo>
                  <a:lnTo>
                    <a:pt x="1282" y="602"/>
                  </a:lnTo>
                  <a:lnTo>
                    <a:pt x="1282" y="616"/>
                  </a:lnTo>
                  <a:lnTo>
                    <a:pt x="1289" y="630"/>
                  </a:lnTo>
                  <a:lnTo>
                    <a:pt x="1289" y="652"/>
                  </a:lnTo>
                  <a:lnTo>
                    <a:pt x="1289" y="666"/>
                  </a:lnTo>
                  <a:lnTo>
                    <a:pt x="1289" y="680"/>
                  </a:lnTo>
                  <a:lnTo>
                    <a:pt x="1297" y="701"/>
                  </a:lnTo>
                  <a:lnTo>
                    <a:pt x="1297" y="715"/>
                  </a:lnTo>
                  <a:lnTo>
                    <a:pt x="1297" y="730"/>
                  </a:lnTo>
                  <a:lnTo>
                    <a:pt x="1304" y="751"/>
                  </a:lnTo>
                  <a:lnTo>
                    <a:pt x="1304" y="765"/>
                  </a:lnTo>
                  <a:lnTo>
                    <a:pt x="1304" y="786"/>
                  </a:lnTo>
                  <a:lnTo>
                    <a:pt x="1311" y="800"/>
                  </a:lnTo>
                  <a:lnTo>
                    <a:pt x="1311" y="815"/>
                  </a:lnTo>
                  <a:lnTo>
                    <a:pt x="1311" y="836"/>
                  </a:lnTo>
                  <a:lnTo>
                    <a:pt x="1318" y="850"/>
                  </a:lnTo>
                  <a:lnTo>
                    <a:pt x="1318" y="871"/>
                  </a:lnTo>
                  <a:lnTo>
                    <a:pt x="1318" y="886"/>
                  </a:lnTo>
                  <a:lnTo>
                    <a:pt x="1325" y="900"/>
                  </a:lnTo>
                  <a:lnTo>
                    <a:pt x="1325" y="921"/>
                  </a:lnTo>
                  <a:lnTo>
                    <a:pt x="1325" y="935"/>
                  </a:lnTo>
                  <a:lnTo>
                    <a:pt x="1325" y="956"/>
                  </a:lnTo>
                  <a:lnTo>
                    <a:pt x="1332" y="971"/>
                  </a:lnTo>
                  <a:lnTo>
                    <a:pt x="1332" y="992"/>
                  </a:lnTo>
                  <a:lnTo>
                    <a:pt x="1332" y="1006"/>
                  </a:lnTo>
                  <a:lnTo>
                    <a:pt x="1339" y="1020"/>
                  </a:lnTo>
                  <a:lnTo>
                    <a:pt x="1339" y="1041"/>
                  </a:lnTo>
                  <a:lnTo>
                    <a:pt x="1339" y="1056"/>
                  </a:lnTo>
                  <a:lnTo>
                    <a:pt x="1346" y="1077"/>
                  </a:lnTo>
                  <a:lnTo>
                    <a:pt x="1346" y="1091"/>
                  </a:lnTo>
                  <a:lnTo>
                    <a:pt x="1346" y="1105"/>
                  </a:lnTo>
                  <a:lnTo>
                    <a:pt x="1353" y="1126"/>
                  </a:lnTo>
                  <a:lnTo>
                    <a:pt x="1353" y="1141"/>
                  </a:lnTo>
                  <a:lnTo>
                    <a:pt x="1353" y="1162"/>
                  </a:lnTo>
                  <a:lnTo>
                    <a:pt x="1360" y="1176"/>
                  </a:lnTo>
                  <a:lnTo>
                    <a:pt x="1360" y="1190"/>
                  </a:lnTo>
                  <a:lnTo>
                    <a:pt x="1360" y="1211"/>
                  </a:lnTo>
                  <a:lnTo>
                    <a:pt x="1360" y="1226"/>
                  </a:lnTo>
                  <a:lnTo>
                    <a:pt x="1367" y="1240"/>
                  </a:lnTo>
                  <a:lnTo>
                    <a:pt x="1367" y="1261"/>
                  </a:lnTo>
                  <a:lnTo>
                    <a:pt x="1367" y="1275"/>
                  </a:lnTo>
                  <a:lnTo>
                    <a:pt x="1374" y="1289"/>
                  </a:lnTo>
                  <a:lnTo>
                    <a:pt x="1374" y="1304"/>
                  </a:lnTo>
                  <a:lnTo>
                    <a:pt x="1374" y="1325"/>
                  </a:lnTo>
                  <a:lnTo>
                    <a:pt x="1382" y="1339"/>
                  </a:lnTo>
                  <a:lnTo>
                    <a:pt x="1382" y="1353"/>
                  </a:lnTo>
                  <a:lnTo>
                    <a:pt x="1382" y="1367"/>
                  </a:lnTo>
                  <a:lnTo>
                    <a:pt x="1389" y="1382"/>
                  </a:lnTo>
                  <a:lnTo>
                    <a:pt x="1389" y="1403"/>
                  </a:lnTo>
                  <a:lnTo>
                    <a:pt x="1389" y="1417"/>
                  </a:lnTo>
                  <a:lnTo>
                    <a:pt x="1396" y="1431"/>
                  </a:lnTo>
                  <a:lnTo>
                    <a:pt x="1396" y="1445"/>
                  </a:lnTo>
                  <a:lnTo>
                    <a:pt x="1396" y="1459"/>
                  </a:lnTo>
                  <a:lnTo>
                    <a:pt x="1396" y="1474"/>
                  </a:lnTo>
                  <a:lnTo>
                    <a:pt x="1403" y="1488"/>
                  </a:lnTo>
                  <a:lnTo>
                    <a:pt x="1403" y="1502"/>
                  </a:lnTo>
                  <a:lnTo>
                    <a:pt x="1403" y="1516"/>
                  </a:lnTo>
                  <a:lnTo>
                    <a:pt x="1410" y="1530"/>
                  </a:lnTo>
                  <a:lnTo>
                    <a:pt x="1410" y="1544"/>
                  </a:lnTo>
                  <a:lnTo>
                    <a:pt x="1410" y="1559"/>
                  </a:lnTo>
                  <a:lnTo>
                    <a:pt x="1417" y="1573"/>
                  </a:lnTo>
                  <a:lnTo>
                    <a:pt x="1417" y="1580"/>
                  </a:lnTo>
                  <a:lnTo>
                    <a:pt x="1417" y="1594"/>
                  </a:lnTo>
                  <a:lnTo>
                    <a:pt x="1424" y="1608"/>
                  </a:lnTo>
                  <a:lnTo>
                    <a:pt x="1424" y="1594"/>
                  </a:lnTo>
                  <a:lnTo>
                    <a:pt x="1424" y="1587"/>
                  </a:lnTo>
                  <a:lnTo>
                    <a:pt x="1431" y="1573"/>
                  </a:lnTo>
                  <a:lnTo>
                    <a:pt x="1431" y="1559"/>
                  </a:lnTo>
                  <a:lnTo>
                    <a:pt x="1431" y="1544"/>
                  </a:lnTo>
                  <a:lnTo>
                    <a:pt x="1438" y="1537"/>
                  </a:lnTo>
                  <a:lnTo>
                    <a:pt x="1438" y="1523"/>
                  </a:lnTo>
                  <a:lnTo>
                    <a:pt x="1438" y="1516"/>
                  </a:lnTo>
                  <a:lnTo>
                    <a:pt x="1438" y="1502"/>
                  </a:lnTo>
                  <a:lnTo>
                    <a:pt x="1445" y="1495"/>
                  </a:lnTo>
                  <a:lnTo>
                    <a:pt x="1445" y="1481"/>
                  </a:lnTo>
                  <a:lnTo>
                    <a:pt x="1445" y="1474"/>
                  </a:lnTo>
                  <a:lnTo>
                    <a:pt x="1452" y="1459"/>
                  </a:lnTo>
                  <a:lnTo>
                    <a:pt x="1452" y="1452"/>
                  </a:lnTo>
                  <a:lnTo>
                    <a:pt x="1452" y="1445"/>
                  </a:lnTo>
                  <a:lnTo>
                    <a:pt x="1460" y="1431"/>
                  </a:lnTo>
                  <a:lnTo>
                    <a:pt x="1460" y="1424"/>
                  </a:lnTo>
                  <a:lnTo>
                    <a:pt x="1460" y="1417"/>
                  </a:lnTo>
                  <a:lnTo>
                    <a:pt x="1467" y="1410"/>
                  </a:lnTo>
                  <a:lnTo>
                    <a:pt x="1467" y="1403"/>
                  </a:lnTo>
                  <a:lnTo>
                    <a:pt x="1467" y="1389"/>
                  </a:lnTo>
                  <a:lnTo>
                    <a:pt x="1474" y="1382"/>
                  </a:lnTo>
                  <a:lnTo>
                    <a:pt x="1474" y="1374"/>
                  </a:lnTo>
                  <a:lnTo>
                    <a:pt x="1474" y="1367"/>
                  </a:lnTo>
                  <a:lnTo>
                    <a:pt x="1474" y="1360"/>
                  </a:lnTo>
                  <a:lnTo>
                    <a:pt x="1481" y="1353"/>
                  </a:lnTo>
                  <a:lnTo>
                    <a:pt x="1481" y="1346"/>
                  </a:lnTo>
                  <a:lnTo>
                    <a:pt x="1488" y="1339"/>
                  </a:lnTo>
                  <a:lnTo>
                    <a:pt x="1488" y="1332"/>
                  </a:lnTo>
                  <a:lnTo>
                    <a:pt x="1488" y="1325"/>
                  </a:lnTo>
                  <a:lnTo>
                    <a:pt x="1495" y="1318"/>
                  </a:lnTo>
                  <a:lnTo>
                    <a:pt x="1495" y="1311"/>
                  </a:lnTo>
                  <a:lnTo>
                    <a:pt x="1502" y="1304"/>
                  </a:lnTo>
                  <a:lnTo>
                    <a:pt x="1502" y="1296"/>
                  </a:lnTo>
                  <a:lnTo>
                    <a:pt x="1509" y="1289"/>
                  </a:lnTo>
                  <a:lnTo>
                    <a:pt x="1509" y="1282"/>
                  </a:lnTo>
                  <a:lnTo>
                    <a:pt x="1516" y="1275"/>
                  </a:lnTo>
                  <a:lnTo>
                    <a:pt x="1523" y="1268"/>
                  </a:lnTo>
                  <a:lnTo>
                    <a:pt x="1530" y="1261"/>
                  </a:lnTo>
                  <a:lnTo>
                    <a:pt x="1537" y="1261"/>
                  </a:lnTo>
                  <a:lnTo>
                    <a:pt x="1545" y="1261"/>
                  </a:lnTo>
                  <a:lnTo>
                    <a:pt x="1552" y="1261"/>
                  </a:lnTo>
                  <a:lnTo>
                    <a:pt x="1559" y="1268"/>
                  </a:lnTo>
                  <a:lnTo>
                    <a:pt x="1566" y="1268"/>
                  </a:lnTo>
                  <a:lnTo>
                    <a:pt x="1573" y="1275"/>
                  </a:lnTo>
                  <a:lnTo>
                    <a:pt x="1580" y="1282"/>
                  </a:lnTo>
                  <a:lnTo>
                    <a:pt x="1587" y="1289"/>
                  </a:lnTo>
                  <a:lnTo>
                    <a:pt x="1587" y="1296"/>
                  </a:lnTo>
                  <a:lnTo>
                    <a:pt x="1594" y="1304"/>
                  </a:lnTo>
                  <a:lnTo>
                    <a:pt x="1594" y="1311"/>
                  </a:lnTo>
                  <a:lnTo>
                    <a:pt x="1601" y="1318"/>
                  </a:lnTo>
                  <a:lnTo>
                    <a:pt x="1601" y="1325"/>
                  </a:lnTo>
                  <a:lnTo>
                    <a:pt x="1608" y="1332"/>
                  </a:lnTo>
                  <a:lnTo>
                    <a:pt x="1608" y="1339"/>
                  </a:lnTo>
                  <a:lnTo>
                    <a:pt x="1615" y="1346"/>
                  </a:lnTo>
                  <a:lnTo>
                    <a:pt x="1615" y="1353"/>
                  </a:lnTo>
                  <a:lnTo>
                    <a:pt x="1622" y="1360"/>
                  </a:lnTo>
                  <a:lnTo>
                    <a:pt x="1622" y="1367"/>
                  </a:lnTo>
                  <a:lnTo>
                    <a:pt x="1622" y="1374"/>
                  </a:lnTo>
                  <a:lnTo>
                    <a:pt x="1630" y="1382"/>
                  </a:lnTo>
                  <a:lnTo>
                    <a:pt x="1630" y="1389"/>
                  </a:lnTo>
                  <a:lnTo>
                    <a:pt x="1630" y="1396"/>
                  </a:lnTo>
                  <a:lnTo>
                    <a:pt x="1637" y="1403"/>
                  </a:lnTo>
                  <a:lnTo>
                    <a:pt x="1637" y="1410"/>
                  </a:lnTo>
                  <a:lnTo>
                    <a:pt x="1644" y="1417"/>
                  </a:lnTo>
                  <a:lnTo>
                    <a:pt x="1644" y="1424"/>
                  </a:lnTo>
                  <a:lnTo>
                    <a:pt x="1644" y="1431"/>
                  </a:lnTo>
                  <a:lnTo>
                    <a:pt x="1651" y="1438"/>
                  </a:lnTo>
                  <a:lnTo>
                    <a:pt x="1651" y="1445"/>
                  </a:lnTo>
                  <a:lnTo>
                    <a:pt x="1651" y="1452"/>
                  </a:lnTo>
                  <a:lnTo>
                    <a:pt x="1658" y="1459"/>
                  </a:lnTo>
                  <a:lnTo>
                    <a:pt x="1658" y="1467"/>
                  </a:lnTo>
                  <a:lnTo>
                    <a:pt x="1658" y="1474"/>
                  </a:lnTo>
                  <a:lnTo>
                    <a:pt x="1665" y="1481"/>
                  </a:lnTo>
                  <a:lnTo>
                    <a:pt x="1665" y="1488"/>
                  </a:lnTo>
                  <a:lnTo>
                    <a:pt x="1665" y="1495"/>
                  </a:lnTo>
                  <a:lnTo>
                    <a:pt x="1672" y="1502"/>
                  </a:lnTo>
                  <a:lnTo>
                    <a:pt x="1672" y="1509"/>
                  </a:lnTo>
                  <a:lnTo>
                    <a:pt x="1672" y="1516"/>
                  </a:lnTo>
                  <a:lnTo>
                    <a:pt x="1679" y="1523"/>
                  </a:lnTo>
                  <a:lnTo>
                    <a:pt x="1679" y="1530"/>
                  </a:lnTo>
                  <a:lnTo>
                    <a:pt x="1679" y="1537"/>
                  </a:lnTo>
                  <a:lnTo>
                    <a:pt x="1686" y="1544"/>
                  </a:lnTo>
                  <a:lnTo>
                    <a:pt x="1686" y="1552"/>
                  </a:lnTo>
                  <a:lnTo>
                    <a:pt x="1686" y="1559"/>
                  </a:lnTo>
                  <a:lnTo>
                    <a:pt x="1693" y="1566"/>
                  </a:lnTo>
                  <a:lnTo>
                    <a:pt x="1693" y="1573"/>
                  </a:lnTo>
                  <a:lnTo>
                    <a:pt x="1693" y="1580"/>
                  </a:lnTo>
                  <a:lnTo>
                    <a:pt x="1700" y="1587"/>
                  </a:lnTo>
                  <a:lnTo>
                    <a:pt x="1700" y="1594"/>
                  </a:lnTo>
                  <a:lnTo>
                    <a:pt x="1700" y="1601"/>
                  </a:lnTo>
                  <a:lnTo>
                    <a:pt x="1708" y="1608"/>
                  </a:lnTo>
                  <a:lnTo>
                    <a:pt x="1708" y="1601"/>
                  </a:lnTo>
                  <a:lnTo>
                    <a:pt x="1708" y="1594"/>
                  </a:lnTo>
                  <a:lnTo>
                    <a:pt x="1715" y="1587"/>
                  </a:lnTo>
                  <a:lnTo>
                    <a:pt x="1715" y="1580"/>
                  </a:lnTo>
                  <a:lnTo>
                    <a:pt x="1722" y="1573"/>
                  </a:lnTo>
                  <a:lnTo>
                    <a:pt x="1722" y="1566"/>
                  </a:lnTo>
                  <a:lnTo>
                    <a:pt x="1722" y="1559"/>
                  </a:lnTo>
                  <a:lnTo>
                    <a:pt x="1729" y="1552"/>
                  </a:lnTo>
                  <a:lnTo>
                    <a:pt x="1729" y="1544"/>
                  </a:lnTo>
                  <a:lnTo>
                    <a:pt x="1736" y="1537"/>
                  </a:lnTo>
                  <a:lnTo>
                    <a:pt x="1736" y="1530"/>
                  </a:lnTo>
                  <a:lnTo>
                    <a:pt x="1736" y="1523"/>
                  </a:lnTo>
                  <a:lnTo>
                    <a:pt x="1743" y="1516"/>
                  </a:lnTo>
                  <a:lnTo>
                    <a:pt x="1743" y="1509"/>
                  </a:lnTo>
                  <a:lnTo>
                    <a:pt x="1750" y="1502"/>
                  </a:lnTo>
                  <a:lnTo>
                    <a:pt x="1750" y="1495"/>
                  </a:lnTo>
                  <a:lnTo>
                    <a:pt x="1757" y="1488"/>
                  </a:lnTo>
                  <a:lnTo>
                    <a:pt x="1757" y="1481"/>
                  </a:lnTo>
                  <a:lnTo>
                    <a:pt x="1764" y="1474"/>
                  </a:lnTo>
                  <a:lnTo>
                    <a:pt x="1764" y="1467"/>
                  </a:lnTo>
                  <a:lnTo>
                    <a:pt x="1771" y="1459"/>
                  </a:lnTo>
                  <a:lnTo>
                    <a:pt x="1771" y="1452"/>
                  </a:lnTo>
                  <a:lnTo>
                    <a:pt x="1778" y="1445"/>
                  </a:lnTo>
                  <a:lnTo>
                    <a:pt x="1785" y="1438"/>
                  </a:lnTo>
                  <a:lnTo>
                    <a:pt x="1793" y="1431"/>
                  </a:lnTo>
                  <a:lnTo>
                    <a:pt x="1800" y="1424"/>
                  </a:lnTo>
                  <a:lnTo>
                    <a:pt x="1807" y="1417"/>
                  </a:lnTo>
                  <a:lnTo>
                    <a:pt x="1814" y="1410"/>
                  </a:lnTo>
                  <a:lnTo>
                    <a:pt x="1821" y="1403"/>
                  </a:lnTo>
                  <a:lnTo>
                    <a:pt x="1828" y="1403"/>
                  </a:lnTo>
                  <a:lnTo>
                    <a:pt x="1835" y="1403"/>
                  </a:lnTo>
                  <a:lnTo>
                    <a:pt x="1842" y="1403"/>
                  </a:lnTo>
                  <a:lnTo>
                    <a:pt x="1849" y="1403"/>
                  </a:lnTo>
                  <a:lnTo>
                    <a:pt x="1856" y="1410"/>
                  </a:lnTo>
                  <a:lnTo>
                    <a:pt x="1863" y="1410"/>
                  </a:lnTo>
                  <a:lnTo>
                    <a:pt x="1871" y="1417"/>
                  </a:lnTo>
                  <a:lnTo>
                    <a:pt x="1878" y="1424"/>
                  </a:lnTo>
                  <a:lnTo>
                    <a:pt x="1885" y="1431"/>
                  </a:lnTo>
                  <a:lnTo>
                    <a:pt x="1892" y="1438"/>
                  </a:lnTo>
                  <a:lnTo>
                    <a:pt x="1899" y="1445"/>
                  </a:lnTo>
                  <a:lnTo>
                    <a:pt x="1906" y="1452"/>
                  </a:lnTo>
                  <a:lnTo>
                    <a:pt x="1913" y="1459"/>
                  </a:lnTo>
                  <a:lnTo>
                    <a:pt x="1913" y="1467"/>
                  </a:lnTo>
                  <a:lnTo>
                    <a:pt x="1920" y="1474"/>
                  </a:lnTo>
                  <a:lnTo>
                    <a:pt x="1920" y="1481"/>
                  </a:lnTo>
                  <a:lnTo>
                    <a:pt x="1927" y="1488"/>
                  </a:lnTo>
                  <a:lnTo>
                    <a:pt x="1927" y="1495"/>
                  </a:lnTo>
                  <a:lnTo>
                    <a:pt x="1934" y="1502"/>
                  </a:lnTo>
                  <a:lnTo>
                    <a:pt x="1941" y="1509"/>
                  </a:lnTo>
                  <a:lnTo>
                    <a:pt x="1941" y="1516"/>
                  </a:lnTo>
                  <a:lnTo>
                    <a:pt x="1948" y="1523"/>
                  </a:lnTo>
                  <a:lnTo>
                    <a:pt x="1948" y="1530"/>
                  </a:lnTo>
                  <a:lnTo>
                    <a:pt x="1956" y="1537"/>
                  </a:lnTo>
                  <a:lnTo>
                    <a:pt x="1956" y="1544"/>
                  </a:lnTo>
                  <a:lnTo>
                    <a:pt x="1963" y="1552"/>
                  </a:lnTo>
                  <a:lnTo>
                    <a:pt x="1963" y="1559"/>
                  </a:lnTo>
                  <a:lnTo>
                    <a:pt x="1970" y="1566"/>
                  </a:lnTo>
                  <a:lnTo>
                    <a:pt x="1970" y="1573"/>
                  </a:lnTo>
                  <a:lnTo>
                    <a:pt x="1977" y="1580"/>
                  </a:lnTo>
                  <a:lnTo>
                    <a:pt x="1977" y="1587"/>
                  </a:lnTo>
                  <a:lnTo>
                    <a:pt x="1984" y="1594"/>
                  </a:lnTo>
                  <a:lnTo>
                    <a:pt x="1991" y="1601"/>
                  </a:lnTo>
                  <a:lnTo>
                    <a:pt x="1991" y="1608"/>
                  </a:lnTo>
                  <a:lnTo>
                    <a:pt x="1998" y="1601"/>
                  </a:lnTo>
                  <a:lnTo>
                    <a:pt x="1998" y="1594"/>
                  </a:lnTo>
                  <a:lnTo>
                    <a:pt x="2005" y="1587"/>
                  </a:lnTo>
                  <a:lnTo>
                    <a:pt x="2005" y="1580"/>
                  </a:lnTo>
                  <a:lnTo>
                    <a:pt x="2012" y="1573"/>
                  </a:lnTo>
                  <a:lnTo>
                    <a:pt x="2012" y="1566"/>
                  </a:lnTo>
                  <a:lnTo>
                    <a:pt x="2019" y="1559"/>
                  </a:lnTo>
                  <a:lnTo>
                    <a:pt x="2026" y="1552"/>
                  </a:lnTo>
                  <a:lnTo>
                    <a:pt x="2026" y="1544"/>
                  </a:lnTo>
                  <a:lnTo>
                    <a:pt x="2034" y="1537"/>
                  </a:lnTo>
                  <a:lnTo>
                    <a:pt x="2034" y="1530"/>
                  </a:lnTo>
                  <a:lnTo>
                    <a:pt x="2041" y="1523"/>
                  </a:lnTo>
                  <a:lnTo>
                    <a:pt x="2048" y="1516"/>
                  </a:lnTo>
                  <a:lnTo>
                    <a:pt x="2055" y="1509"/>
                  </a:lnTo>
                  <a:lnTo>
                    <a:pt x="2062" y="1502"/>
                  </a:lnTo>
                  <a:lnTo>
                    <a:pt x="2069" y="1495"/>
                  </a:lnTo>
                  <a:lnTo>
                    <a:pt x="2069" y="1488"/>
                  </a:lnTo>
                  <a:lnTo>
                    <a:pt x="2076" y="1481"/>
                  </a:lnTo>
                  <a:lnTo>
                    <a:pt x="2083" y="1474"/>
                  </a:lnTo>
                  <a:lnTo>
                    <a:pt x="2090" y="1474"/>
                  </a:lnTo>
                  <a:lnTo>
                    <a:pt x="2097" y="1467"/>
                  </a:lnTo>
                  <a:lnTo>
                    <a:pt x="2104" y="1467"/>
                  </a:lnTo>
                  <a:lnTo>
                    <a:pt x="2111" y="1459"/>
                  </a:lnTo>
                  <a:lnTo>
                    <a:pt x="2119" y="1459"/>
                  </a:lnTo>
                  <a:lnTo>
                    <a:pt x="2126" y="1459"/>
                  </a:lnTo>
                  <a:lnTo>
                    <a:pt x="2133" y="1459"/>
                  </a:lnTo>
                  <a:lnTo>
                    <a:pt x="2140" y="1467"/>
                  </a:lnTo>
                  <a:lnTo>
                    <a:pt x="2147" y="1467"/>
                  </a:lnTo>
                  <a:lnTo>
                    <a:pt x="2154" y="1474"/>
                  </a:lnTo>
                  <a:lnTo>
                    <a:pt x="2161" y="1474"/>
                  </a:lnTo>
                  <a:lnTo>
                    <a:pt x="2168" y="1481"/>
                  </a:lnTo>
                  <a:lnTo>
                    <a:pt x="2175" y="1488"/>
                  </a:lnTo>
                  <a:lnTo>
                    <a:pt x="2182" y="1495"/>
                  </a:lnTo>
                  <a:lnTo>
                    <a:pt x="2189" y="1502"/>
                  </a:lnTo>
                  <a:lnTo>
                    <a:pt x="2197" y="1509"/>
                  </a:lnTo>
                  <a:lnTo>
                    <a:pt x="2204" y="1516"/>
                  </a:lnTo>
                  <a:lnTo>
                    <a:pt x="2211" y="1523"/>
                  </a:lnTo>
                  <a:lnTo>
                    <a:pt x="2218" y="1530"/>
                  </a:lnTo>
                  <a:lnTo>
                    <a:pt x="2225" y="1537"/>
                  </a:lnTo>
                  <a:lnTo>
                    <a:pt x="2232" y="1544"/>
                  </a:lnTo>
                  <a:lnTo>
                    <a:pt x="2239" y="1552"/>
                  </a:lnTo>
                  <a:lnTo>
                    <a:pt x="2239" y="1559"/>
                  </a:lnTo>
                  <a:lnTo>
                    <a:pt x="2246" y="1566"/>
                  </a:lnTo>
                  <a:lnTo>
                    <a:pt x="2253" y="1573"/>
                  </a:lnTo>
                  <a:lnTo>
                    <a:pt x="2253" y="1580"/>
                  </a:lnTo>
                  <a:lnTo>
                    <a:pt x="2260" y="1587"/>
                  </a:lnTo>
                  <a:lnTo>
                    <a:pt x="2267" y="1594"/>
                  </a:lnTo>
                  <a:lnTo>
                    <a:pt x="2267" y="1601"/>
                  </a:lnTo>
                  <a:lnTo>
                    <a:pt x="2274" y="1608"/>
                  </a:lnTo>
                </a:path>
              </a:pathLst>
            </a:cu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7682040" y="2304720"/>
              <a:ext cx="166680" cy="1204920"/>
            </a:xfrm>
            <a:custGeom>
              <a:avLst/>
              <a:gdLst/>
              <a:ahLst/>
              <a:rect l="l" t="t" r="r" b="b"/>
              <a:pathLst>
                <a:path w="2274" h="1608">
                  <a:moveTo>
                    <a:pt x="0" y="1608"/>
                  </a:moveTo>
                  <a:lnTo>
                    <a:pt x="7" y="1601"/>
                  </a:lnTo>
                  <a:lnTo>
                    <a:pt x="14" y="1594"/>
                  </a:lnTo>
                  <a:lnTo>
                    <a:pt x="14" y="1587"/>
                  </a:lnTo>
                  <a:lnTo>
                    <a:pt x="21" y="1580"/>
                  </a:lnTo>
                  <a:lnTo>
                    <a:pt x="28" y="1573"/>
                  </a:lnTo>
                  <a:lnTo>
                    <a:pt x="28" y="1566"/>
                  </a:lnTo>
                  <a:lnTo>
                    <a:pt x="35" y="1559"/>
                  </a:lnTo>
                  <a:lnTo>
                    <a:pt x="42" y="1552"/>
                  </a:lnTo>
                  <a:lnTo>
                    <a:pt x="49" y="1544"/>
                  </a:lnTo>
                  <a:lnTo>
                    <a:pt x="49" y="1537"/>
                  </a:lnTo>
                  <a:lnTo>
                    <a:pt x="56" y="1530"/>
                  </a:lnTo>
                  <a:lnTo>
                    <a:pt x="63" y="1523"/>
                  </a:lnTo>
                  <a:lnTo>
                    <a:pt x="71" y="1516"/>
                  </a:lnTo>
                  <a:lnTo>
                    <a:pt x="78" y="1509"/>
                  </a:lnTo>
                  <a:lnTo>
                    <a:pt x="85" y="1502"/>
                  </a:lnTo>
                  <a:lnTo>
                    <a:pt x="92" y="1495"/>
                  </a:lnTo>
                  <a:lnTo>
                    <a:pt x="99" y="1488"/>
                  </a:lnTo>
                  <a:lnTo>
                    <a:pt x="106" y="1481"/>
                  </a:lnTo>
                  <a:lnTo>
                    <a:pt x="113" y="1474"/>
                  </a:lnTo>
                  <a:lnTo>
                    <a:pt x="120" y="1467"/>
                  </a:lnTo>
                  <a:lnTo>
                    <a:pt x="127" y="1467"/>
                  </a:lnTo>
                  <a:lnTo>
                    <a:pt x="134" y="1459"/>
                  </a:lnTo>
                  <a:lnTo>
                    <a:pt x="141" y="1459"/>
                  </a:lnTo>
                  <a:lnTo>
                    <a:pt x="148" y="1459"/>
                  </a:lnTo>
                  <a:lnTo>
                    <a:pt x="156" y="1459"/>
                  </a:lnTo>
                  <a:lnTo>
                    <a:pt x="163" y="1467"/>
                  </a:lnTo>
                  <a:lnTo>
                    <a:pt x="170" y="1467"/>
                  </a:lnTo>
                  <a:lnTo>
                    <a:pt x="177" y="1467"/>
                  </a:lnTo>
                  <a:lnTo>
                    <a:pt x="184" y="1474"/>
                  </a:lnTo>
                  <a:lnTo>
                    <a:pt x="191" y="1481"/>
                  </a:lnTo>
                  <a:lnTo>
                    <a:pt x="198" y="1481"/>
                  </a:lnTo>
                  <a:lnTo>
                    <a:pt x="205" y="1488"/>
                  </a:lnTo>
                  <a:lnTo>
                    <a:pt x="212" y="1495"/>
                  </a:lnTo>
                  <a:lnTo>
                    <a:pt x="219" y="1502"/>
                  </a:lnTo>
                  <a:lnTo>
                    <a:pt x="226" y="1509"/>
                  </a:lnTo>
                  <a:lnTo>
                    <a:pt x="234" y="1516"/>
                  </a:lnTo>
                  <a:lnTo>
                    <a:pt x="234" y="1523"/>
                  </a:lnTo>
                  <a:lnTo>
                    <a:pt x="241" y="1530"/>
                  </a:lnTo>
                  <a:lnTo>
                    <a:pt x="241" y="1537"/>
                  </a:lnTo>
                  <a:lnTo>
                    <a:pt x="248" y="1544"/>
                  </a:lnTo>
                  <a:lnTo>
                    <a:pt x="255" y="1552"/>
                  </a:lnTo>
                  <a:lnTo>
                    <a:pt x="255" y="1559"/>
                  </a:lnTo>
                  <a:lnTo>
                    <a:pt x="262" y="1566"/>
                  </a:lnTo>
                  <a:lnTo>
                    <a:pt x="269" y="1573"/>
                  </a:lnTo>
                  <a:lnTo>
                    <a:pt x="269" y="1580"/>
                  </a:lnTo>
                  <a:lnTo>
                    <a:pt x="276" y="1587"/>
                  </a:lnTo>
                  <a:lnTo>
                    <a:pt x="276" y="1594"/>
                  </a:lnTo>
                  <a:lnTo>
                    <a:pt x="283" y="1601"/>
                  </a:lnTo>
                  <a:lnTo>
                    <a:pt x="283" y="1608"/>
                  </a:lnTo>
                  <a:lnTo>
                    <a:pt x="290" y="1601"/>
                  </a:lnTo>
                  <a:lnTo>
                    <a:pt x="290" y="1594"/>
                  </a:lnTo>
                  <a:lnTo>
                    <a:pt x="297" y="1587"/>
                  </a:lnTo>
                  <a:lnTo>
                    <a:pt x="297" y="1580"/>
                  </a:lnTo>
                  <a:lnTo>
                    <a:pt x="304" y="1573"/>
                  </a:lnTo>
                  <a:lnTo>
                    <a:pt x="304" y="1566"/>
                  </a:lnTo>
                  <a:lnTo>
                    <a:pt x="311" y="1559"/>
                  </a:lnTo>
                  <a:lnTo>
                    <a:pt x="319" y="1552"/>
                  </a:lnTo>
                  <a:lnTo>
                    <a:pt x="319" y="1544"/>
                  </a:lnTo>
                  <a:lnTo>
                    <a:pt x="319" y="1537"/>
                  </a:lnTo>
                  <a:lnTo>
                    <a:pt x="326" y="1530"/>
                  </a:lnTo>
                  <a:lnTo>
                    <a:pt x="326" y="1523"/>
                  </a:lnTo>
                  <a:lnTo>
                    <a:pt x="333" y="1516"/>
                  </a:lnTo>
                  <a:lnTo>
                    <a:pt x="340" y="1509"/>
                  </a:lnTo>
                  <a:lnTo>
                    <a:pt x="340" y="1502"/>
                  </a:lnTo>
                  <a:lnTo>
                    <a:pt x="347" y="1495"/>
                  </a:lnTo>
                  <a:lnTo>
                    <a:pt x="347" y="1488"/>
                  </a:lnTo>
                  <a:lnTo>
                    <a:pt x="354" y="1481"/>
                  </a:lnTo>
                  <a:lnTo>
                    <a:pt x="354" y="1474"/>
                  </a:lnTo>
                  <a:lnTo>
                    <a:pt x="361" y="1467"/>
                  </a:lnTo>
                  <a:lnTo>
                    <a:pt x="368" y="1459"/>
                  </a:lnTo>
                  <a:lnTo>
                    <a:pt x="375" y="1452"/>
                  </a:lnTo>
                  <a:lnTo>
                    <a:pt x="375" y="1445"/>
                  </a:lnTo>
                  <a:lnTo>
                    <a:pt x="382" y="1438"/>
                  </a:lnTo>
                  <a:lnTo>
                    <a:pt x="389" y="1431"/>
                  </a:lnTo>
                  <a:lnTo>
                    <a:pt x="397" y="1424"/>
                  </a:lnTo>
                  <a:lnTo>
                    <a:pt x="404" y="1417"/>
                  </a:lnTo>
                  <a:lnTo>
                    <a:pt x="411" y="1410"/>
                  </a:lnTo>
                  <a:lnTo>
                    <a:pt x="418" y="1403"/>
                  </a:lnTo>
                  <a:lnTo>
                    <a:pt x="425" y="1403"/>
                  </a:lnTo>
                  <a:lnTo>
                    <a:pt x="432" y="1403"/>
                  </a:lnTo>
                  <a:lnTo>
                    <a:pt x="439" y="1403"/>
                  </a:lnTo>
                  <a:lnTo>
                    <a:pt x="446" y="1403"/>
                  </a:lnTo>
                  <a:lnTo>
                    <a:pt x="453" y="1403"/>
                  </a:lnTo>
                  <a:lnTo>
                    <a:pt x="460" y="1410"/>
                  </a:lnTo>
                  <a:lnTo>
                    <a:pt x="467" y="1417"/>
                  </a:lnTo>
                  <a:lnTo>
                    <a:pt x="474" y="1424"/>
                  </a:lnTo>
                  <a:lnTo>
                    <a:pt x="482" y="1431"/>
                  </a:lnTo>
                  <a:lnTo>
                    <a:pt x="489" y="1438"/>
                  </a:lnTo>
                  <a:lnTo>
                    <a:pt x="496" y="1445"/>
                  </a:lnTo>
                  <a:lnTo>
                    <a:pt x="503" y="1452"/>
                  </a:lnTo>
                  <a:lnTo>
                    <a:pt x="503" y="1459"/>
                  </a:lnTo>
                  <a:lnTo>
                    <a:pt x="510" y="1467"/>
                  </a:lnTo>
                  <a:lnTo>
                    <a:pt x="510" y="1474"/>
                  </a:lnTo>
                  <a:lnTo>
                    <a:pt x="517" y="1481"/>
                  </a:lnTo>
                  <a:lnTo>
                    <a:pt x="517" y="1488"/>
                  </a:lnTo>
                  <a:lnTo>
                    <a:pt x="524" y="1495"/>
                  </a:lnTo>
                  <a:lnTo>
                    <a:pt x="524" y="1502"/>
                  </a:lnTo>
                  <a:lnTo>
                    <a:pt x="531" y="1509"/>
                  </a:lnTo>
                  <a:lnTo>
                    <a:pt x="531" y="1516"/>
                  </a:lnTo>
                  <a:lnTo>
                    <a:pt x="538" y="1523"/>
                  </a:lnTo>
                  <a:lnTo>
                    <a:pt x="538" y="1530"/>
                  </a:lnTo>
                  <a:lnTo>
                    <a:pt x="538" y="1537"/>
                  </a:lnTo>
                  <a:lnTo>
                    <a:pt x="545" y="1544"/>
                  </a:lnTo>
                  <a:lnTo>
                    <a:pt x="545" y="1552"/>
                  </a:lnTo>
                  <a:lnTo>
                    <a:pt x="552" y="1559"/>
                  </a:lnTo>
                  <a:lnTo>
                    <a:pt x="552" y="1566"/>
                  </a:lnTo>
                  <a:lnTo>
                    <a:pt x="552" y="1573"/>
                  </a:lnTo>
                  <a:lnTo>
                    <a:pt x="560" y="1580"/>
                  </a:lnTo>
                  <a:lnTo>
                    <a:pt x="560" y="1587"/>
                  </a:lnTo>
                  <a:lnTo>
                    <a:pt x="567" y="1594"/>
                  </a:lnTo>
                  <a:lnTo>
                    <a:pt x="567" y="1601"/>
                  </a:lnTo>
                  <a:lnTo>
                    <a:pt x="567" y="1608"/>
                  </a:lnTo>
                  <a:lnTo>
                    <a:pt x="574" y="1601"/>
                  </a:lnTo>
                  <a:lnTo>
                    <a:pt x="574" y="1594"/>
                  </a:lnTo>
                  <a:lnTo>
                    <a:pt x="574" y="1587"/>
                  </a:lnTo>
                  <a:lnTo>
                    <a:pt x="581" y="1580"/>
                  </a:lnTo>
                  <a:lnTo>
                    <a:pt x="581" y="1573"/>
                  </a:lnTo>
                  <a:lnTo>
                    <a:pt x="581" y="1566"/>
                  </a:lnTo>
                  <a:lnTo>
                    <a:pt x="588" y="1559"/>
                  </a:lnTo>
                  <a:lnTo>
                    <a:pt x="588" y="1552"/>
                  </a:lnTo>
                  <a:lnTo>
                    <a:pt x="588" y="1544"/>
                  </a:lnTo>
                  <a:lnTo>
                    <a:pt x="595" y="1537"/>
                  </a:lnTo>
                  <a:lnTo>
                    <a:pt x="595" y="1530"/>
                  </a:lnTo>
                  <a:lnTo>
                    <a:pt x="595" y="1523"/>
                  </a:lnTo>
                  <a:lnTo>
                    <a:pt x="602" y="1516"/>
                  </a:lnTo>
                  <a:lnTo>
                    <a:pt x="602" y="1509"/>
                  </a:lnTo>
                  <a:lnTo>
                    <a:pt x="602" y="1502"/>
                  </a:lnTo>
                  <a:lnTo>
                    <a:pt x="609" y="1495"/>
                  </a:lnTo>
                  <a:lnTo>
                    <a:pt x="609" y="1488"/>
                  </a:lnTo>
                  <a:lnTo>
                    <a:pt x="616" y="1481"/>
                  </a:lnTo>
                  <a:lnTo>
                    <a:pt x="616" y="1474"/>
                  </a:lnTo>
                  <a:lnTo>
                    <a:pt x="616" y="1467"/>
                  </a:lnTo>
                  <a:lnTo>
                    <a:pt x="616" y="1459"/>
                  </a:lnTo>
                  <a:lnTo>
                    <a:pt x="623" y="1452"/>
                  </a:lnTo>
                  <a:lnTo>
                    <a:pt x="623" y="1445"/>
                  </a:lnTo>
                  <a:lnTo>
                    <a:pt x="623" y="1438"/>
                  </a:lnTo>
                  <a:lnTo>
                    <a:pt x="630" y="1431"/>
                  </a:lnTo>
                  <a:lnTo>
                    <a:pt x="630" y="1424"/>
                  </a:lnTo>
                  <a:lnTo>
                    <a:pt x="637" y="1417"/>
                  </a:lnTo>
                  <a:lnTo>
                    <a:pt x="637" y="1410"/>
                  </a:lnTo>
                  <a:lnTo>
                    <a:pt x="637" y="1403"/>
                  </a:lnTo>
                  <a:lnTo>
                    <a:pt x="645" y="1396"/>
                  </a:lnTo>
                  <a:lnTo>
                    <a:pt x="645" y="1389"/>
                  </a:lnTo>
                  <a:lnTo>
                    <a:pt x="652" y="1382"/>
                  </a:lnTo>
                  <a:lnTo>
                    <a:pt x="652" y="1374"/>
                  </a:lnTo>
                  <a:lnTo>
                    <a:pt x="652" y="1367"/>
                  </a:lnTo>
                  <a:lnTo>
                    <a:pt x="652" y="1360"/>
                  </a:lnTo>
                  <a:lnTo>
                    <a:pt x="659" y="1353"/>
                  </a:lnTo>
                  <a:lnTo>
                    <a:pt x="659" y="1346"/>
                  </a:lnTo>
                  <a:lnTo>
                    <a:pt x="666" y="1339"/>
                  </a:lnTo>
                  <a:lnTo>
                    <a:pt x="666" y="1332"/>
                  </a:lnTo>
                  <a:lnTo>
                    <a:pt x="673" y="1325"/>
                  </a:lnTo>
                  <a:lnTo>
                    <a:pt x="673" y="1318"/>
                  </a:lnTo>
                  <a:lnTo>
                    <a:pt x="680" y="1311"/>
                  </a:lnTo>
                  <a:lnTo>
                    <a:pt x="687" y="1304"/>
                  </a:lnTo>
                  <a:lnTo>
                    <a:pt x="687" y="1296"/>
                  </a:lnTo>
                  <a:lnTo>
                    <a:pt x="694" y="1289"/>
                  </a:lnTo>
                  <a:lnTo>
                    <a:pt x="694" y="1282"/>
                  </a:lnTo>
                  <a:lnTo>
                    <a:pt x="701" y="1275"/>
                  </a:lnTo>
                  <a:lnTo>
                    <a:pt x="708" y="1268"/>
                  </a:lnTo>
                  <a:lnTo>
                    <a:pt x="715" y="1261"/>
                  </a:lnTo>
                  <a:lnTo>
                    <a:pt x="723" y="1261"/>
                  </a:lnTo>
                  <a:lnTo>
                    <a:pt x="730" y="1261"/>
                  </a:lnTo>
                  <a:lnTo>
                    <a:pt x="737" y="1261"/>
                  </a:lnTo>
                  <a:lnTo>
                    <a:pt x="744" y="1261"/>
                  </a:lnTo>
                  <a:lnTo>
                    <a:pt x="751" y="1268"/>
                  </a:lnTo>
                  <a:lnTo>
                    <a:pt x="758" y="1275"/>
                  </a:lnTo>
                  <a:lnTo>
                    <a:pt x="765" y="1282"/>
                  </a:lnTo>
                  <a:lnTo>
                    <a:pt x="765" y="1289"/>
                  </a:lnTo>
                  <a:lnTo>
                    <a:pt x="772" y="1296"/>
                  </a:lnTo>
                  <a:lnTo>
                    <a:pt x="772" y="1304"/>
                  </a:lnTo>
                  <a:lnTo>
                    <a:pt x="779" y="1311"/>
                  </a:lnTo>
                  <a:lnTo>
                    <a:pt x="779" y="1318"/>
                  </a:lnTo>
                  <a:lnTo>
                    <a:pt x="786" y="1325"/>
                  </a:lnTo>
                  <a:lnTo>
                    <a:pt x="786" y="1332"/>
                  </a:lnTo>
                  <a:lnTo>
                    <a:pt x="793" y="1339"/>
                  </a:lnTo>
                  <a:lnTo>
                    <a:pt x="793" y="1346"/>
                  </a:lnTo>
                  <a:lnTo>
                    <a:pt x="793" y="1353"/>
                  </a:lnTo>
                  <a:lnTo>
                    <a:pt x="800" y="1360"/>
                  </a:lnTo>
                  <a:lnTo>
                    <a:pt x="800" y="1367"/>
                  </a:lnTo>
                  <a:lnTo>
                    <a:pt x="800" y="1374"/>
                  </a:lnTo>
                  <a:lnTo>
                    <a:pt x="800" y="1382"/>
                  </a:lnTo>
                  <a:lnTo>
                    <a:pt x="808" y="1389"/>
                  </a:lnTo>
                  <a:lnTo>
                    <a:pt x="808" y="1403"/>
                  </a:lnTo>
                  <a:lnTo>
                    <a:pt x="808" y="1410"/>
                  </a:lnTo>
                  <a:lnTo>
                    <a:pt x="815" y="1417"/>
                  </a:lnTo>
                  <a:lnTo>
                    <a:pt x="815" y="1424"/>
                  </a:lnTo>
                  <a:lnTo>
                    <a:pt x="815" y="1431"/>
                  </a:lnTo>
                  <a:lnTo>
                    <a:pt x="822" y="1445"/>
                  </a:lnTo>
                  <a:lnTo>
                    <a:pt x="822" y="1452"/>
                  </a:lnTo>
                  <a:lnTo>
                    <a:pt x="822" y="1459"/>
                  </a:lnTo>
                  <a:lnTo>
                    <a:pt x="829" y="1474"/>
                  </a:lnTo>
                  <a:lnTo>
                    <a:pt x="829" y="1481"/>
                  </a:lnTo>
                  <a:lnTo>
                    <a:pt x="829" y="1495"/>
                  </a:lnTo>
                  <a:lnTo>
                    <a:pt x="836" y="1502"/>
                  </a:lnTo>
                  <a:lnTo>
                    <a:pt x="836" y="1516"/>
                  </a:lnTo>
                  <a:lnTo>
                    <a:pt x="836" y="1523"/>
                  </a:lnTo>
                  <a:lnTo>
                    <a:pt x="836" y="1537"/>
                  </a:lnTo>
                  <a:lnTo>
                    <a:pt x="843" y="1544"/>
                  </a:lnTo>
                  <a:lnTo>
                    <a:pt x="843" y="1559"/>
                  </a:lnTo>
                  <a:lnTo>
                    <a:pt x="843" y="1573"/>
                  </a:lnTo>
                  <a:lnTo>
                    <a:pt x="850" y="1587"/>
                  </a:lnTo>
                  <a:lnTo>
                    <a:pt x="850" y="1594"/>
                  </a:lnTo>
                  <a:lnTo>
                    <a:pt x="850" y="1608"/>
                  </a:lnTo>
                  <a:lnTo>
                    <a:pt x="857" y="1594"/>
                  </a:lnTo>
                  <a:lnTo>
                    <a:pt x="857" y="1580"/>
                  </a:lnTo>
                  <a:lnTo>
                    <a:pt x="857" y="1573"/>
                  </a:lnTo>
                  <a:lnTo>
                    <a:pt x="864" y="1559"/>
                  </a:lnTo>
                  <a:lnTo>
                    <a:pt x="864" y="1544"/>
                  </a:lnTo>
                  <a:lnTo>
                    <a:pt x="864" y="1530"/>
                  </a:lnTo>
                  <a:lnTo>
                    <a:pt x="871" y="1516"/>
                  </a:lnTo>
                  <a:lnTo>
                    <a:pt x="871" y="1502"/>
                  </a:lnTo>
                  <a:lnTo>
                    <a:pt x="871" y="1488"/>
                  </a:lnTo>
                  <a:lnTo>
                    <a:pt x="878" y="1474"/>
                  </a:lnTo>
                  <a:lnTo>
                    <a:pt x="878" y="1459"/>
                  </a:lnTo>
                  <a:lnTo>
                    <a:pt x="878" y="1445"/>
                  </a:lnTo>
                  <a:lnTo>
                    <a:pt x="878" y="1431"/>
                  </a:lnTo>
                  <a:lnTo>
                    <a:pt x="885" y="1417"/>
                  </a:lnTo>
                  <a:lnTo>
                    <a:pt x="885" y="1403"/>
                  </a:lnTo>
                  <a:lnTo>
                    <a:pt x="885" y="1382"/>
                  </a:lnTo>
                  <a:lnTo>
                    <a:pt x="893" y="1367"/>
                  </a:lnTo>
                  <a:lnTo>
                    <a:pt x="893" y="1353"/>
                  </a:lnTo>
                  <a:lnTo>
                    <a:pt x="893" y="1339"/>
                  </a:lnTo>
                  <a:lnTo>
                    <a:pt x="900" y="1325"/>
                  </a:lnTo>
                  <a:lnTo>
                    <a:pt x="900" y="1304"/>
                  </a:lnTo>
                  <a:lnTo>
                    <a:pt x="900" y="1289"/>
                  </a:lnTo>
                  <a:lnTo>
                    <a:pt x="907" y="1275"/>
                  </a:lnTo>
                  <a:lnTo>
                    <a:pt x="907" y="1261"/>
                  </a:lnTo>
                  <a:lnTo>
                    <a:pt x="907" y="1240"/>
                  </a:lnTo>
                  <a:lnTo>
                    <a:pt x="914" y="1226"/>
                  </a:lnTo>
                  <a:lnTo>
                    <a:pt x="914" y="1211"/>
                  </a:lnTo>
                  <a:lnTo>
                    <a:pt x="914" y="1190"/>
                  </a:lnTo>
                  <a:lnTo>
                    <a:pt x="914" y="1176"/>
                  </a:lnTo>
                  <a:lnTo>
                    <a:pt x="921" y="1162"/>
                  </a:lnTo>
                  <a:lnTo>
                    <a:pt x="921" y="1141"/>
                  </a:lnTo>
                  <a:lnTo>
                    <a:pt x="921" y="1126"/>
                  </a:lnTo>
                  <a:lnTo>
                    <a:pt x="928" y="1105"/>
                  </a:lnTo>
                  <a:lnTo>
                    <a:pt x="928" y="1091"/>
                  </a:lnTo>
                  <a:lnTo>
                    <a:pt x="928" y="1077"/>
                  </a:lnTo>
                  <a:lnTo>
                    <a:pt x="935" y="1056"/>
                  </a:lnTo>
                  <a:lnTo>
                    <a:pt x="935" y="1041"/>
                  </a:lnTo>
                  <a:lnTo>
                    <a:pt x="935" y="1020"/>
                  </a:lnTo>
                  <a:lnTo>
                    <a:pt x="942" y="1006"/>
                  </a:lnTo>
                  <a:lnTo>
                    <a:pt x="942" y="992"/>
                  </a:lnTo>
                  <a:lnTo>
                    <a:pt x="942" y="971"/>
                  </a:lnTo>
                  <a:lnTo>
                    <a:pt x="949" y="956"/>
                  </a:lnTo>
                  <a:lnTo>
                    <a:pt x="949" y="935"/>
                  </a:lnTo>
                  <a:lnTo>
                    <a:pt x="949" y="921"/>
                  </a:lnTo>
                  <a:lnTo>
                    <a:pt x="949" y="900"/>
                  </a:lnTo>
                  <a:lnTo>
                    <a:pt x="956" y="886"/>
                  </a:lnTo>
                  <a:lnTo>
                    <a:pt x="956" y="871"/>
                  </a:lnTo>
                  <a:lnTo>
                    <a:pt x="956" y="850"/>
                  </a:lnTo>
                  <a:lnTo>
                    <a:pt x="963" y="836"/>
                  </a:lnTo>
                  <a:lnTo>
                    <a:pt x="963" y="815"/>
                  </a:lnTo>
                  <a:lnTo>
                    <a:pt x="963" y="800"/>
                  </a:lnTo>
                  <a:lnTo>
                    <a:pt x="971" y="786"/>
                  </a:lnTo>
                  <a:lnTo>
                    <a:pt x="971" y="765"/>
                  </a:lnTo>
                  <a:lnTo>
                    <a:pt x="971" y="751"/>
                  </a:lnTo>
                  <a:lnTo>
                    <a:pt x="978" y="730"/>
                  </a:lnTo>
                  <a:lnTo>
                    <a:pt x="978" y="715"/>
                  </a:lnTo>
                  <a:lnTo>
                    <a:pt x="978" y="701"/>
                  </a:lnTo>
                  <a:lnTo>
                    <a:pt x="985" y="680"/>
                  </a:lnTo>
                  <a:lnTo>
                    <a:pt x="985" y="666"/>
                  </a:lnTo>
                  <a:lnTo>
                    <a:pt x="985" y="652"/>
                  </a:lnTo>
                  <a:lnTo>
                    <a:pt x="985" y="630"/>
                  </a:lnTo>
                  <a:lnTo>
                    <a:pt x="992" y="616"/>
                  </a:lnTo>
                  <a:lnTo>
                    <a:pt x="992" y="602"/>
                  </a:lnTo>
                  <a:lnTo>
                    <a:pt x="992" y="581"/>
                  </a:lnTo>
                  <a:lnTo>
                    <a:pt x="999" y="567"/>
                  </a:lnTo>
                  <a:lnTo>
                    <a:pt x="999" y="552"/>
                  </a:lnTo>
                  <a:lnTo>
                    <a:pt x="999" y="538"/>
                  </a:lnTo>
                  <a:lnTo>
                    <a:pt x="1006" y="524"/>
                  </a:lnTo>
                  <a:lnTo>
                    <a:pt x="1006" y="503"/>
                  </a:lnTo>
                  <a:lnTo>
                    <a:pt x="1006" y="489"/>
                  </a:lnTo>
                  <a:lnTo>
                    <a:pt x="1013" y="475"/>
                  </a:lnTo>
                  <a:lnTo>
                    <a:pt x="1013" y="460"/>
                  </a:lnTo>
                  <a:lnTo>
                    <a:pt x="1013" y="446"/>
                  </a:lnTo>
                  <a:lnTo>
                    <a:pt x="1020" y="432"/>
                  </a:lnTo>
                  <a:lnTo>
                    <a:pt x="1020" y="418"/>
                  </a:lnTo>
                  <a:lnTo>
                    <a:pt x="1020" y="404"/>
                  </a:lnTo>
                  <a:lnTo>
                    <a:pt x="1027" y="390"/>
                  </a:lnTo>
                  <a:lnTo>
                    <a:pt x="1027" y="375"/>
                  </a:lnTo>
                  <a:lnTo>
                    <a:pt x="1027" y="361"/>
                  </a:lnTo>
                  <a:lnTo>
                    <a:pt x="1027" y="347"/>
                  </a:lnTo>
                  <a:lnTo>
                    <a:pt x="1034" y="333"/>
                  </a:lnTo>
                  <a:lnTo>
                    <a:pt x="1034" y="319"/>
                  </a:lnTo>
                  <a:lnTo>
                    <a:pt x="1034" y="304"/>
                  </a:lnTo>
                  <a:lnTo>
                    <a:pt x="1041" y="297"/>
                  </a:lnTo>
                  <a:lnTo>
                    <a:pt x="1041" y="283"/>
                  </a:lnTo>
                  <a:lnTo>
                    <a:pt x="1041" y="269"/>
                  </a:lnTo>
                  <a:lnTo>
                    <a:pt x="1048" y="255"/>
                  </a:lnTo>
                  <a:lnTo>
                    <a:pt x="1048" y="248"/>
                  </a:lnTo>
                  <a:lnTo>
                    <a:pt x="1048" y="234"/>
                  </a:lnTo>
                  <a:lnTo>
                    <a:pt x="1056" y="227"/>
                  </a:lnTo>
                  <a:lnTo>
                    <a:pt x="1056" y="212"/>
                  </a:lnTo>
                  <a:lnTo>
                    <a:pt x="1056" y="198"/>
                  </a:lnTo>
                  <a:lnTo>
                    <a:pt x="1063" y="191"/>
                  </a:lnTo>
                  <a:lnTo>
                    <a:pt x="1063" y="177"/>
                  </a:lnTo>
                  <a:lnTo>
                    <a:pt x="1063" y="170"/>
                  </a:lnTo>
                  <a:lnTo>
                    <a:pt x="1063" y="163"/>
                  </a:lnTo>
                  <a:lnTo>
                    <a:pt x="1070" y="149"/>
                  </a:lnTo>
                  <a:lnTo>
                    <a:pt x="1070" y="142"/>
                  </a:lnTo>
                  <a:lnTo>
                    <a:pt x="1070" y="134"/>
                  </a:lnTo>
                  <a:lnTo>
                    <a:pt x="1077" y="120"/>
                  </a:lnTo>
                  <a:lnTo>
                    <a:pt x="1077" y="113"/>
                  </a:lnTo>
                  <a:lnTo>
                    <a:pt x="1077" y="106"/>
                  </a:lnTo>
                  <a:lnTo>
                    <a:pt x="1084" y="99"/>
                  </a:lnTo>
                  <a:lnTo>
                    <a:pt x="1084" y="92"/>
                  </a:lnTo>
                  <a:lnTo>
                    <a:pt x="1084" y="85"/>
                  </a:lnTo>
                  <a:lnTo>
                    <a:pt x="1091" y="78"/>
                  </a:lnTo>
                  <a:lnTo>
                    <a:pt x="1091" y="71"/>
                  </a:lnTo>
                  <a:lnTo>
                    <a:pt x="1091" y="64"/>
                  </a:lnTo>
                  <a:lnTo>
                    <a:pt x="1098" y="56"/>
                  </a:lnTo>
                  <a:lnTo>
                    <a:pt x="1098" y="49"/>
                  </a:lnTo>
                  <a:lnTo>
                    <a:pt x="1098" y="42"/>
                  </a:lnTo>
                  <a:lnTo>
                    <a:pt x="1105" y="35"/>
                  </a:lnTo>
                  <a:lnTo>
                    <a:pt x="1105" y="28"/>
                  </a:lnTo>
                  <a:lnTo>
                    <a:pt x="1112" y="21"/>
                  </a:lnTo>
                  <a:lnTo>
                    <a:pt x="1119" y="14"/>
                  </a:lnTo>
                  <a:lnTo>
                    <a:pt x="1126" y="7"/>
                  </a:lnTo>
                  <a:lnTo>
                    <a:pt x="1134" y="0"/>
                  </a:lnTo>
                  <a:lnTo>
                    <a:pt x="1141" y="0"/>
                  </a:lnTo>
                  <a:lnTo>
                    <a:pt x="1148" y="7"/>
                  </a:lnTo>
                  <a:lnTo>
                    <a:pt x="1155" y="14"/>
                  </a:lnTo>
                  <a:lnTo>
                    <a:pt x="1162" y="21"/>
                  </a:lnTo>
                  <a:lnTo>
                    <a:pt x="1169" y="28"/>
                  </a:lnTo>
                  <a:lnTo>
                    <a:pt x="1169" y="35"/>
                  </a:lnTo>
                  <a:lnTo>
                    <a:pt x="1176" y="42"/>
                  </a:lnTo>
                  <a:lnTo>
                    <a:pt x="1176" y="49"/>
                  </a:lnTo>
                  <a:lnTo>
                    <a:pt x="1176" y="56"/>
                  </a:lnTo>
                  <a:lnTo>
                    <a:pt x="1183" y="64"/>
                  </a:lnTo>
                  <a:lnTo>
                    <a:pt x="1183" y="71"/>
                  </a:lnTo>
                  <a:lnTo>
                    <a:pt x="1183" y="78"/>
                  </a:lnTo>
                  <a:lnTo>
                    <a:pt x="1190" y="85"/>
                  </a:lnTo>
                  <a:lnTo>
                    <a:pt x="1190" y="92"/>
                  </a:lnTo>
                  <a:lnTo>
                    <a:pt x="1190" y="99"/>
                  </a:lnTo>
                  <a:lnTo>
                    <a:pt x="1197" y="106"/>
                  </a:lnTo>
                  <a:lnTo>
                    <a:pt x="1197" y="113"/>
                  </a:lnTo>
                  <a:lnTo>
                    <a:pt x="1197" y="120"/>
                  </a:lnTo>
                  <a:lnTo>
                    <a:pt x="1204" y="134"/>
                  </a:lnTo>
                  <a:lnTo>
                    <a:pt x="1204" y="142"/>
                  </a:lnTo>
                  <a:lnTo>
                    <a:pt x="1204" y="149"/>
                  </a:lnTo>
                  <a:lnTo>
                    <a:pt x="1211" y="163"/>
                  </a:lnTo>
                  <a:lnTo>
                    <a:pt x="1211" y="170"/>
                  </a:lnTo>
                  <a:lnTo>
                    <a:pt x="1211" y="177"/>
                  </a:lnTo>
                  <a:lnTo>
                    <a:pt x="1211" y="191"/>
                  </a:lnTo>
                  <a:lnTo>
                    <a:pt x="1219" y="198"/>
                  </a:lnTo>
                  <a:lnTo>
                    <a:pt x="1219" y="212"/>
                  </a:lnTo>
                  <a:lnTo>
                    <a:pt x="1219" y="227"/>
                  </a:lnTo>
                  <a:lnTo>
                    <a:pt x="1226" y="234"/>
                  </a:lnTo>
                  <a:lnTo>
                    <a:pt x="1226" y="248"/>
                  </a:lnTo>
                  <a:lnTo>
                    <a:pt x="1226" y="255"/>
                  </a:lnTo>
                  <a:lnTo>
                    <a:pt x="1233" y="269"/>
                  </a:lnTo>
                  <a:lnTo>
                    <a:pt x="1233" y="283"/>
                  </a:lnTo>
                  <a:lnTo>
                    <a:pt x="1233" y="297"/>
                  </a:lnTo>
                  <a:lnTo>
                    <a:pt x="1240" y="304"/>
                  </a:lnTo>
                  <a:lnTo>
                    <a:pt x="1240" y="319"/>
                  </a:lnTo>
                  <a:lnTo>
                    <a:pt x="1240" y="333"/>
                  </a:lnTo>
                  <a:lnTo>
                    <a:pt x="1247" y="347"/>
                  </a:lnTo>
                  <a:lnTo>
                    <a:pt x="1247" y="361"/>
                  </a:lnTo>
                  <a:lnTo>
                    <a:pt x="1247" y="375"/>
                  </a:lnTo>
                  <a:lnTo>
                    <a:pt x="1247" y="390"/>
                  </a:lnTo>
                  <a:lnTo>
                    <a:pt x="1254" y="404"/>
                  </a:lnTo>
                  <a:lnTo>
                    <a:pt x="1254" y="418"/>
                  </a:lnTo>
                  <a:lnTo>
                    <a:pt x="1254" y="432"/>
                  </a:lnTo>
                  <a:lnTo>
                    <a:pt x="1261" y="446"/>
                  </a:lnTo>
                  <a:lnTo>
                    <a:pt x="1261" y="460"/>
                  </a:lnTo>
                  <a:lnTo>
                    <a:pt x="1261" y="475"/>
                  </a:lnTo>
                  <a:lnTo>
                    <a:pt x="1268" y="489"/>
                  </a:lnTo>
                  <a:lnTo>
                    <a:pt x="1268" y="503"/>
                  </a:lnTo>
                  <a:lnTo>
                    <a:pt x="1268" y="524"/>
                  </a:lnTo>
                  <a:lnTo>
                    <a:pt x="1275" y="538"/>
                  </a:lnTo>
                  <a:lnTo>
                    <a:pt x="1275" y="552"/>
                  </a:lnTo>
                  <a:lnTo>
                    <a:pt x="1275" y="567"/>
                  </a:lnTo>
                  <a:lnTo>
                    <a:pt x="1282" y="581"/>
                  </a:lnTo>
                  <a:lnTo>
                    <a:pt x="1282" y="602"/>
                  </a:lnTo>
                  <a:lnTo>
                    <a:pt x="1282" y="616"/>
                  </a:lnTo>
                  <a:lnTo>
                    <a:pt x="1289" y="630"/>
                  </a:lnTo>
                  <a:lnTo>
                    <a:pt x="1289" y="652"/>
                  </a:lnTo>
                  <a:lnTo>
                    <a:pt x="1289" y="666"/>
                  </a:lnTo>
                  <a:lnTo>
                    <a:pt x="1289" y="680"/>
                  </a:lnTo>
                  <a:lnTo>
                    <a:pt x="1297" y="701"/>
                  </a:lnTo>
                  <a:lnTo>
                    <a:pt x="1297" y="715"/>
                  </a:lnTo>
                  <a:lnTo>
                    <a:pt x="1297" y="730"/>
                  </a:lnTo>
                  <a:lnTo>
                    <a:pt x="1304" y="751"/>
                  </a:lnTo>
                  <a:lnTo>
                    <a:pt x="1304" y="765"/>
                  </a:lnTo>
                  <a:lnTo>
                    <a:pt x="1304" y="786"/>
                  </a:lnTo>
                  <a:lnTo>
                    <a:pt x="1311" y="800"/>
                  </a:lnTo>
                  <a:lnTo>
                    <a:pt x="1311" y="815"/>
                  </a:lnTo>
                  <a:lnTo>
                    <a:pt x="1311" y="836"/>
                  </a:lnTo>
                  <a:lnTo>
                    <a:pt x="1318" y="850"/>
                  </a:lnTo>
                  <a:lnTo>
                    <a:pt x="1318" y="871"/>
                  </a:lnTo>
                  <a:lnTo>
                    <a:pt x="1318" y="886"/>
                  </a:lnTo>
                  <a:lnTo>
                    <a:pt x="1325" y="900"/>
                  </a:lnTo>
                  <a:lnTo>
                    <a:pt x="1325" y="921"/>
                  </a:lnTo>
                  <a:lnTo>
                    <a:pt x="1325" y="935"/>
                  </a:lnTo>
                  <a:lnTo>
                    <a:pt x="1325" y="956"/>
                  </a:lnTo>
                  <a:lnTo>
                    <a:pt x="1332" y="971"/>
                  </a:lnTo>
                  <a:lnTo>
                    <a:pt x="1332" y="992"/>
                  </a:lnTo>
                  <a:lnTo>
                    <a:pt x="1332" y="1006"/>
                  </a:lnTo>
                  <a:lnTo>
                    <a:pt x="1339" y="1020"/>
                  </a:lnTo>
                  <a:lnTo>
                    <a:pt x="1339" y="1041"/>
                  </a:lnTo>
                  <a:lnTo>
                    <a:pt x="1339" y="1056"/>
                  </a:lnTo>
                  <a:lnTo>
                    <a:pt x="1346" y="1077"/>
                  </a:lnTo>
                  <a:lnTo>
                    <a:pt x="1346" y="1091"/>
                  </a:lnTo>
                  <a:lnTo>
                    <a:pt x="1346" y="1105"/>
                  </a:lnTo>
                  <a:lnTo>
                    <a:pt x="1353" y="1126"/>
                  </a:lnTo>
                  <a:lnTo>
                    <a:pt x="1353" y="1141"/>
                  </a:lnTo>
                  <a:lnTo>
                    <a:pt x="1353" y="1162"/>
                  </a:lnTo>
                  <a:lnTo>
                    <a:pt x="1360" y="1176"/>
                  </a:lnTo>
                  <a:lnTo>
                    <a:pt x="1360" y="1190"/>
                  </a:lnTo>
                  <a:lnTo>
                    <a:pt x="1360" y="1211"/>
                  </a:lnTo>
                  <a:lnTo>
                    <a:pt x="1360" y="1226"/>
                  </a:lnTo>
                  <a:lnTo>
                    <a:pt x="1367" y="1240"/>
                  </a:lnTo>
                  <a:lnTo>
                    <a:pt x="1367" y="1261"/>
                  </a:lnTo>
                  <a:lnTo>
                    <a:pt x="1367" y="1275"/>
                  </a:lnTo>
                  <a:lnTo>
                    <a:pt x="1374" y="1289"/>
                  </a:lnTo>
                  <a:lnTo>
                    <a:pt x="1374" y="1304"/>
                  </a:lnTo>
                  <a:lnTo>
                    <a:pt x="1374" y="1325"/>
                  </a:lnTo>
                  <a:lnTo>
                    <a:pt x="1382" y="1339"/>
                  </a:lnTo>
                  <a:lnTo>
                    <a:pt x="1382" y="1353"/>
                  </a:lnTo>
                  <a:lnTo>
                    <a:pt x="1382" y="1367"/>
                  </a:lnTo>
                  <a:lnTo>
                    <a:pt x="1389" y="1382"/>
                  </a:lnTo>
                  <a:lnTo>
                    <a:pt x="1389" y="1403"/>
                  </a:lnTo>
                  <a:lnTo>
                    <a:pt x="1389" y="1417"/>
                  </a:lnTo>
                  <a:lnTo>
                    <a:pt x="1396" y="1431"/>
                  </a:lnTo>
                  <a:lnTo>
                    <a:pt x="1396" y="1445"/>
                  </a:lnTo>
                  <a:lnTo>
                    <a:pt x="1396" y="1459"/>
                  </a:lnTo>
                  <a:lnTo>
                    <a:pt x="1396" y="1474"/>
                  </a:lnTo>
                  <a:lnTo>
                    <a:pt x="1403" y="1488"/>
                  </a:lnTo>
                  <a:lnTo>
                    <a:pt x="1403" y="1502"/>
                  </a:lnTo>
                  <a:lnTo>
                    <a:pt x="1403" y="1516"/>
                  </a:lnTo>
                  <a:lnTo>
                    <a:pt x="1410" y="1530"/>
                  </a:lnTo>
                  <a:lnTo>
                    <a:pt x="1410" y="1544"/>
                  </a:lnTo>
                  <a:lnTo>
                    <a:pt x="1410" y="1559"/>
                  </a:lnTo>
                  <a:lnTo>
                    <a:pt x="1417" y="1573"/>
                  </a:lnTo>
                  <a:lnTo>
                    <a:pt x="1417" y="1580"/>
                  </a:lnTo>
                  <a:lnTo>
                    <a:pt x="1417" y="1594"/>
                  </a:lnTo>
                  <a:lnTo>
                    <a:pt x="1424" y="1608"/>
                  </a:lnTo>
                  <a:lnTo>
                    <a:pt x="1424" y="1594"/>
                  </a:lnTo>
                  <a:lnTo>
                    <a:pt x="1424" y="1587"/>
                  </a:lnTo>
                  <a:lnTo>
                    <a:pt x="1431" y="1573"/>
                  </a:lnTo>
                  <a:lnTo>
                    <a:pt x="1431" y="1559"/>
                  </a:lnTo>
                  <a:lnTo>
                    <a:pt x="1431" y="1544"/>
                  </a:lnTo>
                  <a:lnTo>
                    <a:pt x="1438" y="1537"/>
                  </a:lnTo>
                  <a:lnTo>
                    <a:pt x="1438" y="1523"/>
                  </a:lnTo>
                  <a:lnTo>
                    <a:pt x="1438" y="1516"/>
                  </a:lnTo>
                  <a:lnTo>
                    <a:pt x="1438" y="1502"/>
                  </a:lnTo>
                  <a:lnTo>
                    <a:pt x="1445" y="1495"/>
                  </a:lnTo>
                  <a:lnTo>
                    <a:pt x="1445" y="1481"/>
                  </a:lnTo>
                  <a:lnTo>
                    <a:pt x="1445" y="1474"/>
                  </a:lnTo>
                  <a:lnTo>
                    <a:pt x="1452" y="1459"/>
                  </a:lnTo>
                  <a:lnTo>
                    <a:pt x="1452" y="1452"/>
                  </a:lnTo>
                  <a:lnTo>
                    <a:pt x="1452" y="1445"/>
                  </a:lnTo>
                  <a:lnTo>
                    <a:pt x="1460" y="1431"/>
                  </a:lnTo>
                  <a:lnTo>
                    <a:pt x="1460" y="1424"/>
                  </a:lnTo>
                  <a:lnTo>
                    <a:pt x="1460" y="1417"/>
                  </a:lnTo>
                  <a:lnTo>
                    <a:pt x="1467" y="1410"/>
                  </a:lnTo>
                  <a:lnTo>
                    <a:pt x="1467" y="1403"/>
                  </a:lnTo>
                  <a:lnTo>
                    <a:pt x="1467" y="1389"/>
                  </a:lnTo>
                  <a:lnTo>
                    <a:pt x="1474" y="1382"/>
                  </a:lnTo>
                  <a:lnTo>
                    <a:pt x="1474" y="1374"/>
                  </a:lnTo>
                  <a:lnTo>
                    <a:pt x="1474" y="1367"/>
                  </a:lnTo>
                  <a:lnTo>
                    <a:pt x="1474" y="1360"/>
                  </a:lnTo>
                  <a:lnTo>
                    <a:pt x="1481" y="1353"/>
                  </a:lnTo>
                  <a:lnTo>
                    <a:pt x="1481" y="1346"/>
                  </a:lnTo>
                  <a:lnTo>
                    <a:pt x="1488" y="1339"/>
                  </a:lnTo>
                  <a:lnTo>
                    <a:pt x="1488" y="1332"/>
                  </a:lnTo>
                  <a:lnTo>
                    <a:pt x="1488" y="1325"/>
                  </a:lnTo>
                  <a:lnTo>
                    <a:pt x="1495" y="1318"/>
                  </a:lnTo>
                  <a:lnTo>
                    <a:pt x="1495" y="1311"/>
                  </a:lnTo>
                  <a:lnTo>
                    <a:pt x="1502" y="1304"/>
                  </a:lnTo>
                  <a:lnTo>
                    <a:pt x="1502" y="1296"/>
                  </a:lnTo>
                  <a:lnTo>
                    <a:pt x="1509" y="1289"/>
                  </a:lnTo>
                  <a:lnTo>
                    <a:pt x="1509" y="1282"/>
                  </a:lnTo>
                  <a:lnTo>
                    <a:pt x="1516" y="1275"/>
                  </a:lnTo>
                  <a:lnTo>
                    <a:pt x="1523" y="1268"/>
                  </a:lnTo>
                  <a:lnTo>
                    <a:pt x="1530" y="1261"/>
                  </a:lnTo>
                  <a:lnTo>
                    <a:pt x="1537" y="1261"/>
                  </a:lnTo>
                  <a:lnTo>
                    <a:pt x="1545" y="1261"/>
                  </a:lnTo>
                  <a:lnTo>
                    <a:pt x="1552" y="1261"/>
                  </a:lnTo>
                  <a:lnTo>
                    <a:pt x="1559" y="1268"/>
                  </a:lnTo>
                  <a:lnTo>
                    <a:pt x="1566" y="1268"/>
                  </a:lnTo>
                  <a:lnTo>
                    <a:pt x="1573" y="1275"/>
                  </a:lnTo>
                  <a:lnTo>
                    <a:pt x="1580" y="1282"/>
                  </a:lnTo>
                  <a:lnTo>
                    <a:pt x="1587" y="1289"/>
                  </a:lnTo>
                  <a:lnTo>
                    <a:pt x="1587" y="1296"/>
                  </a:lnTo>
                  <a:lnTo>
                    <a:pt x="1594" y="1304"/>
                  </a:lnTo>
                  <a:lnTo>
                    <a:pt x="1594" y="1311"/>
                  </a:lnTo>
                  <a:lnTo>
                    <a:pt x="1601" y="1318"/>
                  </a:lnTo>
                  <a:lnTo>
                    <a:pt x="1601" y="1325"/>
                  </a:lnTo>
                  <a:lnTo>
                    <a:pt x="1608" y="1332"/>
                  </a:lnTo>
                  <a:lnTo>
                    <a:pt x="1608" y="1339"/>
                  </a:lnTo>
                  <a:lnTo>
                    <a:pt x="1615" y="1346"/>
                  </a:lnTo>
                  <a:lnTo>
                    <a:pt x="1615" y="1353"/>
                  </a:lnTo>
                  <a:lnTo>
                    <a:pt x="1622" y="1360"/>
                  </a:lnTo>
                  <a:lnTo>
                    <a:pt x="1622" y="1367"/>
                  </a:lnTo>
                  <a:lnTo>
                    <a:pt x="1622" y="1374"/>
                  </a:lnTo>
                  <a:lnTo>
                    <a:pt x="1630" y="1382"/>
                  </a:lnTo>
                  <a:lnTo>
                    <a:pt x="1630" y="1389"/>
                  </a:lnTo>
                  <a:lnTo>
                    <a:pt x="1630" y="1396"/>
                  </a:lnTo>
                  <a:lnTo>
                    <a:pt x="1637" y="1403"/>
                  </a:lnTo>
                  <a:lnTo>
                    <a:pt x="1637" y="1410"/>
                  </a:lnTo>
                  <a:lnTo>
                    <a:pt x="1644" y="1417"/>
                  </a:lnTo>
                  <a:lnTo>
                    <a:pt x="1644" y="1424"/>
                  </a:lnTo>
                  <a:lnTo>
                    <a:pt x="1644" y="1431"/>
                  </a:lnTo>
                  <a:lnTo>
                    <a:pt x="1651" y="1438"/>
                  </a:lnTo>
                  <a:lnTo>
                    <a:pt x="1651" y="1445"/>
                  </a:lnTo>
                  <a:lnTo>
                    <a:pt x="1651" y="1452"/>
                  </a:lnTo>
                  <a:lnTo>
                    <a:pt x="1658" y="1459"/>
                  </a:lnTo>
                  <a:lnTo>
                    <a:pt x="1658" y="1467"/>
                  </a:lnTo>
                  <a:lnTo>
                    <a:pt x="1658" y="1474"/>
                  </a:lnTo>
                  <a:lnTo>
                    <a:pt x="1665" y="1481"/>
                  </a:lnTo>
                  <a:lnTo>
                    <a:pt x="1665" y="1488"/>
                  </a:lnTo>
                  <a:lnTo>
                    <a:pt x="1665" y="1495"/>
                  </a:lnTo>
                  <a:lnTo>
                    <a:pt x="1672" y="1502"/>
                  </a:lnTo>
                  <a:lnTo>
                    <a:pt x="1672" y="1509"/>
                  </a:lnTo>
                  <a:lnTo>
                    <a:pt x="1672" y="1516"/>
                  </a:lnTo>
                  <a:lnTo>
                    <a:pt x="1679" y="1523"/>
                  </a:lnTo>
                  <a:lnTo>
                    <a:pt x="1679" y="1530"/>
                  </a:lnTo>
                  <a:lnTo>
                    <a:pt x="1679" y="1537"/>
                  </a:lnTo>
                  <a:lnTo>
                    <a:pt x="1686" y="1544"/>
                  </a:lnTo>
                  <a:lnTo>
                    <a:pt x="1686" y="1552"/>
                  </a:lnTo>
                  <a:lnTo>
                    <a:pt x="1686" y="1559"/>
                  </a:lnTo>
                  <a:lnTo>
                    <a:pt x="1693" y="1566"/>
                  </a:lnTo>
                  <a:lnTo>
                    <a:pt x="1693" y="1573"/>
                  </a:lnTo>
                  <a:lnTo>
                    <a:pt x="1693" y="1580"/>
                  </a:lnTo>
                  <a:lnTo>
                    <a:pt x="1700" y="1587"/>
                  </a:lnTo>
                  <a:lnTo>
                    <a:pt x="1700" y="1594"/>
                  </a:lnTo>
                  <a:lnTo>
                    <a:pt x="1700" y="1601"/>
                  </a:lnTo>
                  <a:lnTo>
                    <a:pt x="1708" y="1608"/>
                  </a:lnTo>
                  <a:lnTo>
                    <a:pt x="1708" y="1601"/>
                  </a:lnTo>
                  <a:lnTo>
                    <a:pt x="1708" y="1594"/>
                  </a:lnTo>
                  <a:lnTo>
                    <a:pt x="1715" y="1587"/>
                  </a:lnTo>
                  <a:lnTo>
                    <a:pt x="1715" y="1580"/>
                  </a:lnTo>
                  <a:lnTo>
                    <a:pt x="1722" y="1573"/>
                  </a:lnTo>
                  <a:lnTo>
                    <a:pt x="1722" y="1566"/>
                  </a:lnTo>
                  <a:lnTo>
                    <a:pt x="1722" y="1559"/>
                  </a:lnTo>
                  <a:lnTo>
                    <a:pt x="1729" y="1552"/>
                  </a:lnTo>
                  <a:lnTo>
                    <a:pt x="1729" y="1544"/>
                  </a:lnTo>
                  <a:lnTo>
                    <a:pt x="1736" y="1537"/>
                  </a:lnTo>
                  <a:lnTo>
                    <a:pt x="1736" y="1530"/>
                  </a:lnTo>
                  <a:lnTo>
                    <a:pt x="1736" y="1523"/>
                  </a:lnTo>
                  <a:lnTo>
                    <a:pt x="1743" y="1516"/>
                  </a:lnTo>
                  <a:lnTo>
                    <a:pt x="1743" y="1509"/>
                  </a:lnTo>
                  <a:lnTo>
                    <a:pt x="1750" y="1502"/>
                  </a:lnTo>
                  <a:lnTo>
                    <a:pt x="1750" y="1495"/>
                  </a:lnTo>
                  <a:lnTo>
                    <a:pt x="1757" y="1488"/>
                  </a:lnTo>
                  <a:lnTo>
                    <a:pt x="1757" y="1481"/>
                  </a:lnTo>
                  <a:lnTo>
                    <a:pt x="1764" y="1474"/>
                  </a:lnTo>
                  <a:lnTo>
                    <a:pt x="1764" y="1467"/>
                  </a:lnTo>
                  <a:lnTo>
                    <a:pt x="1771" y="1459"/>
                  </a:lnTo>
                  <a:lnTo>
                    <a:pt x="1771" y="1452"/>
                  </a:lnTo>
                  <a:lnTo>
                    <a:pt x="1778" y="1445"/>
                  </a:lnTo>
                  <a:lnTo>
                    <a:pt x="1785" y="1438"/>
                  </a:lnTo>
                  <a:lnTo>
                    <a:pt x="1793" y="1431"/>
                  </a:lnTo>
                  <a:lnTo>
                    <a:pt x="1800" y="1424"/>
                  </a:lnTo>
                  <a:lnTo>
                    <a:pt x="1807" y="1417"/>
                  </a:lnTo>
                  <a:lnTo>
                    <a:pt x="1814" y="1410"/>
                  </a:lnTo>
                  <a:lnTo>
                    <a:pt x="1821" y="1403"/>
                  </a:lnTo>
                  <a:lnTo>
                    <a:pt x="1828" y="1403"/>
                  </a:lnTo>
                  <a:lnTo>
                    <a:pt x="1835" y="1403"/>
                  </a:lnTo>
                  <a:lnTo>
                    <a:pt x="1842" y="1403"/>
                  </a:lnTo>
                  <a:lnTo>
                    <a:pt x="1849" y="1403"/>
                  </a:lnTo>
                  <a:lnTo>
                    <a:pt x="1856" y="1410"/>
                  </a:lnTo>
                  <a:lnTo>
                    <a:pt x="1863" y="1410"/>
                  </a:lnTo>
                  <a:lnTo>
                    <a:pt x="1871" y="1417"/>
                  </a:lnTo>
                  <a:lnTo>
                    <a:pt x="1878" y="1424"/>
                  </a:lnTo>
                  <a:lnTo>
                    <a:pt x="1885" y="1431"/>
                  </a:lnTo>
                  <a:lnTo>
                    <a:pt x="1892" y="1438"/>
                  </a:lnTo>
                  <a:lnTo>
                    <a:pt x="1899" y="1445"/>
                  </a:lnTo>
                  <a:lnTo>
                    <a:pt x="1906" y="1452"/>
                  </a:lnTo>
                  <a:lnTo>
                    <a:pt x="1913" y="1459"/>
                  </a:lnTo>
                  <a:lnTo>
                    <a:pt x="1913" y="1467"/>
                  </a:lnTo>
                  <a:lnTo>
                    <a:pt x="1920" y="1474"/>
                  </a:lnTo>
                  <a:lnTo>
                    <a:pt x="1920" y="1481"/>
                  </a:lnTo>
                  <a:lnTo>
                    <a:pt x="1927" y="1488"/>
                  </a:lnTo>
                  <a:lnTo>
                    <a:pt x="1927" y="1495"/>
                  </a:lnTo>
                  <a:lnTo>
                    <a:pt x="1934" y="1502"/>
                  </a:lnTo>
                  <a:lnTo>
                    <a:pt x="1941" y="1509"/>
                  </a:lnTo>
                  <a:lnTo>
                    <a:pt x="1941" y="1516"/>
                  </a:lnTo>
                  <a:lnTo>
                    <a:pt x="1948" y="1523"/>
                  </a:lnTo>
                  <a:lnTo>
                    <a:pt x="1948" y="1530"/>
                  </a:lnTo>
                  <a:lnTo>
                    <a:pt x="1956" y="1537"/>
                  </a:lnTo>
                  <a:lnTo>
                    <a:pt x="1956" y="1544"/>
                  </a:lnTo>
                  <a:lnTo>
                    <a:pt x="1963" y="1552"/>
                  </a:lnTo>
                  <a:lnTo>
                    <a:pt x="1963" y="1559"/>
                  </a:lnTo>
                  <a:lnTo>
                    <a:pt x="1970" y="1566"/>
                  </a:lnTo>
                  <a:lnTo>
                    <a:pt x="1970" y="1573"/>
                  </a:lnTo>
                  <a:lnTo>
                    <a:pt x="1977" y="1580"/>
                  </a:lnTo>
                  <a:lnTo>
                    <a:pt x="1977" y="1587"/>
                  </a:lnTo>
                  <a:lnTo>
                    <a:pt x="1984" y="1594"/>
                  </a:lnTo>
                  <a:lnTo>
                    <a:pt x="1991" y="1601"/>
                  </a:lnTo>
                  <a:lnTo>
                    <a:pt x="1991" y="1608"/>
                  </a:lnTo>
                  <a:lnTo>
                    <a:pt x="1998" y="1601"/>
                  </a:lnTo>
                  <a:lnTo>
                    <a:pt x="1998" y="1594"/>
                  </a:lnTo>
                  <a:lnTo>
                    <a:pt x="2005" y="1587"/>
                  </a:lnTo>
                  <a:lnTo>
                    <a:pt x="2005" y="1580"/>
                  </a:lnTo>
                  <a:lnTo>
                    <a:pt x="2012" y="1573"/>
                  </a:lnTo>
                  <a:lnTo>
                    <a:pt x="2012" y="1566"/>
                  </a:lnTo>
                  <a:lnTo>
                    <a:pt x="2019" y="1559"/>
                  </a:lnTo>
                  <a:lnTo>
                    <a:pt x="2026" y="1552"/>
                  </a:lnTo>
                  <a:lnTo>
                    <a:pt x="2026" y="1544"/>
                  </a:lnTo>
                  <a:lnTo>
                    <a:pt x="2034" y="1537"/>
                  </a:lnTo>
                  <a:lnTo>
                    <a:pt x="2034" y="1530"/>
                  </a:lnTo>
                  <a:lnTo>
                    <a:pt x="2041" y="1523"/>
                  </a:lnTo>
                  <a:lnTo>
                    <a:pt x="2048" y="1516"/>
                  </a:lnTo>
                  <a:lnTo>
                    <a:pt x="2055" y="1509"/>
                  </a:lnTo>
                  <a:lnTo>
                    <a:pt x="2062" y="1502"/>
                  </a:lnTo>
                  <a:lnTo>
                    <a:pt x="2069" y="1495"/>
                  </a:lnTo>
                  <a:lnTo>
                    <a:pt x="2069" y="1488"/>
                  </a:lnTo>
                  <a:lnTo>
                    <a:pt x="2076" y="1481"/>
                  </a:lnTo>
                  <a:lnTo>
                    <a:pt x="2083" y="1474"/>
                  </a:lnTo>
                  <a:lnTo>
                    <a:pt x="2090" y="1474"/>
                  </a:lnTo>
                  <a:lnTo>
                    <a:pt x="2097" y="1467"/>
                  </a:lnTo>
                  <a:lnTo>
                    <a:pt x="2104" y="1467"/>
                  </a:lnTo>
                  <a:lnTo>
                    <a:pt x="2111" y="1459"/>
                  </a:lnTo>
                  <a:lnTo>
                    <a:pt x="2119" y="1459"/>
                  </a:lnTo>
                  <a:lnTo>
                    <a:pt x="2126" y="1459"/>
                  </a:lnTo>
                  <a:lnTo>
                    <a:pt x="2133" y="1459"/>
                  </a:lnTo>
                  <a:lnTo>
                    <a:pt x="2140" y="1467"/>
                  </a:lnTo>
                  <a:lnTo>
                    <a:pt x="2147" y="1467"/>
                  </a:lnTo>
                  <a:lnTo>
                    <a:pt x="2154" y="1474"/>
                  </a:lnTo>
                  <a:lnTo>
                    <a:pt x="2161" y="1474"/>
                  </a:lnTo>
                  <a:lnTo>
                    <a:pt x="2168" y="1481"/>
                  </a:lnTo>
                  <a:lnTo>
                    <a:pt x="2175" y="1488"/>
                  </a:lnTo>
                  <a:lnTo>
                    <a:pt x="2182" y="1495"/>
                  </a:lnTo>
                  <a:lnTo>
                    <a:pt x="2189" y="1502"/>
                  </a:lnTo>
                  <a:lnTo>
                    <a:pt x="2197" y="1509"/>
                  </a:lnTo>
                  <a:lnTo>
                    <a:pt x="2204" y="1516"/>
                  </a:lnTo>
                  <a:lnTo>
                    <a:pt x="2211" y="1523"/>
                  </a:lnTo>
                  <a:lnTo>
                    <a:pt x="2218" y="1530"/>
                  </a:lnTo>
                  <a:lnTo>
                    <a:pt x="2225" y="1537"/>
                  </a:lnTo>
                  <a:lnTo>
                    <a:pt x="2232" y="1544"/>
                  </a:lnTo>
                  <a:lnTo>
                    <a:pt x="2239" y="1552"/>
                  </a:lnTo>
                  <a:lnTo>
                    <a:pt x="2239" y="1559"/>
                  </a:lnTo>
                  <a:lnTo>
                    <a:pt x="2246" y="1566"/>
                  </a:lnTo>
                  <a:lnTo>
                    <a:pt x="2253" y="1573"/>
                  </a:lnTo>
                  <a:lnTo>
                    <a:pt x="2253" y="1580"/>
                  </a:lnTo>
                  <a:lnTo>
                    <a:pt x="2260" y="1587"/>
                  </a:lnTo>
                  <a:lnTo>
                    <a:pt x="2267" y="1594"/>
                  </a:lnTo>
                  <a:lnTo>
                    <a:pt x="2267" y="1601"/>
                  </a:lnTo>
                  <a:lnTo>
                    <a:pt x="2274" y="1608"/>
                  </a:lnTo>
                </a:path>
              </a:pathLst>
            </a:cu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1" name=""/>
          <p:cNvSpPr/>
          <p:nvPr/>
        </p:nvSpPr>
        <p:spPr>
          <a:xfrm rot="5400000">
            <a:off x="6972120" y="3467160"/>
            <a:ext cx="533520" cy="1371600"/>
          </a:xfrm>
          <a:custGeom>
            <a:avLst/>
            <a:gdLst>
              <a:gd name="textAreaLeft" fmla="*/ 83160 w 533520"/>
              <a:gd name="textAreaRight" fmla="*/ 466920 w 533520"/>
              <a:gd name="textAreaTop" fmla="*/ 342720 h 1371600"/>
              <a:gd name="textAreaBottom" fmla="*/ 1028880 h 1371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50000">
                <a:srgbClr val="757575"/>
              </a:gs>
              <a:gs pos="100000">
                <a:srgbClr val="ffffff"/>
              </a:gs>
            </a:gsLst>
            <a:lin ang="135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772400" y="3961440"/>
            <a:ext cx="1099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rPr>
              <a:t>Composite</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D43B390E-2259-4B93-A42A-74B55CEC7466}" type="slidenum">
              <a:t>6</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2514600" y="1593720"/>
            <a:ext cx="6095880" cy="4654800"/>
          </a:xfrm>
          <a:prstGeom prst="rect">
            <a:avLst/>
          </a:prstGeom>
          <a:ln w="0">
            <a:noFill/>
          </a:ln>
        </p:spPr>
      </p:pic>
      <p:sp>
        <p:nvSpPr>
          <p:cNvPr id="194" name=""/>
          <p:cNvSpPr/>
          <p:nvPr/>
        </p:nvSpPr>
        <p:spPr>
          <a:xfrm>
            <a:off x="5334120" y="2050920"/>
            <a:ext cx="380880" cy="3657600"/>
          </a:xfrm>
          <a:custGeom>
            <a:avLst/>
            <a:gdLst/>
            <a:ahLst/>
            <a:rect l="l" t="t" r="r" b="b"/>
            <a:pathLst>
              <a:path w="2274" h="1608">
                <a:moveTo>
                  <a:pt x="0" y="1608"/>
                </a:moveTo>
                <a:lnTo>
                  <a:pt x="7" y="1601"/>
                </a:lnTo>
                <a:lnTo>
                  <a:pt x="14" y="1594"/>
                </a:lnTo>
                <a:lnTo>
                  <a:pt x="14" y="1587"/>
                </a:lnTo>
                <a:lnTo>
                  <a:pt x="21" y="1580"/>
                </a:lnTo>
                <a:lnTo>
                  <a:pt x="28" y="1573"/>
                </a:lnTo>
                <a:lnTo>
                  <a:pt x="28" y="1566"/>
                </a:lnTo>
                <a:lnTo>
                  <a:pt x="35" y="1559"/>
                </a:lnTo>
                <a:lnTo>
                  <a:pt x="42" y="1552"/>
                </a:lnTo>
                <a:lnTo>
                  <a:pt x="49" y="1544"/>
                </a:lnTo>
                <a:lnTo>
                  <a:pt x="49" y="1537"/>
                </a:lnTo>
                <a:lnTo>
                  <a:pt x="56" y="1530"/>
                </a:lnTo>
                <a:lnTo>
                  <a:pt x="63" y="1523"/>
                </a:lnTo>
                <a:lnTo>
                  <a:pt x="71" y="1516"/>
                </a:lnTo>
                <a:lnTo>
                  <a:pt x="78" y="1509"/>
                </a:lnTo>
                <a:lnTo>
                  <a:pt x="85" y="1502"/>
                </a:lnTo>
                <a:lnTo>
                  <a:pt x="92" y="1495"/>
                </a:lnTo>
                <a:lnTo>
                  <a:pt x="99" y="1488"/>
                </a:lnTo>
                <a:lnTo>
                  <a:pt x="106" y="1481"/>
                </a:lnTo>
                <a:lnTo>
                  <a:pt x="113" y="1474"/>
                </a:lnTo>
                <a:lnTo>
                  <a:pt x="120" y="1467"/>
                </a:lnTo>
                <a:lnTo>
                  <a:pt x="127" y="1467"/>
                </a:lnTo>
                <a:lnTo>
                  <a:pt x="134" y="1459"/>
                </a:lnTo>
                <a:lnTo>
                  <a:pt x="141" y="1459"/>
                </a:lnTo>
                <a:lnTo>
                  <a:pt x="148" y="1459"/>
                </a:lnTo>
                <a:lnTo>
                  <a:pt x="156" y="1459"/>
                </a:lnTo>
                <a:lnTo>
                  <a:pt x="163" y="1467"/>
                </a:lnTo>
                <a:lnTo>
                  <a:pt x="170" y="1467"/>
                </a:lnTo>
                <a:lnTo>
                  <a:pt x="177" y="1467"/>
                </a:lnTo>
                <a:lnTo>
                  <a:pt x="184" y="1474"/>
                </a:lnTo>
                <a:lnTo>
                  <a:pt x="191" y="1481"/>
                </a:lnTo>
                <a:lnTo>
                  <a:pt x="198" y="1481"/>
                </a:lnTo>
                <a:lnTo>
                  <a:pt x="205" y="1488"/>
                </a:lnTo>
                <a:lnTo>
                  <a:pt x="212" y="1495"/>
                </a:lnTo>
                <a:lnTo>
                  <a:pt x="219" y="1502"/>
                </a:lnTo>
                <a:lnTo>
                  <a:pt x="226" y="1509"/>
                </a:lnTo>
                <a:lnTo>
                  <a:pt x="234" y="1516"/>
                </a:lnTo>
                <a:lnTo>
                  <a:pt x="234" y="1523"/>
                </a:lnTo>
                <a:lnTo>
                  <a:pt x="241" y="1530"/>
                </a:lnTo>
                <a:lnTo>
                  <a:pt x="241" y="1537"/>
                </a:lnTo>
                <a:lnTo>
                  <a:pt x="248" y="1544"/>
                </a:lnTo>
                <a:lnTo>
                  <a:pt x="255" y="1552"/>
                </a:lnTo>
                <a:lnTo>
                  <a:pt x="255" y="1559"/>
                </a:lnTo>
                <a:lnTo>
                  <a:pt x="262" y="1566"/>
                </a:lnTo>
                <a:lnTo>
                  <a:pt x="269" y="1573"/>
                </a:lnTo>
                <a:lnTo>
                  <a:pt x="269" y="1580"/>
                </a:lnTo>
                <a:lnTo>
                  <a:pt x="276" y="1587"/>
                </a:lnTo>
                <a:lnTo>
                  <a:pt x="276" y="1594"/>
                </a:lnTo>
                <a:lnTo>
                  <a:pt x="283" y="1601"/>
                </a:lnTo>
                <a:lnTo>
                  <a:pt x="283" y="1608"/>
                </a:lnTo>
                <a:lnTo>
                  <a:pt x="290" y="1601"/>
                </a:lnTo>
                <a:lnTo>
                  <a:pt x="290" y="1594"/>
                </a:lnTo>
                <a:lnTo>
                  <a:pt x="297" y="1587"/>
                </a:lnTo>
                <a:lnTo>
                  <a:pt x="297" y="1580"/>
                </a:lnTo>
                <a:lnTo>
                  <a:pt x="304" y="1573"/>
                </a:lnTo>
                <a:lnTo>
                  <a:pt x="304" y="1566"/>
                </a:lnTo>
                <a:lnTo>
                  <a:pt x="311" y="1559"/>
                </a:lnTo>
                <a:lnTo>
                  <a:pt x="319" y="1552"/>
                </a:lnTo>
                <a:lnTo>
                  <a:pt x="319" y="1544"/>
                </a:lnTo>
                <a:lnTo>
                  <a:pt x="319" y="1537"/>
                </a:lnTo>
                <a:lnTo>
                  <a:pt x="326" y="1530"/>
                </a:lnTo>
                <a:lnTo>
                  <a:pt x="326" y="1523"/>
                </a:lnTo>
                <a:lnTo>
                  <a:pt x="333" y="1516"/>
                </a:lnTo>
                <a:lnTo>
                  <a:pt x="340" y="1509"/>
                </a:lnTo>
                <a:lnTo>
                  <a:pt x="340" y="1502"/>
                </a:lnTo>
                <a:lnTo>
                  <a:pt x="347" y="1495"/>
                </a:lnTo>
                <a:lnTo>
                  <a:pt x="347" y="1488"/>
                </a:lnTo>
                <a:lnTo>
                  <a:pt x="354" y="1481"/>
                </a:lnTo>
                <a:lnTo>
                  <a:pt x="354" y="1474"/>
                </a:lnTo>
                <a:lnTo>
                  <a:pt x="361" y="1467"/>
                </a:lnTo>
                <a:lnTo>
                  <a:pt x="368" y="1459"/>
                </a:lnTo>
                <a:lnTo>
                  <a:pt x="375" y="1452"/>
                </a:lnTo>
                <a:lnTo>
                  <a:pt x="375" y="1445"/>
                </a:lnTo>
                <a:lnTo>
                  <a:pt x="382" y="1438"/>
                </a:lnTo>
                <a:lnTo>
                  <a:pt x="389" y="1431"/>
                </a:lnTo>
                <a:lnTo>
                  <a:pt x="397" y="1424"/>
                </a:lnTo>
                <a:lnTo>
                  <a:pt x="404" y="1417"/>
                </a:lnTo>
                <a:lnTo>
                  <a:pt x="411" y="1410"/>
                </a:lnTo>
                <a:lnTo>
                  <a:pt x="418" y="1403"/>
                </a:lnTo>
                <a:lnTo>
                  <a:pt x="425" y="1403"/>
                </a:lnTo>
                <a:lnTo>
                  <a:pt x="432" y="1403"/>
                </a:lnTo>
                <a:lnTo>
                  <a:pt x="439" y="1403"/>
                </a:lnTo>
                <a:lnTo>
                  <a:pt x="446" y="1403"/>
                </a:lnTo>
                <a:lnTo>
                  <a:pt x="453" y="1403"/>
                </a:lnTo>
                <a:lnTo>
                  <a:pt x="460" y="1410"/>
                </a:lnTo>
                <a:lnTo>
                  <a:pt x="467" y="1417"/>
                </a:lnTo>
                <a:lnTo>
                  <a:pt x="474" y="1424"/>
                </a:lnTo>
                <a:lnTo>
                  <a:pt x="482" y="1431"/>
                </a:lnTo>
                <a:lnTo>
                  <a:pt x="489" y="1438"/>
                </a:lnTo>
                <a:lnTo>
                  <a:pt x="496" y="1445"/>
                </a:lnTo>
                <a:lnTo>
                  <a:pt x="503" y="1452"/>
                </a:lnTo>
                <a:lnTo>
                  <a:pt x="503" y="1459"/>
                </a:lnTo>
                <a:lnTo>
                  <a:pt x="510" y="1467"/>
                </a:lnTo>
                <a:lnTo>
                  <a:pt x="510" y="1474"/>
                </a:lnTo>
                <a:lnTo>
                  <a:pt x="517" y="1481"/>
                </a:lnTo>
                <a:lnTo>
                  <a:pt x="517" y="1488"/>
                </a:lnTo>
                <a:lnTo>
                  <a:pt x="524" y="1495"/>
                </a:lnTo>
                <a:lnTo>
                  <a:pt x="524" y="1502"/>
                </a:lnTo>
                <a:lnTo>
                  <a:pt x="531" y="1509"/>
                </a:lnTo>
                <a:lnTo>
                  <a:pt x="531" y="1516"/>
                </a:lnTo>
                <a:lnTo>
                  <a:pt x="538" y="1523"/>
                </a:lnTo>
                <a:lnTo>
                  <a:pt x="538" y="1530"/>
                </a:lnTo>
                <a:lnTo>
                  <a:pt x="538" y="1537"/>
                </a:lnTo>
                <a:lnTo>
                  <a:pt x="545" y="1544"/>
                </a:lnTo>
                <a:lnTo>
                  <a:pt x="545" y="1552"/>
                </a:lnTo>
                <a:lnTo>
                  <a:pt x="552" y="1559"/>
                </a:lnTo>
                <a:lnTo>
                  <a:pt x="552" y="1566"/>
                </a:lnTo>
                <a:lnTo>
                  <a:pt x="552" y="1573"/>
                </a:lnTo>
                <a:lnTo>
                  <a:pt x="560" y="1580"/>
                </a:lnTo>
                <a:lnTo>
                  <a:pt x="560" y="1587"/>
                </a:lnTo>
                <a:lnTo>
                  <a:pt x="567" y="1594"/>
                </a:lnTo>
                <a:lnTo>
                  <a:pt x="567" y="1601"/>
                </a:lnTo>
                <a:lnTo>
                  <a:pt x="567" y="1608"/>
                </a:lnTo>
                <a:lnTo>
                  <a:pt x="574" y="1601"/>
                </a:lnTo>
                <a:lnTo>
                  <a:pt x="574" y="1594"/>
                </a:lnTo>
                <a:lnTo>
                  <a:pt x="574" y="1587"/>
                </a:lnTo>
                <a:lnTo>
                  <a:pt x="581" y="1580"/>
                </a:lnTo>
                <a:lnTo>
                  <a:pt x="581" y="1573"/>
                </a:lnTo>
                <a:lnTo>
                  <a:pt x="581" y="1566"/>
                </a:lnTo>
                <a:lnTo>
                  <a:pt x="588" y="1559"/>
                </a:lnTo>
                <a:lnTo>
                  <a:pt x="588" y="1552"/>
                </a:lnTo>
                <a:lnTo>
                  <a:pt x="588" y="1544"/>
                </a:lnTo>
                <a:lnTo>
                  <a:pt x="595" y="1537"/>
                </a:lnTo>
                <a:lnTo>
                  <a:pt x="595" y="1530"/>
                </a:lnTo>
                <a:lnTo>
                  <a:pt x="595" y="1523"/>
                </a:lnTo>
                <a:lnTo>
                  <a:pt x="602" y="1516"/>
                </a:lnTo>
                <a:lnTo>
                  <a:pt x="602" y="1509"/>
                </a:lnTo>
                <a:lnTo>
                  <a:pt x="602" y="1502"/>
                </a:lnTo>
                <a:lnTo>
                  <a:pt x="609" y="1495"/>
                </a:lnTo>
                <a:lnTo>
                  <a:pt x="609" y="1488"/>
                </a:lnTo>
                <a:lnTo>
                  <a:pt x="616" y="1481"/>
                </a:lnTo>
                <a:lnTo>
                  <a:pt x="616" y="1474"/>
                </a:lnTo>
                <a:lnTo>
                  <a:pt x="616" y="1467"/>
                </a:lnTo>
                <a:lnTo>
                  <a:pt x="616" y="1459"/>
                </a:lnTo>
                <a:lnTo>
                  <a:pt x="623" y="1452"/>
                </a:lnTo>
                <a:lnTo>
                  <a:pt x="623" y="1445"/>
                </a:lnTo>
                <a:lnTo>
                  <a:pt x="623" y="1438"/>
                </a:lnTo>
                <a:lnTo>
                  <a:pt x="630" y="1431"/>
                </a:lnTo>
                <a:lnTo>
                  <a:pt x="630" y="1424"/>
                </a:lnTo>
                <a:lnTo>
                  <a:pt x="637" y="1417"/>
                </a:lnTo>
                <a:lnTo>
                  <a:pt x="637" y="1410"/>
                </a:lnTo>
                <a:lnTo>
                  <a:pt x="637" y="1403"/>
                </a:lnTo>
                <a:lnTo>
                  <a:pt x="645" y="1396"/>
                </a:lnTo>
                <a:lnTo>
                  <a:pt x="645" y="1389"/>
                </a:lnTo>
                <a:lnTo>
                  <a:pt x="652" y="1382"/>
                </a:lnTo>
                <a:lnTo>
                  <a:pt x="652" y="1374"/>
                </a:lnTo>
                <a:lnTo>
                  <a:pt x="652" y="1367"/>
                </a:lnTo>
                <a:lnTo>
                  <a:pt x="652" y="1360"/>
                </a:lnTo>
                <a:lnTo>
                  <a:pt x="659" y="1353"/>
                </a:lnTo>
                <a:lnTo>
                  <a:pt x="659" y="1346"/>
                </a:lnTo>
                <a:lnTo>
                  <a:pt x="666" y="1339"/>
                </a:lnTo>
                <a:lnTo>
                  <a:pt x="666" y="1332"/>
                </a:lnTo>
                <a:lnTo>
                  <a:pt x="673" y="1325"/>
                </a:lnTo>
                <a:lnTo>
                  <a:pt x="673" y="1318"/>
                </a:lnTo>
                <a:lnTo>
                  <a:pt x="680" y="1311"/>
                </a:lnTo>
                <a:lnTo>
                  <a:pt x="687" y="1304"/>
                </a:lnTo>
                <a:lnTo>
                  <a:pt x="687" y="1296"/>
                </a:lnTo>
                <a:lnTo>
                  <a:pt x="694" y="1289"/>
                </a:lnTo>
                <a:lnTo>
                  <a:pt x="694" y="1282"/>
                </a:lnTo>
                <a:lnTo>
                  <a:pt x="701" y="1275"/>
                </a:lnTo>
                <a:lnTo>
                  <a:pt x="708" y="1268"/>
                </a:lnTo>
                <a:lnTo>
                  <a:pt x="715" y="1261"/>
                </a:lnTo>
                <a:lnTo>
                  <a:pt x="723" y="1261"/>
                </a:lnTo>
                <a:lnTo>
                  <a:pt x="730" y="1261"/>
                </a:lnTo>
                <a:lnTo>
                  <a:pt x="737" y="1261"/>
                </a:lnTo>
                <a:lnTo>
                  <a:pt x="744" y="1261"/>
                </a:lnTo>
                <a:lnTo>
                  <a:pt x="751" y="1268"/>
                </a:lnTo>
                <a:lnTo>
                  <a:pt x="758" y="1275"/>
                </a:lnTo>
                <a:lnTo>
                  <a:pt x="765" y="1282"/>
                </a:lnTo>
                <a:lnTo>
                  <a:pt x="765" y="1289"/>
                </a:lnTo>
                <a:lnTo>
                  <a:pt x="772" y="1296"/>
                </a:lnTo>
                <a:lnTo>
                  <a:pt x="772" y="1304"/>
                </a:lnTo>
                <a:lnTo>
                  <a:pt x="779" y="1311"/>
                </a:lnTo>
                <a:lnTo>
                  <a:pt x="779" y="1318"/>
                </a:lnTo>
                <a:lnTo>
                  <a:pt x="786" y="1325"/>
                </a:lnTo>
                <a:lnTo>
                  <a:pt x="786" y="1332"/>
                </a:lnTo>
                <a:lnTo>
                  <a:pt x="793" y="1339"/>
                </a:lnTo>
                <a:lnTo>
                  <a:pt x="793" y="1346"/>
                </a:lnTo>
                <a:lnTo>
                  <a:pt x="793" y="1353"/>
                </a:lnTo>
                <a:lnTo>
                  <a:pt x="800" y="1360"/>
                </a:lnTo>
                <a:lnTo>
                  <a:pt x="800" y="1367"/>
                </a:lnTo>
                <a:lnTo>
                  <a:pt x="800" y="1374"/>
                </a:lnTo>
                <a:lnTo>
                  <a:pt x="800" y="1382"/>
                </a:lnTo>
                <a:lnTo>
                  <a:pt x="808" y="1389"/>
                </a:lnTo>
                <a:lnTo>
                  <a:pt x="808" y="1403"/>
                </a:lnTo>
                <a:lnTo>
                  <a:pt x="808" y="1410"/>
                </a:lnTo>
                <a:lnTo>
                  <a:pt x="815" y="1417"/>
                </a:lnTo>
                <a:lnTo>
                  <a:pt x="815" y="1424"/>
                </a:lnTo>
                <a:lnTo>
                  <a:pt x="815" y="1431"/>
                </a:lnTo>
                <a:lnTo>
                  <a:pt x="822" y="1445"/>
                </a:lnTo>
                <a:lnTo>
                  <a:pt x="822" y="1452"/>
                </a:lnTo>
                <a:lnTo>
                  <a:pt x="822" y="1459"/>
                </a:lnTo>
                <a:lnTo>
                  <a:pt x="829" y="1474"/>
                </a:lnTo>
                <a:lnTo>
                  <a:pt x="829" y="1481"/>
                </a:lnTo>
                <a:lnTo>
                  <a:pt x="829" y="1495"/>
                </a:lnTo>
                <a:lnTo>
                  <a:pt x="836" y="1502"/>
                </a:lnTo>
                <a:lnTo>
                  <a:pt x="836" y="1516"/>
                </a:lnTo>
                <a:lnTo>
                  <a:pt x="836" y="1523"/>
                </a:lnTo>
                <a:lnTo>
                  <a:pt x="836" y="1537"/>
                </a:lnTo>
                <a:lnTo>
                  <a:pt x="843" y="1544"/>
                </a:lnTo>
                <a:lnTo>
                  <a:pt x="843" y="1559"/>
                </a:lnTo>
                <a:lnTo>
                  <a:pt x="843" y="1573"/>
                </a:lnTo>
                <a:lnTo>
                  <a:pt x="850" y="1587"/>
                </a:lnTo>
                <a:lnTo>
                  <a:pt x="850" y="1594"/>
                </a:lnTo>
                <a:lnTo>
                  <a:pt x="850" y="1608"/>
                </a:lnTo>
                <a:lnTo>
                  <a:pt x="857" y="1594"/>
                </a:lnTo>
                <a:lnTo>
                  <a:pt x="857" y="1580"/>
                </a:lnTo>
                <a:lnTo>
                  <a:pt x="857" y="1573"/>
                </a:lnTo>
                <a:lnTo>
                  <a:pt x="864" y="1559"/>
                </a:lnTo>
                <a:lnTo>
                  <a:pt x="864" y="1544"/>
                </a:lnTo>
                <a:lnTo>
                  <a:pt x="864" y="1530"/>
                </a:lnTo>
                <a:lnTo>
                  <a:pt x="871" y="1516"/>
                </a:lnTo>
                <a:lnTo>
                  <a:pt x="871" y="1502"/>
                </a:lnTo>
                <a:lnTo>
                  <a:pt x="871" y="1488"/>
                </a:lnTo>
                <a:lnTo>
                  <a:pt x="878" y="1474"/>
                </a:lnTo>
                <a:lnTo>
                  <a:pt x="878" y="1459"/>
                </a:lnTo>
                <a:lnTo>
                  <a:pt x="878" y="1445"/>
                </a:lnTo>
                <a:lnTo>
                  <a:pt x="878" y="1431"/>
                </a:lnTo>
                <a:lnTo>
                  <a:pt x="885" y="1417"/>
                </a:lnTo>
                <a:lnTo>
                  <a:pt x="885" y="1403"/>
                </a:lnTo>
                <a:lnTo>
                  <a:pt x="885" y="1382"/>
                </a:lnTo>
                <a:lnTo>
                  <a:pt x="893" y="1367"/>
                </a:lnTo>
                <a:lnTo>
                  <a:pt x="893" y="1353"/>
                </a:lnTo>
                <a:lnTo>
                  <a:pt x="893" y="1339"/>
                </a:lnTo>
                <a:lnTo>
                  <a:pt x="900" y="1325"/>
                </a:lnTo>
                <a:lnTo>
                  <a:pt x="900" y="1304"/>
                </a:lnTo>
                <a:lnTo>
                  <a:pt x="900" y="1289"/>
                </a:lnTo>
                <a:lnTo>
                  <a:pt x="907" y="1275"/>
                </a:lnTo>
                <a:lnTo>
                  <a:pt x="907" y="1261"/>
                </a:lnTo>
                <a:lnTo>
                  <a:pt x="907" y="1240"/>
                </a:lnTo>
                <a:lnTo>
                  <a:pt x="914" y="1226"/>
                </a:lnTo>
                <a:lnTo>
                  <a:pt x="914" y="1211"/>
                </a:lnTo>
                <a:lnTo>
                  <a:pt x="914" y="1190"/>
                </a:lnTo>
                <a:lnTo>
                  <a:pt x="914" y="1176"/>
                </a:lnTo>
                <a:lnTo>
                  <a:pt x="921" y="1162"/>
                </a:lnTo>
                <a:lnTo>
                  <a:pt x="921" y="1141"/>
                </a:lnTo>
                <a:lnTo>
                  <a:pt x="921" y="1126"/>
                </a:lnTo>
                <a:lnTo>
                  <a:pt x="928" y="1105"/>
                </a:lnTo>
                <a:lnTo>
                  <a:pt x="928" y="1091"/>
                </a:lnTo>
                <a:lnTo>
                  <a:pt x="928" y="1077"/>
                </a:lnTo>
                <a:lnTo>
                  <a:pt x="935" y="1056"/>
                </a:lnTo>
                <a:lnTo>
                  <a:pt x="935" y="1041"/>
                </a:lnTo>
                <a:lnTo>
                  <a:pt x="935" y="1020"/>
                </a:lnTo>
                <a:lnTo>
                  <a:pt x="942" y="1006"/>
                </a:lnTo>
                <a:lnTo>
                  <a:pt x="942" y="992"/>
                </a:lnTo>
                <a:lnTo>
                  <a:pt x="942" y="971"/>
                </a:lnTo>
                <a:lnTo>
                  <a:pt x="949" y="956"/>
                </a:lnTo>
                <a:lnTo>
                  <a:pt x="949" y="935"/>
                </a:lnTo>
                <a:lnTo>
                  <a:pt x="949" y="921"/>
                </a:lnTo>
                <a:lnTo>
                  <a:pt x="949" y="900"/>
                </a:lnTo>
                <a:lnTo>
                  <a:pt x="956" y="886"/>
                </a:lnTo>
                <a:lnTo>
                  <a:pt x="956" y="871"/>
                </a:lnTo>
                <a:lnTo>
                  <a:pt x="956" y="850"/>
                </a:lnTo>
                <a:lnTo>
                  <a:pt x="963" y="836"/>
                </a:lnTo>
                <a:lnTo>
                  <a:pt x="963" y="815"/>
                </a:lnTo>
                <a:lnTo>
                  <a:pt x="963" y="800"/>
                </a:lnTo>
                <a:lnTo>
                  <a:pt x="971" y="786"/>
                </a:lnTo>
                <a:lnTo>
                  <a:pt x="971" y="765"/>
                </a:lnTo>
                <a:lnTo>
                  <a:pt x="971" y="751"/>
                </a:lnTo>
                <a:lnTo>
                  <a:pt x="978" y="730"/>
                </a:lnTo>
                <a:lnTo>
                  <a:pt x="978" y="715"/>
                </a:lnTo>
                <a:lnTo>
                  <a:pt x="978" y="701"/>
                </a:lnTo>
                <a:lnTo>
                  <a:pt x="985" y="680"/>
                </a:lnTo>
                <a:lnTo>
                  <a:pt x="985" y="666"/>
                </a:lnTo>
                <a:lnTo>
                  <a:pt x="985" y="652"/>
                </a:lnTo>
                <a:lnTo>
                  <a:pt x="985" y="630"/>
                </a:lnTo>
                <a:lnTo>
                  <a:pt x="992" y="616"/>
                </a:lnTo>
                <a:lnTo>
                  <a:pt x="992" y="602"/>
                </a:lnTo>
                <a:lnTo>
                  <a:pt x="992" y="581"/>
                </a:lnTo>
                <a:lnTo>
                  <a:pt x="999" y="567"/>
                </a:lnTo>
                <a:lnTo>
                  <a:pt x="999" y="552"/>
                </a:lnTo>
                <a:lnTo>
                  <a:pt x="999" y="538"/>
                </a:lnTo>
                <a:lnTo>
                  <a:pt x="1006" y="524"/>
                </a:lnTo>
                <a:lnTo>
                  <a:pt x="1006" y="503"/>
                </a:lnTo>
                <a:lnTo>
                  <a:pt x="1006" y="489"/>
                </a:lnTo>
                <a:lnTo>
                  <a:pt x="1013" y="475"/>
                </a:lnTo>
                <a:lnTo>
                  <a:pt x="1013" y="460"/>
                </a:lnTo>
                <a:lnTo>
                  <a:pt x="1013" y="446"/>
                </a:lnTo>
                <a:lnTo>
                  <a:pt x="1020" y="432"/>
                </a:lnTo>
                <a:lnTo>
                  <a:pt x="1020" y="418"/>
                </a:lnTo>
                <a:lnTo>
                  <a:pt x="1020" y="404"/>
                </a:lnTo>
                <a:lnTo>
                  <a:pt x="1027" y="390"/>
                </a:lnTo>
                <a:lnTo>
                  <a:pt x="1027" y="375"/>
                </a:lnTo>
                <a:lnTo>
                  <a:pt x="1027" y="361"/>
                </a:lnTo>
                <a:lnTo>
                  <a:pt x="1027" y="347"/>
                </a:lnTo>
                <a:lnTo>
                  <a:pt x="1034" y="333"/>
                </a:lnTo>
                <a:lnTo>
                  <a:pt x="1034" y="319"/>
                </a:lnTo>
                <a:lnTo>
                  <a:pt x="1034" y="304"/>
                </a:lnTo>
                <a:lnTo>
                  <a:pt x="1041" y="297"/>
                </a:lnTo>
                <a:lnTo>
                  <a:pt x="1041" y="283"/>
                </a:lnTo>
                <a:lnTo>
                  <a:pt x="1041" y="269"/>
                </a:lnTo>
                <a:lnTo>
                  <a:pt x="1048" y="255"/>
                </a:lnTo>
                <a:lnTo>
                  <a:pt x="1048" y="248"/>
                </a:lnTo>
                <a:lnTo>
                  <a:pt x="1048" y="234"/>
                </a:lnTo>
                <a:lnTo>
                  <a:pt x="1056" y="227"/>
                </a:lnTo>
                <a:lnTo>
                  <a:pt x="1056" y="212"/>
                </a:lnTo>
                <a:lnTo>
                  <a:pt x="1056" y="198"/>
                </a:lnTo>
                <a:lnTo>
                  <a:pt x="1063" y="191"/>
                </a:lnTo>
                <a:lnTo>
                  <a:pt x="1063" y="177"/>
                </a:lnTo>
                <a:lnTo>
                  <a:pt x="1063" y="170"/>
                </a:lnTo>
                <a:lnTo>
                  <a:pt x="1063" y="163"/>
                </a:lnTo>
                <a:lnTo>
                  <a:pt x="1070" y="149"/>
                </a:lnTo>
                <a:lnTo>
                  <a:pt x="1070" y="142"/>
                </a:lnTo>
                <a:lnTo>
                  <a:pt x="1070" y="134"/>
                </a:lnTo>
                <a:lnTo>
                  <a:pt x="1077" y="120"/>
                </a:lnTo>
                <a:lnTo>
                  <a:pt x="1077" y="113"/>
                </a:lnTo>
                <a:lnTo>
                  <a:pt x="1077" y="106"/>
                </a:lnTo>
                <a:lnTo>
                  <a:pt x="1084" y="99"/>
                </a:lnTo>
                <a:lnTo>
                  <a:pt x="1084" y="92"/>
                </a:lnTo>
                <a:lnTo>
                  <a:pt x="1084" y="85"/>
                </a:lnTo>
                <a:lnTo>
                  <a:pt x="1091" y="78"/>
                </a:lnTo>
                <a:lnTo>
                  <a:pt x="1091" y="71"/>
                </a:lnTo>
                <a:lnTo>
                  <a:pt x="1091" y="64"/>
                </a:lnTo>
                <a:lnTo>
                  <a:pt x="1098" y="56"/>
                </a:lnTo>
                <a:lnTo>
                  <a:pt x="1098" y="49"/>
                </a:lnTo>
                <a:lnTo>
                  <a:pt x="1098" y="42"/>
                </a:lnTo>
                <a:lnTo>
                  <a:pt x="1105" y="35"/>
                </a:lnTo>
                <a:lnTo>
                  <a:pt x="1105" y="28"/>
                </a:lnTo>
                <a:lnTo>
                  <a:pt x="1112" y="21"/>
                </a:lnTo>
                <a:lnTo>
                  <a:pt x="1119" y="14"/>
                </a:lnTo>
                <a:lnTo>
                  <a:pt x="1126" y="7"/>
                </a:lnTo>
                <a:lnTo>
                  <a:pt x="1134" y="0"/>
                </a:lnTo>
                <a:lnTo>
                  <a:pt x="1141" y="0"/>
                </a:lnTo>
                <a:lnTo>
                  <a:pt x="1148" y="7"/>
                </a:lnTo>
                <a:lnTo>
                  <a:pt x="1155" y="14"/>
                </a:lnTo>
                <a:lnTo>
                  <a:pt x="1162" y="21"/>
                </a:lnTo>
                <a:lnTo>
                  <a:pt x="1169" y="28"/>
                </a:lnTo>
                <a:lnTo>
                  <a:pt x="1169" y="35"/>
                </a:lnTo>
                <a:lnTo>
                  <a:pt x="1176" y="42"/>
                </a:lnTo>
                <a:lnTo>
                  <a:pt x="1176" y="49"/>
                </a:lnTo>
                <a:lnTo>
                  <a:pt x="1176" y="56"/>
                </a:lnTo>
                <a:lnTo>
                  <a:pt x="1183" y="64"/>
                </a:lnTo>
                <a:lnTo>
                  <a:pt x="1183" y="71"/>
                </a:lnTo>
                <a:lnTo>
                  <a:pt x="1183" y="78"/>
                </a:lnTo>
                <a:lnTo>
                  <a:pt x="1190" y="85"/>
                </a:lnTo>
                <a:lnTo>
                  <a:pt x="1190" y="92"/>
                </a:lnTo>
                <a:lnTo>
                  <a:pt x="1190" y="99"/>
                </a:lnTo>
                <a:lnTo>
                  <a:pt x="1197" y="106"/>
                </a:lnTo>
                <a:lnTo>
                  <a:pt x="1197" y="113"/>
                </a:lnTo>
                <a:lnTo>
                  <a:pt x="1197" y="120"/>
                </a:lnTo>
                <a:lnTo>
                  <a:pt x="1204" y="134"/>
                </a:lnTo>
                <a:lnTo>
                  <a:pt x="1204" y="142"/>
                </a:lnTo>
                <a:lnTo>
                  <a:pt x="1204" y="149"/>
                </a:lnTo>
                <a:lnTo>
                  <a:pt x="1211" y="163"/>
                </a:lnTo>
                <a:lnTo>
                  <a:pt x="1211" y="170"/>
                </a:lnTo>
                <a:lnTo>
                  <a:pt x="1211" y="177"/>
                </a:lnTo>
                <a:lnTo>
                  <a:pt x="1211" y="191"/>
                </a:lnTo>
                <a:lnTo>
                  <a:pt x="1219" y="198"/>
                </a:lnTo>
                <a:lnTo>
                  <a:pt x="1219" y="212"/>
                </a:lnTo>
                <a:lnTo>
                  <a:pt x="1219" y="227"/>
                </a:lnTo>
                <a:lnTo>
                  <a:pt x="1226" y="234"/>
                </a:lnTo>
                <a:lnTo>
                  <a:pt x="1226" y="248"/>
                </a:lnTo>
                <a:lnTo>
                  <a:pt x="1226" y="255"/>
                </a:lnTo>
                <a:lnTo>
                  <a:pt x="1233" y="269"/>
                </a:lnTo>
                <a:lnTo>
                  <a:pt x="1233" y="283"/>
                </a:lnTo>
                <a:lnTo>
                  <a:pt x="1233" y="297"/>
                </a:lnTo>
                <a:lnTo>
                  <a:pt x="1240" y="304"/>
                </a:lnTo>
                <a:lnTo>
                  <a:pt x="1240" y="319"/>
                </a:lnTo>
                <a:lnTo>
                  <a:pt x="1240" y="333"/>
                </a:lnTo>
                <a:lnTo>
                  <a:pt x="1247" y="347"/>
                </a:lnTo>
                <a:lnTo>
                  <a:pt x="1247" y="361"/>
                </a:lnTo>
                <a:lnTo>
                  <a:pt x="1247" y="375"/>
                </a:lnTo>
                <a:lnTo>
                  <a:pt x="1247" y="390"/>
                </a:lnTo>
                <a:lnTo>
                  <a:pt x="1254" y="404"/>
                </a:lnTo>
                <a:lnTo>
                  <a:pt x="1254" y="418"/>
                </a:lnTo>
                <a:lnTo>
                  <a:pt x="1254" y="432"/>
                </a:lnTo>
                <a:lnTo>
                  <a:pt x="1261" y="446"/>
                </a:lnTo>
                <a:lnTo>
                  <a:pt x="1261" y="460"/>
                </a:lnTo>
                <a:lnTo>
                  <a:pt x="1261" y="475"/>
                </a:lnTo>
                <a:lnTo>
                  <a:pt x="1268" y="489"/>
                </a:lnTo>
                <a:lnTo>
                  <a:pt x="1268" y="503"/>
                </a:lnTo>
                <a:lnTo>
                  <a:pt x="1268" y="524"/>
                </a:lnTo>
                <a:lnTo>
                  <a:pt x="1275" y="538"/>
                </a:lnTo>
                <a:lnTo>
                  <a:pt x="1275" y="552"/>
                </a:lnTo>
                <a:lnTo>
                  <a:pt x="1275" y="567"/>
                </a:lnTo>
                <a:lnTo>
                  <a:pt x="1282" y="581"/>
                </a:lnTo>
                <a:lnTo>
                  <a:pt x="1282" y="602"/>
                </a:lnTo>
                <a:lnTo>
                  <a:pt x="1282" y="616"/>
                </a:lnTo>
                <a:lnTo>
                  <a:pt x="1289" y="630"/>
                </a:lnTo>
                <a:lnTo>
                  <a:pt x="1289" y="652"/>
                </a:lnTo>
                <a:lnTo>
                  <a:pt x="1289" y="666"/>
                </a:lnTo>
                <a:lnTo>
                  <a:pt x="1289" y="680"/>
                </a:lnTo>
                <a:lnTo>
                  <a:pt x="1297" y="701"/>
                </a:lnTo>
                <a:lnTo>
                  <a:pt x="1297" y="715"/>
                </a:lnTo>
                <a:lnTo>
                  <a:pt x="1297" y="730"/>
                </a:lnTo>
                <a:lnTo>
                  <a:pt x="1304" y="751"/>
                </a:lnTo>
                <a:lnTo>
                  <a:pt x="1304" y="765"/>
                </a:lnTo>
                <a:lnTo>
                  <a:pt x="1304" y="786"/>
                </a:lnTo>
                <a:lnTo>
                  <a:pt x="1311" y="800"/>
                </a:lnTo>
                <a:lnTo>
                  <a:pt x="1311" y="815"/>
                </a:lnTo>
                <a:lnTo>
                  <a:pt x="1311" y="836"/>
                </a:lnTo>
                <a:lnTo>
                  <a:pt x="1318" y="850"/>
                </a:lnTo>
                <a:lnTo>
                  <a:pt x="1318" y="871"/>
                </a:lnTo>
                <a:lnTo>
                  <a:pt x="1318" y="886"/>
                </a:lnTo>
                <a:lnTo>
                  <a:pt x="1325" y="900"/>
                </a:lnTo>
                <a:lnTo>
                  <a:pt x="1325" y="921"/>
                </a:lnTo>
                <a:lnTo>
                  <a:pt x="1325" y="935"/>
                </a:lnTo>
                <a:lnTo>
                  <a:pt x="1325" y="956"/>
                </a:lnTo>
                <a:lnTo>
                  <a:pt x="1332" y="971"/>
                </a:lnTo>
                <a:lnTo>
                  <a:pt x="1332" y="992"/>
                </a:lnTo>
                <a:lnTo>
                  <a:pt x="1332" y="1006"/>
                </a:lnTo>
                <a:lnTo>
                  <a:pt x="1339" y="1020"/>
                </a:lnTo>
                <a:lnTo>
                  <a:pt x="1339" y="1041"/>
                </a:lnTo>
                <a:lnTo>
                  <a:pt x="1339" y="1056"/>
                </a:lnTo>
                <a:lnTo>
                  <a:pt x="1346" y="1077"/>
                </a:lnTo>
                <a:lnTo>
                  <a:pt x="1346" y="1091"/>
                </a:lnTo>
                <a:lnTo>
                  <a:pt x="1346" y="1105"/>
                </a:lnTo>
                <a:lnTo>
                  <a:pt x="1353" y="1126"/>
                </a:lnTo>
                <a:lnTo>
                  <a:pt x="1353" y="1141"/>
                </a:lnTo>
                <a:lnTo>
                  <a:pt x="1353" y="1162"/>
                </a:lnTo>
                <a:lnTo>
                  <a:pt x="1360" y="1176"/>
                </a:lnTo>
                <a:lnTo>
                  <a:pt x="1360" y="1190"/>
                </a:lnTo>
                <a:lnTo>
                  <a:pt x="1360" y="1211"/>
                </a:lnTo>
                <a:lnTo>
                  <a:pt x="1360" y="1226"/>
                </a:lnTo>
                <a:lnTo>
                  <a:pt x="1367" y="1240"/>
                </a:lnTo>
                <a:lnTo>
                  <a:pt x="1367" y="1261"/>
                </a:lnTo>
                <a:lnTo>
                  <a:pt x="1367" y="1275"/>
                </a:lnTo>
                <a:lnTo>
                  <a:pt x="1374" y="1289"/>
                </a:lnTo>
                <a:lnTo>
                  <a:pt x="1374" y="1304"/>
                </a:lnTo>
                <a:lnTo>
                  <a:pt x="1374" y="1325"/>
                </a:lnTo>
                <a:lnTo>
                  <a:pt x="1382" y="1339"/>
                </a:lnTo>
                <a:lnTo>
                  <a:pt x="1382" y="1353"/>
                </a:lnTo>
                <a:lnTo>
                  <a:pt x="1382" y="1367"/>
                </a:lnTo>
                <a:lnTo>
                  <a:pt x="1389" y="1382"/>
                </a:lnTo>
                <a:lnTo>
                  <a:pt x="1389" y="1403"/>
                </a:lnTo>
                <a:lnTo>
                  <a:pt x="1389" y="1417"/>
                </a:lnTo>
                <a:lnTo>
                  <a:pt x="1396" y="1431"/>
                </a:lnTo>
                <a:lnTo>
                  <a:pt x="1396" y="1445"/>
                </a:lnTo>
                <a:lnTo>
                  <a:pt x="1396" y="1459"/>
                </a:lnTo>
                <a:lnTo>
                  <a:pt x="1396" y="1474"/>
                </a:lnTo>
                <a:lnTo>
                  <a:pt x="1403" y="1488"/>
                </a:lnTo>
                <a:lnTo>
                  <a:pt x="1403" y="1502"/>
                </a:lnTo>
                <a:lnTo>
                  <a:pt x="1403" y="1516"/>
                </a:lnTo>
                <a:lnTo>
                  <a:pt x="1410" y="1530"/>
                </a:lnTo>
                <a:lnTo>
                  <a:pt x="1410" y="1544"/>
                </a:lnTo>
                <a:lnTo>
                  <a:pt x="1410" y="1559"/>
                </a:lnTo>
                <a:lnTo>
                  <a:pt x="1417" y="1573"/>
                </a:lnTo>
                <a:lnTo>
                  <a:pt x="1417" y="1580"/>
                </a:lnTo>
                <a:lnTo>
                  <a:pt x="1417" y="1594"/>
                </a:lnTo>
                <a:lnTo>
                  <a:pt x="1424" y="1608"/>
                </a:lnTo>
                <a:lnTo>
                  <a:pt x="1424" y="1594"/>
                </a:lnTo>
                <a:lnTo>
                  <a:pt x="1424" y="1587"/>
                </a:lnTo>
                <a:lnTo>
                  <a:pt x="1431" y="1573"/>
                </a:lnTo>
                <a:lnTo>
                  <a:pt x="1431" y="1559"/>
                </a:lnTo>
                <a:lnTo>
                  <a:pt x="1431" y="1544"/>
                </a:lnTo>
                <a:lnTo>
                  <a:pt x="1438" y="1537"/>
                </a:lnTo>
                <a:lnTo>
                  <a:pt x="1438" y="1523"/>
                </a:lnTo>
                <a:lnTo>
                  <a:pt x="1438" y="1516"/>
                </a:lnTo>
                <a:lnTo>
                  <a:pt x="1438" y="1502"/>
                </a:lnTo>
                <a:lnTo>
                  <a:pt x="1445" y="1495"/>
                </a:lnTo>
                <a:lnTo>
                  <a:pt x="1445" y="1481"/>
                </a:lnTo>
                <a:lnTo>
                  <a:pt x="1445" y="1474"/>
                </a:lnTo>
                <a:lnTo>
                  <a:pt x="1452" y="1459"/>
                </a:lnTo>
                <a:lnTo>
                  <a:pt x="1452" y="1452"/>
                </a:lnTo>
                <a:lnTo>
                  <a:pt x="1452" y="1445"/>
                </a:lnTo>
                <a:lnTo>
                  <a:pt x="1460" y="1431"/>
                </a:lnTo>
                <a:lnTo>
                  <a:pt x="1460" y="1424"/>
                </a:lnTo>
                <a:lnTo>
                  <a:pt x="1460" y="1417"/>
                </a:lnTo>
                <a:lnTo>
                  <a:pt x="1467" y="1410"/>
                </a:lnTo>
                <a:lnTo>
                  <a:pt x="1467" y="1403"/>
                </a:lnTo>
                <a:lnTo>
                  <a:pt x="1467" y="1389"/>
                </a:lnTo>
                <a:lnTo>
                  <a:pt x="1474" y="1382"/>
                </a:lnTo>
                <a:lnTo>
                  <a:pt x="1474" y="1374"/>
                </a:lnTo>
                <a:lnTo>
                  <a:pt x="1474" y="1367"/>
                </a:lnTo>
                <a:lnTo>
                  <a:pt x="1474" y="1360"/>
                </a:lnTo>
                <a:lnTo>
                  <a:pt x="1481" y="1353"/>
                </a:lnTo>
                <a:lnTo>
                  <a:pt x="1481" y="1346"/>
                </a:lnTo>
                <a:lnTo>
                  <a:pt x="1488" y="1339"/>
                </a:lnTo>
                <a:lnTo>
                  <a:pt x="1488" y="1332"/>
                </a:lnTo>
                <a:lnTo>
                  <a:pt x="1488" y="1325"/>
                </a:lnTo>
                <a:lnTo>
                  <a:pt x="1495" y="1318"/>
                </a:lnTo>
                <a:lnTo>
                  <a:pt x="1495" y="1311"/>
                </a:lnTo>
                <a:lnTo>
                  <a:pt x="1502" y="1304"/>
                </a:lnTo>
                <a:lnTo>
                  <a:pt x="1502" y="1296"/>
                </a:lnTo>
                <a:lnTo>
                  <a:pt x="1509" y="1289"/>
                </a:lnTo>
                <a:lnTo>
                  <a:pt x="1509" y="1282"/>
                </a:lnTo>
                <a:lnTo>
                  <a:pt x="1516" y="1275"/>
                </a:lnTo>
                <a:lnTo>
                  <a:pt x="1523" y="1268"/>
                </a:lnTo>
                <a:lnTo>
                  <a:pt x="1530" y="1261"/>
                </a:lnTo>
                <a:lnTo>
                  <a:pt x="1537" y="1261"/>
                </a:lnTo>
                <a:lnTo>
                  <a:pt x="1545" y="1261"/>
                </a:lnTo>
                <a:lnTo>
                  <a:pt x="1552" y="1261"/>
                </a:lnTo>
                <a:lnTo>
                  <a:pt x="1559" y="1268"/>
                </a:lnTo>
                <a:lnTo>
                  <a:pt x="1566" y="1268"/>
                </a:lnTo>
                <a:lnTo>
                  <a:pt x="1573" y="1275"/>
                </a:lnTo>
                <a:lnTo>
                  <a:pt x="1580" y="1282"/>
                </a:lnTo>
                <a:lnTo>
                  <a:pt x="1587" y="1289"/>
                </a:lnTo>
                <a:lnTo>
                  <a:pt x="1587" y="1296"/>
                </a:lnTo>
                <a:lnTo>
                  <a:pt x="1594" y="1304"/>
                </a:lnTo>
                <a:lnTo>
                  <a:pt x="1594" y="1311"/>
                </a:lnTo>
                <a:lnTo>
                  <a:pt x="1601" y="1318"/>
                </a:lnTo>
                <a:lnTo>
                  <a:pt x="1601" y="1325"/>
                </a:lnTo>
                <a:lnTo>
                  <a:pt x="1608" y="1332"/>
                </a:lnTo>
                <a:lnTo>
                  <a:pt x="1608" y="1339"/>
                </a:lnTo>
                <a:lnTo>
                  <a:pt x="1615" y="1346"/>
                </a:lnTo>
                <a:lnTo>
                  <a:pt x="1615" y="1353"/>
                </a:lnTo>
                <a:lnTo>
                  <a:pt x="1622" y="1360"/>
                </a:lnTo>
                <a:lnTo>
                  <a:pt x="1622" y="1367"/>
                </a:lnTo>
                <a:lnTo>
                  <a:pt x="1622" y="1374"/>
                </a:lnTo>
                <a:lnTo>
                  <a:pt x="1630" y="1382"/>
                </a:lnTo>
                <a:lnTo>
                  <a:pt x="1630" y="1389"/>
                </a:lnTo>
                <a:lnTo>
                  <a:pt x="1630" y="1396"/>
                </a:lnTo>
                <a:lnTo>
                  <a:pt x="1637" y="1403"/>
                </a:lnTo>
                <a:lnTo>
                  <a:pt x="1637" y="1410"/>
                </a:lnTo>
                <a:lnTo>
                  <a:pt x="1644" y="1417"/>
                </a:lnTo>
                <a:lnTo>
                  <a:pt x="1644" y="1424"/>
                </a:lnTo>
                <a:lnTo>
                  <a:pt x="1644" y="1431"/>
                </a:lnTo>
                <a:lnTo>
                  <a:pt x="1651" y="1438"/>
                </a:lnTo>
                <a:lnTo>
                  <a:pt x="1651" y="1445"/>
                </a:lnTo>
                <a:lnTo>
                  <a:pt x="1651" y="1452"/>
                </a:lnTo>
                <a:lnTo>
                  <a:pt x="1658" y="1459"/>
                </a:lnTo>
                <a:lnTo>
                  <a:pt x="1658" y="1467"/>
                </a:lnTo>
                <a:lnTo>
                  <a:pt x="1658" y="1474"/>
                </a:lnTo>
                <a:lnTo>
                  <a:pt x="1665" y="1481"/>
                </a:lnTo>
                <a:lnTo>
                  <a:pt x="1665" y="1488"/>
                </a:lnTo>
                <a:lnTo>
                  <a:pt x="1665" y="1495"/>
                </a:lnTo>
                <a:lnTo>
                  <a:pt x="1672" y="1502"/>
                </a:lnTo>
                <a:lnTo>
                  <a:pt x="1672" y="1509"/>
                </a:lnTo>
                <a:lnTo>
                  <a:pt x="1672" y="1516"/>
                </a:lnTo>
                <a:lnTo>
                  <a:pt x="1679" y="1523"/>
                </a:lnTo>
                <a:lnTo>
                  <a:pt x="1679" y="1530"/>
                </a:lnTo>
                <a:lnTo>
                  <a:pt x="1679" y="1537"/>
                </a:lnTo>
                <a:lnTo>
                  <a:pt x="1686" y="1544"/>
                </a:lnTo>
                <a:lnTo>
                  <a:pt x="1686" y="1552"/>
                </a:lnTo>
                <a:lnTo>
                  <a:pt x="1686" y="1559"/>
                </a:lnTo>
                <a:lnTo>
                  <a:pt x="1693" y="1566"/>
                </a:lnTo>
                <a:lnTo>
                  <a:pt x="1693" y="1573"/>
                </a:lnTo>
                <a:lnTo>
                  <a:pt x="1693" y="1580"/>
                </a:lnTo>
                <a:lnTo>
                  <a:pt x="1700" y="1587"/>
                </a:lnTo>
                <a:lnTo>
                  <a:pt x="1700" y="1594"/>
                </a:lnTo>
                <a:lnTo>
                  <a:pt x="1700" y="1601"/>
                </a:lnTo>
                <a:lnTo>
                  <a:pt x="1708" y="1608"/>
                </a:lnTo>
                <a:lnTo>
                  <a:pt x="1708" y="1601"/>
                </a:lnTo>
                <a:lnTo>
                  <a:pt x="1708" y="1594"/>
                </a:lnTo>
                <a:lnTo>
                  <a:pt x="1715" y="1587"/>
                </a:lnTo>
                <a:lnTo>
                  <a:pt x="1715" y="1580"/>
                </a:lnTo>
                <a:lnTo>
                  <a:pt x="1722" y="1573"/>
                </a:lnTo>
                <a:lnTo>
                  <a:pt x="1722" y="1566"/>
                </a:lnTo>
                <a:lnTo>
                  <a:pt x="1722" y="1559"/>
                </a:lnTo>
                <a:lnTo>
                  <a:pt x="1729" y="1552"/>
                </a:lnTo>
                <a:lnTo>
                  <a:pt x="1729" y="1544"/>
                </a:lnTo>
                <a:lnTo>
                  <a:pt x="1736" y="1537"/>
                </a:lnTo>
                <a:lnTo>
                  <a:pt x="1736" y="1530"/>
                </a:lnTo>
                <a:lnTo>
                  <a:pt x="1736" y="1523"/>
                </a:lnTo>
                <a:lnTo>
                  <a:pt x="1743" y="1516"/>
                </a:lnTo>
                <a:lnTo>
                  <a:pt x="1743" y="1509"/>
                </a:lnTo>
                <a:lnTo>
                  <a:pt x="1750" y="1502"/>
                </a:lnTo>
                <a:lnTo>
                  <a:pt x="1750" y="1495"/>
                </a:lnTo>
                <a:lnTo>
                  <a:pt x="1757" y="1488"/>
                </a:lnTo>
                <a:lnTo>
                  <a:pt x="1757" y="1481"/>
                </a:lnTo>
                <a:lnTo>
                  <a:pt x="1764" y="1474"/>
                </a:lnTo>
                <a:lnTo>
                  <a:pt x="1764" y="1467"/>
                </a:lnTo>
                <a:lnTo>
                  <a:pt x="1771" y="1459"/>
                </a:lnTo>
                <a:lnTo>
                  <a:pt x="1771" y="1452"/>
                </a:lnTo>
                <a:lnTo>
                  <a:pt x="1778" y="1445"/>
                </a:lnTo>
                <a:lnTo>
                  <a:pt x="1785" y="1438"/>
                </a:lnTo>
                <a:lnTo>
                  <a:pt x="1793" y="1431"/>
                </a:lnTo>
                <a:lnTo>
                  <a:pt x="1800" y="1424"/>
                </a:lnTo>
                <a:lnTo>
                  <a:pt x="1807" y="1417"/>
                </a:lnTo>
                <a:lnTo>
                  <a:pt x="1814" y="1410"/>
                </a:lnTo>
                <a:lnTo>
                  <a:pt x="1821" y="1403"/>
                </a:lnTo>
                <a:lnTo>
                  <a:pt x="1828" y="1403"/>
                </a:lnTo>
                <a:lnTo>
                  <a:pt x="1835" y="1403"/>
                </a:lnTo>
                <a:lnTo>
                  <a:pt x="1842" y="1403"/>
                </a:lnTo>
                <a:lnTo>
                  <a:pt x="1849" y="1403"/>
                </a:lnTo>
                <a:lnTo>
                  <a:pt x="1856" y="1410"/>
                </a:lnTo>
                <a:lnTo>
                  <a:pt x="1863" y="1410"/>
                </a:lnTo>
                <a:lnTo>
                  <a:pt x="1871" y="1417"/>
                </a:lnTo>
                <a:lnTo>
                  <a:pt x="1878" y="1424"/>
                </a:lnTo>
                <a:lnTo>
                  <a:pt x="1885" y="1431"/>
                </a:lnTo>
                <a:lnTo>
                  <a:pt x="1892" y="1438"/>
                </a:lnTo>
                <a:lnTo>
                  <a:pt x="1899" y="1445"/>
                </a:lnTo>
                <a:lnTo>
                  <a:pt x="1906" y="1452"/>
                </a:lnTo>
                <a:lnTo>
                  <a:pt x="1913" y="1459"/>
                </a:lnTo>
                <a:lnTo>
                  <a:pt x="1913" y="1467"/>
                </a:lnTo>
                <a:lnTo>
                  <a:pt x="1920" y="1474"/>
                </a:lnTo>
                <a:lnTo>
                  <a:pt x="1920" y="1481"/>
                </a:lnTo>
                <a:lnTo>
                  <a:pt x="1927" y="1488"/>
                </a:lnTo>
                <a:lnTo>
                  <a:pt x="1927" y="1495"/>
                </a:lnTo>
                <a:lnTo>
                  <a:pt x="1934" y="1502"/>
                </a:lnTo>
                <a:lnTo>
                  <a:pt x="1941" y="1509"/>
                </a:lnTo>
                <a:lnTo>
                  <a:pt x="1941" y="1516"/>
                </a:lnTo>
                <a:lnTo>
                  <a:pt x="1948" y="1523"/>
                </a:lnTo>
                <a:lnTo>
                  <a:pt x="1948" y="1530"/>
                </a:lnTo>
                <a:lnTo>
                  <a:pt x="1956" y="1537"/>
                </a:lnTo>
                <a:lnTo>
                  <a:pt x="1956" y="1544"/>
                </a:lnTo>
                <a:lnTo>
                  <a:pt x="1963" y="1552"/>
                </a:lnTo>
                <a:lnTo>
                  <a:pt x="1963" y="1559"/>
                </a:lnTo>
                <a:lnTo>
                  <a:pt x="1970" y="1566"/>
                </a:lnTo>
                <a:lnTo>
                  <a:pt x="1970" y="1573"/>
                </a:lnTo>
                <a:lnTo>
                  <a:pt x="1977" y="1580"/>
                </a:lnTo>
                <a:lnTo>
                  <a:pt x="1977" y="1587"/>
                </a:lnTo>
                <a:lnTo>
                  <a:pt x="1984" y="1594"/>
                </a:lnTo>
                <a:lnTo>
                  <a:pt x="1991" y="1601"/>
                </a:lnTo>
                <a:lnTo>
                  <a:pt x="1991" y="1608"/>
                </a:lnTo>
                <a:lnTo>
                  <a:pt x="1998" y="1601"/>
                </a:lnTo>
                <a:lnTo>
                  <a:pt x="1998" y="1594"/>
                </a:lnTo>
                <a:lnTo>
                  <a:pt x="2005" y="1587"/>
                </a:lnTo>
                <a:lnTo>
                  <a:pt x="2005" y="1580"/>
                </a:lnTo>
                <a:lnTo>
                  <a:pt x="2012" y="1573"/>
                </a:lnTo>
                <a:lnTo>
                  <a:pt x="2012" y="1566"/>
                </a:lnTo>
                <a:lnTo>
                  <a:pt x="2019" y="1559"/>
                </a:lnTo>
                <a:lnTo>
                  <a:pt x="2026" y="1552"/>
                </a:lnTo>
                <a:lnTo>
                  <a:pt x="2026" y="1544"/>
                </a:lnTo>
                <a:lnTo>
                  <a:pt x="2034" y="1537"/>
                </a:lnTo>
                <a:lnTo>
                  <a:pt x="2034" y="1530"/>
                </a:lnTo>
                <a:lnTo>
                  <a:pt x="2041" y="1523"/>
                </a:lnTo>
                <a:lnTo>
                  <a:pt x="2048" y="1516"/>
                </a:lnTo>
                <a:lnTo>
                  <a:pt x="2055" y="1509"/>
                </a:lnTo>
                <a:lnTo>
                  <a:pt x="2062" y="1502"/>
                </a:lnTo>
                <a:lnTo>
                  <a:pt x="2069" y="1495"/>
                </a:lnTo>
                <a:lnTo>
                  <a:pt x="2069" y="1488"/>
                </a:lnTo>
                <a:lnTo>
                  <a:pt x="2076" y="1481"/>
                </a:lnTo>
                <a:lnTo>
                  <a:pt x="2083" y="1474"/>
                </a:lnTo>
                <a:lnTo>
                  <a:pt x="2090" y="1474"/>
                </a:lnTo>
                <a:lnTo>
                  <a:pt x="2097" y="1467"/>
                </a:lnTo>
                <a:lnTo>
                  <a:pt x="2104" y="1467"/>
                </a:lnTo>
                <a:lnTo>
                  <a:pt x="2111" y="1459"/>
                </a:lnTo>
                <a:lnTo>
                  <a:pt x="2119" y="1459"/>
                </a:lnTo>
                <a:lnTo>
                  <a:pt x="2126" y="1459"/>
                </a:lnTo>
                <a:lnTo>
                  <a:pt x="2133" y="1459"/>
                </a:lnTo>
                <a:lnTo>
                  <a:pt x="2140" y="1467"/>
                </a:lnTo>
                <a:lnTo>
                  <a:pt x="2147" y="1467"/>
                </a:lnTo>
                <a:lnTo>
                  <a:pt x="2154" y="1474"/>
                </a:lnTo>
                <a:lnTo>
                  <a:pt x="2161" y="1474"/>
                </a:lnTo>
                <a:lnTo>
                  <a:pt x="2168" y="1481"/>
                </a:lnTo>
                <a:lnTo>
                  <a:pt x="2175" y="1488"/>
                </a:lnTo>
                <a:lnTo>
                  <a:pt x="2182" y="1495"/>
                </a:lnTo>
                <a:lnTo>
                  <a:pt x="2189" y="1502"/>
                </a:lnTo>
                <a:lnTo>
                  <a:pt x="2197" y="1509"/>
                </a:lnTo>
                <a:lnTo>
                  <a:pt x="2204" y="1516"/>
                </a:lnTo>
                <a:lnTo>
                  <a:pt x="2211" y="1523"/>
                </a:lnTo>
                <a:lnTo>
                  <a:pt x="2218" y="1530"/>
                </a:lnTo>
                <a:lnTo>
                  <a:pt x="2225" y="1537"/>
                </a:lnTo>
                <a:lnTo>
                  <a:pt x="2232" y="1544"/>
                </a:lnTo>
                <a:lnTo>
                  <a:pt x="2239" y="1552"/>
                </a:lnTo>
                <a:lnTo>
                  <a:pt x="2239" y="1559"/>
                </a:lnTo>
                <a:lnTo>
                  <a:pt x="2246" y="1566"/>
                </a:lnTo>
                <a:lnTo>
                  <a:pt x="2253" y="1573"/>
                </a:lnTo>
                <a:lnTo>
                  <a:pt x="2253" y="1580"/>
                </a:lnTo>
                <a:lnTo>
                  <a:pt x="2260" y="1587"/>
                </a:lnTo>
                <a:lnTo>
                  <a:pt x="2267" y="1594"/>
                </a:lnTo>
                <a:lnTo>
                  <a:pt x="2267" y="1601"/>
                </a:lnTo>
                <a:lnTo>
                  <a:pt x="2274" y="1608"/>
                </a:lnTo>
              </a:path>
            </a:pathLst>
          </a:custGeom>
          <a:noFill/>
          <a:ln w="0">
            <a:solidFill>
              <a:srgbClr val="cc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5410080" y="2050920"/>
            <a:ext cx="381240" cy="3657600"/>
          </a:xfrm>
          <a:custGeom>
            <a:avLst/>
            <a:gdLst/>
            <a:ahLst/>
            <a:rect l="l" t="t" r="r" b="b"/>
            <a:pathLst>
              <a:path w="2274" h="1608">
                <a:moveTo>
                  <a:pt x="0" y="1608"/>
                </a:moveTo>
                <a:lnTo>
                  <a:pt x="7" y="1601"/>
                </a:lnTo>
                <a:lnTo>
                  <a:pt x="14" y="1594"/>
                </a:lnTo>
                <a:lnTo>
                  <a:pt x="14" y="1587"/>
                </a:lnTo>
                <a:lnTo>
                  <a:pt x="21" y="1580"/>
                </a:lnTo>
                <a:lnTo>
                  <a:pt x="28" y="1573"/>
                </a:lnTo>
                <a:lnTo>
                  <a:pt x="28" y="1566"/>
                </a:lnTo>
                <a:lnTo>
                  <a:pt x="35" y="1559"/>
                </a:lnTo>
                <a:lnTo>
                  <a:pt x="42" y="1552"/>
                </a:lnTo>
                <a:lnTo>
                  <a:pt x="49" y="1544"/>
                </a:lnTo>
                <a:lnTo>
                  <a:pt x="49" y="1537"/>
                </a:lnTo>
                <a:lnTo>
                  <a:pt x="56" y="1530"/>
                </a:lnTo>
                <a:lnTo>
                  <a:pt x="63" y="1523"/>
                </a:lnTo>
                <a:lnTo>
                  <a:pt x="71" y="1516"/>
                </a:lnTo>
                <a:lnTo>
                  <a:pt x="78" y="1509"/>
                </a:lnTo>
                <a:lnTo>
                  <a:pt x="85" y="1502"/>
                </a:lnTo>
                <a:lnTo>
                  <a:pt x="92" y="1495"/>
                </a:lnTo>
                <a:lnTo>
                  <a:pt x="99" y="1488"/>
                </a:lnTo>
                <a:lnTo>
                  <a:pt x="106" y="1481"/>
                </a:lnTo>
                <a:lnTo>
                  <a:pt x="113" y="1474"/>
                </a:lnTo>
                <a:lnTo>
                  <a:pt x="120" y="1467"/>
                </a:lnTo>
                <a:lnTo>
                  <a:pt x="127" y="1467"/>
                </a:lnTo>
                <a:lnTo>
                  <a:pt x="134" y="1459"/>
                </a:lnTo>
                <a:lnTo>
                  <a:pt x="141" y="1459"/>
                </a:lnTo>
                <a:lnTo>
                  <a:pt x="148" y="1459"/>
                </a:lnTo>
                <a:lnTo>
                  <a:pt x="156" y="1459"/>
                </a:lnTo>
                <a:lnTo>
                  <a:pt x="163" y="1467"/>
                </a:lnTo>
                <a:lnTo>
                  <a:pt x="170" y="1467"/>
                </a:lnTo>
                <a:lnTo>
                  <a:pt x="177" y="1467"/>
                </a:lnTo>
                <a:lnTo>
                  <a:pt x="184" y="1474"/>
                </a:lnTo>
                <a:lnTo>
                  <a:pt x="191" y="1481"/>
                </a:lnTo>
                <a:lnTo>
                  <a:pt x="198" y="1481"/>
                </a:lnTo>
                <a:lnTo>
                  <a:pt x="205" y="1488"/>
                </a:lnTo>
                <a:lnTo>
                  <a:pt x="212" y="1495"/>
                </a:lnTo>
                <a:lnTo>
                  <a:pt x="219" y="1502"/>
                </a:lnTo>
                <a:lnTo>
                  <a:pt x="226" y="1509"/>
                </a:lnTo>
                <a:lnTo>
                  <a:pt x="234" y="1516"/>
                </a:lnTo>
                <a:lnTo>
                  <a:pt x="234" y="1523"/>
                </a:lnTo>
                <a:lnTo>
                  <a:pt x="241" y="1530"/>
                </a:lnTo>
                <a:lnTo>
                  <a:pt x="241" y="1537"/>
                </a:lnTo>
                <a:lnTo>
                  <a:pt x="248" y="1544"/>
                </a:lnTo>
                <a:lnTo>
                  <a:pt x="255" y="1552"/>
                </a:lnTo>
                <a:lnTo>
                  <a:pt x="255" y="1559"/>
                </a:lnTo>
                <a:lnTo>
                  <a:pt x="262" y="1566"/>
                </a:lnTo>
                <a:lnTo>
                  <a:pt x="269" y="1573"/>
                </a:lnTo>
                <a:lnTo>
                  <a:pt x="269" y="1580"/>
                </a:lnTo>
                <a:lnTo>
                  <a:pt x="276" y="1587"/>
                </a:lnTo>
                <a:lnTo>
                  <a:pt x="276" y="1594"/>
                </a:lnTo>
                <a:lnTo>
                  <a:pt x="283" y="1601"/>
                </a:lnTo>
                <a:lnTo>
                  <a:pt x="283" y="1608"/>
                </a:lnTo>
                <a:lnTo>
                  <a:pt x="290" y="1601"/>
                </a:lnTo>
                <a:lnTo>
                  <a:pt x="290" y="1594"/>
                </a:lnTo>
                <a:lnTo>
                  <a:pt x="297" y="1587"/>
                </a:lnTo>
                <a:lnTo>
                  <a:pt x="297" y="1580"/>
                </a:lnTo>
                <a:lnTo>
                  <a:pt x="304" y="1573"/>
                </a:lnTo>
                <a:lnTo>
                  <a:pt x="304" y="1566"/>
                </a:lnTo>
                <a:lnTo>
                  <a:pt x="311" y="1559"/>
                </a:lnTo>
                <a:lnTo>
                  <a:pt x="319" y="1552"/>
                </a:lnTo>
                <a:lnTo>
                  <a:pt x="319" y="1544"/>
                </a:lnTo>
                <a:lnTo>
                  <a:pt x="319" y="1537"/>
                </a:lnTo>
                <a:lnTo>
                  <a:pt x="326" y="1530"/>
                </a:lnTo>
                <a:lnTo>
                  <a:pt x="326" y="1523"/>
                </a:lnTo>
                <a:lnTo>
                  <a:pt x="333" y="1516"/>
                </a:lnTo>
                <a:lnTo>
                  <a:pt x="340" y="1509"/>
                </a:lnTo>
                <a:lnTo>
                  <a:pt x="340" y="1502"/>
                </a:lnTo>
                <a:lnTo>
                  <a:pt x="347" y="1495"/>
                </a:lnTo>
                <a:lnTo>
                  <a:pt x="347" y="1488"/>
                </a:lnTo>
                <a:lnTo>
                  <a:pt x="354" y="1481"/>
                </a:lnTo>
                <a:lnTo>
                  <a:pt x="354" y="1474"/>
                </a:lnTo>
                <a:lnTo>
                  <a:pt x="361" y="1467"/>
                </a:lnTo>
                <a:lnTo>
                  <a:pt x="368" y="1459"/>
                </a:lnTo>
                <a:lnTo>
                  <a:pt x="375" y="1452"/>
                </a:lnTo>
                <a:lnTo>
                  <a:pt x="375" y="1445"/>
                </a:lnTo>
                <a:lnTo>
                  <a:pt x="382" y="1438"/>
                </a:lnTo>
                <a:lnTo>
                  <a:pt x="389" y="1431"/>
                </a:lnTo>
                <a:lnTo>
                  <a:pt x="397" y="1424"/>
                </a:lnTo>
                <a:lnTo>
                  <a:pt x="404" y="1417"/>
                </a:lnTo>
                <a:lnTo>
                  <a:pt x="411" y="1410"/>
                </a:lnTo>
                <a:lnTo>
                  <a:pt x="418" y="1403"/>
                </a:lnTo>
                <a:lnTo>
                  <a:pt x="425" y="1403"/>
                </a:lnTo>
                <a:lnTo>
                  <a:pt x="432" y="1403"/>
                </a:lnTo>
                <a:lnTo>
                  <a:pt x="439" y="1403"/>
                </a:lnTo>
                <a:lnTo>
                  <a:pt x="446" y="1403"/>
                </a:lnTo>
                <a:lnTo>
                  <a:pt x="453" y="1403"/>
                </a:lnTo>
                <a:lnTo>
                  <a:pt x="460" y="1410"/>
                </a:lnTo>
                <a:lnTo>
                  <a:pt x="467" y="1417"/>
                </a:lnTo>
                <a:lnTo>
                  <a:pt x="474" y="1424"/>
                </a:lnTo>
                <a:lnTo>
                  <a:pt x="482" y="1431"/>
                </a:lnTo>
                <a:lnTo>
                  <a:pt x="489" y="1438"/>
                </a:lnTo>
                <a:lnTo>
                  <a:pt x="496" y="1445"/>
                </a:lnTo>
                <a:lnTo>
                  <a:pt x="503" y="1452"/>
                </a:lnTo>
                <a:lnTo>
                  <a:pt x="503" y="1459"/>
                </a:lnTo>
                <a:lnTo>
                  <a:pt x="510" y="1467"/>
                </a:lnTo>
                <a:lnTo>
                  <a:pt x="510" y="1474"/>
                </a:lnTo>
                <a:lnTo>
                  <a:pt x="517" y="1481"/>
                </a:lnTo>
                <a:lnTo>
                  <a:pt x="517" y="1488"/>
                </a:lnTo>
                <a:lnTo>
                  <a:pt x="524" y="1495"/>
                </a:lnTo>
                <a:lnTo>
                  <a:pt x="524" y="1502"/>
                </a:lnTo>
                <a:lnTo>
                  <a:pt x="531" y="1509"/>
                </a:lnTo>
                <a:lnTo>
                  <a:pt x="531" y="1516"/>
                </a:lnTo>
                <a:lnTo>
                  <a:pt x="538" y="1523"/>
                </a:lnTo>
                <a:lnTo>
                  <a:pt x="538" y="1530"/>
                </a:lnTo>
                <a:lnTo>
                  <a:pt x="538" y="1537"/>
                </a:lnTo>
                <a:lnTo>
                  <a:pt x="545" y="1544"/>
                </a:lnTo>
                <a:lnTo>
                  <a:pt x="545" y="1552"/>
                </a:lnTo>
                <a:lnTo>
                  <a:pt x="552" y="1559"/>
                </a:lnTo>
                <a:lnTo>
                  <a:pt x="552" y="1566"/>
                </a:lnTo>
                <a:lnTo>
                  <a:pt x="552" y="1573"/>
                </a:lnTo>
                <a:lnTo>
                  <a:pt x="560" y="1580"/>
                </a:lnTo>
                <a:lnTo>
                  <a:pt x="560" y="1587"/>
                </a:lnTo>
                <a:lnTo>
                  <a:pt x="567" y="1594"/>
                </a:lnTo>
                <a:lnTo>
                  <a:pt x="567" y="1601"/>
                </a:lnTo>
                <a:lnTo>
                  <a:pt x="567" y="1608"/>
                </a:lnTo>
                <a:lnTo>
                  <a:pt x="574" y="1601"/>
                </a:lnTo>
                <a:lnTo>
                  <a:pt x="574" y="1594"/>
                </a:lnTo>
                <a:lnTo>
                  <a:pt x="574" y="1587"/>
                </a:lnTo>
                <a:lnTo>
                  <a:pt x="581" y="1580"/>
                </a:lnTo>
                <a:lnTo>
                  <a:pt x="581" y="1573"/>
                </a:lnTo>
                <a:lnTo>
                  <a:pt x="581" y="1566"/>
                </a:lnTo>
                <a:lnTo>
                  <a:pt x="588" y="1559"/>
                </a:lnTo>
                <a:lnTo>
                  <a:pt x="588" y="1552"/>
                </a:lnTo>
                <a:lnTo>
                  <a:pt x="588" y="1544"/>
                </a:lnTo>
                <a:lnTo>
                  <a:pt x="595" y="1537"/>
                </a:lnTo>
                <a:lnTo>
                  <a:pt x="595" y="1530"/>
                </a:lnTo>
                <a:lnTo>
                  <a:pt x="595" y="1523"/>
                </a:lnTo>
                <a:lnTo>
                  <a:pt x="602" y="1516"/>
                </a:lnTo>
                <a:lnTo>
                  <a:pt x="602" y="1509"/>
                </a:lnTo>
                <a:lnTo>
                  <a:pt x="602" y="1502"/>
                </a:lnTo>
                <a:lnTo>
                  <a:pt x="609" y="1495"/>
                </a:lnTo>
                <a:lnTo>
                  <a:pt x="609" y="1488"/>
                </a:lnTo>
                <a:lnTo>
                  <a:pt x="616" y="1481"/>
                </a:lnTo>
                <a:lnTo>
                  <a:pt x="616" y="1474"/>
                </a:lnTo>
                <a:lnTo>
                  <a:pt x="616" y="1467"/>
                </a:lnTo>
                <a:lnTo>
                  <a:pt x="616" y="1459"/>
                </a:lnTo>
                <a:lnTo>
                  <a:pt x="623" y="1452"/>
                </a:lnTo>
                <a:lnTo>
                  <a:pt x="623" y="1445"/>
                </a:lnTo>
                <a:lnTo>
                  <a:pt x="623" y="1438"/>
                </a:lnTo>
                <a:lnTo>
                  <a:pt x="630" y="1431"/>
                </a:lnTo>
                <a:lnTo>
                  <a:pt x="630" y="1424"/>
                </a:lnTo>
                <a:lnTo>
                  <a:pt x="637" y="1417"/>
                </a:lnTo>
                <a:lnTo>
                  <a:pt x="637" y="1410"/>
                </a:lnTo>
                <a:lnTo>
                  <a:pt x="637" y="1403"/>
                </a:lnTo>
                <a:lnTo>
                  <a:pt x="645" y="1396"/>
                </a:lnTo>
                <a:lnTo>
                  <a:pt x="645" y="1389"/>
                </a:lnTo>
                <a:lnTo>
                  <a:pt x="652" y="1382"/>
                </a:lnTo>
                <a:lnTo>
                  <a:pt x="652" y="1374"/>
                </a:lnTo>
                <a:lnTo>
                  <a:pt x="652" y="1367"/>
                </a:lnTo>
                <a:lnTo>
                  <a:pt x="652" y="1360"/>
                </a:lnTo>
                <a:lnTo>
                  <a:pt x="659" y="1353"/>
                </a:lnTo>
                <a:lnTo>
                  <a:pt x="659" y="1346"/>
                </a:lnTo>
                <a:lnTo>
                  <a:pt x="666" y="1339"/>
                </a:lnTo>
                <a:lnTo>
                  <a:pt x="666" y="1332"/>
                </a:lnTo>
                <a:lnTo>
                  <a:pt x="673" y="1325"/>
                </a:lnTo>
                <a:lnTo>
                  <a:pt x="673" y="1318"/>
                </a:lnTo>
                <a:lnTo>
                  <a:pt x="680" y="1311"/>
                </a:lnTo>
                <a:lnTo>
                  <a:pt x="687" y="1304"/>
                </a:lnTo>
                <a:lnTo>
                  <a:pt x="687" y="1296"/>
                </a:lnTo>
                <a:lnTo>
                  <a:pt x="694" y="1289"/>
                </a:lnTo>
                <a:lnTo>
                  <a:pt x="694" y="1282"/>
                </a:lnTo>
                <a:lnTo>
                  <a:pt x="701" y="1275"/>
                </a:lnTo>
                <a:lnTo>
                  <a:pt x="708" y="1268"/>
                </a:lnTo>
                <a:lnTo>
                  <a:pt x="715" y="1261"/>
                </a:lnTo>
                <a:lnTo>
                  <a:pt x="723" y="1261"/>
                </a:lnTo>
                <a:lnTo>
                  <a:pt x="730" y="1261"/>
                </a:lnTo>
                <a:lnTo>
                  <a:pt x="737" y="1261"/>
                </a:lnTo>
                <a:lnTo>
                  <a:pt x="744" y="1261"/>
                </a:lnTo>
                <a:lnTo>
                  <a:pt x="751" y="1268"/>
                </a:lnTo>
                <a:lnTo>
                  <a:pt x="758" y="1275"/>
                </a:lnTo>
                <a:lnTo>
                  <a:pt x="765" y="1282"/>
                </a:lnTo>
                <a:lnTo>
                  <a:pt x="765" y="1289"/>
                </a:lnTo>
                <a:lnTo>
                  <a:pt x="772" y="1296"/>
                </a:lnTo>
                <a:lnTo>
                  <a:pt x="772" y="1304"/>
                </a:lnTo>
                <a:lnTo>
                  <a:pt x="779" y="1311"/>
                </a:lnTo>
                <a:lnTo>
                  <a:pt x="779" y="1318"/>
                </a:lnTo>
                <a:lnTo>
                  <a:pt x="786" y="1325"/>
                </a:lnTo>
                <a:lnTo>
                  <a:pt x="786" y="1332"/>
                </a:lnTo>
                <a:lnTo>
                  <a:pt x="793" y="1339"/>
                </a:lnTo>
                <a:lnTo>
                  <a:pt x="793" y="1346"/>
                </a:lnTo>
                <a:lnTo>
                  <a:pt x="793" y="1353"/>
                </a:lnTo>
                <a:lnTo>
                  <a:pt x="800" y="1360"/>
                </a:lnTo>
                <a:lnTo>
                  <a:pt x="800" y="1367"/>
                </a:lnTo>
                <a:lnTo>
                  <a:pt x="800" y="1374"/>
                </a:lnTo>
                <a:lnTo>
                  <a:pt x="800" y="1382"/>
                </a:lnTo>
                <a:lnTo>
                  <a:pt x="808" y="1389"/>
                </a:lnTo>
                <a:lnTo>
                  <a:pt x="808" y="1403"/>
                </a:lnTo>
                <a:lnTo>
                  <a:pt x="808" y="1410"/>
                </a:lnTo>
                <a:lnTo>
                  <a:pt x="815" y="1417"/>
                </a:lnTo>
                <a:lnTo>
                  <a:pt x="815" y="1424"/>
                </a:lnTo>
                <a:lnTo>
                  <a:pt x="815" y="1431"/>
                </a:lnTo>
                <a:lnTo>
                  <a:pt x="822" y="1445"/>
                </a:lnTo>
                <a:lnTo>
                  <a:pt x="822" y="1452"/>
                </a:lnTo>
                <a:lnTo>
                  <a:pt x="822" y="1459"/>
                </a:lnTo>
                <a:lnTo>
                  <a:pt x="829" y="1474"/>
                </a:lnTo>
                <a:lnTo>
                  <a:pt x="829" y="1481"/>
                </a:lnTo>
                <a:lnTo>
                  <a:pt x="829" y="1495"/>
                </a:lnTo>
                <a:lnTo>
                  <a:pt x="836" y="1502"/>
                </a:lnTo>
                <a:lnTo>
                  <a:pt x="836" y="1516"/>
                </a:lnTo>
                <a:lnTo>
                  <a:pt x="836" y="1523"/>
                </a:lnTo>
                <a:lnTo>
                  <a:pt x="836" y="1537"/>
                </a:lnTo>
                <a:lnTo>
                  <a:pt x="843" y="1544"/>
                </a:lnTo>
                <a:lnTo>
                  <a:pt x="843" y="1559"/>
                </a:lnTo>
                <a:lnTo>
                  <a:pt x="843" y="1573"/>
                </a:lnTo>
                <a:lnTo>
                  <a:pt x="850" y="1587"/>
                </a:lnTo>
                <a:lnTo>
                  <a:pt x="850" y="1594"/>
                </a:lnTo>
                <a:lnTo>
                  <a:pt x="850" y="1608"/>
                </a:lnTo>
                <a:lnTo>
                  <a:pt x="857" y="1594"/>
                </a:lnTo>
                <a:lnTo>
                  <a:pt x="857" y="1580"/>
                </a:lnTo>
                <a:lnTo>
                  <a:pt x="857" y="1573"/>
                </a:lnTo>
                <a:lnTo>
                  <a:pt x="864" y="1559"/>
                </a:lnTo>
                <a:lnTo>
                  <a:pt x="864" y="1544"/>
                </a:lnTo>
                <a:lnTo>
                  <a:pt x="864" y="1530"/>
                </a:lnTo>
                <a:lnTo>
                  <a:pt x="871" y="1516"/>
                </a:lnTo>
                <a:lnTo>
                  <a:pt x="871" y="1502"/>
                </a:lnTo>
                <a:lnTo>
                  <a:pt x="871" y="1488"/>
                </a:lnTo>
                <a:lnTo>
                  <a:pt x="878" y="1474"/>
                </a:lnTo>
                <a:lnTo>
                  <a:pt x="878" y="1459"/>
                </a:lnTo>
                <a:lnTo>
                  <a:pt x="878" y="1445"/>
                </a:lnTo>
                <a:lnTo>
                  <a:pt x="878" y="1431"/>
                </a:lnTo>
                <a:lnTo>
                  <a:pt x="885" y="1417"/>
                </a:lnTo>
                <a:lnTo>
                  <a:pt x="885" y="1403"/>
                </a:lnTo>
                <a:lnTo>
                  <a:pt x="885" y="1382"/>
                </a:lnTo>
                <a:lnTo>
                  <a:pt x="893" y="1367"/>
                </a:lnTo>
                <a:lnTo>
                  <a:pt x="893" y="1353"/>
                </a:lnTo>
                <a:lnTo>
                  <a:pt x="893" y="1339"/>
                </a:lnTo>
                <a:lnTo>
                  <a:pt x="900" y="1325"/>
                </a:lnTo>
                <a:lnTo>
                  <a:pt x="900" y="1304"/>
                </a:lnTo>
                <a:lnTo>
                  <a:pt x="900" y="1289"/>
                </a:lnTo>
                <a:lnTo>
                  <a:pt x="907" y="1275"/>
                </a:lnTo>
                <a:lnTo>
                  <a:pt x="907" y="1261"/>
                </a:lnTo>
                <a:lnTo>
                  <a:pt x="907" y="1240"/>
                </a:lnTo>
                <a:lnTo>
                  <a:pt x="914" y="1226"/>
                </a:lnTo>
                <a:lnTo>
                  <a:pt x="914" y="1211"/>
                </a:lnTo>
                <a:lnTo>
                  <a:pt x="914" y="1190"/>
                </a:lnTo>
                <a:lnTo>
                  <a:pt x="914" y="1176"/>
                </a:lnTo>
                <a:lnTo>
                  <a:pt x="921" y="1162"/>
                </a:lnTo>
                <a:lnTo>
                  <a:pt x="921" y="1141"/>
                </a:lnTo>
                <a:lnTo>
                  <a:pt x="921" y="1126"/>
                </a:lnTo>
                <a:lnTo>
                  <a:pt x="928" y="1105"/>
                </a:lnTo>
                <a:lnTo>
                  <a:pt x="928" y="1091"/>
                </a:lnTo>
                <a:lnTo>
                  <a:pt x="928" y="1077"/>
                </a:lnTo>
                <a:lnTo>
                  <a:pt x="935" y="1056"/>
                </a:lnTo>
                <a:lnTo>
                  <a:pt x="935" y="1041"/>
                </a:lnTo>
                <a:lnTo>
                  <a:pt x="935" y="1020"/>
                </a:lnTo>
                <a:lnTo>
                  <a:pt x="942" y="1006"/>
                </a:lnTo>
                <a:lnTo>
                  <a:pt x="942" y="992"/>
                </a:lnTo>
                <a:lnTo>
                  <a:pt x="942" y="971"/>
                </a:lnTo>
                <a:lnTo>
                  <a:pt x="949" y="956"/>
                </a:lnTo>
                <a:lnTo>
                  <a:pt x="949" y="935"/>
                </a:lnTo>
                <a:lnTo>
                  <a:pt x="949" y="921"/>
                </a:lnTo>
                <a:lnTo>
                  <a:pt x="949" y="900"/>
                </a:lnTo>
                <a:lnTo>
                  <a:pt x="956" y="886"/>
                </a:lnTo>
                <a:lnTo>
                  <a:pt x="956" y="871"/>
                </a:lnTo>
                <a:lnTo>
                  <a:pt x="956" y="850"/>
                </a:lnTo>
                <a:lnTo>
                  <a:pt x="963" y="836"/>
                </a:lnTo>
                <a:lnTo>
                  <a:pt x="963" y="815"/>
                </a:lnTo>
                <a:lnTo>
                  <a:pt x="963" y="800"/>
                </a:lnTo>
                <a:lnTo>
                  <a:pt x="971" y="786"/>
                </a:lnTo>
                <a:lnTo>
                  <a:pt x="971" y="765"/>
                </a:lnTo>
                <a:lnTo>
                  <a:pt x="971" y="751"/>
                </a:lnTo>
                <a:lnTo>
                  <a:pt x="978" y="730"/>
                </a:lnTo>
                <a:lnTo>
                  <a:pt x="978" y="715"/>
                </a:lnTo>
                <a:lnTo>
                  <a:pt x="978" y="701"/>
                </a:lnTo>
                <a:lnTo>
                  <a:pt x="985" y="680"/>
                </a:lnTo>
                <a:lnTo>
                  <a:pt x="985" y="666"/>
                </a:lnTo>
                <a:lnTo>
                  <a:pt x="985" y="652"/>
                </a:lnTo>
                <a:lnTo>
                  <a:pt x="985" y="630"/>
                </a:lnTo>
                <a:lnTo>
                  <a:pt x="992" y="616"/>
                </a:lnTo>
                <a:lnTo>
                  <a:pt x="992" y="602"/>
                </a:lnTo>
                <a:lnTo>
                  <a:pt x="992" y="581"/>
                </a:lnTo>
                <a:lnTo>
                  <a:pt x="999" y="567"/>
                </a:lnTo>
                <a:lnTo>
                  <a:pt x="999" y="552"/>
                </a:lnTo>
                <a:lnTo>
                  <a:pt x="999" y="538"/>
                </a:lnTo>
                <a:lnTo>
                  <a:pt x="1006" y="524"/>
                </a:lnTo>
                <a:lnTo>
                  <a:pt x="1006" y="503"/>
                </a:lnTo>
                <a:lnTo>
                  <a:pt x="1006" y="489"/>
                </a:lnTo>
                <a:lnTo>
                  <a:pt x="1013" y="475"/>
                </a:lnTo>
                <a:lnTo>
                  <a:pt x="1013" y="460"/>
                </a:lnTo>
                <a:lnTo>
                  <a:pt x="1013" y="446"/>
                </a:lnTo>
                <a:lnTo>
                  <a:pt x="1020" y="432"/>
                </a:lnTo>
                <a:lnTo>
                  <a:pt x="1020" y="418"/>
                </a:lnTo>
                <a:lnTo>
                  <a:pt x="1020" y="404"/>
                </a:lnTo>
                <a:lnTo>
                  <a:pt x="1027" y="390"/>
                </a:lnTo>
                <a:lnTo>
                  <a:pt x="1027" y="375"/>
                </a:lnTo>
                <a:lnTo>
                  <a:pt x="1027" y="361"/>
                </a:lnTo>
                <a:lnTo>
                  <a:pt x="1027" y="347"/>
                </a:lnTo>
                <a:lnTo>
                  <a:pt x="1034" y="333"/>
                </a:lnTo>
                <a:lnTo>
                  <a:pt x="1034" y="319"/>
                </a:lnTo>
                <a:lnTo>
                  <a:pt x="1034" y="304"/>
                </a:lnTo>
                <a:lnTo>
                  <a:pt x="1041" y="297"/>
                </a:lnTo>
                <a:lnTo>
                  <a:pt x="1041" y="283"/>
                </a:lnTo>
                <a:lnTo>
                  <a:pt x="1041" y="269"/>
                </a:lnTo>
                <a:lnTo>
                  <a:pt x="1048" y="255"/>
                </a:lnTo>
                <a:lnTo>
                  <a:pt x="1048" y="248"/>
                </a:lnTo>
                <a:lnTo>
                  <a:pt x="1048" y="234"/>
                </a:lnTo>
                <a:lnTo>
                  <a:pt x="1056" y="227"/>
                </a:lnTo>
                <a:lnTo>
                  <a:pt x="1056" y="212"/>
                </a:lnTo>
                <a:lnTo>
                  <a:pt x="1056" y="198"/>
                </a:lnTo>
                <a:lnTo>
                  <a:pt x="1063" y="191"/>
                </a:lnTo>
                <a:lnTo>
                  <a:pt x="1063" y="177"/>
                </a:lnTo>
                <a:lnTo>
                  <a:pt x="1063" y="170"/>
                </a:lnTo>
                <a:lnTo>
                  <a:pt x="1063" y="163"/>
                </a:lnTo>
                <a:lnTo>
                  <a:pt x="1070" y="149"/>
                </a:lnTo>
                <a:lnTo>
                  <a:pt x="1070" y="142"/>
                </a:lnTo>
                <a:lnTo>
                  <a:pt x="1070" y="134"/>
                </a:lnTo>
                <a:lnTo>
                  <a:pt x="1077" y="120"/>
                </a:lnTo>
                <a:lnTo>
                  <a:pt x="1077" y="113"/>
                </a:lnTo>
                <a:lnTo>
                  <a:pt x="1077" y="106"/>
                </a:lnTo>
                <a:lnTo>
                  <a:pt x="1084" y="99"/>
                </a:lnTo>
                <a:lnTo>
                  <a:pt x="1084" y="92"/>
                </a:lnTo>
                <a:lnTo>
                  <a:pt x="1084" y="85"/>
                </a:lnTo>
                <a:lnTo>
                  <a:pt x="1091" y="78"/>
                </a:lnTo>
                <a:lnTo>
                  <a:pt x="1091" y="71"/>
                </a:lnTo>
                <a:lnTo>
                  <a:pt x="1091" y="64"/>
                </a:lnTo>
                <a:lnTo>
                  <a:pt x="1098" y="56"/>
                </a:lnTo>
                <a:lnTo>
                  <a:pt x="1098" y="49"/>
                </a:lnTo>
                <a:lnTo>
                  <a:pt x="1098" y="42"/>
                </a:lnTo>
                <a:lnTo>
                  <a:pt x="1105" y="35"/>
                </a:lnTo>
                <a:lnTo>
                  <a:pt x="1105" y="28"/>
                </a:lnTo>
                <a:lnTo>
                  <a:pt x="1112" y="21"/>
                </a:lnTo>
                <a:lnTo>
                  <a:pt x="1119" y="14"/>
                </a:lnTo>
                <a:lnTo>
                  <a:pt x="1126" y="7"/>
                </a:lnTo>
                <a:lnTo>
                  <a:pt x="1134" y="0"/>
                </a:lnTo>
                <a:lnTo>
                  <a:pt x="1141" y="0"/>
                </a:lnTo>
                <a:lnTo>
                  <a:pt x="1148" y="7"/>
                </a:lnTo>
                <a:lnTo>
                  <a:pt x="1155" y="14"/>
                </a:lnTo>
                <a:lnTo>
                  <a:pt x="1162" y="21"/>
                </a:lnTo>
                <a:lnTo>
                  <a:pt x="1169" y="28"/>
                </a:lnTo>
                <a:lnTo>
                  <a:pt x="1169" y="35"/>
                </a:lnTo>
                <a:lnTo>
                  <a:pt x="1176" y="42"/>
                </a:lnTo>
                <a:lnTo>
                  <a:pt x="1176" y="49"/>
                </a:lnTo>
                <a:lnTo>
                  <a:pt x="1176" y="56"/>
                </a:lnTo>
                <a:lnTo>
                  <a:pt x="1183" y="64"/>
                </a:lnTo>
                <a:lnTo>
                  <a:pt x="1183" y="71"/>
                </a:lnTo>
                <a:lnTo>
                  <a:pt x="1183" y="78"/>
                </a:lnTo>
                <a:lnTo>
                  <a:pt x="1190" y="85"/>
                </a:lnTo>
                <a:lnTo>
                  <a:pt x="1190" y="92"/>
                </a:lnTo>
                <a:lnTo>
                  <a:pt x="1190" y="99"/>
                </a:lnTo>
                <a:lnTo>
                  <a:pt x="1197" y="106"/>
                </a:lnTo>
                <a:lnTo>
                  <a:pt x="1197" y="113"/>
                </a:lnTo>
                <a:lnTo>
                  <a:pt x="1197" y="120"/>
                </a:lnTo>
                <a:lnTo>
                  <a:pt x="1204" y="134"/>
                </a:lnTo>
                <a:lnTo>
                  <a:pt x="1204" y="142"/>
                </a:lnTo>
                <a:lnTo>
                  <a:pt x="1204" y="149"/>
                </a:lnTo>
                <a:lnTo>
                  <a:pt x="1211" y="163"/>
                </a:lnTo>
                <a:lnTo>
                  <a:pt x="1211" y="170"/>
                </a:lnTo>
                <a:lnTo>
                  <a:pt x="1211" y="177"/>
                </a:lnTo>
                <a:lnTo>
                  <a:pt x="1211" y="191"/>
                </a:lnTo>
                <a:lnTo>
                  <a:pt x="1219" y="198"/>
                </a:lnTo>
                <a:lnTo>
                  <a:pt x="1219" y="212"/>
                </a:lnTo>
                <a:lnTo>
                  <a:pt x="1219" y="227"/>
                </a:lnTo>
                <a:lnTo>
                  <a:pt x="1226" y="234"/>
                </a:lnTo>
                <a:lnTo>
                  <a:pt x="1226" y="248"/>
                </a:lnTo>
                <a:lnTo>
                  <a:pt x="1226" y="255"/>
                </a:lnTo>
                <a:lnTo>
                  <a:pt x="1233" y="269"/>
                </a:lnTo>
                <a:lnTo>
                  <a:pt x="1233" y="283"/>
                </a:lnTo>
                <a:lnTo>
                  <a:pt x="1233" y="297"/>
                </a:lnTo>
                <a:lnTo>
                  <a:pt x="1240" y="304"/>
                </a:lnTo>
                <a:lnTo>
                  <a:pt x="1240" y="319"/>
                </a:lnTo>
                <a:lnTo>
                  <a:pt x="1240" y="333"/>
                </a:lnTo>
                <a:lnTo>
                  <a:pt x="1247" y="347"/>
                </a:lnTo>
                <a:lnTo>
                  <a:pt x="1247" y="361"/>
                </a:lnTo>
                <a:lnTo>
                  <a:pt x="1247" y="375"/>
                </a:lnTo>
                <a:lnTo>
                  <a:pt x="1247" y="390"/>
                </a:lnTo>
                <a:lnTo>
                  <a:pt x="1254" y="404"/>
                </a:lnTo>
                <a:lnTo>
                  <a:pt x="1254" y="418"/>
                </a:lnTo>
                <a:lnTo>
                  <a:pt x="1254" y="432"/>
                </a:lnTo>
                <a:lnTo>
                  <a:pt x="1261" y="446"/>
                </a:lnTo>
                <a:lnTo>
                  <a:pt x="1261" y="460"/>
                </a:lnTo>
                <a:lnTo>
                  <a:pt x="1261" y="475"/>
                </a:lnTo>
                <a:lnTo>
                  <a:pt x="1268" y="489"/>
                </a:lnTo>
                <a:lnTo>
                  <a:pt x="1268" y="503"/>
                </a:lnTo>
                <a:lnTo>
                  <a:pt x="1268" y="524"/>
                </a:lnTo>
                <a:lnTo>
                  <a:pt x="1275" y="538"/>
                </a:lnTo>
                <a:lnTo>
                  <a:pt x="1275" y="552"/>
                </a:lnTo>
                <a:lnTo>
                  <a:pt x="1275" y="567"/>
                </a:lnTo>
                <a:lnTo>
                  <a:pt x="1282" y="581"/>
                </a:lnTo>
                <a:lnTo>
                  <a:pt x="1282" y="602"/>
                </a:lnTo>
                <a:lnTo>
                  <a:pt x="1282" y="616"/>
                </a:lnTo>
                <a:lnTo>
                  <a:pt x="1289" y="630"/>
                </a:lnTo>
                <a:lnTo>
                  <a:pt x="1289" y="652"/>
                </a:lnTo>
                <a:lnTo>
                  <a:pt x="1289" y="666"/>
                </a:lnTo>
                <a:lnTo>
                  <a:pt x="1289" y="680"/>
                </a:lnTo>
                <a:lnTo>
                  <a:pt x="1297" y="701"/>
                </a:lnTo>
                <a:lnTo>
                  <a:pt x="1297" y="715"/>
                </a:lnTo>
                <a:lnTo>
                  <a:pt x="1297" y="730"/>
                </a:lnTo>
                <a:lnTo>
                  <a:pt x="1304" y="751"/>
                </a:lnTo>
                <a:lnTo>
                  <a:pt x="1304" y="765"/>
                </a:lnTo>
                <a:lnTo>
                  <a:pt x="1304" y="786"/>
                </a:lnTo>
                <a:lnTo>
                  <a:pt x="1311" y="800"/>
                </a:lnTo>
                <a:lnTo>
                  <a:pt x="1311" y="815"/>
                </a:lnTo>
                <a:lnTo>
                  <a:pt x="1311" y="836"/>
                </a:lnTo>
                <a:lnTo>
                  <a:pt x="1318" y="850"/>
                </a:lnTo>
                <a:lnTo>
                  <a:pt x="1318" y="871"/>
                </a:lnTo>
                <a:lnTo>
                  <a:pt x="1318" y="886"/>
                </a:lnTo>
                <a:lnTo>
                  <a:pt x="1325" y="900"/>
                </a:lnTo>
                <a:lnTo>
                  <a:pt x="1325" y="921"/>
                </a:lnTo>
                <a:lnTo>
                  <a:pt x="1325" y="935"/>
                </a:lnTo>
                <a:lnTo>
                  <a:pt x="1325" y="956"/>
                </a:lnTo>
                <a:lnTo>
                  <a:pt x="1332" y="971"/>
                </a:lnTo>
                <a:lnTo>
                  <a:pt x="1332" y="992"/>
                </a:lnTo>
                <a:lnTo>
                  <a:pt x="1332" y="1006"/>
                </a:lnTo>
                <a:lnTo>
                  <a:pt x="1339" y="1020"/>
                </a:lnTo>
                <a:lnTo>
                  <a:pt x="1339" y="1041"/>
                </a:lnTo>
                <a:lnTo>
                  <a:pt x="1339" y="1056"/>
                </a:lnTo>
                <a:lnTo>
                  <a:pt x="1346" y="1077"/>
                </a:lnTo>
                <a:lnTo>
                  <a:pt x="1346" y="1091"/>
                </a:lnTo>
                <a:lnTo>
                  <a:pt x="1346" y="1105"/>
                </a:lnTo>
                <a:lnTo>
                  <a:pt x="1353" y="1126"/>
                </a:lnTo>
                <a:lnTo>
                  <a:pt x="1353" y="1141"/>
                </a:lnTo>
                <a:lnTo>
                  <a:pt x="1353" y="1162"/>
                </a:lnTo>
                <a:lnTo>
                  <a:pt x="1360" y="1176"/>
                </a:lnTo>
                <a:lnTo>
                  <a:pt x="1360" y="1190"/>
                </a:lnTo>
                <a:lnTo>
                  <a:pt x="1360" y="1211"/>
                </a:lnTo>
                <a:lnTo>
                  <a:pt x="1360" y="1226"/>
                </a:lnTo>
                <a:lnTo>
                  <a:pt x="1367" y="1240"/>
                </a:lnTo>
                <a:lnTo>
                  <a:pt x="1367" y="1261"/>
                </a:lnTo>
                <a:lnTo>
                  <a:pt x="1367" y="1275"/>
                </a:lnTo>
                <a:lnTo>
                  <a:pt x="1374" y="1289"/>
                </a:lnTo>
                <a:lnTo>
                  <a:pt x="1374" y="1304"/>
                </a:lnTo>
                <a:lnTo>
                  <a:pt x="1374" y="1325"/>
                </a:lnTo>
                <a:lnTo>
                  <a:pt x="1382" y="1339"/>
                </a:lnTo>
                <a:lnTo>
                  <a:pt x="1382" y="1353"/>
                </a:lnTo>
                <a:lnTo>
                  <a:pt x="1382" y="1367"/>
                </a:lnTo>
                <a:lnTo>
                  <a:pt x="1389" y="1382"/>
                </a:lnTo>
                <a:lnTo>
                  <a:pt x="1389" y="1403"/>
                </a:lnTo>
                <a:lnTo>
                  <a:pt x="1389" y="1417"/>
                </a:lnTo>
                <a:lnTo>
                  <a:pt x="1396" y="1431"/>
                </a:lnTo>
                <a:lnTo>
                  <a:pt x="1396" y="1445"/>
                </a:lnTo>
                <a:lnTo>
                  <a:pt x="1396" y="1459"/>
                </a:lnTo>
                <a:lnTo>
                  <a:pt x="1396" y="1474"/>
                </a:lnTo>
                <a:lnTo>
                  <a:pt x="1403" y="1488"/>
                </a:lnTo>
                <a:lnTo>
                  <a:pt x="1403" y="1502"/>
                </a:lnTo>
                <a:lnTo>
                  <a:pt x="1403" y="1516"/>
                </a:lnTo>
                <a:lnTo>
                  <a:pt x="1410" y="1530"/>
                </a:lnTo>
                <a:lnTo>
                  <a:pt x="1410" y="1544"/>
                </a:lnTo>
                <a:lnTo>
                  <a:pt x="1410" y="1559"/>
                </a:lnTo>
                <a:lnTo>
                  <a:pt x="1417" y="1573"/>
                </a:lnTo>
                <a:lnTo>
                  <a:pt x="1417" y="1580"/>
                </a:lnTo>
                <a:lnTo>
                  <a:pt x="1417" y="1594"/>
                </a:lnTo>
                <a:lnTo>
                  <a:pt x="1424" y="1608"/>
                </a:lnTo>
                <a:lnTo>
                  <a:pt x="1424" y="1594"/>
                </a:lnTo>
                <a:lnTo>
                  <a:pt x="1424" y="1587"/>
                </a:lnTo>
                <a:lnTo>
                  <a:pt x="1431" y="1573"/>
                </a:lnTo>
                <a:lnTo>
                  <a:pt x="1431" y="1559"/>
                </a:lnTo>
                <a:lnTo>
                  <a:pt x="1431" y="1544"/>
                </a:lnTo>
                <a:lnTo>
                  <a:pt x="1438" y="1537"/>
                </a:lnTo>
                <a:lnTo>
                  <a:pt x="1438" y="1523"/>
                </a:lnTo>
                <a:lnTo>
                  <a:pt x="1438" y="1516"/>
                </a:lnTo>
                <a:lnTo>
                  <a:pt x="1438" y="1502"/>
                </a:lnTo>
                <a:lnTo>
                  <a:pt x="1445" y="1495"/>
                </a:lnTo>
                <a:lnTo>
                  <a:pt x="1445" y="1481"/>
                </a:lnTo>
                <a:lnTo>
                  <a:pt x="1445" y="1474"/>
                </a:lnTo>
                <a:lnTo>
                  <a:pt x="1452" y="1459"/>
                </a:lnTo>
                <a:lnTo>
                  <a:pt x="1452" y="1452"/>
                </a:lnTo>
                <a:lnTo>
                  <a:pt x="1452" y="1445"/>
                </a:lnTo>
                <a:lnTo>
                  <a:pt x="1460" y="1431"/>
                </a:lnTo>
                <a:lnTo>
                  <a:pt x="1460" y="1424"/>
                </a:lnTo>
                <a:lnTo>
                  <a:pt x="1460" y="1417"/>
                </a:lnTo>
                <a:lnTo>
                  <a:pt x="1467" y="1410"/>
                </a:lnTo>
                <a:lnTo>
                  <a:pt x="1467" y="1403"/>
                </a:lnTo>
                <a:lnTo>
                  <a:pt x="1467" y="1389"/>
                </a:lnTo>
                <a:lnTo>
                  <a:pt x="1474" y="1382"/>
                </a:lnTo>
                <a:lnTo>
                  <a:pt x="1474" y="1374"/>
                </a:lnTo>
                <a:lnTo>
                  <a:pt x="1474" y="1367"/>
                </a:lnTo>
                <a:lnTo>
                  <a:pt x="1474" y="1360"/>
                </a:lnTo>
                <a:lnTo>
                  <a:pt x="1481" y="1353"/>
                </a:lnTo>
                <a:lnTo>
                  <a:pt x="1481" y="1346"/>
                </a:lnTo>
                <a:lnTo>
                  <a:pt x="1488" y="1339"/>
                </a:lnTo>
                <a:lnTo>
                  <a:pt x="1488" y="1332"/>
                </a:lnTo>
                <a:lnTo>
                  <a:pt x="1488" y="1325"/>
                </a:lnTo>
                <a:lnTo>
                  <a:pt x="1495" y="1318"/>
                </a:lnTo>
                <a:lnTo>
                  <a:pt x="1495" y="1311"/>
                </a:lnTo>
                <a:lnTo>
                  <a:pt x="1502" y="1304"/>
                </a:lnTo>
                <a:lnTo>
                  <a:pt x="1502" y="1296"/>
                </a:lnTo>
                <a:lnTo>
                  <a:pt x="1509" y="1289"/>
                </a:lnTo>
                <a:lnTo>
                  <a:pt x="1509" y="1282"/>
                </a:lnTo>
                <a:lnTo>
                  <a:pt x="1516" y="1275"/>
                </a:lnTo>
                <a:lnTo>
                  <a:pt x="1523" y="1268"/>
                </a:lnTo>
                <a:lnTo>
                  <a:pt x="1530" y="1261"/>
                </a:lnTo>
                <a:lnTo>
                  <a:pt x="1537" y="1261"/>
                </a:lnTo>
                <a:lnTo>
                  <a:pt x="1545" y="1261"/>
                </a:lnTo>
                <a:lnTo>
                  <a:pt x="1552" y="1261"/>
                </a:lnTo>
                <a:lnTo>
                  <a:pt x="1559" y="1268"/>
                </a:lnTo>
                <a:lnTo>
                  <a:pt x="1566" y="1268"/>
                </a:lnTo>
                <a:lnTo>
                  <a:pt x="1573" y="1275"/>
                </a:lnTo>
                <a:lnTo>
                  <a:pt x="1580" y="1282"/>
                </a:lnTo>
                <a:lnTo>
                  <a:pt x="1587" y="1289"/>
                </a:lnTo>
                <a:lnTo>
                  <a:pt x="1587" y="1296"/>
                </a:lnTo>
                <a:lnTo>
                  <a:pt x="1594" y="1304"/>
                </a:lnTo>
                <a:lnTo>
                  <a:pt x="1594" y="1311"/>
                </a:lnTo>
                <a:lnTo>
                  <a:pt x="1601" y="1318"/>
                </a:lnTo>
                <a:lnTo>
                  <a:pt x="1601" y="1325"/>
                </a:lnTo>
                <a:lnTo>
                  <a:pt x="1608" y="1332"/>
                </a:lnTo>
                <a:lnTo>
                  <a:pt x="1608" y="1339"/>
                </a:lnTo>
                <a:lnTo>
                  <a:pt x="1615" y="1346"/>
                </a:lnTo>
                <a:lnTo>
                  <a:pt x="1615" y="1353"/>
                </a:lnTo>
                <a:lnTo>
                  <a:pt x="1622" y="1360"/>
                </a:lnTo>
                <a:lnTo>
                  <a:pt x="1622" y="1367"/>
                </a:lnTo>
                <a:lnTo>
                  <a:pt x="1622" y="1374"/>
                </a:lnTo>
                <a:lnTo>
                  <a:pt x="1630" y="1382"/>
                </a:lnTo>
                <a:lnTo>
                  <a:pt x="1630" y="1389"/>
                </a:lnTo>
                <a:lnTo>
                  <a:pt x="1630" y="1396"/>
                </a:lnTo>
                <a:lnTo>
                  <a:pt x="1637" y="1403"/>
                </a:lnTo>
                <a:lnTo>
                  <a:pt x="1637" y="1410"/>
                </a:lnTo>
                <a:lnTo>
                  <a:pt x="1644" y="1417"/>
                </a:lnTo>
                <a:lnTo>
                  <a:pt x="1644" y="1424"/>
                </a:lnTo>
                <a:lnTo>
                  <a:pt x="1644" y="1431"/>
                </a:lnTo>
                <a:lnTo>
                  <a:pt x="1651" y="1438"/>
                </a:lnTo>
                <a:lnTo>
                  <a:pt x="1651" y="1445"/>
                </a:lnTo>
                <a:lnTo>
                  <a:pt x="1651" y="1452"/>
                </a:lnTo>
                <a:lnTo>
                  <a:pt x="1658" y="1459"/>
                </a:lnTo>
                <a:lnTo>
                  <a:pt x="1658" y="1467"/>
                </a:lnTo>
                <a:lnTo>
                  <a:pt x="1658" y="1474"/>
                </a:lnTo>
                <a:lnTo>
                  <a:pt x="1665" y="1481"/>
                </a:lnTo>
                <a:lnTo>
                  <a:pt x="1665" y="1488"/>
                </a:lnTo>
                <a:lnTo>
                  <a:pt x="1665" y="1495"/>
                </a:lnTo>
                <a:lnTo>
                  <a:pt x="1672" y="1502"/>
                </a:lnTo>
                <a:lnTo>
                  <a:pt x="1672" y="1509"/>
                </a:lnTo>
                <a:lnTo>
                  <a:pt x="1672" y="1516"/>
                </a:lnTo>
                <a:lnTo>
                  <a:pt x="1679" y="1523"/>
                </a:lnTo>
                <a:lnTo>
                  <a:pt x="1679" y="1530"/>
                </a:lnTo>
                <a:lnTo>
                  <a:pt x="1679" y="1537"/>
                </a:lnTo>
                <a:lnTo>
                  <a:pt x="1686" y="1544"/>
                </a:lnTo>
                <a:lnTo>
                  <a:pt x="1686" y="1552"/>
                </a:lnTo>
                <a:lnTo>
                  <a:pt x="1686" y="1559"/>
                </a:lnTo>
                <a:lnTo>
                  <a:pt x="1693" y="1566"/>
                </a:lnTo>
                <a:lnTo>
                  <a:pt x="1693" y="1573"/>
                </a:lnTo>
                <a:lnTo>
                  <a:pt x="1693" y="1580"/>
                </a:lnTo>
                <a:lnTo>
                  <a:pt x="1700" y="1587"/>
                </a:lnTo>
                <a:lnTo>
                  <a:pt x="1700" y="1594"/>
                </a:lnTo>
                <a:lnTo>
                  <a:pt x="1700" y="1601"/>
                </a:lnTo>
                <a:lnTo>
                  <a:pt x="1708" y="1608"/>
                </a:lnTo>
                <a:lnTo>
                  <a:pt x="1708" y="1601"/>
                </a:lnTo>
                <a:lnTo>
                  <a:pt x="1708" y="1594"/>
                </a:lnTo>
                <a:lnTo>
                  <a:pt x="1715" y="1587"/>
                </a:lnTo>
                <a:lnTo>
                  <a:pt x="1715" y="1580"/>
                </a:lnTo>
                <a:lnTo>
                  <a:pt x="1722" y="1573"/>
                </a:lnTo>
                <a:lnTo>
                  <a:pt x="1722" y="1566"/>
                </a:lnTo>
                <a:lnTo>
                  <a:pt x="1722" y="1559"/>
                </a:lnTo>
                <a:lnTo>
                  <a:pt x="1729" y="1552"/>
                </a:lnTo>
                <a:lnTo>
                  <a:pt x="1729" y="1544"/>
                </a:lnTo>
                <a:lnTo>
                  <a:pt x="1736" y="1537"/>
                </a:lnTo>
                <a:lnTo>
                  <a:pt x="1736" y="1530"/>
                </a:lnTo>
                <a:lnTo>
                  <a:pt x="1736" y="1523"/>
                </a:lnTo>
                <a:lnTo>
                  <a:pt x="1743" y="1516"/>
                </a:lnTo>
                <a:lnTo>
                  <a:pt x="1743" y="1509"/>
                </a:lnTo>
                <a:lnTo>
                  <a:pt x="1750" y="1502"/>
                </a:lnTo>
                <a:lnTo>
                  <a:pt x="1750" y="1495"/>
                </a:lnTo>
                <a:lnTo>
                  <a:pt x="1757" y="1488"/>
                </a:lnTo>
                <a:lnTo>
                  <a:pt x="1757" y="1481"/>
                </a:lnTo>
                <a:lnTo>
                  <a:pt x="1764" y="1474"/>
                </a:lnTo>
                <a:lnTo>
                  <a:pt x="1764" y="1467"/>
                </a:lnTo>
                <a:lnTo>
                  <a:pt x="1771" y="1459"/>
                </a:lnTo>
                <a:lnTo>
                  <a:pt x="1771" y="1452"/>
                </a:lnTo>
                <a:lnTo>
                  <a:pt x="1778" y="1445"/>
                </a:lnTo>
                <a:lnTo>
                  <a:pt x="1785" y="1438"/>
                </a:lnTo>
                <a:lnTo>
                  <a:pt x="1793" y="1431"/>
                </a:lnTo>
                <a:lnTo>
                  <a:pt x="1800" y="1424"/>
                </a:lnTo>
                <a:lnTo>
                  <a:pt x="1807" y="1417"/>
                </a:lnTo>
                <a:lnTo>
                  <a:pt x="1814" y="1410"/>
                </a:lnTo>
                <a:lnTo>
                  <a:pt x="1821" y="1403"/>
                </a:lnTo>
                <a:lnTo>
                  <a:pt x="1828" y="1403"/>
                </a:lnTo>
                <a:lnTo>
                  <a:pt x="1835" y="1403"/>
                </a:lnTo>
                <a:lnTo>
                  <a:pt x="1842" y="1403"/>
                </a:lnTo>
                <a:lnTo>
                  <a:pt x="1849" y="1403"/>
                </a:lnTo>
                <a:lnTo>
                  <a:pt x="1856" y="1410"/>
                </a:lnTo>
                <a:lnTo>
                  <a:pt x="1863" y="1410"/>
                </a:lnTo>
                <a:lnTo>
                  <a:pt x="1871" y="1417"/>
                </a:lnTo>
                <a:lnTo>
                  <a:pt x="1878" y="1424"/>
                </a:lnTo>
                <a:lnTo>
                  <a:pt x="1885" y="1431"/>
                </a:lnTo>
                <a:lnTo>
                  <a:pt x="1892" y="1438"/>
                </a:lnTo>
                <a:lnTo>
                  <a:pt x="1899" y="1445"/>
                </a:lnTo>
                <a:lnTo>
                  <a:pt x="1906" y="1452"/>
                </a:lnTo>
                <a:lnTo>
                  <a:pt x="1913" y="1459"/>
                </a:lnTo>
                <a:lnTo>
                  <a:pt x="1913" y="1467"/>
                </a:lnTo>
                <a:lnTo>
                  <a:pt x="1920" y="1474"/>
                </a:lnTo>
                <a:lnTo>
                  <a:pt x="1920" y="1481"/>
                </a:lnTo>
                <a:lnTo>
                  <a:pt x="1927" y="1488"/>
                </a:lnTo>
                <a:lnTo>
                  <a:pt x="1927" y="1495"/>
                </a:lnTo>
                <a:lnTo>
                  <a:pt x="1934" y="1502"/>
                </a:lnTo>
                <a:lnTo>
                  <a:pt x="1941" y="1509"/>
                </a:lnTo>
                <a:lnTo>
                  <a:pt x="1941" y="1516"/>
                </a:lnTo>
                <a:lnTo>
                  <a:pt x="1948" y="1523"/>
                </a:lnTo>
                <a:lnTo>
                  <a:pt x="1948" y="1530"/>
                </a:lnTo>
                <a:lnTo>
                  <a:pt x="1956" y="1537"/>
                </a:lnTo>
                <a:lnTo>
                  <a:pt x="1956" y="1544"/>
                </a:lnTo>
                <a:lnTo>
                  <a:pt x="1963" y="1552"/>
                </a:lnTo>
                <a:lnTo>
                  <a:pt x="1963" y="1559"/>
                </a:lnTo>
                <a:lnTo>
                  <a:pt x="1970" y="1566"/>
                </a:lnTo>
                <a:lnTo>
                  <a:pt x="1970" y="1573"/>
                </a:lnTo>
                <a:lnTo>
                  <a:pt x="1977" y="1580"/>
                </a:lnTo>
                <a:lnTo>
                  <a:pt x="1977" y="1587"/>
                </a:lnTo>
                <a:lnTo>
                  <a:pt x="1984" y="1594"/>
                </a:lnTo>
                <a:lnTo>
                  <a:pt x="1991" y="1601"/>
                </a:lnTo>
                <a:lnTo>
                  <a:pt x="1991" y="1608"/>
                </a:lnTo>
                <a:lnTo>
                  <a:pt x="1998" y="1601"/>
                </a:lnTo>
                <a:lnTo>
                  <a:pt x="1998" y="1594"/>
                </a:lnTo>
                <a:lnTo>
                  <a:pt x="2005" y="1587"/>
                </a:lnTo>
                <a:lnTo>
                  <a:pt x="2005" y="1580"/>
                </a:lnTo>
                <a:lnTo>
                  <a:pt x="2012" y="1573"/>
                </a:lnTo>
                <a:lnTo>
                  <a:pt x="2012" y="1566"/>
                </a:lnTo>
                <a:lnTo>
                  <a:pt x="2019" y="1559"/>
                </a:lnTo>
                <a:lnTo>
                  <a:pt x="2026" y="1552"/>
                </a:lnTo>
                <a:lnTo>
                  <a:pt x="2026" y="1544"/>
                </a:lnTo>
                <a:lnTo>
                  <a:pt x="2034" y="1537"/>
                </a:lnTo>
                <a:lnTo>
                  <a:pt x="2034" y="1530"/>
                </a:lnTo>
                <a:lnTo>
                  <a:pt x="2041" y="1523"/>
                </a:lnTo>
                <a:lnTo>
                  <a:pt x="2048" y="1516"/>
                </a:lnTo>
                <a:lnTo>
                  <a:pt x="2055" y="1509"/>
                </a:lnTo>
                <a:lnTo>
                  <a:pt x="2062" y="1502"/>
                </a:lnTo>
                <a:lnTo>
                  <a:pt x="2069" y="1495"/>
                </a:lnTo>
                <a:lnTo>
                  <a:pt x="2069" y="1488"/>
                </a:lnTo>
                <a:lnTo>
                  <a:pt x="2076" y="1481"/>
                </a:lnTo>
                <a:lnTo>
                  <a:pt x="2083" y="1474"/>
                </a:lnTo>
                <a:lnTo>
                  <a:pt x="2090" y="1474"/>
                </a:lnTo>
                <a:lnTo>
                  <a:pt x="2097" y="1467"/>
                </a:lnTo>
                <a:lnTo>
                  <a:pt x="2104" y="1467"/>
                </a:lnTo>
                <a:lnTo>
                  <a:pt x="2111" y="1459"/>
                </a:lnTo>
                <a:lnTo>
                  <a:pt x="2119" y="1459"/>
                </a:lnTo>
                <a:lnTo>
                  <a:pt x="2126" y="1459"/>
                </a:lnTo>
                <a:lnTo>
                  <a:pt x="2133" y="1459"/>
                </a:lnTo>
                <a:lnTo>
                  <a:pt x="2140" y="1467"/>
                </a:lnTo>
                <a:lnTo>
                  <a:pt x="2147" y="1467"/>
                </a:lnTo>
                <a:lnTo>
                  <a:pt x="2154" y="1474"/>
                </a:lnTo>
                <a:lnTo>
                  <a:pt x="2161" y="1474"/>
                </a:lnTo>
                <a:lnTo>
                  <a:pt x="2168" y="1481"/>
                </a:lnTo>
                <a:lnTo>
                  <a:pt x="2175" y="1488"/>
                </a:lnTo>
                <a:lnTo>
                  <a:pt x="2182" y="1495"/>
                </a:lnTo>
                <a:lnTo>
                  <a:pt x="2189" y="1502"/>
                </a:lnTo>
                <a:lnTo>
                  <a:pt x="2197" y="1509"/>
                </a:lnTo>
                <a:lnTo>
                  <a:pt x="2204" y="1516"/>
                </a:lnTo>
                <a:lnTo>
                  <a:pt x="2211" y="1523"/>
                </a:lnTo>
                <a:lnTo>
                  <a:pt x="2218" y="1530"/>
                </a:lnTo>
                <a:lnTo>
                  <a:pt x="2225" y="1537"/>
                </a:lnTo>
                <a:lnTo>
                  <a:pt x="2232" y="1544"/>
                </a:lnTo>
                <a:lnTo>
                  <a:pt x="2239" y="1552"/>
                </a:lnTo>
                <a:lnTo>
                  <a:pt x="2239" y="1559"/>
                </a:lnTo>
                <a:lnTo>
                  <a:pt x="2246" y="1566"/>
                </a:lnTo>
                <a:lnTo>
                  <a:pt x="2253" y="1573"/>
                </a:lnTo>
                <a:lnTo>
                  <a:pt x="2253" y="1580"/>
                </a:lnTo>
                <a:lnTo>
                  <a:pt x="2260" y="1587"/>
                </a:lnTo>
                <a:lnTo>
                  <a:pt x="2267" y="1594"/>
                </a:lnTo>
                <a:lnTo>
                  <a:pt x="2267" y="1601"/>
                </a:lnTo>
                <a:lnTo>
                  <a:pt x="2274" y="160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257800" y="2432160"/>
            <a:ext cx="380880" cy="3276360"/>
          </a:xfrm>
          <a:custGeom>
            <a:avLst/>
            <a:gdLst/>
            <a:ahLst/>
            <a:rect l="l" t="t" r="r" b="b"/>
            <a:pathLst>
              <a:path w="2274" h="1608">
                <a:moveTo>
                  <a:pt x="0" y="1608"/>
                </a:moveTo>
                <a:lnTo>
                  <a:pt x="7" y="1601"/>
                </a:lnTo>
                <a:lnTo>
                  <a:pt x="14" y="1594"/>
                </a:lnTo>
                <a:lnTo>
                  <a:pt x="14" y="1587"/>
                </a:lnTo>
                <a:lnTo>
                  <a:pt x="21" y="1580"/>
                </a:lnTo>
                <a:lnTo>
                  <a:pt x="28" y="1573"/>
                </a:lnTo>
                <a:lnTo>
                  <a:pt x="28" y="1566"/>
                </a:lnTo>
                <a:lnTo>
                  <a:pt x="35" y="1559"/>
                </a:lnTo>
                <a:lnTo>
                  <a:pt x="42" y="1552"/>
                </a:lnTo>
                <a:lnTo>
                  <a:pt x="49" y="1544"/>
                </a:lnTo>
                <a:lnTo>
                  <a:pt x="49" y="1537"/>
                </a:lnTo>
                <a:lnTo>
                  <a:pt x="56" y="1530"/>
                </a:lnTo>
                <a:lnTo>
                  <a:pt x="63" y="1523"/>
                </a:lnTo>
                <a:lnTo>
                  <a:pt x="71" y="1516"/>
                </a:lnTo>
                <a:lnTo>
                  <a:pt x="78" y="1509"/>
                </a:lnTo>
                <a:lnTo>
                  <a:pt x="85" y="1502"/>
                </a:lnTo>
                <a:lnTo>
                  <a:pt x="92" y="1495"/>
                </a:lnTo>
                <a:lnTo>
                  <a:pt x="99" y="1488"/>
                </a:lnTo>
                <a:lnTo>
                  <a:pt x="106" y="1481"/>
                </a:lnTo>
                <a:lnTo>
                  <a:pt x="113" y="1474"/>
                </a:lnTo>
                <a:lnTo>
                  <a:pt x="120" y="1467"/>
                </a:lnTo>
                <a:lnTo>
                  <a:pt x="127" y="1467"/>
                </a:lnTo>
                <a:lnTo>
                  <a:pt x="134" y="1459"/>
                </a:lnTo>
                <a:lnTo>
                  <a:pt x="141" y="1459"/>
                </a:lnTo>
                <a:lnTo>
                  <a:pt x="148" y="1459"/>
                </a:lnTo>
                <a:lnTo>
                  <a:pt x="156" y="1459"/>
                </a:lnTo>
                <a:lnTo>
                  <a:pt x="163" y="1467"/>
                </a:lnTo>
                <a:lnTo>
                  <a:pt x="170" y="1467"/>
                </a:lnTo>
                <a:lnTo>
                  <a:pt x="177" y="1467"/>
                </a:lnTo>
                <a:lnTo>
                  <a:pt x="184" y="1474"/>
                </a:lnTo>
                <a:lnTo>
                  <a:pt x="191" y="1481"/>
                </a:lnTo>
                <a:lnTo>
                  <a:pt x="198" y="1481"/>
                </a:lnTo>
                <a:lnTo>
                  <a:pt x="205" y="1488"/>
                </a:lnTo>
                <a:lnTo>
                  <a:pt x="212" y="1495"/>
                </a:lnTo>
                <a:lnTo>
                  <a:pt x="219" y="1502"/>
                </a:lnTo>
                <a:lnTo>
                  <a:pt x="226" y="1509"/>
                </a:lnTo>
                <a:lnTo>
                  <a:pt x="234" y="1516"/>
                </a:lnTo>
                <a:lnTo>
                  <a:pt x="234" y="1523"/>
                </a:lnTo>
                <a:lnTo>
                  <a:pt x="241" y="1530"/>
                </a:lnTo>
                <a:lnTo>
                  <a:pt x="241" y="1537"/>
                </a:lnTo>
                <a:lnTo>
                  <a:pt x="248" y="1544"/>
                </a:lnTo>
                <a:lnTo>
                  <a:pt x="255" y="1552"/>
                </a:lnTo>
                <a:lnTo>
                  <a:pt x="255" y="1559"/>
                </a:lnTo>
                <a:lnTo>
                  <a:pt x="262" y="1566"/>
                </a:lnTo>
                <a:lnTo>
                  <a:pt x="269" y="1573"/>
                </a:lnTo>
                <a:lnTo>
                  <a:pt x="269" y="1580"/>
                </a:lnTo>
                <a:lnTo>
                  <a:pt x="276" y="1587"/>
                </a:lnTo>
                <a:lnTo>
                  <a:pt x="276" y="1594"/>
                </a:lnTo>
                <a:lnTo>
                  <a:pt x="283" y="1601"/>
                </a:lnTo>
                <a:lnTo>
                  <a:pt x="283" y="1608"/>
                </a:lnTo>
                <a:lnTo>
                  <a:pt x="290" y="1601"/>
                </a:lnTo>
                <a:lnTo>
                  <a:pt x="290" y="1594"/>
                </a:lnTo>
                <a:lnTo>
                  <a:pt x="297" y="1587"/>
                </a:lnTo>
                <a:lnTo>
                  <a:pt x="297" y="1580"/>
                </a:lnTo>
                <a:lnTo>
                  <a:pt x="304" y="1573"/>
                </a:lnTo>
                <a:lnTo>
                  <a:pt x="304" y="1566"/>
                </a:lnTo>
                <a:lnTo>
                  <a:pt x="311" y="1559"/>
                </a:lnTo>
                <a:lnTo>
                  <a:pt x="319" y="1552"/>
                </a:lnTo>
                <a:lnTo>
                  <a:pt x="319" y="1544"/>
                </a:lnTo>
                <a:lnTo>
                  <a:pt x="319" y="1537"/>
                </a:lnTo>
                <a:lnTo>
                  <a:pt x="326" y="1530"/>
                </a:lnTo>
                <a:lnTo>
                  <a:pt x="326" y="1523"/>
                </a:lnTo>
                <a:lnTo>
                  <a:pt x="333" y="1516"/>
                </a:lnTo>
                <a:lnTo>
                  <a:pt x="340" y="1509"/>
                </a:lnTo>
                <a:lnTo>
                  <a:pt x="340" y="1502"/>
                </a:lnTo>
                <a:lnTo>
                  <a:pt x="347" y="1495"/>
                </a:lnTo>
                <a:lnTo>
                  <a:pt x="347" y="1488"/>
                </a:lnTo>
                <a:lnTo>
                  <a:pt x="354" y="1481"/>
                </a:lnTo>
                <a:lnTo>
                  <a:pt x="354" y="1474"/>
                </a:lnTo>
                <a:lnTo>
                  <a:pt x="361" y="1467"/>
                </a:lnTo>
                <a:lnTo>
                  <a:pt x="368" y="1459"/>
                </a:lnTo>
                <a:lnTo>
                  <a:pt x="375" y="1452"/>
                </a:lnTo>
                <a:lnTo>
                  <a:pt x="375" y="1445"/>
                </a:lnTo>
                <a:lnTo>
                  <a:pt x="382" y="1438"/>
                </a:lnTo>
                <a:lnTo>
                  <a:pt x="389" y="1431"/>
                </a:lnTo>
                <a:lnTo>
                  <a:pt x="397" y="1424"/>
                </a:lnTo>
                <a:lnTo>
                  <a:pt x="404" y="1417"/>
                </a:lnTo>
                <a:lnTo>
                  <a:pt x="411" y="1410"/>
                </a:lnTo>
                <a:lnTo>
                  <a:pt x="418" y="1403"/>
                </a:lnTo>
                <a:lnTo>
                  <a:pt x="425" y="1403"/>
                </a:lnTo>
                <a:lnTo>
                  <a:pt x="432" y="1403"/>
                </a:lnTo>
                <a:lnTo>
                  <a:pt x="439" y="1403"/>
                </a:lnTo>
                <a:lnTo>
                  <a:pt x="446" y="1403"/>
                </a:lnTo>
                <a:lnTo>
                  <a:pt x="453" y="1403"/>
                </a:lnTo>
                <a:lnTo>
                  <a:pt x="460" y="1410"/>
                </a:lnTo>
                <a:lnTo>
                  <a:pt x="467" y="1417"/>
                </a:lnTo>
                <a:lnTo>
                  <a:pt x="474" y="1424"/>
                </a:lnTo>
                <a:lnTo>
                  <a:pt x="482" y="1431"/>
                </a:lnTo>
                <a:lnTo>
                  <a:pt x="489" y="1438"/>
                </a:lnTo>
                <a:lnTo>
                  <a:pt x="496" y="1445"/>
                </a:lnTo>
                <a:lnTo>
                  <a:pt x="503" y="1452"/>
                </a:lnTo>
                <a:lnTo>
                  <a:pt x="503" y="1459"/>
                </a:lnTo>
                <a:lnTo>
                  <a:pt x="510" y="1467"/>
                </a:lnTo>
                <a:lnTo>
                  <a:pt x="510" y="1474"/>
                </a:lnTo>
                <a:lnTo>
                  <a:pt x="517" y="1481"/>
                </a:lnTo>
                <a:lnTo>
                  <a:pt x="517" y="1488"/>
                </a:lnTo>
                <a:lnTo>
                  <a:pt x="524" y="1495"/>
                </a:lnTo>
                <a:lnTo>
                  <a:pt x="524" y="1502"/>
                </a:lnTo>
                <a:lnTo>
                  <a:pt x="531" y="1509"/>
                </a:lnTo>
                <a:lnTo>
                  <a:pt x="531" y="1516"/>
                </a:lnTo>
                <a:lnTo>
                  <a:pt x="538" y="1523"/>
                </a:lnTo>
                <a:lnTo>
                  <a:pt x="538" y="1530"/>
                </a:lnTo>
                <a:lnTo>
                  <a:pt x="538" y="1537"/>
                </a:lnTo>
                <a:lnTo>
                  <a:pt x="545" y="1544"/>
                </a:lnTo>
                <a:lnTo>
                  <a:pt x="545" y="1552"/>
                </a:lnTo>
                <a:lnTo>
                  <a:pt x="552" y="1559"/>
                </a:lnTo>
                <a:lnTo>
                  <a:pt x="552" y="1566"/>
                </a:lnTo>
                <a:lnTo>
                  <a:pt x="552" y="1573"/>
                </a:lnTo>
                <a:lnTo>
                  <a:pt x="560" y="1580"/>
                </a:lnTo>
                <a:lnTo>
                  <a:pt x="560" y="1587"/>
                </a:lnTo>
                <a:lnTo>
                  <a:pt x="567" y="1594"/>
                </a:lnTo>
                <a:lnTo>
                  <a:pt x="567" y="1601"/>
                </a:lnTo>
                <a:lnTo>
                  <a:pt x="567" y="1608"/>
                </a:lnTo>
                <a:lnTo>
                  <a:pt x="574" y="1601"/>
                </a:lnTo>
                <a:lnTo>
                  <a:pt x="574" y="1594"/>
                </a:lnTo>
                <a:lnTo>
                  <a:pt x="574" y="1587"/>
                </a:lnTo>
                <a:lnTo>
                  <a:pt x="581" y="1580"/>
                </a:lnTo>
                <a:lnTo>
                  <a:pt x="581" y="1573"/>
                </a:lnTo>
                <a:lnTo>
                  <a:pt x="581" y="1566"/>
                </a:lnTo>
                <a:lnTo>
                  <a:pt x="588" y="1559"/>
                </a:lnTo>
                <a:lnTo>
                  <a:pt x="588" y="1552"/>
                </a:lnTo>
                <a:lnTo>
                  <a:pt x="588" y="1544"/>
                </a:lnTo>
                <a:lnTo>
                  <a:pt x="595" y="1537"/>
                </a:lnTo>
                <a:lnTo>
                  <a:pt x="595" y="1530"/>
                </a:lnTo>
                <a:lnTo>
                  <a:pt x="595" y="1523"/>
                </a:lnTo>
                <a:lnTo>
                  <a:pt x="602" y="1516"/>
                </a:lnTo>
                <a:lnTo>
                  <a:pt x="602" y="1509"/>
                </a:lnTo>
                <a:lnTo>
                  <a:pt x="602" y="1502"/>
                </a:lnTo>
                <a:lnTo>
                  <a:pt x="609" y="1495"/>
                </a:lnTo>
                <a:lnTo>
                  <a:pt x="609" y="1488"/>
                </a:lnTo>
                <a:lnTo>
                  <a:pt x="616" y="1481"/>
                </a:lnTo>
                <a:lnTo>
                  <a:pt x="616" y="1474"/>
                </a:lnTo>
                <a:lnTo>
                  <a:pt x="616" y="1467"/>
                </a:lnTo>
                <a:lnTo>
                  <a:pt x="616" y="1459"/>
                </a:lnTo>
                <a:lnTo>
                  <a:pt x="623" y="1452"/>
                </a:lnTo>
                <a:lnTo>
                  <a:pt x="623" y="1445"/>
                </a:lnTo>
                <a:lnTo>
                  <a:pt x="623" y="1438"/>
                </a:lnTo>
                <a:lnTo>
                  <a:pt x="630" y="1431"/>
                </a:lnTo>
                <a:lnTo>
                  <a:pt x="630" y="1424"/>
                </a:lnTo>
                <a:lnTo>
                  <a:pt x="637" y="1417"/>
                </a:lnTo>
                <a:lnTo>
                  <a:pt x="637" y="1410"/>
                </a:lnTo>
                <a:lnTo>
                  <a:pt x="637" y="1403"/>
                </a:lnTo>
                <a:lnTo>
                  <a:pt x="645" y="1396"/>
                </a:lnTo>
                <a:lnTo>
                  <a:pt x="645" y="1389"/>
                </a:lnTo>
                <a:lnTo>
                  <a:pt x="652" y="1382"/>
                </a:lnTo>
                <a:lnTo>
                  <a:pt x="652" y="1374"/>
                </a:lnTo>
                <a:lnTo>
                  <a:pt x="652" y="1367"/>
                </a:lnTo>
                <a:lnTo>
                  <a:pt x="652" y="1360"/>
                </a:lnTo>
                <a:lnTo>
                  <a:pt x="659" y="1353"/>
                </a:lnTo>
                <a:lnTo>
                  <a:pt x="659" y="1346"/>
                </a:lnTo>
                <a:lnTo>
                  <a:pt x="666" y="1339"/>
                </a:lnTo>
                <a:lnTo>
                  <a:pt x="666" y="1332"/>
                </a:lnTo>
                <a:lnTo>
                  <a:pt x="673" y="1325"/>
                </a:lnTo>
                <a:lnTo>
                  <a:pt x="673" y="1318"/>
                </a:lnTo>
                <a:lnTo>
                  <a:pt x="680" y="1311"/>
                </a:lnTo>
                <a:lnTo>
                  <a:pt x="687" y="1304"/>
                </a:lnTo>
                <a:lnTo>
                  <a:pt x="687" y="1296"/>
                </a:lnTo>
                <a:lnTo>
                  <a:pt x="694" y="1289"/>
                </a:lnTo>
                <a:lnTo>
                  <a:pt x="694" y="1282"/>
                </a:lnTo>
                <a:lnTo>
                  <a:pt x="701" y="1275"/>
                </a:lnTo>
                <a:lnTo>
                  <a:pt x="708" y="1268"/>
                </a:lnTo>
                <a:lnTo>
                  <a:pt x="715" y="1261"/>
                </a:lnTo>
                <a:lnTo>
                  <a:pt x="723" y="1261"/>
                </a:lnTo>
                <a:lnTo>
                  <a:pt x="730" y="1261"/>
                </a:lnTo>
                <a:lnTo>
                  <a:pt x="737" y="1261"/>
                </a:lnTo>
                <a:lnTo>
                  <a:pt x="744" y="1261"/>
                </a:lnTo>
                <a:lnTo>
                  <a:pt x="751" y="1268"/>
                </a:lnTo>
                <a:lnTo>
                  <a:pt x="758" y="1275"/>
                </a:lnTo>
                <a:lnTo>
                  <a:pt x="765" y="1282"/>
                </a:lnTo>
                <a:lnTo>
                  <a:pt x="765" y="1289"/>
                </a:lnTo>
                <a:lnTo>
                  <a:pt x="772" y="1296"/>
                </a:lnTo>
                <a:lnTo>
                  <a:pt x="772" y="1304"/>
                </a:lnTo>
                <a:lnTo>
                  <a:pt x="779" y="1311"/>
                </a:lnTo>
                <a:lnTo>
                  <a:pt x="779" y="1318"/>
                </a:lnTo>
                <a:lnTo>
                  <a:pt x="786" y="1325"/>
                </a:lnTo>
                <a:lnTo>
                  <a:pt x="786" y="1332"/>
                </a:lnTo>
                <a:lnTo>
                  <a:pt x="793" y="1339"/>
                </a:lnTo>
                <a:lnTo>
                  <a:pt x="793" y="1346"/>
                </a:lnTo>
                <a:lnTo>
                  <a:pt x="793" y="1353"/>
                </a:lnTo>
                <a:lnTo>
                  <a:pt x="800" y="1360"/>
                </a:lnTo>
                <a:lnTo>
                  <a:pt x="800" y="1367"/>
                </a:lnTo>
                <a:lnTo>
                  <a:pt x="800" y="1374"/>
                </a:lnTo>
                <a:lnTo>
                  <a:pt x="800" y="1382"/>
                </a:lnTo>
                <a:lnTo>
                  <a:pt x="808" y="1389"/>
                </a:lnTo>
                <a:lnTo>
                  <a:pt x="808" y="1403"/>
                </a:lnTo>
                <a:lnTo>
                  <a:pt x="808" y="1410"/>
                </a:lnTo>
                <a:lnTo>
                  <a:pt x="815" y="1417"/>
                </a:lnTo>
                <a:lnTo>
                  <a:pt x="815" y="1424"/>
                </a:lnTo>
                <a:lnTo>
                  <a:pt x="815" y="1431"/>
                </a:lnTo>
                <a:lnTo>
                  <a:pt x="822" y="1445"/>
                </a:lnTo>
                <a:lnTo>
                  <a:pt x="822" y="1452"/>
                </a:lnTo>
                <a:lnTo>
                  <a:pt x="822" y="1459"/>
                </a:lnTo>
                <a:lnTo>
                  <a:pt x="829" y="1474"/>
                </a:lnTo>
                <a:lnTo>
                  <a:pt x="829" y="1481"/>
                </a:lnTo>
                <a:lnTo>
                  <a:pt x="829" y="1495"/>
                </a:lnTo>
                <a:lnTo>
                  <a:pt x="836" y="1502"/>
                </a:lnTo>
                <a:lnTo>
                  <a:pt x="836" y="1516"/>
                </a:lnTo>
                <a:lnTo>
                  <a:pt x="836" y="1523"/>
                </a:lnTo>
                <a:lnTo>
                  <a:pt x="836" y="1537"/>
                </a:lnTo>
                <a:lnTo>
                  <a:pt x="843" y="1544"/>
                </a:lnTo>
                <a:lnTo>
                  <a:pt x="843" y="1559"/>
                </a:lnTo>
                <a:lnTo>
                  <a:pt x="843" y="1573"/>
                </a:lnTo>
                <a:lnTo>
                  <a:pt x="850" y="1587"/>
                </a:lnTo>
                <a:lnTo>
                  <a:pt x="850" y="1594"/>
                </a:lnTo>
                <a:lnTo>
                  <a:pt x="850" y="1608"/>
                </a:lnTo>
                <a:lnTo>
                  <a:pt x="857" y="1594"/>
                </a:lnTo>
                <a:lnTo>
                  <a:pt x="857" y="1580"/>
                </a:lnTo>
                <a:lnTo>
                  <a:pt x="857" y="1573"/>
                </a:lnTo>
                <a:lnTo>
                  <a:pt x="864" y="1559"/>
                </a:lnTo>
                <a:lnTo>
                  <a:pt x="864" y="1544"/>
                </a:lnTo>
                <a:lnTo>
                  <a:pt x="864" y="1530"/>
                </a:lnTo>
                <a:lnTo>
                  <a:pt x="871" y="1516"/>
                </a:lnTo>
                <a:lnTo>
                  <a:pt x="871" y="1502"/>
                </a:lnTo>
                <a:lnTo>
                  <a:pt x="871" y="1488"/>
                </a:lnTo>
                <a:lnTo>
                  <a:pt x="878" y="1474"/>
                </a:lnTo>
                <a:lnTo>
                  <a:pt x="878" y="1459"/>
                </a:lnTo>
                <a:lnTo>
                  <a:pt x="878" y="1445"/>
                </a:lnTo>
                <a:lnTo>
                  <a:pt x="878" y="1431"/>
                </a:lnTo>
                <a:lnTo>
                  <a:pt x="885" y="1417"/>
                </a:lnTo>
                <a:lnTo>
                  <a:pt x="885" y="1403"/>
                </a:lnTo>
                <a:lnTo>
                  <a:pt x="885" y="1382"/>
                </a:lnTo>
                <a:lnTo>
                  <a:pt x="893" y="1367"/>
                </a:lnTo>
                <a:lnTo>
                  <a:pt x="893" y="1353"/>
                </a:lnTo>
                <a:lnTo>
                  <a:pt x="893" y="1339"/>
                </a:lnTo>
                <a:lnTo>
                  <a:pt x="900" y="1325"/>
                </a:lnTo>
                <a:lnTo>
                  <a:pt x="900" y="1304"/>
                </a:lnTo>
                <a:lnTo>
                  <a:pt x="900" y="1289"/>
                </a:lnTo>
                <a:lnTo>
                  <a:pt x="907" y="1275"/>
                </a:lnTo>
                <a:lnTo>
                  <a:pt x="907" y="1261"/>
                </a:lnTo>
                <a:lnTo>
                  <a:pt x="907" y="1240"/>
                </a:lnTo>
                <a:lnTo>
                  <a:pt x="914" y="1226"/>
                </a:lnTo>
                <a:lnTo>
                  <a:pt x="914" y="1211"/>
                </a:lnTo>
                <a:lnTo>
                  <a:pt x="914" y="1190"/>
                </a:lnTo>
                <a:lnTo>
                  <a:pt x="914" y="1176"/>
                </a:lnTo>
                <a:lnTo>
                  <a:pt x="921" y="1162"/>
                </a:lnTo>
                <a:lnTo>
                  <a:pt x="921" y="1141"/>
                </a:lnTo>
                <a:lnTo>
                  <a:pt x="921" y="1126"/>
                </a:lnTo>
                <a:lnTo>
                  <a:pt x="928" y="1105"/>
                </a:lnTo>
                <a:lnTo>
                  <a:pt x="928" y="1091"/>
                </a:lnTo>
                <a:lnTo>
                  <a:pt x="928" y="1077"/>
                </a:lnTo>
                <a:lnTo>
                  <a:pt x="935" y="1056"/>
                </a:lnTo>
                <a:lnTo>
                  <a:pt x="935" y="1041"/>
                </a:lnTo>
                <a:lnTo>
                  <a:pt x="935" y="1020"/>
                </a:lnTo>
                <a:lnTo>
                  <a:pt x="942" y="1006"/>
                </a:lnTo>
                <a:lnTo>
                  <a:pt x="942" y="992"/>
                </a:lnTo>
                <a:lnTo>
                  <a:pt x="942" y="971"/>
                </a:lnTo>
                <a:lnTo>
                  <a:pt x="949" y="956"/>
                </a:lnTo>
                <a:lnTo>
                  <a:pt x="949" y="935"/>
                </a:lnTo>
                <a:lnTo>
                  <a:pt x="949" y="921"/>
                </a:lnTo>
                <a:lnTo>
                  <a:pt x="949" y="900"/>
                </a:lnTo>
                <a:lnTo>
                  <a:pt x="956" y="886"/>
                </a:lnTo>
                <a:lnTo>
                  <a:pt x="956" y="871"/>
                </a:lnTo>
                <a:lnTo>
                  <a:pt x="956" y="850"/>
                </a:lnTo>
                <a:lnTo>
                  <a:pt x="963" y="836"/>
                </a:lnTo>
                <a:lnTo>
                  <a:pt x="963" y="815"/>
                </a:lnTo>
                <a:lnTo>
                  <a:pt x="963" y="800"/>
                </a:lnTo>
                <a:lnTo>
                  <a:pt x="971" y="786"/>
                </a:lnTo>
                <a:lnTo>
                  <a:pt x="971" y="765"/>
                </a:lnTo>
                <a:lnTo>
                  <a:pt x="971" y="751"/>
                </a:lnTo>
                <a:lnTo>
                  <a:pt x="978" y="730"/>
                </a:lnTo>
                <a:lnTo>
                  <a:pt x="978" y="715"/>
                </a:lnTo>
                <a:lnTo>
                  <a:pt x="978" y="701"/>
                </a:lnTo>
                <a:lnTo>
                  <a:pt x="985" y="680"/>
                </a:lnTo>
                <a:lnTo>
                  <a:pt x="985" y="666"/>
                </a:lnTo>
                <a:lnTo>
                  <a:pt x="985" y="652"/>
                </a:lnTo>
                <a:lnTo>
                  <a:pt x="985" y="630"/>
                </a:lnTo>
                <a:lnTo>
                  <a:pt x="992" y="616"/>
                </a:lnTo>
                <a:lnTo>
                  <a:pt x="992" y="602"/>
                </a:lnTo>
                <a:lnTo>
                  <a:pt x="992" y="581"/>
                </a:lnTo>
                <a:lnTo>
                  <a:pt x="999" y="567"/>
                </a:lnTo>
                <a:lnTo>
                  <a:pt x="999" y="552"/>
                </a:lnTo>
                <a:lnTo>
                  <a:pt x="999" y="538"/>
                </a:lnTo>
                <a:lnTo>
                  <a:pt x="1006" y="524"/>
                </a:lnTo>
                <a:lnTo>
                  <a:pt x="1006" y="503"/>
                </a:lnTo>
                <a:lnTo>
                  <a:pt x="1006" y="489"/>
                </a:lnTo>
                <a:lnTo>
                  <a:pt x="1013" y="475"/>
                </a:lnTo>
                <a:lnTo>
                  <a:pt x="1013" y="460"/>
                </a:lnTo>
                <a:lnTo>
                  <a:pt x="1013" y="446"/>
                </a:lnTo>
                <a:lnTo>
                  <a:pt x="1020" y="432"/>
                </a:lnTo>
                <a:lnTo>
                  <a:pt x="1020" y="418"/>
                </a:lnTo>
                <a:lnTo>
                  <a:pt x="1020" y="404"/>
                </a:lnTo>
                <a:lnTo>
                  <a:pt x="1027" y="390"/>
                </a:lnTo>
                <a:lnTo>
                  <a:pt x="1027" y="375"/>
                </a:lnTo>
                <a:lnTo>
                  <a:pt x="1027" y="361"/>
                </a:lnTo>
                <a:lnTo>
                  <a:pt x="1027" y="347"/>
                </a:lnTo>
                <a:lnTo>
                  <a:pt x="1034" y="333"/>
                </a:lnTo>
                <a:lnTo>
                  <a:pt x="1034" y="319"/>
                </a:lnTo>
                <a:lnTo>
                  <a:pt x="1034" y="304"/>
                </a:lnTo>
                <a:lnTo>
                  <a:pt x="1041" y="297"/>
                </a:lnTo>
                <a:lnTo>
                  <a:pt x="1041" y="283"/>
                </a:lnTo>
                <a:lnTo>
                  <a:pt x="1041" y="269"/>
                </a:lnTo>
                <a:lnTo>
                  <a:pt x="1048" y="255"/>
                </a:lnTo>
                <a:lnTo>
                  <a:pt x="1048" y="248"/>
                </a:lnTo>
                <a:lnTo>
                  <a:pt x="1048" y="234"/>
                </a:lnTo>
                <a:lnTo>
                  <a:pt x="1056" y="227"/>
                </a:lnTo>
                <a:lnTo>
                  <a:pt x="1056" y="212"/>
                </a:lnTo>
                <a:lnTo>
                  <a:pt x="1056" y="198"/>
                </a:lnTo>
                <a:lnTo>
                  <a:pt x="1063" y="191"/>
                </a:lnTo>
                <a:lnTo>
                  <a:pt x="1063" y="177"/>
                </a:lnTo>
                <a:lnTo>
                  <a:pt x="1063" y="170"/>
                </a:lnTo>
                <a:lnTo>
                  <a:pt x="1063" y="163"/>
                </a:lnTo>
                <a:lnTo>
                  <a:pt x="1070" y="149"/>
                </a:lnTo>
                <a:lnTo>
                  <a:pt x="1070" y="142"/>
                </a:lnTo>
                <a:lnTo>
                  <a:pt x="1070" y="134"/>
                </a:lnTo>
                <a:lnTo>
                  <a:pt x="1077" y="120"/>
                </a:lnTo>
                <a:lnTo>
                  <a:pt x="1077" y="113"/>
                </a:lnTo>
                <a:lnTo>
                  <a:pt x="1077" y="106"/>
                </a:lnTo>
                <a:lnTo>
                  <a:pt x="1084" y="99"/>
                </a:lnTo>
                <a:lnTo>
                  <a:pt x="1084" y="92"/>
                </a:lnTo>
                <a:lnTo>
                  <a:pt x="1084" y="85"/>
                </a:lnTo>
                <a:lnTo>
                  <a:pt x="1091" y="78"/>
                </a:lnTo>
                <a:lnTo>
                  <a:pt x="1091" y="71"/>
                </a:lnTo>
                <a:lnTo>
                  <a:pt x="1091" y="64"/>
                </a:lnTo>
                <a:lnTo>
                  <a:pt x="1098" y="56"/>
                </a:lnTo>
                <a:lnTo>
                  <a:pt x="1098" y="49"/>
                </a:lnTo>
                <a:lnTo>
                  <a:pt x="1098" y="42"/>
                </a:lnTo>
                <a:lnTo>
                  <a:pt x="1105" y="35"/>
                </a:lnTo>
                <a:lnTo>
                  <a:pt x="1105" y="28"/>
                </a:lnTo>
                <a:lnTo>
                  <a:pt x="1112" y="21"/>
                </a:lnTo>
                <a:lnTo>
                  <a:pt x="1119" y="14"/>
                </a:lnTo>
                <a:lnTo>
                  <a:pt x="1126" y="7"/>
                </a:lnTo>
                <a:lnTo>
                  <a:pt x="1134" y="0"/>
                </a:lnTo>
                <a:lnTo>
                  <a:pt x="1141" y="0"/>
                </a:lnTo>
                <a:lnTo>
                  <a:pt x="1148" y="7"/>
                </a:lnTo>
                <a:lnTo>
                  <a:pt x="1155" y="14"/>
                </a:lnTo>
                <a:lnTo>
                  <a:pt x="1162" y="21"/>
                </a:lnTo>
                <a:lnTo>
                  <a:pt x="1169" y="28"/>
                </a:lnTo>
                <a:lnTo>
                  <a:pt x="1169" y="35"/>
                </a:lnTo>
                <a:lnTo>
                  <a:pt x="1176" y="42"/>
                </a:lnTo>
                <a:lnTo>
                  <a:pt x="1176" y="49"/>
                </a:lnTo>
                <a:lnTo>
                  <a:pt x="1176" y="56"/>
                </a:lnTo>
                <a:lnTo>
                  <a:pt x="1183" y="64"/>
                </a:lnTo>
                <a:lnTo>
                  <a:pt x="1183" y="71"/>
                </a:lnTo>
                <a:lnTo>
                  <a:pt x="1183" y="78"/>
                </a:lnTo>
                <a:lnTo>
                  <a:pt x="1190" y="85"/>
                </a:lnTo>
                <a:lnTo>
                  <a:pt x="1190" y="92"/>
                </a:lnTo>
                <a:lnTo>
                  <a:pt x="1190" y="99"/>
                </a:lnTo>
                <a:lnTo>
                  <a:pt x="1197" y="106"/>
                </a:lnTo>
                <a:lnTo>
                  <a:pt x="1197" y="113"/>
                </a:lnTo>
                <a:lnTo>
                  <a:pt x="1197" y="120"/>
                </a:lnTo>
                <a:lnTo>
                  <a:pt x="1204" y="134"/>
                </a:lnTo>
                <a:lnTo>
                  <a:pt x="1204" y="142"/>
                </a:lnTo>
                <a:lnTo>
                  <a:pt x="1204" y="149"/>
                </a:lnTo>
                <a:lnTo>
                  <a:pt x="1211" y="163"/>
                </a:lnTo>
                <a:lnTo>
                  <a:pt x="1211" y="170"/>
                </a:lnTo>
                <a:lnTo>
                  <a:pt x="1211" y="177"/>
                </a:lnTo>
                <a:lnTo>
                  <a:pt x="1211" y="191"/>
                </a:lnTo>
                <a:lnTo>
                  <a:pt x="1219" y="198"/>
                </a:lnTo>
                <a:lnTo>
                  <a:pt x="1219" y="212"/>
                </a:lnTo>
                <a:lnTo>
                  <a:pt x="1219" y="227"/>
                </a:lnTo>
                <a:lnTo>
                  <a:pt x="1226" y="234"/>
                </a:lnTo>
                <a:lnTo>
                  <a:pt x="1226" y="248"/>
                </a:lnTo>
                <a:lnTo>
                  <a:pt x="1226" y="255"/>
                </a:lnTo>
                <a:lnTo>
                  <a:pt x="1233" y="269"/>
                </a:lnTo>
                <a:lnTo>
                  <a:pt x="1233" y="283"/>
                </a:lnTo>
                <a:lnTo>
                  <a:pt x="1233" y="297"/>
                </a:lnTo>
                <a:lnTo>
                  <a:pt x="1240" y="304"/>
                </a:lnTo>
                <a:lnTo>
                  <a:pt x="1240" y="319"/>
                </a:lnTo>
                <a:lnTo>
                  <a:pt x="1240" y="333"/>
                </a:lnTo>
                <a:lnTo>
                  <a:pt x="1247" y="347"/>
                </a:lnTo>
                <a:lnTo>
                  <a:pt x="1247" y="361"/>
                </a:lnTo>
                <a:lnTo>
                  <a:pt x="1247" y="375"/>
                </a:lnTo>
                <a:lnTo>
                  <a:pt x="1247" y="390"/>
                </a:lnTo>
                <a:lnTo>
                  <a:pt x="1254" y="404"/>
                </a:lnTo>
                <a:lnTo>
                  <a:pt x="1254" y="418"/>
                </a:lnTo>
                <a:lnTo>
                  <a:pt x="1254" y="432"/>
                </a:lnTo>
                <a:lnTo>
                  <a:pt x="1261" y="446"/>
                </a:lnTo>
                <a:lnTo>
                  <a:pt x="1261" y="460"/>
                </a:lnTo>
                <a:lnTo>
                  <a:pt x="1261" y="475"/>
                </a:lnTo>
                <a:lnTo>
                  <a:pt x="1268" y="489"/>
                </a:lnTo>
                <a:lnTo>
                  <a:pt x="1268" y="503"/>
                </a:lnTo>
                <a:lnTo>
                  <a:pt x="1268" y="524"/>
                </a:lnTo>
                <a:lnTo>
                  <a:pt x="1275" y="538"/>
                </a:lnTo>
                <a:lnTo>
                  <a:pt x="1275" y="552"/>
                </a:lnTo>
                <a:lnTo>
                  <a:pt x="1275" y="567"/>
                </a:lnTo>
                <a:lnTo>
                  <a:pt x="1282" y="581"/>
                </a:lnTo>
                <a:lnTo>
                  <a:pt x="1282" y="602"/>
                </a:lnTo>
                <a:lnTo>
                  <a:pt x="1282" y="616"/>
                </a:lnTo>
                <a:lnTo>
                  <a:pt x="1289" y="630"/>
                </a:lnTo>
                <a:lnTo>
                  <a:pt x="1289" y="652"/>
                </a:lnTo>
                <a:lnTo>
                  <a:pt x="1289" y="666"/>
                </a:lnTo>
                <a:lnTo>
                  <a:pt x="1289" y="680"/>
                </a:lnTo>
                <a:lnTo>
                  <a:pt x="1297" y="701"/>
                </a:lnTo>
                <a:lnTo>
                  <a:pt x="1297" y="715"/>
                </a:lnTo>
                <a:lnTo>
                  <a:pt x="1297" y="730"/>
                </a:lnTo>
                <a:lnTo>
                  <a:pt x="1304" y="751"/>
                </a:lnTo>
                <a:lnTo>
                  <a:pt x="1304" y="765"/>
                </a:lnTo>
                <a:lnTo>
                  <a:pt x="1304" y="786"/>
                </a:lnTo>
                <a:lnTo>
                  <a:pt x="1311" y="800"/>
                </a:lnTo>
                <a:lnTo>
                  <a:pt x="1311" y="815"/>
                </a:lnTo>
                <a:lnTo>
                  <a:pt x="1311" y="836"/>
                </a:lnTo>
                <a:lnTo>
                  <a:pt x="1318" y="850"/>
                </a:lnTo>
                <a:lnTo>
                  <a:pt x="1318" y="871"/>
                </a:lnTo>
                <a:lnTo>
                  <a:pt x="1318" y="886"/>
                </a:lnTo>
                <a:lnTo>
                  <a:pt x="1325" y="900"/>
                </a:lnTo>
                <a:lnTo>
                  <a:pt x="1325" y="921"/>
                </a:lnTo>
                <a:lnTo>
                  <a:pt x="1325" y="935"/>
                </a:lnTo>
                <a:lnTo>
                  <a:pt x="1325" y="956"/>
                </a:lnTo>
                <a:lnTo>
                  <a:pt x="1332" y="971"/>
                </a:lnTo>
                <a:lnTo>
                  <a:pt x="1332" y="992"/>
                </a:lnTo>
                <a:lnTo>
                  <a:pt x="1332" y="1006"/>
                </a:lnTo>
                <a:lnTo>
                  <a:pt x="1339" y="1020"/>
                </a:lnTo>
                <a:lnTo>
                  <a:pt x="1339" y="1041"/>
                </a:lnTo>
                <a:lnTo>
                  <a:pt x="1339" y="1056"/>
                </a:lnTo>
                <a:lnTo>
                  <a:pt x="1346" y="1077"/>
                </a:lnTo>
                <a:lnTo>
                  <a:pt x="1346" y="1091"/>
                </a:lnTo>
                <a:lnTo>
                  <a:pt x="1346" y="1105"/>
                </a:lnTo>
                <a:lnTo>
                  <a:pt x="1353" y="1126"/>
                </a:lnTo>
                <a:lnTo>
                  <a:pt x="1353" y="1141"/>
                </a:lnTo>
                <a:lnTo>
                  <a:pt x="1353" y="1162"/>
                </a:lnTo>
                <a:lnTo>
                  <a:pt x="1360" y="1176"/>
                </a:lnTo>
                <a:lnTo>
                  <a:pt x="1360" y="1190"/>
                </a:lnTo>
                <a:lnTo>
                  <a:pt x="1360" y="1211"/>
                </a:lnTo>
                <a:lnTo>
                  <a:pt x="1360" y="1226"/>
                </a:lnTo>
                <a:lnTo>
                  <a:pt x="1367" y="1240"/>
                </a:lnTo>
                <a:lnTo>
                  <a:pt x="1367" y="1261"/>
                </a:lnTo>
                <a:lnTo>
                  <a:pt x="1367" y="1275"/>
                </a:lnTo>
                <a:lnTo>
                  <a:pt x="1374" y="1289"/>
                </a:lnTo>
                <a:lnTo>
                  <a:pt x="1374" y="1304"/>
                </a:lnTo>
                <a:lnTo>
                  <a:pt x="1374" y="1325"/>
                </a:lnTo>
                <a:lnTo>
                  <a:pt x="1382" y="1339"/>
                </a:lnTo>
                <a:lnTo>
                  <a:pt x="1382" y="1353"/>
                </a:lnTo>
                <a:lnTo>
                  <a:pt x="1382" y="1367"/>
                </a:lnTo>
                <a:lnTo>
                  <a:pt x="1389" y="1382"/>
                </a:lnTo>
                <a:lnTo>
                  <a:pt x="1389" y="1403"/>
                </a:lnTo>
                <a:lnTo>
                  <a:pt x="1389" y="1417"/>
                </a:lnTo>
                <a:lnTo>
                  <a:pt x="1396" y="1431"/>
                </a:lnTo>
                <a:lnTo>
                  <a:pt x="1396" y="1445"/>
                </a:lnTo>
                <a:lnTo>
                  <a:pt x="1396" y="1459"/>
                </a:lnTo>
                <a:lnTo>
                  <a:pt x="1396" y="1474"/>
                </a:lnTo>
                <a:lnTo>
                  <a:pt x="1403" y="1488"/>
                </a:lnTo>
                <a:lnTo>
                  <a:pt x="1403" y="1502"/>
                </a:lnTo>
                <a:lnTo>
                  <a:pt x="1403" y="1516"/>
                </a:lnTo>
                <a:lnTo>
                  <a:pt x="1410" y="1530"/>
                </a:lnTo>
                <a:lnTo>
                  <a:pt x="1410" y="1544"/>
                </a:lnTo>
                <a:lnTo>
                  <a:pt x="1410" y="1559"/>
                </a:lnTo>
                <a:lnTo>
                  <a:pt x="1417" y="1573"/>
                </a:lnTo>
                <a:lnTo>
                  <a:pt x="1417" y="1580"/>
                </a:lnTo>
                <a:lnTo>
                  <a:pt x="1417" y="1594"/>
                </a:lnTo>
                <a:lnTo>
                  <a:pt x="1424" y="1608"/>
                </a:lnTo>
                <a:lnTo>
                  <a:pt x="1424" y="1594"/>
                </a:lnTo>
                <a:lnTo>
                  <a:pt x="1424" y="1587"/>
                </a:lnTo>
                <a:lnTo>
                  <a:pt x="1431" y="1573"/>
                </a:lnTo>
                <a:lnTo>
                  <a:pt x="1431" y="1559"/>
                </a:lnTo>
                <a:lnTo>
                  <a:pt x="1431" y="1544"/>
                </a:lnTo>
                <a:lnTo>
                  <a:pt x="1438" y="1537"/>
                </a:lnTo>
                <a:lnTo>
                  <a:pt x="1438" y="1523"/>
                </a:lnTo>
                <a:lnTo>
                  <a:pt x="1438" y="1516"/>
                </a:lnTo>
                <a:lnTo>
                  <a:pt x="1438" y="1502"/>
                </a:lnTo>
                <a:lnTo>
                  <a:pt x="1445" y="1495"/>
                </a:lnTo>
                <a:lnTo>
                  <a:pt x="1445" y="1481"/>
                </a:lnTo>
                <a:lnTo>
                  <a:pt x="1445" y="1474"/>
                </a:lnTo>
                <a:lnTo>
                  <a:pt x="1452" y="1459"/>
                </a:lnTo>
                <a:lnTo>
                  <a:pt x="1452" y="1452"/>
                </a:lnTo>
                <a:lnTo>
                  <a:pt x="1452" y="1445"/>
                </a:lnTo>
                <a:lnTo>
                  <a:pt x="1460" y="1431"/>
                </a:lnTo>
                <a:lnTo>
                  <a:pt x="1460" y="1424"/>
                </a:lnTo>
                <a:lnTo>
                  <a:pt x="1460" y="1417"/>
                </a:lnTo>
                <a:lnTo>
                  <a:pt x="1467" y="1410"/>
                </a:lnTo>
                <a:lnTo>
                  <a:pt x="1467" y="1403"/>
                </a:lnTo>
                <a:lnTo>
                  <a:pt x="1467" y="1389"/>
                </a:lnTo>
                <a:lnTo>
                  <a:pt x="1474" y="1382"/>
                </a:lnTo>
                <a:lnTo>
                  <a:pt x="1474" y="1374"/>
                </a:lnTo>
                <a:lnTo>
                  <a:pt x="1474" y="1367"/>
                </a:lnTo>
                <a:lnTo>
                  <a:pt x="1474" y="1360"/>
                </a:lnTo>
                <a:lnTo>
                  <a:pt x="1481" y="1353"/>
                </a:lnTo>
                <a:lnTo>
                  <a:pt x="1481" y="1346"/>
                </a:lnTo>
                <a:lnTo>
                  <a:pt x="1488" y="1339"/>
                </a:lnTo>
                <a:lnTo>
                  <a:pt x="1488" y="1332"/>
                </a:lnTo>
                <a:lnTo>
                  <a:pt x="1488" y="1325"/>
                </a:lnTo>
                <a:lnTo>
                  <a:pt x="1495" y="1318"/>
                </a:lnTo>
                <a:lnTo>
                  <a:pt x="1495" y="1311"/>
                </a:lnTo>
                <a:lnTo>
                  <a:pt x="1502" y="1304"/>
                </a:lnTo>
                <a:lnTo>
                  <a:pt x="1502" y="1296"/>
                </a:lnTo>
                <a:lnTo>
                  <a:pt x="1509" y="1289"/>
                </a:lnTo>
                <a:lnTo>
                  <a:pt x="1509" y="1282"/>
                </a:lnTo>
                <a:lnTo>
                  <a:pt x="1516" y="1275"/>
                </a:lnTo>
                <a:lnTo>
                  <a:pt x="1523" y="1268"/>
                </a:lnTo>
                <a:lnTo>
                  <a:pt x="1530" y="1261"/>
                </a:lnTo>
                <a:lnTo>
                  <a:pt x="1537" y="1261"/>
                </a:lnTo>
                <a:lnTo>
                  <a:pt x="1545" y="1261"/>
                </a:lnTo>
                <a:lnTo>
                  <a:pt x="1552" y="1261"/>
                </a:lnTo>
                <a:lnTo>
                  <a:pt x="1559" y="1268"/>
                </a:lnTo>
                <a:lnTo>
                  <a:pt x="1566" y="1268"/>
                </a:lnTo>
                <a:lnTo>
                  <a:pt x="1573" y="1275"/>
                </a:lnTo>
                <a:lnTo>
                  <a:pt x="1580" y="1282"/>
                </a:lnTo>
                <a:lnTo>
                  <a:pt x="1587" y="1289"/>
                </a:lnTo>
                <a:lnTo>
                  <a:pt x="1587" y="1296"/>
                </a:lnTo>
                <a:lnTo>
                  <a:pt x="1594" y="1304"/>
                </a:lnTo>
                <a:lnTo>
                  <a:pt x="1594" y="1311"/>
                </a:lnTo>
                <a:lnTo>
                  <a:pt x="1601" y="1318"/>
                </a:lnTo>
                <a:lnTo>
                  <a:pt x="1601" y="1325"/>
                </a:lnTo>
                <a:lnTo>
                  <a:pt x="1608" y="1332"/>
                </a:lnTo>
                <a:lnTo>
                  <a:pt x="1608" y="1339"/>
                </a:lnTo>
                <a:lnTo>
                  <a:pt x="1615" y="1346"/>
                </a:lnTo>
                <a:lnTo>
                  <a:pt x="1615" y="1353"/>
                </a:lnTo>
                <a:lnTo>
                  <a:pt x="1622" y="1360"/>
                </a:lnTo>
                <a:lnTo>
                  <a:pt x="1622" y="1367"/>
                </a:lnTo>
                <a:lnTo>
                  <a:pt x="1622" y="1374"/>
                </a:lnTo>
                <a:lnTo>
                  <a:pt x="1630" y="1382"/>
                </a:lnTo>
                <a:lnTo>
                  <a:pt x="1630" y="1389"/>
                </a:lnTo>
                <a:lnTo>
                  <a:pt x="1630" y="1396"/>
                </a:lnTo>
                <a:lnTo>
                  <a:pt x="1637" y="1403"/>
                </a:lnTo>
                <a:lnTo>
                  <a:pt x="1637" y="1410"/>
                </a:lnTo>
                <a:lnTo>
                  <a:pt x="1644" y="1417"/>
                </a:lnTo>
                <a:lnTo>
                  <a:pt x="1644" y="1424"/>
                </a:lnTo>
                <a:lnTo>
                  <a:pt x="1644" y="1431"/>
                </a:lnTo>
                <a:lnTo>
                  <a:pt x="1651" y="1438"/>
                </a:lnTo>
                <a:lnTo>
                  <a:pt x="1651" y="1445"/>
                </a:lnTo>
                <a:lnTo>
                  <a:pt x="1651" y="1452"/>
                </a:lnTo>
                <a:lnTo>
                  <a:pt x="1658" y="1459"/>
                </a:lnTo>
                <a:lnTo>
                  <a:pt x="1658" y="1467"/>
                </a:lnTo>
                <a:lnTo>
                  <a:pt x="1658" y="1474"/>
                </a:lnTo>
                <a:lnTo>
                  <a:pt x="1665" y="1481"/>
                </a:lnTo>
                <a:lnTo>
                  <a:pt x="1665" y="1488"/>
                </a:lnTo>
                <a:lnTo>
                  <a:pt x="1665" y="1495"/>
                </a:lnTo>
                <a:lnTo>
                  <a:pt x="1672" y="1502"/>
                </a:lnTo>
                <a:lnTo>
                  <a:pt x="1672" y="1509"/>
                </a:lnTo>
                <a:lnTo>
                  <a:pt x="1672" y="1516"/>
                </a:lnTo>
                <a:lnTo>
                  <a:pt x="1679" y="1523"/>
                </a:lnTo>
                <a:lnTo>
                  <a:pt x="1679" y="1530"/>
                </a:lnTo>
                <a:lnTo>
                  <a:pt x="1679" y="1537"/>
                </a:lnTo>
                <a:lnTo>
                  <a:pt x="1686" y="1544"/>
                </a:lnTo>
                <a:lnTo>
                  <a:pt x="1686" y="1552"/>
                </a:lnTo>
                <a:lnTo>
                  <a:pt x="1686" y="1559"/>
                </a:lnTo>
                <a:lnTo>
                  <a:pt x="1693" y="1566"/>
                </a:lnTo>
                <a:lnTo>
                  <a:pt x="1693" y="1573"/>
                </a:lnTo>
                <a:lnTo>
                  <a:pt x="1693" y="1580"/>
                </a:lnTo>
                <a:lnTo>
                  <a:pt x="1700" y="1587"/>
                </a:lnTo>
                <a:lnTo>
                  <a:pt x="1700" y="1594"/>
                </a:lnTo>
                <a:lnTo>
                  <a:pt x="1700" y="1601"/>
                </a:lnTo>
                <a:lnTo>
                  <a:pt x="1708" y="1608"/>
                </a:lnTo>
                <a:lnTo>
                  <a:pt x="1708" y="1601"/>
                </a:lnTo>
                <a:lnTo>
                  <a:pt x="1708" y="1594"/>
                </a:lnTo>
                <a:lnTo>
                  <a:pt x="1715" y="1587"/>
                </a:lnTo>
                <a:lnTo>
                  <a:pt x="1715" y="1580"/>
                </a:lnTo>
                <a:lnTo>
                  <a:pt x="1722" y="1573"/>
                </a:lnTo>
                <a:lnTo>
                  <a:pt x="1722" y="1566"/>
                </a:lnTo>
                <a:lnTo>
                  <a:pt x="1722" y="1559"/>
                </a:lnTo>
                <a:lnTo>
                  <a:pt x="1729" y="1552"/>
                </a:lnTo>
                <a:lnTo>
                  <a:pt x="1729" y="1544"/>
                </a:lnTo>
                <a:lnTo>
                  <a:pt x="1736" y="1537"/>
                </a:lnTo>
                <a:lnTo>
                  <a:pt x="1736" y="1530"/>
                </a:lnTo>
                <a:lnTo>
                  <a:pt x="1736" y="1523"/>
                </a:lnTo>
                <a:lnTo>
                  <a:pt x="1743" y="1516"/>
                </a:lnTo>
                <a:lnTo>
                  <a:pt x="1743" y="1509"/>
                </a:lnTo>
                <a:lnTo>
                  <a:pt x="1750" y="1502"/>
                </a:lnTo>
                <a:lnTo>
                  <a:pt x="1750" y="1495"/>
                </a:lnTo>
                <a:lnTo>
                  <a:pt x="1757" y="1488"/>
                </a:lnTo>
                <a:lnTo>
                  <a:pt x="1757" y="1481"/>
                </a:lnTo>
                <a:lnTo>
                  <a:pt x="1764" y="1474"/>
                </a:lnTo>
                <a:lnTo>
                  <a:pt x="1764" y="1467"/>
                </a:lnTo>
                <a:lnTo>
                  <a:pt x="1771" y="1459"/>
                </a:lnTo>
                <a:lnTo>
                  <a:pt x="1771" y="1452"/>
                </a:lnTo>
                <a:lnTo>
                  <a:pt x="1778" y="1445"/>
                </a:lnTo>
                <a:lnTo>
                  <a:pt x="1785" y="1438"/>
                </a:lnTo>
                <a:lnTo>
                  <a:pt x="1793" y="1431"/>
                </a:lnTo>
                <a:lnTo>
                  <a:pt x="1800" y="1424"/>
                </a:lnTo>
                <a:lnTo>
                  <a:pt x="1807" y="1417"/>
                </a:lnTo>
                <a:lnTo>
                  <a:pt x="1814" y="1410"/>
                </a:lnTo>
                <a:lnTo>
                  <a:pt x="1821" y="1403"/>
                </a:lnTo>
                <a:lnTo>
                  <a:pt x="1828" y="1403"/>
                </a:lnTo>
                <a:lnTo>
                  <a:pt x="1835" y="1403"/>
                </a:lnTo>
                <a:lnTo>
                  <a:pt x="1842" y="1403"/>
                </a:lnTo>
                <a:lnTo>
                  <a:pt x="1849" y="1403"/>
                </a:lnTo>
                <a:lnTo>
                  <a:pt x="1856" y="1410"/>
                </a:lnTo>
                <a:lnTo>
                  <a:pt x="1863" y="1410"/>
                </a:lnTo>
                <a:lnTo>
                  <a:pt x="1871" y="1417"/>
                </a:lnTo>
                <a:lnTo>
                  <a:pt x="1878" y="1424"/>
                </a:lnTo>
                <a:lnTo>
                  <a:pt x="1885" y="1431"/>
                </a:lnTo>
                <a:lnTo>
                  <a:pt x="1892" y="1438"/>
                </a:lnTo>
                <a:lnTo>
                  <a:pt x="1899" y="1445"/>
                </a:lnTo>
                <a:lnTo>
                  <a:pt x="1906" y="1452"/>
                </a:lnTo>
                <a:lnTo>
                  <a:pt x="1913" y="1459"/>
                </a:lnTo>
                <a:lnTo>
                  <a:pt x="1913" y="1467"/>
                </a:lnTo>
                <a:lnTo>
                  <a:pt x="1920" y="1474"/>
                </a:lnTo>
                <a:lnTo>
                  <a:pt x="1920" y="1481"/>
                </a:lnTo>
                <a:lnTo>
                  <a:pt x="1927" y="1488"/>
                </a:lnTo>
                <a:lnTo>
                  <a:pt x="1927" y="1495"/>
                </a:lnTo>
                <a:lnTo>
                  <a:pt x="1934" y="1502"/>
                </a:lnTo>
                <a:lnTo>
                  <a:pt x="1941" y="1509"/>
                </a:lnTo>
                <a:lnTo>
                  <a:pt x="1941" y="1516"/>
                </a:lnTo>
                <a:lnTo>
                  <a:pt x="1948" y="1523"/>
                </a:lnTo>
                <a:lnTo>
                  <a:pt x="1948" y="1530"/>
                </a:lnTo>
                <a:lnTo>
                  <a:pt x="1956" y="1537"/>
                </a:lnTo>
                <a:lnTo>
                  <a:pt x="1956" y="1544"/>
                </a:lnTo>
                <a:lnTo>
                  <a:pt x="1963" y="1552"/>
                </a:lnTo>
                <a:lnTo>
                  <a:pt x="1963" y="1559"/>
                </a:lnTo>
                <a:lnTo>
                  <a:pt x="1970" y="1566"/>
                </a:lnTo>
                <a:lnTo>
                  <a:pt x="1970" y="1573"/>
                </a:lnTo>
                <a:lnTo>
                  <a:pt x="1977" y="1580"/>
                </a:lnTo>
                <a:lnTo>
                  <a:pt x="1977" y="1587"/>
                </a:lnTo>
                <a:lnTo>
                  <a:pt x="1984" y="1594"/>
                </a:lnTo>
                <a:lnTo>
                  <a:pt x="1991" y="1601"/>
                </a:lnTo>
                <a:lnTo>
                  <a:pt x="1991" y="1608"/>
                </a:lnTo>
                <a:lnTo>
                  <a:pt x="1998" y="1601"/>
                </a:lnTo>
                <a:lnTo>
                  <a:pt x="1998" y="1594"/>
                </a:lnTo>
                <a:lnTo>
                  <a:pt x="2005" y="1587"/>
                </a:lnTo>
                <a:lnTo>
                  <a:pt x="2005" y="1580"/>
                </a:lnTo>
                <a:lnTo>
                  <a:pt x="2012" y="1573"/>
                </a:lnTo>
                <a:lnTo>
                  <a:pt x="2012" y="1566"/>
                </a:lnTo>
                <a:lnTo>
                  <a:pt x="2019" y="1559"/>
                </a:lnTo>
                <a:lnTo>
                  <a:pt x="2026" y="1552"/>
                </a:lnTo>
                <a:lnTo>
                  <a:pt x="2026" y="1544"/>
                </a:lnTo>
                <a:lnTo>
                  <a:pt x="2034" y="1537"/>
                </a:lnTo>
                <a:lnTo>
                  <a:pt x="2034" y="1530"/>
                </a:lnTo>
                <a:lnTo>
                  <a:pt x="2041" y="1523"/>
                </a:lnTo>
                <a:lnTo>
                  <a:pt x="2048" y="1516"/>
                </a:lnTo>
                <a:lnTo>
                  <a:pt x="2055" y="1509"/>
                </a:lnTo>
                <a:lnTo>
                  <a:pt x="2062" y="1502"/>
                </a:lnTo>
                <a:lnTo>
                  <a:pt x="2069" y="1495"/>
                </a:lnTo>
                <a:lnTo>
                  <a:pt x="2069" y="1488"/>
                </a:lnTo>
                <a:lnTo>
                  <a:pt x="2076" y="1481"/>
                </a:lnTo>
                <a:lnTo>
                  <a:pt x="2083" y="1474"/>
                </a:lnTo>
                <a:lnTo>
                  <a:pt x="2090" y="1474"/>
                </a:lnTo>
                <a:lnTo>
                  <a:pt x="2097" y="1467"/>
                </a:lnTo>
                <a:lnTo>
                  <a:pt x="2104" y="1467"/>
                </a:lnTo>
                <a:lnTo>
                  <a:pt x="2111" y="1459"/>
                </a:lnTo>
                <a:lnTo>
                  <a:pt x="2119" y="1459"/>
                </a:lnTo>
                <a:lnTo>
                  <a:pt x="2126" y="1459"/>
                </a:lnTo>
                <a:lnTo>
                  <a:pt x="2133" y="1459"/>
                </a:lnTo>
                <a:lnTo>
                  <a:pt x="2140" y="1467"/>
                </a:lnTo>
                <a:lnTo>
                  <a:pt x="2147" y="1467"/>
                </a:lnTo>
                <a:lnTo>
                  <a:pt x="2154" y="1474"/>
                </a:lnTo>
                <a:lnTo>
                  <a:pt x="2161" y="1474"/>
                </a:lnTo>
                <a:lnTo>
                  <a:pt x="2168" y="1481"/>
                </a:lnTo>
                <a:lnTo>
                  <a:pt x="2175" y="1488"/>
                </a:lnTo>
                <a:lnTo>
                  <a:pt x="2182" y="1495"/>
                </a:lnTo>
                <a:lnTo>
                  <a:pt x="2189" y="1502"/>
                </a:lnTo>
                <a:lnTo>
                  <a:pt x="2197" y="1509"/>
                </a:lnTo>
                <a:lnTo>
                  <a:pt x="2204" y="1516"/>
                </a:lnTo>
                <a:lnTo>
                  <a:pt x="2211" y="1523"/>
                </a:lnTo>
                <a:lnTo>
                  <a:pt x="2218" y="1530"/>
                </a:lnTo>
                <a:lnTo>
                  <a:pt x="2225" y="1537"/>
                </a:lnTo>
                <a:lnTo>
                  <a:pt x="2232" y="1544"/>
                </a:lnTo>
                <a:lnTo>
                  <a:pt x="2239" y="1552"/>
                </a:lnTo>
                <a:lnTo>
                  <a:pt x="2239" y="1559"/>
                </a:lnTo>
                <a:lnTo>
                  <a:pt x="2246" y="1566"/>
                </a:lnTo>
                <a:lnTo>
                  <a:pt x="2253" y="1573"/>
                </a:lnTo>
                <a:lnTo>
                  <a:pt x="2253" y="1580"/>
                </a:lnTo>
                <a:lnTo>
                  <a:pt x="2260" y="1587"/>
                </a:lnTo>
                <a:lnTo>
                  <a:pt x="2267" y="1594"/>
                </a:lnTo>
                <a:lnTo>
                  <a:pt x="2267" y="1601"/>
                </a:lnTo>
                <a:lnTo>
                  <a:pt x="2274" y="1608"/>
                </a:lnTo>
              </a:path>
            </a:pathLst>
          </a:custGeom>
          <a:noFill/>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181480" y="2736720"/>
            <a:ext cx="381240" cy="2971800"/>
          </a:xfrm>
          <a:custGeom>
            <a:avLst/>
            <a:gdLst/>
            <a:ahLst/>
            <a:rect l="l" t="t" r="r" b="b"/>
            <a:pathLst>
              <a:path w="2274" h="1608">
                <a:moveTo>
                  <a:pt x="0" y="1608"/>
                </a:moveTo>
                <a:lnTo>
                  <a:pt x="7" y="1601"/>
                </a:lnTo>
                <a:lnTo>
                  <a:pt x="14" y="1594"/>
                </a:lnTo>
                <a:lnTo>
                  <a:pt x="14" y="1587"/>
                </a:lnTo>
                <a:lnTo>
                  <a:pt x="21" y="1580"/>
                </a:lnTo>
                <a:lnTo>
                  <a:pt x="28" y="1573"/>
                </a:lnTo>
                <a:lnTo>
                  <a:pt x="28" y="1566"/>
                </a:lnTo>
                <a:lnTo>
                  <a:pt x="35" y="1559"/>
                </a:lnTo>
                <a:lnTo>
                  <a:pt x="42" y="1552"/>
                </a:lnTo>
                <a:lnTo>
                  <a:pt x="49" y="1544"/>
                </a:lnTo>
                <a:lnTo>
                  <a:pt x="49" y="1537"/>
                </a:lnTo>
                <a:lnTo>
                  <a:pt x="56" y="1530"/>
                </a:lnTo>
                <a:lnTo>
                  <a:pt x="63" y="1523"/>
                </a:lnTo>
                <a:lnTo>
                  <a:pt x="71" y="1516"/>
                </a:lnTo>
                <a:lnTo>
                  <a:pt x="78" y="1509"/>
                </a:lnTo>
                <a:lnTo>
                  <a:pt x="85" y="1502"/>
                </a:lnTo>
                <a:lnTo>
                  <a:pt x="92" y="1495"/>
                </a:lnTo>
                <a:lnTo>
                  <a:pt x="99" y="1488"/>
                </a:lnTo>
                <a:lnTo>
                  <a:pt x="106" y="1481"/>
                </a:lnTo>
                <a:lnTo>
                  <a:pt x="113" y="1474"/>
                </a:lnTo>
                <a:lnTo>
                  <a:pt x="120" y="1467"/>
                </a:lnTo>
                <a:lnTo>
                  <a:pt x="127" y="1467"/>
                </a:lnTo>
                <a:lnTo>
                  <a:pt x="134" y="1459"/>
                </a:lnTo>
                <a:lnTo>
                  <a:pt x="141" y="1459"/>
                </a:lnTo>
                <a:lnTo>
                  <a:pt x="148" y="1459"/>
                </a:lnTo>
                <a:lnTo>
                  <a:pt x="156" y="1459"/>
                </a:lnTo>
                <a:lnTo>
                  <a:pt x="163" y="1467"/>
                </a:lnTo>
                <a:lnTo>
                  <a:pt x="170" y="1467"/>
                </a:lnTo>
                <a:lnTo>
                  <a:pt x="177" y="1467"/>
                </a:lnTo>
                <a:lnTo>
                  <a:pt x="184" y="1474"/>
                </a:lnTo>
                <a:lnTo>
                  <a:pt x="191" y="1481"/>
                </a:lnTo>
                <a:lnTo>
                  <a:pt x="198" y="1481"/>
                </a:lnTo>
                <a:lnTo>
                  <a:pt x="205" y="1488"/>
                </a:lnTo>
                <a:lnTo>
                  <a:pt x="212" y="1495"/>
                </a:lnTo>
                <a:lnTo>
                  <a:pt x="219" y="1502"/>
                </a:lnTo>
                <a:lnTo>
                  <a:pt x="226" y="1509"/>
                </a:lnTo>
                <a:lnTo>
                  <a:pt x="234" y="1516"/>
                </a:lnTo>
                <a:lnTo>
                  <a:pt x="234" y="1523"/>
                </a:lnTo>
                <a:lnTo>
                  <a:pt x="241" y="1530"/>
                </a:lnTo>
                <a:lnTo>
                  <a:pt x="241" y="1537"/>
                </a:lnTo>
                <a:lnTo>
                  <a:pt x="248" y="1544"/>
                </a:lnTo>
                <a:lnTo>
                  <a:pt x="255" y="1552"/>
                </a:lnTo>
                <a:lnTo>
                  <a:pt x="255" y="1559"/>
                </a:lnTo>
                <a:lnTo>
                  <a:pt x="262" y="1566"/>
                </a:lnTo>
                <a:lnTo>
                  <a:pt x="269" y="1573"/>
                </a:lnTo>
                <a:lnTo>
                  <a:pt x="269" y="1580"/>
                </a:lnTo>
                <a:lnTo>
                  <a:pt x="276" y="1587"/>
                </a:lnTo>
                <a:lnTo>
                  <a:pt x="276" y="1594"/>
                </a:lnTo>
                <a:lnTo>
                  <a:pt x="283" y="1601"/>
                </a:lnTo>
                <a:lnTo>
                  <a:pt x="283" y="1608"/>
                </a:lnTo>
                <a:lnTo>
                  <a:pt x="290" y="1601"/>
                </a:lnTo>
                <a:lnTo>
                  <a:pt x="290" y="1594"/>
                </a:lnTo>
                <a:lnTo>
                  <a:pt x="297" y="1587"/>
                </a:lnTo>
                <a:lnTo>
                  <a:pt x="297" y="1580"/>
                </a:lnTo>
                <a:lnTo>
                  <a:pt x="304" y="1573"/>
                </a:lnTo>
                <a:lnTo>
                  <a:pt x="304" y="1566"/>
                </a:lnTo>
                <a:lnTo>
                  <a:pt x="311" y="1559"/>
                </a:lnTo>
                <a:lnTo>
                  <a:pt x="319" y="1552"/>
                </a:lnTo>
                <a:lnTo>
                  <a:pt x="319" y="1544"/>
                </a:lnTo>
                <a:lnTo>
                  <a:pt x="319" y="1537"/>
                </a:lnTo>
                <a:lnTo>
                  <a:pt x="326" y="1530"/>
                </a:lnTo>
                <a:lnTo>
                  <a:pt x="326" y="1523"/>
                </a:lnTo>
                <a:lnTo>
                  <a:pt x="333" y="1516"/>
                </a:lnTo>
                <a:lnTo>
                  <a:pt x="340" y="1509"/>
                </a:lnTo>
                <a:lnTo>
                  <a:pt x="340" y="1502"/>
                </a:lnTo>
                <a:lnTo>
                  <a:pt x="347" y="1495"/>
                </a:lnTo>
                <a:lnTo>
                  <a:pt x="347" y="1488"/>
                </a:lnTo>
                <a:lnTo>
                  <a:pt x="354" y="1481"/>
                </a:lnTo>
                <a:lnTo>
                  <a:pt x="354" y="1474"/>
                </a:lnTo>
                <a:lnTo>
                  <a:pt x="361" y="1467"/>
                </a:lnTo>
                <a:lnTo>
                  <a:pt x="368" y="1459"/>
                </a:lnTo>
                <a:lnTo>
                  <a:pt x="375" y="1452"/>
                </a:lnTo>
                <a:lnTo>
                  <a:pt x="375" y="1445"/>
                </a:lnTo>
                <a:lnTo>
                  <a:pt x="382" y="1438"/>
                </a:lnTo>
                <a:lnTo>
                  <a:pt x="389" y="1431"/>
                </a:lnTo>
                <a:lnTo>
                  <a:pt x="397" y="1424"/>
                </a:lnTo>
                <a:lnTo>
                  <a:pt x="404" y="1417"/>
                </a:lnTo>
                <a:lnTo>
                  <a:pt x="411" y="1410"/>
                </a:lnTo>
                <a:lnTo>
                  <a:pt x="418" y="1403"/>
                </a:lnTo>
                <a:lnTo>
                  <a:pt x="425" y="1403"/>
                </a:lnTo>
                <a:lnTo>
                  <a:pt x="432" y="1403"/>
                </a:lnTo>
                <a:lnTo>
                  <a:pt x="439" y="1403"/>
                </a:lnTo>
                <a:lnTo>
                  <a:pt x="446" y="1403"/>
                </a:lnTo>
                <a:lnTo>
                  <a:pt x="453" y="1403"/>
                </a:lnTo>
                <a:lnTo>
                  <a:pt x="460" y="1410"/>
                </a:lnTo>
                <a:lnTo>
                  <a:pt x="467" y="1417"/>
                </a:lnTo>
                <a:lnTo>
                  <a:pt x="474" y="1424"/>
                </a:lnTo>
                <a:lnTo>
                  <a:pt x="482" y="1431"/>
                </a:lnTo>
                <a:lnTo>
                  <a:pt x="489" y="1438"/>
                </a:lnTo>
                <a:lnTo>
                  <a:pt x="496" y="1445"/>
                </a:lnTo>
                <a:lnTo>
                  <a:pt x="503" y="1452"/>
                </a:lnTo>
                <a:lnTo>
                  <a:pt x="503" y="1459"/>
                </a:lnTo>
                <a:lnTo>
                  <a:pt x="510" y="1467"/>
                </a:lnTo>
                <a:lnTo>
                  <a:pt x="510" y="1474"/>
                </a:lnTo>
                <a:lnTo>
                  <a:pt x="517" y="1481"/>
                </a:lnTo>
                <a:lnTo>
                  <a:pt x="517" y="1488"/>
                </a:lnTo>
                <a:lnTo>
                  <a:pt x="524" y="1495"/>
                </a:lnTo>
                <a:lnTo>
                  <a:pt x="524" y="1502"/>
                </a:lnTo>
                <a:lnTo>
                  <a:pt x="531" y="1509"/>
                </a:lnTo>
                <a:lnTo>
                  <a:pt x="531" y="1516"/>
                </a:lnTo>
                <a:lnTo>
                  <a:pt x="538" y="1523"/>
                </a:lnTo>
                <a:lnTo>
                  <a:pt x="538" y="1530"/>
                </a:lnTo>
                <a:lnTo>
                  <a:pt x="538" y="1537"/>
                </a:lnTo>
                <a:lnTo>
                  <a:pt x="545" y="1544"/>
                </a:lnTo>
                <a:lnTo>
                  <a:pt x="545" y="1552"/>
                </a:lnTo>
                <a:lnTo>
                  <a:pt x="552" y="1559"/>
                </a:lnTo>
                <a:lnTo>
                  <a:pt x="552" y="1566"/>
                </a:lnTo>
                <a:lnTo>
                  <a:pt x="552" y="1573"/>
                </a:lnTo>
                <a:lnTo>
                  <a:pt x="560" y="1580"/>
                </a:lnTo>
                <a:lnTo>
                  <a:pt x="560" y="1587"/>
                </a:lnTo>
                <a:lnTo>
                  <a:pt x="567" y="1594"/>
                </a:lnTo>
                <a:lnTo>
                  <a:pt x="567" y="1601"/>
                </a:lnTo>
                <a:lnTo>
                  <a:pt x="567" y="1608"/>
                </a:lnTo>
                <a:lnTo>
                  <a:pt x="574" y="1601"/>
                </a:lnTo>
                <a:lnTo>
                  <a:pt x="574" y="1594"/>
                </a:lnTo>
                <a:lnTo>
                  <a:pt x="574" y="1587"/>
                </a:lnTo>
                <a:lnTo>
                  <a:pt x="581" y="1580"/>
                </a:lnTo>
                <a:lnTo>
                  <a:pt x="581" y="1573"/>
                </a:lnTo>
                <a:lnTo>
                  <a:pt x="581" y="1566"/>
                </a:lnTo>
                <a:lnTo>
                  <a:pt x="588" y="1559"/>
                </a:lnTo>
                <a:lnTo>
                  <a:pt x="588" y="1552"/>
                </a:lnTo>
                <a:lnTo>
                  <a:pt x="588" y="1544"/>
                </a:lnTo>
                <a:lnTo>
                  <a:pt x="595" y="1537"/>
                </a:lnTo>
                <a:lnTo>
                  <a:pt x="595" y="1530"/>
                </a:lnTo>
                <a:lnTo>
                  <a:pt x="595" y="1523"/>
                </a:lnTo>
                <a:lnTo>
                  <a:pt x="602" y="1516"/>
                </a:lnTo>
                <a:lnTo>
                  <a:pt x="602" y="1509"/>
                </a:lnTo>
                <a:lnTo>
                  <a:pt x="602" y="1502"/>
                </a:lnTo>
                <a:lnTo>
                  <a:pt x="609" y="1495"/>
                </a:lnTo>
                <a:lnTo>
                  <a:pt x="609" y="1488"/>
                </a:lnTo>
                <a:lnTo>
                  <a:pt x="616" y="1481"/>
                </a:lnTo>
                <a:lnTo>
                  <a:pt x="616" y="1474"/>
                </a:lnTo>
                <a:lnTo>
                  <a:pt x="616" y="1467"/>
                </a:lnTo>
                <a:lnTo>
                  <a:pt x="616" y="1459"/>
                </a:lnTo>
                <a:lnTo>
                  <a:pt x="623" y="1452"/>
                </a:lnTo>
                <a:lnTo>
                  <a:pt x="623" y="1445"/>
                </a:lnTo>
                <a:lnTo>
                  <a:pt x="623" y="1438"/>
                </a:lnTo>
                <a:lnTo>
                  <a:pt x="630" y="1431"/>
                </a:lnTo>
                <a:lnTo>
                  <a:pt x="630" y="1424"/>
                </a:lnTo>
                <a:lnTo>
                  <a:pt x="637" y="1417"/>
                </a:lnTo>
                <a:lnTo>
                  <a:pt x="637" y="1410"/>
                </a:lnTo>
                <a:lnTo>
                  <a:pt x="637" y="1403"/>
                </a:lnTo>
                <a:lnTo>
                  <a:pt x="645" y="1396"/>
                </a:lnTo>
                <a:lnTo>
                  <a:pt x="645" y="1389"/>
                </a:lnTo>
                <a:lnTo>
                  <a:pt x="652" y="1382"/>
                </a:lnTo>
                <a:lnTo>
                  <a:pt x="652" y="1374"/>
                </a:lnTo>
                <a:lnTo>
                  <a:pt x="652" y="1367"/>
                </a:lnTo>
                <a:lnTo>
                  <a:pt x="652" y="1360"/>
                </a:lnTo>
                <a:lnTo>
                  <a:pt x="659" y="1353"/>
                </a:lnTo>
                <a:lnTo>
                  <a:pt x="659" y="1346"/>
                </a:lnTo>
                <a:lnTo>
                  <a:pt x="666" y="1339"/>
                </a:lnTo>
                <a:lnTo>
                  <a:pt x="666" y="1332"/>
                </a:lnTo>
                <a:lnTo>
                  <a:pt x="673" y="1325"/>
                </a:lnTo>
                <a:lnTo>
                  <a:pt x="673" y="1318"/>
                </a:lnTo>
                <a:lnTo>
                  <a:pt x="680" y="1311"/>
                </a:lnTo>
                <a:lnTo>
                  <a:pt x="687" y="1304"/>
                </a:lnTo>
                <a:lnTo>
                  <a:pt x="687" y="1296"/>
                </a:lnTo>
                <a:lnTo>
                  <a:pt x="694" y="1289"/>
                </a:lnTo>
                <a:lnTo>
                  <a:pt x="694" y="1282"/>
                </a:lnTo>
                <a:lnTo>
                  <a:pt x="701" y="1275"/>
                </a:lnTo>
                <a:lnTo>
                  <a:pt x="708" y="1268"/>
                </a:lnTo>
                <a:lnTo>
                  <a:pt x="715" y="1261"/>
                </a:lnTo>
                <a:lnTo>
                  <a:pt x="723" y="1261"/>
                </a:lnTo>
                <a:lnTo>
                  <a:pt x="730" y="1261"/>
                </a:lnTo>
                <a:lnTo>
                  <a:pt x="737" y="1261"/>
                </a:lnTo>
                <a:lnTo>
                  <a:pt x="744" y="1261"/>
                </a:lnTo>
                <a:lnTo>
                  <a:pt x="751" y="1268"/>
                </a:lnTo>
                <a:lnTo>
                  <a:pt x="758" y="1275"/>
                </a:lnTo>
                <a:lnTo>
                  <a:pt x="765" y="1282"/>
                </a:lnTo>
                <a:lnTo>
                  <a:pt x="765" y="1289"/>
                </a:lnTo>
                <a:lnTo>
                  <a:pt x="772" y="1296"/>
                </a:lnTo>
                <a:lnTo>
                  <a:pt x="772" y="1304"/>
                </a:lnTo>
                <a:lnTo>
                  <a:pt x="779" y="1311"/>
                </a:lnTo>
                <a:lnTo>
                  <a:pt x="779" y="1318"/>
                </a:lnTo>
                <a:lnTo>
                  <a:pt x="786" y="1325"/>
                </a:lnTo>
                <a:lnTo>
                  <a:pt x="786" y="1332"/>
                </a:lnTo>
                <a:lnTo>
                  <a:pt x="793" y="1339"/>
                </a:lnTo>
                <a:lnTo>
                  <a:pt x="793" y="1346"/>
                </a:lnTo>
                <a:lnTo>
                  <a:pt x="793" y="1353"/>
                </a:lnTo>
                <a:lnTo>
                  <a:pt x="800" y="1360"/>
                </a:lnTo>
                <a:lnTo>
                  <a:pt x="800" y="1367"/>
                </a:lnTo>
                <a:lnTo>
                  <a:pt x="800" y="1374"/>
                </a:lnTo>
                <a:lnTo>
                  <a:pt x="800" y="1382"/>
                </a:lnTo>
                <a:lnTo>
                  <a:pt x="808" y="1389"/>
                </a:lnTo>
                <a:lnTo>
                  <a:pt x="808" y="1403"/>
                </a:lnTo>
                <a:lnTo>
                  <a:pt x="808" y="1410"/>
                </a:lnTo>
                <a:lnTo>
                  <a:pt x="815" y="1417"/>
                </a:lnTo>
                <a:lnTo>
                  <a:pt x="815" y="1424"/>
                </a:lnTo>
                <a:lnTo>
                  <a:pt x="815" y="1431"/>
                </a:lnTo>
                <a:lnTo>
                  <a:pt x="822" y="1445"/>
                </a:lnTo>
                <a:lnTo>
                  <a:pt x="822" y="1452"/>
                </a:lnTo>
                <a:lnTo>
                  <a:pt x="822" y="1459"/>
                </a:lnTo>
                <a:lnTo>
                  <a:pt x="829" y="1474"/>
                </a:lnTo>
                <a:lnTo>
                  <a:pt x="829" y="1481"/>
                </a:lnTo>
                <a:lnTo>
                  <a:pt x="829" y="1495"/>
                </a:lnTo>
                <a:lnTo>
                  <a:pt x="836" y="1502"/>
                </a:lnTo>
                <a:lnTo>
                  <a:pt x="836" y="1516"/>
                </a:lnTo>
                <a:lnTo>
                  <a:pt x="836" y="1523"/>
                </a:lnTo>
                <a:lnTo>
                  <a:pt x="836" y="1537"/>
                </a:lnTo>
                <a:lnTo>
                  <a:pt x="843" y="1544"/>
                </a:lnTo>
                <a:lnTo>
                  <a:pt x="843" y="1559"/>
                </a:lnTo>
                <a:lnTo>
                  <a:pt x="843" y="1573"/>
                </a:lnTo>
                <a:lnTo>
                  <a:pt x="850" y="1587"/>
                </a:lnTo>
                <a:lnTo>
                  <a:pt x="850" y="1594"/>
                </a:lnTo>
                <a:lnTo>
                  <a:pt x="850" y="1608"/>
                </a:lnTo>
                <a:lnTo>
                  <a:pt x="857" y="1594"/>
                </a:lnTo>
                <a:lnTo>
                  <a:pt x="857" y="1580"/>
                </a:lnTo>
                <a:lnTo>
                  <a:pt x="857" y="1573"/>
                </a:lnTo>
                <a:lnTo>
                  <a:pt x="864" y="1559"/>
                </a:lnTo>
                <a:lnTo>
                  <a:pt x="864" y="1544"/>
                </a:lnTo>
                <a:lnTo>
                  <a:pt x="864" y="1530"/>
                </a:lnTo>
                <a:lnTo>
                  <a:pt x="871" y="1516"/>
                </a:lnTo>
                <a:lnTo>
                  <a:pt x="871" y="1502"/>
                </a:lnTo>
                <a:lnTo>
                  <a:pt x="871" y="1488"/>
                </a:lnTo>
                <a:lnTo>
                  <a:pt x="878" y="1474"/>
                </a:lnTo>
                <a:lnTo>
                  <a:pt x="878" y="1459"/>
                </a:lnTo>
                <a:lnTo>
                  <a:pt x="878" y="1445"/>
                </a:lnTo>
                <a:lnTo>
                  <a:pt x="878" y="1431"/>
                </a:lnTo>
                <a:lnTo>
                  <a:pt x="885" y="1417"/>
                </a:lnTo>
                <a:lnTo>
                  <a:pt x="885" y="1403"/>
                </a:lnTo>
                <a:lnTo>
                  <a:pt x="885" y="1382"/>
                </a:lnTo>
                <a:lnTo>
                  <a:pt x="893" y="1367"/>
                </a:lnTo>
                <a:lnTo>
                  <a:pt x="893" y="1353"/>
                </a:lnTo>
                <a:lnTo>
                  <a:pt x="893" y="1339"/>
                </a:lnTo>
                <a:lnTo>
                  <a:pt x="900" y="1325"/>
                </a:lnTo>
                <a:lnTo>
                  <a:pt x="900" y="1304"/>
                </a:lnTo>
                <a:lnTo>
                  <a:pt x="900" y="1289"/>
                </a:lnTo>
                <a:lnTo>
                  <a:pt x="907" y="1275"/>
                </a:lnTo>
                <a:lnTo>
                  <a:pt x="907" y="1261"/>
                </a:lnTo>
                <a:lnTo>
                  <a:pt x="907" y="1240"/>
                </a:lnTo>
                <a:lnTo>
                  <a:pt x="914" y="1226"/>
                </a:lnTo>
                <a:lnTo>
                  <a:pt x="914" y="1211"/>
                </a:lnTo>
                <a:lnTo>
                  <a:pt x="914" y="1190"/>
                </a:lnTo>
                <a:lnTo>
                  <a:pt x="914" y="1176"/>
                </a:lnTo>
                <a:lnTo>
                  <a:pt x="921" y="1162"/>
                </a:lnTo>
                <a:lnTo>
                  <a:pt x="921" y="1141"/>
                </a:lnTo>
                <a:lnTo>
                  <a:pt x="921" y="1126"/>
                </a:lnTo>
                <a:lnTo>
                  <a:pt x="928" y="1105"/>
                </a:lnTo>
                <a:lnTo>
                  <a:pt x="928" y="1091"/>
                </a:lnTo>
                <a:lnTo>
                  <a:pt x="928" y="1077"/>
                </a:lnTo>
                <a:lnTo>
                  <a:pt x="935" y="1056"/>
                </a:lnTo>
                <a:lnTo>
                  <a:pt x="935" y="1041"/>
                </a:lnTo>
                <a:lnTo>
                  <a:pt x="935" y="1020"/>
                </a:lnTo>
                <a:lnTo>
                  <a:pt x="942" y="1006"/>
                </a:lnTo>
                <a:lnTo>
                  <a:pt x="942" y="992"/>
                </a:lnTo>
                <a:lnTo>
                  <a:pt x="942" y="971"/>
                </a:lnTo>
                <a:lnTo>
                  <a:pt x="949" y="956"/>
                </a:lnTo>
                <a:lnTo>
                  <a:pt x="949" y="935"/>
                </a:lnTo>
                <a:lnTo>
                  <a:pt x="949" y="921"/>
                </a:lnTo>
                <a:lnTo>
                  <a:pt x="949" y="900"/>
                </a:lnTo>
                <a:lnTo>
                  <a:pt x="956" y="886"/>
                </a:lnTo>
                <a:lnTo>
                  <a:pt x="956" y="871"/>
                </a:lnTo>
                <a:lnTo>
                  <a:pt x="956" y="850"/>
                </a:lnTo>
                <a:lnTo>
                  <a:pt x="963" y="836"/>
                </a:lnTo>
                <a:lnTo>
                  <a:pt x="963" y="815"/>
                </a:lnTo>
                <a:lnTo>
                  <a:pt x="963" y="800"/>
                </a:lnTo>
                <a:lnTo>
                  <a:pt x="971" y="786"/>
                </a:lnTo>
                <a:lnTo>
                  <a:pt x="971" y="765"/>
                </a:lnTo>
                <a:lnTo>
                  <a:pt x="971" y="751"/>
                </a:lnTo>
                <a:lnTo>
                  <a:pt x="978" y="730"/>
                </a:lnTo>
                <a:lnTo>
                  <a:pt x="978" y="715"/>
                </a:lnTo>
                <a:lnTo>
                  <a:pt x="978" y="701"/>
                </a:lnTo>
                <a:lnTo>
                  <a:pt x="985" y="680"/>
                </a:lnTo>
                <a:lnTo>
                  <a:pt x="985" y="666"/>
                </a:lnTo>
                <a:lnTo>
                  <a:pt x="985" y="652"/>
                </a:lnTo>
                <a:lnTo>
                  <a:pt x="985" y="630"/>
                </a:lnTo>
                <a:lnTo>
                  <a:pt x="992" y="616"/>
                </a:lnTo>
                <a:lnTo>
                  <a:pt x="992" y="602"/>
                </a:lnTo>
                <a:lnTo>
                  <a:pt x="992" y="581"/>
                </a:lnTo>
                <a:lnTo>
                  <a:pt x="999" y="567"/>
                </a:lnTo>
                <a:lnTo>
                  <a:pt x="999" y="552"/>
                </a:lnTo>
                <a:lnTo>
                  <a:pt x="999" y="538"/>
                </a:lnTo>
                <a:lnTo>
                  <a:pt x="1006" y="524"/>
                </a:lnTo>
                <a:lnTo>
                  <a:pt x="1006" y="503"/>
                </a:lnTo>
                <a:lnTo>
                  <a:pt x="1006" y="489"/>
                </a:lnTo>
                <a:lnTo>
                  <a:pt x="1013" y="475"/>
                </a:lnTo>
                <a:lnTo>
                  <a:pt x="1013" y="460"/>
                </a:lnTo>
                <a:lnTo>
                  <a:pt x="1013" y="446"/>
                </a:lnTo>
                <a:lnTo>
                  <a:pt x="1020" y="432"/>
                </a:lnTo>
                <a:lnTo>
                  <a:pt x="1020" y="418"/>
                </a:lnTo>
                <a:lnTo>
                  <a:pt x="1020" y="404"/>
                </a:lnTo>
                <a:lnTo>
                  <a:pt x="1027" y="390"/>
                </a:lnTo>
                <a:lnTo>
                  <a:pt x="1027" y="375"/>
                </a:lnTo>
                <a:lnTo>
                  <a:pt x="1027" y="361"/>
                </a:lnTo>
                <a:lnTo>
                  <a:pt x="1027" y="347"/>
                </a:lnTo>
                <a:lnTo>
                  <a:pt x="1034" y="333"/>
                </a:lnTo>
                <a:lnTo>
                  <a:pt x="1034" y="319"/>
                </a:lnTo>
                <a:lnTo>
                  <a:pt x="1034" y="304"/>
                </a:lnTo>
                <a:lnTo>
                  <a:pt x="1041" y="297"/>
                </a:lnTo>
                <a:lnTo>
                  <a:pt x="1041" y="283"/>
                </a:lnTo>
                <a:lnTo>
                  <a:pt x="1041" y="269"/>
                </a:lnTo>
                <a:lnTo>
                  <a:pt x="1048" y="255"/>
                </a:lnTo>
                <a:lnTo>
                  <a:pt x="1048" y="248"/>
                </a:lnTo>
                <a:lnTo>
                  <a:pt x="1048" y="234"/>
                </a:lnTo>
                <a:lnTo>
                  <a:pt x="1056" y="227"/>
                </a:lnTo>
                <a:lnTo>
                  <a:pt x="1056" y="212"/>
                </a:lnTo>
                <a:lnTo>
                  <a:pt x="1056" y="198"/>
                </a:lnTo>
                <a:lnTo>
                  <a:pt x="1063" y="191"/>
                </a:lnTo>
                <a:lnTo>
                  <a:pt x="1063" y="177"/>
                </a:lnTo>
                <a:lnTo>
                  <a:pt x="1063" y="170"/>
                </a:lnTo>
                <a:lnTo>
                  <a:pt x="1063" y="163"/>
                </a:lnTo>
                <a:lnTo>
                  <a:pt x="1070" y="149"/>
                </a:lnTo>
                <a:lnTo>
                  <a:pt x="1070" y="142"/>
                </a:lnTo>
                <a:lnTo>
                  <a:pt x="1070" y="134"/>
                </a:lnTo>
                <a:lnTo>
                  <a:pt x="1077" y="120"/>
                </a:lnTo>
                <a:lnTo>
                  <a:pt x="1077" y="113"/>
                </a:lnTo>
                <a:lnTo>
                  <a:pt x="1077" y="106"/>
                </a:lnTo>
                <a:lnTo>
                  <a:pt x="1084" y="99"/>
                </a:lnTo>
                <a:lnTo>
                  <a:pt x="1084" y="92"/>
                </a:lnTo>
                <a:lnTo>
                  <a:pt x="1084" y="85"/>
                </a:lnTo>
                <a:lnTo>
                  <a:pt x="1091" y="78"/>
                </a:lnTo>
                <a:lnTo>
                  <a:pt x="1091" y="71"/>
                </a:lnTo>
                <a:lnTo>
                  <a:pt x="1091" y="64"/>
                </a:lnTo>
                <a:lnTo>
                  <a:pt x="1098" y="56"/>
                </a:lnTo>
                <a:lnTo>
                  <a:pt x="1098" y="49"/>
                </a:lnTo>
                <a:lnTo>
                  <a:pt x="1098" y="42"/>
                </a:lnTo>
                <a:lnTo>
                  <a:pt x="1105" y="35"/>
                </a:lnTo>
                <a:lnTo>
                  <a:pt x="1105" y="28"/>
                </a:lnTo>
                <a:lnTo>
                  <a:pt x="1112" y="21"/>
                </a:lnTo>
                <a:lnTo>
                  <a:pt x="1119" y="14"/>
                </a:lnTo>
                <a:lnTo>
                  <a:pt x="1126" y="7"/>
                </a:lnTo>
                <a:lnTo>
                  <a:pt x="1134" y="0"/>
                </a:lnTo>
                <a:lnTo>
                  <a:pt x="1141" y="0"/>
                </a:lnTo>
                <a:lnTo>
                  <a:pt x="1148" y="7"/>
                </a:lnTo>
                <a:lnTo>
                  <a:pt x="1155" y="14"/>
                </a:lnTo>
                <a:lnTo>
                  <a:pt x="1162" y="21"/>
                </a:lnTo>
                <a:lnTo>
                  <a:pt x="1169" y="28"/>
                </a:lnTo>
                <a:lnTo>
                  <a:pt x="1169" y="35"/>
                </a:lnTo>
                <a:lnTo>
                  <a:pt x="1176" y="42"/>
                </a:lnTo>
                <a:lnTo>
                  <a:pt x="1176" y="49"/>
                </a:lnTo>
                <a:lnTo>
                  <a:pt x="1176" y="56"/>
                </a:lnTo>
                <a:lnTo>
                  <a:pt x="1183" y="64"/>
                </a:lnTo>
                <a:lnTo>
                  <a:pt x="1183" y="71"/>
                </a:lnTo>
                <a:lnTo>
                  <a:pt x="1183" y="78"/>
                </a:lnTo>
                <a:lnTo>
                  <a:pt x="1190" y="85"/>
                </a:lnTo>
                <a:lnTo>
                  <a:pt x="1190" y="92"/>
                </a:lnTo>
                <a:lnTo>
                  <a:pt x="1190" y="99"/>
                </a:lnTo>
                <a:lnTo>
                  <a:pt x="1197" y="106"/>
                </a:lnTo>
                <a:lnTo>
                  <a:pt x="1197" y="113"/>
                </a:lnTo>
                <a:lnTo>
                  <a:pt x="1197" y="120"/>
                </a:lnTo>
                <a:lnTo>
                  <a:pt x="1204" y="134"/>
                </a:lnTo>
                <a:lnTo>
                  <a:pt x="1204" y="142"/>
                </a:lnTo>
                <a:lnTo>
                  <a:pt x="1204" y="149"/>
                </a:lnTo>
                <a:lnTo>
                  <a:pt x="1211" y="163"/>
                </a:lnTo>
                <a:lnTo>
                  <a:pt x="1211" y="170"/>
                </a:lnTo>
                <a:lnTo>
                  <a:pt x="1211" y="177"/>
                </a:lnTo>
                <a:lnTo>
                  <a:pt x="1211" y="191"/>
                </a:lnTo>
                <a:lnTo>
                  <a:pt x="1219" y="198"/>
                </a:lnTo>
                <a:lnTo>
                  <a:pt x="1219" y="212"/>
                </a:lnTo>
                <a:lnTo>
                  <a:pt x="1219" y="227"/>
                </a:lnTo>
                <a:lnTo>
                  <a:pt x="1226" y="234"/>
                </a:lnTo>
                <a:lnTo>
                  <a:pt x="1226" y="248"/>
                </a:lnTo>
                <a:lnTo>
                  <a:pt x="1226" y="255"/>
                </a:lnTo>
                <a:lnTo>
                  <a:pt x="1233" y="269"/>
                </a:lnTo>
                <a:lnTo>
                  <a:pt x="1233" y="283"/>
                </a:lnTo>
                <a:lnTo>
                  <a:pt x="1233" y="297"/>
                </a:lnTo>
                <a:lnTo>
                  <a:pt x="1240" y="304"/>
                </a:lnTo>
                <a:lnTo>
                  <a:pt x="1240" y="319"/>
                </a:lnTo>
                <a:lnTo>
                  <a:pt x="1240" y="333"/>
                </a:lnTo>
                <a:lnTo>
                  <a:pt x="1247" y="347"/>
                </a:lnTo>
                <a:lnTo>
                  <a:pt x="1247" y="361"/>
                </a:lnTo>
                <a:lnTo>
                  <a:pt x="1247" y="375"/>
                </a:lnTo>
                <a:lnTo>
                  <a:pt x="1247" y="390"/>
                </a:lnTo>
                <a:lnTo>
                  <a:pt x="1254" y="404"/>
                </a:lnTo>
                <a:lnTo>
                  <a:pt x="1254" y="418"/>
                </a:lnTo>
                <a:lnTo>
                  <a:pt x="1254" y="432"/>
                </a:lnTo>
                <a:lnTo>
                  <a:pt x="1261" y="446"/>
                </a:lnTo>
                <a:lnTo>
                  <a:pt x="1261" y="460"/>
                </a:lnTo>
                <a:lnTo>
                  <a:pt x="1261" y="475"/>
                </a:lnTo>
                <a:lnTo>
                  <a:pt x="1268" y="489"/>
                </a:lnTo>
                <a:lnTo>
                  <a:pt x="1268" y="503"/>
                </a:lnTo>
                <a:lnTo>
                  <a:pt x="1268" y="524"/>
                </a:lnTo>
                <a:lnTo>
                  <a:pt x="1275" y="538"/>
                </a:lnTo>
                <a:lnTo>
                  <a:pt x="1275" y="552"/>
                </a:lnTo>
                <a:lnTo>
                  <a:pt x="1275" y="567"/>
                </a:lnTo>
                <a:lnTo>
                  <a:pt x="1282" y="581"/>
                </a:lnTo>
                <a:lnTo>
                  <a:pt x="1282" y="602"/>
                </a:lnTo>
                <a:lnTo>
                  <a:pt x="1282" y="616"/>
                </a:lnTo>
                <a:lnTo>
                  <a:pt x="1289" y="630"/>
                </a:lnTo>
                <a:lnTo>
                  <a:pt x="1289" y="652"/>
                </a:lnTo>
                <a:lnTo>
                  <a:pt x="1289" y="666"/>
                </a:lnTo>
                <a:lnTo>
                  <a:pt x="1289" y="680"/>
                </a:lnTo>
                <a:lnTo>
                  <a:pt x="1297" y="701"/>
                </a:lnTo>
                <a:lnTo>
                  <a:pt x="1297" y="715"/>
                </a:lnTo>
                <a:lnTo>
                  <a:pt x="1297" y="730"/>
                </a:lnTo>
                <a:lnTo>
                  <a:pt x="1304" y="751"/>
                </a:lnTo>
                <a:lnTo>
                  <a:pt x="1304" y="765"/>
                </a:lnTo>
                <a:lnTo>
                  <a:pt x="1304" y="786"/>
                </a:lnTo>
                <a:lnTo>
                  <a:pt x="1311" y="800"/>
                </a:lnTo>
                <a:lnTo>
                  <a:pt x="1311" y="815"/>
                </a:lnTo>
                <a:lnTo>
                  <a:pt x="1311" y="836"/>
                </a:lnTo>
                <a:lnTo>
                  <a:pt x="1318" y="850"/>
                </a:lnTo>
                <a:lnTo>
                  <a:pt x="1318" y="871"/>
                </a:lnTo>
                <a:lnTo>
                  <a:pt x="1318" y="886"/>
                </a:lnTo>
                <a:lnTo>
                  <a:pt x="1325" y="900"/>
                </a:lnTo>
                <a:lnTo>
                  <a:pt x="1325" y="921"/>
                </a:lnTo>
                <a:lnTo>
                  <a:pt x="1325" y="935"/>
                </a:lnTo>
                <a:lnTo>
                  <a:pt x="1325" y="956"/>
                </a:lnTo>
                <a:lnTo>
                  <a:pt x="1332" y="971"/>
                </a:lnTo>
                <a:lnTo>
                  <a:pt x="1332" y="992"/>
                </a:lnTo>
                <a:lnTo>
                  <a:pt x="1332" y="1006"/>
                </a:lnTo>
                <a:lnTo>
                  <a:pt x="1339" y="1020"/>
                </a:lnTo>
                <a:lnTo>
                  <a:pt x="1339" y="1041"/>
                </a:lnTo>
                <a:lnTo>
                  <a:pt x="1339" y="1056"/>
                </a:lnTo>
                <a:lnTo>
                  <a:pt x="1346" y="1077"/>
                </a:lnTo>
                <a:lnTo>
                  <a:pt x="1346" y="1091"/>
                </a:lnTo>
                <a:lnTo>
                  <a:pt x="1346" y="1105"/>
                </a:lnTo>
                <a:lnTo>
                  <a:pt x="1353" y="1126"/>
                </a:lnTo>
                <a:lnTo>
                  <a:pt x="1353" y="1141"/>
                </a:lnTo>
                <a:lnTo>
                  <a:pt x="1353" y="1162"/>
                </a:lnTo>
                <a:lnTo>
                  <a:pt x="1360" y="1176"/>
                </a:lnTo>
                <a:lnTo>
                  <a:pt x="1360" y="1190"/>
                </a:lnTo>
                <a:lnTo>
                  <a:pt x="1360" y="1211"/>
                </a:lnTo>
                <a:lnTo>
                  <a:pt x="1360" y="1226"/>
                </a:lnTo>
                <a:lnTo>
                  <a:pt x="1367" y="1240"/>
                </a:lnTo>
                <a:lnTo>
                  <a:pt x="1367" y="1261"/>
                </a:lnTo>
                <a:lnTo>
                  <a:pt x="1367" y="1275"/>
                </a:lnTo>
                <a:lnTo>
                  <a:pt x="1374" y="1289"/>
                </a:lnTo>
                <a:lnTo>
                  <a:pt x="1374" y="1304"/>
                </a:lnTo>
                <a:lnTo>
                  <a:pt x="1374" y="1325"/>
                </a:lnTo>
                <a:lnTo>
                  <a:pt x="1382" y="1339"/>
                </a:lnTo>
                <a:lnTo>
                  <a:pt x="1382" y="1353"/>
                </a:lnTo>
                <a:lnTo>
                  <a:pt x="1382" y="1367"/>
                </a:lnTo>
                <a:lnTo>
                  <a:pt x="1389" y="1382"/>
                </a:lnTo>
                <a:lnTo>
                  <a:pt x="1389" y="1403"/>
                </a:lnTo>
                <a:lnTo>
                  <a:pt x="1389" y="1417"/>
                </a:lnTo>
                <a:lnTo>
                  <a:pt x="1396" y="1431"/>
                </a:lnTo>
                <a:lnTo>
                  <a:pt x="1396" y="1445"/>
                </a:lnTo>
                <a:lnTo>
                  <a:pt x="1396" y="1459"/>
                </a:lnTo>
                <a:lnTo>
                  <a:pt x="1396" y="1474"/>
                </a:lnTo>
                <a:lnTo>
                  <a:pt x="1403" y="1488"/>
                </a:lnTo>
                <a:lnTo>
                  <a:pt x="1403" y="1502"/>
                </a:lnTo>
                <a:lnTo>
                  <a:pt x="1403" y="1516"/>
                </a:lnTo>
                <a:lnTo>
                  <a:pt x="1410" y="1530"/>
                </a:lnTo>
                <a:lnTo>
                  <a:pt x="1410" y="1544"/>
                </a:lnTo>
                <a:lnTo>
                  <a:pt x="1410" y="1559"/>
                </a:lnTo>
                <a:lnTo>
                  <a:pt x="1417" y="1573"/>
                </a:lnTo>
                <a:lnTo>
                  <a:pt x="1417" y="1580"/>
                </a:lnTo>
                <a:lnTo>
                  <a:pt x="1417" y="1594"/>
                </a:lnTo>
                <a:lnTo>
                  <a:pt x="1424" y="1608"/>
                </a:lnTo>
                <a:lnTo>
                  <a:pt x="1424" y="1594"/>
                </a:lnTo>
                <a:lnTo>
                  <a:pt x="1424" y="1587"/>
                </a:lnTo>
                <a:lnTo>
                  <a:pt x="1431" y="1573"/>
                </a:lnTo>
                <a:lnTo>
                  <a:pt x="1431" y="1559"/>
                </a:lnTo>
                <a:lnTo>
                  <a:pt x="1431" y="1544"/>
                </a:lnTo>
                <a:lnTo>
                  <a:pt x="1438" y="1537"/>
                </a:lnTo>
                <a:lnTo>
                  <a:pt x="1438" y="1523"/>
                </a:lnTo>
                <a:lnTo>
                  <a:pt x="1438" y="1516"/>
                </a:lnTo>
                <a:lnTo>
                  <a:pt x="1438" y="1502"/>
                </a:lnTo>
                <a:lnTo>
                  <a:pt x="1445" y="1495"/>
                </a:lnTo>
                <a:lnTo>
                  <a:pt x="1445" y="1481"/>
                </a:lnTo>
                <a:lnTo>
                  <a:pt x="1445" y="1474"/>
                </a:lnTo>
                <a:lnTo>
                  <a:pt x="1452" y="1459"/>
                </a:lnTo>
                <a:lnTo>
                  <a:pt x="1452" y="1452"/>
                </a:lnTo>
                <a:lnTo>
                  <a:pt x="1452" y="1445"/>
                </a:lnTo>
                <a:lnTo>
                  <a:pt x="1460" y="1431"/>
                </a:lnTo>
                <a:lnTo>
                  <a:pt x="1460" y="1424"/>
                </a:lnTo>
                <a:lnTo>
                  <a:pt x="1460" y="1417"/>
                </a:lnTo>
                <a:lnTo>
                  <a:pt x="1467" y="1410"/>
                </a:lnTo>
                <a:lnTo>
                  <a:pt x="1467" y="1403"/>
                </a:lnTo>
                <a:lnTo>
                  <a:pt x="1467" y="1389"/>
                </a:lnTo>
                <a:lnTo>
                  <a:pt x="1474" y="1382"/>
                </a:lnTo>
                <a:lnTo>
                  <a:pt x="1474" y="1374"/>
                </a:lnTo>
                <a:lnTo>
                  <a:pt x="1474" y="1367"/>
                </a:lnTo>
                <a:lnTo>
                  <a:pt x="1474" y="1360"/>
                </a:lnTo>
                <a:lnTo>
                  <a:pt x="1481" y="1353"/>
                </a:lnTo>
                <a:lnTo>
                  <a:pt x="1481" y="1346"/>
                </a:lnTo>
                <a:lnTo>
                  <a:pt x="1488" y="1339"/>
                </a:lnTo>
                <a:lnTo>
                  <a:pt x="1488" y="1332"/>
                </a:lnTo>
                <a:lnTo>
                  <a:pt x="1488" y="1325"/>
                </a:lnTo>
                <a:lnTo>
                  <a:pt x="1495" y="1318"/>
                </a:lnTo>
                <a:lnTo>
                  <a:pt x="1495" y="1311"/>
                </a:lnTo>
                <a:lnTo>
                  <a:pt x="1502" y="1304"/>
                </a:lnTo>
                <a:lnTo>
                  <a:pt x="1502" y="1296"/>
                </a:lnTo>
                <a:lnTo>
                  <a:pt x="1509" y="1289"/>
                </a:lnTo>
                <a:lnTo>
                  <a:pt x="1509" y="1282"/>
                </a:lnTo>
                <a:lnTo>
                  <a:pt x="1516" y="1275"/>
                </a:lnTo>
                <a:lnTo>
                  <a:pt x="1523" y="1268"/>
                </a:lnTo>
                <a:lnTo>
                  <a:pt x="1530" y="1261"/>
                </a:lnTo>
                <a:lnTo>
                  <a:pt x="1537" y="1261"/>
                </a:lnTo>
                <a:lnTo>
                  <a:pt x="1545" y="1261"/>
                </a:lnTo>
                <a:lnTo>
                  <a:pt x="1552" y="1261"/>
                </a:lnTo>
                <a:lnTo>
                  <a:pt x="1559" y="1268"/>
                </a:lnTo>
                <a:lnTo>
                  <a:pt x="1566" y="1268"/>
                </a:lnTo>
                <a:lnTo>
                  <a:pt x="1573" y="1275"/>
                </a:lnTo>
                <a:lnTo>
                  <a:pt x="1580" y="1282"/>
                </a:lnTo>
                <a:lnTo>
                  <a:pt x="1587" y="1289"/>
                </a:lnTo>
                <a:lnTo>
                  <a:pt x="1587" y="1296"/>
                </a:lnTo>
                <a:lnTo>
                  <a:pt x="1594" y="1304"/>
                </a:lnTo>
                <a:lnTo>
                  <a:pt x="1594" y="1311"/>
                </a:lnTo>
                <a:lnTo>
                  <a:pt x="1601" y="1318"/>
                </a:lnTo>
                <a:lnTo>
                  <a:pt x="1601" y="1325"/>
                </a:lnTo>
                <a:lnTo>
                  <a:pt x="1608" y="1332"/>
                </a:lnTo>
                <a:lnTo>
                  <a:pt x="1608" y="1339"/>
                </a:lnTo>
                <a:lnTo>
                  <a:pt x="1615" y="1346"/>
                </a:lnTo>
                <a:lnTo>
                  <a:pt x="1615" y="1353"/>
                </a:lnTo>
                <a:lnTo>
                  <a:pt x="1622" y="1360"/>
                </a:lnTo>
                <a:lnTo>
                  <a:pt x="1622" y="1367"/>
                </a:lnTo>
                <a:lnTo>
                  <a:pt x="1622" y="1374"/>
                </a:lnTo>
                <a:lnTo>
                  <a:pt x="1630" y="1382"/>
                </a:lnTo>
                <a:lnTo>
                  <a:pt x="1630" y="1389"/>
                </a:lnTo>
                <a:lnTo>
                  <a:pt x="1630" y="1396"/>
                </a:lnTo>
                <a:lnTo>
                  <a:pt x="1637" y="1403"/>
                </a:lnTo>
                <a:lnTo>
                  <a:pt x="1637" y="1410"/>
                </a:lnTo>
                <a:lnTo>
                  <a:pt x="1644" y="1417"/>
                </a:lnTo>
                <a:lnTo>
                  <a:pt x="1644" y="1424"/>
                </a:lnTo>
                <a:lnTo>
                  <a:pt x="1644" y="1431"/>
                </a:lnTo>
                <a:lnTo>
                  <a:pt x="1651" y="1438"/>
                </a:lnTo>
                <a:lnTo>
                  <a:pt x="1651" y="1445"/>
                </a:lnTo>
                <a:lnTo>
                  <a:pt x="1651" y="1452"/>
                </a:lnTo>
                <a:lnTo>
                  <a:pt x="1658" y="1459"/>
                </a:lnTo>
                <a:lnTo>
                  <a:pt x="1658" y="1467"/>
                </a:lnTo>
                <a:lnTo>
                  <a:pt x="1658" y="1474"/>
                </a:lnTo>
                <a:lnTo>
                  <a:pt x="1665" y="1481"/>
                </a:lnTo>
                <a:lnTo>
                  <a:pt x="1665" y="1488"/>
                </a:lnTo>
                <a:lnTo>
                  <a:pt x="1665" y="1495"/>
                </a:lnTo>
                <a:lnTo>
                  <a:pt x="1672" y="1502"/>
                </a:lnTo>
                <a:lnTo>
                  <a:pt x="1672" y="1509"/>
                </a:lnTo>
                <a:lnTo>
                  <a:pt x="1672" y="1516"/>
                </a:lnTo>
                <a:lnTo>
                  <a:pt x="1679" y="1523"/>
                </a:lnTo>
                <a:lnTo>
                  <a:pt x="1679" y="1530"/>
                </a:lnTo>
                <a:lnTo>
                  <a:pt x="1679" y="1537"/>
                </a:lnTo>
                <a:lnTo>
                  <a:pt x="1686" y="1544"/>
                </a:lnTo>
                <a:lnTo>
                  <a:pt x="1686" y="1552"/>
                </a:lnTo>
                <a:lnTo>
                  <a:pt x="1686" y="1559"/>
                </a:lnTo>
                <a:lnTo>
                  <a:pt x="1693" y="1566"/>
                </a:lnTo>
                <a:lnTo>
                  <a:pt x="1693" y="1573"/>
                </a:lnTo>
                <a:lnTo>
                  <a:pt x="1693" y="1580"/>
                </a:lnTo>
                <a:lnTo>
                  <a:pt x="1700" y="1587"/>
                </a:lnTo>
                <a:lnTo>
                  <a:pt x="1700" y="1594"/>
                </a:lnTo>
                <a:lnTo>
                  <a:pt x="1700" y="1601"/>
                </a:lnTo>
                <a:lnTo>
                  <a:pt x="1708" y="1608"/>
                </a:lnTo>
                <a:lnTo>
                  <a:pt x="1708" y="1601"/>
                </a:lnTo>
                <a:lnTo>
                  <a:pt x="1708" y="1594"/>
                </a:lnTo>
                <a:lnTo>
                  <a:pt x="1715" y="1587"/>
                </a:lnTo>
                <a:lnTo>
                  <a:pt x="1715" y="1580"/>
                </a:lnTo>
                <a:lnTo>
                  <a:pt x="1722" y="1573"/>
                </a:lnTo>
                <a:lnTo>
                  <a:pt x="1722" y="1566"/>
                </a:lnTo>
                <a:lnTo>
                  <a:pt x="1722" y="1559"/>
                </a:lnTo>
                <a:lnTo>
                  <a:pt x="1729" y="1552"/>
                </a:lnTo>
                <a:lnTo>
                  <a:pt x="1729" y="1544"/>
                </a:lnTo>
                <a:lnTo>
                  <a:pt x="1736" y="1537"/>
                </a:lnTo>
                <a:lnTo>
                  <a:pt x="1736" y="1530"/>
                </a:lnTo>
                <a:lnTo>
                  <a:pt x="1736" y="1523"/>
                </a:lnTo>
                <a:lnTo>
                  <a:pt x="1743" y="1516"/>
                </a:lnTo>
                <a:lnTo>
                  <a:pt x="1743" y="1509"/>
                </a:lnTo>
                <a:lnTo>
                  <a:pt x="1750" y="1502"/>
                </a:lnTo>
                <a:lnTo>
                  <a:pt x="1750" y="1495"/>
                </a:lnTo>
                <a:lnTo>
                  <a:pt x="1757" y="1488"/>
                </a:lnTo>
                <a:lnTo>
                  <a:pt x="1757" y="1481"/>
                </a:lnTo>
                <a:lnTo>
                  <a:pt x="1764" y="1474"/>
                </a:lnTo>
                <a:lnTo>
                  <a:pt x="1764" y="1467"/>
                </a:lnTo>
                <a:lnTo>
                  <a:pt x="1771" y="1459"/>
                </a:lnTo>
                <a:lnTo>
                  <a:pt x="1771" y="1452"/>
                </a:lnTo>
                <a:lnTo>
                  <a:pt x="1778" y="1445"/>
                </a:lnTo>
                <a:lnTo>
                  <a:pt x="1785" y="1438"/>
                </a:lnTo>
                <a:lnTo>
                  <a:pt x="1793" y="1431"/>
                </a:lnTo>
                <a:lnTo>
                  <a:pt x="1800" y="1424"/>
                </a:lnTo>
                <a:lnTo>
                  <a:pt x="1807" y="1417"/>
                </a:lnTo>
                <a:lnTo>
                  <a:pt x="1814" y="1410"/>
                </a:lnTo>
                <a:lnTo>
                  <a:pt x="1821" y="1403"/>
                </a:lnTo>
                <a:lnTo>
                  <a:pt x="1828" y="1403"/>
                </a:lnTo>
                <a:lnTo>
                  <a:pt x="1835" y="1403"/>
                </a:lnTo>
                <a:lnTo>
                  <a:pt x="1842" y="1403"/>
                </a:lnTo>
                <a:lnTo>
                  <a:pt x="1849" y="1403"/>
                </a:lnTo>
                <a:lnTo>
                  <a:pt x="1856" y="1410"/>
                </a:lnTo>
                <a:lnTo>
                  <a:pt x="1863" y="1410"/>
                </a:lnTo>
                <a:lnTo>
                  <a:pt x="1871" y="1417"/>
                </a:lnTo>
                <a:lnTo>
                  <a:pt x="1878" y="1424"/>
                </a:lnTo>
                <a:lnTo>
                  <a:pt x="1885" y="1431"/>
                </a:lnTo>
                <a:lnTo>
                  <a:pt x="1892" y="1438"/>
                </a:lnTo>
                <a:lnTo>
                  <a:pt x="1899" y="1445"/>
                </a:lnTo>
                <a:lnTo>
                  <a:pt x="1906" y="1452"/>
                </a:lnTo>
                <a:lnTo>
                  <a:pt x="1913" y="1459"/>
                </a:lnTo>
                <a:lnTo>
                  <a:pt x="1913" y="1467"/>
                </a:lnTo>
                <a:lnTo>
                  <a:pt x="1920" y="1474"/>
                </a:lnTo>
                <a:lnTo>
                  <a:pt x="1920" y="1481"/>
                </a:lnTo>
                <a:lnTo>
                  <a:pt x="1927" y="1488"/>
                </a:lnTo>
                <a:lnTo>
                  <a:pt x="1927" y="1495"/>
                </a:lnTo>
                <a:lnTo>
                  <a:pt x="1934" y="1502"/>
                </a:lnTo>
                <a:lnTo>
                  <a:pt x="1941" y="1509"/>
                </a:lnTo>
                <a:lnTo>
                  <a:pt x="1941" y="1516"/>
                </a:lnTo>
                <a:lnTo>
                  <a:pt x="1948" y="1523"/>
                </a:lnTo>
                <a:lnTo>
                  <a:pt x="1948" y="1530"/>
                </a:lnTo>
                <a:lnTo>
                  <a:pt x="1956" y="1537"/>
                </a:lnTo>
                <a:lnTo>
                  <a:pt x="1956" y="1544"/>
                </a:lnTo>
                <a:lnTo>
                  <a:pt x="1963" y="1552"/>
                </a:lnTo>
                <a:lnTo>
                  <a:pt x="1963" y="1559"/>
                </a:lnTo>
                <a:lnTo>
                  <a:pt x="1970" y="1566"/>
                </a:lnTo>
                <a:lnTo>
                  <a:pt x="1970" y="1573"/>
                </a:lnTo>
                <a:lnTo>
                  <a:pt x="1977" y="1580"/>
                </a:lnTo>
                <a:lnTo>
                  <a:pt x="1977" y="1587"/>
                </a:lnTo>
                <a:lnTo>
                  <a:pt x="1984" y="1594"/>
                </a:lnTo>
                <a:lnTo>
                  <a:pt x="1991" y="1601"/>
                </a:lnTo>
                <a:lnTo>
                  <a:pt x="1991" y="1608"/>
                </a:lnTo>
                <a:lnTo>
                  <a:pt x="1998" y="1601"/>
                </a:lnTo>
                <a:lnTo>
                  <a:pt x="1998" y="1594"/>
                </a:lnTo>
                <a:lnTo>
                  <a:pt x="2005" y="1587"/>
                </a:lnTo>
                <a:lnTo>
                  <a:pt x="2005" y="1580"/>
                </a:lnTo>
                <a:lnTo>
                  <a:pt x="2012" y="1573"/>
                </a:lnTo>
                <a:lnTo>
                  <a:pt x="2012" y="1566"/>
                </a:lnTo>
                <a:lnTo>
                  <a:pt x="2019" y="1559"/>
                </a:lnTo>
                <a:lnTo>
                  <a:pt x="2026" y="1552"/>
                </a:lnTo>
                <a:lnTo>
                  <a:pt x="2026" y="1544"/>
                </a:lnTo>
                <a:lnTo>
                  <a:pt x="2034" y="1537"/>
                </a:lnTo>
                <a:lnTo>
                  <a:pt x="2034" y="1530"/>
                </a:lnTo>
                <a:lnTo>
                  <a:pt x="2041" y="1523"/>
                </a:lnTo>
                <a:lnTo>
                  <a:pt x="2048" y="1516"/>
                </a:lnTo>
                <a:lnTo>
                  <a:pt x="2055" y="1509"/>
                </a:lnTo>
                <a:lnTo>
                  <a:pt x="2062" y="1502"/>
                </a:lnTo>
                <a:lnTo>
                  <a:pt x="2069" y="1495"/>
                </a:lnTo>
                <a:lnTo>
                  <a:pt x="2069" y="1488"/>
                </a:lnTo>
                <a:lnTo>
                  <a:pt x="2076" y="1481"/>
                </a:lnTo>
                <a:lnTo>
                  <a:pt x="2083" y="1474"/>
                </a:lnTo>
                <a:lnTo>
                  <a:pt x="2090" y="1474"/>
                </a:lnTo>
                <a:lnTo>
                  <a:pt x="2097" y="1467"/>
                </a:lnTo>
                <a:lnTo>
                  <a:pt x="2104" y="1467"/>
                </a:lnTo>
                <a:lnTo>
                  <a:pt x="2111" y="1459"/>
                </a:lnTo>
                <a:lnTo>
                  <a:pt x="2119" y="1459"/>
                </a:lnTo>
                <a:lnTo>
                  <a:pt x="2126" y="1459"/>
                </a:lnTo>
                <a:lnTo>
                  <a:pt x="2133" y="1459"/>
                </a:lnTo>
                <a:lnTo>
                  <a:pt x="2140" y="1467"/>
                </a:lnTo>
                <a:lnTo>
                  <a:pt x="2147" y="1467"/>
                </a:lnTo>
                <a:lnTo>
                  <a:pt x="2154" y="1474"/>
                </a:lnTo>
                <a:lnTo>
                  <a:pt x="2161" y="1474"/>
                </a:lnTo>
                <a:lnTo>
                  <a:pt x="2168" y="1481"/>
                </a:lnTo>
                <a:lnTo>
                  <a:pt x="2175" y="1488"/>
                </a:lnTo>
                <a:lnTo>
                  <a:pt x="2182" y="1495"/>
                </a:lnTo>
                <a:lnTo>
                  <a:pt x="2189" y="1502"/>
                </a:lnTo>
                <a:lnTo>
                  <a:pt x="2197" y="1509"/>
                </a:lnTo>
                <a:lnTo>
                  <a:pt x="2204" y="1516"/>
                </a:lnTo>
                <a:lnTo>
                  <a:pt x="2211" y="1523"/>
                </a:lnTo>
                <a:lnTo>
                  <a:pt x="2218" y="1530"/>
                </a:lnTo>
                <a:lnTo>
                  <a:pt x="2225" y="1537"/>
                </a:lnTo>
                <a:lnTo>
                  <a:pt x="2232" y="1544"/>
                </a:lnTo>
                <a:lnTo>
                  <a:pt x="2239" y="1552"/>
                </a:lnTo>
                <a:lnTo>
                  <a:pt x="2239" y="1559"/>
                </a:lnTo>
                <a:lnTo>
                  <a:pt x="2246" y="1566"/>
                </a:lnTo>
                <a:lnTo>
                  <a:pt x="2253" y="1573"/>
                </a:lnTo>
                <a:lnTo>
                  <a:pt x="2253" y="1580"/>
                </a:lnTo>
                <a:lnTo>
                  <a:pt x="2260" y="1587"/>
                </a:lnTo>
                <a:lnTo>
                  <a:pt x="2267" y="1594"/>
                </a:lnTo>
                <a:lnTo>
                  <a:pt x="2267" y="1601"/>
                </a:lnTo>
                <a:lnTo>
                  <a:pt x="2274" y="1608"/>
                </a:lnTo>
              </a:path>
            </a:pathLst>
          </a:custGeom>
          <a:noFill/>
          <a:ln w="0">
            <a:solidFill>
              <a:srgbClr val="000066"/>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105520" y="3041640"/>
            <a:ext cx="380880" cy="2666880"/>
          </a:xfrm>
          <a:custGeom>
            <a:avLst/>
            <a:gdLst/>
            <a:ahLst/>
            <a:rect l="l" t="t" r="r" b="b"/>
            <a:pathLst>
              <a:path w="2274" h="1608">
                <a:moveTo>
                  <a:pt x="0" y="1608"/>
                </a:moveTo>
                <a:lnTo>
                  <a:pt x="7" y="1601"/>
                </a:lnTo>
                <a:lnTo>
                  <a:pt x="14" y="1594"/>
                </a:lnTo>
                <a:lnTo>
                  <a:pt x="14" y="1587"/>
                </a:lnTo>
                <a:lnTo>
                  <a:pt x="21" y="1580"/>
                </a:lnTo>
                <a:lnTo>
                  <a:pt x="28" y="1573"/>
                </a:lnTo>
                <a:lnTo>
                  <a:pt x="28" y="1566"/>
                </a:lnTo>
                <a:lnTo>
                  <a:pt x="35" y="1559"/>
                </a:lnTo>
                <a:lnTo>
                  <a:pt x="42" y="1552"/>
                </a:lnTo>
                <a:lnTo>
                  <a:pt x="49" y="1544"/>
                </a:lnTo>
                <a:lnTo>
                  <a:pt x="49" y="1537"/>
                </a:lnTo>
                <a:lnTo>
                  <a:pt x="56" y="1530"/>
                </a:lnTo>
                <a:lnTo>
                  <a:pt x="63" y="1523"/>
                </a:lnTo>
                <a:lnTo>
                  <a:pt x="71" y="1516"/>
                </a:lnTo>
                <a:lnTo>
                  <a:pt x="78" y="1509"/>
                </a:lnTo>
                <a:lnTo>
                  <a:pt x="85" y="1502"/>
                </a:lnTo>
                <a:lnTo>
                  <a:pt x="92" y="1495"/>
                </a:lnTo>
                <a:lnTo>
                  <a:pt x="99" y="1488"/>
                </a:lnTo>
                <a:lnTo>
                  <a:pt x="106" y="1481"/>
                </a:lnTo>
                <a:lnTo>
                  <a:pt x="113" y="1474"/>
                </a:lnTo>
                <a:lnTo>
                  <a:pt x="120" y="1467"/>
                </a:lnTo>
                <a:lnTo>
                  <a:pt x="127" y="1467"/>
                </a:lnTo>
                <a:lnTo>
                  <a:pt x="134" y="1459"/>
                </a:lnTo>
                <a:lnTo>
                  <a:pt x="141" y="1459"/>
                </a:lnTo>
                <a:lnTo>
                  <a:pt x="148" y="1459"/>
                </a:lnTo>
                <a:lnTo>
                  <a:pt x="156" y="1459"/>
                </a:lnTo>
                <a:lnTo>
                  <a:pt x="163" y="1467"/>
                </a:lnTo>
                <a:lnTo>
                  <a:pt x="170" y="1467"/>
                </a:lnTo>
                <a:lnTo>
                  <a:pt x="177" y="1467"/>
                </a:lnTo>
                <a:lnTo>
                  <a:pt x="184" y="1474"/>
                </a:lnTo>
                <a:lnTo>
                  <a:pt x="191" y="1481"/>
                </a:lnTo>
                <a:lnTo>
                  <a:pt x="198" y="1481"/>
                </a:lnTo>
                <a:lnTo>
                  <a:pt x="205" y="1488"/>
                </a:lnTo>
                <a:lnTo>
                  <a:pt x="212" y="1495"/>
                </a:lnTo>
                <a:lnTo>
                  <a:pt x="219" y="1502"/>
                </a:lnTo>
                <a:lnTo>
                  <a:pt x="226" y="1509"/>
                </a:lnTo>
                <a:lnTo>
                  <a:pt x="234" y="1516"/>
                </a:lnTo>
                <a:lnTo>
                  <a:pt x="234" y="1523"/>
                </a:lnTo>
                <a:lnTo>
                  <a:pt x="241" y="1530"/>
                </a:lnTo>
                <a:lnTo>
                  <a:pt x="241" y="1537"/>
                </a:lnTo>
                <a:lnTo>
                  <a:pt x="248" y="1544"/>
                </a:lnTo>
                <a:lnTo>
                  <a:pt x="255" y="1552"/>
                </a:lnTo>
                <a:lnTo>
                  <a:pt x="255" y="1559"/>
                </a:lnTo>
                <a:lnTo>
                  <a:pt x="262" y="1566"/>
                </a:lnTo>
                <a:lnTo>
                  <a:pt x="269" y="1573"/>
                </a:lnTo>
                <a:lnTo>
                  <a:pt x="269" y="1580"/>
                </a:lnTo>
                <a:lnTo>
                  <a:pt x="276" y="1587"/>
                </a:lnTo>
                <a:lnTo>
                  <a:pt x="276" y="1594"/>
                </a:lnTo>
                <a:lnTo>
                  <a:pt x="283" y="1601"/>
                </a:lnTo>
                <a:lnTo>
                  <a:pt x="283" y="1608"/>
                </a:lnTo>
                <a:lnTo>
                  <a:pt x="290" y="1601"/>
                </a:lnTo>
                <a:lnTo>
                  <a:pt x="290" y="1594"/>
                </a:lnTo>
                <a:lnTo>
                  <a:pt x="297" y="1587"/>
                </a:lnTo>
                <a:lnTo>
                  <a:pt x="297" y="1580"/>
                </a:lnTo>
                <a:lnTo>
                  <a:pt x="304" y="1573"/>
                </a:lnTo>
                <a:lnTo>
                  <a:pt x="304" y="1566"/>
                </a:lnTo>
                <a:lnTo>
                  <a:pt x="311" y="1559"/>
                </a:lnTo>
                <a:lnTo>
                  <a:pt x="319" y="1552"/>
                </a:lnTo>
                <a:lnTo>
                  <a:pt x="319" y="1544"/>
                </a:lnTo>
                <a:lnTo>
                  <a:pt x="319" y="1537"/>
                </a:lnTo>
                <a:lnTo>
                  <a:pt x="326" y="1530"/>
                </a:lnTo>
                <a:lnTo>
                  <a:pt x="326" y="1523"/>
                </a:lnTo>
                <a:lnTo>
                  <a:pt x="333" y="1516"/>
                </a:lnTo>
                <a:lnTo>
                  <a:pt x="340" y="1509"/>
                </a:lnTo>
                <a:lnTo>
                  <a:pt x="340" y="1502"/>
                </a:lnTo>
                <a:lnTo>
                  <a:pt x="347" y="1495"/>
                </a:lnTo>
                <a:lnTo>
                  <a:pt x="347" y="1488"/>
                </a:lnTo>
                <a:lnTo>
                  <a:pt x="354" y="1481"/>
                </a:lnTo>
                <a:lnTo>
                  <a:pt x="354" y="1474"/>
                </a:lnTo>
                <a:lnTo>
                  <a:pt x="361" y="1467"/>
                </a:lnTo>
                <a:lnTo>
                  <a:pt x="368" y="1459"/>
                </a:lnTo>
                <a:lnTo>
                  <a:pt x="375" y="1452"/>
                </a:lnTo>
                <a:lnTo>
                  <a:pt x="375" y="1445"/>
                </a:lnTo>
                <a:lnTo>
                  <a:pt x="382" y="1438"/>
                </a:lnTo>
                <a:lnTo>
                  <a:pt x="389" y="1431"/>
                </a:lnTo>
                <a:lnTo>
                  <a:pt x="397" y="1424"/>
                </a:lnTo>
                <a:lnTo>
                  <a:pt x="404" y="1417"/>
                </a:lnTo>
                <a:lnTo>
                  <a:pt x="411" y="1410"/>
                </a:lnTo>
                <a:lnTo>
                  <a:pt x="418" y="1403"/>
                </a:lnTo>
                <a:lnTo>
                  <a:pt x="425" y="1403"/>
                </a:lnTo>
                <a:lnTo>
                  <a:pt x="432" y="1403"/>
                </a:lnTo>
                <a:lnTo>
                  <a:pt x="439" y="1403"/>
                </a:lnTo>
                <a:lnTo>
                  <a:pt x="446" y="1403"/>
                </a:lnTo>
                <a:lnTo>
                  <a:pt x="453" y="1403"/>
                </a:lnTo>
                <a:lnTo>
                  <a:pt x="460" y="1410"/>
                </a:lnTo>
                <a:lnTo>
                  <a:pt x="467" y="1417"/>
                </a:lnTo>
                <a:lnTo>
                  <a:pt x="474" y="1424"/>
                </a:lnTo>
                <a:lnTo>
                  <a:pt x="482" y="1431"/>
                </a:lnTo>
                <a:lnTo>
                  <a:pt x="489" y="1438"/>
                </a:lnTo>
                <a:lnTo>
                  <a:pt x="496" y="1445"/>
                </a:lnTo>
                <a:lnTo>
                  <a:pt x="503" y="1452"/>
                </a:lnTo>
                <a:lnTo>
                  <a:pt x="503" y="1459"/>
                </a:lnTo>
                <a:lnTo>
                  <a:pt x="510" y="1467"/>
                </a:lnTo>
                <a:lnTo>
                  <a:pt x="510" y="1474"/>
                </a:lnTo>
                <a:lnTo>
                  <a:pt x="517" y="1481"/>
                </a:lnTo>
                <a:lnTo>
                  <a:pt x="517" y="1488"/>
                </a:lnTo>
                <a:lnTo>
                  <a:pt x="524" y="1495"/>
                </a:lnTo>
                <a:lnTo>
                  <a:pt x="524" y="1502"/>
                </a:lnTo>
                <a:lnTo>
                  <a:pt x="531" y="1509"/>
                </a:lnTo>
                <a:lnTo>
                  <a:pt x="531" y="1516"/>
                </a:lnTo>
                <a:lnTo>
                  <a:pt x="538" y="1523"/>
                </a:lnTo>
                <a:lnTo>
                  <a:pt x="538" y="1530"/>
                </a:lnTo>
                <a:lnTo>
                  <a:pt x="538" y="1537"/>
                </a:lnTo>
                <a:lnTo>
                  <a:pt x="545" y="1544"/>
                </a:lnTo>
                <a:lnTo>
                  <a:pt x="545" y="1552"/>
                </a:lnTo>
                <a:lnTo>
                  <a:pt x="552" y="1559"/>
                </a:lnTo>
                <a:lnTo>
                  <a:pt x="552" y="1566"/>
                </a:lnTo>
                <a:lnTo>
                  <a:pt x="552" y="1573"/>
                </a:lnTo>
                <a:lnTo>
                  <a:pt x="560" y="1580"/>
                </a:lnTo>
                <a:lnTo>
                  <a:pt x="560" y="1587"/>
                </a:lnTo>
                <a:lnTo>
                  <a:pt x="567" y="1594"/>
                </a:lnTo>
                <a:lnTo>
                  <a:pt x="567" y="1601"/>
                </a:lnTo>
                <a:lnTo>
                  <a:pt x="567" y="1608"/>
                </a:lnTo>
                <a:lnTo>
                  <a:pt x="574" y="1601"/>
                </a:lnTo>
                <a:lnTo>
                  <a:pt x="574" y="1594"/>
                </a:lnTo>
                <a:lnTo>
                  <a:pt x="574" y="1587"/>
                </a:lnTo>
                <a:lnTo>
                  <a:pt x="581" y="1580"/>
                </a:lnTo>
                <a:lnTo>
                  <a:pt x="581" y="1573"/>
                </a:lnTo>
                <a:lnTo>
                  <a:pt x="581" y="1566"/>
                </a:lnTo>
                <a:lnTo>
                  <a:pt x="588" y="1559"/>
                </a:lnTo>
                <a:lnTo>
                  <a:pt x="588" y="1552"/>
                </a:lnTo>
                <a:lnTo>
                  <a:pt x="588" y="1544"/>
                </a:lnTo>
                <a:lnTo>
                  <a:pt x="595" y="1537"/>
                </a:lnTo>
                <a:lnTo>
                  <a:pt x="595" y="1530"/>
                </a:lnTo>
                <a:lnTo>
                  <a:pt x="595" y="1523"/>
                </a:lnTo>
                <a:lnTo>
                  <a:pt x="602" y="1516"/>
                </a:lnTo>
                <a:lnTo>
                  <a:pt x="602" y="1509"/>
                </a:lnTo>
                <a:lnTo>
                  <a:pt x="602" y="1502"/>
                </a:lnTo>
                <a:lnTo>
                  <a:pt x="609" y="1495"/>
                </a:lnTo>
                <a:lnTo>
                  <a:pt x="609" y="1488"/>
                </a:lnTo>
                <a:lnTo>
                  <a:pt x="616" y="1481"/>
                </a:lnTo>
                <a:lnTo>
                  <a:pt x="616" y="1474"/>
                </a:lnTo>
                <a:lnTo>
                  <a:pt x="616" y="1467"/>
                </a:lnTo>
                <a:lnTo>
                  <a:pt x="616" y="1459"/>
                </a:lnTo>
                <a:lnTo>
                  <a:pt x="623" y="1452"/>
                </a:lnTo>
                <a:lnTo>
                  <a:pt x="623" y="1445"/>
                </a:lnTo>
                <a:lnTo>
                  <a:pt x="623" y="1438"/>
                </a:lnTo>
                <a:lnTo>
                  <a:pt x="630" y="1431"/>
                </a:lnTo>
                <a:lnTo>
                  <a:pt x="630" y="1424"/>
                </a:lnTo>
                <a:lnTo>
                  <a:pt x="637" y="1417"/>
                </a:lnTo>
                <a:lnTo>
                  <a:pt x="637" y="1410"/>
                </a:lnTo>
                <a:lnTo>
                  <a:pt x="637" y="1403"/>
                </a:lnTo>
                <a:lnTo>
                  <a:pt x="645" y="1396"/>
                </a:lnTo>
                <a:lnTo>
                  <a:pt x="645" y="1389"/>
                </a:lnTo>
                <a:lnTo>
                  <a:pt x="652" y="1382"/>
                </a:lnTo>
                <a:lnTo>
                  <a:pt x="652" y="1374"/>
                </a:lnTo>
                <a:lnTo>
                  <a:pt x="652" y="1367"/>
                </a:lnTo>
                <a:lnTo>
                  <a:pt x="652" y="1360"/>
                </a:lnTo>
                <a:lnTo>
                  <a:pt x="659" y="1353"/>
                </a:lnTo>
                <a:lnTo>
                  <a:pt x="659" y="1346"/>
                </a:lnTo>
                <a:lnTo>
                  <a:pt x="666" y="1339"/>
                </a:lnTo>
                <a:lnTo>
                  <a:pt x="666" y="1332"/>
                </a:lnTo>
                <a:lnTo>
                  <a:pt x="673" y="1325"/>
                </a:lnTo>
                <a:lnTo>
                  <a:pt x="673" y="1318"/>
                </a:lnTo>
                <a:lnTo>
                  <a:pt x="680" y="1311"/>
                </a:lnTo>
                <a:lnTo>
                  <a:pt x="687" y="1304"/>
                </a:lnTo>
                <a:lnTo>
                  <a:pt x="687" y="1296"/>
                </a:lnTo>
                <a:lnTo>
                  <a:pt x="694" y="1289"/>
                </a:lnTo>
                <a:lnTo>
                  <a:pt x="694" y="1282"/>
                </a:lnTo>
                <a:lnTo>
                  <a:pt x="701" y="1275"/>
                </a:lnTo>
                <a:lnTo>
                  <a:pt x="708" y="1268"/>
                </a:lnTo>
                <a:lnTo>
                  <a:pt x="715" y="1261"/>
                </a:lnTo>
                <a:lnTo>
                  <a:pt x="723" y="1261"/>
                </a:lnTo>
                <a:lnTo>
                  <a:pt x="730" y="1261"/>
                </a:lnTo>
                <a:lnTo>
                  <a:pt x="737" y="1261"/>
                </a:lnTo>
                <a:lnTo>
                  <a:pt x="744" y="1261"/>
                </a:lnTo>
                <a:lnTo>
                  <a:pt x="751" y="1268"/>
                </a:lnTo>
                <a:lnTo>
                  <a:pt x="758" y="1275"/>
                </a:lnTo>
                <a:lnTo>
                  <a:pt x="765" y="1282"/>
                </a:lnTo>
                <a:lnTo>
                  <a:pt x="765" y="1289"/>
                </a:lnTo>
                <a:lnTo>
                  <a:pt x="772" y="1296"/>
                </a:lnTo>
                <a:lnTo>
                  <a:pt x="772" y="1304"/>
                </a:lnTo>
                <a:lnTo>
                  <a:pt x="779" y="1311"/>
                </a:lnTo>
                <a:lnTo>
                  <a:pt x="779" y="1318"/>
                </a:lnTo>
                <a:lnTo>
                  <a:pt x="786" y="1325"/>
                </a:lnTo>
                <a:lnTo>
                  <a:pt x="786" y="1332"/>
                </a:lnTo>
                <a:lnTo>
                  <a:pt x="793" y="1339"/>
                </a:lnTo>
                <a:lnTo>
                  <a:pt x="793" y="1346"/>
                </a:lnTo>
                <a:lnTo>
                  <a:pt x="793" y="1353"/>
                </a:lnTo>
                <a:lnTo>
                  <a:pt x="800" y="1360"/>
                </a:lnTo>
                <a:lnTo>
                  <a:pt x="800" y="1367"/>
                </a:lnTo>
                <a:lnTo>
                  <a:pt x="800" y="1374"/>
                </a:lnTo>
                <a:lnTo>
                  <a:pt x="800" y="1382"/>
                </a:lnTo>
                <a:lnTo>
                  <a:pt x="808" y="1389"/>
                </a:lnTo>
                <a:lnTo>
                  <a:pt x="808" y="1403"/>
                </a:lnTo>
                <a:lnTo>
                  <a:pt x="808" y="1410"/>
                </a:lnTo>
                <a:lnTo>
                  <a:pt x="815" y="1417"/>
                </a:lnTo>
                <a:lnTo>
                  <a:pt x="815" y="1424"/>
                </a:lnTo>
                <a:lnTo>
                  <a:pt x="815" y="1431"/>
                </a:lnTo>
                <a:lnTo>
                  <a:pt x="822" y="1445"/>
                </a:lnTo>
                <a:lnTo>
                  <a:pt x="822" y="1452"/>
                </a:lnTo>
                <a:lnTo>
                  <a:pt x="822" y="1459"/>
                </a:lnTo>
                <a:lnTo>
                  <a:pt x="829" y="1474"/>
                </a:lnTo>
                <a:lnTo>
                  <a:pt x="829" y="1481"/>
                </a:lnTo>
                <a:lnTo>
                  <a:pt x="829" y="1495"/>
                </a:lnTo>
                <a:lnTo>
                  <a:pt x="836" y="1502"/>
                </a:lnTo>
                <a:lnTo>
                  <a:pt x="836" y="1516"/>
                </a:lnTo>
                <a:lnTo>
                  <a:pt x="836" y="1523"/>
                </a:lnTo>
                <a:lnTo>
                  <a:pt x="836" y="1537"/>
                </a:lnTo>
                <a:lnTo>
                  <a:pt x="843" y="1544"/>
                </a:lnTo>
                <a:lnTo>
                  <a:pt x="843" y="1559"/>
                </a:lnTo>
                <a:lnTo>
                  <a:pt x="843" y="1573"/>
                </a:lnTo>
                <a:lnTo>
                  <a:pt x="850" y="1587"/>
                </a:lnTo>
                <a:lnTo>
                  <a:pt x="850" y="1594"/>
                </a:lnTo>
                <a:lnTo>
                  <a:pt x="850" y="1608"/>
                </a:lnTo>
                <a:lnTo>
                  <a:pt x="857" y="1594"/>
                </a:lnTo>
                <a:lnTo>
                  <a:pt x="857" y="1580"/>
                </a:lnTo>
                <a:lnTo>
                  <a:pt x="857" y="1573"/>
                </a:lnTo>
                <a:lnTo>
                  <a:pt x="864" y="1559"/>
                </a:lnTo>
                <a:lnTo>
                  <a:pt x="864" y="1544"/>
                </a:lnTo>
                <a:lnTo>
                  <a:pt x="864" y="1530"/>
                </a:lnTo>
                <a:lnTo>
                  <a:pt x="871" y="1516"/>
                </a:lnTo>
                <a:lnTo>
                  <a:pt x="871" y="1502"/>
                </a:lnTo>
                <a:lnTo>
                  <a:pt x="871" y="1488"/>
                </a:lnTo>
                <a:lnTo>
                  <a:pt x="878" y="1474"/>
                </a:lnTo>
                <a:lnTo>
                  <a:pt x="878" y="1459"/>
                </a:lnTo>
                <a:lnTo>
                  <a:pt x="878" y="1445"/>
                </a:lnTo>
                <a:lnTo>
                  <a:pt x="878" y="1431"/>
                </a:lnTo>
                <a:lnTo>
                  <a:pt x="885" y="1417"/>
                </a:lnTo>
                <a:lnTo>
                  <a:pt x="885" y="1403"/>
                </a:lnTo>
                <a:lnTo>
                  <a:pt x="885" y="1382"/>
                </a:lnTo>
                <a:lnTo>
                  <a:pt x="893" y="1367"/>
                </a:lnTo>
                <a:lnTo>
                  <a:pt x="893" y="1353"/>
                </a:lnTo>
                <a:lnTo>
                  <a:pt x="893" y="1339"/>
                </a:lnTo>
                <a:lnTo>
                  <a:pt x="900" y="1325"/>
                </a:lnTo>
                <a:lnTo>
                  <a:pt x="900" y="1304"/>
                </a:lnTo>
                <a:lnTo>
                  <a:pt x="900" y="1289"/>
                </a:lnTo>
                <a:lnTo>
                  <a:pt x="907" y="1275"/>
                </a:lnTo>
                <a:lnTo>
                  <a:pt x="907" y="1261"/>
                </a:lnTo>
                <a:lnTo>
                  <a:pt x="907" y="1240"/>
                </a:lnTo>
                <a:lnTo>
                  <a:pt x="914" y="1226"/>
                </a:lnTo>
                <a:lnTo>
                  <a:pt x="914" y="1211"/>
                </a:lnTo>
                <a:lnTo>
                  <a:pt x="914" y="1190"/>
                </a:lnTo>
                <a:lnTo>
                  <a:pt x="914" y="1176"/>
                </a:lnTo>
                <a:lnTo>
                  <a:pt x="921" y="1162"/>
                </a:lnTo>
                <a:lnTo>
                  <a:pt x="921" y="1141"/>
                </a:lnTo>
                <a:lnTo>
                  <a:pt x="921" y="1126"/>
                </a:lnTo>
                <a:lnTo>
                  <a:pt x="928" y="1105"/>
                </a:lnTo>
                <a:lnTo>
                  <a:pt x="928" y="1091"/>
                </a:lnTo>
                <a:lnTo>
                  <a:pt x="928" y="1077"/>
                </a:lnTo>
                <a:lnTo>
                  <a:pt x="935" y="1056"/>
                </a:lnTo>
                <a:lnTo>
                  <a:pt x="935" y="1041"/>
                </a:lnTo>
                <a:lnTo>
                  <a:pt x="935" y="1020"/>
                </a:lnTo>
                <a:lnTo>
                  <a:pt x="942" y="1006"/>
                </a:lnTo>
                <a:lnTo>
                  <a:pt x="942" y="992"/>
                </a:lnTo>
                <a:lnTo>
                  <a:pt x="942" y="971"/>
                </a:lnTo>
                <a:lnTo>
                  <a:pt x="949" y="956"/>
                </a:lnTo>
                <a:lnTo>
                  <a:pt x="949" y="935"/>
                </a:lnTo>
                <a:lnTo>
                  <a:pt x="949" y="921"/>
                </a:lnTo>
                <a:lnTo>
                  <a:pt x="949" y="900"/>
                </a:lnTo>
                <a:lnTo>
                  <a:pt x="956" y="886"/>
                </a:lnTo>
                <a:lnTo>
                  <a:pt x="956" y="871"/>
                </a:lnTo>
                <a:lnTo>
                  <a:pt x="956" y="850"/>
                </a:lnTo>
                <a:lnTo>
                  <a:pt x="963" y="836"/>
                </a:lnTo>
                <a:lnTo>
                  <a:pt x="963" y="815"/>
                </a:lnTo>
                <a:lnTo>
                  <a:pt x="963" y="800"/>
                </a:lnTo>
                <a:lnTo>
                  <a:pt x="971" y="786"/>
                </a:lnTo>
                <a:lnTo>
                  <a:pt x="971" y="765"/>
                </a:lnTo>
                <a:lnTo>
                  <a:pt x="971" y="751"/>
                </a:lnTo>
                <a:lnTo>
                  <a:pt x="978" y="730"/>
                </a:lnTo>
                <a:lnTo>
                  <a:pt x="978" y="715"/>
                </a:lnTo>
                <a:lnTo>
                  <a:pt x="978" y="701"/>
                </a:lnTo>
                <a:lnTo>
                  <a:pt x="985" y="680"/>
                </a:lnTo>
                <a:lnTo>
                  <a:pt x="985" y="666"/>
                </a:lnTo>
                <a:lnTo>
                  <a:pt x="985" y="652"/>
                </a:lnTo>
                <a:lnTo>
                  <a:pt x="985" y="630"/>
                </a:lnTo>
                <a:lnTo>
                  <a:pt x="992" y="616"/>
                </a:lnTo>
                <a:lnTo>
                  <a:pt x="992" y="602"/>
                </a:lnTo>
                <a:lnTo>
                  <a:pt x="992" y="581"/>
                </a:lnTo>
                <a:lnTo>
                  <a:pt x="999" y="567"/>
                </a:lnTo>
                <a:lnTo>
                  <a:pt x="999" y="552"/>
                </a:lnTo>
                <a:lnTo>
                  <a:pt x="999" y="538"/>
                </a:lnTo>
                <a:lnTo>
                  <a:pt x="1006" y="524"/>
                </a:lnTo>
                <a:lnTo>
                  <a:pt x="1006" y="503"/>
                </a:lnTo>
                <a:lnTo>
                  <a:pt x="1006" y="489"/>
                </a:lnTo>
                <a:lnTo>
                  <a:pt x="1013" y="475"/>
                </a:lnTo>
                <a:lnTo>
                  <a:pt x="1013" y="460"/>
                </a:lnTo>
                <a:lnTo>
                  <a:pt x="1013" y="446"/>
                </a:lnTo>
                <a:lnTo>
                  <a:pt x="1020" y="432"/>
                </a:lnTo>
                <a:lnTo>
                  <a:pt x="1020" y="418"/>
                </a:lnTo>
                <a:lnTo>
                  <a:pt x="1020" y="404"/>
                </a:lnTo>
                <a:lnTo>
                  <a:pt x="1027" y="390"/>
                </a:lnTo>
                <a:lnTo>
                  <a:pt x="1027" y="375"/>
                </a:lnTo>
                <a:lnTo>
                  <a:pt x="1027" y="361"/>
                </a:lnTo>
                <a:lnTo>
                  <a:pt x="1027" y="347"/>
                </a:lnTo>
                <a:lnTo>
                  <a:pt x="1034" y="333"/>
                </a:lnTo>
                <a:lnTo>
                  <a:pt x="1034" y="319"/>
                </a:lnTo>
                <a:lnTo>
                  <a:pt x="1034" y="304"/>
                </a:lnTo>
                <a:lnTo>
                  <a:pt x="1041" y="297"/>
                </a:lnTo>
                <a:lnTo>
                  <a:pt x="1041" y="283"/>
                </a:lnTo>
                <a:lnTo>
                  <a:pt x="1041" y="269"/>
                </a:lnTo>
                <a:lnTo>
                  <a:pt x="1048" y="255"/>
                </a:lnTo>
                <a:lnTo>
                  <a:pt x="1048" y="248"/>
                </a:lnTo>
                <a:lnTo>
                  <a:pt x="1048" y="234"/>
                </a:lnTo>
                <a:lnTo>
                  <a:pt x="1056" y="227"/>
                </a:lnTo>
                <a:lnTo>
                  <a:pt x="1056" y="212"/>
                </a:lnTo>
                <a:lnTo>
                  <a:pt x="1056" y="198"/>
                </a:lnTo>
                <a:lnTo>
                  <a:pt x="1063" y="191"/>
                </a:lnTo>
                <a:lnTo>
                  <a:pt x="1063" y="177"/>
                </a:lnTo>
                <a:lnTo>
                  <a:pt x="1063" y="170"/>
                </a:lnTo>
                <a:lnTo>
                  <a:pt x="1063" y="163"/>
                </a:lnTo>
                <a:lnTo>
                  <a:pt x="1070" y="149"/>
                </a:lnTo>
                <a:lnTo>
                  <a:pt x="1070" y="142"/>
                </a:lnTo>
                <a:lnTo>
                  <a:pt x="1070" y="134"/>
                </a:lnTo>
                <a:lnTo>
                  <a:pt x="1077" y="120"/>
                </a:lnTo>
                <a:lnTo>
                  <a:pt x="1077" y="113"/>
                </a:lnTo>
                <a:lnTo>
                  <a:pt x="1077" y="106"/>
                </a:lnTo>
                <a:lnTo>
                  <a:pt x="1084" y="99"/>
                </a:lnTo>
                <a:lnTo>
                  <a:pt x="1084" y="92"/>
                </a:lnTo>
                <a:lnTo>
                  <a:pt x="1084" y="85"/>
                </a:lnTo>
                <a:lnTo>
                  <a:pt x="1091" y="78"/>
                </a:lnTo>
                <a:lnTo>
                  <a:pt x="1091" y="71"/>
                </a:lnTo>
                <a:lnTo>
                  <a:pt x="1091" y="64"/>
                </a:lnTo>
                <a:lnTo>
                  <a:pt x="1098" y="56"/>
                </a:lnTo>
                <a:lnTo>
                  <a:pt x="1098" y="49"/>
                </a:lnTo>
                <a:lnTo>
                  <a:pt x="1098" y="42"/>
                </a:lnTo>
                <a:lnTo>
                  <a:pt x="1105" y="35"/>
                </a:lnTo>
                <a:lnTo>
                  <a:pt x="1105" y="28"/>
                </a:lnTo>
                <a:lnTo>
                  <a:pt x="1112" y="21"/>
                </a:lnTo>
                <a:lnTo>
                  <a:pt x="1119" y="14"/>
                </a:lnTo>
                <a:lnTo>
                  <a:pt x="1126" y="7"/>
                </a:lnTo>
                <a:lnTo>
                  <a:pt x="1134" y="0"/>
                </a:lnTo>
                <a:lnTo>
                  <a:pt x="1141" y="0"/>
                </a:lnTo>
                <a:lnTo>
                  <a:pt x="1148" y="7"/>
                </a:lnTo>
                <a:lnTo>
                  <a:pt x="1155" y="14"/>
                </a:lnTo>
                <a:lnTo>
                  <a:pt x="1162" y="21"/>
                </a:lnTo>
                <a:lnTo>
                  <a:pt x="1169" y="28"/>
                </a:lnTo>
                <a:lnTo>
                  <a:pt x="1169" y="35"/>
                </a:lnTo>
                <a:lnTo>
                  <a:pt x="1176" y="42"/>
                </a:lnTo>
                <a:lnTo>
                  <a:pt x="1176" y="49"/>
                </a:lnTo>
                <a:lnTo>
                  <a:pt x="1176" y="56"/>
                </a:lnTo>
                <a:lnTo>
                  <a:pt x="1183" y="64"/>
                </a:lnTo>
                <a:lnTo>
                  <a:pt x="1183" y="71"/>
                </a:lnTo>
                <a:lnTo>
                  <a:pt x="1183" y="78"/>
                </a:lnTo>
                <a:lnTo>
                  <a:pt x="1190" y="85"/>
                </a:lnTo>
                <a:lnTo>
                  <a:pt x="1190" y="92"/>
                </a:lnTo>
                <a:lnTo>
                  <a:pt x="1190" y="99"/>
                </a:lnTo>
                <a:lnTo>
                  <a:pt x="1197" y="106"/>
                </a:lnTo>
                <a:lnTo>
                  <a:pt x="1197" y="113"/>
                </a:lnTo>
                <a:lnTo>
                  <a:pt x="1197" y="120"/>
                </a:lnTo>
                <a:lnTo>
                  <a:pt x="1204" y="134"/>
                </a:lnTo>
                <a:lnTo>
                  <a:pt x="1204" y="142"/>
                </a:lnTo>
                <a:lnTo>
                  <a:pt x="1204" y="149"/>
                </a:lnTo>
                <a:lnTo>
                  <a:pt x="1211" y="163"/>
                </a:lnTo>
                <a:lnTo>
                  <a:pt x="1211" y="170"/>
                </a:lnTo>
                <a:lnTo>
                  <a:pt x="1211" y="177"/>
                </a:lnTo>
                <a:lnTo>
                  <a:pt x="1211" y="191"/>
                </a:lnTo>
                <a:lnTo>
                  <a:pt x="1219" y="198"/>
                </a:lnTo>
                <a:lnTo>
                  <a:pt x="1219" y="212"/>
                </a:lnTo>
                <a:lnTo>
                  <a:pt x="1219" y="227"/>
                </a:lnTo>
                <a:lnTo>
                  <a:pt x="1226" y="234"/>
                </a:lnTo>
                <a:lnTo>
                  <a:pt x="1226" y="248"/>
                </a:lnTo>
                <a:lnTo>
                  <a:pt x="1226" y="255"/>
                </a:lnTo>
                <a:lnTo>
                  <a:pt x="1233" y="269"/>
                </a:lnTo>
                <a:lnTo>
                  <a:pt x="1233" y="283"/>
                </a:lnTo>
                <a:lnTo>
                  <a:pt x="1233" y="297"/>
                </a:lnTo>
                <a:lnTo>
                  <a:pt x="1240" y="304"/>
                </a:lnTo>
                <a:lnTo>
                  <a:pt x="1240" y="319"/>
                </a:lnTo>
                <a:lnTo>
                  <a:pt x="1240" y="333"/>
                </a:lnTo>
                <a:lnTo>
                  <a:pt x="1247" y="347"/>
                </a:lnTo>
                <a:lnTo>
                  <a:pt x="1247" y="361"/>
                </a:lnTo>
                <a:lnTo>
                  <a:pt x="1247" y="375"/>
                </a:lnTo>
                <a:lnTo>
                  <a:pt x="1247" y="390"/>
                </a:lnTo>
                <a:lnTo>
                  <a:pt x="1254" y="404"/>
                </a:lnTo>
                <a:lnTo>
                  <a:pt x="1254" y="418"/>
                </a:lnTo>
                <a:lnTo>
                  <a:pt x="1254" y="432"/>
                </a:lnTo>
                <a:lnTo>
                  <a:pt x="1261" y="446"/>
                </a:lnTo>
                <a:lnTo>
                  <a:pt x="1261" y="460"/>
                </a:lnTo>
                <a:lnTo>
                  <a:pt x="1261" y="475"/>
                </a:lnTo>
                <a:lnTo>
                  <a:pt x="1268" y="489"/>
                </a:lnTo>
                <a:lnTo>
                  <a:pt x="1268" y="503"/>
                </a:lnTo>
                <a:lnTo>
                  <a:pt x="1268" y="524"/>
                </a:lnTo>
                <a:lnTo>
                  <a:pt x="1275" y="538"/>
                </a:lnTo>
                <a:lnTo>
                  <a:pt x="1275" y="552"/>
                </a:lnTo>
                <a:lnTo>
                  <a:pt x="1275" y="567"/>
                </a:lnTo>
                <a:lnTo>
                  <a:pt x="1282" y="581"/>
                </a:lnTo>
                <a:lnTo>
                  <a:pt x="1282" y="602"/>
                </a:lnTo>
                <a:lnTo>
                  <a:pt x="1282" y="616"/>
                </a:lnTo>
                <a:lnTo>
                  <a:pt x="1289" y="630"/>
                </a:lnTo>
                <a:lnTo>
                  <a:pt x="1289" y="652"/>
                </a:lnTo>
                <a:lnTo>
                  <a:pt x="1289" y="666"/>
                </a:lnTo>
                <a:lnTo>
                  <a:pt x="1289" y="680"/>
                </a:lnTo>
                <a:lnTo>
                  <a:pt x="1297" y="701"/>
                </a:lnTo>
                <a:lnTo>
                  <a:pt x="1297" y="715"/>
                </a:lnTo>
                <a:lnTo>
                  <a:pt x="1297" y="730"/>
                </a:lnTo>
                <a:lnTo>
                  <a:pt x="1304" y="751"/>
                </a:lnTo>
                <a:lnTo>
                  <a:pt x="1304" y="765"/>
                </a:lnTo>
                <a:lnTo>
                  <a:pt x="1304" y="786"/>
                </a:lnTo>
                <a:lnTo>
                  <a:pt x="1311" y="800"/>
                </a:lnTo>
                <a:lnTo>
                  <a:pt x="1311" y="815"/>
                </a:lnTo>
                <a:lnTo>
                  <a:pt x="1311" y="836"/>
                </a:lnTo>
                <a:lnTo>
                  <a:pt x="1318" y="850"/>
                </a:lnTo>
                <a:lnTo>
                  <a:pt x="1318" y="871"/>
                </a:lnTo>
                <a:lnTo>
                  <a:pt x="1318" y="886"/>
                </a:lnTo>
                <a:lnTo>
                  <a:pt x="1325" y="900"/>
                </a:lnTo>
                <a:lnTo>
                  <a:pt x="1325" y="921"/>
                </a:lnTo>
                <a:lnTo>
                  <a:pt x="1325" y="935"/>
                </a:lnTo>
                <a:lnTo>
                  <a:pt x="1325" y="956"/>
                </a:lnTo>
                <a:lnTo>
                  <a:pt x="1332" y="971"/>
                </a:lnTo>
                <a:lnTo>
                  <a:pt x="1332" y="992"/>
                </a:lnTo>
                <a:lnTo>
                  <a:pt x="1332" y="1006"/>
                </a:lnTo>
                <a:lnTo>
                  <a:pt x="1339" y="1020"/>
                </a:lnTo>
                <a:lnTo>
                  <a:pt x="1339" y="1041"/>
                </a:lnTo>
                <a:lnTo>
                  <a:pt x="1339" y="1056"/>
                </a:lnTo>
                <a:lnTo>
                  <a:pt x="1346" y="1077"/>
                </a:lnTo>
                <a:lnTo>
                  <a:pt x="1346" y="1091"/>
                </a:lnTo>
                <a:lnTo>
                  <a:pt x="1346" y="1105"/>
                </a:lnTo>
                <a:lnTo>
                  <a:pt x="1353" y="1126"/>
                </a:lnTo>
                <a:lnTo>
                  <a:pt x="1353" y="1141"/>
                </a:lnTo>
                <a:lnTo>
                  <a:pt x="1353" y="1162"/>
                </a:lnTo>
                <a:lnTo>
                  <a:pt x="1360" y="1176"/>
                </a:lnTo>
                <a:lnTo>
                  <a:pt x="1360" y="1190"/>
                </a:lnTo>
                <a:lnTo>
                  <a:pt x="1360" y="1211"/>
                </a:lnTo>
                <a:lnTo>
                  <a:pt x="1360" y="1226"/>
                </a:lnTo>
                <a:lnTo>
                  <a:pt x="1367" y="1240"/>
                </a:lnTo>
                <a:lnTo>
                  <a:pt x="1367" y="1261"/>
                </a:lnTo>
                <a:lnTo>
                  <a:pt x="1367" y="1275"/>
                </a:lnTo>
                <a:lnTo>
                  <a:pt x="1374" y="1289"/>
                </a:lnTo>
                <a:lnTo>
                  <a:pt x="1374" y="1304"/>
                </a:lnTo>
                <a:lnTo>
                  <a:pt x="1374" y="1325"/>
                </a:lnTo>
                <a:lnTo>
                  <a:pt x="1382" y="1339"/>
                </a:lnTo>
                <a:lnTo>
                  <a:pt x="1382" y="1353"/>
                </a:lnTo>
                <a:lnTo>
                  <a:pt x="1382" y="1367"/>
                </a:lnTo>
                <a:lnTo>
                  <a:pt x="1389" y="1382"/>
                </a:lnTo>
                <a:lnTo>
                  <a:pt x="1389" y="1403"/>
                </a:lnTo>
                <a:lnTo>
                  <a:pt x="1389" y="1417"/>
                </a:lnTo>
                <a:lnTo>
                  <a:pt x="1396" y="1431"/>
                </a:lnTo>
                <a:lnTo>
                  <a:pt x="1396" y="1445"/>
                </a:lnTo>
                <a:lnTo>
                  <a:pt x="1396" y="1459"/>
                </a:lnTo>
                <a:lnTo>
                  <a:pt x="1396" y="1474"/>
                </a:lnTo>
                <a:lnTo>
                  <a:pt x="1403" y="1488"/>
                </a:lnTo>
                <a:lnTo>
                  <a:pt x="1403" y="1502"/>
                </a:lnTo>
                <a:lnTo>
                  <a:pt x="1403" y="1516"/>
                </a:lnTo>
                <a:lnTo>
                  <a:pt x="1410" y="1530"/>
                </a:lnTo>
                <a:lnTo>
                  <a:pt x="1410" y="1544"/>
                </a:lnTo>
                <a:lnTo>
                  <a:pt x="1410" y="1559"/>
                </a:lnTo>
                <a:lnTo>
                  <a:pt x="1417" y="1573"/>
                </a:lnTo>
                <a:lnTo>
                  <a:pt x="1417" y="1580"/>
                </a:lnTo>
                <a:lnTo>
                  <a:pt x="1417" y="1594"/>
                </a:lnTo>
                <a:lnTo>
                  <a:pt x="1424" y="1608"/>
                </a:lnTo>
                <a:lnTo>
                  <a:pt x="1424" y="1594"/>
                </a:lnTo>
                <a:lnTo>
                  <a:pt x="1424" y="1587"/>
                </a:lnTo>
                <a:lnTo>
                  <a:pt x="1431" y="1573"/>
                </a:lnTo>
                <a:lnTo>
                  <a:pt x="1431" y="1559"/>
                </a:lnTo>
                <a:lnTo>
                  <a:pt x="1431" y="1544"/>
                </a:lnTo>
                <a:lnTo>
                  <a:pt x="1438" y="1537"/>
                </a:lnTo>
                <a:lnTo>
                  <a:pt x="1438" y="1523"/>
                </a:lnTo>
                <a:lnTo>
                  <a:pt x="1438" y="1516"/>
                </a:lnTo>
                <a:lnTo>
                  <a:pt x="1438" y="1502"/>
                </a:lnTo>
                <a:lnTo>
                  <a:pt x="1445" y="1495"/>
                </a:lnTo>
                <a:lnTo>
                  <a:pt x="1445" y="1481"/>
                </a:lnTo>
                <a:lnTo>
                  <a:pt x="1445" y="1474"/>
                </a:lnTo>
                <a:lnTo>
                  <a:pt x="1452" y="1459"/>
                </a:lnTo>
                <a:lnTo>
                  <a:pt x="1452" y="1452"/>
                </a:lnTo>
                <a:lnTo>
                  <a:pt x="1452" y="1445"/>
                </a:lnTo>
                <a:lnTo>
                  <a:pt x="1460" y="1431"/>
                </a:lnTo>
                <a:lnTo>
                  <a:pt x="1460" y="1424"/>
                </a:lnTo>
                <a:lnTo>
                  <a:pt x="1460" y="1417"/>
                </a:lnTo>
                <a:lnTo>
                  <a:pt x="1467" y="1410"/>
                </a:lnTo>
                <a:lnTo>
                  <a:pt x="1467" y="1403"/>
                </a:lnTo>
                <a:lnTo>
                  <a:pt x="1467" y="1389"/>
                </a:lnTo>
                <a:lnTo>
                  <a:pt x="1474" y="1382"/>
                </a:lnTo>
                <a:lnTo>
                  <a:pt x="1474" y="1374"/>
                </a:lnTo>
                <a:lnTo>
                  <a:pt x="1474" y="1367"/>
                </a:lnTo>
                <a:lnTo>
                  <a:pt x="1474" y="1360"/>
                </a:lnTo>
                <a:lnTo>
                  <a:pt x="1481" y="1353"/>
                </a:lnTo>
                <a:lnTo>
                  <a:pt x="1481" y="1346"/>
                </a:lnTo>
                <a:lnTo>
                  <a:pt x="1488" y="1339"/>
                </a:lnTo>
                <a:lnTo>
                  <a:pt x="1488" y="1332"/>
                </a:lnTo>
                <a:lnTo>
                  <a:pt x="1488" y="1325"/>
                </a:lnTo>
                <a:lnTo>
                  <a:pt x="1495" y="1318"/>
                </a:lnTo>
                <a:lnTo>
                  <a:pt x="1495" y="1311"/>
                </a:lnTo>
                <a:lnTo>
                  <a:pt x="1502" y="1304"/>
                </a:lnTo>
                <a:lnTo>
                  <a:pt x="1502" y="1296"/>
                </a:lnTo>
                <a:lnTo>
                  <a:pt x="1509" y="1289"/>
                </a:lnTo>
                <a:lnTo>
                  <a:pt x="1509" y="1282"/>
                </a:lnTo>
                <a:lnTo>
                  <a:pt x="1516" y="1275"/>
                </a:lnTo>
                <a:lnTo>
                  <a:pt x="1523" y="1268"/>
                </a:lnTo>
                <a:lnTo>
                  <a:pt x="1530" y="1261"/>
                </a:lnTo>
                <a:lnTo>
                  <a:pt x="1537" y="1261"/>
                </a:lnTo>
                <a:lnTo>
                  <a:pt x="1545" y="1261"/>
                </a:lnTo>
                <a:lnTo>
                  <a:pt x="1552" y="1261"/>
                </a:lnTo>
                <a:lnTo>
                  <a:pt x="1559" y="1268"/>
                </a:lnTo>
                <a:lnTo>
                  <a:pt x="1566" y="1268"/>
                </a:lnTo>
                <a:lnTo>
                  <a:pt x="1573" y="1275"/>
                </a:lnTo>
                <a:lnTo>
                  <a:pt x="1580" y="1282"/>
                </a:lnTo>
                <a:lnTo>
                  <a:pt x="1587" y="1289"/>
                </a:lnTo>
                <a:lnTo>
                  <a:pt x="1587" y="1296"/>
                </a:lnTo>
                <a:lnTo>
                  <a:pt x="1594" y="1304"/>
                </a:lnTo>
                <a:lnTo>
                  <a:pt x="1594" y="1311"/>
                </a:lnTo>
                <a:lnTo>
                  <a:pt x="1601" y="1318"/>
                </a:lnTo>
                <a:lnTo>
                  <a:pt x="1601" y="1325"/>
                </a:lnTo>
                <a:lnTo>
                  <a:pt x="1608" y="1332"/>
                </a:lnTo>
                <a:lnTo>
                  <a:pt x="1608" y="1339"/>
                </a:lnTo>
                <a:lnTo>
                  <a:pt x="1615" y="1346"/>
                </a:lnTo>
                <a:lnTo>
                  <a:pt x="1615" y="1353"/>
                </a:lnTo>
                <a:lnTo>
                  <a:pt x="1622" y="1360"/>
                </a:lnTo>
                <a:lnTo>
                  <a:pt x="1622" y="1367"/>
                </a:lnTo>
                <a:lnTo>
                  <a:pt x="1622" y="1374"/>
                </a:lnTo>
                <a:lnTo>
                  <a:pt x="1630" y="1382"/>
                </a:lnTo>
                <a:lnTo>
                  <a:pt x="1630" y="1389"/>
                </a:lnTo>
                <a:lnTo>
                  <a:pt x="1630" y="1396"/>
                </a:lnTo>
                <a:lnTo>
                  <a:pt x="1637" y="1403"/>
                </a:lnTo>
                <a:lnTo>
                  <a:pt x="1637" y="1410"/>
                </a:lnTo>
                <a:lnTo>
                  <a:pt x="1644" y="1417"/>
                </a:lnTo>
                <a:lnTo>
                  <a:pt x="1644" y="1424"/>
                </a:lnTo>
                <a:lnTo>
                  <a:pt x="1644" y="1431"/>
                </a:lnTo>
                <a:lnTo>
                  <a:pt x="1651" y="1438"/>
                </a:lnTo>
                <a:lnTo>
                  <a:pt x="1651" y="1445"/>
                </a:lnTo>
                <a:lnTo>
                  <a:pt x="1651" y="1452"/>
                </a:lnTo>
                <a:lnTo>
                  <a:pt x="1658" y="1459"/>
                </a:lnTo>
                <a:lnTo>
                  <a:pt x="1658" y="1467"/>
                </a:lnTo>
                <a:lnTo>
                  <a:pt x="1658" y="1474"/>
                </a:lnTo>
                <a:lnTo>
                  <a:pt x="1665" y="1481"/>
                </a:lnTo>
                <a:lnTo>
                  <a:pt x="1665" y="1488"/>
                </a:lnTo>
                <a:lnTo>
                  <a:pt x="1665" y="1495"/>
                </a:lnTo>
                <a:lnTo>
                  <a:pt x="1672" y="1502"/>
                </a:lnTo>
                <a:lnTo>
                  <a:pt x="1672" y="1509"/>
                </a:lnTo>
                <a:lnTo>
                  <a:pt x="1672" y="1516"/>
                </a:lnTo>
                <a:lnTo>
                  <a:pt x="1679" y="1523"/>
                </a:lnTo>
                <a:lnTo>
                  <a:pt x="1679" y="1530"/>
                </a:lnTo>
                <a:lnTo>
                  <a:pt x="1679" y="1537"/>
                </a:lnTo>
                <a:lnTo>
                  <a:pt x="1686" y="1544"/>
                </a:lnTo>
                <a:lnTo>
                  <a:pt x="1686" y="1552"/>
                </a:lnTo>
                <a:lnTo>
                  <a:pt x="1686" y="1559"/>
                </a:lnTo>
                <a:lnTo>
                  <a:pt x="1693" y="1566"/>
                </a:lnTo>
                <a:lnTo>
                  <a:pt x="1693" y="1573"/>
                </a:lnTo>
                <a:lnTo>
                  <a:pt x="1693" y="1580"/>
                </a:lnTo>
                <a:lnTo>
                  <a:pt x="1700" y="1587"/>
                </a:lnTo>
                <a:lnTo>
                  <a:pt x="1700" y="1594"/>
                </a:lnTo>
                <a:lnTo>
                  <a:pt x="1700" y="1601"/>
                </a:lnTo>
                <a:lnTo>
                  <a:pt x="1708" y="1608"/>
                </a:lnTo>
                <a:lnTo>
                  <a:pt x="1708" y="1601"/>
                </a:lnTo>
                <a:lnTo>
                  <a:pt x="1708" y="1594"/>
                </a:lnTo>
                <a:lnTo>
                  <a:pt x="1715" y="1587"/>
                </a:lnTo>
                <a:lnTo>
                  <a:pt x="1715" y="1580"/>
                </a:lnTo>
                <a:lnTo>
                  <a:pt x="1722" y="1573"/>
                </a:lnTo>
                <a:lnTo>
                  <a:pt x="1722" y="1566"/>
                </a:lnTo>
                <a:lnTo>
                  <a:pt x="1722" y="1559"/>
                </a:lnTo>
                <a:lnTo>
                  <a:pt x="1729" y="1552"/>
                </a:lnTo>
                <a:lnTo>
                  <a:pt x="1729" y="1544"/>
                </a:lnTo>
                <a:lnTo>
                  <a:pt x="1736" y="1537"/>
                </a:lnTo>
                <a:lnTo>
                  <a:pt x="1736" y="1530"/>
                </a:lnTo>
                <a:lnTo>
                  <a:pt x="1736" y="1523"/>
                </a:lnTo>
                <a:lnTo>
                  <a:pt x="1743" y="1516"/>
                </a:lnTo>
                <a:lnTo>
                  <a:pt x="1743" y="1509"/>
                </a:lnTo>
                <a:lnTo>
                  <a:pt x="1750" y="1502"/>
                </a:lnTo>
                <a:lnTo>
                  <a:pt x="1750" y="1495"/>
                </a:lnTo>
                <a:lnTo>
                  <a:pt x="1757" y="1488"/>
                </a:lnTo>
                <a:lnTo>
                  <a:pt x="1757" y="1481"/>
                </a:lnTo>
                <a:lnTo>
                  <a:pt x="1764" y="1474"/>
                </a:lnTo>
                <a:lnTo>
                  <a:pt x="1764" y="1467"/>
                </a:lnTo>
                <a:lnTo>
                  <a:pt x="1771" y="1459"/>
                </a:lnTo>
                <a:lnTo>
                  <a:pt x="1771" y="1452"/>
                </a:lnTo>
                <a:lnTo>
                  <a:pt x="1778" y="1445"/>
                </a:lnTo>
                <a:lnTo>
                  <a:pt x="1785" y="1438"/>
                </a:lnTo>
                <a:lnTo>
                  <a:pt x="1793" y="1431"/>
                </a:lnTo>
                <a:lnTo>
                  <a:pt x="1800" y="1424"/>
                </a:lnTo>
                <a:lnTo>
                  <a:pt x="1807" y="1417"/>
                </a:lnTo>
                <a:lnTo>
                  <a:pt x="1814" y="1410"/>
                </a:lnTo>
                <a:lnTo>
                  <a:pt x="1821" y="1403"/>
                </a:lnTo>
                <a:lnTo>
                  <a:pt x="1828" y="1403"/>
                </a:lnTo>
                <a:lnTo>
                  <a:pt x="1835" y="1403"/>
                </a:lnTo>
                <a:lnTo>
                  <a:pt x="1842" y="1403"/>
                </a:lnTo>
                <a:lnTo>
                  <a:pt x="1849" y="1403"/>
                </a:lnTo>
                <a:lnTo>
                  <a:pt x="1856" y="1410"/>
                </a:lnTo>
                <a:lnTo>
                  <a:pt x="1863" y="1410"/>
                </a:lnTo>
                <a:lnTo>
                  <a:pt x="1871" y="1417"/>
                </a:lnTo>
                <a:lnTo>
                  <a:pt x="1878" y="1424"/>
                </a:lnTo>
                <a:lnTo>
                  <a:pt x="1885" y="1431"/>
                </a:lnTo>
                <a:lnTo>
                  <a:pt x="1892" y="1438"/>
                </a:lnTo>
                <a:lnTo>
                  <a:pt x="1899" y="1445"/>
                </a:lnTo>
                <a:lnTo>
                  <a:pt x="1906" y="1452"/>
                </a:lnTo>
                <a:lnTo>
                  <a:pt x="1913" y="1459"/>
                </a:lnTo>
                <a:lnTo>
                  <a:pt x="1913" y="1467"/>
                </a:lnTo>
                <a:lnTo>
                  <a:pt x="1920" y="1474"/>
                </a:lnTo>
                <a:lnTo>
                  <a:pt x="1920" y="1481"/>
                </a:lnTo>
                <a:lnTo>
                  <a:pt x="1927" y="1488"/>
                </a:lnTo>
                <a:lnTo>
                  <a:pt x="1927" y="1495"/>
                </a:lnTo>
                <a:lnTo>
                  <a:pt x="1934" y="1502"/>
                </a:lnTo>
                <a:lnTo>
                  <a:pt x="1941" y="1509"/>
                </a:lnTo>
                <a:lnTo>
                  <a:pt x="1941" y="1516"/>
                </a:lnTo>
                <a:lnTo>
                  <a:pt x="1948" y="1523"/>
                </a:lnTo>
                <a:lnTo>
                  <a:pt x="1948" y="1530"/>
                </a:lnTo>
                <a:lnTo>
                  <a:pt x="1956" y="1537"/>
                </a:lnTo>
                <a:lnTo>
                  <a:pt x="1956" y="1544"/>
                </a:lnTo>
                <a:lnTo>
                  <a:pt x="1963" y="1552"/>
                </a:lnTo>
                <a:lnTo>
                  <a:pt x="1963" y="1559"/>
                </a:lnTo>
                <a:lnTo>
                  <a:pt x="1970" y="1566"/>
                </a:lnTo>
                <a:lnTo>
                  <a:pt x="1970" y="1573"/>
                </a:lnTo>
                <a:lnTo>
                  <a:pt x="1977" y="1580"/>
                </a:lnTo>
                <a:lnTo>
                  <a:pt x="1977" y="1587"/>
                </a:lnTo>
                <a:lnTo>
                  <a:pt x="1984" y="1594"/>
                </a:lnTo>
                <a:lnTo>
                  <a:pt x="1991" y="1601"/>
                </a:lnTo>
                <a:lnTo>
                  <a:pt x="1991" y="1608"/>
                </a:lnTo>
                <a:lnTo>
                  <a:pt x="1998" y="1601"/>
                </a:lnTo>
                <a:lnTo>
                  <a:pt x="1998" y="1594"/>
                </a:lnTo>
                <a:lnTo>
                  <a:pt x="2005" y="1587"/>
                </a:lnTo>
                <a:lnTo>
                  <a:pt x="2005" y="1580"/>
                </a:lnTo>
                <a:lnTo>
                  <a:pt x="2012" y="1573"/>
                </a:lnTo>
                <a:lnTo>
                  <a:pt x="2012" y="1566"/>
                </a:lnTo>
                <a:lnTo>
                  <a:pt x="2019" y="1559"/>
                </a:lnTo>
                <a:lnTo>
                  <a:pt x="2026" y="1552"/>
                </a:lnTo>
                <a:lnTo>
                  <a:pt x="2026" y="1544"/>
                </a:lnTo>
                <a:lnTo>
                  <a:pt x="2034" y="1537"/>
                </a:lnTo>
                <a:lnTo>
                  <a:pt x="2034" y="1530"/>
                </a:lnTo>
                <a:lnTo>
                  <a:pt x="2041" y="1523"/>
                </a:lnTo>
                <a:lnTo>
                  <a:pt x="2048" y="1516"/>
                </a:lnTo>
                <a:lnTo>
                  <a:pt x="2055" y="1509"/>
                </a:lnTo>
                <a:lnTo>
                  <a:pt x="2062" y="1502"/>
                </a:lnTo>
                <a:lnTo>
                  <a:pt x="2069" y="1495"/>
                </a:lnTo>
                <a:lnTo>
                  <a:pt x="2069" y="1488"/>
                </a:lnTo>
                <a:lnTo>
                  <a:pt x="2076" y="1481"/>
                </a:lnTo>
                <a:lnTo>
                  <a:pt x="2083" y="1474"/>
                </a:lnTo>
                <a:lnTo>
                  <a:pt x="2090" y="1474"/>
                </a:lnTo>
                <a:lnTo>
                  <a:pt x="2097" y="1467"/>
                </a:lnTo>
                <a:lnTo>
                  <a:pt x="2104" y="1467"/>
                </a:lnTo>
                <a:lnTo>
                  <a:pt x="2111" y="1459"/>
                </a:lnTo>
                <a:lnTo>
                  <a:pt x="2119" y="1459"/>
                </a:lnTo>
                <a:lnTo>
                  <a:pt x="2126" y="1459"/>
                </a:lnTo>
                <a:lnTo>
                  <a:pt x="2133" y="1459"/>
                </a:lnTo>
                <a:lnTo>
                  <a:pt x="2140" y="1467"/>
                </a:lnTo>
                <a:lnTo>
                  <a:pt x="2147" y="1467"/>
                </a:lnTo>
                <a:lnTo>
                  <a:pt x="2154" y="1474"/>
                </a:lnTo>
                <a:lnTo>
                  <a:pt x="2161" y="1474"/>
                </a:lnTo>
                <a:lnTo>
                  <a:pt x="2168" y="1481"/>
                </a:lnTo>
                <a:lnTo>
                  <a:pt x="2175" y="1488"/>
                </a:lnTo>
                <a:lnTo>
                  <a:pt x="2182" y="1495"/>
                </a:lnTo>
                <a:lnTo>
                  <a:pt x="2189" y="1502"/>
                </a:lnTo>
                <a:lnTo>
                  <a:pt x="2197" y="1509"/>
                </a:lnTo>
                <a:lnTo>
                  <a:pt x="2204" y="1516"/>
                </a:lnTo>
                <a:lnTo>
                  <a:pt x="2211" y="1523"/>
                </a:lnTo>
                <a:lnTo>
                  <a:pt x="2218" y="1530"/>
                </a:lnTo>
                <a:lnTo>
                  <a:pt x="2225" y="1537"/>
                </a:lnTo>
                <a:lnTo>
                  <a:pt x="2232" y="1544"/>
                </a:lnTo>
                <a:lnTo>
                  <a:pt x="2239" y="1552"/>
                </a:lnTo>
                <a:lnTo>
                  <a:pt x="2239" y="1559"/>
                </a:lnTo>
                <a:lnTo>
                  <a:pt x="2246" y="1566"/>
                </a:lnTo>
                <a:lnTo>
                  <a:pt x="2253" y="1573"/>
                </a:lnTo>
                <a:lnTo>
                  <a:pt x="2253" y="1580"/>
                </a:lnTo>
                <a:lnTo>
                  <a:pt x="2260" y="1587"/>
                </a:lnTo>
                <a:lnTo>
                  <a:pt x="2267" y="1594"/>
                </a:lnTo>
                <a:lnTo>
                  <a:pt x="2267" y="1601"/>
                </a:lnTo>
                <a:lnTo>
                  <a:pt x="2274" y="1608"/>
                </a:lnTo>
              </a:path>
            </a:pathLst>
          </a:custGeom>
          <a:noFill/>
          <a:ln w="0">
            <a:solidFill>
              <a:srgbClr val="cc99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5486400" y="2050920"/>
            <a:ext cx="380880" cy="3657600"/>
          </a:xfrm>
          <a:custGeom>
            <a:avLst/>
            <a:gdLst/>
            <a:ahLst/>
            <a:rect l="l" t="t" r="r" b="b"/>
            <a:pathLst>
              <a:path w="2274" h="1608">
                <a:moveTo>
                  <a:pt x="0" y="1608"/>
                </a:moveTo>
                <a:lnTo>
                  <a:pt x="7" y="1601"/>
                </a:lnTo>
                <a:lnTo>
                  <a:pt x="14" y="1594"/>
                </a:lnTo>
                <a:lnTo>
                  <a:pt x="14" y="1587"/>
                </a:lnTo>
                <a:lnTo>
                  <a:pt x="21" y="1580"/>
                </a:lnTo>
                <a:lnTo>
                  <a:pt x="28" y="1573"/>
                </a:lnTo>
                <a:lnTo>
                  <a:pt x="28" y="1566"/>
                </a:lnTo>
                <a:lnTo>
                  <a:pt x="35" y="1559"/>
                </a:lnTo>
                <a:lnTo>
                  <a:pt x="42" y="1552"/>
                </a:lnTo>
                <a:lnTo>
                  <a:pt x="49" y="1544"/>
                </a:lnTo>
                <a:lnTo>
                  <a:pt x="49" y="1537"/>
                </a:lnTo>
                <a:lnTo>
                  <a:pt x="56" y="1530"/>
                </a:lnTo>
                <a:lnTo>
                  <a:pt x="63" y="1523"/>
                </a:lnTo>
                <a:lnTo>
                  <a:pt x="71" y="1516"/>
                </a:lnTo>
                <a:lnTo>
                  <a:pt x="78" y="1509"/>
                </a:lnTo>
                <a:lnTo>
                  <a:pt x="85" y="1502"/>
                </a:lnTo>
                <a:lnTo>
                  <a:pt x="92" y="1495"/>
                </a:lnTo>
                <a:lnTo>
                  <a:pt x="99" y="1488"/>
                </a:lnTo>
                <a:lnTo>
                  <a:pt x="106" y="1481"/>
                </a:lnTo>
                <a:lnTo>
                  <a:pt x="113" y="1474"/>
                </a:lnTo>
                <a:lnTo>
                  <a:pt x="120" y="1467"/>
                </a:lnTo>
                <a:lnTo>
                  <a:pt x="127" y="1467"/>
                </a:lnTo>
                <a:lnTo>
                  <a:pt x="134" y="1459"/>
                </a:lnTo>
                <a:lnTo>
                  <a:pt x="141" y="1459"/>
                </a:lnTo>
                <a:lnTo>
                  <a:pt x="148" y="1459"/>
                </a:lnTo>
                <a:lnTo>
                  <a:pt x="156" y="1459"/>
                </a:lnTo>
                <a:lnTo>
                  <a:pt x="163" y="1467"/>
                </a:lnTo>
                <a:lnTo>
                  <a:pt x="170" y="1467"/>
                </a:lnTo>
                <a:lnTo>
                  <a:pt x="177" y="1467"/>
                </a:lnTo>
                <a:lnTo>
                  <a:pt x="184" y="1474"/>
                </a:lnTo>
                <a:lnTo>
                  <a:pt x="191" y="1481"/>
                </a:lnTo>
                <a:lnTo>
                  <a:pt x="198" y="1481"/>
                </a:lnTo>
                <a:lnTo>
                  <a:pt x="205" y="1488"/>
                </a:lnTo>
                <a:lnTo>
                  <a:pt x="212" y="1495"/>
                </a:lnTo>
                <a:lnTo>
                  <a:pt x="219" y="1502"/>
                </a:lnTo>
                <a:lnTo>
                  <a:pt x="226" y="1509"/>
                </a:lnTo>
                <a:lnTo>
                  <a:pt x="234" y="1516"/>
                </a:lnTo>
                <a:lnTo>
                  <a:pt x="234" y="1523"/>
                </a:lnTo>
                <a:lnTo>
                  <a:pt x="241" y="1530"/>
                </a:lnTo>
                <a:lnTo>
                  <a:pt x="241" y="1537"/>
                </a:lnTo>
                <a:lnTo>
                  <a:pt x="248" y="1544"/>
                </a:lnTo>
                <a:lnTo>
                  <a:pt x="255" y="1552"/>
                </a:lnTo>
                <a:lnTo>
                  <a:pt x="255" y="1559"/>
                </a:lnTo>
                <a:lnTo>
                  <a:pt x="262" y="1566"/>
                </a:lnTo>
                <a:lnTo>
                  <a:pt x="269" y="1573"/>
                </a:lnTo>
                <a:lnTo>
                  <a:pt x="269" y="1580"/>
                </a:lnTo>
                <a:lnTo>
                  <a:pt x="276" y="1587"/>
                </a:lnTo>
                <a:lnTo>
                  <a:pt x="276" y="1594"/>
                </a:lnTo>
                <a:lnTo>
                  <a:pt x="283" y="1601"/>
                </a:lnTo>
                <a:lnTo>
                  <a:pt x="283" y="1608"/>
                </a:lnTo>
                <a:lnTo>
                  <a:pt x="290" y="1601"/>
                </a:lnTo>
                <a:lnTo>
                  <a:pt x="290" y="1594"/>
                </a:lnTo>
                <a:lnTo>
                  <a:pt x="297" y="1587"/>
                </a:lnTo>
                <a:lnTo>
                  <a:pt x="297" y="1580"/>
                </a:lnTo>
                <a:lnTo>
                  <a:pt x="304" y="1573"/>
                </a:lnTo>
                <a:lnTo>
                  <a:pt x="304" y="1566"/>
                </a:lnTo>
                <a:lnTo>
                  <a:pt x="311" y="1559"/>
                </a:lnTo>
                <a:lnTo>
                  <a:pt x="319" y="1552"/>
                </a:lnTo>
                <a:lnTo>
                  <a:pt x="319" y="1544"/>
                </a:lnTo>
                <a:lnTo>
                  <a:pt x="319" y="1537"/>
                </a:lnTo>
                <a:lnTo>
                  <a:pt x="326" y="1530"/>
                </a:lnTo>
                <a:lnTo>
                  <a:pt x="326" y="1523"/>
                </a:lnTo>
                <a:lnTo>
                  <a:pt x="333" y="1516"/>
                </a:lnTo>
                <a:lnTo>
                  <a:pt x="340" y="1509"/>
                </a:lnTo>
                <a:lnTo>
                  <a:pt x="340" y="1502"/>
                </a:lnTo>
                <a:lnTo>
                  <a:pt x="347" y="1495"/>
                </a:lnTo>
                <a:lnTo>
                  <a:pt x="347" y="1488"/>
                </a:lnTo>
                <a:lnTo>
                  <a:pt x="354" y="1481"/>
                </a:lnTo>
                <a:lnTo>
                  <a:pt x="354" y="1474"/>
                </a:lnTo>
                <a:lnTo>
                  <a:pt x="361" y="1467"/>
                </a:lnTo>
                <a:lnTo>
                  <a:pt x="368" y="1459"/>
                </a:lnTo>
                <a:lnTo>
                  <a:pt x="375" y="1452"/>
                </a:lnTo>
                <a:lnTo>
                  <a:pt x="375" y="1445"/>
                </a:lnTo>
                <a:lnTo>
                  <a:pt x="382" y="1438"/>
                </a:lnTo>
                <a:lnTo>
                  <a:pt x="389" y="1431"/>
                </a:lnTo>
                <a:lnTo>
                  <a:pt x="397" y="1424"/>
                </a:lnTo>
                <a:lnTo>
                  <a:pt x="404" y="1417"/>
                </a:lnTo>
                <a:lnTo>
                  <a:pt x="411" y="1410"/>
                </a:lnTo>
                <a:lnTo>
                  <a:pt x="418" y="1403"/>
                </a:lnTo>
                <a:lnTo>
                  <a:pt x="425" y="1403"/>
                </a:lnTo>
                <a:lnTo>
                  <a:pt x="432" y="1403"/>
                </a:lnTo>
                <a:lnTo>
                  <a:pt x="439" y="1403"/>
                </a:lnTo>
                <a:lnTo>
                  <a:pt x="446" y="1403"/>
                </a:lnTo>
                <a:lnTo>
                  <a:pt x="453" y="1403"/>
                </a:lnTo>
                <a:lnTo>
                  <a:pt x="460" y="1410"/>
                </a:lnTo>
                <a:lnTo>
                  <a:pt x="467" y="1417"/>
                </a:lnTo>
                <a:lnTo>
                  <a:pt x="474" y="1424"/>
                </a:lnTo>
                <a:lnTo>
                  <a:pt x="482" y="1431"/>
                </a:lnTo>
                <a:lnTo>
                  <a:pt x="489" y="1438"/>
                </a:lnTo>
                <a:lnTo>
                  <a:pt x="496" y="1445"/>
                </a:lnTo>
                <a:lnTo>
                  <a:pt x="503" y="1452"/>
                </a:lnTo>
                <a:lnTo>
                  <a:pt x="503" y="1459"/>
                </a:lnTo>
                <a:lnTo>
                  <a:pt x="510" y="1467"/>
                </a:lnTo>
                <a:lnTo>
                  <a:pt x="510" y="1474"/>
                </a:lnTo>
                <a:lnTo>
                  <a:pt x="517" y="1481"/>
                </a:lnTo>
                <a:lnTo>
                  <a:pt x="517" y="1488"/>
                </a:lnTo>
                <a:lnTo>
                  <a:pt x="524" y="1495"/>
                </a:lnTo>
                <a:lnTo>
                  <a:pt x="524" y="1502"/>
                </a:lnTo>
                <a:lnTo>
                  <a:pt x="531" y="1509"/>
                </a:lnTo>
                <a:lnTo>
                  <a:pt x="531" y="1516"/>
                </a:lnTo>
                <a:lnTo>
                  <a:pt x="538" y="1523"/>
                </a:lnTo>
                <a:lnTo>
                  <a:pt x="538" y="1530"/>
                </a:lnTo>
                <a:lnTo>
                  <a:pt x="538" y="1537"/>
                </a:lnTo>
                <a:lnTo>
                  <a:pt x="545" y="1544"/>
                </a:lnTo>
                <a:lnTo>
                  <a:pt x="545" y="1552"/>
                </a:lnTo>
                <a:lnTo>
                  <a:pt x="552" y="1559"/>
                </a:lnTo>
                <a:lnTo>
                  <a:pt x="552" y="1566"/>
                </a:lnTo>
                <a:lnTo>
                  <a:pt x="552" y="1573"/>
                </a:lnTo>
                <a:lnTo>
                  <a:pt x="560" y="1580"/>
                </a:lnTo>
                <a:lnTo>
                  <a:pt x="560" y="1587"/>
                </a:lnTo>
                <a:lnTo>
                  <a:pt x="567" y="1594"/>
                </a:lnTo>
                <a:lnTo>
                  <a:pt x="567" y="1601"/>
                </a:lnTo>
                <a:lnTo>
                  <a:pt x="567" y="1608"/>
                </a:lnTo>
                <a:lnTo>
                  <a:pt x="574" y="1601"/>
                </a:lnTo>
                <a:lnTo>
                  <a:pt x="574" y="1594"/>
                </a:lnTo>
                <a:lnTo>
                  <a:pt x="574" y="1587"/>
                </a:lnTo>
                <a:lnTo>
                  <a:pt x="581" y="1580"/>
                </a:lnTo>
                <a:lnTo>
                  <a:pt x="581" y="1573"/>
                </a:lnTo>
                <a:lnTo>
                  <a:pt x="581" y="1566"/>
                </a:lnTo>
                <a:lnTo>
                  <a:pt x="588" y="1559"/>
                </a:lnTo>
                <a:lnTo>
                  <a:pt x="588" y="1552"/>
                </a:lnTo>
                <a:lnTo>
                  <a:pt x="588" y="1544"/>
                </a:lnTo>
                <a:lnTo>
                  <a:pt x="595" y="1537"/>
                </a:lnTo>
                <a:lnTo>
                  <a:pt x="595" y="1530"/>
                </a:lnTo>
                <a:lnTo>
                  <a:pt x="595" y="1523"/>
                </a:lnTo>
                <a:lnTo>
                  <a:pt x="602" y="1516"/>
                </a:lnTo>
                <a:lnTo>
                  <a:pt x="602" y="1509"/>
                </a:lnTo>
                <a:lnTo>
                  <a:pt x="602" y="1502"/>
                </a:lnTo>
                <a:lnTo>
                  <a:pt x="609" y="1495"/>
                </a:lnTo>
                <a:lnTo>
                  <a:pt x="609" y="1488"/>
                </a:lnTo>
                <a:lnTo>
                  <a:pt x="616" y="1481"/>
                </a:lnTo>
                <a:lnTo>
                  <a:pt x="616" y="1474"/>
                </a:lnTo>
                <a:lnTo>
                  <a:pt x="616" y="1467"/>
                </a:lnTo>
                <a:lnTo>
                  <a:pt x="616" y="1459"/>
                </a:lnTo>
                <a:lnTo>
                  <a:pt x="623" y="1452"/>
                </a:lnTo>
                <a:lnTo>
                  <a:pt x="623" y="1445"/>
                </a:lnTo>
                <a:lnTo>
                  <a:pt x="623" y="1438"/>
                </a:lnTo>
                <a:lnTo>
                  <a:pt x="630" y="1431"/>
                </a:lnTo>
                <a:lnTo>
                  <a:pt x="630" y="1424"/>
                </a:lnTo>
                <a:lnTo>
                  <a:pt x="637" y="1417"/>
                </a:lnTo>
                <a:lnTo>
                  <a:pt x="637" y="1410"/>
                </a:lnTo>
                <a:lnTo>
                  <a:pt x="637" y="1403"/>
                </a:lnTo>
                <a:lnTo>
                  <a:pt x="645" y="1396"/>
                </a:lnTo>
                <a:lnTo>
                  <a:pt x="645" y="1389"/>
                </a:lnTo>
                <a:lnTo>
                  <a:pt x="652" y="1382"/>
                </a:lnTo>
                <a:lnTo>
                  <a:pt x="652" y="1374"/>
                </a:lnTo>
                <a:lnTo>
                  <a:pt x="652" y="1367"/>
                </a:lnTo>
                <a:lnTo>
                  <a:pt x="652" y="1360"/>
                </a:lnTo>
                <a:lnTo>
                  <a:pt x="659" y="1353"/>
                </a:lnTo>
                <a:lnTo>
                  <a:pt x="659" y="1346"/>
                </a:lnTo>
                <a:lnTo>
                  <a:pt x="666" y="1339"/>
                </a:lnTo>
                <a:lnTo>
                  <a:pt x="666" y="1332"/>
                </a:lnTo>
                <a:lnTo>
                  <a:pt x="673" y="1325"/>
                </a:lnTo>
                <a:lnTo>
                  <a:pt x="673" y="1318"/>
                </a:lnTo>
                <a:lnTo>
                  <a:pt x="680" y="1311"/>
                </a:lnTo>
                <a:lnTo>
                  <a:pt x="687" y="1304"/>
                </a:lnTo>
                <a:lnTo>
                  <a:pt x="687" y="1296"/>
                </a:lnTo>
                <a:lnTo>
                  <a:pt x="694" y="1289"/>
                </a:lnTo>
                <a:lnTo>
                  <a:pt x="694" y="1282"/>
                </a:lnTo>
                <a:lnTo>
                  <a:pt x="701" y="1275"/>
                </a:lnTo>
                <a:lnTo>
                  <a:pt x="708" y="1268"/>
                </a:lnTo>
                <a:lnTo>
                  <a:pt x="715" y="1261"/>
                </a:lnTo>
                <a:lnTo>
                  <a:pt x="723" y="1261"/>
                </a:lnTo>
                <a:lnTo>
                  <a:pt x="730" y="1261"/>
                </a:lnTo>
                <a:lnTo>
                  <a:pt x="737" y="1261"/>
                </a:lnTo>
                <a:lnTo>
                  <a:pt x="744" y="1261"/>
                </a:lnTo>
                <a:lnTo>
                  <a:pt x="751" y="1268"/>
                </a:lnTo>
                <a:lnTo>
                  <a:pt x="758" y="1275"/>
                </a:lnTo>
                <a:lnTo>
                  <a:pt x="765" y="1282"/>
                </a:lnTo>
                <a:lnTo>
                  <a:pt x="765" y="1289"/>
                </a:lnTo>
                <a:lnTo>
                  <a:pt x="772" y="1296"/>
                </a:lnTo>
                <a:lnTo>
                  <a:pt x="772" y="1304"/>
                </a:lnTo>
                <a:lnTo>
                  <a:pt x="779" y="1311"/>
                </a:lnTo>
                <a:lnTo>
                  <a:pt x="779" y="1318"/>
                </a:lnTo>
                <a:lnTo>
                  <a:pt x="786" y="1325"/>
                </a:lnTo>
                <a:lnTo>
                  <a:pt x="786" y="1332"/>
                </a:lnTo>
                <a:lnTo>
                  <a:pt x="793" y="1339"/>
                </a:lnTo>
                <a:lnTo>
                  <a:pt x="793" y="1346"/>
                </a:lnTo>
                <a:lnTo>
                  <a:pt x="793" y="1353"/>
                </a:lnTo>
                <a:lnTo>
                  <a:pt x="800" y="1360"/>
                </a:lnTo>
                <a:lnTo>
                  <a:pt x="800" y="1367"/>
                </a:lnTo>
                <a:lnTo>
                  <a:pt x="800" y="1374"/>
                </a:lnTo>
                <a:lnTo>
                  <a:pt x="800" y="1382"/>
                </a:lnTo>
                <a:lnTo>
                  <a:pt x="808" y="1389"/>
                </a:lnTo>
                <a:lnTo>
                  <a:pt x="808" y="1403"/>
                </a:lnTo>
                <a:lnTo>
                  <a:pt x="808" y="1410"/>
                </a:lnTo>
                <a:lnTo>
                  <a:pt x="815" y="1417"/>
                </a:lnTo>
                <a:lnTo>
                  <a:pt x="815" y="1424"/>
                </a:lnTo>
                <a:lnTo>
                  <a:pt x="815" y="1431"/>
                </a:lnTo>
                <a:lnTo>
                  <a:pt x="822" y="1445"/>
                </a:lnTo>
                <a:lnTo>
                  <a:pt x="822" y="1452"/>
                </a:lnTo>
                <a:lnTo>
                  <a:pt x="822" y="1459"/>
                </a:lnTo>
                <a:lnTo>
                  <a:pt x="829" y="1474"/>
                </a:lnTo>
                <a:lnTo>
                  <a:pt x="829" y="1481"/>
                </a:lnTo>
                <a:lnTo>
                  <a:pt x="829" y="1495"/>
                </a:lnTo>
                <a:lnTo>
                  <a:pt x="836" y="1502"/>
                </a:lnTo>
                <a:lnTo>
                  <a:pt x="836" y="1516"/>
                </a:lnTo>
                <a:lnTo>
                  <a:pt x="836" y="1523"/>
                </a:lnTo>
                <a:lnTo>
                  <a:pt x="836" y="1537"/>
                </a:lnTo>
                <a:lnTo>
                  <a:pt x="843" y="1544"/>
                </a:lnTo>
                <a:lnTo>
                  <a:pt x="843" y="1559"/>
                </a:lnTo>
                <a:lnTo>
                  <a:pt x="843" y="1573"/>
                </a:lnTo>
                <a:lnTo>
                  <a:pt x="850" y="1587"/>
                </a:lnTo>
                <a:lnTo>
                  <a:pt x="850" y="1594"/>
                </a:lnTo>
                <a:lnTo>
                  <a:pt x="850" y="1608"/>
                </a:lnTo>
                <a:lnTo>
                  <a:pt x="857" y="1594"/>
                </a:lnTo>
                <a:lnTo>
                  <a:pt x="857" y="1580"/>
                </a:lnTo>
                <a:lnTo>
                  <a:pt x="857" y="1573"/>
                </a:lnTo>
                <a:lnTo>
                  <a:pt x="864" y="1559"/>
                </a:lnTo>
                <a:lnTo>
                  <a:pt x="864" y="1544"/>
                </a:lnTo>
                <a:lnTo>
                  <a:pt x="864" y="1530"/>
                </a:lnTo>
                <a:lnTo>
                  <a:pt x="871" y="1516"/>
                </a:lnTo>
                <a:lnTo>
                  <a:pt x="871" y="1502"/>
                </a:lnTo>
                <a:lnTo>
                  <a:pt x="871" y="1488"/>
                </a:lnTo>
                <a:lnTo>
                  <a:pt x="878" y="1474"/>
                </a:lnTo>
                <a:lnTo>
                  <a:pt x="878" y="1459"/>
                </a:lnTo>
                <a:lnTo>
                  <a:pt x="878" y="1445"/>
                </a:lnTo>
                <a:lnTo>
                  <a:pt x="878" y="1431"/>
                </a:lnTo>
                <a:lnTo>
                  <a:pt x="885" y="1417"/>
                </a:lnTo>
                <a:lnTo>
                  <a:pt x="885" y="1403"/>
                </a:lnTo>
                <a:lnTo>
                  <a:pt x="885" y="1382"/>
                </a:lnTo>
                <a:lnTo>
                  <a:pt x="893" y="1367"/>
                </a:lnTo>
                <a:lnTo>
                  <a:pt x="893" y="1353"/>
                </a:lnTo>
                <a:lnTo>
                  <a:pt x="893" y="1339"/>
                </a:lnTo>
                <a:lnTo>
                  <a:pt x="900" y="1325"/>
                </a:lnTo>
                <a:lnTo>
                  <a:pt x="900" y="1304"/>
                </a:lnTo>
                <a:lnTo>
                  <a:pt x="900" y="1289"/>
                </a:lnTo>
                <a:lnTo>
                  <a:pt x="907" y="1275"/>
                </a:lnTo>
                <a:lnTo>
                  <a:pt x="907" y="1261"/>
                </a:lnTo>
                <a:lnTo>
                  <a:pt x="907" y="1240"/>
                </a:lnTo>
                <a:lnTo>
                  <a:pt x="914" y="1226"/>
                </a:lnTo>
                <a:lnTo>
                  <a:pt x="914" y="1211"/>
                </a:lnTo>
                <a:lnTo>
                  <a:pt x="914" y="1190"/>
                </a:lnTo>
                <a:lnTo>
                  <a:pt x="914" y="1176"/>
                </a:lnTo>
                <a:lnTo>
                  <a:pt x="921" y="1162"/>
                </a:lnTo>
                <a:lnTo>
                  <a:pt x="921" y="1141"/>
                </a:lnTo>
                <a:lnTo>
                  <a:pt x="921" y="1126"/>
                </a:lnTo>
                <a:lnTo>
                  <a:pt x="928" y="1105"/>
                </a:lnTo>
                <a:lnTo>
                  <a:pt x="928" y="1091"/>
                </a:lnTo>
                <a:lnTo>
                  <a:pt x="928" y="1077"/>
                </a:lnTo>
                <a:lnTo>
                  <a:pt x="935" y="1056"/>
                </a:lnTo>
                <a:lnTo>
                  <a:pt x="935" y="1041"/>
                </a:lnTo>
                <a:lnTo>
                  <a:pt x="935" y="1020"/>
                </a:lnTo>
                <a:lnTo>
                  <a:pt x="942" y="1006"/>
                </a:lnTo>
                <a:lnTo>
                  <a:pt x="942" y="992"/>
                </a:lnTo>
                <a:lnTo>
                  <a:pt x="942" y="971"/>
                </a:lnTo>
                <a:lnTo>
                  <a:pt x="949" y="956"/>
                </a:lnTo>
                <a:lnTo>
                  <a:pt x="949" y="935"/>
                </a:lnTo>
                <a:lnTo>
                  <a:pt x="949" y="921"/>
                </a:lnTo>
                <a:lnTo>
                  <a:pt x="949" y="900"/>
                </a:lnTo>
                <a:lnTo>
                  <a:pt x="956" y="886"/>
                </a:lnTo>
                <a:lnTo>
                  <a:pt x="956" y="871"/>
                </a:lnTo>
                <a:lnTo>
                  <a:pt x="956" y="850"/>
                </a:lnTo>
                <a:lnTo>
                  <a:pt x="963" y="836"/>
                </a:lnTo>
                <a:lnTo>
                  <a:pt x="963" y="815"/>
                </a:lnTo>
                <a:lnTo>
                  <a:pt x="963" y="800"/>
                </a:lnTo>
                <a:lnTo>
                  <a:pt x="971" y="786"/>
                </a:lnTo>
                <a:lnTo>
                  <a:pt x="971" y="765"/>
                </a:lnTo>
                <a:lnTo>
                  <a:pt x="971" y="751"/>
                </a:lnTo>
                <a:lnTo>
                  <a:pt x="978" y="730"/>
                </a:lnTo>
                <a:lnTo>
                  <a:pt x="978" y="715"/>
                </a:lnTo>
                <a:lnTo>
                  <a:pt x="978" y="701"/>
                </a:lnTo>
                <a:lnTo>
                  <a:pt x="985" y="680"/>
                </a:lnTo>
                <a:lnTo>
                  <a:pt x="985" y="666"/>
                </a:lnTo>
                <a:lnTo>
                  <a:pt x="985" y="652"/>
                </a:lnTo>
                <a:lnTo>
                  <a:pt x="985" y="630"/>
                </a:lnTo>
                <a:lnTo>
                  <a:pt x="992" y="616"/>
                </a:lnTo>
                <a:lnTo>
                  <a:pt x="992" y="602"/>
                </a:lnTo>
                <a:lnTo>
                  <a:pt x="992" y="581"/>
                </a:lnTo>
                <a:lnTo>
                  <a:pt x="999" y="567"/>
                </a:lnTo>
                <a:lnTo>
                  <a:pt x="999" y="552"/>
                </a:lnTo>
                <a:lnTo>
                  <a:pt x="999" y="538"/>
                </a:lnTo>
                <a:lnTo>
                  <a:pt x="1006" y="524"/>
                </a:lnTo>
                <a:lnTo>
                  <a:pt x="1006" y="503"/>
                </a:lnTo>
                <a:lnTo>
                  <a:pt x="1006" y="489"/>
                </a:lnTo>
                <a:lnTo>
                  <a:pt x="1013" y="475"/>
                </a:lnTo>
                <a:lnTo>
                  <a:pt x="1013" y="460"/>
                </a:lnTo>
                <a:lnTo>
                  <a:pt x="1013" y="446"/>
                </a:lnTo>
                <a:lnTo>
                  <a:pt x="1020" y="432"/>
                </a:lnTo>
                <a:lnTo>
                  <a:pt x="1020" y="418"/>
                </a:lnTo>
                <a:lnTo>
                  <a:pt x="1020" y="404"/>
                </a:lnTo>
                <a:lnTo>
                  <a:pt x="1027" y="390"/>
                </a:lnTo>
                <a:lnTo>
                  <a:pt x="1027" y="375"/>
                </a:lnTo>
                <a:lnTo>
                  <a:pt x="1027" y="361"/>
                </a:lnTo>
                <a:lnTo>
                  <a:pt x="1027" y="347"/>
                </a:lnTo>
                <a:lnTo>
                  <a:pt x="1034" y="333"/>
                </a:lnTo>
                <a:lnTo>
                  <a:pt x="1034" y="319"/>
                </a:lnTo>
                <a:lnTo>
                  <a:pt x="1034" y="304"/>
                </a:lnTo>
                <a:lnTo>
                  <a:pt x="1041" y="297"/>
                </a:lnTo>
                <a:lnTo>
                  <a:pt x="1041" y="283"/>
                </a:lnTo>
                <a:lnTo>
                  <a:pt x="1041" y="269"/>
                </a:lnTo>
                <a:lnTo>
                  <a:pt x="1048" y="255"/>
                </a:lnTo>
                <a:lnTo>
                  <a:pt x="1048" y="248"/>
                </a:lnTo>
                <a:lnTo>
                  <a:pt x="1048" y="234"/>
                </a:lnTo>
                <a:lnTo>
                  <a:pt x="1056" y="227"/>
                </a:lnTo>
                <a:lnTo>
                  <a:pt x="1056" y="212"/>
                </a:lnTo>
                <a:lnTo>
                  <a:pt x="1056" y="198"/>
                </a:lnTo>
                <a:lnTo>
                  <a:pt x="1063" y="191"/>
                </a:lnTo>
                <a:lnTo>
                  <a:pt x="1063" y="177"/>
                </a:lnTo>
                <a:lnTo>
                  <a:pt x="1063" y="170"/>
                </a:lnTo>
                <a:lnTo>
                  <a:pt x="1063" y="163"/>
                </a:lnTo>
                <a:lnTo>
                  <a:pt x="1070" y="149"/>
                </a:lnTo>
                <a:lnTo>
                  <a:pt x="1070" y="142"/>
                </a:lnTo>
                <a:lnTo>
                  <a:pt x="1070" y="134"/>
                </a:lnTo>
                <a:lnTo>
                  <a:pt x="1077" y="120"/>
                </a:lnTo>
                <a:lnTo>
                  <a:pt x="1077" y="113"/>
                </a:lnTo>
                <a:lnTo>
                  <a:pt x="1077" y="106"/>
                </a:lnTo>
                <a:lnTo>
                  <a:pt x="1084" y="99"/>
                </a:lnTo>
                <a:lnTo>
                  <a:pt x="1084" y="92"/>
                </a:lnTo>
                <a:lnTo>
                  <a:pt x="1084" y="85"/>
                </a:lnTo>
                <a:lnTo>
                  <a:pt x="1091" y="78"/>
                </a:lnTo>
                <a:lnTo>
                  <a:pt x="1091" y="71"/>
                </a:lnTo>
                <a:lnTo>
                  <a:pt x="1091" y="64"/>
                </a:lnTo>
                <a:lnTo>
                  <a:pt x="1098" y="56"/>
                </a:lnTo>
                <a:lnTo>
                  <a:pt x="1098" y="49"/>
                </a:lnTo>
                <a:lnTo>
                  <a:pt x="1098" y="42"/>
                </a:lnTo>
                <a:lnTo>
                  <a:pt x="1105" y="35"/>
                </a:lnTo>
                <a:lnTo>
                  <a:pt x="1105" y="28"/>
                </a:lnTo>
                <a:lnTo>
                  <a:pt x="1112" y="21"/>
                </a:lnTo>
                <a:lnTo>
                  <a:pt x="1119" y="14"/>
                </a:lnTo>
                <a:lnTo>
                  <a:pt x="1126" y="7"/>
                </a:lnTo>
                <a:lnTo>
                  <a:pt x="1134" y="0"/>
                </a:lnTo>
                <a:lnTo>
                  <a:pt x="1141" y="0"/>
                </a:lnTo>
                <a:lnTo>
                  <a:pt x="1148" y="7"/>
                </a:lnTo>
                <a:lnTo>
                  <a:pt x="1155" y="14"/>
                </a:lnTo>
                <a:lnTo>
                  <a:pt x="1162" y="21"/>
                </a:lnTo>
                <a:lnTo>
                  <a:pt x="1169" y="28"/>
                </a:lnTo>
                <a:lnTo>
                  <a:pt x="1169" y="35"/>
                </a:lnTo>
                <a:lnTo>
                  <a:pt x="1176" y="42"/>
                </a:lnTo>
                <a:lnTo>
                  <a:pt x="1176" y="49"/>
                </a:lnTo>
                <a:lnTo>
                  <a:pt x="1176" y="56"/>
                </a:lnTo>
                <a:lnTo>
                  <a:pt x="1183" y="64"/>
                </a:lnTo>
                <a:lnTo>
                  <a:pt x="1183" y="71"/>
                </a:lnTo>
                <a:lnTo>
                  <a:pt x="1183" y="78"/>
                </a:lnTo>
                <a:lnTo>
                  <a:pt x="1190" y="85"/>
                </a:lnTo>
                <a:lnTo>
                  <a:pt x="1190" y="92"/>
                </a:lnTo>
                <a:lnTo>
                  <a:pt x="1190" y="99"/>
                </a:lnTo>
                <a:lnTo>
                  <a:pt x="1197" y="106"/>
                </a:lnTo>
                <a:lnTo>
                  <a:pt x="1197" y="113"/>
                </a:lnTo>
                <a:lnTo>
                  <a:pt x="1197" y="120"/>
                </a:lnTo>
                <a:lnTo>
                  <a:pt x="1204" y="134"/>
                </a:lnTo>
                <a:lnTo>
                  <a:pt x="1204" y="142"/>
                </a:lnTo>
                <a:lnTo>
                  <a:pt x="1204" y="149"/>
                </a:lnTo>
                <a:lnTo>
                  <a:pt x="1211" y="163"/>
                </a:lnTo>
                <a:lnTo>
                  <a:pt x="1211" y="170"/>
                </a:lnTo>
                <a:lnTo>
                  <a:pt x="1211" y="177"/>
                </a:lnTo>
                <a:lnTo>
                  <a:pt x="1211" y="191"/>
                </a:lnTo>
                <a:lnTo>
                  <a:pt x="1219" y="198"/>
                </a:lnTo>
                <a:lnTo>
                  <a:pt x="1219" y="212"/>
                </a:lnTo>
                <a:lnTo>
                  <a:pt x="1219" y="227"/>
                </a:lnTo>
                <a:lnTo>
                  <a:pt x="1226" y="234"/>
                </a:lnTo>
                <a:lnTo>
                  <a:pt x="1226" y="248"/>
                </a:lnTo>
                <a:lnTo>
                  <a:pt x="1226" y="255"/>
                </a:lnTo>
                <a:lnTo>
                  <a:pt x="1233" y="269"/>
                </a:lnTo>
                <a:lnTo>
                  <a:pt x="1233" y="283"/>
                </a:lnTo>
                <a:lnTo>
                  <a:pt x="1233" y="297"/>
                </a:lnTo>
                <a:lnTo>
                  <a:pt x="1240" y="304"/>
                </a:lnTo>
                <a:lnTo>
                  <a:pt x="1240" y="319"/>
                </a:lnTo>
                <a:lnTo>
                  <a:pt x="1240" y="333"/>
                </a:lnTo>
                <a:lnTo>
                  <a:pt x="1247" y="347"/>
                </a:lnTo>
                <a:lnTo>
                  <a:pt x="1247" y="361"/>
                </a:lnTo>
                <a:lnTo>
                  <a:pt x="1247" y="375"/>
                </a:lnTo>
                <a:lnTo>
                  <a:pt x="1247" y="390"/>
                </a:lnTo>
                <a:lnTo>
                  <a:pt x="1254" y="404"/>
                </a:lnTo>
                <a:lnTo>
                  <a:pt x="1254" y="418"/>
                </a:lnTo>
                <a:lnTo>
                  <a:pt x="1254" y="432"/>
                </a:lnTo>
                <a:lnTo>
                  <a:pt x="1261" y="446"/>
                </a:lnTo>
                <a:lnTo>
                  <a:pt x="1261" y="460"/>
                </a:lnTo>
                <a:lnTo>
                  <a:pt x="1261" y="475"/>
                </a:lnTo>
                <a:lnTo>
                  <a:pt x="1268" y="489"/>
                </a:lnTo>
                <a:lnTo>
                  <a:pt x="1268" y="503"/>
                </a:lnTo>
                <a:lnTo>
                  <a:pt x="1268" y="524"/>
                </a:lnTo>
                <a:lnTo>
                  <a:pt x="1275" y="538"/>
                </a:lnTo>
                <a:lnTo>
                  <a:pt x="1275" y="552"/>
                </a:lnTo>
                <a:lnTo>
                  <a:pt x="1275" y="567"/>
                </a:lnTo>
                <a:lnTo>
                  <a:pt x="1282" y="581"/>
                </a:lnTo>
                <a:lnTo>
                  <a:pt x="1282" y="602"/>
                </a:lnTo>
                <a:lnTo>
                  <a:pt x="1282" y="616"/>
                </a:lnTo>
                <a:lnTo>
                  <a:pt x="1289" y="630"/>
                </a:lnTo>
                <a:lnTo>
                  <a:pt x="1289" y="652"/>
                </a:lnTo>
                <a:lnTo>
                  <a:pt x="1289" y="666"/>
                </a:lnTo>
                <a:lnTo>
                  <a:pt x="1289" y="680"/>
                </a:lnTo>
                <a:lnTo>
                  <a:pt x="1297" y="701"/>
                </a:lnTo>
                <a:lnTo>
                  <a:pt x="1297" y="715"/>
                </a:lnTo>
                <a:lnTo>
                  <a:pt x="1297" y="730"/>
                </a:lnTo>
                <a:lnTo>
                  <a:pt x="1304" y="751"/>
                </a:lnTo>
                <a:lnTo>
                  <a:pt x="1304" y="765"/>
                </a:lnTo>
                <a:lnTo>
                  <a:pt x="1304" y="786"/>
                </a:lnTo>
                <a:lnTo>
                  <a:pt x="1311" y="800"/>
                </a:lnTo>
                <a:lnTo>
                  <a:pt x="1311" y="815"/>
                </a:lnTo>
                <a:lnTo>
                  <a:pt x="1311" y="836"/>
                </a:lnTo>
                <a:lnTo>
                  <a:pt x="1318" y="850"/>
                </a:lnTo>
                <a:lnTo>
                  <a:pt x="1318" y="871"/>
                </a:lnTo>
                <a:lnTo>
                  <a:pt x="1318" y="886"/>
                </a:lnTo>
                <a:lnTo>
                  <a:pt x="1325" y="900"/>
                </a:lnTo>
                <a:lnTo>
                  <a:pt x="1325" y="921"/>
                </a:lnTo>
                <a:lnTo>
                  <a:pt x="1325" y="935"/>
                </a:lnTo>
                <a:lnTo>
                  <a:pt x="1325" y="956"/>
                </a:lnTo>
                <a:lnTo>
                  <a:pt x="1332" y="971"/>
                </a:lnTo>
                <a:lnTo>
                  <a:pt x="1332" y="992"/>
                </a:lnTo>
                <a:lnTo>
                  <a:pt x="1332" y="1006"/>
                </a:lnTo>
                <a:lnTo>
                  <a:pt x="1339" y="1020"/>
                </a:lnTo>
                <a:lnTo>
                  <a:pt x="1339" y="1041"/>
                </a:lnTo>
                <a:lnTo>
                  <a:pt x="1339" y="1056"/>
                </a:lnTo>
                <a:lnTo>
                  <a:pt x="1346" y="1077"/>
                </a:lnTo>
                <a:lnTo>
                  <a:pt x="1346" y="1091"/>
                </a:lnTo>
                <a:lnTo>
                  <a:pt x="1346" y="1105"/>
                </a:lnTo>
                <a:lnTo>
                  <a:pt x="1353" y="1126"/>
                </a:lnTo>
                <a:lnTo>
                  <a:pt x="1353" y="1141"/>
                </a:lnTo>
                <a:lnTo>
                  <a:pt x="1353" y="1162"/>
                </a:lnTo>
                <a:lnTo>
                  <a:pt x="1360" y="1176"/>
                </a:lnTo>
                <a:lnTo>
                  <a:pt x="1360" y="1190"/>
                </a:lnTo>
                <a:lnTo>
                  <a:pt x="1360" y="1211"/>
                </a:lnTo>
                <a:lnTo>
                  <a:pt x="1360" y="1226"/>
                </a:lnTo>
                <a:lnTo>
                  <a:pt x="1367" y="1240"/>
                </a:lnTo>
                <a:lnTo>
                  <a:pt x="1367" y="1261"/>
                </a:lnTo>
                <a:lnTo>
                  <a:pt x="1367" y="1275"/>
                </a:lnTo>
                <a:lnTo>
                  <a:pt x="1374" y="1289"/>
                </a:lnTo>
                <a:lnTo>
                  <a:pt x="1374" y="1304"/>
                </a:lnTo>
                <a:lnTo>
                  <a:pt x="1374" y="1325"/>
                </a:lnTo>
                <a:lnTo>
                  <a:pt x="1382" y="1339"/>
                </a:lnTo>
                <a:lnTo>
                  <a:pt x="1382" y="1353"/>
                </a:lnTo>
                <a:lnTo>
                  <a:pt x="1382" y="1367"/>
                </a:lnTo>
                <a:lnTo>
                  <a:pt x="1389" y="1382"/>
                </a:lnTo>
                <a:lnTo>
                  <a:pt x="1389" y="1403"/>
                </a:lnTo>
                <a:lnTo>
                  <a:pt x="1389" y="1417"/>
                </a:lnTo>
                <a:lnTo>
                  <a:pt x="1396" y="1431"/>
                </a:lnTo>
                <a:lnTo>
                  <a:pt x="1396" y="1445"/>
                </a:lnTo>
                <a:lnTo>
                  <a:pt x="1396" y="1459"/>
                </a:lnTo>
                <a:lnTo>
                  <a:pt x="1396" y="1474"/>
                </a:lnTo>
                <a:lnTo>
                  <a:pt x="1403" y="1488"/>
                </a:lnTo>
                <a:lnTo>
                  <a:pt x="1403" y="1502"/>
                </a:lnTo>
                <a:lnTo>
                  <a:pt x="1403" y="1516"/>
                </a:lnTo>
                <a:lnTo>
                  <a:pt x="1410" y="1530"/>
                </a:lnTo>
                <a:lnTo>
                  <a:pt x="1410" y="1544"/>
                </a:lnTo>
                <a:lnTo>
                  <a:pt x="1410" y="1559"/>
                </a:lnTo>
                <a:lnTo>
                  <a:pt x="1417" y="1573"/>
                </a:lnTo>
                <a:lnTo>
                  <a:pt x="1417" y="1580"/>
                </a:lnTo>
                <a:lnTo>
                  <a:pt x="1417" y="1594"/>
                </a:lnTo>
                <a:lnTo>
                  <a:pt x="1424" y="1608"/>
                </a:lnTo>
                <a:lnTo>
                  <a:pt x="1424" y="1594"/>
                </a:lnTo>
                <a:lnTo>
                  <a:pt x="1424" y="1587"/>
                </a:lnTo>
                <a:lnTo>
                  <a:pt x="1431" y="1573"/>
                </a:lnTo>
                <a:lnTo>
                  <a:pt x="1431" y="1559"/>
                </a:lnTo>
                <a:lnTo>
                  <a:pt x="1431" y="1544"/>
                </a:lnTo>
                <a:lnTo>
                  <a:pt x="1438" y="1537"/>
                </a:lnTo>
                <a:lnTo>
                  <a:pt x="1438" y="1523"/>
                </a:lnTo>
                <a:lnTo>
                  <a:pt x="1438" y="1516"/>
                </a:lnTo>
                <a:lnTo>
                  <a:pt x="1438" y="1502"/>
                </a:lnTo>
                <a:lnTo>
                  <a:pt x="1445" y="1495"/>
                </a:lnTo>
                <a:lnTo>
                  <a:pt x="1445" y="1481"/>
                </a:lnTo>
                <a:lnTo>
                  <a:pt x="1445" y="1474"/>
                </a:lnTo>
                <a:lnTo>
                  <a:pt x="1452" y="1459"/>
                </a:lnTo>
                <a:lnTo>
                  <a:pt x="1452" y="1452"/>
                </a:lnTo>
                <a:lnTo>
                  <a:pt x="1452" y="1445"/>
                </a:lnTo>
                <a:lnTo>
                  <a:pt x="1460" y="1431"/>
                </a:lnTo>
                <a:lnTo>
                  <a:pt x="1460" y="1424"/>
                </a:lnTo>
                <a:lnTo>
                  <a:pt x="1460" y="1417"/>
                </a:lnTo>
                <a:lnTo>
                  <a:pt x="1467" y="1410"/>
                </a:lnTo>
                <a:lnTo>
                  <a:pt x="1467" y="1403"/>
                </a:lnTo>
                <a:lnTo>
                  <a:pt x="1467" y="1389"/>
                </a:lnTo>
                <a:lnTo>
                  <a:pt x="1474" y="1382"/>
                </a:lnTo>
                <a:lnTo>
                  <a:pt x="1474" y="1374"/>
                </a:lnTo>
                <a:lnTo>
                  <a:pt x="1474" y="1367"/>
                </a:lnTo>
                <a:lnTo>
                  <a:pt x="1474" y="1360"/>
                </a:lnTo>
                <a:lnTo>
                  <a:pt x="1481" y="1353"/>
                </a:lnTo>
                <a:lnTo>
                  <a:pt x="1481" y="1346"/>
                </a:lnTo>
                <a:lnTo>
                  <a:pt x="1488" y="1339"/>
                </a:lnTo>
                <a:lnTo>
                  <a:pt x="1488" y="1332"/>
                </a:lnTo>
                <a:lnTo>
                  <a:pt x="1488" y="1325"/>
                </a:lnTo>
                <a:lnTo>
                  <a:pt x="1495" y="1318"/>
                </a:lnTo>
                <a:lnTo>
                  <a:pt x="1495" y="1311"/>
                </a:lnTo>
                <a:lnTo>
                  <a:pt x="1502" y="1304"/>
                </a:lnTo>
                <a:lnTo>
                  <a:pt x="1502" y="1296"/>
                </a:lnTo>
                <a:lnTo>
                  <a:pt x="1509" y="1289"/>
                </a:lnTo>
                <a:lnTo>
                  <a:pt x="1509" y="1282"/>
                </a:lnTo>
                <a:lnTo>
                  <a:pt x="1516" y="1275"/>
                </a:lnTo>
                <a:lnTo>
                  <a:pt x="1523" y="1268"/>
                </a:lnTo>
                <a:lnTo>
                  <a:pt x="1530" y="1261"/>
                </a:lnTo>
                <a:lnTo>
                  <a:pt x="1537" y="1261"/>
                </a:lnTo>
                <a:lnTo>
                  <a:pt x="1545" y="1261"/>
                </a:lnTo>
                <a:lnTo>
                  <a:pt x="1552" y="1261"/>
                </a:lnTo>
                <a:lnTo>
                  <a:pt x="1559" y="1268"/>
                </a:lnTo>
                <a:lnTo>
                  <a:pt x="1566" y="1268"/>
                </a:lnTo>
                <a:lnTo>
                  <a:pt x="1573" y="1275"/>
                </a:lnTo>
                <a:lnTo>
                  <a:pt x="1580" y="1282"/>
                </a:lnTo>
                <a:lnTo>
                  <a:pt x="1587" y="1289"/>
                </a:lnTo>
                <a:lnTo>
                  <a:pt x="1587" y="1296"/>
                </a:lnTo>
                <a:lnTo>
                  <a:pt x="1594" y="1304"/>
                </a:lnTo>
                <a:lnTo>
                  <a:pt x="1594" y="1311"/>
                </a:lnTo>
                <a:lnTo>
                  <a:pt x="1601" y="1318"/>
                </a:lnTo>
                <a:lnTo>
                  <a:pt x="1601" y="1325"/>
                </a:lnTo>
                <a:lnTo>
                  <a:pt x="1608" y="1332"/>
                </a:lnTo>
                <a:lnTo>
                  <a:pt x="1608" y="1339"/>
                </a:lnTo>
                <a:lnTo>
                  <a:pt x="1615" y="1346"/>
                </a:lnTo>
                <a:lnTo>
                  <a:pt x="1615" y="1353"/>
                </a:lnTo>
                <a:lnTo>
                  <a:pt x="1622" y="1360"/>
                </a:lnTo>
                <a:lnTo>
                  <a:pt x="1622" y="1367"/>
                </a:lnTo>
                <a:lnTo>
                  <a:pt x="1622" y="1374"/>
                </a:lnTo>
                <a:lnTo>
                  <a:pt x="1630" y="1382"/>
                </a:lnTo>
                <a:lnTo>
                  <a:pt x="1630" y="1389"/>
                </a:lnTo>
                <a:lnTo>
                  <a:pt x="1630" y="1396"/>
                </a:lnTo>
                <a:lnTo>
                  <a:pt x="1637" y="1403"/>
                </a:lnTo>
                <a:lnTo>
                  <a:pt x="1637" y="1410"/>
                </a:lnTo>
                <a:lnTo>
                  <a:pt x="1644" y="1417"/>
                </a:lnTo>
                <a:lnTo>
                  <a:pt x="1644" y="1424"/>
                </a:lnTo>
                <a:lnTo>
                  <a:pt x="1644" y="1431"/>
                </a:lnTo>
                <a:lnTo>
                  <a:pt x="1651" y="1438"/>
                </a:lnTo>
                <a:lnTo>
                  <a:pt x="1651" y="1445"/>
                </a:lnTo>
                <a:lnTo>
                  <a:pt x="1651" y="1452"/>
                </a:lnTo>
                <a:lnTo>
                  <a:pt x="1658" y="1459"/>
                </a:lnTo>
                <a:lnTo>
                  <a:pt x="1658" y="1467"/>
                </a:lnTo>
                <a:lnTo>
                  <a:pt x="1658" y="1474"/>
                </a:lnTo>
                <a:lnTo>
                  <a:pt x="1665" y="1481"/>
                </a:lnTo>
                <a:lnTo>
                  <a:pt x="1665" y="1488"/>
                </a:lnTo>
                <a:lnTo>
                  <a:pt x="1665" y="1495"/>
                </a:lnTo>
                <a:lnTo>
                  <a:pt x="1672" y="1502"/>
                </a:lnTo>
                <a:lnTo>
                  <a:pt x="1672" y="1509"/>
                </a:lnTo>
                <a:lnTo>
                  <a:pt x="1672" y="1516"/>
                </a:lnTo>
                <a:lnTo>
                  <a:pt x="1679" y="1523"/>
                </a:lnTo>
                <a:lnTo>
                  <a:pt x="1679" y="1530"/>
                </a:lnTo>
                <a:lnTo>
                  <a:pt x="1679" y="1537"/>
                </a:lnTo>
                <a:lnTo>
                  <a:pt x="1686" y="1544"/>
                </a:lnTo>
                <a:lnTo>
                  <a:pt x="1686" y="1552"/>
                </a:lnTo>
                <a:lnTo>
                  <a:pt x="1686" y="1559"/>
                </a:lnTo>
                <a:lnTo>
                  <a:pt x="1693" y="1566"/>
                </a:lnTo>
                <a:lnTo>
                  <a:pt x="1693" y="1573"/>
                </a:lnTo>
                <a:lnTo>
                  <a:pt x="1693" y="1580"/>
                </a:lnTo>
                <a:lnTo>
                  <a:pt x="1700" y="1587"/>
                </a:lnTo>
                <a:lnTo>
                  <a:pt x="1700" y="1594"/>
                </a:lnTo>
                <a:lnTo>
                  <a:pt x="1700" y="1601"/>
                </a:lnTo>
                <a:lnTo>
                  <a:pt x="1708" y="1608"/>
                </a:lnTo>
                <a:lnTo>
                  <a:pt x="1708" y="1601"/>
                </a:lnTo>
                <a:lnTo>
                  <a:pt x="1708" y="1594"/>
                </a:lnTo>
                <a:lnTo>
                  <a:pt x="1715" y="1587"/>
                </a:lnTo>
                <a:lnTo>
                  <a:pt x="1715" y="1580"/>
                </a:lnTo>
                <a:lnTo>
                  <a:pt x="1722" y="1573"/>
                </a:lnTo>
                <a:lnTo>
                  <a:pt x="1722" y="1566"/>
                </a:lnTo>
                <a:lnTo>
                  <a:pt x="1722" y="1559"/>
                </a:lnTo>
                <a:lnTo>
                  <a:pt x="1729" y="1552"/>
                </a:lnTo>
                <a:lnTo>
                  <a:pt x="1729" y="1544"/>
                </a:lnTo>
                <a:lnTo>
                  <a:pt x="1736" y="1537"/>
                </a:lnTo>
                <a:lnTo>
                  <a:pt x="1736" y="1530"/>
                </a:lnTo>
                <a:lnTo>
                  <a:pt x="1736" y="1523"/>
                </a:lnTo>
                <a:lnTo>
                  <a:pt x="1743" y="1516"/>
                </a:lnTo>
                <a:lnTo>
                  <a:pt x="1743" y="1509"/>
                </a:lnTo>
                <a:lnTo>
                  <a:pt x="1750" y="1502"/>
                </a:lnTo>
                <a:lnTo>
                  <a:pt x="1750" y="1495"/>
                </a:lnTo>
                <a:lnTo>
                  <a:pt x="1757" y="1488"/>
                </a:lnTo>
                <a:lnTo>
                  <a:pt x="1757" y="1481"/>
                </a:lnTo>
                <a:lnTo>
                  <a:pt x="1764" y="1474"/>
                </a:lnTo>
                <a:lnTo>
                  <a:pt x="1764" y="1467"/>
                </a:lnTo>
                <a:lnTo>
                  <a:pt x="1771" y="1459"/>
                </a:lnTo>
                <a:lnTo>
                  <a:pt x="1771" y="1452"/>
                </a:lnTo>
                <a:lnTo>
                  <a:pt x="1778" y="1445"/>
                </a:lnTo>
                <a:lnTo>
                  <a:pt x="1785" y="1438"/>
                </a:lnTo>
                <a:lnTo>
                  <a:pt x="1793" y="1431"/>
                </a:lnTo>
                <a:lnTo>
                  <a:pt x="1800" y="1424"/>
                </a:lnTo>
                <a:lnTo>
                  <a:pt x="1807" y="1417"/>
                </a:lnTo>
                <a:lnTo>
                  <a:pt x="1814" y="1410"/>
                </a:lnTo>
                <a:lnTo>
                  <a:pt x="1821" y="1403"/>
                </a:lnTo>
                <a:lnTo>
                  <a:pt x="1828" y="1403"/>
                </a:lnTo>
                <a:lnTo>
                  <a:pt x="1835" y="1403"/>
                </a:lnTo>
                <a:lnTo>
                  <a:pt x="1842" y="1403"/>
                </a:lnTo>
                <a:lnTo>
                  <a:pt x="1849" y="1403"/>
                </a:lnTo>
                <a:lnTo>
                  <a:pt x="1856" y="1410"/>
                </a:lnTo>
                <a:lnTo>
                  <a:pt x="1863" y="1410"/>
                </a:lnTo>
                <a:lnTo>
                  <a:pt x="1871" y="1417"/>
                </a:lnTo>
                <a:lnTo>
                  <a:pt x="1878" y="1424"/>
                </a:lnTo>
                <a:lnTo>
                  <a:pt x="1885" y="1431"/>
                </a:lnTo>
                <a:lnTo>
                  <a:pt x="1892" y="1438"/>
                </a:lnTo>
                <a:lnTo>
                  <a:pt x="1899" y="1445"/>
                </a:lnTo>
                <a:lnTo>
                  <a:pt x="1906" y="1452"/>
                </a:lnTo>
                <a:lnTo>
                  <a:pt x="1913" y="1459"/>
                </a:lnTo>
                <a:lnTo>
                  <a:pt x="1913" y="1467"/>
                </a:lnTo>
                <a:lnTo>
                  <a:pt x="1920" y="1474"/>
                </a:lnTo>
                <a:lnTo>
                  <a:pt x="1920" y="1481"/>
                </a:lnTo>
                <a:lnTo>
                  <a:pt x="1927" y="1488"/>
                </a:lnTo>
                <a:lnTo>
                  <a:pt x="1927" y="1495"/>
                </a:lnTo>
                <a:lnTo>
                  <a:pt x="1934" y="1502"/>
                </a:lnTo>
                <a:lnTo>
                  <a:pt x="1941" y="1509"/>
                </a:lnTo>
                <a:lnTo>
                  <a:pt x="1941" y="1516"/>
                </a:lnTo>
                <a:lnTo>
                  <a:pt x="1948" y="1523"/>
                </a:lnTo>
                <a:lnTo>
                  <a:pt x="1948" y="1530"/>
                </a:lnTo>
                <a:lnTo>
                  <a:pt x="1956" y="1537"/>
                </a:lnTo>
                <a:lnTo>
                  <a:pt x="1956" y="1544"/>
                </a:lnTo>
                <a:lnTo>
                  <a:pt x="1963" y="1552"/>
                </a:lnTo>
                <a:lnTo>
                  <a:pt x="1963" y="1559"/>
                </a:lnTo>
                <a:lnTo>
                  <a:pt x="1970" y="1566"/>
                </a:lnTo>
                <a:lnTo>
                  <a:pt x="1970" y="1573"/>
                </a:lnTo>
                <a:lnTo>
                  <a:pt x="1977" y="1580"/>
                </a:lnTo>
                <a:lnTo>
                  <a:pt x="1977" y="1587"/>
                </a:lnTo>
                <a:lnTo>
                  <a:pt x="1984" y="1594"/>
                </a:lnTo>
                <a:lnTo>
                  <a:pt x="1991" y="1601"/>
                </a:lnTo>
                <a:lnTo>
                  <a:pt x="1991" y="1608"/>
                </a:lnTo>
                <a:lnTo>
                  <a:pt x="1998" y="1601"/>
                </a:lnTo>
                <a:lnTo>
                  <a:pt x="1998" y="1594"/>
                </a:lnTo>
                <a:lnTo>
                  <a:pt x="2005" y="1587"/>
                </a:lnTo>
                <a:lnTo>
                  <a:pt x="2005" y="1580"/>
                </a:lnTo>
                <a:lnTo>
                  <a:pt x="2012" y="1573"/>
                </a:lnTo>
                <a:lnTo>
                  <a:pt x="2012" y="1566"/>
                </a:lnTo>
                <a:lnTo>
                  <a:pt x="2019" y="1559"/>
                </a:lnTo>
                <a:lnTo>
                  <a:pt x="2026" y="1552"/>
                </a:lnTo>
                <a:lnTo>
                  <a:pt x="2026" y="1544"/>
                </a:lnTo>
                <a:lnTo>
                  <a:pt x="2034" y="1537"/>
                </a:lnTo>
                <a:lnTo>
                  <a:pt x="2034" y="1530"/>
                </a:lnTo>
                <a:lnTo>
                  <a:pt x="2041" y="1523"/>
                </a:lnTo>
                <a:lnTo>
                  <a:pt x="2048" y="1516"/>
                </a:lnTo>
                <a:lnTo>
                  <a:pt x="2055" y="1509"/>
                </a:lnTo>
                <a:lnTo>
                  <a:pt x="2062" y="1502"/>
                </a:lnTo>
                <a:lnTo>
                  <a:pt x="2069" y="1495"/>
                </a:lnTo>
                <a:lnTo>
                  <a:pt x="2069" y="1488"/>
                </a:lnTo>
                <a:lnTo>
                  <a:pt x="2076" y="1481"/>
                </a:lnTo>
                <a:lnTo>
                  <a:pt x="2083" y="1474"/>
                </a:lnTo>
                <a:lnTo>
                  <a:pt x="2090" y="1474"/>
                </a:lnTo>
                <a:lnTo>
                  <a:pt x="2097" y="1467"/>
                </a:lnTo>
                <a:lnTo>
                  <a:pt x="2104" y="1467"/>
                </a:lnTo>
                <a:lnTo>
                  <a:pt x="2111" y="1459"/>
                </a:lnTo>
                <a:lnTo>
                  <a:pt x="2119" y="1459"/>
                </a:lnTo>
                <a:lnTo>
                  <a:pt x="2126" y="1459"/>
                </a:lnTo>
                <a:lnTo>
                  <a:pt x="2133" y="1459"/>
                </a:lnTo>
                <a:lnTo>
                  <a:pt x="2140" y="1467"/>
                </a:lnTo>
                <a:lnTo>
                  <a:pt x="2147" y="1467"/>
                </a:lnTo>
                <a:lnTo>
                  <a:pt x="2154" y="1474"/>
                </a:lnTo>
                <a:lnTo>
                  <a:pt x="2161" y="1474"/>
                </a:lnTo>
                <a:lnTo>
                  <a:pt x="2168" y="1481"/>
                </a:lnTo>
                <a:lnTo>
                  <a:pt x="2175" y="1488"/>
                </a:lnTo>
                <a:lnTo>
                  <a:pt x="2182" y="1495"/>
                </a:lnTo>
                <a:lnTo>
                  <a:pt x="2189" y="1502"/>
                </a:lnTo>
                <a:lnTo>
                  <a:pt x="2197" y="1509"/>
                </a:lnTo>
                <a:lnTo>
                  <a:pt x="2204" y="1516"/>
                </a:lnTo>
                <a:lnTo>
                  <a:pt x="2211" y="1523"/>
                </a:lnTo>
                <a:lnTo>
                  <a:pt x="2218" y="1530"/>
                </a:lnTo>
                <a:lnTo>
                  <a:pt x="2225" y="1537"/>
                </a:lnTo>
                <a:lnTo>
                  <a:pt x="2232" y="1544"/>
                </a:lnTo>
                <a:lnTo>
                  <a:pt x="2239" y="1552"/>
                </a:lnTo>
                <a:lnTo>
                  <a:pt x="2239" y="1559"/>
                </a:lnTo>
                <a:lnTo>
                  <a:pt x="2246" y="1566"/>
                </a:lnTo>
                <a:lnTo>
                  <a:pt x="2253" y="1573"/>
                </a:lnTo>
                <a:lnTo>
                  <a:pt x="2253" y="1580"/>
                </a:lnTo>
                <a:lnTo>
                  <a:pt x="2260" y="1587"/>
                </a:lnTo>
                <a:lnTo>
                  <a:pt x="2267" y="1594"/>
                </a:lnTo>
                <a:lnTo>
                  <a:pt x="2267" y="1601"/>
                </a:lnTo>
                <a:lnTo>
                  <a:pt x="2274" y="1608"/>
                </a:lnTo>
              </a:path>
            </a:pathLst>
          </a:custGeom>
          <a:noFill/>
          <a:ln w="0">
            <a:solidFill>
              <a:srgbClr val="cc99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562720" y="2050920"/>
            <a:ext cx="380880" cy="3657600"/>
          </a:xfrm>
          <a:custGeom>
            <a:avLst/>
            <a:gdLst/>
            <a:ahLst/>
            <a:rect l="l" t="t" r="r" b="b"/>
            <a:pathLst>
              <a:path w="2274" h="1608">
                <a:moveTo>
                  <a:pt x="0" y="1608"/>
                </a:moveTo>
                <a:lnTo>
                  <a:pt x="7" y="1601"/>
                </a:lnTo>
                <a:lnTo>
                  <a:pt x="14" y="1594"/>
                </a:lnTo>
                <a:lnTo>
                  <a:pt x="14" y="1587"/>
                </a:lnTo>
                <a:lnTo>
                  <a:pt x="21" y="1580"/>
                </a:lnTo>
                <a:lnTo>
                  <a:pt x="28" y="1573"/>
                </a:lnTo>
                <a:lnTo>
                  <a:pt x="28" y="1566"/>
                </a:lnTo>
                <a:lnTo>
                  <a:pt x="35" y="1559"/>
                </a:lnTo>
                <a:lnTo>
                  <a:pt x="42" y="1552"/>
                </a:lnTo>
                <a:lnTo>
                  <a:pt x="49" y="1544"/>
                </a:lnTo>
                <a:lnTo>
                  <a:pt x="49" y="1537"/>
                </a:lnTo>
                <a:lnTo>
                  <a:pt x="56" y="1530"/>
                </a:lnTo>
                <a:lnTo>
                  <a:pt x="63" y="1523"/>
                </a:lnTo>
                <a:lnTo>
                  <a:pt x="71" y="1516"/>
                </a:lnTo>
                <a:lnTo>
                  <a:pt x="78" y="1509"/>
                </a:lnTo>
                <a:lnTo>
                  <a:pt x="85" y="1502"/>
                </a:lnTo>
                <a:lnTo>
                  <a:pt x="92" y="1495"/>
                </a:lnTo>
                <a:lnTo>
                  <a:pt x="99" y="1488"/>
                </a:lnTo>
                <a:lnTo>
                  <a:pt x="106" y="1481"/>
                </a:lnTo>
                <a:lnTo>
                  <a:pt x="113" y="1474"/>
                </a:lnTo>
                <a:lnTo>
                  <a:pt x="120" y="1467"/>
                </a:lnTo>
                <a:lnTo>
                  <a:pt x="127" y="1467"/>
                </a:lnTo>
                <a:lnTo>
                  <a:pt x="134" y="1459"/>
                </a:lnTo>
                <a:lnTo>
                  <a:pt x="141" y="1459"/>
                </a:lnTo>
                <a:lnTo>
                  <a:pt x="148" y="1459"/>
                </a:lnTo>
                <a:lnTo>
                  <a:pt x="156" y="1459"/>
                </a:lnTo>
                <a:lnTo>
                  <a:pt x="163" y="1467"/>
                </a:lnTo>
                <a:lnTo>
                  <a:pt x="170" y="1467"/>
                </a:lnTo>
                <a:lnTo>
                  <a:pt x="177" y="1467"/>
                </a:lnTo>
                <a:lnTo>
                  <a:pt x="184" y="1474"/>
                </a:lnTo>
                <a:lnTo>
                  <a:pt x="191" y="1481"/>
                </a:lnTo>
                <a:lnTo>
                  <a:pt x="198" y="1481"/>
                </a:lnTo>
                <a:lnTo>
                  <a:pt x="205" y="1488"/>
                </a:lnTo>
                <a:lnTo>
                  <a:pt x="212" y="1495"/>
                </a:lnTo>
                <a:lnTo>
                  <a:pt x="219" y="1502"/>
                </a:lnTo>
                <a:lnTo>
                  <a:pt x="226" y="1509"/>
                </a:lnTo>
                <a:lnTo>
                  <a:pt x="234" y="1516"/>
                </a:lnTo>
                <a:lnTo>
                  <a:pt x="234" y="1523"/>
                </a:lnTo>
                <a:lnTo>
                  <a:pt x="241" y="1530"/>
                </a:lnTo>
                <a:lnTo>
                  <a:pt x="241" y="1537"/>
                </a:lnTo>
                <a:lnTo>
                  <a:pt x="248" y="1544"/>
                </a:lnTo>
                <a:lnTo>
                  <a:pt x="255" y="1552"/>
                </a:lnTo>
                <a:lnTo>
                  <a:pt x="255" y="1559"/>
                </a:lnTo>
                <a:lnTo>
                  <a:pt x="262" y="1566"/>
                </a:lnTo>
                <a:lnTo>
                  <a:pt x="269" y="1573"/>
                </a:lnTo>
                <a:lnTo>
                  <a:pt x="269" y="1580"/>
                </a:lnTo>
                <a:lnTo>
                  <a:pt x="276" y="1587"/>
                </a:lnTo>
                <a:lnTo>
                  <a:pt x="276" y="1594"/>
                </a:lnTo>
                <a:lnTo>
                  <a:pt x="283" y="1601"/>
                </a:lnTo>
                <a:lnTo>
                  <a:pt x="283" y="1608"/>
                </a:lnTo>
                <a:lnTo>
                  <a:pt x="290" y="1601"/>
                </a:lnTo>
                <a:lnTo>
                  <a:pt x="290" y="1594"/>
                </a:lnTo>
                <a:lnTo>
                  <a:pt x="297" y="1587"/>
                </a:lnTo>
                <a:lnTo>
                  <a:pt x="297" y="1580"/>
                </a:lnTo>
                <a:lnTo>
                  <a:pt x="304" y="1573"/>
                </a:lnTo>
                <a:lnTo>
                  <a:pt x="304" y="1566"/>
                </a:lnTo>
                <a:lnTo>
                  <a:pt x="311" y="1559"/>
                </a:lnTo>
                <a:lnTo>
                  <a:pt x="319" y="1552"/>
                </a:lnTo>
                <a:lnTo>
                  <a:pt x="319" y="1544"/>
                </a:lnTo>
                <a:lnTo>
                  <a:pt x="319" y="1537"/>
                </a:lnTo>
                <a:lnTo>
                  <a:pt x="326" y="1530"/>
                </a:lnTo>
                <a:lnTo>
                  <a:pt x="326" y="1523"/>
                </a:lnTo>
                <a:lnTo>
                  <a:pt x="333" y="1516"/>
                </a:lnTo>
                <a:lnTo>
                  <a:pt x="340" y="1509"/>
                </a:lnTo>
                <a:lnTo>
                  <a:pt x="340" y="1502"/>
                </a:lnTo>
                <a:lnTo>
                  <a:pt x="347" y="1495"/>
                </a:lnTo>
                <a:lnTo>
                  <a:pt x="347" y="1488"/>
                </a:lnTo>
                <a:lnTo>
                  <a:pt x="354" y="1481"/>
                </a:lnTo>
                <a:lnTo>
                  <a:pt x="354" y="1474"/>
                </a:lnTo>
                <a:lnTo>
                  <a:pt x="361" y="1467"/>
                </a:lnTo>
                <a:lnTo>
                  <a:pt x="368" y="1459"/>
                </a:lnTo>
                <a:lnTo>
                  <a:pt x="375" y="1452"/>
                </a:lnTo>
                <a:lnTo>
                  <a:pt x="375" y="1445"/>
                </a:lnTo>
                <a:lnTo>
                  <a:pt x="382" y="1438"/>
                </a:lnTo>
                <a:lnTo>
                  <a:pt x="389" y="1431"/>
                </a:lnTo>
                <a:lnTo>
                  <a:pt x="397" y="1424"/>
                </a:lnTo>
                <a:lnTo>
                  <a:pt x="404" y="1417"/>
                </a:lnTo>
                <a:lnTo>
                  <a:pt x="411" y="1410"/>
                </a:lnTo>
                <a:lnTo>
                  <a:pt x="418" y="1403"/>
                </a:lnTo>
                <a:lnTo>
                  <a:pt x="425" y="1403"/>
                </a:lnTo>
                <a:lnTo>
                  <a:pt x="432" y="1403"/>
                </a:lnTo>
                <a:lnTo>
                  <a:pt x="439" y="1403"/>
                </a:lnTo>
                <a:lnTo>
                  <a:pt x="446" y="1403"/>
                </a:lnTo>
                <a:lnTo>
                  <a:pt x="453" y="1403"/>
                </a:lnTo>
                <a:lnTo>
                  <a:pt x="460" y="1410"/>
                </a:lnTo>
                <a:lnTo>
                  <a:pt x="467" y="1417"/>
                </a:lnTo>
                <a:lnTo>
                  <a:pt x="474" y="1424"/>
                </a:lnTo>
                <a:lnTo>
                  <a:pt x="482" y="1431"/>
                </a:lnTo>
                <a:lnTo>
                  <a:pt x="489" y="1438"/>
                </a:lnTo>
                <a:lnTo>
                  <a:pt x="496" y="1445"/>
                </a:lnTo>
                <a:lnTo>
                  <a:pt x="503" y="1452"/>
                </a:lnTo>
                <a:lnTo>
                  <a:pt x="503" y="1459"/>
                </a:lnTo>
                <a:lnTo>
                  <a:pt x="510" y="1467"/>
                </a:lnTo>
                <a:lnTo>
                  <a:pt x="510" y="1474"/>
                </a:lnTo>
                <a:lnTo>
                  <a:pt x="517" y="1481"/>
                </a:lnTo>
                <a:lnTo>
                  <a:pt x="517" y="1488"/>
                </a:lnTo>
                <a:lnTo>
                  <a:pt x="524" y="1495"/>
                </a:lnTo>
                <a:lnTo>
                  <a:pt x="524" y="1502"/>
                </a:lnTo>
                <a:lnTo>
                  <a:pt x="531" y="1509"/>
                </a:lnTo>
                <a:lnTo>
                  <a:pt x="531" y="1516"/>
                </a:lnTo>
                <a:lnTo>
                  <a:pt x="538" y="1523"/>
                </a:lnTo>
                <a:lnTo>
                  <a:pt x="538" y="1530"/>
                </a:lnTo>
                <a:lnTo>
                  <a:pt x="538" y="1537"/>
                </a:lnTo>
                <a:lnTo>
                  <a:pt x="545" y="1544"/>
                </a:lnTo>
                <a:lnTo>
                  <a:pt x="545" y="1552"/>
                </a:lnTo>
                <a:lnTo>
                  <a:pt x="552" y="1559"/>
                </a:lnTo>
                <a:lnTo>
                  <a:pt x="552" y="1566"/>
                </a:lnTo>
                <a:lnTo>
                  <a:pt x="552" y="1573"/>
                </a:lnTo>
                <a:lnTo>
                  <a:pt x="560" y="1580"/>
                </a:lnTo>
                <a:lnTo>
                  <a:pt x="560" y="1587"/>
                </a:lnTo>
                <a:lnTo>
                  <a:pt x="567" y="1594"/>
                </a:lnTo>
                <a:lnTo>
                  <a:pt x="567" y="1601"/>
                </a:lnTo>
                <a:lnTo>
                  <a:pt x="567" y="1608"/>
                </a:lnTo>
                <a:lnTo>
                  <a:pt x="574" y="1601"/>
                </a:lnTo>
                <a:lnTo>
                  <a:pt x="574" y="1594"/>
                </a:lnTo>
                <a:lnTo>
                  <a:pt x="574" y="1587"/>
                </a:lnTo>
                <a:lnTo>
                  <a:pt x="581" y="1580"/>
                </a:lnTo>
                <a:lnTo>
                  <a:pt x="581" y="1573"/>
                </a:lnTo>
                <a:lnTo>
                  <a:pt x="581" y="1566"/>
                </a:lnTo>
                <a:lnTo>
                  <a:pt x="588" y="1559"/>
                </a:lnTo>
                <a:lnTo>
                  <a:pt x="588" y="1552"/>
                </a:lnTo>
                <a:lnTo>
                  <a:pt x="588" y="1544"/>
                </a:lnTo>
                <a:lnTo>
                  <a:pt x="595" y="1537"/>
                </a:lnTo>
                <a:lnTo>
                  <a:pt x="595" y="1530"/>
                </a:lnTo>
                <a:lnTo>
                  <a:pt x="595" y="1523"/>
                </a:lnTo>
                <a:lnTo>
                  <a:pt x="602" y="1516"/>
                </a:lnTo>
                <a:lnTo>
                  <a:pt x="602" y="1509"/>
                </a:lnTo>
                <a:lnTo>
                  <a:pt x="602" y="1502"/>
                </a:lnTo>
                <a:lnTo>
                  <a:pt x="609" y="1495"/>
                </a:lnTo>
                <a:lnTo>
                  <a:pt x="609" y="1488"/>
                </a:lnTo>
                <a:lnTo>
                  <a:pt x="616" y="1481"/>
                </a:lnTo>
                <a:lnTo>
                  <a:pt x="616" y="1474"/>
                </a:lnTo>
                <a:lnTo>
                  <a:pt x="616" y="1467"/>
                </a:lnTo>
                <a:lnTo>
                  <a:pt x="616" y="1459"/>
                </a:lnTo>
                <a:lnTo>
                  <a:pt x="623" y="1452"/>
                </a:lnTo>
                <a:lnTo>
                  <a:pt x="623" y="1445"/>
                </a:lnTo>
                <a:lnTo>
                  <a:pt x="623" y="1438"/>
                </a:lnTo>
                <a:lnTo>
                  <a:pt x="630" y="1431"/>
                </a:lnTo>
                <a:lnTo>
                  <a:pt x="630" y="1424"/>
                </a:lnTo>
                <a:lnTo>
                  <a:pt x="637" y="1417"/>
                </a:lnTo>
                <a:lnTo>
                  <a:pt x="637" y="1410"/>
                </a:lnTo>
                <a:lnTo>
                  <a:pt x="637" y="1403"/>
                </a:lnTo>
                <a:lnTo>
                  <a:pt x="645" y="1396"/>
                </a:lnTo>
                <a:lnTo>
                  <a:pt x="645" y="1389"/>
                </a:lnTo>
                <a:lnTo>
                  <a:pt x="652" y="1382"/>
                </a:lnTo>
                <a:lnTo>
                  <a:pt x="652" y="1374"/>
                </a:lnTo>
                <a:lnTo>
                  <a:pt x="652" y="1367"/>
                </a:lnTo>
                <a:lnTo>
                  <a:pt x="652" y="1360"/>
                </a:lnTo>
                <a:lnTo>
                  <a:pt x="659" y="1353"/>
                </a:lnTo>
                <a:lnTo>
                  <a:pt x="659" y="1346"/>
                </a:lnTo>
                <a:lnTo>
                  <a:pt x="666" y="1339"/>
                </a:lnTo>
                <a:lnTo>
                  <a:pt x="666" y="1332"/>
                </a:lnTo>
                <a:lnTo>
                  <a:pt x="673" y="1325"/>
                </a:lnTo>
                <a:lnTo>
                  <a:pt x="673" y="1318"/>
                </a:lnTo>
                <a:lnTo>
                  <a:pt x="680" y="1311"/>
                </a:lnTo>
                <a:lnTo>
                  <a:pt x="687" y="1304"/>
                </a:lnTo>
                <a:lnTo>
                  <a:pt x="687" y="1296"/>
                </a:lnTo>
                <a:lnTo>
                  <a:pt x="694" y="1289"/>
                </a:lnTo>
                <a:lnTo>
                  <a:pt x="694" y="1282"/>
                </a:lnTo>
                <a:lnTo>
                  <a:pt x="701" y="1275"/>
                </a:lnTo>
                <a:lnTo>
                  <a:pt x="708" y="1268"/>
                </a:lnTo>
                <a:lnTo>
                  <a:pt x="715" y="1261"/>
                </a:lnTo>
                <a:lnTo>
                  <a:pt x="723" y="1261"/>
                </a:lnTo>
                <a:lnTo>
                  <a:pt x="730" y="1261"/>
                </a:lnTo>
                <a:lnTo>
                  <a:pt x="737" y="1261"/>
                </a:lnTo>
                <a:lnTo>
                  <a:pt x="744" y="1261"/>
                </a:lnTo>
                <a:lnTo>
                  <a:pt x="751" y="1268"/>
                </a:lnTo>
                <a:lnTo>
                  <a:pt x="758" y="1275"/>
                </a:lnTo>
                <a:lnTo>
                  <a:pt x="765" y="1282"/>
                </a:lnTo>
                <a:lnTo>
                  <a:pt x="765" y="1289"/>
                </a:lnTo>
                <a:lnTo>
                  <a:pt x="772" y="1296"/>
                </a:lnTo>
                <a:lnTo>
                  <a:pt x="772" y="1304"/>
                </a:lnTo>
                <a:lnTo>
                  <a:pt x="779" y="1311"/>
                </a:lnTo>
                <a:lnTo>
                  <a:pt x="779" y="1318"/>
                </a:lnTo>
                <a:lnTo>
                  <a:pt x="786" y="1325"/>
                </a:lnTo>
                <a:lnTo>
                  <a:pt x="786" y="1332"/>
                </a:lnTo>
                <a:lnTo>
                  <a:pt x="793" y="1339"/>
                </a:lnTo>
                <a:lnTo>
                  <a:pt x="793" y="1346"/>
                </a:lnTo>
                <a:lnTo>
                  <a:pt x="793" y="1353"/>
                </a:lnTo>
                <a:lnTo>
                  <a:pt x="800" y="1360"/>
                </a:lnTo>
                <a:lnTo>
                  <a:pt x="800" y="1367"/>
                </a:lnTo>
                <a:lnTo>
                  <a:pt x="800" y="1374"/>
                </a:lnTo>
                <a:lnTo>
                  <a:pt x="800" y="1382"/>
                </a:lnTo>
                <a:lnTo>
                  <a:pt x="808" y="1389"/>
                </a:lnTo>
                <a:lnTo>
                  <a:pt x="808" y="1403"/>
                </a:lnTo>
                <a:lnTo>
                  <a:pt x="808" y="1410"/>
                </a:lnTo>
                <a:lnTo>
                  <a:pt x="815" y="1417"/>
                </a:lnTo>
                <a:lnTo>
                  <a:pt x="815" y="1424"/>
                </a:lnTo>
                <a:lnTo>
                  <a:pt x="815" y="1431"/>
                </a:lnTo>
                <a:lnTo>
                  <a:pt x="822" y="1445"/>
                </a:lnTo>
                <a:lnTo>
                  <a:pt x="822" y="1452"/>
                </a:lnTo>
                <a:lnTo>
                  <a:pt x="822" y="1459"/>
                </a:lnTo>
                <a:lnTo>
                  <a:pt x="829" y="1474"/>
                </a:lnTo>
                <a:lnTo>
                  <a:pt x="829" y="1481"/>
                </a:lnTo>
                <a:lnTo>
                  <a:pt x="829" y="1495"/>
                </a:lnTo>
                <a:lnTo>
                  <a:pt x="836" y="1502"/>
                </a:lnTo>
                <a:lnTo>
                  <a:pt x="836" y="1516"/>
                </a:lnTo>
                <a:lnTo>
                  <a:pt x="836" y="1523"/>
                </a:lnTo>
                <a:lnTo>
                  <a:pt x="836" y="1537"/>
                </a:lnTo>
                <a:lnTo>
                  <a:pt x="843" y="1544"/>
                </a:lnTo>
                <a:lnTo>
                  <a:pt x="843" y="1559"/>
                </a:lnTo>
                <a:lnTo>
                  <a:pt x="843" y="1573"/>
                </a:lnTo>
                <a:lnTo>
                  <a:pt x="850" y="1587"/>
                </a:lnTo>
                <a:lnTo>
                  <a:pt x="850" y="1594"/>
                </a:lnTo>
                <a:lnTo>
                  <a:pt x="850" y="1608"/>
                </a:lnTo>
                <a:lnTo>
                  <a:pt x="857" y="1594"/>
                </a:lnTo>
                <a:lnTo>
                  <a:pt x="857" y="1580"/>
                </a:lnTo>
                <a:lnTo>
                  <a:pt x="857" y="1573"/>
                </a:lnTo>
                <a:lnTo>
                  <a:pt x="864" y="1559"/>
                </a:lnTo>
                <a:lnTo>
                  <a:pt x="864" y="1544"/>
                </a:lnTo>
                <a:lnTo>
                  <a:pt x="864" y="1530"/>
                </a:lnTo>
                <a:lnTo>
                  <a:pt x="871" y="1516"/>
                </a:lnTo>
                <a:lnTo>
                  <a:pt x="871" y="1502"/>
                </a:lnTo>
                <a:lnTo>
                  <a:pt x="871" y="1488"/>
                </a:lnTo>
                <a:lnTo>
                  <a:pt x="878" y="1474"/>
                </a:lnTo>
                <a:lnTo>
                  <a:pt x="878" y="1459"/>
                </a:lnTo>
                <a:lnTo>
                  <a:pt x="878" y="1445"/>
                </a:lnTo>
                <a:lnTo>
                  <a:pt x="878" y="1431"/>
                </a:lnTo>
                <a:lnTo>
                  <a:pt x="885" y="1417"/>
                </a:lnTo>
                <a:lnTo>
                  <a:pt x="885" y="1403"/>
                </a:lnTo>
                <a:lnTo>
                  <a:pt x="885" y="1382"/>
                </a:lnTo>
                <a:lnTo>
                  <a:pt x="893" y="1367"/>
                </a:lnTo>
                <a:lnTo>
                  <a:pt x="893" y="1353"/>
                </a:lnTo>
                <a:lnTo>
                  <a:pt x="893" y="1339"/>
                </a:lnTo>
                <a:lnTo>
                  <a:pt x="900" y="1325"/>
                </a:lnTo>
                <a:lnTo>
                  <a:pt x="900" y="1304"/>
                </a:lnTo>
                <a:lnTo>
                  <a:pt x="900" y="1289"/>
                </a:lnTo>
                <a:lnTo>
                  <a:pt x="907" y="1275"/>
                </a:lnTo>
                <a:lnTo>
                  <a:pt x="907" y="1261"/>
                </a:lnTo>
                <a:lnTo>
                  <a:pt x="907" y="1240"/>
                </a:lnTo>
                <a:lnTo>
                  <a:pt x="914" y="1226"/>
                </a:lnTo>
                <a:lnTo>
                  <a:pt x="914" y="1211"/>
                </a:lnTo>
                <a:lnTo>
                  <a:pt x="914" y="1190"/>
                </a:lnTo>
                <a:lnTo>
                  <a:pt x="914" y="1176"/>
                </a:lnTo>
                <a:lnTo>
                  <a:pt x="921" y="1162"/>
                </a:lnTo>
                <a:lnTo>
                  <a:pt x="921" y="1141"/>
                </a:lnTo>
                <a:lnTo>
                  <a:pt x="921" y="1126"/>
                </a:lnTo>
                <a:lnTo>
                  <a:pt x="928" y="1105"/>
                </a:lnTo>
                <a:lnTo>
                  <a:pt x="928" y="1091"/>
                </a:lnTo>
                <a:lnTo>
                  <a:pt x="928" y="1077"/>
                </a:lnTo>
                <a:lnTo>
                  <a:pt x="935" y="1056"/>
                </a:lnTo>
                <a:lnTo>
                  <a:pt x="935" y="1041"/>
                </a:lnTo>
                <a:lnTo>
                  <a:pt x="935" y="1020"/>
                </a:lnTo>
                <a:lnTo>
                  <a:pt x="942" y="1006"/>
                </a:lnTo>
                <a:lnTo>
                  <a:pt x="942" y="992"/>
                </a:lnTo>
                <a:lnTo>
                  <a:pt x="942" y="971"/>
                </a:lnTo>
                <a:lnTo>
                  <a:pt x="949" y="956"/>
                </a:lnTo>
                <a:lnTo>
                  <a:pt x="949" y="935"/>
                </a:lnTo>
                <a:lnTo>
                  <a:pt x="949" y="921"/>
                </a:lnTo>
                <a:lnTo>
                  <a:pt x="949" y="900"/>
                </a:lnTo>
                <a:lnTo>
                  <a:pt x="956" y="886"/>
                </a:lnTo>
                <a:lnTo>
                  <a:pt x="956" y="871"/>
                </a:lnTo>
                <a:lnTo>
                  <a:pt x="956" y="850"/>
                </a:lnTo>
                <a:lnTo>
                  <a:pt x="963" y="836"/>
                </a:lnTo>
                <a:lnTo>
                  <a:pt x="963" y="815"/>
                </a:lnTo>
                <a:lnTo>
                  <a:pt x="963" y="800"/>
                </a:lnTo>
                <a:lnTo>
                  <a:pt x="971" y="786"/>
                </a:lnTo>
                <a:lnTo>
                  <a:pt x="971" y="765"/>
                </a:lnTo>
                <a:lnTo>
                  <a:pt x="971" y="751"/>
                </a:lnTo>
                <a:lnTo>
                  <a:pt x="978" y="730"/>
                </a:lnTo>
                <a:lnTo>
                  <a:pt x="978" y="715"/>
                </a:lnTo>
                <a:lnTo>
                  <a:pt x="978" y="701"/>
                </a:lnTo>
                <a:lnTo>
                  <a:pt x="985" y="680"/>
                </a:lnTo>
                <a:lnTo>
                  <a:pt x="985" y="666"/>
                </a:lnTo>
                <a:lnTo>
                  <a:pt x="985" y="652"/>
                </a:lnTo>
                <a:lnTo>
                  <a:pt x="985" y="630"/>
                </a:lnTo>
                <a:lnTo>
                  <a:pt x="992" y="616"/>
                </a:lnTo>
                <a:lnTo>
                  <a:pt x="992" y="602"/>
                </a:lnTo>
                <a:lnTo>
                  <a:pt x="992" y="581"/>
                </a:lnTo>
                <a:lnTo>
                  <a:pt x="999" y="567"/>
                </a:lnTo>
                <a:lnTo>
                  <a:pt x="999" y="552"/>
                </a:lnTo>
                <a:lnTo>
                  <a:pt x="999" y="538"/>
                </a:lnTo>
                <a:lnTo>
                  <a:pt x="1006" y="524"/>
                </a:lnTo>
                <a:lnTo>
                  <a:pt x="1006" y="503"/>
                </a:lnTo>
                <a:lnTo>
                  <a:pt x="1006" y="489"/>
                </a:lnTo>
                <a:lnTo>
                  <a:pt x="1013" y="475"/>
                </a:lnTo>
                <a:lnTo>
                  <a:pt x="1013" y="460"/>
                </a:lnTo>
                <a:lnTo>
                  <a:pt x="1013" y="446"/>
                </a:lnTo>
                <a:lnTo>
                  <a:pt x="1020" y="432"/>
                </a:lnTo>
                <a:lnTo>
                  <a:pt x="1020" y="418"/>
                </a:lnTo>
                <a:lnTo>
                  <a:pt x="1020" y="404"/>
                </a:lnTo>
                <a:lnTo>
                  <a:pt x="1027" y="390"/>
                </a:lnTo>
                <a:lnTo>
                  <a:pt x="1027" y="375"/>
                </a:lnTo>
                <a:lnTo>
                  <a:pt x="1027" y="361"/>
                </a:lnTo>
                <a:lnTo>
                  <a:pt x="1027" y="347"/>
                </a:lnTo>
                <a:lnTo>
                  <a:pt x="1034" y="333"/>
                </a:lnTo>
                <a:lnTo>
                  <a:pt x="1034" y="319"/>
                </a:lnTo>
                <a:lnTo>
                  <a:pt x="1034" y="304"/>
                </a:lnTo>
                <a:lnTo>
                  <a:pt x="1041" y="297"/>
                </a:lnTo>
                <a:lnTo>
                  <a:pt x="1041" y="283"/>
                </a:lnTo>
                <a:lnTo>
                  <a:pt x="1041" y="269"/>
                </a:lnTo>
                <a:lnTo>
                  <a:pt x="1048" y="255"/>
                </a:lnTo>
                <a:lnTo>
                  <a:pt x="1048" y="248"/>
                </a:lnTo>
                <a:lnTo>
                  <a:pt x="1048" y="234"/>
                </a:lnTo>
                <a:lnTo>
                  <a:pt x="1056" y="227"/>
                </a:lnTo>
                <a:lnTo>
                  <a:pt x="1056" y="212"/>
                </a:lnTo>
                <a:lnTo>
                  <a:pt x="1056" y="198"/>
                </a:lnTo>
                <a:lnTo>
                  <a:pt x="1063" y="191"/>
                </a:lnTo>
                <a:lnTo>
                  <a:pt x="1063" y="177"/>
                </a:lnTo>
                <a:lnTo>
                  <a:pt x="1063" y="170"/>
                </a:lnTo>
                <a:lnTo>
                  <a:pt x="1063" y="163"/>
                </a:lnTo>
                <a:lnTo>
                  <a:pt x="1070" y="149"/>
                </a:lnTo>
                <a:lnTo>
                  <a:pt x="1070" y="142"/>
                </a:lnTo>
                <a:lnTo>
                  <a:pt x="1070" y="134"/>
                </a:lnTo>
                <a:lnTo>
                  <a:pt x="1077" y="120"/>
                </a:lnTo>
                <a:lnTo>
                  <a:pt x="1077" y="113"/>
                </a:lnTo>
                <a:lnTo>
                  <a:pt x="1077" y="106"/>
                </a:lnTo>
                <a:lnTo>
                  <a:pt x="1084" y="99"/>
                </a:lnTo>
                <a:lnTo>
                  <a:pt x="1084" y="92"/>
                </a:lnTo>
                <a:lnTo>
                  <a:pt x="1084" y="85"/>
                </a:lnTo>
                <a:lnTo>
                  <a:pt x="1091" y="78"/>
                </a:lnTo>
                <a:lnTo>
                  <a:pt x="1091" y="71"/>
                </a:lnTo>
                <a:lnTo>
                  <a:pt x="1091" y="64"/>
                </a:lnTo>
                <a:lnTo>
                  <a:pt x="1098" y="56"/>
                </a:lnTo>
                <a:lnTo>
                  <a:pt x="1098" y="49"/>
                </a:lnTo>
                <a:lnTo>
                  <a:pt x="1098" y="42"/>
                </a:lnTo>
                <a:lnTo>
                  <a:pt x="1105" y="35"/>
                </a:lnTo>
                <a:lnTo>
                  <a:pt x="1105" y="28"/>
                </a:lnTo>
                <a:lnTo>
                  <a:pt x="1112" y="21"/>
                </a:lnTo>
                <a:lnTo>
                  <a:pt x="1119" y="14"/>
                </a:lnTo>
                <a:lnTo>
                  <a:pt x="1126" y="7"/>
                </a:lnTo>
                <a:lnTo>
                  <a:pt x="1134" y="0"/>
                </a:lnTo>
                <a:lnTo>
                  <a:pt x="1141" y="0"/>
                </a:lnTo>
                <a:lnTo>
                  <a:pt x="1148" y="7"/>
                </a:lnTo>
                <a:lnTo>
                  <a:pt x="1155" y="14"/>
                </a:lnTo>
                <a:lnTo>
                  <a:pt x="1162" y="21"/>
                </a:lnTo>
                <a:lnTo>
                  <a:pt x="1169" y="28"/>
                </a:lnTo>
                <a:lnTo>
                  <a:pt x="1169" y="35"/>
                </a:lnTo>
                <a:lnTo>
                  <a:pt x="1176" y="42"/>
                </a:lnTo>
                <a:lnTo>
                  <a:pt x="1176" y="49"/>
                </a:lnTo>
                <a:lnTo>
                  <a:pt x="1176" y="56"/>
                </a:lnTo>
                <a:lnTo>
                  <a:pt x="1183" y="64"/>
                </a:lnTo>
                <a:lnTo>
                  <a:pt x="1183" y="71"/>
                </a:lnTo>
                <a:lnTo>
                  <a:pt x="1183" y="78"/>
                </a:lnTo>
                <a:lnTo>
                  <a:pt x="1190" y="85"/>
                </a:lnTo>
                <a:lnTo>
                  <a:pt x="1190" y="92"/>
                </a:lnTo>
                <a:lnTo>
                  <a:pt x="1190" y="99"/>
                </a:lnTo>
                <a:lnTo>
                  <a:pt x="1197" y="106"/>
                </a:lnTo>
                <a:lnTo>
                  <a:pt x="1197" y="113"/>
                </a:lnTo>
                <a:lnTo>
                  <a:pt x="1197" y="120"/>
                </a:lnTo>
                <a:lnTo>
                  <a:pt x="1204" y="134"/>
                </a:lnTo>
                <a:lnTo>
                  <a:pt x="1204" y="142"/>
                </a:lnTo>
                <a:lnTo>
                  <a:pt x="1204" y="149"/>
                </a:lnTo>
                <a:lnTo>
                  <a:pt x="1211" y="163"/>
                </a:lnTo>
                <a:lnTo>
                  <a:pt x="1211" y="170"/>
                </a:lnTo>
                <a:lnTo>
                  <a:pt x="1211" y="177"/>
                </a:lnTo>
                <a:lnTo>
                  <a:pt x="1211" y="191"/>
                </a:lnTo>
                <a:lnTo>
                  <a:pt x="1219" y="198"/>
                </a:lnTo>
                <a:lnTo>
                  <a:pt x="1219" y="212"/>
                </a:lnTo>
                <a:lnTo>
                  <a:pt x="1219" y="227"/>
                </a:lnTo>
                <a:lnTo>
                  <a:pt x="1226" y="234"/>
                </a:lnTo>
                <a:lnTo>
                  <a:pt x="1226" y="248"/>
                </a:lnTo>
                <a:lnTo>
                  <a:pt x="1226" y="255"/>
                </a:lnTo>
                <a:lnTo>
                  <a:pt x="1233" y="269"/>
                </a:lnTo>
                <a:lnTo>
                  <a:pt x="1233" y="283"/>
                </a:lnTo>
                <a:lnTo>
                  <a:pt x="1233" y="297"/>
                </a:lnTo>
                <a:lnTo>
                  <a:pt x="1240" y="304"/>
                </a:lnTo>
                <a:lnTo>
                  <a:pt x="1240" y="319"/>
                </a:lnTo>
                <a:lnTo>
                  <a:pt x="1240" y="333"/>
                </a:lnTo>
                <a:lnTo>
                  <a:pt x="1247" y="347"/>
                </a:lnTo>
                <a:lnTo>
                  <a:pt x="1247" y="361"/>
                </a:lnTo>
                <a:lnTo>
                  <a:pt x="1247" y="375"/>
                </a:lnTo>
                <a:lnTo>
                  <a:pt x="1247" y="390"/>
                </a:lnTo>
                <a:lnTo>
                  <a:pt x="1254" y="404"/>
                </a:lnTo>
                <a:lnTo>
                  <a:pt x="1254" y="418"/>
                </a:lnTo>
                <a:lnTo>
                  <a:pt x="1254" y="432"/>
                </a:lnTo>
                <a:lnTo>
                  <a:pt x="1261" y="446"/>
                </a:lnTo>
                <a:lnTo>
                  <a:pt x="1261" y="460"/>
                </a:lnTo>
                <a:lnTo>
                  <a:pt x="1261" y="475"/>
                </a:lnTo>
                <a:lnTo>
                  <a:pt x="1268" y="489"/>
                </a:lnTo>
                <a:lnTo>
                  <a:pt x="1268" y="503"/>
                </a:lnTo>
                <a:lnTo>
                  <a:pt x="1268" y="524"/>
                </a:lnTo>
                <a:lnTo>
                  <a:pt x="1275" y="538"/>
                </a:lnTo>
                <a:lnTo>
                  <a:pt x="1275" y="552"/>
                </a:lnTo>
                <a:lnTo>
                  <a:pt x="1275" y="567"/>
                </a:lnTo>
                <a:lnTo>
                  <a:pt x="1282" y="581"/>
                </a:lnTo>
                <a:lnTo>
                  <a:pt x="1282" y="602"/>
                </a:lnTo>
                <a:lnTo>
                  <a:pt x="1282" y="616"/>
                </a:lnTo>
                <a:lnTo>
                  <a:pt x="1289" y="630"/>
                </a:lnTo>
                <a:lnTo>
                  <a:pt x="1289" y="652"/>
                </a:lnTo>
                <a:lnTo>
                  <a:pt x="1289" y="666"/>
                </a:lnTo>
                <a:lnTo>
                  <a:pt x="1289" y="680"/>
                </a:lnTo>
                <a:lnTo>
                  <a:pt x="1297" y="701"/>
                </a:lnTo>
                <a:lnTo>
                  <a:pt x="1297" y="715"/>
                </a:lnTo>
                <a:lnTo>
                  <a:pt x="1297" y="730"/>
                </a:lnTo>
                <a:lnTo>
                  <a:pt x="1304" y="751"/>
                </a:lnTo>
                <a:lnTo>
                  <a:pt x="1304" y="765"/>
                </a:lnTo>
                <a:lnTo>
                  <a:pt x="1304" y="786"/>
                </a:lnTo>
                <a:lnTo>
                  <a:pt x="1311" y="800"/>
                </a:lnTo>
                <a:lnTo>
                  <a:pt x="1311" y="815"/>
                </a:lnTo>
                <a:lnTo>
                  <a:pt x="1311" y="836"/>
                </a:lnTo>
                <a:lnTo>
                  <a:pt x="1318" y="850"/>
                </a:lnTo>
                <a:lnTo>
                  <a:pt x="1318" y="871"/>
                </a:lnTo>
                <a:lnTo>
                  <a:pt x="1318" y="886"/>
                </a:lnTo>
                <a:lnTo>
                  <a:pt x="1325" y="900"/>
                </a:lnTo>
                <a:lnTo>
                  <a:pt x="1325" y="921"/>
                </a:lnTo>
                <a:lnTo>
                  <a:pt x="1325" y="935"/>
                </a:lnTo>
                <a:lnTo>
                  <a:pt x="1325" y="956"/>
                </a:lnTo>
                <a:lnTo>
                  <a:pt x="1332" y="971"/>
                </a:lnTo>
                <a:lnTo>
                  <a:pt x="1332" y="992"/>
                </a:lnTo>
                <a:lnTo>
                  <a:pt x="1332" y="1006"/>
                </a:lnTo>
                <a:lnTo>
                  <a:pt x="1339" y="1020"/>
                </a:lnTo>
                <a:lnTo>
                  <a:pt x="1339" y="1041"/>
                </a:lnTo>
                <a:lnTo>
                  <a:pt x="1339" y="1056"/>
                </a:lnTo>
                <a:lnTo>
                  <a:pt x="1346" y="1077"/>
                </a:lnTo>
                <a:lnTo>
                  <a:pt x="1346" y="1091"/>
                </a:lnTo>
                <a:lnTo>
                  <a:pt x="1346" y="1105"/>
                </a:lnTo>
                <a:lnTo>
                  <a:pt x="1353" y="1126"/>
                </a:lnTo>
                <a:lnTo>
                  <a:pt x="1353" y="1141"/>
                </a:lnTo>
                <a:lnTo>
                  <a:pt x="1353" y="1162"/>
                </a:lnTo>
                <a:lnTo>
                  <a:pt x="1360" y="1176"/>
                </a:lnTo>
                <a:lnTo>
                  <a:pt x="1360" y="1190"/>
                </a:lnTo>
                <a:lnTo>
                  <a:pt x="1360" y="1211"/>
                </a:lnTo>
                <a:lnTo>
                  <a:pt x="1360" y="1226"/>
                </a:lnTo>
                <a:lnTo>
                  <a:pt x="1367" y="1240"/>
                </a:lnTo>
                <a:lnTo>
                  <a:pt x="1367" y="1261"/>
                </a:lnTo>
                <a:lnTo>
                  <a:pt x="1367" y="1275"/>
                </a:lnTo>
                <a:lnTo>
                  <a:pt x="1374" y="1289"/>
                </a:lnTo>
                <a:lnTo>
                  <a:pt x="1374" y="1304"/>
                </a:lnTo>
                <a:lnTo>
                  <a:pt x="1374" y="1325"/>
                </a:lnTo>
                <a:lnTo>
                  <a:pt x="1382" y="1339"/>
                </a:lnTo>
                <a:lnTo>
                  <a:pt x="1382" y="1353"/>
                </a:lnTo>
                <a:lnTo>
                  <a:pt x="1382" y="1367"/>
                </a:lnTo>
                <a:lnTo>
                  <a:pt x="1389" y="1382"/>
                </a:lnTo>
                <a:lnTo>
                  <a:pt x="1389" y="1403"/>
                </a:lnTo>
                <a:lnTo>
                  <a:pt x="1389" y="1417"/>
                </a:lnTo>
                <a:lnTo>
                  <a:pt x="1396" y="1431"/>
                </a:lnTo>
                <a:lnTo>
                  <a:pt x="1396" y="1445"/>
                </a:lnTo>
                <a:lnTo>
                  <a:pt x="1396" y="1459"/>
                </a:lnTo>
                <a:lnTo>
                  <a:pt x="1396" y="1474"/>
                </a:lnTo>
                <a:lnTo>
                  <a:pt x="1403" y="1488"/>
                </a:lnTo>
                <a:lnTo>
                  <a:pt x="1403" y="1502"/>
                </a:lnTo>
                <a:lnTo>
                  <a:pt x="1403" y="1516"/>
                </a:lnTo>
                <a:lnTo>
                  <a:pt x="1410" y="1530"/>
                </a:lnTo>
                <a:lnTo>
                  <a:pt x="1410" y="1544"/>
                </a:lnTo>
                <a:lnTo>
                  <a:pt x="1410" y="1559"/>
                </a:lnTo>
                <a:lnTo>
                  <a:pt x="1417" y="1573"/>
                </a:lnTo>
                <a:lnTo>
                  <a:pt x="1417" y="1580"/>
                </a:lnTo>
                <a:lnTo>
                  <a:pt x="1417" y="1594"/>
                </a:lnTo>
                <a:lnTo>
                  <a:pt x="1424" y="1608"/>
                </a:lnTo>
                <a:lnTo>
                  <a:pt x="1424" y="1594"/>
                </a:lnTo>
                <a:lnTo>
                  <a:pt x="1424" y="1587"/>
                </a:lnTo>
                <a:lnTo>
                  <a:pt x="1431" y="1573"/>
                </a:lnTo>
                <a:lnTo>
                  <a:pt x="1431" y="1559"/>
                </a:lnTo>
                <a:lnTo>
                  <a:pt x="1431" y="1544"/>
                </a:lnTo>
                <a:lnTo>
                  <a:pt x="1438" y="1537"/>
                </a:lnTo>
                <a:lnTo>
                  <a:pt x="1438" y="1523"/>
                </a:lnTo>
                <a:lnTo>
                  <a:pt x="1438" y="1516"/>
                </a:lnTo>
                <a:lnTo>
                  <a:pt x="1438" y="1502"/>
                </a:lnTo>
                <a:lnTo>
                  <a:pt x="1445" y="1495"/>
                </a:lnTo>
                <a:lnTo>
                  <a:pt x="1445" y="1481"/>
                </a:lnTo>
                <a:lnTo>
                  <a:pt x="1445" y="1474"/>
                </a:lnTo>
                <a:lnTo>
                  <a:pt x="1452" y="1459"/>
                </a:lnTo>
                <a:lnTo>
                  <a:pt x="1452" y="1452"/>
                </a:lnTo>
                <a:lnTo>
                  <a:pt x="1452" y="1445"/>
                </a:lnTo>
                <a:lnTo>
                  <a:pt x="1460" y="1431"/>
                </a:lnTo>
                <a:lnTo>
                  <a:pt x="1460" y="1424"/>
                </a:lnTo>
                <a:lnTo>
                  <a:pt x="1460" y="1417"/>
                </a:lnTo>
                <a:lnTo>
                  <a:pt x="1467" y="1410"/>
                </a:lnTo>
                <a:lnTo>
                  <a:pt x="1467" y="1403"/>
                </a:lnTo>
                <a:lnTo>
                  <a:pt x="1467" y="1389"/>
                </a:lnTo>
                <a:lnTo>
                  <a:pt x="1474" y="1382"/>
                </a:lnTo>
                <a:lnTo>
                  <a:pt x="1474" y="1374"/>
                </a:lnTo>
                <a:lnTo>
                  <a:pt x="1474" y="1367"/>
                </a:lnTo>
                <a:lnTo>
                  <a:pt x="1474" y="1360"/>
                </a:lnTo>
                <a:lnTo>
                  <a:pt x="1481" y="1353"/>
                </a:lnTo>
                <a:lnTo>
                  <a:pt x="1481" y="1346"/>
                </a:lnTo>
                <a:lnTo>
                  <a:pt x="1488" y="1339"/>
                </a:lnTo>
                <a:lnTo>
                  <a:pt x="1488" y="1332"/>
                </a:lnTo>
                <a:lnTo>
                  <a:pt x="1488" y="1325"/>
                </a:lnTo>
                <a:lnTo>
                  <a:pt x="1495" y="1318"/>
                </a:lnTo>
                <a:lnTo>
                  <a:pt x="1495" y="1311"/>
                </a:lnTo>
                <a:lnTo>
                  <a:pt x="1502" y="1304"/>
                </a:lnTo>
                <a:lnTo>
                  <a:pt x="1502" y="1296"/>
                </a:lnTo>
                <a:lnTo>
                  <a:pt x="1509" y="1289"/>
                </a:lnTo>
                <a:lnTo>
                  <a:pt x="1509" y="1282"/>
                </a:lnTo>
                <a:lnTo>
                  <a:pt x="1516" y="1275"/>
                </a:lnTo>
                <a:lnTo>
                  <a:pt x="1523" y="1268"/>
                </a:lnTo>
                <a:lnTo>
                  <a:pt x="1530" y="1261"/>
                </a:lnTo>
                <a:lnTo>
                  <a:pt x="1537" y="1261"/>
                </a:lnTo>
                <a:lnTo>
                  <a:pt x="1545" y="1261"/>
                </a:lnTo>
                <a:lnTo>
                  <a:pt x="1552" y="1261"/>
                </a:lnTo>
                <a:lnTo>
                  <a:pt x="1559" y="1268"/>
                </a:lnTo>
                <a:lnTo>
                  <a:pt x="1566" y="1268"/>
                </a:lnTo>
                <a:lnTo>
                  <a:pt x="1573" y="1275"/>
                </a:lnTo>
                <a:lnTo>
                  <a:pt x="1580" y="1282"/>
                </a:lnTo>
                <a:lnTo>
                  <a:pt x="1587" y="1289"/>
                </a:lnTo>
                <a:lnTo>
                  <a:pt x="1587" y="1296"/>
                </a:lnTo>
                <a:lnTo>
                  <a:pt x="1594" y="1304"/>
                </a:lnTo>
                <a:lnTo>
                  <a:pt x="1594" y="1311"/>
                </a:lnTo>
                <a:lnTo>
                  <a:pt x="1601" y="1318"/>
                </a:lnTo>
                <a:lnTo>
                  <a:pt x="1601" y="1325"/>
                </a:lnTo>
                <a:lnTo>
                  <a:pt x="1608" y="1332"/>
                </a:lnTo>
                <a:lnTo>
                  <a:pt x="1608" y="1339"/>
                </a:lnTo>
                <a:lnTo>
                  <a:pt x="1615" y="1346"/>
                </a:lnTo>
                <a:lnTo>
                  <a:pt x="1615" y="1353"/>
                </a:lnTo>
                <a:lnTo>
                  <a:pt x="1622" y="1360"/>
                </a:lnTo>
                <a:lnTo>
                  <a:pt x="1622" y="1367"/>
                </a:lnTo>
                <a:lnTo>
                  <a:pt x="1622" y="1374"/>
                </a:lnTo>
                <a:lnTo>
                  <a:pt x="1630" y="1382"/>
                </a:lnTo>
                <a:lnTo>
                  <a:pt x="1630" y="1389"/>
                </a:lnTo>
                <a:lnTo>
                  <a:pt x="1630" y="1396"/>
                </a:lnTo>
                <a:lnTo>
                  <a:pt x="1637" y="1403"/>
                </a:lnTo>
                <a:lnTo>
                  <a:pt x="1637" y="1410"/>
                </a:lnTo>
                <a:lnTo>
                  <a:pt x="1644" y="1417"/>
                </a:lnTo>
                <a:lnTo>
                  <a:pt x="1644" y="1424"/>
                </a:lnTo>
                <a:lnTo>
                  <a:pt x="1644" y="1431"/>
                </a:lnTo>
                <a:lnTo>
                  <a:pt x="1651" y="1438"/>
                </a:lnTo>
                <a:lnTo>
                  <a:pt x="1651" y="1445"/>
                </a:lnTo>
                <a:lnTo>
                  <a:pt x="1651" y="1452"/>
                </a:lnTo>
                <a:lnTo>
                  <a:pt x="1658" y="1459"/>
                </a:lnTo>
                <a:lnTo>
                  <a:pt x="1658" y="1467"/>
                </a:lnTo>
                <a:lnTo>
                  <a:pt x="1658" y="1474"/>
                </a:lnTo>
                <a:lnTo>
                  <a:pt x="1665" y="1481"/>
                </a:lnTo>
                <a:lnTo>
                  <a:pt x="1665" y="1488"/>
                </a:lnTo>
                <a:lnTo>
                  <a:pt x="1665" y="1495"/>
                </a:lnTo>
                <a:lnTo>
                  <a:pt x="1672" y="1502"/>
                </a:lnTo>
                <a:lnTo>
                  <a:pt x="1672" y="1509"/>
                </a:lnTo>
                <a:lnTo>
                  <a:pt x="1672" y="1516"/>
                </a:lnTo>
                <a:lnTo>
                  <a:pt x="1679" y="1523"/>
                </a:lnTo>
                <a:lnTo>
                  <a:pt x="1679" y="1530"/>
                </a:lnTo>
                <a:lnTo>
                  <a:pt x="1679" y="1537"/>
                </a:lnTo>
                <a:lnTo>
                  <a:pt x="1686" y="1544"/>
                </a:lnTo>
                <a:lnTo>
                  <a:pt x="1686" y="1552"/>
                </a:lnTo>
                <a:lnTo>
                  <a:pt x="1686" y="1559"/>
                </a:lnTo>
                <a:lnTo>
                  <a:pt x="1693" y="1566"/>
                </a:lnTo>
                <a:lnTo>
                  <a:pt x="1693" y="1573"/>
                </a:lnTo>
                <a:lnTo>
                  <a:pt x="1693" y="1580"/>
                </a:lnTo>
                <a:lnTo>
                  <a:pt x="1700" y="1587"/>
                </a:lnTo>
                <a:lnTo>
                  <a:pt x="1700" y="1594"/>
                </a:lnTo>
                <a:lnTo>
                  <a:pt x="1700" y="1601"/>
                </a:lnTo>
                <a:lnTo>
                  <a:pt x="1708" y="1608"/>
                </a:lnTo>
                <a:lnTo>
                  <a:pt x="1708" y="1601"/>
                </a:lnTo>
                <a:lnTo>
                  <a:pt x="1708" y="1594"/>
                </a:lnTo>
                <a:lnTo>
                  <a:pt x="1715" y="1587"/>
                </a:lnTo>
                <a:lnTo>
                  <a:pt x="1715" y="1580"/>
                </a:lnTo>
                <a:lnTo>
                  <a:pt x="1722" y="1573"/>
                </a:lnTo>
                <a:lnTo>
                  <a:pt x="1722" y="1566"/>
                </a:lnTo>
                <a:lnTo>
                  <a:pt x="1722" y="1559"/>
                </a:lnTo>
                <a:lnTo>
                  <a:pt x="1729" y="1552"/>
                </a:lnTo>
                <a:lnTo>
                  <a:pt x="1729" y="1544"/>
                </a:lnTo>
                <a:lnTo>
                  <a:pt x="1736" y="1537"/>
                </a:lnTo>
                <a:lnTo>
                  <a:pt x="1736" y="1530"/>
                </a:lnTo>
                <a:lnTo>
                  <a:pt x="1736" y="1523"/>
                </a:lnTo>
                <a:lnTo>
                  <a:pt x="1743" y="1516"/>
                </a:lnTo>
                <a:lnTo>
                  <a:pt x="1743" y="1509"/>
                </a:lnTo>
                <a:lnTo>
                  <a:pt x="1750" y="1502"/>
                </a:lnTo>
                <a:lnTo>
                  <a:pt x="1750" y="1495"/>
                </a:lnTo>
                <a:lnTo>
                  <a:pt x="1757" y="1488"/>
                </a:lnTo>
                <a:lnTo>
                  <a:pt x="1757" y="1481"/>
                </a:lnTo>
                <a:lnTo>
                  <a:pt x="1764" y="1474"/>
                </a:lnTo>
                <a:lnTo>
                  <a:pt x="1764" y="1467"/>
                </a:lnTo>
                <a:lnTo>
                  <a:pt x="1771" y="1459"/>
                </a:lnTo>
                <a:lnTo>
                  <a:pt x="1771" y="1452"/>
                </a:lnTo>
                <a:lnTo>
                  <a:pt x="1778" y="1445"/>
                </a:lnTo>
                <a:lnTo>
                  <a:pt x="1785" y="1438"/>
                </a:lnTo>
                <a:lnTo>
                  <a:pt x="1793" y="1431"/>
                </a:lnTo>
                <a:lnTo>
                  <a:pt x="1800" y="1424"/>
                </a:lnTo>
                <a:lnTo>
                  <a:pt x="1807" y="1417"/>
                </a:lnTo>
                <a:lnTo>
                  <a:pt x="1814" y="1410"/>
                </a:lnTo>
                <a:lnTo>
                  <a:pt x="1821" y="1403"/>
                </a:lnTo>
                <a:lnTo>
                  <a:pt x="1828" y="1403"/>
                </a:lnTo>
                <a:lnTo>
                  <a:pt x="1835" y="1403"/>
                </a:lnTo>
                <a:lnTo>
                  <a:pt x="1842" y="1403"/>
                </a:lnTo>
                <a:lnTo>
                  <a:pt x="1849" y="1403"/>
                </a:lnTo>
                <a:lnTo>
                  <a:pt x="1856" y="1410"/>
                </a:lnTo>
                <a:lnTo>
                  <a:pt x="1863" y="1410"/>
                </a:lnTo>
                <a:lnTo>
                  <a:pt x="1871" y="1417"/>
                </a:lnTo>
                <a:lnTo>
                  <a:pt x="1878" y="1424"/>
                </a:lnTo>
                <a:lnTo>
                  <a:pt x="1885" y="1431"/>
                </a:lnTo>
                <a:lnTo>
                  <a:pt x="1892" y="1438"/>
                </a:lnTo>
                <a:lnTo>
                  <a:pt x="1899" y="1445"/>
                </a:lnTo>
                <a:lnTo>
                  <a:pt x="1906" y="1452"/>
                </a:lnTo>
                <a:lnTo>
                  <a:pt x="1913" y="1459"/>
                </a:lnTo>
                <a:lnTo>
                  <a:pt x="1913" y="1467"/>
                </a:lnTo>
                <a:lnTo>
                  <a:pt x="1920" y="1474"/>
                </a:lnTo>
                <a:lnTo>
                  <a:pt x="1920" y="1481"/>
                </a:lnTo>
                <a:lnTo>
                  <a:pt x="1927" y="1488"/>
                </a:lnTo>
                <a:lnTo>
                  <a:pt x="1927" y="1495"/>
                </a:lnTo>
                <a:lnTo>
                  <a:pt x="1934" y="1502"/>
                </a:lnTo>
                <a:lnTo>
                  <a:pt x="1941" y="1509"/>
                </a:lnTo>
                <a:lnTo>
                  <a:pt x="1941" y="1516"/>
                </a:lnTo>
                <a:lnTo>
                  <a:pt x="1948" y="1523"/>
                </a:lnTo>
                <a:lnTo>
                  <a:pt x="1948" y="1530"/>
                </a:lnTo>
                <a:lnTo>
                  <a:pt x="1956" y="1537"/>
                </a:lnTo>
                <a:lnTo>
                  <a:pt x="1956" y="1544"/>
                </a:lnTo>
                <a:lnTo>
                  <a:pt x="1963" y="1552"/>
                </a:lnTo>
                <a:lnTo>
                  <a:pt x="1963" y="1559"/>
                </a:lnTo>
                <a:lnTo>
                  <a:pt x="1970" y="1566"/>
                </a:lnTo>
                <a:lnTo>
                  <a:pt x="1970" y="1573"/>
                </a:lnTo>
                <a:lnTo>
                  <a:pt x="1977" y="1580"/>
                </a:lnTo>
                <a:lnTo>
                  <a:pt x="1977" y="1587"/>
                </a:lnTo>
                <a:lnTo>
                  <a:pt x="1984" y="1594"/>
                </a:lnTo>
                <a:lnTo>
                  <a:pt x="1991" y="1601"/>
                </a:lnTo>
                <a:lnTo>
                  <a:pt x="1991" y="1608"/>
                </a:lnTo>
                <a:lnTo>
                  <a:pt x="1998" y="1601"/>
                </a:lnTo>
                <a:lnTo>
                  <a:pt x="1998" y="1594"/>
                </a:lnTo>
                <a:lnTo>
                  <a:pt x="2005" y="1587"/>
                </a:lnTo>
                <a:lnTo>
                  <a:pt x="2005" y="1580"/>
                </a:lnTo>
                <a:lnTo>
                  <a:pt x="2012" y="1573"/>
                </a:lnTo>
                <a:lnTo>
                  <a:pt x="2012" y="1566"/>
                </a:lnTo>
                <a:lnTo>
                  <a:pt x="2019" y="1559"/>
                </a:lnTo>
                <a:lnTo>
                  <a:pt x="2026" y="1552"/>
                </a:lnTo>
                <a:lnTo>
                  <a:pt x="2026" y="1544"/>
                </a:lnTo>
                <a:lnTo>
                  <a:pt x="2034" y="1537"/>
                </a:lnTo>
                <a:lnTo>
                  <a:pt x="2034" y="1530"/>
                </a:lnTo>
                <a:lnTo>
                  <a:pt x="2041" y="1523"/>
                </a:lnTo>
                <a:lnTo>
                  <a:pt x="2048" y="1516"/>
                </a:lnTo>
                <a:lnTo>
                  <a:pt x="2055" y="1509"/>
                </a:lnTo>
                <a:lnTo>
                  <a:pt x="2062" y="1502"/>
                </a:lnTo>
                <a:lnTo>
                  <a:pt x="2069" y="1495"/>
                </a:lnTo>
                <a:lnTo>
                  <a:pt x="2069" y="1488"/>
                </a:lnTo>
                <a:lnTo>
                  <a:pt x="2076" y="1481"/>
                </a:lnTo>
                <a:lnTo>
                  <a:pt x="2083" y="1474"/>
                </a:lnTo>
                <a:lnTo>
                  <a:pt x="2090" y="1474"/>
                </a:lnTo>
                <a:lnTo>
                  <a:pt x="2097" y="1467"/>
                </a:lnTo>
                <a:lnTo>
                  <a:pt x="2104" y="1467"/>
                </a:lnTo>
                <a:lnTo>
                  <a:pt x="2111" y="1459"/>
                </a:lnTo>
                <a:lnTo>
                  <a:pt x="2119" y="1459"/>
                </a:lnTo>
                <a:lnTo>
                  <a:pt x="2126" y="1459"/>
                </a:lnTo>
                <a:lnTo>
                  <a:pt x="2133" y="1459"/>
                </a:lnTo>
                <a:lnTo>
                  <a:pt x="2140" y="1467"/>
                </a:lnTo>
                <a:lnTo>
                  <a:pt x="2147" y="1467"/>
                </a:lnTo>
                <a:lnTo>
                  <a:pt x="2154" y="1474"/>
                </a:lnTo>
                <a:lnTo>
                  <a:pt x="2161" y="1474"/>
                </a:lnTo>
                <a:lnTo>
                  <a:pt x="2168" y="1481"/>
                </a:lnTo>
                <a:lnTo>
                  <a:pt x="2175" y="1488"/>
                </a:lnTo>
                <a:lnTo>
                  <a:pt x="2182" y="1495"/>
                </a:lnTo>
                <a:lnTo>
                  <a:pt x="2189" y="1502"/>
                </a:lnTo>
                <a:lnTo>
                  <a:pt x="2197" y="1509"/>
                </a:lnTo>
                <a:lnTo>
                  <a:pt x="2204" y="1516"/>
                </a:lnTo>
                <a:lnTo>
                  <a:pt x="2211" y="1523"/>
                </a:lnTo>
                <a:lnTo>
                  <a:pt x="2218" y="1530"/>
                </a:lnTo>
                <a:lnTo>
                  <a:pt x="2225" y="1537"/>
                </a:lnTo>
                <a:lnTo>
                  <a:pt x="2232" y="1544"/>
                </a:lnTo>
                <a:lnTo>
                  <a:pt x="2239" y="1552"/>
                </a:lnTo>
                <a:lnTo>
                  <a:pt x="2239" y="1559"/>
                </a:lnTo>
                <a:lnTo>
                  <a:pt x="2246" y="1566"/>
                </a:lnTo>
                <a:lnTo>
                  <a:pt x="2253" y="1573"/>
                </a:lnTo>
                <a:lnTo>
                  <a:pt x="2253" y="1580"/>
                </a:lnTo>
                <a:lnTo>
                  <a:pt x="2260" y="1587"/>
                </a:lnTo>
                <a:lnTo>
                  <a:pt x="2267" y="1594"/>
                </a:lnTo>
                <a:lnTo>
                  <a:pt x="2267" y="1601"/>
                </a:lnTo>
                <a:lnTo>
                  <a:pt x="2274" y="1608"/>
                </a:lnTo>
              </a:path>
            </a:pathLst>
          </a:custGeom>
          <a:noFill/>
          <a:ln w="0">
            <a:solidFill>
              <a:srgbClr val="000066"/>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638680" y="2279520"/>
            <a:ext cx="381240" cy="3429000"/>
          </a:xfrm>
          <a:custGeom>
            <a:avLst/>
            <a:gdLst/>
            <a:ahLst/>
            <a:rect l="l" t="t" r="r" b="b"/>
            <a:pathLst>
              <a:path w="2274" h="1608">
                <a:moveTo>
                  <a:pt x="0" y="1608"/>
                </a:moveTo>
                <a:lnTo>
                  <a:pt x="7" y="1601"/>
                </a:lnTo>
                <a:lnTo>
                  <a:pt x="14" y="1594"/>
                </a:lnTo>
                <a:lnTo>
                  <a:pt x="14" y="1587"/>
                </a:lnTo>
                <a:lnTo>
                  <a:pt x="21" y="1580"/>
                </a:lnTo>
                <a:lnTo>
                  <a:pt x="28" y="1573"/>
                </a:lnTo>
                <a:lnTo>
                  <a:pt x="28" y="1566"/>
                </a:lnTo>
                <a:lnTo>
                  <a:pt x="35" y="1559"/>
                </a:lnTo>
                <a:lnTo>
                  <a:pt x="42" y="1552"/>
                </a:lnTo>
                <a:lnTo>
                  <a:pt x="49" y="1544"/>
                </a:lnTo>
                <a:lnTo>
                  <a:pt x="49" y="1537"/>
                </a:lnTo>
                <a:lnTo>
                  <a:pt x="56" y="1530"/>
                </a:lnTo>
                <a:lnTo>
                  <a:pt x="63" y="1523"/>
                </a:lnTo>
                <a:lnTo>
                  <a:pt x="71" y="1516"/>
                </a:lnTo>
                <a:lnTo>
                  <a:pt x="78" y="1509"/>
                </a:lnTo>
                <a:lnTo>
                  <a:pt x="85" y="1502"/>
                </a:lnTo>
                <a:lnTo>
                  <a:pt x="92" y="1495"/>
                </a:lnTo>
                <a:lnTo>
                  <a:pt x="99" y="1488"/>
                </a:lnTo>
                <a:lnTo>
                  <a:pt x="106" y="1481"/>
                </a:lnTo>
                <a:lnTo>
                  <a:pt x="113" y="1474"/>
                </a:lnTo>
                <a:lnTo>
                  <a:pt x="120" y="1467"/>
                </a:lnTo>
                <a:lnTo>
                  <a:pt x="127" y="1467"/>
                </a:lnTo>
                <a:lnTo>
                  <a:pt x="134" y="1459"/>
                </a:lnTo>
                <a:lnTo>
                  <a:pt x="141" y="1459"/>
                </a:lnTo>
                <a:lnTo>
                  <a:pt x="148" y="1459"/>
                </a:lnTo>
                <a:lnTo>
                  <a:pt x="156" y="1459"/>
                </a:lnTo>
                <a:lnTo>
                  <a:pt x="163" y="1467"/>
                </a:lnTo>
                <a:lnTo>
                  <a:pt x="170" y="1467"/>
                </a:lnTo>
                <a:lnTo>
                  <a:pt x="177" y="1467"/>
                </a:lnTo>
                <a:lnTo>
                  <a:pt x="184" y="1474"/>
                </a:lnTo>
                <a:lnTo>
                  <a:pt x="191" y="1481"/>
                </a:lnTo>
                <a:lnTo>
                  <a:pt x="198" y="1481"/>
                </a:lnTo>
                <a:lnTo>
                  <a:pt x="205" y="1488"/>
                </a:lnTo>
                <a:lnTo>
                  <a:pt x="212" y="1495"/>
                </a:lnTo>
                <a:lnTo>
                  <a:pt x="219" y="1502"/>
                </a:lnTo>
                <a:lnTo>
                  <a:pt x="226" y="1509"/>
                </a:lnTo>
                <a:lnTo>
                  <a:pt x="234" y="1516"/>
                </a:lnTo>
                <a:lnTo>
                  <a:pt x="234" y="1523"/>
                </a:lnTo>
                <a:lnTo>
                  <a:pt x="241" y="1530"/>
                </a:lnTo>
                <a:lnTo>
                  <a:pt x="241" y="1537"/>
                </a:lnTo>
                <a:lnTo>
                  <a:pt x="248" y="1544"/>
                </a:lnTo>
                <a:lnTo>
                  <a:pt x="255" y="1552"/>
                </a:lnTo>
                <a:lnTo>
                  <a:pt x="255" y="1559"/>
                </a:lnTo>
                <a:lnTo>
                  <a:pt x="262" y="1566"/>
                </a:lnTo>
                <a:lnTo>
                  <a:pt x="269" y="1573"/>
                </a:lnTo>
                <a:lnTo>
                  <a:pt x="269" y="1580"/>
                </a:lnTo>
                <a:lnTo>
                  <a:pt x="276" y="1587"/>
                </a:lnTo>
                <a:lnTo>
                  <a:pt x="276" y="1594"/>
                </a:lnTo>
                <a:lnTo>
                  <a:pt x="283" y="1601"/>
                </a:lnTo>
                <a:lnTo>
                  <a:pt x="283" y="1608"/>
                </a:lnTo>
                <a:lnTo>
                  <a:pt x="290" y="1601"/>
                </a:lnTo>
                <a:lnTo>
                  <a:pt x="290" y="1594"/>
                </a:lnTo>
                <a:lnTo>
                  <a:pt x="297" y="1587"/>
                </a:lnTo>
                <a:lnTo>
                  <a:pt x="297" y="1580"/>
                </a:lnTo>
                <a:lnTo>
                  <a:pt x="304" y="1573"/>
                </a:lnTo>
                <a:lnTo>
                  <a:pt x="304" y="1566"/>
                </a:lnTo>
                <a:lnTo>
                  <a:pt x="311" y="1559"/>
                </a:lnTo>
                <a:lnTo>
                  <a:pt x="319" y="1552"/>
                </a:lnTo>
                <a:lnTo>
                  <a:pt x="319" y="1544"/>
                </a:lnTo>
                <a:lnTo>
                  <a:pt x="319" y="1537"/>
                </a:lnTo>
                <a:lnTo>
                  <a:pt x="326" y="1530"/>
                </a:lnTo>
                <a:lnTo>
                  <a:pt x="326" y="1523"/>
                </a:lnTo>
                <a:lnTo>
                  <a:pt x="333" y="1516"/>
                </a:lnTo>
                <a:lnTo>
                  <a:pt x="340" y="1509"/>
                </a:lnTo>
                <a:lnTo>
                  <a:pt x="340" y="1502"/>
                </a:lnTo>
                <a:lnTo>
                  <a:pt x="347" y="1495"/>
                </a:lnTo>
                <a:lnTo>
                  <a:pt x="347" y="1488"/>
                </a:lnTo>
                <a:lnTo>
                  <a:pt x="354" y="1481"/>
                </a:lnTo>
                <a:lnTo>
                  <a:pt x="354" y="1474"/>
                </a:lnTo>
                <a:lnTo>
                  <a:pt x="361" y="1467"/>
                </a:lnTo>
                <a:lnTo>
                  <a:pt x="368" y="1459"/>
                </a:lnTo>
                <a:lnTo>
                  <a:pt x="375" y="1452"/>
                </a:lnTo>
                <a:lnTo>
                  <a:pt x="375" y="1445"/>
                </a:lnTo>
                <a:lnTo>
                  <a:pt x="382" y="1438"/>
                </a:lnTo>
                <a:lnTo>
                  <a:pt x="389" y="1431"/>
                </a:lnTo>
                <a:lnTo>
                  <a:pt x="397" y="1424"/>
                </a:lnTo>
                <a:lnTo>
                  <a:pt x="404" y="1417"/>
                </a:lnTo>
                <a:lnTo>
                  <a:pt x="411" y="1410"/>
                </a:lnTo>
                <a:lnTo>
                  <a:pt x="418" y="1403"/>
                </a:lnTo>
                <a:lnTo>
                  <a:pt x="425" y="1403"/>
                </a:lnTo>
                <a:lnTo>
                  <a:pt x="432" y="1403"/>
                </a:lnTo>
                <a:lnTo>
                  <a:pt x="439" y="1403"/>
                </a:lnTo>
                <a:lnTo>
                  <a:pt x="446" y="1403"/>
                </a:lnTo>
                <a:lnTo>
                  <a:pt x="453" y="1403"/>
                </a:lnTo>
                <a:lnTo>
                  <a:pt x="460" y="1410"/>
                </a:lnTo>
                <a:lnTo>
                  <a:pt x="467" y="1417"/>
                </a:lnTo>
                <a:lnTo>
                  <a:pt x="474" y="1424"/>
                </a:lnTo>
                <a:lnTo>
                  <a:pt x="482" y="1431"/>
                </a:lnTo>
                <a:lnTo>
                  <a:pt x="489" y="1438"/>
                </a:lnTo>
                <a:lnTo>
                  <a:pt x="496" y="1445"/>
                </a:lnTo>
                <a:lnTo>
                  <a:pt x="503" y="1452"/>
                </a:lnTo>
                <a:lnTo>
                  <a:pt x="503" y="1459"/>
                </a:lnTo>
                <a:lnTo>
                  <a:pt x="510" y="1467"/>
                </a:lnTo>
                <a:lnTo>
                  <a:pt x="510" y="1474"/>
                </a:lnTo>
                <a:lnTo>
                  <a:pt x="517" y="1481"/>
                </a:lnTo>
                <a:lnTo>
                  <a:pt x="517" y="1488"/>
                </a:lnTo>
                <a:lnTo>
                  <a:pt x="524" y="1495"/>
                </a:lnTo>
                <a:lnTo>
                  <a:pt x="524" y="1502"/>
                </a:lnTo>
                <a:lnTo>
                  <a:pt x="531" y="1509"/>
                </a:lnTo>
                <a:lnTo>
                  <a:pt x="531" y="1516"/>
                </a:lnTo>
                <a:lnTo>
                  <a:pt x="538" y="1523"/>
                </a:lnTo>
                <a:lnTo>
                  <a:pt x="538" y="1530"/>
                </a:lnTo>
                <a:lnTo>
                  <a:pt x="538" y="1537"/>
                </a:lnTo>
                <a:lnTo>
                  <a:pt x="545" y="1544"/>
                </a:lnTo>
                <a:lnTo>
                  <a:pt x="545" y="1552"/>
                </a:lnTo>
                <a:lnTo>
                  <a:pt x="552" y="1559"/>
                </a:lnTo>
                <a:lnTo>
                  <a:pt x="552" y="1566"/>
                </a:lnTo>
                <a:lnTo>
                  <a:pt x="552" y="1573"/>
                </a:lnTo>
                <a:lnTo>
                  <a:pt x="560" y="1580"/>
                </a:lnTo>
                <a:lnTo>
                  <a:pt x="560" y="1587"/>
                </a:lnTo>
                <a:lnTo>
                  <a:pt x="567" y="1594"/>
                </a:lnTo>
                <a:lnTo>
                  <a:pt x="567" y="1601"/>
                </a:lnTo>
                <a:lnTo>
                  <a:pt x="567" y="1608"/>
                </a:lnTo>
                <a:lnTo>
                  <a:pt x="574" y="1601"/>
                </a:lnTo>
                <a:lnTo>
                  <a:pt x="574" y="1594"/>
                </a:lnTo>
                <a:lnTo>
                  <a:pt x="574" y="1587"/>
                </a:lnTo>
                <a:lnTo>
                  <a:pt x="581" y="1580"/>
                </a:lnTo>
                <a:lnTo>
                  <a:pt x="581" y="1573"/>
                </a:lnTo>
                <a:lnTo>
                  <a:pt x="581" y="1566"/>
                </a:lnTo>
                <a:lnTo>
                  <a:pt x="588" y="1559"/>
                </a:lnTo>
                <a:lnTo>
                  <a:pt x="588" y="1552"/>
                </a:lnTo>
                <a:lnTo>
                  <a:pt x="588" y="1544"/>
                </a:lnTo>
                <a:lnTo>
                  <a:pt x="595" y="1537"/>
                </a:lnTo>
                <a:lnTo>
                  <a:pt x="595" y="1530"/>
                </a:lnTo>
                <a:lnTo>
                  <a:pt x="595" y="1523"/>
                </a:lnTo>
                <a:lnTo>
                  <a:pt x="602" y="1516"/>
                </a:lnTo>
                <a:lnTo>
                  <a:pt x="602" y="1509"/>
                </a:lnTo>
                <a:lnTo>
                  <a:pt x="602" y="1502"/>
                </a:lnTo>
                <a:lnTo>
                  <a:pt x="609" y="1495"/>
                </a:lnTo>
                <a:lnTo>
                  <a:pt x="609" y="1488"/>
                </a:lnTo>
                <a:lnTo>
                  <a:pt x="616" y="1481"/>
                </a:lnTo>
                <a:lnTo>
                  <a:pt x="616" y="1474"/>
                </a:lnTo>
                <a:lnTo>
                  <a:pt x="616" y="1467"/>
                </a:lnTo>
                <a:lnTo>
                  <a:pt x="616" y="1459"/>
                </a:lnTo>
                <a:lnTo>
                  <a:pt x="623" y="1452"/>
                </a:lnTo>
                <a:lnTo>
                  <a:pt x="623" y="1445"/>
                </a:lnTo>
                <a:lnTo>
                  <a:pt x="623" y="1438"/>
                </a:lnTo>
                <a:lnTo>
                  <a:pt x="630" y="1431"/>
                </a:lnTo>
                <a:lnTo>
                  <a:pt x="630" y="1424"/>
                </a:lnTo>
                <a:lnTo>
                  <a:pt x="637" y="1417"/>
                </a:lnTo>
                <a:lnTo>
                  <a:pt x="637" y="1410"/>
                </a:lnTo>
                <a:lnTo>
                  <a:pt x="637" y="1403"/>
                </a:lnTo>
                <a:lnTo>
                  <a:pt x="645" y="1396"/>
                </a:lnTo>
                <a:lnTo>
                  <a:pt x="645" y="1389"/>
                </a:lnTo>
                <a:lnTo>
                  <a:pt x="652" y="1382"/>
                </a:lnTo>
                <a:lnTo>
                  <a:pt x="652" y="1374"/>
                </a:lnTo>
                <a:lnTo>
                  <a:pt x="652" y="1367"/>
                </a:lnTo>
                <a:lnTo>
                  <a:pt x="652" y="1360"/>
                </a:lnTo>
                <a:lnTo>
                  <a:pt x="659" y="1353"/>
                </a:lnTo>
                <a:lnTo>
                  <a:pt x="659" y="1346"/>
                </a:lnTo>
                <a:lnTo>
                  <a:pt x="666" y="1339"/>
                </a:lnTo>
                <a:lnTo>
                  <a:pt x="666" y="1332"/>
                </a:lnTo>
                <a:lnTo>
                  <a:pt x="673" y="1325"/>
                </a:lnTo>
                <a:lnTo>
                  <a:pt x="673" y="1318"/>
                </a:lnTo>
                <a:lnTo>
                  <a:pt x="680" y="1311"/>
                </a:lnTo>
                <a:lnTo>
                  <a:pt x="687" y="1304"/>
                </a:lnTo>
                <a:lnTo>
                  <a:pt x="687" y="1296"/>
                </a:lnTo>
                <a:lnTo>
                  <a:pt x="694" y="1289"/>
                </a:lnTo>
                <a:lnTo>
                  <a:pt x="694" y="1282"/>
                </a:lnTo>
                <a:lnTo>
                  <a:pt x="701" y="1275"/>
                </a:lnTo>
                <a:lnTo>
                  <a:pt x="708" y="1268"/>
                </a:lnTo>
                <a:lnTo>
                  <a:pt x="715" y="1261"/>
                </a:lnTo>
                <a:lnTo>
                  <a:pt x="723" y="1261"/>
                </a:lnTo>
                <a:lnTo>
                  <a:pt x="730" y="1261"/>
                </a:lnTo>
                <a:lnTo>
                  <a:pt x="737" y="1261"/>
                </a:lnTo>
                <a:lnTo>
                  <a:pt x="744" y="1261"/>
                </a:lnTo>
                <a:lnTo>
                  <a:pt x="751" y="1268"/>
                </a:lnTo>
                <a:lnTo>
                  <a:pt x="758" y="1275"/>
                </a:lnTo>
                <a:lnTo>
                  <a:pt x="765" y="1282"/>
                </a:lnTo>
                <a:lnTo>
                  <a:pt x="765" y="1289"/>
                </a:lnTo>
                <a:lnTo>
                  <a:pt x="772" y="1296"/>
                </a:lnTo>
                <a:lnTo>
                  <a:pt x="772" y="1304"/>
                </a:lnTo>
                <a:lnTo>
                  <a:pt x="779" y="1311"/>
                </a:lnTo>
                <a:lnTo>
                  <a:pt x="779" y="1318"/>
                </a:lnTo>
                <a:lnTo>
                  <a:pt x="786" y="1325"/>
                </a:lnTo>
                <a:lnTo>
                  <a:pt x="786" y="1332"/>
                </a:lnTo>
                <a:lnTo>
                  <a:pt x="793" y="1339"/>
                </a:lnTo>
                <a:lnTo>
                  <a:pt x="793" y="1346"/>
                </a:lnTo>
                <a:lnTo>
                  <a:pt x="793" y="1353"/>
                </a:lnTo>
                <a:lnTo>
                  <a:pt x="800" y="1360"/>
                </a:lnTo>
                <a:lnTo>
                  <a:pt x="800" y="1367"/>
                </a:lnTo>
                <a:lnTo>
                  <a:pt x="800" y="1374"/>
                </a:lnTo>
                <a:lnTo>
                  <a:pt x="800" y="1382"/>
                </a:lnTo>
                <a:lnTo>
                  <a:pt x="808" y="1389"/>
                </a:lnTo>
                <a:lnTo>
                  <a:pt x="808" y="1403"/>
                </a:lnTo>
                <a:lnTo>
                  <a:pt x="808" y="1410"/>
                </a:lnTo>
                <a:lnTo>
                  <a:pt x="815" y="1417"/>
                </a:lnTo>
                <a:lnTo>
                  <a:pt x="815" y="1424"/>
                </a:lnTo>
                <a:lnTo>
                  <a:pt x="815" y="1431"/>
                </a:lnTo>
                <a:lnTo>
                  <a:pt x="822" y="1445"/>
                </a:lnTo>
                <a:lnTo>
                  <a:pt x="822" y="1452"/>
                </a:lnTo>
                <a:lnTo>
                  <a:pt x="822" y="1459"/>
                </a:lnTo>
                <a:lnTo>
                  <a:pt x="829" y="1474"/>
                </a:lnTo>
                <a:lnTo>
                  <a:pt x="829" y="1481"/>
                </a:lnTo>
                <a:lnTo>
                  <a:pt x="829" y="1495"/>
                </a:lnTo>
                <a:lnTo>
                  <a:pt x="836" y="1502"/>
                </a:lnTo>
                <a:lnTo>
                  <a:pt x="836" y="1516"/>
                </a:lnTo>
                <a:lnTo>
                  <a:pt x="836" y="1523"/>
                </a:lnTo>
                <a:lnTo>
                  <a:pt x="836" y="1537"/>
                </a:lnTo>
                <a:lnTo>
                  <a:pt x="843" y="1544"/>
                </a:lnTo>
                <a:lnTo>
                  <a:pt x="843" y="1559"/>
                </a:lnTo>
                <a:lnTo>
                  <a:pt x="843" y="1573"/>
                </a:lnTo>
                <a:lnTo>
                  <a:pt x="850" y="1587"/>
                </a:lnTo>
                <a:lnTo>
                  <a:pt x="850" y="1594"/>
                </a:lnTo>
                <a:lnTo>
                  <a:pt x="850" y="1608"/>
                </a:lnTo>
                <a:lnTo>
                  <a:pt x="857" y="1594"/>
                </a:lnTo>
                <a:lnTo>
                  <a:pt x="857" y="1580"/>
                </a:lnTo>
                <a:lnTo>
                  <a:pt x="857" y="1573"/>
                </a:lnTo>
                <a:lnTo>
                  <a:pt x="864" y="1559"/>
                </a:lnTo>
                <a:lnTo>
                  <a:pt x="864" y="1544"/>
                </a:lnTo>
                <a:lnTo>
                  <a:pt x="864" y="1530"/>
                </a:lnTo>
                <a:lnTo>
                  <a:pt x="871" y="1516"/>
                </a:lnTo>
                <a:lnTo>
                  <a:pt x="871" y="1502"/>
                </a:lnTo>
                <a:lnTo>
                  <a:pt x="871" y="1488"/>
                </a:lnTo>
                <a:lnTo>
                  <a:pt x="878" y="1474"/>
                </a:lnTo>
                <a:lnTo>
                  <a:pt x="878" y="1459"/>
                </a:lnTo>
                <a:lnTo>
                  <a:pt x="878" y="1445"/>
                </a:lnTo>
                <a:lnTo>
                  <a:pt x="878" y="1431"/>
                </a:lnTo>
                <a:lnTo>
                  <a:pt x="885" y="1417"/>
                </a:lnTo>
                <a:lnTo>
                  <a:pt x="885" y="1403"/>
                </a:lnTo>
                <a:lnTo>
                  <a:pt x="885" y="1382"/>
                </a:lnTo>
                <a:lnTo>
                  <a:pt x="893" y="1367"/>
                </a:lnTo>
                <a:lnTo>
                  <a:pt x="893" y="1353"/>
                </a:lnTo>
                <a:lnTo>
                  <a:pt x="893" y="1339"/>
                </a:lnTo>
                <a:lnTo>
                  <a:pt x="900" y="1325"/>
                </a:lnTo>
                <a:lnTo>
                  <a:pt x="900" y="1304"/>
                </a:lnTo>
                <a:lnTo>
                  <a:pt x="900" y="1289"/>
                </a:lnTo>
                <a:lnTo>
                  <a:pt x="907" y="1275"/>
                </a:lnTo>
                <a:lnTo>
                  <a:pt x="907" y="1261"/>
                </a:lnTo>
                <a:lnTo>
                  <a:pt x="907" y="1240"/>
                </a:lnTo>
                <a:lnTo>
                  <a:pt x="914" y="1226"/>
                </a:lnTo>
                <a:lnTo>
                  <a:pt x="914" y="1211"/>
                </a:lnTo>
                <a:lnTo>
                  <a:pt x="914" y="1190"/>
                </a:lnTo>
                <a:lnTo>
                  <a:pt x="914" y="1176"/>
                </a:lnTo>
                <a:lnTo>
                  <a:pt x="921" y="1162"/>
                </a:lnTo>
                <a:lnTo>
                  <a:pt x="921" y="1141"/>
                </a:lnTo>
                <a:lnTo>
                  <a:pt x="921" y="1126"/>
                </a:lnTo>
                <a:lnTo>
                  <a:pt x="928" y="1105"/>
                </a:lnTo>
                <a:lnTo>
                  <a:pt x="928" y="1091"/>
                </a:lnTo>
                <a:lnTo>
                  <a:pt x="928" y="1077"/>
                </a:lnTo>
                <a:lnTo>
                  <a:pt x="935" y="1056"/>
                </a:lnTo>
                <a:lnTo>
                  <a:pt x="935" y="1041"/>
                </a:lnTo>
                <a:lnTo>
                  <a:pt x="935" y="1020"/>
                </a:lnTo>
                <a:lnTo>
                  <a:pt x="942" y="1006"/>
                </a:lnTo>
                <a:lnTo>
                  <a:pt x="942" y="992"/>
                </a:lnTo>
                <a:lnTo>
                  <a:pt x="942" y="971"/>
                </a:lnTo>
                <a:lnTo>
                  <a:pt x="949" y="956"/>
                </a:lnTo>
                <a:lnTo>
                  <a:pt x="949" y="935"/>
                </a:lnTo>
                <a:lnTo>
                  <a:pt x="949" y="921"/>
                </a:lnTo>
                <a:lnTo>
                  <a:pt x="949" y="900"/>
                </a:lnTo>
                <a:lnTo>
                  <a:pt x="956" y="886"/>
                </a:lnTo>
                <a:lnTo>
                  <a:pt x="956" y="871"/>
                </a:lnTo>
                <a:lnTo>
                  <a:pt x="956" y="850"/>
                </a:lnTo>
                <a:lnTo>
                  <a:pt x="963" y="836"/>
                </a:lnTo>
                <a:lnTo>
                  <a:pt x="963" y="815"/>
                </a:lnTo>
                <a:lnTo>
                  <a:pt x="963" y="800"/>
                </a:lnTo>
                <a:lnTo>
                  <a:pt x="971" y="786"/>
                </a:lnTo>
                <a:lnTo>
                  <a:pt x="971" y="765"/>
                </a:lnTo>
                <a:lnTo>
                  <a:pt x="971" y="751"/>
                </a:lnTo>
                <a:lnTo>
                  <a:pt x="978" y="730"/>
                </a:lnTo>
                <a:lnTo>
                  <a:pt x="978" y="715"/>
                </a:lnTo>
                <a:lnTo>
                  <a:pt x="978" y="701"/>
                </a:lnTo>
                <a:lnTo>
                  <a:pt x="985" y="680"/>
                </a:lnTo>
                <a:lnTo>
                  <a:pt x="985" y="666"/>
                </a:lnTo>
                <a:lnTo>
                  <a:pt x="985" y="652"/>
                </a:lnTo>
                <a:lnTo>
                  <a:pt x="985" y="630"/>
                </a:lnTo>
                <a:lnTo>
                  <a:pt x="992" y="616"/>
                </a:lnTo>
                <a:lnTo>
                  <a:pt x="992" y="602"/>
                </a:lnTo>
                <a:lnTo>
                  <a:pt x="992" y="581"/>
                </a:lnTo>
                <a:lnTo>
                  <a:pt x="999" y="567"/>
                </a:lnTo>
                <a:lnTo>
                  <a:pt x="999" y="552"/>
                </a:lnTo>
                <a:lnTo>
                  <a:pt x="999" y="538"/>
                </a:lnTo>
                <a:lnTo>
                  <a:pt x="1006" y="524"/>
                </a:lnTo>
                <a:lnTo>
                  <a:pt x="1006" y="503"/>
                </a:lnTo>
                <a:lnTo>
                  <a:pt x="1006" y="489"/>
                </a:lnTo>
                <a:lnTo>
                  <a:pt x="1013" y="475"/>
                </a:lnTo>
                <a:lnTo>
                  <a:pt x="1013" y="460"/>
                </a:lnTo>
                <a:lnTo>
                  <a:pt x="1013" y="446"/>
                </a:lnTo>
                <a:lnTo>
                  <a:pt x="1020" y="432"/>
                </a:lnTo>
                <a:lnTo>
                  <a:pt x="1020" y="418"/>
                </a:lnTo>
                <a:lnTo>
                  <a:pt x="1020" y="404"/>
                </a:lnTo>
                <a:lnTo>
                  <a:pt x="1027" y="390"/>
                </a:lnTo>
                <a:lnTo>
                  <a:pt x="1027" y="375"/>
                </a:lnTo>
                <a:lnTo>
                  <a:pt x="1027" y="361"/>
                </a:lnTo>
                <a:lnTo>
                  <a:pt x="1027" y="347"/>
                </a:lnTo>
                <a:lnTo>
                  <a:pt x="1034" y="333"/>
                </a:lnTo>
                <a:lnTo>
                  <a:pt x="1034" y="319"/>
                </a:lnTo>
                <a:lnTo>
                  <a:pt x="1034" y="304"/>
                </a:lnTo>
                <a:lnTo>
                  <a:pt x="1041" y="297"/>
                </a:lnTo>
                <a:lnTo>
                  <a:pt x="1041" y="283"/>
                </a:lnTo>
                <a:lnTo>
                  <a:pt x="1041" y="269"/>
                </a:lnTo>
                <a:lnTo>
                  <a:pt x="1048" y="255"/>
                </a:lnTo>
                <a:lnTo>
                  <a:pt x="1048" y="248"/>
                </a:lnTo>
                <a:lnTo>
                  <a:pt x="1048" y="234"/>
                </a:lnTo>
                <a:lnTo>
                  <a:pt x="1056" y="227"/>
                </a:lnTo>
                <a:lnTo>
                  <a:pt x="1056" y="212"/>
                </a:lnTo>
                <a:lnTo>
                  <a:pt x="1056" y="198"/>
                </a:lnTo>
                <a:lnTo>
                  <a:pt x="1063" y="191"/>
                </a:lnTo>
                <a:lnTo>
                  <a:pt x="1063" y="177"/>
                </a:lnTo>
                <a:lnTo>
                  <a:pt x="1063" y="170"/>
                </a:lnTo>
                <a:lnTo>
                  <a:pt x="1063" y="163"/>
                </a:lnTo>
                <a:lnTo>
                  <a:pt x="1070" y="149"/>
                </a:lnTo>
                <a:lnTo>
                  <a:pt x="1070" y="142"/>
                </a:lnTo>
                <a:lnTo>
                  <a:pt x="1070" y="134"/>
                </a:lnTo>
                <a:lnTo>
                  <a:pt x="1077" y="120"/>
                </a:lnTo>
                <a:lnTo>
                  <a:pt x="1077" y="113"/>
                </a:lnTo>
                <a:lnTo>
                  <a:pt x="1077" y="106"/>
                </a:lnTo>
                <a:lnTo>
                  <a:pt x="1084" y="99"/>
                </a:lnTo>
                <a:lnTo>
                  <a:pt x="1084" y="92"/>
                </a:lnTo>
                <a:lnTo>
                  <a:pt x="1084" y="85"/>
                </a:lnTo>
                <a:lnTo>
                  <a:pt x="1091" y="78"/>
                </a:lnTo>
                <a:lnTo>
                  <a:pt x="1091" y="71"/>
                </a:lnTo>
                <a:lnTo>
                  <a:pt x="1091" y="64"/>
                </a:lnTo>
                <a:lnTo>
                  <a:pt x="1098" y="56"/>
                </a:lnTo>
                <a:lnTo>
                  <a:pt x="1098" y="49"/>
                </a:lnTo>
                <a:lnTo>
                  <a:pt x="1098" y="42"/>
                </a:lnTo>
                <a:lnTo>
                  <a:pt x="1105" y="35"/>
                </a:lnTo>
                <a:lnTo>
                  <a:pt x="1105" y="28"/>
                </a:lnTo>
                <a:lnTo>
                  <a:pt x="1112" y="21"/>
                </a:lnTo>
                <a:lnTo>
                  <a:pt x="1119" y="14"/>
                </a:lnTo>
                <a:lnTo>
                  <a:pt x="1126" y="7"/>
                </a:lnTo>
                <a:lnTo>
                  <a:pt x="1134" y="0"/>
                </a:lnTo>
                <a:lnTo>
                  <a:pt x="1141" y="0"/>
                </a:lnTo>
                <a:lnTo>
                  <a:pt x="1148" y="7"/>
                </a:lnTo>
                <a:lnTo>
                  <a:pt x="1155" y="14"/>
                </a:lnTo>
                <a:lnTo>
                  <a:pt x="1162" y="21"/>
                </a:lnTo>
                <a:lnTo>
                  <a:pt x="1169" y="28"/>
                </a:lnTo>
                <a:lnTo>
                  <a:pt x="1169" y="35"/>
                </a:lnTo>
                <a:lnTo>
                  <a:pt x="1176" y="42"/>
                </a:lnTo>
                <a:lnTo>
                  <a:pt x="1176" y="49"/>
                </a:lnTo>
                <a:lnTo>
                  <a:pt x="1176" y="56"/>
                </a:lnTo>
                <a:lnTo>
                  <a:pt x="1183" y="64"/>
                </a:lnTo>
                <a:lnTo>
                  <a:pt x="1183" y="71"/>
                </a:lnTo>
                <a:lnTo>
                  <a:pt x="1183" y="78"/>
                </a:lnTo>
                <a:lnTo>
                  <a:pt x="1190" y="85"/>
                </a:lnTo>
                <a:lnTo>
                  <a:pt x="1190" y="92"/>
                </a:lnTo>
                <a:lnTo>
                  <a:pt x="1190" y="99"/>
                </a:lnTo>
                <a:lnTo>
                  <a:pt x="1197" y="106"/>
                </a:lnTo>
                <a:lnTo>
                  <a:pt x="1197" y="113"/>
                </a:lnTo>
                <a:lnTo>
                  <a:pt x="1197" y="120"/>
                </a:lnTo>
                <a:lnTo>
                  <a:pt x="1204" y="134"/>
                </a:lnTo>
                <a:lnTo>
                  <a:pt x="1204" y="142"/>
                </a:lnTo>
                <a:lnTo>
                  <a:pt x="1204" y="149"/>
                </a:lnTo>
                <a:lnTo>
                  <a:pt x="1211" y="163"/>
                </a:lnTo>
                <a:lnTo>
                  <a:pt x="1211" y="170"/>
                </a:lnTo>
                <a:lnTo>
                  <a:pt x="1211" y="177"/>
                </a:lnTo>
                <a:lnTo>
                  <a:pt x="1211" y="191"/>
                </a:lnTo>
                <a:lnTo>
                  <a:pt x="1219" y="198"/>
                </a:lnTo>
                <a:lnTo>
                  <a:pt x="1219" y="212"/>
                </a:lnTo>
                <a:lnTo>
                  <a:pt x="1219" y="227"/>
                </a:lnTo>
                <a:lnTo>
                  <a:pt x="1226" y="234"/>
                </a:lnTo>
                <a:lnTo>
                  <a:pt x="1226" y="248"/>
                </a:lnTo>
                <a:lnTo>
                  <a:pt x="1226" y="255"/>
                </a:lnTo>
                <a:lnTo>
                  <a:pt x="1233" y="269"/>
                </a:lnTo>
                <a:lnTo>
                  <a:pt x="1233" y="283"/>
                </a:lnTo>
                <a:lnTo>
                  <a:pt x="1233" y="297"/>
                </a:lnTo>
                <a:lnTo>
                  <a:pt x="1240" y="304"/>
                </a:lnTo>
                <a:lnTo>
                  <a:pt x="1240" y="319"/>
                </a:lnTo>
                <a:lnTo>
                  <a:pt x="1240" y="333"/>
                </a:lnTo>
                <a:lnTo>
                  <a:pt x="1247" y="347"/>
                </a:lnTo>
                <a:lnTo>
                  <a:pt x="1247" y="361"/>
                </a:lnTo>
                <a:lnTo>
                  <a:pt x="1247" y="375"/>
                </a:lnTo>
                <a:lnTo>
                  <a:pt x="1247" y="390"/>
                </a:lnTo>
                <a:lnTo>
                  <a:pt x="1254" y="404"/>
                </a:lnTo>
                <a:lnTo>
                  <a:pt x="1254" y="418"/>
                </a:lnTo>
                <a:lnTo>
                  <a:pt x="1254" y="432"/>
                </a:lnTo>
                <a:lnTo>
                  <a:pt x="1261" y="446"/>
                </a:lnTo>
                <a:lnTo>
                  <a:pt x="1261" y="460"/>
                </a:lnTo>
                <a:lnTo>
                  <a:pt x="1261" y="475"/>
                </a:lnTo>
                <a:lnTo>
                  <a:pt x="1268" y="489"/>
                </a:lnTo>
                <a:lnTo>
                  <a:pt x="1268" y="503"/>
                </a:lnTo>
                <a:lnTo>
                  <a:pt x="1268" y="524"/>
                </a:lnTo>
                <a:lnTo>
                  <a:pt x="1275" y="538"/>
                </a:lnTo>
                <a:lnTo>
                  <a:pt x="1275" y="552"/>
                </a:lnTo>
                <a:lnTo>
                  <a:pt x="1275" y="567"/>
                </a:lnTo>
                <a:lnTo>
                  <a:pt x="1282" y="581"/>
                </a:lnTo>
                <a:lnTo>
                  <a:pt x="1282" y="602"/>
                </a:lnTo>
                <a:lnTo>
                  <a:pt x="1282" y="616"/>
                </a:lnTo>
                <a:lnTo>
                  <a:pt x="1289" y="630"/>
                </a:lnTo>
                <a:lnTo>
                  <a:pt x="1289" y="652"/>
                </a:lnTo>
                <a:lnTo>
                  <a:pt x="1289" y="666"/>
                </a:lnTo>
                <a:lnTo>
                  <a:pt x="1289" y="680"/>
                </a:lnTo>
                <a:lnTo>
                  <a:pt x="1297" y="701"/>
                </a:lnTo>
                <a:lnTo>
                  <a:pt x="1297" y="715"/>
                </a:lnTo>
                <a:lnTo>
                  <a:pt x="1297" y="730"/>
                </a:lnTo>
                <a:lnTo>
                  <a:pt x="1304" y="751"/>
                </a:lnTo>
                <a:lnTo>
                  <a:pt x="1304" y="765"/>
                </a:lnTo>
                <a:lnTo>
                  <a:pt x="1304" y="786"/>
                </a:lnTo>
                <a:lnTo>
                  <a:pt x="1311" y="800"/>
                </a:lnTo>
                <a:lnTo>
                  <a:pt x="1311" y="815"/>
                </a:lnTo>
                <a:lnTo>
                  <a:pt x="1311" y="836"/>
                </a:lnTo>
                <a:lnTo>
                  <a:pt x="1318" y="850"/>
                </a:lnTo>
                <a:lnTo>
                  <a:pt x="1318" y="871"/>
                </a:lnTo>
                <a:lnTo>
                  <a:pt x="1318" y="886"/>
                </a:lnTo>
                <a:lnTo>
                  <a:pt x="1325" y="900"/>
                </a:lnTo>
                <a:lnTo>
                  <a:pt x="1325" y="921"/>
                </a:lnTo>
                <a:lnTo>
                  <a:pt x="1325" y="935"/>
                </a:lnTo>
                <a:lnTo>
                  <a:pt x="1325" y="956"/>
                </a:lnTo>
                <a:lnTo>
                  <a:pt x="1332" y="971"/>
                </a:lnTo>
                <a:lnTo>
                  <a:pt x="1332" y="992"/>
                </a:lnTo>
                <a:lnTo>
                  <a:pt x="1332" y="1006"/>
                </a:lnTo>
                <a:lnTo>
                  <a:pt x="1339" y="1020"/>
                </a:lnTo>
                <a:lnTo>
                  <a:pt x="1339" y="1041"/>
                </a:lnTo>
                <a:lnTo>
                  <a:pt x="1339" y="1056"/>
                </a:lnTo>
                <a:lnTo>
                  <a:pt x="1346" y="1077"/>
                </a:lnTo>
                <a:lnTo>
                  <a:pt x="1346" y="1091"/>
                </a:lnTo>
                <a:lnTo>
                  <a:pt x="1346" y="1105"/>
                </a:lnTo>
                <a:lnTo>
                  <a:pt x="1353" y="1126"/>
                </a:lnTo>
                <a:lnTo>
                  <a:pt x="1353" y="1141"/>
                </a:lnTo>
                <a:lnTo>
                  <a:pt x="1353" y="1162"/>
                </a:lnTo>
                <a:lnTo>
                  <a:pt x="1360" y="1176"/>
                </a:lnTo>
                <a:lnTo>
                  <a:pt x="1360" y="1190"/>
                </a:lnTo>
                <a:lnTo>
                  <a:pt x="1360" y="1211"/>
                </a:lnTo>
                <a:lnTo>
                  <a:pt x="1360" y="1226"/>
                </a:lnTo>
                <a:lnTo>
                  <a:pt x="1367" y="1240"/>
                </a:lnTo>
                <a:lnTo>
                  <a:pt x="1367" y="1261"/>
                </a:lnTo>
                <a:lnTo>
                  <a:pt x="1367" y="1275"/>
                </a:lnTo>
                <a:lnTo>
                  <a:pt x="1374" y="1289"/>
                </a:lnTo>
                <a:lnTo>
                  <a:pt x="1374" y="1304"/>
                </a:lnTo>
                <a:lnTo>
                  <a:pt x="1374" y="1325"/>
                </a:lnTo>
                <a:lnTo>
                  <a:pt x="1382" y="1339"/>
                </a:lnTo>
                <a:lnTo>
                  <a:pt x="1382" y="1353"/>
                </a:lnTo>
                <a:lnTo>
                  <a:pt x="1382" y="1367"/>
                </a:lnTo>
                <a:lnTo>
                  <a:pt x="1389" y="1382"/>
                </a:lnTo>
                <a:lnTo>
                  <a:pt x="1389" y="1403"/>
                </a:lnTo>
                <a:lnTo>
                  <a:pt x="1389" y="1417"/>
                </a:lnTo>
                <a:lnTo>
                  <a:pt x="1396" y="1431"/>
                </a:lnTo>
                <a:lnTo>
                  <a:pt x="1396" y="1445"/>
                </a:lnTo>
                <a:lnTo>
                  <a:pt x="1396" y="1459"/>
                </a:lnTo>
                <a:lnTo>
                  <a:pt x="1396" y="1474"/>
                </a:lnTo>
                <a:lnTo>
                  <a:pt x="1403" y="1488"/>
                </a:lnTo>
                <a:lnTo>
                  <a:pt x="1403" y="1502"/>
                </a:lnTo>
                <a:lnTo>
                  <a:pt x="1403" y="1516"/>
                </a:lnTo>
                <a:lnTo>
                  <a:pt x="1410" y="1530"/>
                </a:lnTo>
                <a:lnTo>
                  <a:pt x="1410" y="1544"/>
                </a:lnTo>
                <a:lnTo>
                  <a:pt x="1410" y="1559"/>
                </a:lnTo>
                <a:lnTo>
                  <a:pt x="1417" y="1573"/>
                </a:lnTo>
                <a:lnTo>
                  <a:pt x="1417" y="1580"/>
                </a:lnTo>
                <a:lnTo>
                  <a:pt x="1417" y="1594"/>
                </a:lnTo>
                <a:lnTo>
                  <a:pt x="1424" y="1608"/>
                </a:lnTo>
                <a:lnTo>
                  <a:pt x="1424" y="1594"/>
                </a:lnTo>
                <a:lnTo>
                  <a:pt x="1424" y="1587"/>
                </a:lnTo>
                <a:lnTo>
                  <a:pt x="1431" y="1573"/>
                </a:lnTo>
                <a:lnTo>
                  <a:pt x="1431" y="1559"/>
                </a:lnTo>
                <a:lnTo>
                  <a:pt x="1431" y="1544"/>
                </a:lnTo>
                <a:lnTo>
                  <a:pt x="1438" y="1537"/>
                </a:lnTo>
                <a:lnTo>
                  <a:pt x="1438" y="1523"/>
                </a:lnTo>
                <a:lnTo>
                  <a:pt x="1438" y="1516"/>
                </a:lnTo>
                <a:lnTo>
                  <a:pt x="1438" y="1502"/>
                </a:lnTo>
                <a:lnTo>
                  <a:pt x="1445" y="1495"/>
                </a:lnTo>
                <a:lnTo>
                  <a:pt x="1445" y="1481"/>
                </a:lnTo>
                <a:lnTo>
                  <a:pt x="1445" y="1474"/>
                </a:lnTo>
                <a:lnTo>
                  <a:pt x="1452" y="1459"/>
                </a:lnTo>
                <a:lnTo>
                  <a:pt x="1452" y="1452"/>
                </a:lnTo>
                <a:lnTo>
                  <a:pt x="1452" y="1445"/>
                </a:lnTo>
                <a:lnTo>
                  <a:pt x="1460" y="1431"/>
                </a:lnTo>
                <a:lnTo>
                  <a:pt x="1460" y="1424"/>
                </a:lnTo>
                <a:lnTo>
                  <a:pt x="1460" y="1417"/>
                </a:lnTo>
                <a:lnTo>
                  <a:pt x="1467" y="1410"/>
                </a:lnTo>
                <a:lnTo>
                  <a:pt x="1467" y="1403"/>
                </a:lnTo>
                <a:lnTo>
                  <a:pt x="1467" y="1389"/>
                </a:lnTo>
                <a:lnTo>
                  <a:pt x="1474" y="1382"/>
                </a:lnTo>
                <a:lnTo>
                  <a:pt x="1474" y="1374"/>
                </a:lnTo>
                <a:lnTo>
                  <a:pt x="1474" y="1367"/>
                </a:lnTo>
                <a:lnTo>
                  <a:pt x="1474" y="1360"/>
                </a:lnTo>
                <a:lnTo>
                  <a:pt x="1481" y="1353"/>
                </a:lnTo>
                <a:lnTo>
                  <a:pt x="1481" y="1346"/>
                </a:lnTo>
                <a:lnTo>
                  <a:pt x="1488" y="1339"/>
                </a:lnTo>
                <a:lnTo>
                  <a:pt x="1488" y="1332"/>
                </a:lnTo>
                <a:lnTo>
                  <a:pt x="1488" y="1325"/>
                </a:lnTo>
                <a:lnTo>
                  <a:pt x="1495" y="1318"/>
                </a:lnTo>
                <a:lnTo>
                  <a:pt x="1495" y="1311"/>
                </a:lnTo>
                <a:lnTo>
                  <a:pt x="1502" y="1304"/>
                </a:lnTo>
                <a:lnTo>
                  <a:pt x="1502" y="1296"/>
                </a:lnTo>
                <a:lnTo>
                  <a:pt x="1509" y="1289"/>
                </a:lnTo>
                <a:lnTo>
                  <a:pt x="1509" y="1282"/>
                </a:lnTo>
                <a:lnTo>
                  <a:pt x="1516" y="1275"/>
                </a:lnTo>
                <a:lnTo>
                  <a:pt x="1523" y="1268"/>
                </a:lnTo>
                <a:lnTo>
                  <a:pt x="1530" y="1261"/>
                </a:lnTo>
                <a:lnTo>
                  <a:pt x="1537" y="1261"/>
                </a:lnTo>
                <a:lnTo>
                  <a:pt x="1545" y="1261"/>
                </a:lnTo>
                <a:lnTo>
                  <a:pt x="1552" y="1261"/>
                </a:lnTo>
                <a:lnTo>
                  <a:pt x="1559" y="1268"/>
                </a:lnTo>
                <a:lnTo>
                  <a:pt x="1566" y="1268"/>
                </a:lnTo>
                <a:lnTo>
                  <a:pt x="1573" y="1275"/>
                </a:lnTo>
                <a:lnTo>
                  <a:pt x="1580" y="1282"/>
                </a:lnTo>
                <a:lnTo>
                  <a:pt x="1587" y="1289"/>
                </a:lnTo>
                <a:lnTo>
                  <a:pt x="1587" y="1296"/>
                </a:lnTo>
                <a:lnTo>
                  <a:pt x="1594" y="1304"/>
                </a:lnTo>
                <a:lnTo>
                  <a:pt x="1594" y="1311"/>
                </a:lnTo>
                <a:lnTo>
                  <a:pt x="1601" y="1318"/>
                </a:lnTo>
                <a:lnTo>
                  <a:pt x="1601" y="1325"/>
                </a:lnTo>
                <a:lnTo>
                  <a:pt x="1608" y="1332"/>
                </a:lnTo>
                <a:lnTo>
                  <a:pt x="1608" y="1339"/>
                </a:lnTo>
                <a:lnTo>
                  <a:pt x="1615" y="1346"/>
                </a:lnTo>
                <a:lnTo>
                  <a:pt x="1615" y="1353"/>
                </a:lnTo>
                <a:lnTo>
                  <a:pt x="1622" y="1360"/>
                </a:lnTo>
                <a:lnTo>
                  <a:pt x="1622" y="1367"/>
                </a:lnTo>
                <a:lnTo>
                  <a:pt x="1622" y="1374"/>
                </a:lnTo>
                <a:lnTo>
                  <a:pt x="1630" y="1382"/>
                </a:lnTo>
                <a:lnTo>
                  <a:pt x="1630" y="1389"/>
                </a:lnTo>
                <a:lnTo>
                  <a:pt x="1630" y="1396"/>
                </a:lnTo>
                <a:lnTo>
                  <a:pt x="1637" y="1403"/>
                </a:lnTo>
                <a:lnTo>
                  <a:pt x="1637" y="1410"/>
                </a:lnTo>
                <a:lnTo>
                  <a:pt x="1644" y="1417"/>
                </a:lnTo>
                <a:lnTo>
                  <a:pt x="1644" y="1424"/>
                </a:lnTo>
                <a:lnTo>
                  <a:pt x="1644" y="1431"/>
                </a:lnTo>
                <a:lnTo>
                  <a:pt x="1651" y="1438"/>
                </a:lnTo>
                <a:lnTo>
                  <a:pt x="1651" y="1445"/>
                </a:lnTo>
                <a:lnTo>
                  <a:pt x="1651" y="1452"/>
                </a:lnTo>
                <a:lnTo>
                  <a:pt x="1658" y="1459"/>
                </a:lnTo>
                <a:lnTo>
                  <a:pt x="1658" y="1467"/>
                </a:lnTo>
                <a:lnTo>
                  <a:pt x="1658" y="1474"/>
                </a:lnTo>
                <a:lnTo>
                  <a:pt x="1665" y="1481"/>
                </a:lnTo>
                <a:lnTo>
                  <a:pt x="1665" y="1488"/>
                </a:lnTo>
                <a:lnTo>
                  <a:pt x="1665" y="1495"/>
                </a:lnTo>
                <a:lnTo>
                  <a:pt x="1672" y="1502"/>
                </a:lnTo>
                <a:lnTo>
                  <a:pt x="1672" y="1509"/>
                </a:lnTo>
                <a:lnTo>
                  <a:pt x="1672" y="1516"/>
                </a:lnTo>
                <a:lnTo>
                  <a:pt x="1679" y="1523"/>
                </a:lnTo>
                <a:lnTo>
                  <a:pt x="1679" y="1530"/>
                </a:lnTo>
                <a:lnTo>
                  <a:pt x="1679" y="1537"/>
                </a:lnTo>
                <a:lnTo>
                  <a:pt x="1686" y="1544"/>
                </a:lnTo>
                <a:lnTo>
                  <a:pt x="1686" y="1552"/>
                </a:lnTo>
                <a:lnTo>
                  <a:pt x="1686" y="1559"/>
                </a:lnTo>
                <a:lnTo>
                  <a:pt x="1693" y="1566"/>
                </a:lnTo>
                <a:lnTo>
                  <a:pt x="1693" y="1573"/>
                </a:lnTo>
                <a:lnTo>
                  <a:pt x="1693" y="1580"/>
                </a:lnTo>
                <a:lnTo>
                  <a:pt x="1700" y="1587"/>
                </a:lnTo>
                <a:lnTo>
                  <a:pt x="1700" y="1594"/>
                </a:lnTo>
                <a:lnTo>
                  <a:pt x="1700" y="1601"/>
                </a:lnTo>
                <a:lnTo>
                  <a:pt x="1708" y="1608"/>
                </a:lnTo>
                <a:lnTo>
                  <a:pt x="1708" y="1601"/>
                </a:lnTo>
                <a:lnTo>
                  <a:pt x="1708" y="1594"/>
                </a:lnTo>
                <a:lnTo>
                  <a:pt x="1715" y="1587"/>
                </a:lnTo>
                <a:lnTo>
                  <a:pt x="1715" y="1580"/>
                </a:lnTo>
                <a:lnTo>
                  <a:pt x="1722" y="1573"/>
                </a:lnTo>
                <a:lnTo>
                  <a:pt x="1722" y="1566"/>
                </a:lnTo>
                <a:lnTo>
                  <a:pt x="1722" y="1559"/>
                </a:lnTo>
                <a:lnTo>
                  <a:pt x="1729" y="1552"/>
                </a:lnTo>
                <a:lnTo>
                  <a:pt x="1729" y="1544"/>
                </a:lnTo>
                <a:lnTo>
                  <a:pt x="1736" y="1537"/>
                </a:lnTo>
                <a:lnTo>
                  <a:pt x="1736" y="1530"/>
                </a:lnTo>
                <a:lnTo>
                  <a:pt x="1736" y="1523"/>
                </a:lnTo>
                <a:lnTo>
                  <a:pt x="1743" y="1516"/>
                </a:lnTo>
                <a:lnTo>
                  <a:pt x="1743" y="1509"/>
                </a:lnTo>
                <a:lnTo>
                  <a:pt x="1750" y="1502"/>
                </a:lnTo>
                <a:lnTo>
                  <a:pt x="1750" y="1495"/>
                </a:lnTo>
                <a:lnTo>
                  <a:pt x="1757" y="1488"/>
                </a:lnTo>
                <a:lnTo>
                  <a:pt x="1757" y="1481"/>
                </a:lnTo>
                <a:lnTo>
                  <a:pt x="1764" y="1474"/>
                </a:lnTo>
                <a:lnTo>
                  <a:pt x="1764" y="1467"/>
                </a:lnTo>
                <a:lnTo>
                  <a:pt x="1771" y="1459"/>
                </a:lnTo>
                <a:lnTo>
                  <a:pt x="1771" y="1452"/>
                </a:lnTo>
                <a:lnTo>
                  <a:pt x="1778" y="1445"/>
                </a:lnTo>
                <a:lnTo>
                  <a:pt x="1785" y="1438"/>
                </a:lnTo>
                <a:lnTo>
                  <a:pt x="1793" y="1431"/>
                </a:lnTo>
                <a:lnTo>
                  <a:pt x="1800" y="1424"/>
                </a:lnTo>
                <a:lnTo>
                  <a:pt x="1807" y="1417"/>
                </a:lnTo>
                <a:lnTo>
                  <a:pt x="1814" y="1410"/>
                </a:lnTo>
                <a:lnTo>
                  <a:pt x="1821" y="1403"/>
                </a:lnTo>
                <a:lnTo>
                  <a:pt x="1828" y="1403"/>
                </a:lnTo>
                <a:lnTo>
                  <a:pt x="1835" y="1403"/>
                </a:lnTo>
                <a:lnTo>
                  <a:pt x="1842" y="1403"/>
                </a:lnTo>
                <a:lnTo>
                  <a:pt x="1849" y="1403"/>
                </a:lnTo>
                <a:lnTo>
                  <a:pt x="1856" y="1410"/>
                </a:lnTo>
                <a:lnTo>
                  <a:pt x="1863" y="1410"/>
                </a:lnTo>
                <a:lnTo>
                  <a:pt x="1871" y="1417"/>
                </a:lnTo>
                <a:lnTo>
                  <a:pt x="1878" y="1424"/>
                </a:lnTo>
                <a:lnTo>
                  <a:pt x="1885" y="1431"/>
                </a:lnTo>
                <a:lnTo>
                  <a:pt x="1892" y="1438"/>
                </a:lnTo>
                <a:lnTo>
                  <a:pt x="1899" y="1445"/>
                </a:lnTo>
                <a:lnTo>
                  <a:pt x="1906" y="1452"/>
                </a:lnTo>
                <a:lnTo>
                  <a:pt x="1913" y="1459"/>
                </a:lnTo>
                <a:lnTo>
                  <a:pt x="1913" y="1467"/>
                </a:lnTo>
                <a:lnTo>
                  <a:pt x="1920" y="1474"/>
                </a:lnTo>
                <a:lnTo>
                  <a:pt x="1920" y="1481"/>
                </a:lnTo>
                <a:lnTo>
                  <a:pt x="1927" y="1488"/>
                </a:lnTo>
                <a:lnTo>
                  <a:pt x="1927" y="1495"/>
                </a:lnTo>
                <a:lnTo>
                  <a:pt x="1934" y="1502"/>
                </a:lnTo>
                <a:lnTo>
                  <a:pt x="1941" y="1509"/>
                </a:lnTo>
                <a:lnTo>
                  <a:pt x="1941" y="1516"/>
                </a:lnTo>
                <a:lnTo>
                  <a:pt x="1948" y="1523"/>
                </a:lnTo>
                <a:lnTo>
                  <a:pt x="1948" y="1530"/>
                </a:lnTo>
                <a:lnTo>
                  <a:pt x="1956" y="1537"/>
                </a:lnTo>
                <a:lnTo>
                  <a:pt x="1956" y="1544"/>
                </a:lnTo>
                <a:lnTo>
                  <a:pt x="1963" y="1552"/>
                </a:lnTo>
                <a:lnTo>
                  <a:pt x="1963" y="1559"/>
                </a:lnTo>
                <a:lnTo>
                  <a:pt x="1970" y="1566"/>
                </a:lnTo>
                <a:lnTo>
                  <a:pt x="1970" y="1573"/>
                </a:lnTo>
                <a:lnTo>
                  <a:pt x="1977" y="1580"/>
                </a:lnTo>
                <a:lnTo>
                  <a:pt x="1977" y="1587"/>
                </a:lnTo>
                <a:lnTo>
                  <a:pt x="1984" y="1594"/>
                </a:lnTo>
                <a:lnTo>
                  <a:pt x="1991" y="1601"/>
                </a:lnTo>
                <a:lnTo>
                  <a:pt x="1991" y="1608"/>
                </a:lnTo>
                <a:lnTo>
                  <a:pt x="1998" y="1601"/>
                </a:lnTo>
                <a:lnTo>
                  <a:pt x="1998" y="1594"/>
                </a:lnTo>
                <a:lnTo>
                  <a:pt x="2005" y="1587"/>
                </a:lnTo>
                <a:lnTo>
                  <a:pt x="2005" y="1580"/>
                </a:lnTo>
                <a:lnTo>
                  <a:pt x="2012" y="1573"/>
                </a:lnTo>
                <a:lnTo>
                  <a:pt x="2012" y="1566"/>
                </a:lnTo>
                <a:lnTo>
                  <a:pt x="2019" y="1559"/>
                </a:lnTo>
                <a:lnTo>
                  <a:pt x="2026" y="1552"/>
                </a:lnTo>
                <a:lnTo>
                  <a:pt x="2026" y="1544"/>
                </a:lnTo>
                <a:lnTo>
                  <a:pt x="2034" y="1537"/>
                </a:lnTo>
                <a:lnTo>
                  <a:pt x="2034" y="1530"/>
                </a:lnTo>
                <a:lnTo>
                  <a:pt x="2041" y="1523"/>
                </a:lnTo>
                <a:lnTo>
                  <a:pt x="2048" y="1516"/>
                </a:lnTo>
                <a:lnTo>
                  <a:pt x="2055" y="1509"/>
                </a:lnTo>
                <a:lnTo>
                  <a:pt x="2062" y="1502"/>
                </a:lnTo>
                <a:lnTo>
                  <a:pt x="2069" y="1495"/>
                </a:lnTo>
                <a:lnTo>
                  <a:pt x="2069" y="1488"/>
                </a:lnTo>
                <a:lnTo>
                  <a:pt x="2076" y="1481"/>
                </a:lnTo>
                <a:lnTo>
                  <a:pt x="2083" y="1474"/>
                </a:lnTo>
                <a:lnTo>
                  <a:pt x="2090" y="1474"/>
                </a:lnTo>
                <a:lnTo>
                  <a:pt x="2097" y="1467"/>
                </a:lnTo>
                <a:lnTo>
                  <a:pt x="2104" y="1467"/>
                </a:lnTo>
                <a:lnTo>
                  <a:pt x="2111" y="1459"/>
                </a:lnTo>
                <a:lnTo>
                  <a:pt x="2119" y="1459"/>
                </a:lnTo>
                <a:lnTo>
                  <a:pt x="2126" y="1459"/>
                </a:lnTo>
                <a:lnTo>
                  <a:pt x="2133" y="1459"/>
                </a:lnTo>
                <a:lnTo>
                  <a:pt x="2140" y="1467"/>
                </a:lnTo>
                <a:lnTo>
                  <a:pt x="2147" y="1467"/>
                </a:lnTo>
                <a:lnTo>
                  <a:pt x="2154" y="1474"/>
                </a:lnTo>
                <a:lnTo>
                  <a:pt x="2161" y="1474"/>
                </a:lnTo>
                <a:lnTo>
                  <a:pt x="2168" y="1481"/>
                </a:lnTo>
                <a:lnTo>
                  <a:pt x="2175" y="1488"/>
                </a:lnTo>
                <a:lnTo>
                  <a:pt x="2182" y="1495"/>
                </a:lnTo>
                <a:lnTo>
                  <a:pt x="2189" y="1502"/>
                </a:lnTo>
                <a:lnTo>
                  <a:pt x="2197" y="1509"/>
                </a:lnTo>
                <a:lnTo>
                  <a:pt x="2204" y="1516"/>
                </a:lnTo>
                <a:lnTo>
                  <a:pt x="2211" y="1523"/>
                </a:lnTo>
                <a:lnTo>
                  <a:pt x="2218" y="1530"/>
                </a:lnTo>
                <a:lnTo>
                  <a:pt x="2225" y="1537"/>
                </a:lnTo>
                <a:lnTo>
                  <a:pt x="2232" y="1544"/>
                </a:lnTo>
                <a:lnTo>
                  <a:pt x="2239" y="1552"/>
                </a:lnTo>
                <a:lnTo>
                  <a:pt x="2239" y="1559"/>
                </a:lnTo>
                <a:lnTo>
                  <a:pt x="2246" y="1566"/>
                </a:lnTo>
                <a:lnTo>
                  <a:pt x="2253" y="1573"/>
                </a:lnTo>
                <a:lnTo>
                  <a:pt x="2253" y="1580"/>
                </a:lnTo>
                <a:lnTo>
                  <a:pt x="2260" y="1587"/>
                </a:lnTo>
                <a:lnTo>
                  <a:pt x="2267" y="1594"/>
                </a:lnTo>
                <a:lnTo>
                  <a:pt x="2267" y="1601"/>
                </a:lnTo>
                <a:lnTo>
                  <a:pt x="2274" y="1608"/>
                </a:lnTo>
              </a:path>
            </a:pathLst>
          </a:custGeom>
          <a:noFill/>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715000" y="2584440"/>
            <a:ext cx="380880" cy="3124080"/>
          </a:xfrm>
          <a:custGeom>
            <a:avLst/>
            <a:gdLst/>
            <a:ahLst/>
            <a:rect l="l" t="t" r="r" b="b"/>
            <a:pathLst>
              <a:path w="2274" h="1608">
                <a:moveTo>
                  <a:pt x="0" y="1608"/>
                </a:moveTo>
                <a:lnTo>
                  <a:pt x="7" y="1601"/>
                </a:lnTo>
                <a:lnTo>
                  <a:pt x="14" y="1594"/>
                </a:lnTo>
                <a:lnTo>
                  <a:pt x="14" y="1587"/>
                </a:lnTo>
                <a:lnTo>
                  <a:pt x="21" y="1580"/>
                </a:lnTo>
                <a:lnTo>
                  <a:pt x="28" y="1573"/>
                </a:lnTo>
                <a:lnTo>
                  <a:pt x="28" y="1566"/>
                </a:lnTo>
                <a:lnTo>
                  <a:pt x="35" y="1559"/>
                </a:lnTo>
                <a:lnTo>
                  <a:pt x="42" y="1552"/>
                </a:lnTo>
                <a:lnTo>
                  <a:pt x="49" y="1544"/>
                </a:lnTo>
                <a:lnTo>
                  <a:pt x="49" y="1537"/>
                </a:lnTo>
                <a:lnTo>
                  <a:pt x="56" y="1530"/>
                </a:lnTo>
                <a:lnTo>
                  <a:pt x="63" y="1523"/>
                </a:lnTo>
                <a:lnTo>
                  <a:pt x="71" y="1516"/>
                </a:lnTo>
                <a:lnTo>
                  <a:pt x="78" y="1509"/>
                </a:lnTo>
                <a:lnTo>
                  <a:pt x="85" y="1502"/>
                </a:lnTo>
                <a:lnTo>
                  <a:pt x="92" y="1495"/>
                </a:lnTo>
                <a:lnTo>
                  <a:pt x="99" y="1488"/>
                </a:lnTo>
                <a:lnTo>
                  <a:pt x="106" y="1481"/>
                </a:lnTo>
                <a:lnTo>
                  <a:pt x="113" y="1474"/>
                </a:lnTo>
                <a:lnTo>
                  <a:pt x="120" y="1467"/>
                </a:lnTo>
                <a:lnTo>
                  <a:pt x="127" y="1467"/>
                </a:lnTo>
                <a:lnTo>
                  <a:pt x="134" y="1459"/>
                </a:lnTo>
                <a:lnTo>
                  <a:pt x="141" y="1459"/>
                </a:lnTo>
                <a:lnTo>
                  <a:pt x="148" y="1459"/>
                </a:lnTo>
                <a:lnTo>
                  <a:pt x="156" y="1459"/>
                </a:lnTo>
                <a:lnTo>
                  <a:pt x="163" y="1467"/>
                </a:lnTo>
                <a:lnTo>
                  <a:pt x="170" y="1467"/>
                </a:lnTo>
                <a:lnTo>
                  <a:pt x="177" y="1467"/>
                </a:lnTo>
                <a:lnTo>
                  <a:pt x="184" y="1474"/>
                </a:lnTo>
                <a:lnTo>
                  <a:pt x="191" y="1481"/>
                </a:lnTo>
                <a:lnTo>
                  <a:pt x="198" y="1481"/>
                </a:lnTo>
                <a:lnTo>
                  <a:pt x="205" y="1488"/>
                </a:lnTo>
                <a:lnTo>
                  <a:pt x="212" y="1495"/>
                </a:lnTo>
                <a:lnTo>
                  <a:pt x="219" y="1502"/>
                </a:lnTo>
                <a:lnTo>
                  <a:pt x="226" y="1509"/>
                </a:lnTo>
                <a:lnTo>
                  <a:pt x="234" y="1516"/>
                </a:lnTo>
                <a:lnTo>
                  <a:pt x="234" y="1523"/>
                </a:lnTo>
                <a:lnTo>
                  <a:pt x="241" y="1530"/>
                </a:lnTo>
                <a:lnTo>
                  <a:pt x="241" y="1537"/>
                </a:lnTo>
                <a:lnTo>
                  <a:pt x="248" y="1544"/>
                </a:lnTo>
                <a:lnTo>
                  <a:pt x="255" y="1552"/>
                </a:lnTo>
                <a:lnTo>
                  <a:pt x="255" y="1559"/>
                </a:lnTo>
                <a:lnTo>
                  <a:pt x="262" y="1566"/>
                </a:lnTo>
                <a:lnTo>
                  <a:pt x="269" y="1573"/>
                </a:lnTo>
                <a:lnTo>
                  <a:pt x="269" y="1580"/>
                </a:lnTo>
                <a:lnTo>
                  <a:pt x="276" y="1587"/>
                </a:lnTo>
                <a:lnTo>
                  <a:pt x="276" y="1594"/>
                </a:lnTo>
                <a:lnTo>
                  <a:pt x="283" y="1601"/>
                </a:lnTo>
                <a:lnTo>
                  <a:pt x="283" y="1608"/>
                </a:lnTo>
                <a:lnTo>
                  <a:pt x="290" y="1601"/>
                </a:lnTo>
                <a:lnTo>
                  <a:pt x="290" y="1594"/>
                </a:lnTo>
                <a:lnTo>
                  <a:pt x="297" y="1587"/>
                </a:lnTo>
                <a:lnTo>
                  <a:pt x="297" y="1580"/>
                </a:lnTo>
                <a:lnTo>
                  <a:pt x="304" y="1573"/>
                </a:lnTo>
                <a:lnTo>
                  <a:pt x="304" y="1566"/>
                </a:lnTo>
                <a:lnTo>
                  <a:pt x="311" y="1559"/>
                </a:lnTo>
                <a:lnTo>
                  <a:pt x="319" y="1552"/>
                </a:lnTo>
                <a:lnTo>
                  <a:pt x="319" y="1544"/>
                </a:lnTo>
                <a:lnTo>
                  <a:pt x="319" y="1537"/>
                </a:lnTo>
                <a:lnTo>
                  <a:pt x="326" y="1530"/>
                </a:lnTo>
                <a:lnTo>
                  <a:pt x="326" y="1523"/>
                </a:lnTo>
                <a:lnTo>
                  <a:pt x="333" y="1516"/>
                </a:lnTo>
                <a:lnTo>
                  <a:pt x="340" y="1509"/>
                </a:lnTo>
                <a:lnTo>
                  <a:pt x="340" y="1502"/>
                </a:lnTo>
                <a:lnTo>
                  <a:pt x="347" y="1495"/>
                </a:lnTo>
                <a:lnTo>
                  <a:pt x="347" y="1488"/>
                </a:lnTo>
                <a:lnTo>
                  <a:pt x="354" y="1481"/>
                </a:lnTo>
                <a:lnTo>
                  <a:pt x="354" y="1474"/>
                </a:lnTo>
                <a:lnTo>
                  <a:pt x="361" y="1467"/>
                </a:lnTo>
                <a:lnTo>
                  <a:pt x="368" y="1459"/>
                </a:lnTo>
                <a:lnTo>
                  <a:pt x="375" y="1452"/>
                </a:lnTo>
                <a:lnTo>
                  <a:pt x="375" y="1445"/>
                </a:lnTo>
                <a:lnTo>
                  <a:pt x="382" y="1438"/>
                </a:lnTo>
                <a:lnTo>
                  <a:pt x="389" y="1431"/>
                </a:lnTo>
                <a:lnTo>
                  <a:pt x="397" y="1424"/>
                </a:lnTo>
                <a:lnTo>
                  <a:pt x="404" y="1417"/>
                </a:lnTo>
                <a:lnTo>
                  <a:pt x="411" y="1410"/>
                </a:lnTo>
                <a:lnTo>
                  <a:pt x="418" y="1403"/>
                </a:lnTo>
                <a:lnTo>
                  <a:pt x="425" y="1403"/>
                </a:lnTo>
                <a:lnTo>
                  <a:pt x="432" y="1403"/>
                </a:lnTo>
                <a:lnTo>
                  <a:pt x="439" y="1403"/>
                </a:lnTo>
                <a:lnTo>
                  <a:pt x="446" y="1403"/>
                </a:lnTo>
                <a:lnTo>
                  <a:pt x="453" y="1403"/>
                </a:lnTo>
                <a:lnTo>
                  <a:pt x="460" y="1410"/>
                </a:lnTo>
                <a:lnTo>
                  <a:pt x="467" y="1417"/>
                </a:lnTo>
                <a:lnTo>
                  <a:pt x="474" y="1424"/>
                </a:lnTo>
                <a:lnTo>
                  <a:pt x="482" y="1431"/>
                </a:lnTo>
                <a:lnTo>
                  <a:pt x="489" y="1438"/>
                </a:lnTo>
                <a:lnTo>
                  <a:pt x="496" y="1445"/>
                </a:lnTo>
                <a:lnTo>
                  <a:pt x="503" y="1452"/>
                </a:lnTo>
                <a:lnTo>
                  <a:pt x="503" y="1459"/>
                </a:lnTo>
                <a:lnTo>
                  <a:pt x="510" y="1467"/>
                </a:lnTo>
                <a:lnTo>
                  <a:pt x="510" y="1474"/>
                </a:lnTo>
                <a:lnTo>
                  <a:pt x="517" y="1481"/>
                </a:lnTo>
                <a:lnTo>
                  <a:pt x="517" y="1488"/>
                </a:lnTo>
                <a:lnTo>
                  <a:pt x="524" y="1495"/>
                </a:lnTo>
                <a:lnTo>
                  <a:pt x="524" y="1502"/>
                </a:lnTo>
                <a:lnTo>
                  <a:pt x="531" y="1509"/>
                </a:lnTo>
                <a:lnTo>
                  <a:pt x="531" y="1516"/>
                </a:lnTo>
                <a:lnTo>
                  <a:pt x="538" y="1523"/>
                </a:lnTo>
                <a:lnTo>
                  <a:pt x="538" y="1530"/>
                </a:lnTo>
                <a:lnTo>
                  <a:pt x="538" y="1537"/>
                </a:lnTo>
                <a:lnTo>
                  <a:pt x="545" y="1544"/>
                </a:lnTo>
                <a:lnTo>
                  <a:pt x="545" y="1552"/>
                </a:lnTo>
                <a:lnTo>
                  <a:pt x="552" y="1559"/>
                </a:lnTo>
                <a:lnTo>
                  <a:pt x="552" y="1566"/>
                </a:lnTo>
                <a:lnTo>
                  <a:pt x="552" y="1573"/>
                </a:lnTo>
                <a:lnTo>
                  <a:pt x="560" y="1580"/>
                </a:lnTo>
                <a:lnTo>
                  <a:pt x="560" y="1587"/>
                </a:lnTo>
                <a:lnTo>
                  <a:pt x="567" y="1594"/>
                </a:lnTo>
                <a:lnTo>
                  <a:pt x="567" y="1601"/>
                </a:lnTo>
                <a:lnTo>
                  <a:pt x="567" y="1608"/>
                </a:lnTo>
                <a:lnTo>
                  <a:pt x="574" y="1601"/>
                </a:lnTo>
                <a:lnTo>
                  <a:pt x="574" y="1594"/>
                </a:lnTo>
                <a:lnTo>
                  <a:pt x="574" y="1587"/>
                </a:lnTo>
                <a:lnTo>
                  <a:pt x="581" y="1580"/>
                </a:lnTo>
                <a:lnTo>
                  <a:pt x="581" y="1573"/>
                </a:lnTo>
                <a:lnTo>
                  <a:pt x="581" y="1566"/>
                </a:lnTo>
                <a:lnTo>
                  <a:pt x="588" y="1559"/>
                </a:lnTo>
                <a:lnTo>
                  <a:pt x="588" y="1552"/>
                </a:lnTo>
                <a:lnTo>
                  <a:pt x="588" y="1544"/>
                </a:lnTo>
                <a:lnTo>
                  <a:pt x="595" y="1537"/>
                </a:lnTo>
                <a:lnTo>
                  <a:pt x="595" y="1530"/>
                </a:lnTo>
                <a:lnTo>
                  <a:pt x="595" y="1523"/>
                </a:lnTo>
                <a:lnTo>
                  <a:pt x="602" y="1516"/>
                </a:lnTo>
                <a:lnTo>
                  <a:pt x="602" y="1509"/>
                </a:lnTo>
                <a:lnTo>
                  <a:pt x="602" y="1502"/>
                </a:lnTo>
                <a:lnTo>
                  <a:pt x="609" y="1495"/>
                </a:lnTo>
                <a:lnTo>
                  <a:pt x="609" y="1488"/>
                </a:lnTo>
                <a:lnTo>
                  <a:pt x="616" y="1481"/>
                </a:lnTo>
                <a:lnTo>
                  <a:pt x="616" y="1474"/>
                </a:lnTo>
                <a:lnTo>
                  <a:pt x="616" y="1467"/>
                </a:lnTo>
                <a:lnTo>
                  <a:pt x="616" y="1459"/>
                </a:lnTo>
                <a:lnTo>
                  <a:pt x="623" y="1452"/>
                </a:lnTo>
                <a:lnTo>
                  <a:pt x="623" y="1445"/>
                </a:lnTo>
                <a:lnTo>
                  <a:pt x="623" y="1438"/>
                </a:lnTo>
                <a:lnTo>
                  <a:pt x="630" y="1431"/>
                </a:lnTo>
                <a:lnTo>
                  <a:pt x="630" y="1424"/>
                </a:lnTo>
                <a:lnTo>
                  <a:pt x="637" y="1417"/>
                </a:lnTo>
                <a:lnTo>
                  <a:pt x="637" y="1410"/>
                </a:lnTo>
                <a:lnTo>
                  <a:pt x="637" y="1403"/>
                </a:lnTo>
                <a:lnTo>
                  <a:pt x="645" y="1396"/>
                </a:lnTo>
                <a:lnTo>
                  <a:pt x="645" y="1389"/>
                </a:lnTo>
                <a:lnTo>
                  <a:pt x="652" y="1382"/>
                </a:lnTo>
                <a:lnTo>
                  <a:pt x="652" y="1374"/>
                </a:lnTo>
                <a:lnTo>
                  <a:pt x="652" y="1367"/>
                </a:lnTo>
                <a:lnTo>
                  <a:pt x="652" y="1360"/>
                </a:lnTo>
                <a:lnTo>
                  <a:pt x="659" y="1353"/>
                </a:lnTo>
                <a:lnTo>
                  <a:pt x="659" y="1346"/>
                </a:lnTo>
                <a:lnTo>
                  <a:pt x="666" y="1339"/>
                </a:lnTo>
                <a:lnTo>
                  <a:pt x="666" y="1332"/>
                </a:lnTo>
                <a:lnTo>
                  <a:pt x="673" y="1325"/>
                </a:lnTo>
                <a:lnTo>
                  <a:pt x="673" y="1318"/>
                </a:lnTo>
                <a:lnTo>
                  <a:pt x="680" y="1311"/>
                </a:lnTo>
                <a:lnTo>
                  <a:pt x="687" y="1304"/>
                </a:lnTo>
                <a:lnTo>
                  <a:pt x="687" y="1296"/>
                </a:lnTo>
                <a:lnTo>
                  <a:pt x="694" y="1289"/>
                </a:lnTo>
                <a:lnTo>
                  <a:pt x="694" y="1282"/>
                </a:lnTo>
                <a:lnTo>
                  <a:pt x="701" y="1275"/>
                </a:lnTo>
                <a:lnTo>
                  <a:pt x="708" y="1268"/>
                </a:lnTo>
                <a:lnTo>
                  <a:pt x="715" y="1261"/>
                </a:lnTo>
                <a:lnTo>
                  <a:pt x="723" y="1261"/>
                </a:lnTo>
                <a:lnTo>
                  <a:pt x="730" y="1261"/>
                </a:lnTo>
                <a:lnTo>
                  <a:pt x="737" y="1261"/>
                </a:lnTo>
                <a:lnTo>
                  <a:pt x="744" y="1261"/>
                </a:lnTo>
                <a:lnTo>
                  <a:pt x="751" y="1268"/>
                </a:lnTo>
                <a:lnTo>
                  <a:pt x="758" y="1275"/>
                </a:lnTo>
                <a:lnTo>
                  <a:pt x="765" y="1282"/>
                </a:lnTo>
                <a:lnTo>
                  <a:pt x="765" y="1289"/>
                </a:lnTo>
                <a:lnTo>
                  <a:pt x="772" y="1296"/>
                </a:lnTo>
                <a:lnTo>
                  <a:pt x="772" y="1304"/>
                </a:lnTo>
                <a:lnTo>
                  <a:pt x="779" y="1311"/>
                </a:lnTo>
                <a:lnTo>
                  <a:pt x="779" y="1318"/>
                </a:lnTo>
                <a:lnTo>
                  <a:pt x="786" y="1325"/>
                </a:lnTo>
                <a:lnTo>
                  <a:pt x="786" y="1332"/>
                </a:lnTo>
                <a:lnTo>
                  <a:pt x="793" y="1339"/>
                </a:lnTo>
                <a:lnTo>
                  <a:pt x="793" y="1346"/>
                </a:lnTo>
                <a:lnTo>
                  <a:pt x="793" y="1353"/>
                </a:lnTo>
                <a:lnTo>
                  <a:pt x="800" y="1360"/>
                </a:lnTo>
                <a:lnTo>
                  <a:pt x="800" y="1367"/>
                </a:lnTo>
                <a:lnTo>
                  <a:pt x="800" y="1374"/>
                </a:lnTo>
                <a:lnTo>
                  <a:pt x="800" y="1382"/>
                </a:lnTo>
                <a:lnTo>
                  <a:pt x="808" y="1389"/>
                </a:lnTo>
                <a:lnTo>
                  <a:pt x="808" y="1403"/>
                </a:lnTo>
                <a:lnTo>
                  <a:pt x="808" y="1410"/>
                </a:lnTo>
                <a:lnTo>
                  <a:pt x="815" y="1417"/>
                </a:lnTo>
                <a:lnTo>
                  <a:pt x="815" y="1424"/>
                </a:lnTo>
                <a:lnTo>
                  <a:pt x="815" y="1431"/>
                </a:lnTo>
                <a:lnTo>
                  <a:pt x="822" y="1445"/>
                </a:lnTo>
                <a:lnTo>
                  <a:pt x="822" y="1452"/>
                </a:lnTo>
                <a:lnTo>
                  <a:pt x="822" y="1459"/>
                </a:lnTo>
                <a:lnTo>
                  <a:pt x="829" y="1474"/>
                </a:lnTo>
                <a:lnTo>
                  <a:pt x="829" y="1481"/>
                </a:lnTo>
                <a:lnTo>
                  <a:pt x="829" y="1495"/>
                </a:lnTo>
                <a:lnTo>
                  <a:pt x="836" y="1502"/>
                </a:lnTo>
                <a:lnTo>
                  <a:pt x="836" y="1516"/>
                </a:lnTo>
                <a:lnTo>
                  <a:pt x="836" y="1523"/>
                </a:lnTo>
                <a:lnTo>
                  <a:pt x="836" y="1537"/>
                </a:lnTo>
                <a:lnTo>
                  <a:pt x="843" y="1544"/>
                </a:lnTo>
                <a:lnTo>
                  <a:pt x="843" y="1559"/>
                </a:lnTo>
                <a:lnTo>
                  <a:pt x="843" y="1573"/>
                </a:lnTo>
                <a:lnTo>
                  <a:pt x="850" y="1587"/>
                </a:lnTo>
                <a:lnTo>
                  <a:pt x="850" y="1594"/>
                </a:lnTo>
                <a:lnTo>
                  <a:pt x="850" y="1608"/>
                </a:lnTo>
                <a:lnTo>
                  <a:pt x="857" y="1594"/>
                </a:lnTo>
                <a:lnTo>
                  <a:pt x="857" y="1580"/>
                </a:lnTo>
                <a:lnTo>
                  <a:pt x="857" y="1573"/>
                </a:lnTo>
                <a:lnTo>
                  <a:pt x="864" y="1559"/>
                </a:lnTo>
                <a:lnTo>
                  <a:pt x="864" y="1544"/>
                </a:lnTo>
                <a:lnTo>
                  <a:pt x="864" y="1530"/>
                </a:lnTo>
                <a:lnTo>
                  <a:pt x="871" y="1516"/>
                </a:lnTo>
                <a:lnTo>
                  <a:pt x="871" y="1502"/>
                </a:lnTo>
                <a:lnTo>
                  <a:pt x="871" y="1488"/>
                </a:lnTo>
                <a:lnTo>
                  <a:pt x="878" y="1474"/>
                </a:lnTo>
                <a:lnTo>
                  <a:pt x="878" y="1459"/>
                </a:lnTo>
                <a:lnTo>
                  <a:pt x="878" y="1445"/>
                </a:lnTo>
                <a:lnTo>
                  <a:pt x="878" y="1431"/>
                </a:lnTo>
                <a:lnTo>
                  <a:pt x="885" y="1417"/>
                </a:lnTo>
                <a:lnTo>
                  <a:pt x="885" y="1403"/>
                </a:lnTo>
                <a:lnTo>
                  <a:pt x="885" y="1382"/>
                </a:lnTo>
                <a:lnTo>
                  <a:pt x="893" y="1367"/>
                </a:lnTo>
                <a:lnTo>
                  <a:pt x="893" y="1353"/>
                </a:lnTo>
                <a:lnTo>
                  <a:pt x="893" y="1339"/>
                </a:lnTo>
                <a:lnTo>
                  <a:pt x="900" y="1325"/>
                </a:lnTo>
                <a:lnTo>
                  <a:pt x="900" y="1304"/>
                </a:lnTo>
                <a:lnTo>
                  <a:pt x="900" y="1289"/>
                </a:lnTo>
                <a:lnTo>
                  <a:pt x="907" y="1275"/>
                </a:lnTo>
                <a:lnTo>
                  <a:pt x="907" y="1261"/>
                </a:lnTo>
                <a:lnTo>
                  <a:pt x="907" y="1240"/>
                </a:lnTo>
                <a:lnTo>
                  <a:pt x="914" y="1226"/>
                </a:lnTo>
                <a:lnTo>
                  <a:pt x="914" y="1211"/>
                </a:lnTo>
                <a:lnTo>
                  <a:pt x="914" y="1190"/>
                </a:lnTo>
                <a:lnTo>
                  <a:pt x="914" y="1176"/>
                </a:lnTo>
                <a:lnTo>
                  <a:pt x="921" y="1162"/>
                </a:lnTo>
                <a:lnTo>
                  <a:pt x="921" y="1141"/>
                </a:lnTo>
                <a:lnTo>
                  <a:pt x="921" y="1126"/>
                </a:lnTo>
                <a:lnTo>
                  <a:pt x="928" y="1105"/>
                </a:lnTo>
                <a:lnTo>
                  <a:pt x="928" y="1091"/>
                </a:lnTo>
                <a:lnTo>
                  <a:pt x="928" y="1077"/>
                </a:lnTo>
                <a:lnTo>
                  <a:pt x="935" y="1056"/>
                </a:lnTo>
                <a:lnTo>
                  <a:pt x="935" y="1041"/>
                </a:lnTo>
                <a:lnTo>
                  <a:pt x="935" y="1020"/>
                </a:lnTo>
                <a:lnTo>
                  <a:pt x="942" y="1006"/>
                </a:lnTo>
                <a:lnTo>
                  <a:pt x="942" y="992"/>
                </a:lnTo>
                <a:lnTo>
                  <a:pt x="942" y="971"/>
                </a:lnTo>
                <a:lnTo>
                  <a:pt x="949" y="956"/>
                </a:lnTo>
                <a:lnTo>
                  <a:pt x="949" y="935"/>
                </a:lnTo>
                <a:lnTo>
                  <a:pt x="949" y="921"/>
                </a:lnTo>
                <a:lnTo>
                  <a:pt x="949" y="900"/>
                </a:lnTo>
                <a:lnTo>
                  <a:pt x="956" y="886"/>
                </a:lnTo>
                <a:lnTo>
                  <a:pt x="956" y="871"/>
                </a:lnTo>
                <a:lnTo>
                  <a:pt x="956" y="850"/>
                </a:lnTo>
                <a:lnTo>
                  <a:pt x="963" y="836"/>
                </a:lnTo>
                <a:lnTo>
                  <a:pt x="963" y="815"/>
                </a:lnTo>
                <a:lnTo>
                  <a:pt x="963" y="800"/>
                </a:lnTo>
                <a:lnTo>
                  <a:pt x="971" y="786"/>
                </a:lnTo>
                <a:lnTo>
                  <a:pt x="971" y="765"/>
                </a:lnTo>
                <a:lnTo>
                  <a:pt x="971" y="751"/>
                </a:lnTo>
                <a:lnTo>
                  <a:pt x="978" y="730"/>
                </a:lnTo>
                <a:lnTo>
                  <a:pt x="978" y="715"/>
                </a:lnTo>
                <a:lnTo>
                  <a:pt x="978" y="701"/>
                </a:lnTo>
                <a:lnTo>
                  <a:pt x="985" y="680"/>
                </a:lnTo>
                <a:lnTo>
                  <a:pt x="985" y="666"/>
                </a:lnTo>
                <a:lnTo>
                  <a:pt x="985" y="652"/>
                </a:lnTo>
                <a:lnTo>
                  <a:pt x="985" y="630"/>
                </a:lnTo>
                <a:lnTo>
                  <a:pt x="992" y="616"/>
                </a:lnTo>
                <a:lnTo>
                  <a:pt x="992" y="602"/>
                </a:lnTo>
                <a:lnTo>
                  <a:pt x="992" y="581"/>
                </a:lnTo>
                <a:lnTo>
                  <a:pt x="999" y="567"/>
                </a:lnTo>
                <a:lnTo>
                  <a:pt x="999" y="552"/>
                </a:lnTo>
                <a:lnTo>
                  <a:pt x="999" y="538"/>
                </a:lnTo>
                <a:lnTo>
                  <a:pt x="1006" y="524"/>
                </a:lnTo>
                <a:lnTo>
                  <a:pt x="1006" y="503"/>
                </a:lnTo>
                <a:lnTo>
                  <a:pt x="1006" y="489"/>
                </a:lnTo>
                <a:lnTo>
                  <a:pt x="1013" y="475"/>
                </a:lnTo>
                <a:lnTo>
                  <a:pt x="1013" y="460"/>
                </a:lnTo>
                <a:lnTo>
                  <a:pt x="1013" y="446"/>
                </a:lnTo>
                <a:lnTo>
                  <a:pt x="1020" y="432"/>
                </a:lnTo>
                <a:lnTo>
                  <a:pt x="1020" y="418"/>
                </a:lnTo>
                <a:lnTo>
                  <a:pt x="1020" y="404"/>
                </a:lnTo>
                <a:lnTo>
                  <a:pt x="1027" y="390"/>
                </a:lnTo>
                <a:lnTo>
                  <a:pt x="1027" y="375"/>
                </a:lnTo>
                <a:lnTo>
                  <a:pt x="1027" y="361"/>
                </a:lnTo>
                <a:lnTo>
                  <a:pt x="1027" y="347"/>
                </a:lnTo>
                <a:lnTo>
                  <a:pt x="1034" y="333"/>
                </a:lnTo>
                <a:lnTo>
                  <a:pt x="1034" y="319"/>
                </a:lnTo>
                <a:lnTo>
                  <a:pt x="1034" y="304"/>
                </a:lnTo>
                <a:lnTo>
                  <a:pt x="1041" y="297"/>
                </a:lnTo>
                <a:lnTo>
                  <a:pt x="1041" y="283"/>
                </a:lnTo>
                <a:lnTo>
                  <a:pt x="1041" y="269"/>
                </a:lnTo>
                <a:lnTo>
                  <a:pt x="1048" y="255"/>
                </a:lnTo>
                <a:lnTo>
                  <a:pt x="1048" y="248"/>
                </a:lnTo>
                <a:lnTo>
                  <a:pt x="1048" y="234"/>
                </a:lnTo>
                <a:lnTo>
                  <a:pt x="1056" y="227"/>
                </a:lnTo>
                <a:lnTo>
                  <a:pt x="1056" y="212"/>
                </a:lnTo>
                <a:lnTo>
                  <a:pt x="1056" y="198"/>
                </a:lnTo>
                <a:lnTo>
                  <a:pt x="1063" y="191"/>
                </a:lnTo>
                <a:lnTo>
                  <a:pt x="1063" y="177"/>
                </a:lnTo>
                <a:lnTo>
                  <a:pt x="1063" y="170"/>
                </a:lnTo>
                <a:lnTo>
                  <a:pt x="1063" y="163"/>
                </a:lnTo>
                <a:lnTo>
                  <a:pt x="1070" y="149"/>
                </a:lnTo>
                <a:lnTo>
                  <a:pt x="1070" y="142"/>
                </a:lnTo>
                <a:lnTo>
                  <a:pt x="1070" y="134"/>
                </a:lnTo>
                <a:lnTo>
                  <a:pt x="1077" y="120"/>
                </a:lnTo>
                <a:lnTo>
                  <a:pt x="1077" y="113"/>
                </a:lnTo>
                <a:lnTo>
                  <a:pt x="1077" y="106"/>
                </a:lnTo>
                <a:lnTo>
                  <a:pt x="1084" y="99"/>
                </a:lnTo>
                <a:lnTo>
                  <a:pt x="1084" y="92"/>
                </a:lnTo>
                <a:lnTo>
                  <a:pt x="1084" y="85"/>
                </a:lnTo>
                <a:lnTo>
                  <a:pt x="1091" y="78"/>
                </a:lnTo>
                <a:lnTo>
                  <a:pt x="1091" y="71"/>
                </a:lnTo>
                <a:lnTo>
                  <a:pt x="1091" y="64"/>
                </a:lnTo>
                <a:lnTo>
                  <a:pt x="1098" y="56"/>
                </a:lnTo>
                <a:lnTo>
                  <a:pt x="1098" y="49"/>
                </a:lnTo>
                <a:lnTo>
                  <a:pt x="1098" y="42"/>
                </a:lnTo>
                <a:lnTo>
                  <a:pt x="1105" y="35"/>
                </a:lnTo>
                <a:lnTo>
                  <a:pt x="1105" y="28"/>
                </a:lnTo>
                <a:lnTo>
                  <a:pt x="1112" y="21"/>
                </a:lnTo>
                <a:lnTo>
                  <a:pt x="1119" y="14"/>
                </a:lnTo>
                <a:lnTo>
                  <a:pt x="1126" y="7"/>
                </a:lnTo>
                <a:lnTo>
                  <a:pt x="1134" y="0"/>
                </a:lnTo>
                <a:lnTo>
                  <a:pt x="1141" y="0"/>
                </a:lnTo>
                <a:lnTo>
                  <a:pt x="1148" y="7"/>
                </a:lnTo>
                <a:lnTo>
                  <a:pt x="1155" y="14"/>
                </a:lnTo>
                <a:lnTo>
                  <a:pt x="1162" y="21"/>
                </a:lnTo>
                <a:lnTo>
                  <a:pt x="1169" y="28"/>
                </a:lnTo>
                <a:lnTo>
                  <a:pt x="1169" y="35"/>
                </a:lnTo>
                <a:lnTo>
                  <a:pt x="1176" y="42"/>
                </a:lnTo>
                <a:lnTo>
                  <a:pt x="1176" y="49"/>
                </a:lnTo>
                <a:lnTo>
                  <a:pt x="1176" y="56"/>
                </a:lnTo>
                <a:lnTo>
                  <a:pt x="1183" y="64"/>
                </a:lnTo>
                <a:lnTo>
                  <a:pt x="1183" y="71"/>
                </a:lnTo>
                <a:lnTo>
                  <a:pt x="1183" y="78"/>
                </a:lnTo>
                <a:lnTo>
                  <a:pt x="1190" y="85"/>
                </a:lnTo>
                <a:lnTo>
                  <a:pt x="1190" y="92"/>
                </a:lnTo>
                <a:lnTo>
                  <a:pt x="1190" y="99"/>
                </a:lnTo>
                <a:lnTo>
                  <a:pt x="1197" y="106"/>
                </a:lnTo>
                <a:lnTo>
                  <a:pt x="1197" y="113"/>
                </a:lnTo>
                <a:lnTo>
                  <a:pt x="1197" y="120"/>
                </a:lnTo>
                <a:lnTo>
                  <a:pt x="1204" y="134"/>
                </a:lnTo>
                <a:lnTo>
                  <a:pt x="1204" y="142"/>
                </a:lnTo>
                <a:lnTo>
                  <a:pt x="1204" y="149"/>
                </a:lnTo>
                <a:lnTo>
                  <a:pt x="1211" y="163"/>
                </a:lnTo>
                <a:lnTo>
                  <a:pt x="1211" y="170"/>
                </a:lnTo>
                <a:lnTo>
                  <a:pt x="1211" y="177"/>
                </a:lnTo>
                <a:lnTo>
                  <a:pt x="1211" y="191"/>
                </a:lnTo>
                <a:lnTo>
                  <a:pt x="1219" y="198"/>
                </a:lnTo>
                <a:lnTo>
                  <a:pt x="1219" y="212"/>
                </a:lnTo>
                <a:lnTo>
                  <a:pt x="1219" y="227"/>
                </a:lnTo>
                <a:lnTo>
                  <a:pt x="1226" y="234"/>
                </a:lnTo>
                <a:lnTo>
                  <a:pt x="1226" y="248"/>
                </a:lnTo>
                <a:lnTo>
                  <a:pt x="1226" y="255"/>
                </a:lnTo>
                <a:lnTo>
                  <a:pt x="1233" y="269"/>
                </a:lnTo>
                <a:lnTo>
                  <a:pt x="1233" y="283"/>
                </a:lnTo>
                <a:lnTo>
                  <a:pt x="1233" y="297"/>
                </a:lnTo>
                <a:lnTo>
                  <a:pt x="1240" y="304"/>
                </a:lnTo>
                <a:lnTo>
                  <a:pt x="1240" y="319"/>
                </a:lnTo>
                <a:lnTo>
                  <a:pt x="1240" y="333"/>
                </a:lnTo>
                <a:lnTo>
                  <a:pt x="1247" y="347"/>
                </a:lnTo>
                <a:lnTo>
                  <a:pt x="1247" y="361"/>
                </a:lnTo>
                <a:lnTo>
                  <a:pt x="1247" y="375"/>
                </a:lnTo>
                <a:lnTo>
                  <a:pt x="1247" y="390"/>
                </a:lnTo>
                <a:lnTo>
                  <a:pt x="1254" y="404"/>
                </a:lnTo>
                <a:lnTo>
                  <a:pt x="1254" y="418"/>
                </a:lnTo>
                <a:lnTo>
                  <a:pt x="1254" y="432"/>
                </a:lnTo>
                <a:lnTo>
                  <a:pt x="1261" y="446"/>
                </a:lnTo>
                <a:lnTo>
                  <a:pt x="1261" y="460"/>
                </a:lnTo>
                <a:lnTo>
                  <a:pt x="1261" y="475"/>
                </a:lnTo>
                <a:lnTo>
                  <a:pt x="1268" y="489"/>
                </a:lnTo>
                <a:lnTo>
                  <a:pt x="1268" y="503"/>
                </a:lnTo>
                <a:lnTo>
                  <a:pt x="1268" y="524"/>
                </a:lnTo>
                <a:lnTo>
                  <a:pt x="1275" y="538"/>
                </a:lnTo>
                <a:lnTo>
                  <a:pt x="1275" y="552"/>
                </a:lnTo>
                <a:lnTo>
                  <a:pt x="1275" y="567"/>
                </a:lnTo>
                <a:lnTo>
                  <a:pt x="1282" y="581"/>
                </a:lnTo>
                <a:lnTo>
                  <a:pt x="1282" y="602"/>
                </a:lnTo>
                <a:lnTo>
                  <a:pt x="1282" y="616"/>
                </a:lnTo>
                <a:lnTo>
                  <a:pt x="1289" y="630"/>
                </a:lnTo>
                <a:lnTo>
                  <a:pt x="1289" y="652"/>
                </a:lnTo>
                <a:lnTo>
                  <a:pt x="1289" y="666"/>
                </a:lnTo>
                <a:lnTo>
                  <a:pt x="1289" y="680"/>
                </a:lnTo>
                <a:lnTo>
                  <a:pt x="1297" y="701"/>
                </a:lnTo>
                <a:lnTo>
                  <a:pt x="1297" y="715"/>
                </a:lnTo>
                <a:lnTo>
                  <a:pt x="1297" y="730"/>
                </a:lnTo>
                <a:lnTo>
                  <a:pt x="1304" y="751"/>
                </a:lnTo>
                <a:lnTo>
                  <a:pt x="1304" y="765"/>
                </a:lnTo>
                <a:lnTo>
                  <a:pt x="1304" y="786"/>
                </a:lnTo>
                <a:lnTo>
                  <a:pt x="1311" y="800"/>
                </a:lnTo>
                <a:lnTo>
                  <a:pt x="1311" y="815"/>
                </a:lnTo>
                <a:lnTo>
                  <a:pt x="1311" y="836"/>
                </a:lnTo>
                <a:lnTo>
                  <a:pt x="1318" y="850"/>
                </a:lnTo>
                <a:lnTo>
                  <a:pt x="1318" y="871"/>
                </a:lnTo>
                <a:lnTo>
                  <a:pt x="1318" y="886"/>
                </a:lnTo>
                <a:lnTo>
                  <a:pt x="1325" y="900"/>
                </a:lnTo>
                <a:lnTo>
                  <a:pt x="1325" y="921"/>
                </a:lnTo>
                <a:lnTo>
                  <a:pt x="1325" y="935"/>
                </a:lnTo>
                <a:lnTo>
                  <a:pt x="1325" y="956"/>
                </a:lnTo>
                <a:lnTo>
                  <a:pt x="1332" y="971"/>
                </a:lnTo>
                <a:lnTo>
                  <a:pt x="1332" y="992"/>
                </a:lnTo>
                <a:lnTo>
                  <a:pt x="1332" y="1006"/>
                </a:lnTo>
                <a:lnTo>
                  <a:pt x="1339" y="1020"/>
                </a:lnTo>
                <a:lnTo>
                  <a:pt x="1339" y="1041"/>
                </a:lnTo>
                <a:lnTo>
                  <a:pt x="1339" y="1056"/>
                </a:lnTo>
                <a:lnTo>
                  <a:pt x="1346" y="1077"/>
                </a:lnTo>
                <a:lnTo>
                  <a:pt x="1346" y="1091"/>
                </a:lnTo>
                <a:lnTo>
                  <a:pt x="1346" y="1105"/>
                </a:lnTo>
                <a:lnTo>
                  <a:pt x="1353" y="1126"/>
                </a:lnTo>
                <a:lnTo>
                  <a:pt x="1353" y="1141"/>
                </a:lnTo>
                <a:lnTo>
                  <a:pt x="1353" y="1162"/>
                </a:lnTo>
                <a:lnTo>
                  <a:pt x="1360" y="1176"/>
                </a:lnTo>
                <a:lnTo>
                  <a:pt x="1360" y="1190"/>
                </a:lnTo>
                <a:lnTo>
                  <a:pt x="1360" y="1211"/>
                </a:lnTo>
                <a:lnTo>
                  <a:pt x="1360" y="1226"/>
                </a:lnTo>
                <a:lnTo>
                  <a:pt x="1367" y="1240"/>
                </a:lnTo>
                <a:lnTo>
                  <a:pt x="1367" y="1261"/>
                </a:lnTo>
                <a:lnTo>
                  <a:pt x="1367" y="1275"/>
                </a:lnTo>
                <a:lnTo>
                  <a:pt x="1374" y="1289"/>
                </a:lnTo>
                <a:lnTo>
                  <a:pt x="1374" y="1304"/>
                </a:lnTo>
                <a:lnTo>
                  <a:pt x="1374" y="1325"/>
                </a:lnTo>
                <a:lnTo>
                  <a:pt x="1382" y="1339"/>
                </a:lnTo>
                <a:lnTo>
                  <a:pt x="1382" y="1353"/>
                </a:lnTo>
                <a:lnTo>
                  <a:pt x="1382" y="1367"/>
                </a:lnTo>
                <a:lnTo>
                  <a:pt x="1389" y="1382"/>
                </a:lnTo>
                <a:lnTo>
                  <a:pt x="1389" y="1403"/>
                </a:lnTo>
                <a:lnTo>
                  <a:pt x="1389" y="1417"/>
                </a:lnTo>
                <a:lnTo>
                  <a:pt x="1396" y="1431"/>
                </a:lnTo>
                <a:lnTo>
                  <a:pt x="1396" y="1445"/>
                </a:lnTo>
                <a:lnTo>
                  <a:pt x="1396" y="1459"/>
                </a:lnTo>
                <a:lnTo>
                  <a:pt x="1396" y="1474"/>
                </a:lnTo>
                <a:lnTo>
                  <a:pt x="1403" y="1488"/>
                </a:lnTo>
                <a:lnTo>
                  <a:pt x="1403" y="1502"/>
                </a:lnTo>
                <a:lnTo>
                  <a:pt x="1403" y="1516"/>
                </a:lnTo>
                <a:lnTo>
                  <a:pt x="1410" y="1530"/>
                </a:lnTo>
                <a:lnTo>
                  <a:pt x="1410" y="1544"/>
                </a:lnTo>
                <a:lnTo>
                  <a:pt x="1410" y="1559"/>
                </a:lnTo>
                <a:lnTo>
                  <a:pt x="1417" y="1573"/>
                </a:lnTo>
                <a:lnTo>
                  <a:pt x="1417" y="1580"/>
                </a:lnTo>
                <a:lnTo>
                  <a:pt x="1417" y="1594"/>
                </a:lnTo>
                <a:lnTo>
                  <a:pt x="1424" y="1608"/>
                </a:lnTo>
                <a:lnTo>
                  <a:pt x="1424" y="1594"/>
                </a:lnTo>
                <a:lnTo>
                  <a:pt x="1424" y="1587"/>
                </a:lnTo>
                <a:lnTo>
                  <a:pt x="1431" y="1573"/>
                </a:lnTo>
                <a:lnTo>
                  <a:pt x="1431" y="1559"/>
                </a:lnTo>
                <a:lnTo>
                  <a:pt x="1431" y="1544"/>
                </a:lnTo>
                <a:lnTo>
                  <a:pt x="1438" y="1537"/>
                </a:lnTo>
                <a:lnTo>
                  <a:pt x="1438" y="1523"/>
                </a:lnTo>
                <a:lnTo>
                  <a:pt x="1438" y="1516"/>
                </a:lnTo>
                <a:lnTo>
                  <a:pt x="1438" y="1502"/>
                </a:lnTo>
                <a:lnTo>
                  <a:pt x="1445" y="1495"/>
                </a:lnTo>
                <a:lnTo>
                  <a:pt x="1445" y="1481"/>
                </a:lnTo>
                <a:lnTo>
                  <a:pt x="1445" y="1474"/>
                </a:lnTo>
                <a:lnTo>
                  <a:pt x="1452" y="1459"/>
                </a:lnTo>
                <a:lnTo>
                  <a:pt x="1452" y="1452"/>
                </a:lnTo>
                <a:lnTo>
                  <a:pt x="1452" y="1445"/>
                </a:lnTo>
                <a:lnTo>
                  <a:pt x="1460" y="1431"/>
                </a:lnTo>
                <a:lnTo>
                  <a:pt x="1460" y="1424"/>
                </a:lnTo>
                <a:lnTo>
                  <a:pt x="1460" y="1417"/>
                </a:lnTo>
                <a:lnTo>
                  <a:pt x="1467" y="1410"/>
                </a:lnTo>
                <a:lnTo>
                  <a:pt x="1467" y="1403"/>
                </a:lnTo>
                <a:lnTo>
                  <a:pt x="1467" y="1389"/>
                </a:lnTo>
                <a:lnTo>
                  <a:pt x="1474" y="1382"/>
                </a:lnTo>
                <a:lnTo>
                  <a:pt x="1474" y="1374"/>
                </a:lnTo>
                <a:lnTo>
                  <a:pt x="1474" y="1367"/>
                </a:lnTo>
                <a:lnTo>
                  <a:pt x="1474" y="1360"/>
                </a:lnTo>
                <a:lnTo>
                  <a:pt x="1481" y="1353"/>
                </a:lnTo>
                <a:lnTo>
                  <a:pt x="1481" y="1346"/>
                </a:lnTo>
                <a:lnTo>
                  <a:pt x="1488" y="1339"/>
                </a:lnTo>
                <a:lnTo>
                  <a:pt x="1488" y="1332"/>
                </a:lnTo>
                <a:lnTo>
                  <a:pt x="1488" y="1325"/>
                </a:lnTo>
                <a:lnTo>
                  <a:pt x="1495" y="1318"/>
                </a:lnTo>
                <a:lnTo>
                  <a:pt x="1495" y="1311"/>
                </a:lnTo>
                <a:lnTo>
                  <a:pt x="1502" y="1304"/>
                </a:lnTo>
                <a:lnTo>
                  <a:pt x="1502" y="1296"/>
                </a:lnTo>
                <a:lnTo>
                  <a:pt x="1509" y="1289"/>
                </a:lnTo>
                <a:lnTo>
                  <a:pt x="1509" y="1282"/>
                </a:lnTo>
                <a:lnTo>
                  <a:pt x="1516" y="1275"/>
                </a:lnTo>
                <a:lnTo>
                  <a:pt x="1523" y="1268"/>
                </a:lnTo>
                <a:lnTo>
                  <a:pt x="1530" y="1261"/>
                </a:lnTo>
                <a:lnTo>
                  <a:pt x="1537" y="1261"/>
                </a:lnTo>
                <a:lnTo>
                  <a:pt x="1545" y="1261"/>
                </a:lnTo>
                <a:lnTo>
                  <a:pt x="1552" y="1261"/>
                </a:lnTo>
                <a:lnTo>
                  <a:pt x="1559" y="1268"/>
                </a:lnTo>
                <a:lnTo>
                  <a:pt x="1566" y="1268"/>
                </a:lnTo>
                <a:lnTo>
                  <a:pt x="1573" y="1275"/>
                </a:lnTo>
                <a:lnTo>
                  <a:pt x="1580" y="1282"/>
                </a:lnTo>
                <a:lnTo>
                  <a:pt x="1587" y="1289"/>
                </a:lnTo>
                <a:lnTo>
                  <a:pt x="1587" y="1296"/>
                </a:lnTo>
                <a:lnTo>
                  <a:pt x="1594" y="1304"/>
                </a:lnTo>
                <a:lnTo>
                  <a:pt x="1594" y="1311"/>
                </a:lnTo>
                <a:lnTo>
                  <a:pt x="1601" y="1318"/>
                </a:lnTo>
                <a:lnTo>
                  <a:pt x="1601" y="1325"/>
                </a:lnTo>
                <a:lnTo>
                  <a:pt x="1608" y="1332"/>
                </a:lnTo>
                <a:lnTo>
                  <a:pt x="1608" y="1339"/>
                </a:lnTo>
                <a:lnTo>
                  <a:pt x="1615" y="1346"/>
                </a:lnTo>
                <a:lnTo>
                  <a:pt x="1615" y="1353"/>
                </a:lnTo>
                <a:lnTo>
                  <a:pt x="1622" y="1360"/>
                </a:lnTo>
                <a:lnTo>
                  <a:pt x="1622" y="1367"/>
                </a:lnTo>
                <a:lnTo>
                  <a:pt x="1622" y="1374"/>
                </a:lnTo>
                <a:lnTo>
                  <a:pt x="1630" y="1382"/>
                </a:lnTo>
                <a:lnTo>
                  <a:pt x="1630" y="1389"/>
                </a:lnTo>
                <a:lnTo>
                  <a:pt x="1630" y="1396"/>
                </a:lnTo>
                <a:lnTo>
                  <a:pt x="1637" y="1403"/>
                </a:lnTo>
                <a:lnTo>
                  <a:pt x="1637" y="1410"/>
                </a:lnTo>
                <a:lnTo>
                  <a:pt x="1644" y="1417"/>
                </a:lnTo>
                <a:lnTo>
                  <a:pt x="1644" y="1424"/>
                </a:lnTo>
                <a:lnTo>
                  <a:pt x="1644" y="1431"/>
                </a:lnTo>
                <a:lnTo>
                  <a:pt x="1651" y="1438"/>
                </a:lnTo>
                <a:lnTo>
                  <a:pt x="1651" y="1445"/>
                </a:lnTo>
                <a:lnTo>
                  <a:pt x="1651" y="1452"/>
                </a:lnTo>
                <a:lnTo>
                  <a:pt x="1658" y="1459"/>
                </a:lnTo>
                <a:lnTo>
                  <a:pt x="1658" y="1467"/>
                </a:lnTo>
                <a:lnTo>
                  <a:pt x="1658" y="1474"/>
                </a:lnTo>
                <a:lnTo>
                  <a:pt x="1665" y="1481"/>
                </a:lnTo>
                <a:lnTo>
                  <a:pt x="1665" y="1488"/>
                </a:lnTo>
                <a:lnTo>
                  <a:pt x="1665" y="1495"/>
                </a:lnTo>
                <a:lnTo>
                  <a:pt x="1672" y="1502"/>
                </a:lnTo>
                <a:lnTo>
                  <a:pt x="1672" y="1509"/>
                </a:lnTo>
                <a:lnTo>
                  <a:pt x="1672" y="1516"/>
                </a:lnTo>
                <a:lnTo>
                  <a:pt x="1679" y="1523"/>
                </a:lnTo>
                <a:lnTo>
                  <a:pt x="1679" y="1530"/>
                </a:lnTo>
                <a:lnTo>
                  <a:pt x="1679" y="1537"/>
                </a:lnTo>
                <a:lnTo>
                  <a:pt x="1686" y="1544"/>
                </a:lnTo>
                <a:lnTo>
                  <a:pt x="1686" y="1552"/>
                </a:lnTo>
                <a:lnTo>
                  <a:pt x="1686" y="1559"/>
                </a:lnTo>
                <a:lnTo>
                  <a:pt x="1693" y="1566"/>
                </a:lnTo>
                <a:lnTo>
                  <a:pt x="1693" y="1573"/>
                </a:lnTo>
                <a:lnTo>
                  <a:pt x="1693" y="1580"/>
                </a:lnTo>
                <a:lnTo>
                  <a:pt x="1700" y="1587"/>
                </a:lnTo>
                <a:lnTo>
                  <a:pt x="1700" y="1594"/>
                </a:lnTo>
                <a:lnTo>
                  <a:pt x="1700" y="1601"/>
                </a:lnTo>
                <a:lnTo>
                  <a:pt x="1708" y="1608"/>
                </a:lnTo>
                <a:lnTo>
                  <a:pt x="1708" y="1601"/>
                </a:lnTo>
                <a:lnTo>
                  <a:pt x="1708" y="1594"/>
                </a:lnTo>
                <a:lnTo>
                  <a:pt x="1715" y="1587"/>
                </a:lnTo>
                <a:lnTo>
                  <a:pt x="1715" y="1580"/>
                </a:lnTo>
                <a:lnTo>
                  <a:pt x="1722" y="1573"/>
                </a:lnTo>
                <a:lnTo>
                  <a:pt x="1722" y="1566"/>
                </a:lnTo>
                <a:lnTo>
                  <a:pt x="1722" y="1559"/>
                </a:lnTo>
                <a:lnTo>
                  <a:pt x="1729" y="1552"/>
                </a:lnTo>
                <a:lnTo>
                  <a:pt x="1729" y="1544"/>
                </a:lnTo>
                <a:lnTo>
                  <a:pt x="1736" y="1537"/>
                </a:lnTo>
                <a:lnTo>
                  <a:pt x="1736" y="1530"/>
                </a:lnTo>
                <a:lnTo>
                  <a:pt x="1736" y="1523"/>
                </a:lnTo>
                <a:lnTo>
                  <a:pt x="1743" y="1516"/>
                </a:lnTo>
                <a:lnTo>
                  <a:pt x="1743" y="1509"/>
                </a:lnTo>
                <a:lnTo>
                  <a:pt x="1750" y="1502"/>
                </a:lnTo>
                <a:lnTo>
                  <a:pt x="1750" y="1495"/>
                </a:lnTo>
                <a:lnTo>
                  <a:pt x="1757" y="1488"/>
                </a:lnTo>
                <a:lnTo>
                  <a:pt x="1757" y="1481"/>
                </a:lnTo>
                <a:lnTo>
                  <a:pt x="1764" y="1474"/>
                </a:lnTo>
                <a:lnTo>
                  <a:pt x="1764" y="1467"/>
                </a:lnTo>
                <a:lnTo>
                  <a:pt x="1771" y="1459"/>
                </a:lnTo>
                <a:lnTo>
                  <a:pt x="1771" y="1452"/>
                </a:lnTo>
                <a:lnTo>
                  <a:pt x="1778" y="1445"/>
                </a:lnTo>
                <a:lnTo>
                  <a:pt x="1785" y="1438"/>
                </a:lnTo>
                <a:lnTo>
                  <a:pt x="1793" y="1431"/>
                </a:lnTo>
                <a:lnTo>
                  <a:pt x="1800" y="1424"/>
                </a:lnTo>
                <a:lnTo>
                  <a:pt x="1807" y="1417"/>
                </a:lnTo>
                <a:lnTo>
                  <a:pt x="1814" y="1410"/>
                </a:lnTo>
                <a:lnTo>
                  <a:pt x="1821" y="1403"/>
                </a:lnTo>
                <a:lnTo>
                  <a:pt x="1828" y="1403"/>
                </a:lnTo>
                <a:lnTo>
                  <a:pt x="1835" y="1403"/>
                </a:lnTo>
                <a:lnTo>
                  <a:pt x="1842" y="1403"/>
                </a:lnTo>
                <a:lnTo>
                  <a:pt x="1849" y="1403"/>
                </a:lnTo>
                <a:lnTo>
                  <a:pt x="1856" y="1410"/>
                </a:lnTo>
                <a:lnTo>
                  <a:pt x="1863" y="1410"/>
                </a:lnTo>
                <a:lnTo>
                  <a:pt x="1871" y="1417"/>
                </a:lnTo>
                <a:lnTo>
                  <a:pt x="1878" y="1424"/>
                </a:lnTo>
                <a:lnTo>
                  <a:pt x="1885" y="1431"/>
                </a:lnTo>
                <a:lnTo>
                  <a:pt x="1892" y="1438"/>
                </a:lnTo>
                <a:lnTo>
                  <a:pt x="1899" y="1445"/>
                </a:lnTo>
                <a:lnTo>
                  <a:pt x="1906" y="1452"/>
                </a:lnTo>
                <a:lnTo>
                  <a:pt x="1913" y="1459"/>
                </a:lnTo>
                <a:lnTo>
                  <a:pt x="1913" y="1467"/>
                </a:lnTo>
                <a:lnTo>
                  <a:pt x="1920" y="1474"/>
                </a:lnTo>
                <a:lnTo>
                  <a:pt x="1920" y="1481"/>
                </a:lnTo>
                <a:lnTo>
                  <a:pt x="1927" y="1488"/>
                </a:lnTo>
                <a:lnTo>
                  <a:pt x="1927" y="1495"/>
                </a:lnTo>
                <a:lnTo>
                  <a:pt x="1934" y="1502"/>
                </a:lnTo>
                <a:lnTo>
                  <a:pt x="1941" y="1509"/>
                </a:lnTo>
                <a:lnTo>
                  <a:pt x="1941" y="1516"/>
                </a:lnTo>
                <a:lnTo>
                  <a:pt x="1948" y="1523"/>
                </a:lnTo>
                <a:lnTo>
                  <a:pt x="1948" y="1530"/>
                </a:lnTo>
                <a:lnTo>
                  <a:pt x="1956" y="1537"/>
                </a:lnTo>
                <a:lnTo>
                  <a:pt x="1956" y="1544"/>
                </a:lnTo>
                <a:lnTo>
                  <a:pt x="1963" y="1552"/>
                </a:lnTo>
                <a:lnTo>
                  <a:pt x="1963" y="1559"/>
                </a:lnTo>
                <a:lnTo>
                  <a:pt x="1970" y="1566"/>
                </a:lnTo>
                <a:lnTo>
                  <a:pt x="1970" y="1573"/>
                </a:lnTo>
                <a:lnTo>
                  <a:pt x="1977" y="1580"/>
                </a:lnTo>
                <a:lnTo>
                  <a:pt x="1977" y="1587"/>
                </a:lnTo>
                <a:lnTo>
                  <a:pt x="1984" y="1594"/>
                </a:lnTo>
                <a:lnTo>
                  <a:pt x="1991" y="1601"/>
                </a:lnTo>
                <a:lnTo>
                  <a:pt x="1991" y="1608"/>
                </a:lnTo>
                <a:lnTo>
                  <a:pt x="1998" y="1601"/>
                </a:lnTo>
                <a:lnTo>
                  <a:pt x="1998" y="1594"/>
                </a:lnTo>
                <a:lnTo>
                  <a:pt x="2005" y="1587"/>
                </a:lnTo>
                <a:lnTo>
                  <a:pt x="2005" y="1580"/>
                </a:lnTo>
                <a:lnTo>
                  <a:pt x="2012" y="1573"/>
                </a:lnTo>
                <a:lnTo>
                  <a:pt x="2012" y="1566"/>
                </a:lnTo>
                <a:lnTo>
                  <a:pt x="2019" y="1559"/>
                </a:lnTo>
                <a:lnTo>
                  <a:pt x="2026" y="1552"/>
                </a:lnTo>
                <a:lnTo>
                  <a:pt x="2026" y="1544"/>
                </a:lnTo>
                <a:lnTo>
                  <a:pt x="2034" y="1537"/>
                </a:lnTo>
                <a:lnTo>
                  <a:pt x="2034" y="1530"/>
                </a:lnTo>
                <a:lnTo>
                  <a:pt x="2041" y="1523"/>
                </a:lnTo>
                <a:lnTo>
                  <a:pt x="2048" y="1516"/>
                </a:lnTo>
                <a:lnTo>
                  <a:pt x="2055" y="1509"/>
                </a:lnTo>
                <a:lnTo>
                  <a:pt x="2062" y="1502"/>
                </a:lnTo>
                <a:lnTo>
                  <a:pt x="2069" y="1495"/>
                </a:lnTo>
                <a:lnTo>
                  <a:pt x="2069" y="1488"/>
                </a:lnTo>
                <a:lnTo>
                  <a:pt x="2076" y="1481"/>
                </a:lnTo>
                <a:lnTo>
                  <a:pt x="2083" y="1474"/>
                </a:lnTo>
                <a:lnTo>
                  <a:pt x="2090" y="1474"/>
                </a:lnTo>
                <a:lnTo>
                  <a:pt x="2097" y="1467"/>
                </a:lnTo>
                <a:lnTo>
                  <a:pt x="2104" y="1467"/>
                </a:lnTo>
                <a:lnTo>
                  <a:pt x="2111" y="1459"/>
                </a:lnTo>
                <a:lnTo>
                  <a:pt x="2119" y="1459"/>
                </a:lnTo>
                <a:lnTo>
                  <a:pt x="2126" y="1459"/>
                </a:lnTo>
                <a:lnTo>
                  <a:pt x="2133" y="1459"/>
                </a:lnTo>
                <a:lnTo>
                  <a:pt x="2140" y="1467"/>
                </a:lnTo>
                <a:lnTo>
                  <a:pt x="2147" y="1467"/>
                </a:lnTo>
                <a:lnTo>
                  <a:pt x="2154" y="1474"/>
                </a:lnTo>
                <a:lnTo>
                  <a:pt x="2161" y="1474"/>
                </a:lnTo>
                <a:lnTo>
                  <a:pt x="2168" y="1481"/>
                </a:lnTo>
                <a:lnTo>
                  <a:pt x="2175" y="1488"/>
                </a:lnTo>
                <a:lnTo>
                  <a:pt x="2182" y="1495"/>
                </a:lnTo>
                <a:lnTo>
                  <a:pt x="2189" y="1502"/>
                </a:lnTo>
                <a:lnTo>
                  <a:pt x="2197" y="1509"/>
                </a:lnTo>
                <a:lnTo>
                  <a:pt x="2204" y="1516"/>
                </a:lnTo>
                <a:lnTo>
                  <a:pt x="2211" y="1523"/>
                </a:lnTo>
                <a:lnTo>
                  <a:pt x="2218" y="1530"/>
                </a:lnTo>
                <a:lnTo>
                  <a:pt x="2225" y="1537"/>
                </a:lnTo>
                <a:lnTo>
                  <a:pt x="2232" y="1544"/>
                </a:lnTo>
                <a:lnTo>
                  <a:pt x="2239" y="1552"/>
                </a:lnTo>
                <a:lnTo>
                  <a:pt x="2239" y="1559"/>
                </a:lnTo>
                <a:lnTo>
                  <a:pt x="2246" y="1566"/>
                </a:lnTo>
                <a:lnTo>
                  <a:pt x="2253" y="1573"/>
                </a:lnTo>
                <a:lnTo>
                  <a:pt x="2253" y="1580"/>
                </a:lnTo>
                <a:lnTo>
                  <a:pt x="2260" y="1587"/>
                </a:lnTo>
                <a:lnTo>
                  <a:pt x="2267" y="1594"/>
                </a:lnTo>
                <a:lnTo>
                  <a:pt x="2267" y="1601"/>
                </a:lnTo>
                <a:lnTo>
                  <a:pt x="2274" y="1608"/>
                </a:lnTo>
              </a:path>
            </a:pathLst>
          </a:custGeom>
          <a:noFill/>
          <a:ln w="0">
            <a:solidFill>
              <a:srgbClr val="cc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791320" y="2889360"/>
            <a:ext cx="380880" cy="2819160"/>
          </a:xfrm>
          <a:custGeom>
            <a:avLst/>
            <a:gdLst/>
            <a:ahLst/>
            <a:rect l="l" t="t" r="r" b="b"/>
            <a:pathLst>
              <a:path w="2274" h="1608">
                <a:moveTo>
                  <a:pt x="0" y="1608"/>
                </a:moveTo>
                <a:lnTo>
                  <a:pt x="7" y="1601"/>
                </a:lnTo>
                <a:lnTo>
                  <a:pt x="14" y="1594"/>
                </a:lnTo>
                <a:lnTo>
                  <a:pt x="14" y="1587"/>
                </a:lnTo>
                <a:lnTo>
                  <a:pt x="21" y="1580"/>
                </a:lnTo>
                <a:lnTo>
                  <a:pt x="28" y="1573"/>
                </a:lnTo>
                <a:lnTo>
                  <a:pt x="28" y="1566"/>
                </a:lnTo>
                <a:lnTo>
                  <a:pt x="35" y="1559"/>
                </a:lnTo>
                <a:lnTo>
                  <a:pt x="42" y="1552"/>
                </a:lnTo>
                <a:lnTo>
                  <a:pt x="49" y="1544"/>
                </a:lnTo>
                <a:lnTo>
                  <a:pt x="49" y="1537"/>
                </a:lnTo>
                <a:lnTo>
                  <a:pt x="56" y="1530"/>
                </a:lnTo>
                <a:lnTo>
                  <a:pt x="63" y="1523"/>
                </a:lnTo>
                <a:lnTo>
                  <a:pt x="71" y="1516"/>
                </a:lnTo>
                <a:lnTo>
                  <a:pt x="78" y="1509"/>
                </a:lnTo>
                <a:lnTo>
                  <a:pt x="85" y="1502"/>
                </a:lnTo>
                <a:lnTo>
                  <a:pt x="92" y="1495"/>
                </a:lnTo>
                <a:lnTo>
                  <a:pt x="99" y="1488"/>
                </a:lnTo>
                <a:lnTo>
                  <a:pt x="106" y="1481"/>
                </a:lnTo>
                <a:lnTo>
                  <a:pt x="113" y="1474"/>
                </a:lnTo>
                <a:lnTo>
                  <a:pt x="120" y="1467"/>
                </a:lnTo>
                <a:lnTo>
                  <a:pt x="127" y="1467"/>
                </a:lnTo>
                <a:lnTo>
                  <a:pt x="134" y="1459"/>
                </a:lnTo>
                <a:lnTo>
                  <a:pt x="141" y="1459"/>
                </a:lnTo>
                <a:lnTo>
                  <a:pt x="148" y="1459"/>
                </a:lnTo>
                <a:lnTo>
                  <a:pt x="156" y="1459"/>
                </a:lnTo>
                <a:lnTo>
                  <a:pt x="163" y="1467"/>
                </a:lnTo>
                <a:lnTo>
                  <a:pt x="170" y="1467"/>
                </a:lnTo>
                <a:lnTo>
                  <a:pt x="177" y="1467"/>
                </a:lnTo>
                <a:lnTo>
                  <a:pt x="184" y="1474"/>
                </a:lnTo>
                <a:lnTo>
                  <a:pt x="191" y="1481"/>
                </a:lnTo>
                <a:lnTo>
                  <a:pt x="198" y="1481"/>
                </a:lnTo>
                <a:lnTo>
                  <a:pt x="205" y="1488"/>
                </a:lnTo>
                <a:lnTo>
                  <a:pt x="212" y="1495"/>
                </a:lnTo>
                <a:lnTo>
                  <a:pt x="219" y="1502"/>
                </a:lnTo>
                <a:lnTo>
                  <a:pt x="226" y="1509"/>
                </a:lnTo>
                <a:lnTo>
                  <a:pt x="234" y="1516"/>
                </a:lnTo>
                <a:lnTo>
                  <a:pt x="234" y="1523"/>
                </a:lnTo>
                <a:lnTo>
                  <a:pt x="241" y="1530"/>
                </a:lnTo>
                <a:lnTo>
                  <a:pt x="241" y="1537"/>
                </a:lnTo>
                <a:lnTo>
                  <a:pt x="248" y="1544"/>
                </a:lnTo>
                <a:lnTo>
                  <a:pt x="255" y="1552"/>
                </a:lnTo>
                <a:lnTo>
                  <a:pt x="255" y="1559"/>
                </a:lnTo>
                <a:lnTo>
                  <a:pt x="262" y="1566"/>
                </a:lnTo>
                <a:lnTo>
                  <a:pt x="269" y="1573"/>
                </a:lnTo>
                <a:lnTo>
                  <a:pt x="269" y="1580"/>
                </a:lnTo>
                <a:lnTo>
                  <a:pt x="276" y="1587"/>
                </a:lnTo>
                <a:lnTo>
                  <a:pt x="276" y="1594"/>
                </a:lnTo>
                <a:lnTo>
                  <a:pt x="283" y="1601"/>
                </a:lnTo>
                <a:lnTo>
                  <a:pt x="283" y="1608"/>
                </a:lnTo>
                <a:lnTo>
                  <a:pt x="290" y="1601"/>
                </a:lnTo>
                <a:lnTo>
                  <a:pt x="290" y="1594"/>
                </a:lnTo>
                <a:lnTo>
                  <a:pt x="297" y="1587"/>
                </a:lnTo>
                <a:lnTo>
                  <a:pt x="297" y="1580"/>
                </a:lnTo>
                <a:lnTo>
                  <a:pt x="304" y="1573"/>
                </a:lnTo>
                <a:lnTo>
                  <a:pt x="304" y="1566"/>
                </a:lnTo>
                <a:lnTo>
                  <a:pt x="311" y="1559"/>
                </a:lnTo>
                <a:lnTo>
                  <a:pt x="319" y="1552"/>
                </a:lnTo>
                <a:lnTo>
                  <a:pt x="319" y="1544"/>
                </a:lnTo>
                <a:lnTo>
                  <a:pt x="319" y="1537"/>
                </a:lnTo>
                <a:lnTo>
                  <a:pt x="326" y="1530"/>
                </a:lnTo>
                <a:lnTo>
                  <a:pt x="326" y="1523"/>
                </a:lnTo>
                <a:lnTo>
                  <a:pt x="333" y="1516"/>
                </a:lnTo>
                <a:lnTo>
                  <a:pt x="340" y="1509"/>
                </a:lnTo>
                <a:lnTo>
                  <a:pt x="340" y="1502"/>
                </a:lnTo>
                <a:lnTo>
                  <a:pt x="347" y="1495"/>
                </a:lnTo>
                <a:lnTo>
                  <a:pt x="347" y="1488"/>
                </a:lnTo>
                <a:lnTo>
                  <a:pt x="354" y="1481"/>
                </a:lnTo>
                <a:lnTo>
                  <a:pt x="354" y="1474"/>
                </a:lnTo>
                <a:lnTo>
                  <a:pt x="361" y="1467"/>
                </a:lnTo>
                <a:lnTo>
                  <a:pt x="368" y="1459"/>
                </a:lnTo>
                <a:lnTo>
                  <a:pt x="375" y="1452"/>
                </a:lnTo>
                <a:lnTo>
                  <a:pt x="375" y="1445"/>
                </a:lnTo>
                <a:lnTo>
                  <a:pt x="382" y="1438"/>
                </a:lnTo>
                <a:lnTo>
                  <a:pt x="389" y="1431"/>
                </a:lnTo>
                <a:lnTo>
                  <a:pt x="397" y="1424"/>
                </a:lnTo>
                <a:lnTo>
                  <a:pt x="404" y="1417"/>
                </a:lnTo>
                <a:lnTo>
                  <a:pt x="411" y="1410"/>
                </a:lnTo>
                <a:lnTo>
                  <a:pt x="418" y="1403"/>
                </a:lnTo>
                <a:lnTo>
                  <a:pt x="425" y="1403"/>
                </a:lnTo>
                <a:lnTo>
                  <a:pt x="432" y="1403"/>
                </a:lnTo>
                <a:lnTo>
                  <a:pt x="439" y="1403"/>
                </a:lnTo>
                <a:lnTo>
                  <a:pt x="446" y="1403"/>
                </a:lnTo>
                <a:lnTo>
                  <a:pt x="453" y="1403"/>
                </a:lnTo>
                <a:lnTo>
                  <a:pt x="460" y="1410"/>
                </a:lnTo>
                <a:lnTo>
                  <a:pt x="467" y="1417"/>
                </a:lnTo>
                <a:lnTo>
                  <a:pt x="474" y="1424"/>
                </a:lnTo>
                <a:lnTo>
                  <a:pt x="482" y="1431"/>
                </a:lnTo>
                <a:lnTo>
                  <a:pt x="489" y="1438"/>
                </a:lnTo>
                <a:lnTo>
                  <a:pt x="496" y="1445"/>
                </a:lnTo>
                <a:lnTo>
                  <a:pt x="503" y="1452"/>
                </a:lnTo>
                <a:lnTo>
                  <a:pt x="503" y="1459"/>
                </a:lnTo>
                <a:lnTo>
                  <a:pt x="510" y="1467"/>
                </a:lnTo>
                <a:lnTo>
                  <a:pt x="510" y="1474"/>
                </a:lnTo>
                <a:lnTo>
                  <a:pt x="517" y="1481"/>
                </a:lnTo>
                <a:lnTo>
                  <a:pt x="517" y="1488"/>
                </a:lnTo>
                <a:lnTo>
                  <a:pt x="524" y="1495"/>
                </a:lnTo>
                <a:lnTo>
                  <a:pt x="524" y="1502"/>
                </a:lnTo>
                <a:lnTo>
                  <a:pt x="531" y="1509"/>
                </a:lnTo>
                <a:lnTo>
                  <a:pt x="531" y="1516"/>
                </a:lnTo>
                <a:lnTo>
                  <a:pt x="538" y="1523"/>
                </a:lnTo>
                <a:lnTo>
                  <a:pt x="538" y="1530"/>
                </a:lnTo>
                <a:lnTo>
                  <a:pt x="538" y="1537"/>
                </a:lnTo>
                <a:lnTo>
                  <a:pt x="545" y="1544"/>
                </a:lnTo>
                <a:lnTo>
                  <a:pt x="545" y="1552"/>
                </a:lnTo>
                <a:lnTo>
                  <a:pt x="552" y="1559"/>
                </a:lnTo>
                <a:lnTo>
                  <a:pt x="552" y="1566"/>
                </a:lnTo>
                <a:lnTo>
                  <a:pt x="552" y="1573"/>
                </a:lnTo>
                <a:lnTo>
                  <a:pt x="560" y="1580"/>
                </a:lnTo>
                <a:lnTo>
                  <a:pt x="560" y="1587"/>
                </a:lnTo>
                <a:lnTo>
                  <a:pt x="567" y="1594"/>
                </a:lnTo>
                <a:lnTo>
                  <a:pt x="567" y="1601"/>
                </a:lnTo>
                <a:lnTo>
                  <a:pt x="567" y="1608"/>
                </a:lnTo>
                <a:lnTo>
                  <a:pt x="574" y="1601"/>
                </a:lnTo>
                <a:lnTo>
                  <a:pt x="574" y="1594"/>
                </a:lnTo>
                <a:lnTo>
                  <a:pt x="574" y="1587"/>
                </a:lnTo>
                <a:lnTo>
                  <a:pt x="581" y="1580"/>
                </a:lnTo>
                <a:lnTo>
                  <a:pt x="581" y="1573"/>
                </a:lnTo>
                <a:lnTo>
                  <a:pt x="581" y="1566"/>
                </a:lnTo>
                <a:lnTo>
                  <a:pt x="588" y="1559"/>
                </a:lnTo>
                <a:lnTo>
                  <a:pt x="588" y="1552"/>
                </a:lnTo>
                <a:lnTo>
                  <a:pt x="588" y="1544"/>
                </a:lnTo>
                <a:lnTo>
                  <a:pt x="595" y="1537"/>
                </a:lnTo>
                <a:lnTo>
                  <a:pt x="595" y="1530"/>
                </a:lnTo>
                <a:lnTo>
                  <a:pt x="595" y="1523"/>
                </a:lnTo>
                <a:lnTo>
                  <a:pt x="602" y="1516"/>
                </a:lnTo>
                <a:lnTo>
                  <a:pt x="602" y="1509"/>
                </a:lnTo>
                <a:lnTo>
                  <a:pt x="602" y="1502"/>
                </a:lnTo>
                <a:lnTo>
                  <a:pt x="609" y="1495"/>
                </a:lnTo>
                <a:lnTo>
                  <a:pt x="609" y="1488"/>
                </a:lnTo>
                <a:lnTo>
                  <a:pt x="616" y="1481"/>
                </a:lnTo>
                <a:lnTo>
                  <a:pt x="616" y="1474"/>
                </a:lnTo>
                <a:lnTo>
                  <a:pt x="616" y="1467"/>
                </a:lnTo>
                <a:lnTo>
                  <a:pt x="616" y="1459"/>
                </a:lnTo>
                <a:lnTo>
                  <a:pt x="623" y="1452"/>
                </a:lnTo>
                <a:lnTo>
                  <a:pt x="623" y="1445"/>
                </a:lnTo>
                <a:lnTo>
                  <a:pt x="623" y="1438"/>
                </a:lnTo>
                <a:lnTo>
                  <a:pt x="630" y="1431"/>
                </a:lnTo>
                <a:lnTo>
                  <a:pt x="630" y="1424"/>
                </a:lnTo>
                <a:lnTo>
                  <a:pt x="637" y="1417"/>
                </a:lnTo>
                <a:lnTo>
                  <a:pt x="637" y="1410"/>
                </a:lnTo>
                <a:lnTo>
                  <a:pt x="637" y="1403"/>
                </a:lnTo>
                <a:lnTo>
                  <a:pt x="645" y="1396"/>
                </a:lnTo>
                <a:lnTo>
                  <a:pt x="645" y="1389"/>
                </a:lnTo>
                <a:lnTo>
                  <a:pt x="652" y="1382"/>
                </a:lnTo>
                <a:lnTo>
                  <a:pt x="652" y="1374"/>
                </a:lnTo>
                <a:lnTo>
                  <a:pt x="652" y="1367"/>
                </a:lnTo>
                <a:lnTo>
                  <a:pt x="652" y="1360"/>
                </a:lnTo>
                <a:lnTo>
                  <a:pt x="659" y="1353"/>
                </a:lnTo>
                <a:lnTo>
                  <a:pt x="659" y="1346"/>
                </a:lnTo>
                <a:lnTo>
                  <a:pt x="666" y="1339"/>
                </a:lnTo>
                <a:lnTo>
                  <a:pt x="666" y="1332"/>
                </a:lnTo>
                <a:lnTo>
                  <a:pt x="673" y="1325"/>
                </a:lnTo>
                <a:lnTo>
                  <a:pt x="673" y="1318"/>
                </a:lnTo>
                <a:lnTo>
                  <a:pt x="680" y="1311"/>
                </a:lnTo>
                <a:lnTo>
                  <a:pt x="687" y="1304"/>
                </a:lnTo>
                <a:lnTo>
                  <a:pt x="687" y="1296"/>
                </a:lnTo>
                <a:lnTo>
                  <a:pt x="694" y="1289"/>
                </a:lnTo>
                <a:lnTo>
                  <a:pt x="694" y="1282"/>
                </a:lnTo>
                <a:lnTo>
                  <a:pt x="701" y="1275"/>
                </a:lnTo>
                <a:lnTo>
                  <a:pt x="708" y="1268"/>
                </a:lnTo>
                <a:lnTo>
                  <a:pt x="715" y="1261"/>
                </a:lnTo>
                <a:lnTo>
                  <a:pt x="723" y="1261"/>
                </a:lnTo>
                <a:lnTo>
                  <a:pt x="730" y="1261"/>
                </a:lnTo>
                <a:lnTo>
                  <a:pt x="737" y="1261"/>
                </a:lnTo>
                <a:lnTo>
                  <a:pt x="744" y="1261"/>
                </a:lnTo>
                <a:lnTo>
                  <a:pt x="751" y="1268"/>
                </a:lnTo>
                <a:lnTo>
                  <a:pt x="758" y="1275"/>
                </a:lnTo>
                <a:lnTo>
                  <a:pt x="765" y="1282"/>
                </a:lnTo>
                <a:lnTo>
                  <a:pt x="765" y="1289"/>
                </a:lnTo>
                <a:lnTo>
                  <a:pt x="772" y="1296"/>
                </a:lnTo>
                <a:lnTo>
                  <a:pt x="772" y="1304"/>
                </a:lnTo>
                <a:lnTo>
                  <a:pt x="779" y="1311"/>
                </a:lnTo>
                <a:lnTo>
                  <a:pt x="779" y="1318"/>
                </a:lnTo>
                <a:lnTo>
                  <a:pt x="786" y="1325"/>
                </a:lnTo>
                <a:lnTo>
                  <a:pt x="786" y="1332"/>
                </a:lnTo>
                <a:lnTo>
                  <a:pt x="793" y="1339"/>
                </a:lnTo>
                <a:lnTo>
                  <a:pt x="793" y="1346"/>
                </a:lnTo>
                <a:lnTo>
                  <a:pt x="793" y="1353"/>
                </a:lnTo>
                <a:lnTo>
                  <a:pt x="800" y="1360"/>
                </a:lnTo>
                <a:lnTo>
                  <a:pt x="800" y="1367"/>
                </a:lnTo>
                <a:lnTo>
                  <a:pt x="800" y="1374"/>
                </a:lnTo>
                <a:lnTo>
                  <a:pt x="800" y="1382"/>
                </a:lnTo>
                <a:lnTo>
                  <a:pt x="808" y="1389"/>
                </a:lnTo>
                <a:lnTo>
                  <a:pt x="808" y="1403"/>
                </a:lnTo>
                <a:lnTo>
                  <a:pt x="808" y="1410"/>
                </a:lnTo>
                <a:lnTo>
                  <a:pt x="815" y="1417"/>
                </a:lnTo>
                <a:lnTo>
                  <a:pt x="815" y="1424"/>
                </a:lnTo>
                <a:lnTo>
                  <a:pt x="815" y="1431"/>
                </a:lnTo>
                <a:lnTo>
                  <a:pt x="822" y="1445"/>
                </a:lnTo>
                <a:lnTo>
                  <a:pt x="822" y="1452"/>
                </a:lnTo>
                <a:lnTo>
                  <a:pt x="822" y="1459"/>
                </a:lnTo>
                <a:lnTo>
                  <a:pt x="829" y="1474"/>
                </a:lnTo>
                <a:lnTo>
                  <a:pt x="829" y="1481"/>
                </a:lnTo>
                <a:lnTo>
                  <a:pt x="829" y="1495"/>
                </a:lnTo>
                <a:lnTo>
                  <a:pt x="836" y="1502"/>
                </a:lnTo>
                <a:lnTo>
                  <a:pt x="836" y="1516"/>
                </a:lnTo>
                <a:lnTo>
                  <a:pt x="836" y="1523"/>
                </a:lnTo>
                <a:lnTo>
                  <a:pt x="836" y="1537"/>
                </a:lnTo>
                <a:lnTo>
                  <a:pt x="843" y="1544"/>
                </a:lnTo>
                <a:lnTo>
                  <a:pt x="843" y="1559"/>
                </a:lnTo>
                <a:lnTo>
                  <a:pt x="843" y="1573"/>
                </a:lnTo>
                <a:lnTo>
                  <a:pt x="850" y="1587"/>
                </a:lnTo>
                <a:lnTo>
                  <a:pt x="850" y="1594"/>
                </a:lnTo>
                <a:lnTo>
                  <a:pt x="850" y="1608"/>
                </a:lnTo>
                <a:lnTo>
                  <a:pt x="857" y="1594"/>
                </a:lnTo>
                <a:lnTo>
                  <a:pt x="857" y="1580"/>
                </a:lnTo>
                <a:lnTo>
                  <a:pt x="857" y="1573"/>
                </a:lnTo>
                <a:lnTo>
                  <a:pt x="864" y="1559"/>
                </a:lnTo>
                <a:lnTo>
                  <a:pt x="864" y="1544"/>
                </a:lnTo>
                <a:lnTo>
                  <a:pt x="864" y="1530"/>
                </a:lnTo>
                <a:lnTo>
                  <a:pt x="871" y="1516"/>
                </a:lnTo>
                <a:lnTo>
                  <a:pt x="871" y="1502"/>
                </a:lnTo>
                <a:lnTo>
                  <a:pt x="871" y="1488"/>
                </a:lnTo>
                <a:lnTo>
                  <a:pt x="878" y="1474"/>
                </a:lnTo>
                <a:lnTo>
                  <a:pt x="878" y="1459"/>
                </a:lnTo>
                <a:lnTo>
                  <a:pt x="878" y="1445"/>
                </a:lnTo>
                <a:lnTo>
                  <a:pt x="878" y="1431"/>
                </a:lnTo>
                <a:lnTo>
                  <a:pt x="885" y="1417"/>
                </a:lnTo>
                <a:lnTo>
                  <a:pt x="885" y="1403"/>
                </a:lnTo>
                <a:lnTo>
                  <a:pt x="885" y="1382"/>
                </a:lnTo>
                <a:lnTo>
                  <a:pt x="893" y="1367"/>
                </a:lnTo>
                <a:lnTo>
                  <a:pt x="893" y="1353"/>
                </a:lnTo>
                <a:lnTo>
                  <a:pt x="893" y="1339"/>
                </a:lnTo>
                <a:lnTo>
                  <a:pt x="900" y="1325"/>
                </a:lnTo>
                <a:lnTo>
                  <a:pt x="900" y="1304"/>
                </a:lnTo>
                <a:lnTo>
                  <a:pt x="900" y="1289"/>
                </a:lnTo>
                <a:lnTo>
                  <a:pt x="907" y="1275"/>
                </a:lnTo>
                <a:lnTo>
                  <a:pt x="907" y="1261"/>
                </a:lnTo>
                <a:lnTo>
                  <a:pt x="907" y="1240"/>
                </a:lnTo>
                <a:lnTo>
                  <a:pt x="914" y="1226"/>
                </a:lnTo>
                <a:lnTo>
                  <a:pt x="914" y="1211"/>
                </a:lnTo>
                <a:lnTo>
                  <a:pt x="914" y="1190"/>
                </a:lnTo>
                <a:lnTo>
                  <a:pt x="914" y="1176"/>
                </a:lnTo>
                <a:lnTo>
                  <a:pt x="921" y="1162"/>
                </a:lnTo>
                <a:lnTo>
                  <a:pt x="921" y="1141"/>
                </a:lnTo>
                <a:lnTo>
                  <a:pt x="921" y="1126"/>
                </a:lnTo>
                <a:lnTo>
                  <a:pt x="928" y="1105"/>
                </a:lnTo>
                <a:lnTo>
                  <a:pt x="928" y="1091"/>
                </a:lnTo>
                <a:lnTo>
                  <a:pt x="928" y="1077"/>
                </a:lnTo>
                <a:lnTo>
                  <a:pt x="935" y="1056"/>
                </a:lnTo>
                <a:lnTo>
                  <a:pt x="935" y="1041"/>
                </a:lnTo>
                <a:lnTo>
                  <a:pt x="935" y="1020"/>
                </a:lnTo>
                <a:lnTo>
                  <a:pt x="942" y="1006"/>
                </a:lnTo>
                <a:lnTo>
                  <a:pt x="942" y="992"/>
                </a:lnTo>
                <a:lnTo>
                  <a:pt x="942" y="971"/>
                </a:lnTo>
                <a:lnTo>
                  <a:pt x="949" y="956"/>
                </a:lnTo>
                <a:lnTo>
                  <a:pt x="949" y="935"/>
                </a:lnTo>
                <a:lnTo>
                  <a:pt x="949" y="921"/>
                </a:lnTo>
                <a:lnTo>
                  <a:pt x="949" y="900"/>
                </a:lnTo>
                <a:lnTo>
                  <a:pt x="956" y="886"/>
                </a:lnTo>
                <a:lnTo>
                  <a:pt x="956" y="871"/>
                </a:lnTo>
                <a:lnTo>
                  <a:pt x="956" y="850"/>
                </a:lnTo>
                <a:lnTo>
                  <a:pt x="963" y="836"/>
                </a:lnTo>
                <a:lnTo>
                  <a:pt x="963" y="815"/>
                </a:lnTo>
                <a:lnTo>
                  <a:pt x="963" y="800"/>
                </a:lnTo>
                <a:lnTo>
                  <a:pt x="971" y="786"/>
                </a:lnTo>
                <a:lnTo>
                  <a:pt x="971" y="765"/>
                </a:lnTo>
                <a:lnTo>
                  <a:pt x="971" y="751"/>
                </a:lnTo>
                <a:lnTo>
                  <a:pt x="978" y="730"/>
                </a:lnTo>
                <a:lnTo>
                  <a:pt x="978" y="715"/>
                </a:lnTo>
                <a:lnTo>
                  <a:pt x="978" y="701"/>
                </a:lnTo>
                <a:lnTo>
                  <a:pt x="985" y="680"/>
                </a:lnTo>
                <a:lnTo>
                  <a:pt x="985" y="666"/>
                </a:lnTo>
                <a:lnTo>
                  <a:pt x="985" y="652"/>
                </a:lnTo>
                <a:lnTo>
                  <a:pt x="985" y="630"/>
                </a:lnTo>
                <a:lnTo>
                  <a:pt x="992" y="616"/>
                </a:lnTo>
                <a:lnTo>
                  <a:pt x="992" y="602"/>
                </a:lnTo>
                <a:lnTo>
                  <a:pt x="992" y="581"/>
                </a:lnTo>
                <a:lnTo>
                  <a:pt x="999" y="567"/>
                </a:lnTo>
                <a:lnTo>
                  <a:pt x="999" y="552"/>
                </a:lnTo>
                <a:lnTo>
                  <a:pt x="999" y="538"/>
                </a:lnTo>
                <a:lnTo>
                  <a:pt x="1006" y="524"/>
                </a:lnTo>
                <a:lnTo>
                  <a:pt x="1006" y="503"/>
                </a:lnTo>
                <a:lnTo>
                  <a:pt x="1006" y="489"/>
                </a:lnTo>
                <a:lnTo>
                  <a:pt x="1013" y="475"/>
                </a:lnTo>
                <a:lnTo>
                  <a:pt x="1013" y="460"/>
                </a:lnTo>
                <a:lnTo>
                  <a:pt x="1013" y="446"/>
                </a:lnTo>
                <a:lnTo>
                  <a:pt x="1020" y="432"/>
                </a:lnTo>
                <a:lnTo>
                  <a:pt x="1020" y="418"/>
                </a:lnTo>
                <a:lnTo>
                  <a:pt x="1020" y="404"/>
                </a:lnTo>
                <a:lnTo>
                  <a:pt x="1027" y="390"/>
                </a:lnTo>
                <a:lnTo>
                  <a:pt x="1027" y="375"/>
                </a:lnTo>
                <a:lnTo>
                  <a:pt x="1027" y="361"/>
                </a:lnTo>
                <a:lnTo>
                  <a:pt x="1027" y="347"/>
                </a:lnTo>
                <a:lnTo>
                  <a:pt x="1034" y="333"/>
                </a:lnTo>
                <a:lnTo>
                  <a:pt x="1034" y="319"/>
                </a:lnTo>
                <a:lnTo>
                  <a:pt x="1034" y="304"/>
                </a:lnTo>
                <a:lnTo>
                  <a:pt x="1041" y="297"/>
                </a:lnTo>
                <a:lnTo>
                  <a:pt x="1041" y="283"/>
                </a:lnTo>
                <a:lnTo>
                  <a:pt x="1041" y="269"/>
                </a:lnTo>
                <a:lnTo>
                  <a:pt x="1048" y="255"/>
                </a:lnTo>
                <a:lnTo>
                  <a:pt x="1048" y="248"/>
                </a:lnTo>
                <a:lnTo>
                  <a:pt x="1048" y="234"/>
                </a:lnTo>
                <a:lnTo>
                  <a:pt x="1056" y="227"/>
                </a:lnTo>
                <a:lnTo>
                  <a:pt x="1056" y="212"/>
                </a:lnTo>
                <a:lnTo>
                  <a:pt x="1056" y="198"/>
                </a:lnTo>
                <a:lnTo>
                  <a:pt x="1063" y="191"/>
                </a:lnTo>
                <a:lnTo>
                  <a:pt x="1063" y="177"/>
                </a:lnTo>
                <a:lnTo>
                  <a:pt x="1063" y="170"/>
                </a:lnTo>
                <a:lnTo>
                  <a:pt x="1063" y="163"/>
                </a:lnTo>
                <a:lnTo>
                  <a:pt x="1070" y="149"/>
                </a:lnTo>
                <a:lnTo>
                  <a:pt x="1070" y="142"/>
                </a:lnTo>
                <a:lnTo>
                  <a:pt x="1070" y="134"/>
                </a:lnTo>
                <a:lnTo>
                  <a:pt x="1077" y="120"/>
                </a:lnTo>
                <a:lnTo>
                  <a:pt x="1077" y="113"/>
                </a:lnTo>
                <a:lnTo>
                  <a:pt x="1077" y="106"/>
                </a:lnTo>
                <a:lnTo>
                  <a:pt x="1084" y="99"/>
                </a:lnTo>
                <a:lnTo>
                  <a:pt x="1084" y="92"/>
                </a:lnTo>
                <a:lnTo>
                  <a:pt x="1084" y="85"/>
                </a:lnTo>
                <a:lnTo>
                  <a:pt x="1091" y="78"/>
                </a:lnTo>
                <a:lnTo>
                  <a:pt x="1091" y="71"/>
                </a:lnTo>
                <a:lnTo>
                  <a:pt x="1091" y="64"/>
                </a:lnTo>
                <a:lnTo>
                  <a:pt x="1098" y="56"/>
                </a:lnTo>
                <a:lnTo>
                  <a:pt x="1098" y="49"/>
                </a:lnTo>
                <a:lnTo>
                  <a:pt x="1098" y="42"/>
                </a:lnTo>
                <a:lnTo>
                  <a:pt x="1105" y="35"/>
                </a:lnTo>
                <a:lnTo>
                  <a:pt x="1105" y="28"/>
                </a:lnTo>
                <a:lnTo>
                  <a:pt x="1112" y="21"/>
                </a:lnTo>
                <a:lnTo>
                  <a:pt x="1119" y="14"/>
                </a:lnTo>
                <a:lnTo>
                  <a:pt x="1126" y="7"/>
                </a:lnTo>
                <a:lnTo>
                  <a:pt x="1134" y="0"/>
                </a:lnTo>
                <a:lnTo>
                  <a:pt x="1141" y="0"/>
                </a:lnTo>
                <a:lnTo>
                  <a:pt x="1148" y="7"/>
                </a:lnTo>
                <a:lnTo>
                  <a:pt x="1155" y="14"/>
                </a:lnTo>
                <a:lnTo>
                  <a:pt x="1162" y="21"/>
                </a:lnTo>
                <a:lnTo>
                  <a:pt x="1169" y="28"/>
                </a:lnTo>
                <a:lnTo>
                  <a:pt x="1169" y="35"/>
                </a:lnTo>
                <a:lnTo>
                  <a:pt x="1176" y="42"/>
                </a:lnTo>
                <a:lnTo>
                  <a:pt x="1176" y="49"/>
                </a:lnTo>
                <a:lnTo>
                  <a:pt x="1176" y="56"/>
                </a:lnTo>
                <a:lnTo>
                  <a:pt x="1183" y="64"/>
                </a:lnTo>
                <a:lnTo>
                  <a:pt x="1183" y="71"/>
                </a:lnTo>
                <a:lnTo>
                  <a:pt x="1183" y="78"/>
                </a:lnTo>
                <a:lnTo>
                  <a:pt x="1190" y="85"/>
                </a:lnTo>
                <a:lnTo>
                  <a:pt x="1190" y="92"/>
                </a:lnTo>
                <a:lnTo>
                  <a:pt x="1190" y="99"/>
                </a:lnTo>
                <a:lnTo>
                  <a:pt x="1197" y="106"/>
                </a:lnTo>
                <a:lnTo>
                  <a:pt x="1197" y="113"/>
                </a:lnTo>
                <a:lnTo>
                  <a:pt x="1197" y="120"/>
                </a:lnTo>
                <a:lnTo>
                  <a:pt x="1204" y="134"/>
                </a:lnTo>
                <a:lnTo>
                  <a:pt x="1204" y="142"/>
                </a:lnTo>
                <a:lnTo>
                  <a:pt x="1204" y="149"/>
                </a:lnTo>
                <a:lnTo>
                  <a:pt x="1211" y="163"/>
                </a:lnTo>
                <a:lnTo>
                  <a:pt x="1211" y="170"/>
                </a:lnTo>
                <a:lnTo>
                  <a:pt x="1211" y="177"/>
                </a:lnTo>
                <a:lnTo>
                  <a:pt x="1211" y="191"/>
                </a:lnTo>
                <a:lnTo>
                  <a:pt x="1219" y="198"/>
                </a:lnTo>
                <a:lnTo>
                  <a:pt x="1219" y="212"/>
                </a:lnTo>
                <a:lnTo>
                  <a:pt x="1219" y="227"/>
                </a:lnTo>
                <a:lnTo>
                  <a:pt x="1226" y="234"/>
                </a:lnTo>
                <a:lnTo>
                  <a:pt x="1226" y="248"/>
                </a:lnTo>
                <a:lnTo>
                  <a:pt x="1226" y="255"/>
                </a:lnTo>
                <a:lnTo>
                  <a:pt x="1233" y="269"/>
                </a:lnTo>
                <a:lnTo>
                  <a:pt x="1233" y="283"/>
                </a:lnTo>
                <a:lnTo>
                  <a:pt x="1233" y="297"/>
                </a:lnTo>
                <a:lnTo>
                  <a:pt x="1240" y="304"/>
                </a:lnTo>
                <a:lnTo>
                  <a:pt x="1240" y="319"/>
                </a:lnTo>
                <a:lnTo>
                  <a:pt x="1240" y="333"/>
                </a:lnTo>
                <a:lnTo>
                  <a:pt x="1247" y="347"/>
                </a:lnTo>
                <a:lnTo>
                  <a:pt x="1247" y="361"/>
                </a:lnTo>
                <a:lnTo>
                  <a:pt x="1247" y="375"/>
                </a:lnTo>
                <a:lnTo>
                  <a:pt x="1247" y="390"/>
                </a:lnTo>
                <a:lnTo>
                  <a:pt x="1254" y="404"/>
                </a:lnTo>
                <a:lnTo>
                  <a:pt x="1254" y="418"/>
                </a:lnTo>
                <a:lnTo>
                  <a:pt x="1254" y="432"/>
                </a:lnTo>
                <a:lnTo>
                  <a:pt x="1261" y="446"/>
                </a:lnTo>
                <a:lnTo>
                  <a:pt x="1261" y="460"/>
                </a:lnTo>
                <a:lnTo>
                  <a:pt x="1261" y="475"/>
                </a:lnTo>
                <a:lnTo>
                  <a:pt x="1268" y="489"/>
                </a:lnTo>
                <a:lnTo>
                  <a:pt x="1268" y="503"/>
                </a:lnTo>
                <a:lnTo>
                  <a:pt x="1268" y="524"/>
                </a:lnTo>
                <a:lnTo>
                  <a:pt x="1275" y="538"/>
                </a:lnTo>
                <a:lnTo>
                  <a:pt x="1275" y="552"/>
                </a:lnTo>
                <a:lnTo>
                  <a:pt x="1275" y="567"/>
                </a:lnTo>
                <a:lnTo>
                  <a:pt x="1282" y="581"/>
                </a:lnTo>
                <a:lnTo>
                  <a:pt x="1282" y="602"/>
                </a:lnTo>
                <a:lnTo>
                  <a:pt x="1282" y="616"/>
                </a:lnTo>
                <a:lnTo>
                  <a:pt x="1289" y="630"/>
                </a:lnTo>
                <a:lnTo>
                  <a:pt x="1289" y="652"/>
                </a:lnTo>
                <a:lnTo>
                  <a:pt x="1289" y="666"/>
                </a:lnTo>
                <a:lnTo>
                  <a:pt x="1289" y="680"/>
                </a:lnTo>
                <a:lnTo>
                  <a:pt x="1297" y="701"/>
                </a:lnTo>
                <a:lnTo>
                  <a:pt x="1297" y="715"/>
                </a:lnTo>
                <a:lnTo>
                  <a:pt x="1297" y="730"/>
                </a:lnTo>
                <a:lnTo>
                  <a:pt x="1304" y="751"/>
                </a:lnTo>
                <a:lnTo>
                  <a:pt x="1304" y="765"/>
                </a:lnTo>
                <a:lnTo>
                  <a:pt x="1304" y="786"/>
                </a:lnTo>
                <a:lnTo>
                  <a:pt x="1311" y="800"/>
                </a:lnTo>
                <a:lnTo>
                  <a:pt x="1311" y="815"/>
                </a:lnTo>
                <a:lnTo>
                  <a:pt x="1311" y="836"/>
                </a:lnTo>
                <a:lnTo>
                  <a:pt x="1318" y="850"/>
                </a:lnTo>
                <a:lnTo>
                  <a:pt x="1318" y="871"/>
                </a:lnTo>
                <a:lnTo>
                  <a:pt x="1318" y="886"/>
                </a:lnTo>
                <a:lnTo>
                  <a:pt x="1325" y="900"/>
                </a:lnTo>
                <a:lnTo>
                  <a:pt x="1325" y="921"/>
                </a:lnTo>
                <a:lnTo>
                  <a:pt x="1325" y="935"/>
                </a:lnTo>
                <a:lnTo>
                  <a:pt x="1325" y="956"/>
                </a:lnTo>
                <a:lnTo>
                  <a:pt x="1332" y="971"/>
                </a:lnTo>
                <a:lnTo>
                  <a:pt x="1332" y="992"/>
                </a:lnTo>
                <a:lnTo>
                  <a:pt x="1332" y="1006"/>
                </a:lnTo>
                <a:lnTo>
                  <a:pt x="1339" y="1020"/>
                </a:lnTo>
                <a:lnTo>
                  <a:pt x="1339" y="1041"/>
                </a:lnTo>
                <a:lnTo>
                  <a:pt x="1339" y="1056"/>
                </a:lnTo>
                <a:lnTo>
                  <a:pt x="1346" y="1077"/>
                </a:lnTo>
                <a:lnTo>
                  <a:pt x="1346" y="1091"/>
                </a:lnTo>
                <a:lnTo>
                  <a:pt x="1346" y="1105"/>
                </a:lnTo>
                <a:lnTo>
                  <a:pt x="1353" y="1126"/>
                </a:lnTo>
                <a:lnTo>
                  <a:pt x="1353" y="1141"/>
                </a:lnTo>
                <a:lnTo>
                  <a:pt x="1353" y="1162"/>
                </a:lnTo>
                <a:lnTo>
                  <a:pt x="1360" y="1176"/>
                </a:lnTo>
                <a:lnTo>
                  <a:pt x="1360" y="1190"/>
                </a:lnTo>
                <a:lnTo>
                  <a:pt x="1360" y="1211"/>
                </a:lnTo>
                <a:lnTo>
                  <a:pt x="1360" y="1226"/>
                </a:lnTo>
                <a:lnTo>
                  <a:pt x="1367" y="1240"/>
                </a:lnTo>
                <a:lnTo>
                  <a:pt x="1367" y="1261"/>
                </a:lnTo>
                <a:lnTo>
                  <a:pt x="1367" y="1275"/>
                </a:lnTo>
                <a:lnTo>
                  <a:pt x="1374" y="1289"/>
                </a:lnTo>
                <a:lnTo>
                  <a:pt x="1374" y="1304"/>
                </a:lnTo>
                <a:lnTo>
                  <a:pt x="1374" y="1325"/>
                </a:lnTo>
                <a:lnTo>
                  <a:pt x="1382" y="1339"/>
                </a:lnTo>
                <a:lnTo>
                  <a:pt x="1382" y="1353"/>
                </a:lnTo>
                <a:lnTo>
                  <a:pt x="1382" y="1367"/>
                </a:lnTo>
                <a:lnTo>
                  <a:pt x="1389" y="1382"/>
                </a:lnTo>
                <a:lnTo>
                  <a:pt x="1389" y="1403"/>
                </a:lnTo>
                <a:lnTo>
                  <a:pt x="1389" y="1417"/>
                </a:lnTo>
                <a:lnTo>
                  <a:pt x="1396" y="1431"/>
                </a:lnTo>
                <a:lnTo>
                  <a:pt x="1396" y="1445"/>
                </a:lnTo>
                <a:lnTo>
                  <a:pt x="1396" y="1459"/>
                </a:lnTo>
                <a:lnTo>
                  <a:pt x="1396" y="1474"/>
                </a:lnTo>
                <a:lnTo>
                  <a:pt x="1403" y="1488"/>
                </a:lnTo>
                <a:lnTo>
                  <a:pt x="1403" y="1502"/>
                </a:lnTo>
                <a:lnTo>
                  <a:pt x="1403" y="1516"/>
                </a:lnTo>
                <a:lnTo>
                  <a:pt x="1410" y="1530"/>
                </a:lnTo>
                <a:lnTo>
                  <a:pt x="1410" y="1544"/>
                </a:lnTo>
                <a:lnTo>
                  <a:pt x="1410" y="1559"/>
                </a:lnTo>
                <a:lnTo>
                  <a:pt x="1417" y="1573"/>
                </a:lnTo>
                <a:lnTo>
                  <a:pt x="1417" y="1580"/>
                </a:lnTo>
                <a:lnTo>
                  <a:pt x="1417" y="1594"/>
                </a:lnTo>
                <a:lnTo>
                  <a:pt x="1424" y="1608"/>
                </a:lnTo>
                <a:lnTo>
                  <a:pt x="1424" y="1594"/>
                </a:lnTo>
                <a:lnTo>
                  <a:pt x="1424" y="1587"/>
                </a:lnTo>
                <a:lnTo>
                  <a:pt x="1431" y="1573"/>
                </a:lnTo>
                <a:lnTo>
                  <a:pt x="1431" y="1559"/>
                </a:lnTo>
                <a:lnTo>
                  <a:pt x="1431" y="1544"/>
                </a:lnTo>
                <a:lnTo>
                  <a:pt x="1438" y="1537"/>
                </a:lnTo>
                <a:lnTo>
                  <a:pt x="1438" y="1523"/>
                </a:lnTo>
                <a:lnTo>
                  <a:pt x="1438" y="1516"/>
                </a:lnTo>
                <a:lnTo>
                  <a:pt x="1438" y="1502"/>
                </a:lnTo>
                <a:lnTo>
                  <a:pt x="1445" y="1495"/>
                </a:lnTo>
                <a:lnTo>
                  <a:pt x="1445" y="1481"/>
                </a:lnTo>
                <a:lnTo>
                  <a:pt x="1445" y="1474"/>
                </a:lnTo>
                <a:lnTo>
                  <a:pt x="1452" y="1459"/>
                </a:lnTo>
                <a:lnTo>
                  <a:pt x="1452" y="1452"/>
                </a:lnTo>
                <a:lnTo>
                  <a:pt x="1452" y="1445"/>
                </a:lnTo>
                <a:lnTo>
                  <a:pt x="1460" y="1431"/>
                </a:lnTo>
                <a:lnTo>
                  <a:pt x="1460" y="1424"/>
                </a:lnTo>
                <a:lnTo>
                  <a:pt x="1460" y="1417"/>
                </a:lnTo>
                <a:lnTo>
                  <a:pt x="1467" y="1410"/>
                </a:lnTo>
                <a:lnTo>
                  <a:pt x="1467" y="1403"/>
                </a:lnTo>
                <a:lnTo>
                  <a:pt x="1467" y="1389"/>
                </a:lnTo>
                <a:lnTo>
                  <a:pt x="1474" y="1382"/>
                </a:lnTo>
                <a:lnTo>
                  <a:pt x="1474" y="1374"/>
                </a:lnTo>
                <a:lnTo>
                  <a:pt x="1474" y="1367"/>
                </a:lnTo>
                <a:lnTo>
                  <a:pt x="1474" y="1360"/>
                </a:lnTo>
                <a:lnTo>
                  <a:pt x="1481" y="1353"/>
                </a:lnTo>
                <a:lnTo>
                  <a:pt x="1481" y="1346"/>
                </a:lnTo>
                <a:lnTo>
                  <a:pt x="1488" y="1339"/>
                </a:lnTo>
                <a:lnTo>
                  <a:pt x="1488" y="1332"/>
                </a:lnTo>
                <a:lnTo>
                  <a:pt x="1488" y="1325"/>
                </a:lnTo>
                <a:lnTo>
                  <a:pt x="1495" y="1318"/>
                </a:lnTo>
                <a:lnTo>
                  <a:pt x="1495" y="1311"/>
                </a:lnTo>
                <a:lnTo>
                  <a:pt x="1502" y="1304"/>
                </a:lnTo>
                <a:lnTo>
                  <a:pt x="1502" y="1296"/>
                </a:lnTo>
                <a:lnTo>
                  <a:pt x="1509" y="1289"/>
                </a:lnTo>
                <a:lnTo>
                  <a:pt x="1509" y="1282"/>
                </a:lnTo>
                <a:lnTo>
                  <a:pt x="1516" y="1275"/>
                </a:lnTo>
                <a:lnTo>
                  <a:pt x="1523" y="1268"/>
                </a:lnTo>
                <a:lnTo>
                  <a:pt x="1530" y="1261"/>
                </a:lnTo>
                <a:lnTo>
                  <a:pt x="1537" y="1261"/>
                </a:lnTo>
                <a:lnTo>
                  <a:pt x="1545" y="1261"/>
                </a:lnTo>
                <a:lnTo>
                  <a:pt x="1552" y="1261"/>
                </a:lnTo>
                <a:lnTo>
                  <a:pt x="1559" y="1268"/>
                </a:lnTo>
                <a:lnTo>
                  <a:pt x="1566" y="1268"/>
                </a:lnTo>
                <a:lnTo>
                  <a:pt x="1573" y="1275"/>
                </a:lnTo>
                <a:lnTo>
                  <a:pt x="1580" y="1282"/>
                </a:lnTo>
                <a:lnTo>
                  <a:pt x="1587" y="1289"/>
                </a:lnTo>
                <a:lnTo>
                  <a:pt x="1587" y="1296"/>
                </a:lnTo>
                <a:lnTo>
                  <a:pt x="1594" y="1304"/>
                </a:lnTo>
                <a:lnTo>
                  <a:pt x="1594" y="1311"/>
                </a:lnTo>
                <a:lnTo>
                  <a:pt x="1601" y="1318"/>
                </a:lnTo>
                <a:lnTo>
                  <a:pt x="1601" y="1325"/>
                </a:lnTo>
                <a:lnTo>
                  <a:pt x="1608" y="1332"/>
                </a:lnTo>
                <a:lnTo>
                  <a:pt x="1608" y="1339"/>
                </a:lnTo>
                <a:lnTo>
                  <a:pt x="1615" y="1346"/>
                </a:lnTo>
                <a:lnTo>
                  <a:pt x="1615" y="1353"/>
                </a:lnTo>
                <a:lnTo>
                  <a:pt x="1622" y="1360"/>
                </a:lnTo>
                <a:lnTo>
                  <a:pt x="1622" y="1367"/>
                </a:lnTo>
                <a:lnTo>
                  <a:pt x="1622" y="1374"/>
                </a:lnTo>
                <a:lnTo>
                  <a:pt x="1630" y="1382"/>
                </a:lnTo>
                <a:lnTo>
                  <a:pt x="1630" y="1389"/>
                </a:lnTo>
                <a:lnTo>
                  <a:pt x="1630" y="1396"/>
                </a:lnTo>
                <a:lnTo>
                  <a:pt x="1637" y="1403"/>
                </a:lnTo>
                <a:lnTo>
                  <a:pt x="1637" y="1410"/>
                </a:lnTo>
                <a:lnTo>
                  <a:pt x="1644" y="1417"/>
                </a:lnTo>
                <a:lnTo>
                  <a:pt x="1644" y="1424"/>
                </a:lnTo>
                <a:lnTo>
                  <a:pt x="1644" y="1431"/>
                </a:lnTo>
                <a:lnTo>
                  <a:pt x="1651" y="1438"/>
                </a:lnTo>
                <a:lnTo>
                  <a:pt x="1651" y="1445"/>
                </a:lnTo>
                <a:lnTo>
                  <a:pt x="1651" y="1452"/>
                </a:lnTo>
                <a:lnTo>
                  <a:pt x="1658" y="1459"/>
                </a:lnTo>
                <a:lnTo>
                  <a:pt x="1658" y="1467"/>
                </a:lnTo>
                <a:lnTo>
                  <a:pt x="1658" y="1474"/>
                </a:lnTo>
                <a:lnTo>
                  <a:pt x="1665" y="1481"/>
                </a:lnTo>
                <a:lnTo>
                  <a:pt x="1665" y="1488"/>
                </a:lnTo>
                <a:lnTo>
                  <a:pt x="1665" y="1495"/>
                </a:lnTo>
                <a:lnTo>
                  <a:pt x="1672" y="1502"/>
                </a:lnTo>
                <a:lnTo>
                  <a:pt x="1672" y="1509"/>
                </a:lnTo>
                <a:lnTo>
                  <a:pt x="1672" y="1516"/>
                </a:lnTo>
                <a:lnTo>
                  <a:pt x="1679" y="1523"/>
                </a:lnTo>
                <a:lnTo>
                  <a:pt x="1679" y="1530"/>
                </a:lnTo>
                <a:lnTo>
                  <a:pt x="1679" y="1537"/>
                </a:lnTo>
                <a:lnTo>
                  <a:pt x="1686" y="1544"/>
                </a:lnTo>
                <a:lnTo>
                  <a:pt x="1686" y="1552"/>
                </a:lnTo>
                <a:lnTo>
                  <a:pt x="1686" y="1559"/>
                </a:lnTo>
                <a:lnTo>
                  <a:pt x="1693" y="1566"/>
                </a:lnTo>
                <a:lnTo>
                  <a:pt x="1693" y="1573"/>
                </a:lnTo>
                <a:lnTo>
                  <a:pt x="1693" y="1580"/>
                </a:lnTo>
                <a:lnTo>
                  <a:pt x="1700" y="1587"/>
                </a:lnTo>
                <a:lnTo>
                  <a:pt x="1700" y="1594"/>
                </a:lnTo>
                <a:lnTo>
                  <a:pt x="1700" y="1601"/>
                </a:lnTo>
                <a:lnTo>
                  <a:pt x="1708" y="1608"/>
                </a:lnTo>
                <a:lnTo>
                  <a:pt x="1708" y="1601"/>
                </a:lnTo>
                <a:lnTo>
                  <a:pt x="1708" y="1594"/>
                </a:lnTo>
                <a:lnTo>
                  <a:pt x="1715" y="1587"/>
                </a:lnTo>
                <a:lnTo>
                  <a:pt x="1715" y="1580"/>
                </a:lnTo>
                <a:lnTo>
                  <a:pt x="1722" y="1573"/>
                </a:lnTo>
                <a:lnTo>
                  <a:pt x="1722" y="1566"/>
                </a:lnTo>
                <a:lnTo>
                  <a:pt x="1722" y="1559"/>
                </a:lnTo>
                <a:lnTo>
                  <a:pt x="1729" y="1552"/>
                </a:lnTo>
                <a:lnTo>
                  <a:pt x="1729" y="1544"/>
                </a:lnTo>
                <a:lnTo>
                  <a:pt x="1736" y="1537"/>
                </a:lnTo>
                <a:lnTo>
                  <a:pt x="1736" y="1530"/>
                </a:lnTo>
                <a:lnTo>
                  <a:pt x="1736" y="1523"/>
                </a:lnTo>
                <a:lnTo>
                  <a:pt x="1743" y="1516"/>
                </a:lnTo>
                <a:lnTo>
                  <a:pt x="1743" y="1509"/>
                </a:lnTo>
                <a:lnTo>
                  <a:pt x="1750" y="1502"/>
                </a:lnTo>
                <a:lnTo>
                  <a:pt x="1750" y="1495"/>
                </a:lnTo>
                <a:lnTo>
                  <a:pt x="1757" y="1488"/>
                </a:lnTo>
                <a:lnTo>
                  <a:pt x="1757" y="1481"/>
                </a:lnTo>
                <a:lnTo>
                  <a:pt x="1764" y="1474"/>
                </a:lnTo>
                <a:lnTo>
                  <a:pt x="1764" y="1467"/>
                </a:lnTo>
                <a:lnTo>
                  <a:pt x="1771" y="1459"/>
                </a:lnTo>
                <a:lnTo>
                  <a:pt x="1771" y="1452"/>
                </a:lnTo>
                <a:lnTo>
                  <a:pt x="1778" y="1445"/>
                </a:lnTo>
                <a:lnTo>
                  <a:pt x="1785" y="1438"/>
                </a:lnTo>
                <a:lnTo>
                  <a:pt x="1793" y="1431"/>
                </a:lnTo>
                <a:lnTo>
                  <a:pt x="1800" y="1424"/>
                </a:lnTo>
                <a:lnTo>
                  <a:pt x="1807" y="1417"/>
                </a:lnTo>
                <a:lnTo>
                  <a:pt x="1814" y="1410"/>
                </a:lnTo>
                <a:lnTo>
                  <a:pt x="1821" y="1403"/>
                </a:lnTo>
                <a:lnTo>
                  <a:pt x="1828" y="1403"/>
                </a:lnTo>
                <a:lnTo>
                  <a:pt x="1835" y="1403"/>
                </a:lnTo>
                <a:lnTo>
                  <a:pt x="1842" y="1403"/>
                </a:lnTo>
                <a:lnTo>
                  <a:pt x="1849" y="1403"/>
                </a:lnTo>
                <a:lnTo>
                  <a:pt x="1856" y="1410"/>
                </a:lnTo>
                <a:lnTo>
                  <a:pt x="1863" y="1410"/>
                </a:lnTo>
                <a:lnTo>
                  <a:pt x="1871" y="1417"/>
                </a:lnTo>
                <a:lnTo>
                  <a:pt x="1878" y="1424"/>
                </a:lnTo>
                <a:lnTo>
                  <a:pt x="1885" y="1431"/>
                </a:lnTo>
                <a:lnTo>
                  <a:pt x="1892" y="1438"/>
                </a:lnTo>
                <a:lnTo>
                  <a:pt x="1899" y="1445"/>
                </a:lnTo>
                <a:lnTo>
                  <a:pt x="1906" y="1452"/>
                </a:lnTo>
                <a:lnTo>
                  <a:pt x="1913" y="1459"/>
                </a:lnTo>
                <a:lnTo>
                  <a:pt x="1913" y="1467"/>
                </a:lnTo>
                <a:lnTo>
                  <a:pt x="1920" y="1474"/>
                </a:lnTo>
                <a:lnTo>
                  <a:pt x="1920" y="1481"/>
                </a:lnTo>
                <a:lnTo>
                  <a:pt x="1927" y="1488"/>
                </a:lnTo>
                <a:lnTo>
                  <a:pt x="1927" y="1495"/>
                </a:lnTo>
                <a:lnTo>
                  <a:pt x="1934" y="1502"/>
                </a:lnTo>
                <a:lnTo>
                  <a:pt x="1941" y="1509"/>
                </a:lnTo>
                <a:lnTo>
                  <a:pt x="1941" y="1516"/>
                </a:lnTo>
                <a:lnTo>
                  <a:pt x="1948" y="1523"/>
                </a:lnTo>
                <a:lnTo>
                  <a:pt x="1948" y="1530"/>
                </a:lnTo>
                <a:lnTo>
                  <a:pt x="1956" y="1537"/>
                </a:lnTo>
                <a:lnTo>
                  <a:pt x="1956" y="1544"/>
                </a:lnTo>
                <a:lnTo>
                  <a:pt x="1963" y="1552"/>
                </a:lnTo>
                <a:lnTo>
                  <a:pt x="1963" y="1559"/>
                </a:lnTo>
                <a:lnTo>
                  <a:pt x="1970" y="1566"/>
                </a:lnTo>
                <a:lnTo>
                  <a:pt x="1970" y="1573"/>
                </a:lnTo>
                <a:lnTo>
                  <a:pt x="1977" y="1580"/>
                </a:lnTo>
                <a:lnTo>
                  <a:pt x="1977" y="1587"/>
                </a:lnTo>
                <a:lnTo>
                  <a:pt x="1984" y="1594"/>
                </a:lnTo>
                <a:lnTo>
                  <a:pt x="1991" y="1601"/>
                </a:lnTo>
                <a:lnTo>
                  <a:pt x="1991" y="1608"/>
                </a:lnTo>
                <a:lnTo>
                  <a:pt x="1998" y="1601"/>
                </a:lnTo>
                <a:lnTo>
                  <a:pt x="1998" y="1594"/>
                </a:lnTo>
                <a:lnTo>
                  <a:pt x="2005" y="1587"/>
                </a:lnTo>
                <a:lnTo>
                  <a:pt x="2005" y="1580"/>
                </a:lnTo>
                <a:lnTo>
                  <a:pt x="2012" y="1573"/>
                </a:lnTo>
                <a:lnTo>
                  <a:pt x="2012" y="1566"/>
                </a:lnTo>
                <a:lnTo>
                  <a:pt x="2019" y="1559"/>
                </a:lnTo>
                <a:lnTo>
                  <a:pt x="2026" y="1552"/>
                </a:lnTo>
                <a:lnTo>
                  <a:pt x="2026" y="1544"/>
                </a:lnTo>
                <a:lnTo>
                  <a:pt x="2034" y="1537"/>
                </a:lnTo>
                <a:lnTo>
                  <a:pt x="2034" y="1530"/>
                </a:lnTo>
                <a:lnTo>
                  <a:pt x="2041" y="1523"/>
                </a:lnTo>
                <a:lnTo>
                  <a:pt x="2048" y="1516"/>
                </a:lnTo>
                <a:lnTo>
                  <a:pt x="2055" y="1509"/>
                </a:lnTo>
                <a:lnTo>
                  <a:pt x="2062" y="1502"/>
                </a:lnTo>
                <a:lnTo>
                  <a:pt x="2069" y="1495"/>
                </a:lnTo>
                <a:lnTo>
                  <a:pt x="2069" y="1488"/>
                </a:lnTo>
                <a:lnTo>
                  <a:pt x="2076" y="1481"/>
                </a:lnTo>
                <a:lnTo>
                  <a:pt x="2083" y="1474"/>
                </a:lnTo>
                <a:lnTo>
                  <a:pt x="2090" y="1474"/>
                </a:lnTo>
                <a:lnTo>
                  <a:pt x="2097" y="1467"/>
                </a:lnTo>
                <a:lnTo>
                  <a:pt x="2104" y="1467"/>
                </a:lnTo>
                <a:lnTo>
                  <a:pt x="2111" y="1459"/>
                </a:lnTo>
                <a:lnTo>
                  <a:pt x="2119" y="1459"/>
                </a:lnTo>
                <a:lnTo>
                  <a:pt x="2126" y="1459"/>
                </a:lnTo>
                <a:lnTo>
                  <a:pt x="2133" y="1459"/>
                </a:lnTo>
                <a:lnTo>
                  <a:pt x="2140" y="1467"/>
                </a:lnTo>
                <a:lnTo>
                  <a:pt x="2147" y="1467"/>
                </a:lnTo>
                <a:lnTo>
                  <a:pt x="2154" y="1474"/>
                </a:lnTo>
                <a:lnTo>
                  <a:pt x="2161" y="1474"/>
                </a:lnTo>
                <a:lnTo>
                  <a:pt x="2168" y="1481"/>
                </a:lnTo>
                <a:lnTo>
                  <a:pt x="2175" y="1488"/>
                </a:lnTo>
                <a:lnTo>
                  <a:pt x="2182" y="1495"/>
                </a:lnTo>
                <a:lnTo>
                  <a:pt x="2189" y="1502"/>
                </a:lnTo>
                <a:lnTo>
                  <a:pt x="2197" y="1509"/>
                </a:lnTo>
                <a:lnTo>
                  <a:pt x="2204" y="1516"/>
                </a:lnTo>
                <a:lnTo>
                  <a:pt x="2211" y="1523"/>
                </a:lnTo>
                <a:lnTo>
                  <a:pt x="2218" y="1530"/>
                </a:lnTo>
                <a:lnTo>
                  <a:pt x="2225" y="1537"/>
                </a:lnTo>
                <a:lnTo>
                  <a:pt x="2232" y="1544"/>
                </a:lnTo>
                <a:lnTo>
                  <a:pt x="2239" y="1552"/>
                </a:lnTo>
                <a:lnTo>
                  <a:pt x="2239" y="1559"/>
                </a:lnTo>
                <a:lnTo>
                  <a:pt x="2246" y="1566"/>
                </a:lnTo>
                <a:lnTo>
                  <a:pt x="2253" y="1573"/>
                </a:lnTo>
                <a:lnTo>
                  <a:pt x="2253" y="1580"/>
                </a:lnTo>
                <a:lnTo>
                  <a:pt x="2260" y="1587"/>
                </a:lnTo>
                <a:lnTo>
                  <a:pt x="2267" y="1594"/>
                </a:lnTo>
                <a:lnTo>
                  <a:pt x="2267" y="1601"/>
                </a:lnTo>
                <a:lnTo>
                  <a:pt x="2274" y="160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H="1">
            <a:off x="6172200" y="2965320"/>
            <a:ext cx="990720" cy="99072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476400" y="2203560"/>
            <a:ext cx="147600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Times New Roman"/>
              </a:rPr>
              <a:t>Pulse Shap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Times New Roman"/>
              </a:rPr>
              <a:t>Envelop</a:t>
            </a:r>
            <a:endParaRPr b="0" lang="en-US" sz="2000" spc="-1" strike="noStrike">
              <a:solidFill>
                <a:srgbClr val="000000"/>
              </a:solidFill>
              <a:latin typeface="Times New Roman"/>
            </a:endParaRPr>
          </a:p>
        </p:txBody>
      </p:sp>
      <p:sp>
        <p:nvSpPr>
          <p:cNvPr id="206" name=""/>
          <p:cNvSpPr/>
          <p:nvPr/>
        </p:nvSpPr>
        <p:spPr>
          <a:xfrm>
            <a:off x="2286000" y="2432160"/>
            <a:ext cx="3048120" cy="53316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988560" y="1736640"/>
            <a:ext cx="15202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Constituen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Stacke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Carriers</a:t>
            </a:r>
            <a:endParaRPr b="0" lang="en-US" sz="2000" spc="-1" strike="noStrike">
              <a:solidFill>
                <a:srgbClr val="000000"/>
              </a:solidFill>
              <a:latin typeface="Times New Roman"/>
            </a:endParaRPr>
          </a:p>
        </p:txBody>
      </p:sp>
      <p:sp>
        <p:nvSpPr>
          <p:cNvPr id="208" name=""/>
          <p:cNvSpPr/>
          <p:nvPr/>
        </p:nvSpPr>
        <p:spPr>
          <a:xfrm>
            <a:off x="1034640" y="867240"/>
            <a:ext cx="70570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pread Spectrum:  Stacked Carriers Composite</a:t>
            </a:r>
            <a:endParaRPr b="0" lang="en-US" sz="2400" spc="-1" strike="noStrike">
              <a:solidFill>
                <a:srgbClr val="000000"/>
              </a:solidFill>
              <a:latin typeface="Times New Roman"/>
            </a:endParaRPr>
          </a:p>
        </p:txBody>
      </p:sp>
      <p:pic>
        <p:nvPicPr>
          <p:cNvPr id="209" name="" descr=""/>
          <p:cNvPicPr/>
          <p:nvPr/>
        </p:nvPicPr>
        <p:blipFill>
          <a:blip r:embed="rId2"/>
          <a:stretch/>
        </p:blipFill>
        <p:spPr>
          <a:xfrm>
            <a:off x="457200" y="4471920"/>
            <a:ext cx="1828800" cy="1395360"/>
          </a:xfrm>
          <a:prstGeom prst="rect">
            <a:avLst/>
          </a:prstGeom>
          <a:ln w="0">
            <a:noFill/>
          </a:ln>
        </p:spPr>
      </p:pic>
      <p:sp>
        <p:nvSpPr>
          <p:cNvPr id="210" name=""/>
          <p:cNvSpPr/>
          <p:nvPr/>
        </p:nvSpPr>
        <p:spPr>
          <a:xfrm>
            <a:off x="990720" y="3124080"/>
            <a:ext cx="1143000" cy="1067040"/>
          </a:xfrm>
          <a:custGeom>
            <a:avLst/>
            <a:gdLst>
              <a:gd name="textAreaLeft" fmla="*/ 0 w 1143000"/>
              <a:gd name="textAreaRight" fmla="*/ 1143360 w 1143000"/>
              <a:gd name="textAreaTop" fmla="*/ 0 h 1067040"/>
              <a:gd name="textAreaBottom" fmla="*/ 1067400 h 10670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00cc99"/>
              </a:gs>
              <a:gs pos="50000">
                <a:srgbClr val="ffffff"/>
              </a:gs>
              <a:gs pos="100000">
                <a:srgbClr val="00cc99"/>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3C3BF254-939D-4E39-BC28-1D12DC086C5E}" type="slidenum">
              <a:t>7</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762120" y="914400"/>
            <a:ext cx="3352680" cy="2629080"/>
          </a:xfrm>
          <a:prstGeom prst="rect">
            <a:avLst/>
          </a:prstGeom>
          <a:ln w="0">
            <a:noFill/>
          </a:ln>
        </p:spPr>
      </p:pic>
      <p:pic>
        <p:nvPicPr>
          <p:cNvPr id="212" name="" descr=""/>
          <p:cNvPicPr/>
          <p:nvPr/>
        </p:nvPicPr>
        <p:blipFill>
          <a:blip r:embed="rId2"/>
          <a:stretch/>
        </p:blipFill>
        <p:spPr>
          <a:xfrm>
            <a:off x="762120" y="3657600"/>
            <a:ext cx="3276360" cy="2657520"/>
          </a:xfrm>
          <a:prstGeom prst="rect">
            <a:avLst/>
          </a:prstGeom>
          <a:ln w="0">
            <a:noFill/>
          </a:ln>
        </p:spPr>
      </p:pic>
      <p:sp>
        <p:nvSpPr>
          <p:cNvPr id="213" name=""/>
          <p:cNvSpPr/>
          <p:nvPr/>
        </p:nvSpPr>
        <p:spPr>
          <a:xfrm>
            <a:off x="6910200" y="2514600"/>
            <a:ext cx="192708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zFreqRespDeg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40.494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24.960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90.415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57.6877</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138.6759</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138.6759</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57.6877</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90.415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24.960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40.4941</a:t>
            </a:r>
            <a:endParaRPr b="0" lang="en-US" sz="1800" spc="-1" strike="noStrike">
              <a:solidFill>
                <a:srgbClr val="000000"/>
              </a:solidFill>
              <a:latin typeface="Times New Roman"/>
            </a:endParaRPr>
          </a:p>
        </p:txBody>
      </p:sp>
      <p:sp>
        <p:nvSpPr>
          <p:cNvPr id="214" name=""/>
          <p:cNvSpPr/>
          <p:nvPr/>
        </p:nvSpPr>
        <p:spPr>
          <a:xfrm>
            <a:off x="5335920" y="2514600"/>
            <a:ext cx="156456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mpFreqRes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1.00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1.00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1.00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1.00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1.00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0.2887</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1.00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1.00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1.00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1.00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1.0000</a:t>
            </a:r>
            <a:endParaRPr b="0" lang="en-US" sz="1800" spc="-1" strike="noStrike">
              <a:solidFill>
                <a:srgbClr val="000000"/>
              </a:solidFill>
              <a:latin typeface="Times New Roman"/>
            </a:endParaRPr>
          </a:p>
        </p:txBody>
      </p:sp>
      <p:sp>
        <p:nvSpPr>
          <p:cNvPr id="215" name=""/>
          <p:cNvSpPr/>
          <p:nvPr/>
        </p:nvSpPr>
        <p:spPr>
          <a:xfrm>
            <a:off x="4267800" y="2514600"/>
            <a:ext cx="108432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reqMHz</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216" name=""/>
          <p:cNvSpPr/>
          <p:nvPr/>
        </p:nvSpPr>
        <p:spPr>
          <a:xfrm>
            <a:off x="4191120" y="2438280"/>
            <a:ext cx="4647960" cy="3581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191120" y="2819520"/>
            <a:ext cx="464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334120" y="2438280"/>
            <a:ext cx="0" cy="358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934320" y="2438280"/>
            <a:ext cx="0" cy="358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614480" y="989640"/>
            <a:ext cx="3477240" cy="1068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Sub-Carrier</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mplitude/Phase</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FF116067-B1BA-49C8-8241-A635093B6BA9}" type="slidenum">
              <a:t>8</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5688000" y="2666880"/>
            <a:ext cx="709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 p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FT</a:t>
            </a:r>
            <a:endParaRPr b="0" lang="en-US" sz="1600" spc="-1" strike="noStrike">
              <a:solidFill>
                <a:srgbClr val="000000"/>
              </a:solidFill>
              <a:latin typeface="Times New Roman"/>
            </a:endParaRPr>
          </a:p>
        </p:txBody>
      </p:sp>
      <p:sp>
        <p:nvSpPr>
          <p:cNvPr id="222" name=""/>
          <p:cNvSpPr/>
          <p:nvPr/>
        </p:nvSpPr>
        <p:spPr>
          <a:xfrm>
            <a:off x="3523320" y="2438280"/>
            <a:ext cx="119556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u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p/Phz</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 eac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carrier</a:t>
            </a:r>
            <a:endParaRPr b="0" lang="en-US" sz="1600" spc="-1" strike="noStrike">
              <a:solidFill>
                <a:srgbClr val="000000"/>
              </a:solidFill>
              <a:latin typeface="Times New Roman"/>
            </a:endParaRPr>
          </a:p>
        </p:txBody>
      </p:sp>
      <p:sp>
        <p:nvSpPr>
          <p:cNvPr id="223" name=""/>
          <p:cNvSpPr/>
          <p:nvPr/>
        </p:nvSpPr>
        <p:spPr>
          <a:xfrm>
            <a:off x="3521160" y="2362320"/>
            <a:ext cx="1295280" cy="1218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638680" y="2362320"/>
            <a:ext cx="838440" cy="1218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783120" y="26668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S</a:t>
            </a:r>
            <a:endParaRPr b="0" lang="en-US" sz="1600" spc="-1" strike="noStrike">
              <a:solidFill>
                <a:srgbClr val="000000"/>
              </a:solidFill>
              <a:latin typeface="Times New Roman"/>
            </a:endParaRPr>
          </a:p>
        </p:txBody>
      </p:sp>
      <p:sp>
        <p:nvSpPr>
          <p:cNvPr id="226" name=""/>
          <p:cNvSpPr/>
          <p:nvPr/>
        </p:nvSpPr>
        <p:spPr>
          <a:xfrm>
            <a:off x="6705720" y="2590920"/>
            <a:ext cx="685800" cy="53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524040" y="4038480"/>
            <a:ext cx="1114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k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ectrum</a:t>
            </a:r>
            <a:endParaRPr b="0" lang="en-US" sz="1600" spc="-1" strike="noStrike">
              <a:solidFill>
                <a:srgbClr val="000000"/>
              </a:solidFill>
              <a:latin typeface="Times New Roman"/>
            </a:endParaRPr>
          </a:p>
        </p:txBody>
      </p:sp>
      <p:sp>
        <p:nvSpPr>
          <p:cNvPr id="228" name=""/>
          <p:cNvSpPr/>
          <p:nvPr/>
        </p:nvSpPr>
        <p:spPr>
          <a:xfrm>
            <a:off x="3521160" y="3962520"/>
            <a:ext cx="1295280" cy="761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769400" y="2590920"/>
            <a:ext cx="1375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PSK/QP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tation</a:t>
            </a:r>
            <a:endParaRPr b="0" lang="en-US" sz="1600" spc="-1" strike="noStrike">
              <a:solidFill>
                <a:srgbClr val="000000"/>
              </a:solidFill>
              <a:latin typeface="Times New Roman"/>
            </a:endParaRPr>
          </a:p>
        </p:txBody>
      </p:sp>
      <p:sp>
        <p:nvSpPr>
          <p:cNvPr id="230" name=""/>
          <p:cNvSpPr/>
          <p:nvPr/>
        </p:nvSpPr>
        <p:spPr>
          <a:xfrm>
            <a:off x="1768320" y="2514600"/>
            <a:ext cx="1295640" cy="76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37120" y="2576520"/>
            <a:ext cx="6530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f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it(s)</a:t>
            </a:r>
            <a:endParaRPr b="0" lang="en-US" sz="1600" spc="-1" strike="noStrike">
              <a:solidFill>
                <a:srgbClr val="000000"/>
              </a:solidFill>
              <a:latin typeface="Times New Roman"/>
            </a:endParaRPr>
          </a:p>
        </p:txBody>
      </p:sp>
      <p:sp>
        <p:nvSpPr>
          <p:cNvPr id="232" name=""/>
          <p:cNvSpPr/>
          <p:nvPr/>
        </p:nvSpPr>
        <p:spPr>
          <a:xfrm>
            <a:off x="1387440" y="281952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063960" y="281952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816440" y="2819520"/>
            <a:ext cx="82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28195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912680" y="837720"/>
            <a:ext cx="51930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1 and 2 Mbps BARKER Mod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requency Domain Modulator</a:t>
            </a:r>
            <a:endParaRPr b="0" lang="en-US" sz="2800" spc="-1" strike="noStrike">
              <a:solidFill>
                <a:srgbClr val="000000"/>
              </a:solidFill>
              <a:latin typeface="Times New Roman"/>
            </a:endParaRPr>
          </a:p>
        </p:txBody>
      </p:sp>
      <p:sp>
        <p:nvSpPr>
          <p:cNvPr id="237" name=""/>
          <p:cNvSpPr/>
          <p:nvPr/>
        </p:nvSpPr>
        <p:spPr>
          <a:xfrm>
            <a:off x="7391520" y="28195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523880" y="2133720"/>
            <a:ext cx="3505320" cy="2819160"/>
          </a:xfrm>
          <a:prstGeom prst="rect">
            <a:avLst/>
          </a:prstGeom>
          <a:noFill/>
          <a:ln w="1260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523520" y="3733920"/>
            <a:ext cx="1860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Times New Roman"/>
              </a:rPr>
              <a:t>Constell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Times New Roman"/>
              </a:rPr>
              <a:t>Mapper</a:t>
            </a:r>
            <a:endParaRPr b="0" lang="en-US" sz="2400" spc="-1" strike="noStrike">
              <a:solidFill>
                <a:srgbClr val="000000"/>
              </a:solidFill>
              <a:latin typeface="Times New Roman"/>
            </a:endParaRPr>
          </a:p>
        </p:txBody>
      </p:sp>
      <p:grpSp>
        <p:nvGrpSpPr>
          <p:cNvPr id="240" name=""/>
          <p:cNvGrpSpPr/>
          <p:nvPr/>
        </p:nvGrpSpPr>
        <p:grpSpPr>
          <a:xfrm>
            <a:off x="5269680" y="3792240"/>
            <a:ext cx="3624480" cy="2657520"/>
            <a:chOff x="5269680" y="3792240"/>
            <a:chExt cx="3624480" cy="2657520"/>
          </a:xfrm>
        </p:grpSpPr>
        <p:sp>
          <p:nvSpPr>
            <p:cNvPr id="241" name=""/>
            <p:cNvSpPr/>
            <p:nvPr/>
          </p:nvSpPr>
          <p:spPr>
            <a:xfrm>
              <a:off x="5417640" y="6194160"/>
              <a:ext cx="310464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42" name=""/>
            <p:cNvSpPr/>
            <p:nvPr/>
          </p:nvSpPr>
          <p:spPr>
            <a:xfrm flipV="1">
              <a:off x="5561280" y="6168600"/>
              <a:ext cx="720" cy="24840"/>
            </a:xfrm>
            <a:prstGeom prst="line">
              <a:avLst/>
            </a:prstGeom>
            <a:ln w="0">
              <a:solidFill>
                <a:srgbClr val="000000"/>
              </a:solid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43" name=""/>
            <p:cNvSpPr/>
            <p:nvPr/>
          </p:nvSpPr>
          <p:spPr>
            <a:xfrm>
              <a:off x="5535720" y="6219720"/>
              <a:ext cx="90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Times New Roman"/>
              </a:endParaRPr>
            </a:p>
          </p:txBody>
        </p:sp>
        <p:sp>
          <p:nvSpPr>
            <p:cNvPr id="244" name=""/>
            <p:cNvSpPr/>
            <p:nvPr/>
          </p:nvSpPr>
          <p:spPr>
            <a:xfrm flipV="1">
              <a:off x="5841360" y="6168600"/>
              <a:ext cx="1080" cy="24840"/>
            </a:xfrm>
            <a:prstGeom prst="line">
              <a:avLst/>
            </a:prstGeom>
            <a:ln w="0">
              <a:solidFill>
                <a:srgbClr val="000000"/>
              </a:solid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45" name=""/>
            <p:cNvSpPr/>
            <p:nvPr/>
          </p:nvSpPr>
          <p:spPr>
            <a:xfrm>
              <a:off x="5811840" y="6219720"/>
              <a:ext cx="90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00"/>
                </a:solidFill>
                <a:latin typeface="Times New Roman"/>
              </a:endParaRPr>
            </a:p>
          </p:txBody>
        </p:sp>
        <p:sp>
          <p:nvSpPr>
            <p:cNvPr id="246" name=""/>
            <p:cNvSpPr/>
            <p:nvPr/>
          </p:nvSpPr>
          <p:spPr>
            <a:xfrm flipV="1">
              <a:off x="6120360" y="6168600"/>
              <a:ext cx="1080" cy="24840"/>
            </a:xfrm>
            <a:prstGeom prst="line">
              <a:avLst/>
            </a:prstGeom>
            <a:ln w="0">
              <a:solidFill>
                <a:srgbClr val="000000"/>
              </a:solid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47" name=""/>
            <p:cNvSpPr/>
            <p:nvPr/>
          </p:nvSpPr>
          <p:spPr>
            <a:xfrm>
              <a:off x="6091200" y="6219720"/>
              <a:ext cx="90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Times New Roman"/>
              </a:endParaRPr>
            </a:p>
          </p:txBody>
        </p:sp>
        <p:sp>
          <p:nvSpPr>
            <p:cNvPr id="248" name=""/>
            <p:cNvSpPr/>
            <p:nvPr/>
          </p:nvSpPr>
          <p:spPr>
            <a:xfrm flipV="1">
              <a:off x="6406920" y="6168600"/>
              <a:ext cx="1080" cy="24840"/>
            </a:xfrm>
            <a:prstGeom prst="line">
              <a:avLst/>
            </a:prstGeom>
            <a:ln w="0">
              <a:solidFill>
                <a:srgbClr val="000000"/>
              </a:solid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49" name=""/>
            <p:cNvSpPr/>
            <p:nvPr/>
          </p:nvSpPr>
          <p:spPr>
            <a:xfrm>
              <a:off x="6378480" y="6219720"/>
              <a:ext cx="90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250" name=""/>
            <p:cNvSpPr/>
            <p:nvPr/>
          </p:nvSpPr>
          <p:spPr>
            <a:xfrm flipV="1">
              <a:off x="6687360" y="6168600"/>
              <a:ext cx="720" cy="24840"/>
            </a:xfrm>
            <a:prstGeom prst="line">
              <a:avLst/>
            </a:prstGeom>
            <a:ln w="0">
              <a:solidFill>
                <a:srgbClr val="000000"/>
              </a:solid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51" name=""/>
            <p:cNvSpPr/>
            <p:nvPr/>
          </p:nvSpPr>
          <p:spPr>
            <a:xfrm>
              <a:off x="6657480" y="6219720"/>
              <a:ext cx="90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252" name=""/>
            <p:cNvSpPr/>
            <p:nvPr/>
          </p:nvSpPr>
          <p:spPr>
            <a:xfrm flipV="1">
              <a:off x="6973560" y="6168600"/>
              <a:ext cx="720" cy="24840"/>
            </a:xfrm>
            <a:prstGeom prst="line">
              <a:avLst/>
            </a:prstGeom>
            <a:ln w="0">
              <a:solidFill>
                <a:srgbClr val="000000"/>
              </a:solid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53" name=""/>
            <p:cNvSpPr/>
            <p:nvPr/>
          </p:nvSpPr>
          <p:spPr>
            <a:xfrm>
              <a:off x="6973560" y="621972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254" name=""/>
            <p:cNvSpPr/>
            <p:nvPr/>
          </p:nvSpPr>
          <p:spPr>
            <a:xfrm flipV="1">
              <a:off x="7253640" y="6168600"/>
              <a:ext cx="1080" cy="24840"/>
            </a:xfrm>
            <a:prstGeom prst="line">
              <a:avLst/>
            </a:prstGeom>
            <a:ln w="0">
              <a:solidFill>
                <a:srgbClr val="000000"/>
              </a:solid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55" name=""/>
            <p:cNvSpPr/>
            <p:nvPr/>
          </p:nvSpPr>
          <p:spPr>
            <a:xfrm>
              <a:off x="7254720" y="621972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256" name=""/>
            <p:cNvSpPr/>
            <p:nvPr/>
          </p:nvSpPr>
          <p:spPr>
            <a:xfrm flipV="1">
              <a:off x="7533000" y="6168600"/>
              <a:ext cx="1080" cy="24840"/>
            </a:xfrm>
            <a:prstGeom prst="line">
              <a:avLst/>
            </a:prstGeom>
            <a:ln w="0">
              <a:solidFill>
                <a:srgbClr val="000000"/>
              </a:solid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57" name=""/>
            <p:cNvSpPr/>
            <p:nvPr/>
          </p:nvSpPr>
          <p:spPr>
            <a:xfrm>
              <a:off x="7532640" y="621972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258" name=""/>
            <p:cNvSpPr/>
            <p:nvPr/>
          </p:nvSpPr>
          <p:spPr>
            <a:xfrm flipV="1">
              <a:off x="7820280" y="6168600"/>
              <a:ext cx="720" cy="24840"/>
            </a:xfrm>
            <a:prstGeom prst="line">
              <a:avLst/>
            </a:prstGeom>
            <a:ln w="0">
              <a:solidFill>
                <a:srgbClr val="000000"/>
              </a:solid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59" name=""/>
            <p:cNvSpPr/>
            <p:nvPr/>
          </p:nvSpPr>
          <p:spPr>
            <a:xfrm>
              <a:off x="7820280" y="621972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Times New Roman"/>
              </a:endParaRPr>
            </a:p>
          </p:txBody>
        </p:sp>
        <p:sp>
          <p:nvSpPr>
            <p:cNvPr id="260" name=""/>
            <p:cNvSpPr/>
            <p:nvPr/>
          </p:nvSpPr>
          <p:spPr>
            <a:xfrm flipV="1">
              <a:off x="8099640" y="6168600"/>
              <a:ext cx="720" cy="24840"/>
            </a:xfrm>
            <a:prstGeom prst="line">
              <a:avLst/>
            </a:prstGeom>
            <a:ln w="0">
              <a:solidFill>
                <a:srgbClr val="000000"/>
              </a:solid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61" name=""/>
            <p:cNvSpPr/>
            <p:nvPr/>
          </p:nvSpPr>
          <p:spPr>
            <a:xfrm>
              <a:off x="8099280" y="621972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00"/>
                </a:solidFill>
                <a:latin typeface="Times New Roman"/>
              </a:endParaRPr>
            </a:p>
          </p:txBody>
        </p:sp>
        <p:sp>
          <p:nvSpPr>
            <p:cNvPr id="262" name=""/>
            <p:cNvSpPr/>
            <p:nvPr/>
          </p:nvSpPr>
          <p:spPr>
            <a:xfrm flipV="1">
              <a:off x="8379720" y="6168600"/>
              <a:ext cx="1080" cy="24840"/>
            </a:xfrm>
            <a:prstGeom prst="line">
              <a:avLst/>
            </a:prstGeom>
            <a:ln w="0">
              <a:solidFill>
                <a:srgbClr val="000000"/>
              </a:solid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63" name=""/>
            <p:cNvSpPr/>
            <p:nvPr/>
          </p:nvSpPr>
          <p:spPr>
            <a:xfrm>
              <a:off x="8380080" y="621972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Times New Roman"/>
              </a:endParaRPr>
            </a:p>
          </p:txBody>
        </p:sp>
        <p:sp>
          <p:nvSpPr>
            <p:cNvPr id="264" name=""/>
            <p:cNvSpPr/>
            <p:nvPr/>
          </p:nvSpPr>
          <p:spPr>
            <a:xfrm>
              <a:off x="5532840" y="4356360"/>
              <a:ext cx="64440" cy="57240"/>
            </a:xfrm>
            <a:prstGeom prst="ellipse">
              <a:avLst/>
            </a:prstGeom>
            <a:noFill/>
            <a:ln w="0">
              <a:solidFill>
                <a:srgbClr val="0000ff"/>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65" name=""/>
            <p:cNvSpPr/>
            <p:nvPr/>
          </p:nvSpPr>
          <p:spPr>
            <a:xfrm>
              <a:off x="5811840" y="4356360"/>
              <a:ext cx="64800" cy="57240"/>
            </a:xfrm>
            <a:prstGeom prst="ellipse">
              <a:avLst/>
            </a:prstGeom>
            <a:noFill/>
            <a:ln w="0">
              <a:solidFill>
                <a:srgbClr val="0000ff"/>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66" name=""/>
            <p:cNvSpPr/>
            <p:nvPr/>
          </p:nvSpPr>
          <p:spPr>
            <a:xfrm>
              <a:off x="6092280" y="4337280"/>
              <a:ext cx="63720" cy="57600"/>
            </a:xfrm>
            <a:prstGeom prst="ellipse">
              <a:avLst/>
            </a:prstGeom>
            <a:noFill/>
            <a:ln w="0">
              <a:solidFill>
                <a:srgbClr val="0000ff"/>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7" name=""/>
            <p:cNvSpPr/>
            <p:nvPr/>
          </p:nvSpPr>
          <p:spPr>
            <a:xfrm>
              <a:off x="6378480" y="4337280"/>
              <a:ext cx="64440" cy="57600"/>
            </a:xfrm>
            <a:prstGeom prst="ellipse">
              <a:avLst/>
            </a:prstGeom>
            <a:noFill/>
            <a:ln w="0">
              <a:solidFill>
                <a:srgbClr val="0000ff"/>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8" name=""/>
            <p:cNvSpPr/>
            <p:nvPr/>
          </p:nvSpPr>
          <p:spPr>
            <a:xfrm>
              <a:off x="6658920" y="4337280"/>
              <a:ext cx="63720" cy="57600"/>
            </a:xfrm>
            <a:prstGeom prst="ellipse">
              <a:avLst/>
            </a:prstGeom>
            <a:noFill/>
            <a:ln w="0">
              <a:solidFill>
                <a:srgbClr val="0000ff"/>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9" name=""/>
            <p:cNvSpPr/>
            <p:nvPr/>
          </p:nvSpPr>
          <p:spPr>
            <a:xfrm>
              <a:off x="6945120" y="5645880"/>
              <a:ext cx="64440" cy="56520"/>
            </a:xfrm>
            <a:prstGeom prst="ellipse">
              <a:avLst/>
            </a:prstGeom>
            <a:noFill/>
            <a:ln w="0">
              <a:solidFill>
                <a:srgbClr val="0000ff"/>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0" name=""/>
            <p:cNvSpPr/>
            <p:nvPr/>
          </p:nvSpPr>
          <p:spPr>
            <a:xfrm>
              <a:off x="7224480" y="4337280"/>
              <a:ext cx="64800" cy="57600"/>
            </a:xfrm>
            <a:prstGeom prst="ellipse">
              <a:avLst/>
            </a:prstGeom>
            <a:noFill/>
            <a:ln w="0">
              <a:solidFill>
                <a:srgbClr val="0000ff"/>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1" name=""/>
            <p:cNvSpPr/>
            <p:nvPr/>
          </p:nvSpPr>
          <p:spPr>
            <a:xfrm>
              <a:off x="7504560" y="4337280"/>
              <a:ext cx="64440" cy="57600"/>
            </a:xfrm>
            <a:prstGeom prst="ellipse">
              <a:avLst/>
            </a:prstGeom>
            <a:noFill/>
            <a:ln w="0">
              <a:solidFill>
                <a:srgbClr val="0000ff"/>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2" name=""/>
            <p:cNvSpPr/>
            <p:nvPr/>
          </p:nvSpPr>
          <p:spPr>
            <a:xfrm>
              <a:off x="7791120" y="4337280"/>
              <a:ext cx="64440" cy="57600"/>
            </a:xfrm>
            <a:prstGeom prst="ellipse">
              <a:avLst/>
            </a:prstGeom>
            <a:noFill/>
            <a:ln w="0">
              <a:solidFill>
                <a:srgbClr val="0000ff"/>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3" name=""/>
            <p:cNvSpPr/>
            <p:nvPr/>
          </p:nvSpPr>
          <p:spPr>
            <a:xfrm>
              <a:off x="8071200" y="4337280"/>
              <a:ext cx="64440" cy="57600"/>
            </a:xfrm>
            <a:prstGeom prst="ellipse">
              <a:avLst/>
            </a:prstGeom>
            <a:noFill/>
            <a:ln w="0">
              <a:solidFill>
                <a:srgbClr val="0000ff"/>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4" name=""/>
            <p:cNvSpPr/>
            <p:nvPr/>
          </p:nvSpPr>
          <p:spPr>
            <a:xfrm>
              <a:off x="8350560" y="4337280"/>
              <a:ext cx="64800" cy="57600"/>
            </a:xfrm>
            <a:prstGeom prst="ellipse">
              <a:avLst/>
            </a:prstGeom>
            <a:noFill/>
            <a:ln w="0">
              <a:solidFill>
                <a:srgbClr val="0000ff"/>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75" name=""/>
            <p:cNvSpPr/>
            <p:nvPr/>
          </p:nvSpPr>
          <p:spPr>
            <a:xfrm flipV="1">
              <a:off x="5561280" y="4382640"/>
              <a:ext cx="720" cy="18115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V="1">
              <a:off x="5841360" y="4382640"/>
              <a:ext cx="1080" cy="18115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V="1">
              <a:off x="6120360" y="4382640"/>
              <a:ext cx="1080" cy="18115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flipV="1">
              <a:off x="6406920" y="4382640"/>
              <a:ext cx="1080" cy="18115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V="1">
              <a:off x="6687360" y="4382640"/>
              <a:ext cx="720" cy="18115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V="1">
              <a:off x="6973560" y="5670720"/>
              <a:ext cx="720" cy="5230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7253640" y="4382640"/>
              <a:ext cx="1080" cy="18115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V="1">
              <a:off x="7533000" y="4382640"/>
              <a:ext cx="1080" cy="18115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V="1">
              <a:off x="7820280" y="4382640"/>
              <a:ext cx="720" cy="18115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V="1">
              <a:off x="8099640" y="4382640"/>
              <a:ext cx="720" cy="18115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V="1">
              <a:off x="8379720" y="4382640"/>
              <a:ext cx="1080" cy="18115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746040" y="6327720"/>
              <a:ext cx="5158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eq (MHz)</a:t>
              </a:r>
              <a:endParaRPr b="0" lang="en-US" sz="800" spc="-1" strike="noStrike">
                <a:solidFill>
                  <a:srgbClr val="000000"/>
                </a:solidFill>
                <a:latin typeface="Times New Roman"/>
              </a:endParaRPr>
            </a:p>
          </p:txBody>
        </p:sp>
        <p:sp>
          <p:nvSpPr>
            <p:cNvPr id="287" name=""/>
            <p:cNvSpPr/>
            <p:nvPr/>
          </p:nvSpPr>
          <p:spPr>
            <a:xfrm>
              <a:off x="5269680" y="380016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1</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1</a:t>
              </a:r>
              <a:endParaRPr b="0" lang="en-US" sz="1400" spc="-1" strike="noStrike">
                <a:solidFill>
                  <a:srgbClr val="000000"/>
                </a:solidFill>
                <a:latin typeface="Times New Roman"/>
              </a:endParaRPr>
            </a:p>
          </p:txBody>
        </p:sp>
        <p:sp>
          <p:nvSpPr>
            <p:cNvPr id="288" name=""/>
            <p:cNvSpPr/>
            <p:nvPr/>
          </p:nvSpPr>
          <p:spPr>
            <a:xfrm>
              <a:off x="5560200" y="404352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2</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2</a:t>
              </a:r>
              <a:endParaRPr b="0" lang="en-US" sz="1400" spc="-1" strike="noStrike">
                <a:solidFill>
                  <a:srgbClr val="000000"/>
                </a:solidFill>
                <a:latin typeface="Times New Roman"/>
              </a:endParaRPr>
            </a:p>
          </p:txBody>
        </p:sp>
        <p:sp>
          <p:nvSpPr>
            <p:cNvPr id="289" name=""/>
            <p:cNvSpPr/>
            <p:nvPr/>
          </p:nvSpPr>
          <p:spPr>
            <a:xfrm>
              <a:off x="5891760" y="379224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3</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3</a:t>
              </a:r>
              <a:endParaRPr b="0" lang="en-US" sz="1400" spc="-1" strike="noStrike">
                <a:solidFill>
                  <a:srgbClr val="000000"/>
                </a:solidFill>
                <a:latin typeface="Times New Roman"/>
              </a:endParaRPr>
            </a:p>
          </p:txBody>
        </p:sp>
        <p:sp>
          <p:nvSpPr>
            <p:cNvPr id="290" name=""/>
            <p:cNvSpPr/>
            <p:nvPr/>
          </p:nvSpPr>
          <p:spPr>
            <a:xfrm>
              <a:off x="6435000" y="379224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5</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5</a:t>
              </a:r>
              <a:endParaRPr b="0" lang="en-US" sz="1400" spc="-1" strike="noStrike">
                <a:solidFill>
                  <a:srgbClr val="000000"/>
                </a:solidFill>
                <a:latin typeface="Times New Roman"/>
              </a:endParaRPr>
            </a:p>
          </p:txBody>
        </p:sp>
        <p:sp>
          <p:nvSpPr>
            <p:cNvPr id="291" name=""/>
            <p:cNvSpPr/>
            <p:nvPr/>
          </p:nvSpPr>
          <p:spPr>
            <a:xfrm>
              <a:off x="6133680" y="405144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4</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4</a:t>
              </a:r>
              <a:endParaRPr b="0" lang="en-US" sz="1400" spc="-1" strike="noStrike">
                <a:solidFill>
                  <a:srgbClr val="000000"/>
                </a:solidFill>
                <a:latin typeface="Times New Roman"/>
              </a:endParaRPr>
            </a:p>
          </p:txBody>
        </p:sp>
        <p:sp>
          <p:nvSpPr>
            <p:cNvPr id="292" name=""/>
            <p:cNvSpPr/>
            <p:nvPr/>
          </p:nvSpPr>
          <p:spPr>
            <a:xfrm>
              <a:off x="6717240" y="522576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6</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6</a:t>
              </a:r>
              <a:endParaRPr b="0" lang="en-US" sz="1400" spc="-1" strike="noStrike">
                <a:solidFill>
                  <a:srgbClr val="000000"/>
                </a:solidFill>
                <a:latin typeface="Times New Roman"/>
              </a:endParaRPr>
            </a:p>
          </p:txBody>
        </p:sp>
        <p:sp>
          <p:nvSpPr>
            <p:cNvPr id="293" name=""/>
            <p:cNvSpPr/>
            <p:nvPr/>
          </p:nvSpPr>
          <p:spPr>
            <a:xfrm>
              <a:off x="8172360" y="4051440"/>
              <a:ext cx="72180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11</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11</a:t>
              </a:r>
              <a:endParaRPr b="0" lang="en-US" sz="1400" spc="-1" strike="noStrike">
                <a:solidFill>
                  <a:srgbClr val="000000"/>
                </a:solidFill>
                <a:latin typeface="Times New Roman"/>
              </a:endParaRPr>
            </a:p>
          </p:txBody>
        </p:sp>
        <p:sp>
          <p:nvSpPr>
            <p:cNvPr id="294" name=""/>
            <p:cNvSpPr/>
            <p:nvPr/>
          </p:nvSpPr>
          <p:spPr>
            <a:xfrm>
              <a:off x="7055280" y="404352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7</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7</a:t>
              </a:r>
              <a:endParaRPr b="0" lang="en-US" sz="1400" spc="-1" strike="noStrike">
                <a:solidFill>
                  <a:srgbClr val="000000"/>
                </a:solidFill>
                <a:latin typeface="Times New Roman"/>
              </a:endParaRPr>
            </a:p>
          </p:txBody>
        </p:sp>
        <p:sp>
          <p:nvSpPr>
            <p:cNvPr id="295" name=""/>
            <p:cNvSpPr/>
            <p:nvPr/>
          </p:nvSpPr>
          <p:spPr>
            <a:xfrm>
              <a:off x="7387200" y="379224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8</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8</a:t>
              </a:r>
              <a:endParaRPr b="0" lang="en-US" sz="1400" spc="-1" strike="noStrike">
                <a:solidFill>
                  <a:srgbClr val="000000"/>
                </a:solidFill>
                <a:latin typeface="Times New Roman"/>
              </a:endParaRPr>
            </a:p>
          </p:txBody>
        </p:sp>
        <p:sp>
          <p:nvSpPr>
            <p:cNvPr id="296" name=""/>
            <p:cNvSpPr/>
            <p:nvPr/>
          </p:nvSpPr>
          <p:spPr>
            <a:xfrm>
              <a:off x="7873920" y="3792240"/>
              <a:ext cx="72180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10</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10</a:t>
              </a:r>
              <a:endParaRPr b="0" lang="en-US" sz="1400" spc="-1" strike="noStrike">
                <a:solidFill>
                  <a:srgbClr val="000000"/>
                </a:solidFill>
                <a:latin typeface="Times New Roman"/>
              </a:endParaRPr>
            </a:p>
          </p:txBody>
        </p:sp>
        <p:sp>
          <p:nvSpPr>
            <p:cNvPr id="297" name=""/>
            <p:cNvSpPr/>
            <p:nvPr/>
          </p:nvSpPr>
          <p:spPr>
            <a:xfrm>
              <a:off x="7632000" y="4052520"/>
              <a:ext cx="605880" cy="339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r>
                <a:rPr b="1" lang="en-US" sz="1400" spc="-1" strike="noStrike" baseline="-25000">
                  <a:solidFill>
                    <a:srgbClr val="000000"/>
                  </a:solidFill>
                  <a:latin typeface="Arial"/>
                </a:rPr>
                <a:t>9</a:t>
              </a:r>
              <a:r>
                <a:rPr b="1" lang="en-US" sz="1400" spc="-1" strike="noStrike">
                  <a:solidFill>
                    <a:srgbClr val="000000"/>
                  </a:solidFill>
                  <a:latin typeface="Arial"/>
                </a:rPr>
                <a:t>e</a:t>
              </a:r>
              <a:r>
                <a:rPr b="1" lang="en-US" sz="1400" spc="-1" strike="noStrike" baseline="44000">
                  <a:solidFill>
                    <a:srgbClr val="000000"/>
                  </a:solidFill>
                  <a:latin typeface="Arial"/>
                </a:rPr>
                <a:t>j</a:t>
              </a:r>
              <a:r>
                <a:rPr b="1" lang="en-US" sz="1400" spc="-1" strike="noStrike" baseline="44000">
                  <a:solidFill>
                    <a:srgbClr val="000000"/>
                  </a:solidFill>
                  <a:latin typeface="Symbol"/>
                  <a:ea typeface="Symbol"/>
                </a:rPr>
                <a:t></a:t>
              </a:r>
              <a:r>
                <a:rPr b="1" lang="en-US" sz="1400" spc="-1" strike="noStrike" baseline="44000">
                  <a:solidFill>
                    <a:srgbClr val="000000"/>
                  </a:solidFill>
                  <a:latin typeface="Arial"/>
                </a:rPr>
                <a:t>9</a:t>
              </a:r>
              <a:endParaRPr b="0" lang="en-US" sz="1400" spc="-1" strike="noStrike">
                <a:solidFill>
                  <a:srgbClr val="000000"/>
                </a:solidFill>
                <a:latin typeface="Times New Roman"/>
              </a:endParaRPr>
            </a:p>
          </p:txBody>
        </p:sp>
      </p:grpSp>
      <p:sp>
        <p:nvSpPr>
          <p:cNvPr id="298" name=""/>
          <p:cNvSpPr/>
          <p:nvPr/>
        </p:nvSpPr>
        <p:spPr>
          <a:xfrm flipV="1">
            <a:off x="4038480" y="35809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3962160" y="3733920"/>
            <a:ext cx="15228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5181480" y="2743200"/>
            <a:ext cx="15264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3200040" y="2743200"/>
            <a:ext cx="15228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4039560" y="3656520"/>
            <a:ext cx="3787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a:t>
            </a:r>
            <a:endParaRPr b="0" lang="en-US" sz="1400" spc="-1" strike="noStrike">
              <a:solidFill>
                <a:srgbClr val="000000"/>
              </a:solidFill>
              <a:latin typeface="Times New Roman"/>
            </a:endParaRPr>
          </a:p>
        </p:txBody>
      </p:sp>
      <p:sp>
        <p:nvSpPr>
          <p:cNvPr id="303" name=""/>
          <p:cNvSpPr/>
          <p:nvPr/>
        </p:nvSpPr>
        <p:spPr>
          <a:xfrm>
            <a:off x="5106600" y="2437200"/>
            <a:ext cx="3787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a:t>
            </a:r>
            <a:endParaRPr b="0" lang="en-US" sz="1400" spc="-1" strike="noStrike">
              <a:solidFill>
                <a:srgbClr val="000000"/>
              </a:solidFill>
              <a:latin typeface="Times New Roman"/>
            </a:endParaRPr>
          </a:p>
        </p:txBody>
      </p:sp>
      <p:sp>
        <p:nvSpPr>
          <p:cNvPr id="304" name=""/>
          <p:cNvSpPr/>
          <p:nvPr/>
        </p:nvSpPr>
        <p:spPr>
          <a:xfrm>
            <a:off x="3174840" y="2437200"/>
            <a:ext cx="2797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305" name=""/>
          <p:cNvSpPr/>
          <p:nvPr/>
        </p:nvSpPr>
        <p:spPr>
          <a:xfrm flipH="1" flipV="1">
            <a:off x="5257800" y="2285640"/>
            <a:ext cx="60912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cc0000"/>
            </a:solidFill>
            <a:miter/>
            <a:head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CCE73708-8A1C-4201-9D7F-9D93C529E72B}" type="slidenum">
              <a:t>9</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Mark Webster</dc:creator>
  <dc:description/>
  <dc:language>en-US</dc:language>
  <cp:lastModifiedBy>Harris Semiconductor</cp:lastModifiedBy>
  <cp:lastPrinted>2000-07-06T16:37:24Z</cp:lastPrinted>
  <dcterms:modified xsi:type="dcterms:W3CDTF">2000-07-12T15:59:17Z</dcterms:modified>
  <cp:revision>100</cp:revision>
  <dc:subject/>
  <dc:title>Frequency Domain Modulators for 802.11b</dc:title>
</cp:coreProperties>
</file>