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24D3A-9F2E-4D28-A187-9B488F70B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move onto how to minimize the effect of interference on our system and how we could be sociable with other users by not interfering with them.  For the purpose of this work, we have not considered (we should be in the selec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ignal to noise &amp; inter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ffect of multi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major angle is to avoid transmitting over other systems, and in the case of  Bluetooth, which we see as the major source of interference in this band in 2 years time, avoiding its trans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time-domain’ solution, which is shown to be consistent with the short packets required by most servic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040"/>
            <a:ext cx="50292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in 15 months, we are facing the situation where most offices and homes will use bluetooth systems.  It is reasonable to anticipate that the systems will operate simultaneously in the same are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should endeavor to design HRb to be both capable of operating in its presence and if possible to minimize HRb’s effect on Bluetooth.  In this sense we are proposing steps that can be taken to help HRb coexist with Bluetooth.  The definition of coexist is that both systems can operate simultaneously in the same space.  With operation, we mean that both systems will continue to offer their respective services, though there may be some degradation in performance.  Acceptable degradation, from practical experience 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duced range of ope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Reduced data rate or an increase in latency for data servi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Reduced voice qua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he operational range of these systems is reduced by interference, the user can under most circumstances move the equipment to position where it will operate.  We are fortunate that through use of cellphones and cordless phones the user is prepared for thi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assumption that we do not wish to make is that the Bluetooth or WLAN will be used in frequently.  We expect a very widespread use of Bluetooth systems for wire replacement throughout the office and the home.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in being designed as a very cost competitive radio solution has no capability for clear channel assessment.  It will transmit on an RF frequency channel when the MAC tells it, irrespective of any activity of other systems on the same RF frequency.  Its second feature is that it frequency hops over the entire frequency band, so no part of the 2.4GHz ISM  is free from its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for the US and most European countries transmitts on 79 channels, frequency hopping to a long psuedo random code.  It could dwell on channel for as long as 3msec or hop every 625usec.  Herein lies the problem, for an HRb system, which effectively has a 20MHz channel, in the US, there is a 25% chance that an active Bluetooth is transmitting in the HRb systems receiver bandwidth (20/79).  Note this is a first order calculation and ign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hysical separation of Bluetooth transmitter and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hysical separation of the HRb receivers and 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Effect of the Bluetooth transmitter when it falls into an adjacent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Power difference between the HRb and Bluetooth 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The signal to interference required for the HRb modulation sch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ill vary the exact percentage, but in general there will be a high probability of collision and many situations where this will cause a problem.</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at the Bluetooth transmissions in the time domain, the Bluetooth can hop every 625usec.  Note that the Transmit frame can be extended to occupy up to 5 time slots on one frequ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is issues posed by this scheme is that if an HRb uses RF energy detection to avoid the first Bluetooth transmission, and waits till the quiet period where the bluetooth is transmitting, there is still a 25% chance that the Bluetooth will transmit the next time slot within the HRb systems frequency channel of opera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luetooth frequency hopping pattern generates the potential for collisions with the HRb system.  A polite HRb system could transmit after the end of one Bluetooth packet, but stands a 25% chance of having a collision of the order of 249 usec later.  The collision is defined as where the Bluetooth and 802.11b both transmit at the same time, with the Bluetooth RF channel within the RF bandwidth of the HRb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ansmit collision occurs, then either system could effect the other.  In the case of the 802.11b being interfered with, this could fatally interfere with the 11b Data or ACK packet.  For  a Bluetooth, there is a 25% chance that the next channel could be occupied by a 802.11b transmission, this could fatally interfere with the Bluetooth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HRb system will be capable of transmitting the transaction, which is Data or Data plus ACK within the 249usec hop time.  This stops the HRb transaction effecting the next Bluetooth slot or vice versa.</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shows the transmit spectrum masks of the Bluetooth and HRb system.  The relatively narrow bandwidth occupied by the Bluetooth means that transmitting in adjacent channels should mostly be filtered.  However, if the systems are very closely located, the transmitter noise floor could de-sensitize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Bluetooth however, the HRb transmission poses a problem, it occupies a 20MHz (nominal bandwidth).  This makes the HRb system capable of interfering in 25% of the Bluetooth channels when it transmi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the situation where an 802.11b data -ACK starts at the end of one Bluetooth transmission.  With a 420byte MPDU, the Data and the ACK overlap the next bluetooth transmission time slo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what we would like to happen is that the HRb system be capable of doing a transaction within 249use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Rb system can be polite, defer to the Bluetooth, then complete the transaction, if the Bluetooth is not on the same RF channel in the next time slot, the HRb system can continue to transmit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her to the transmission of short packets, for the throughput calculations with HRb systems, we ought to assume that 25% of the time, the RF channel is busy due to Bluetooth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both this loss of time and the desire for short packets, we still wish to maintain the throughput of 20Mbp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uick calculation reveals that the 802.11b, with the short preamble has zero throughput if the Data-Ack time requirement is 249use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e cover the perceived needs of the HRb system then look at the issues that arise in meeting these needs.  Two key factors effect the HRb system in meeting requirements, PHY overhead and the on air data rate.  These two factors are driven by the packet size, MPDU, that the WLAN will transmit and the interference in the 2.4GHz b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overviews the traffic packet size for the HRb first.  It then moves on to consider Interference in the 2.4GHz band. In this consideration,  a scheme to minimize collisions with the most likely source of interference is then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proposed requirements and evaluation criteria are given in the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ore aggressive preamble times, plus a higher data rate ACK, reasonable throughput is capable.  An example is the 802.11a frame format.  Similarly a single carrier scheme with an aggressive preamble for equalization could enable good throughput in this 249usec time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the 802.11a frame format, assuming the HRb RF channel is busy 25% of the time due to Bluetooth, with a 249usec transaction time, the on air data rate for the 20Mbps throughput needs to be &gt;35Mbp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ooking to a future improved system, the requirements of the ultra-short preamble will make it unlikely that pre HRb system will see the HRb pre-amble.  If energy detect CCAs are not used in legacy equipment, then the CCA may become broken.  This is because the CCA requirements can be met by decoding the headers or looking for correlation on the spreading code.  However this problem only exists for mixed networks with HRb and legacy equipment and a solution seems possible using the MAC using the PC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arly the politest way for HRb to implement the CCA is to base it on energy detect,  this will allow deference to Bluetooths.  However, there is a danger that the HRb system spends the whole time deferring to other systems.  T o counter this HRb should be able to raise the energy level at which the HRb  defers if the channel is busy for a significant length of time.  This ensures that the HRb system keeps going as it will be capable of burning through the interference, though the range of the system may be reduce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ngineering issue is with an ultra short preamble is how to mitigate multipath.  At the data rates required by HRb, equalization will be required to mitigate multipath.  The ultra-short preamble makes this more difficult, but it is still technically fea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commendation is to use energy detect for the CCA, there is little point transmitting when the channel is intermittently busy with other systems.  Though it is acknowledged that timers will be required to prevent excessive deference to other systems by raising the ‘clear channel’ energy threshold.  This will allow transmissions if the environment is very bu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ssue for the specification is that the legacy equipment will not be able to detect the HRb pre-amble.  This presents an issue for the mixed equipment installation, where 802.11b, HRb and 802.11DS systems are operating in the same environment.  Here the use of the PCF is seen as the mechanism for enabling this coexistenc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work to date, the following recommendations ar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Use and MPDU of 420 bytes for HRb throughput compari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HRb system should reduce the PHY overhead compared to the 802.11b system, targeting a PHY overhead of &lt;40% with a 100byte packet and on air data rate of 20Mb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o enable a 20Mbps throughput in the presence of some interference, the on air data rates should be in excess of 35Mb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e HRb system should be able to complete a data-ACK in &lt;249usec to air coexistence with Bluetoo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rying to offer video distribution, plus the wish to meet the ever increasing desire for bandwidth from Enterprise Networking, the actual throughput required for the next generation of 2.4GHz WLANs is seen as 20Mbps or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ffering the services of Voice and data, the radio system design needs to consider the payload size, per packet transmitted, that is required.  One of our primary concerns is that the throughput required is possible with the packet size that is to be most frequ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with interference in the 2.4GHz band is required.  Unlike telecommunications systems, such  as cellular and cordless phones (Europe &amp; Japan), where the spectrum is managed, we are trying to operate a system in an unlicensed band.  The advantage is cost, we don’t pay, the down side is that there are potentially a large number of other users with whom we must share the band.  These all offer potential sources of interference and their number is expected to increase with time as more products are released to operate in the 2.4GHz ISM bands.  Future PHYs should look to live with and ideally coexist with the other significant systems in this band.  In addition any estimation of data rate required should have allowance for this interference built 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the radio transmissions effective, we need to transmit the maximum useful data, or MPDU per microsecond we spend transmitting.  All other transmissions are overhead and should be considered a waste of spectrum and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 overhead  which comprises in 11b the Synch field, SFD and header for each packet transmitted.  In addition the time taken to send the ACK and the time it takes to switch from transmit to receive are also considered dead time.   All this should happen in the minimum possibl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behind this submission has followed the logical fl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ooking the likely packet length (MPDU) required by the different services HRb is to support.   From this we make  a recommendation as to the packet length that should be used for comparing the different modulation schemes throughput, and an upper limit for the PHY overhead for a specific packet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step was to consider the effect of the system which is seen to be the major contributor of interference in two years time for HRb, notably Bluetooth.  We wish to show how using short packets, an potential scheme for living with Bluetooth could be enabled in HR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rom this work we have calculated to a first order the on air data rate required to meet the throughput needs.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ooking at the packet length, we looked at data, video and voice independ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ata we assumed that the data traffic profile would be like that on the Internet, in IP format.  There is also the assumption that the WLAN will be transparent to the packets and data packets will not be bundled into larger packets prior to transmission over the WL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is seen as a different problem to straight packet size.  This is seen as a new service with no requirements of existing networks where the issue is how best to get the video information over the available wireless link.  It is logical for the video service to select the packet size that best avoids interference from other systems.  As a result, discussion for Video packet length is defe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ice services are relatively low bandwidth, toll quality voice in 64kbps, which would need packet sizes of &lt;100bytes every 2-10msec.  There are two types of voice, either voice over IP or a toll quality service, that may require a quasi-isochronous link.  This submission does not delve into voice transmission, merely states that voice services will have very small pac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ummarize, video packet size will be set by the radio environment, voice requires of the order 100 byte packets or less.  Let us now look at the statistics for IP dat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searched available information &amp; found the above document the most useful.  Packet size results were made at an Internet Exchange (AIX) over a 10 month period, and seven day snapshots we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plot the cumulative probability of both packet size and bytes transmitted as a function packet lengt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d line in the figure shows the cumulative percentage of packets as a function of their size.  This shows that over 50% of the packets are &lt;100 bytes.  There is a significant step at about 600byte, showing &gt;80% of packets are less than this size.  About 15% of packets are 1500bytes, there are &lt;0.1% above this 1500 limit, set by the maximum size for ethernet.  The step at 600bytes is due to the limit set for packet size over un-managed links.  This shows that a staggering amount of packets are of a very small number of by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en line shows the total bytes transmitted as a function of packets size.  Whilst 50% of data is transmitted at 1500 bytes, about 35% of bytes are transmitted in  less than 600 byte packet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lide summarizes the statistics for the IP packets.  Key numbers are the mean packet size being 420 bytes and the median packet size is &lt;100bytes. Any HRb standard should look to ensure that it can efficiently transmit these shorter pac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collected in this study were compared to data published 2 years prior.  Interestingly the statistics were very similar, with a minor trend to a reduction in packet length.  This trend in shorter packets on analysis was shown to be due to an increase in Gaming and Real Audio.</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both the voice and data perspective, we should ensure the HRb can efficiently cope with the 100 byte packets.  Currently even with the short pre-amble, a 22Mbps system will have &gt;75% of a data-ACK transaction comprised of PHY over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pose that a target be set for the PHY overhead of &lt;40% for a data-ACK transaction with a 20Mbps on air data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roughput comparison of the HRb proposals, we suggest the median IP packet size of 420bytes should be used.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raine,  Micro Linear Corp.</a:t>
            </a:r>
            <a:endParaRPr b="0" lang="en-US" sz="1200" spc="-1" strike="noStrike">
              <a:solidFill>
                <a:srgbClr val="000000"/>
              </a:solidFill>
              <a:latin typeface="Times New Roman"/>
            </a:endParaRPr>
          </a:p>
        </p:txBody>
      </p:sp>
      <p:sp>
        <p:nvSpPr>
          <p:cNvPr id="4"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6</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40381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C1CE3A-6857-4323-8C78-576A77F5F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performance requirements:</a:t>
            </a:r>
            <a:br>
              <a:rPr sz="4400"/>
            </a:br>
            <a:r>
              <a:rPr b="0" lang="en-US" sz="4400" spc="-1" strike="noStrike">
                <a:solidFill>
                  <a:srgbClr val="000000"/>
                </a:solidFill>
                <a:latin typeface="Times New Roman"/>
              </a:rPr>
              <a:t>PHY Overhead &amp; Data Rate </a:t>
            </a: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rry Loraine, Gwilym Luff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Sy Prestwich</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ro Linear Corpor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2: Collision Avoidance</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rn with 2.4GHz band is potential for interference from different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major ‘competitor’ for the spectrum to be Bluetoot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get is to get both systems to co-ex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existing with Bluetooth</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will operate in the same space/room in the office and the home environm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ition of coexi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systems will simultaneously operate in the same area, with minimal impact on each other</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WLAN can still transmit data, but may suffer reduced throughput</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can still maintain services such as a voice links and data </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we kill voice products, e.g. Bluetooth or 2.4GHz cordless phones, 802.11 could be perceived as the problem.</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assume that the effect of one system on the other is minimal due to low duty cycle use of the Blueto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Bluetooth is a problem</a:t>
            </a:r>
            <a:endParaRPr b="0" lang="en-US" sz="4400" spc="-1" strike="noStrike">
              <a:solidFill>
                <a:srgbClr val="000000"/>
              </a:solidFill>
              <a:latin typeface="Times New Roman"/>
            </a:endParaRPr>
          </a:p>
        </p:txBody>
      </p:sp>
      <p:pic>
        <p:nvPicPr>
          <p:cNvPr id="76" name="" descr=""/>
          <p:cNvPicPr/>
          <p:nvPr/>
        </p:nvPicPr>
        <p:blipFill>
          <a:blip r:embed="rId1"/>
          <a:srcRect l="2156" t="1868" r="1866" b="2140"/>
          <a:stretch/>
        </p:blipFill>
        <p:spPr>
          <a:xfrm>
            <a:off x="2133720" y="2743200"/>
            <a:ext cx="4241520" cy="3343320"/>
          </a:xfrm>
          <a:prstGeom prst="rect">
            <a:avLst/>
          </a:prstGeom>
          <a:ln w="0">
            <a:noFill/>
          </a:ln>
        </p:spPr>
      </p:pic>
      <p:sp>
        <p:nvSpPr>
          <p:cNvPr id="77" name=""/>
          <p:cNvSpPr/>
          <p:nvPr/>
        </p:nvSpPr>
        <p:spPr>
          <a:xfrm flipH="1" flipV="1">
            <a:off x="2139480" y="2887200"/>
            <a:ext cx="101880" cy="2714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25520" y="5602320"/>
            <a:ext cx="5045400" cy="660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5864400" y="5186160"/>
            <a:ext cx="590400" cy="88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413760" y="572940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equency</a:t>
            </a:r>
            <a:endParaRPr b="0" lang="en-US" sz="2400" spc="-1" strike="noStrike">
              <a:solidFill>
                <a:srgbClr val="000000"/>
              </a:solidFill>
              <a:latin typeface="Times New Roman"/>
            </a:endParaRPr>
          </a:p>
        </p:txBody>
      </p:sp>
      <p:sp>
        <p:nvSpPr>
          <p:cNvPr id="81" name=""/>
          <p:cNvSpPr/>
          <p:nvPr/>
        </p:nvSpPr>
        <p:spPr>
          <a:xfrm>
            <a:off x="1042920" y="4513320"/>
            <a:ext cx="97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wer</a:t>
            </a:r>
            <a:endParaRPr b="0" lang="en-US" sz="2400" spc="-1" strike="noStrike">
              <a:solidFill>
                <a:srgbClr val="000000"/>
              </a:solidFill>
              <a:latin typeface="Times New Roman"/>
            </a:endParaRPr>
          </a:p>
        </p:txBody>
      </p:sp>
      <p:sp>
        <p:nvSpPr>
          <p:cNvPr id="82" name=""/>
          <p:cNvSpPr/>
          <p:nvPr/>
        </p:nvSpPr>
        <p:spPr>
          <a:xfrm>
            <a:off x="6459840" y="5135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83" name=""/>
          <p:cNvSpPr/>
          <p:nvPr/>
        </p:nvSpPr>
        <p:spPr>
          <a:xfrm>
            <a:off x="6287040" y="3233880"/>
            <a:ext cx="256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Transm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us time.</a:t>
            </a:r>
            <a:endParaRPr b="0" lang="en-US" sz="2400" spc="-1" strike="noStrike">
              <a:solidFill>
                <a:srgbClr val="000000"/>
              </a:solidFill>
              <a:latin typeface="Times New Roman"/>
            </a:endParaRPr>
          </a:p>
        </p:txBody>
      </p:sp>
      <p:sp>
        <p:nvSpPr>
          <p:cNvPr id="84" name=""/>
          <p:cNvSpPr/>
          <p:nvPr/>
        </p:nvSpPr>
        <p:spPr>
          <a:xfrm>
            <a:off x="1814400" y="5587920"/>
            <a:ext cx="81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GHz</a:t>
            </a:r>
            <a:endParaRPr b="0" lang="en-US" sz="1600" spc="-1" strike="noStrike">
              <a:solidFill>
                <a:srgbClr val="000000"/>
              </a:solidFill>
              <a:latin typeface="Times New Roman"/>
            </a:endParaRPr>
          </a:p>
        </p:txBody>
      </p:sp>
      <p:sp>
        <p:nvSpPr>
          <p:cNvPr id="85" name=""/>
          <p:cNvSpPr/>
          <p:nvPr/>
        </p:nvSpPr>
        <p:spPr>
          <a:xfrm>
            <a:off x="5433480" y="609300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8GHz</a:t>
            </a:r>
            <a:endParaRPr b="0" lang="en-US" sz="1600" spc="-1" strike="noStrike">
              <a:solidFill>
                <a:srgbClr val="000000"/>
              </a:solidFill>
              <a:latin typeface="Times New Roman"/>
            </a:endParaRPr>
          </a:p>
        </p:txBody>
      </p:sp>
      <p:sp>
        <p:nvSpPr>
          <p:cNvPr id="86" name="PlaceHolder 2"/>
          <p:cNvSpPr>
            <a:spLocks noGrp="1"/>
          </p:cNvSpPr>
          <p:nvPr>
            <p:ph/>
          </p:nvPr>
        </p:nvSpPr>
        <p:spPr>
          <a:xfrm>
            <a:off x="762120" y="1371240"/>
            <a:ext cx="7772400" cy="1133640"/>
          </a:xfrm>
          <a:prstGeom prst="rect">
            <a:avLst/>
          </a:prstGeom>
          <a:noFill/>
          <a:ln w="0">
            <a:noFill/>
          </a:ln>
        </p:spPr>
        <p:txBody>
          <a:bodyPr lIns="92160" rIns="92160" tIns="46080" bIns="46080" anchor="t">
            <a:normAutofit fontScale="77000"/>
          </a:bodyPr>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 No Clear Channel Access mechanism</a:t>
            </a: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frequency hops over the entire 2.4GHz band.</a:t>
            </a:r>
            <a:endParaRPr b="0" lang="en-US" sz="2000" spc="-1" strike="noStrike">
              <a:solidFill>
                <a:srgbClr val="000000"/>
              </a:solidFill>
              <a:latin typeface="Times New Roman"/>
            </a:endParaRPr>
          </a:p>
          <a:p>
            <a:pPr marL="263880" indent="-263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b receiver bandwidth~20MHz, there is of the order of 25% chance of collision with a Bluetooth...</a:t>
            </a:r>
            <a:endParaRPr b="0" lang="en-US" sz="2000" spc="-1" strike="noStrike">
              <a:solidFill>
                <a:srgbClr val="000000"/>
              </a:solidFill>
              <a:latin typeface="Times New Roman"/>
            </a:endParaRPr>
          </a:p>
        </p:txBody>
      </p:sp>
      <p:sp>
        <p:nvSpPr>
          <p:cNvPr id="87" name=""/>
          <p:cNvSpPr/>
          <p:nvPr/>
        </p:nvSpPr>
        <p:spPr>
          <a:xfrm>
            <a:off x="4915080" y="5478480"/>
            <a:ext cx="1276200" cy="590400"/>
          </a:xfrm>
          <a:custGeom>
            <a:avLst/>
            <a:gdLst/>
            <a:ahLst/>
            <a:rect l="l" t="t" r="r" b="b"/>
            <a:pathLst>
              <a:path w="804" h="372">
                <a:moveTo>
                  <a:pt x="804" y="66"/>
                </a:moveTo>
                <a:lnTo>
                  <a:pt x="600" y="372"/>
                </a:lnTo>
                <a:lnTo>
                  <a:pt x="0" y="300"/>
                </a:lnTo>
                <a:lnTo>
                  <a:pt x="282" y="0"/>
                </a:lnTo>
                <a:lnTo>
                  <a:pt x="804" y="66"/>
                </a:lnTo>
                <a:close/>
              </a:path>
            </a:pathLst>
          </a:custGeom>
          <a:solidFill>
            <a:srgbClr val="ff0000">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3876840" y="5878440"/>
            <a:ext cx="138096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97680" y="6005520"/>
            <a:ext cx="317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Rb receiver bandwid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uetooth in the time domain:</a:t>
            </a:r>
            <a:endParaRPr b="0" lang="en-US" sz="4400" spc="-1" strike="noStrike">
              <a:solidFill>
                <a:srgbClr val="000000"/>
              </a:solidFill>
              <a:latin typeface="Times New Roman"/>
            </a:endParaRPr>
          </a:p>
        </p:txBody>
      </p:sp>
      <p:sp>
        <p:nvSpPr>
          <p:cNvPr id="91" name=""/>
          <p:cNvSpPr/>
          <p:nvPr/>
        </p:nvSpPr>
        <p:spPr>
          <a:xfrm>
            <a:off x="1219320" y="3276720"/>
            <a:ext cx="746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676520" y="259092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038480" y="2590920"/>
            <a:ext cx="137160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67652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03848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2286000"/>
            <a:ext cx="2361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439360" y="19051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98" name=""/>
          <p:cNvSpPr/>
          <p:nvPr/>
        </p:nvSpPr>
        <p:spPr>
          <a:xfrm>
            <a:off x="4038480" y="228600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01680" y="19051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100" name=""/>
          <p:cNvSpPr/>
          <p:nvPr/>
        </p:nvSpPr>
        <p:spPr>
          <a:xfrm flipV="1">
            <a:off x="6400800" y="20570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400800" y="2590920"/>
            <a:ext cx="1371600" cy="6858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856160" y="3295800"/>
            <a:ext cx="118800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uency A)</a:t>
            </a:r>
            <a:endParaRPr b="0" lang="en-US" sz="1400" spc="-1" strike="noStrike">
              <a:solidFill>
                <a:srgbClr val="000000"/>
              </a:solidFill>
              <a:latin typeface="Times New Roman"/>
            </a:endParaRPr>
          </a:p>
        </p:txBody>
      </p:sp>
      <p:sp>
        <p:nvSpPr>
          <p:cNvPr id="103" name=""/>
          <p:cNvSpPr/>
          <p:nvPr/>
        </p:nvSpPr>
        <p:spPr>
          <a:xfrm>
            <a:off x="4107240" y="3286080"/>
            <a:ext cx="1179000" cy="6728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slot</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uency B)</a:t>
            </a:r>
            <a:endParaRPr b="0" lang="en-US" sz="1400" spc="-1" strike="noStrike">
              <a:solidFill>
                <a:srgbClr val="000000"/>
              </a:solidFill>
              <a:latin typeface="Times New Roman"/>
            </a:endParaRPr>
          </a:p>
        </p:txBody>
      </p:sp>
      <p:sp>
        <p:nvSpPr>
          <p:cNvPr id="104" name=""/>
          <p:cNvSpPr/>
          <p:nvPr/>
        </p:nvSpPr>
        <p:spPr>
          <a:xfrm>
            <a:off x="6656760" y="3286080"/>
            <a:ext cx="1179000" cy="67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quency C)</a:t>
            </a:r>
            <a:endParaRPr b="0" lang="en-US" sz="1400" spc="-1" strike="noStrike">
              <a:solidFill>
                <a:srgbClr val="000000"/>
              </a:solidFill>
              <a:latin typeface="Times New Roman"/>
            </a:endParaRPr>
          </a:p>
        </p:txBody>
      </p:sp>
      <p:sp>
        <p:nvSpPr>
          <p:cNvPr id="105" name=""/>
          <p:cNvSpPr/>
          <p:nvPr/>
        </p:nvSpPr>
        <p:spPr>
          <a:xfrm>
            <a:off x="1676520" y="31240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29360" y="2666880"/>
            <a:ext cx="135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366usec</a:t>
            </a:r>
            <a:endParaRPr b="0" lang="en-US" sz="2400" spc="-1" strike="noStrike">
              <a:solidFill>
                <a:srgbClr val="000000"/>
              </a:solidFill>
              <a:latin typeface="Times New Roman"/>
            </a:endParaRPr>
          </a:p>
        </p:txBody>
      </p:sp>
      <p:sp>
        <p:nvSpPr>
          <p:cNvPr id="107" name=""/>
          <p:cNvSpPr/>
          <p:nvPr/>
        </p:nvSpPr>
        <p:spPr>
          <a:xfrm>
            <a:off x="3048120" y="266688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48840" y="235728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249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109" name=""/>
          <p:cNvSpPr/>
          <p:nvPr/>
        </p:nvSpPr>
        <p:spPr>
          <a:xfrm>
            <a:off x="3962520" y="297180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886920" y="296712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111" name=""/>
          <p:cNvSpPr/>
          <p:nvPr/>
        </p:nvSpPr>
        <p:spPr>
          <a:xfrm flipV="1">
            <a:off x="1447920" y="3191040"/>
            <a:ext cx="523800" cy="1390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080" y="4521240"/>
            <a:ext cx="83203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Can be multi-slot, duration N*625+&lt;366 </a:t>
            </a:r>
            <a:r>
              <a:rPr b="0" lang="en-US" sz="2400" spc="-1" strike="noStrike">
                <a:solidFill>
                  <a:srgbClr val="000000"/>
                </a:solidFill>
                <a:latin typeface="Symbol"/>
                <a:ea typeface="Symbol"/>
              </a:rPr>
              <a:t></a:t>
            </a:r>
            <a:r>
              <a:rPr b="0" lang="en-US" sz="2400" spc="-1" strike="noStrike">
                <a:solidFill>
                  <a:srgbClr val="000000"/>
                </a:solidFill>
                <a:latin typeface="Times New Roman"/>
              </a:rPr>
              <a:t>sec,  N=0,1,2,3,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ulti-slot Tx is on one frequency.  Otherwise the frequency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for each time sl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958160" y="27655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14" name=""/>
          <p:cNvSpPr/>
          <p:nvPr/>
        </p:nvSpPr>
        <p:spPr>
          <a:xfrm>
            <a:off x="3495600" y="3228840"/>
            <a:ext cx="495360" cy="1009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002840" y="3984480"/>
            <a:ext cx="279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 Channel hop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25780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553080" y="3809880"/>
            <a:ext cx="6098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24280" y="3809880"/>
            <a:ext cx="4572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895480" y="3809880"/>
            <a:ext cx="8384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4320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590920" y="3809880"/>
            <a:ext cx="7596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D Time / Frequency map of Bluetooth / 802.11</a:t>
            </a:r>
            <a:endParaRPr b="0" lang="en-US" sz="4400" spc="-1" strike="noStrike">
              <a:solidFill>
                <a:srgbClr val="000000"/>
              </a:solidFill>
              <a:latin typeface="Times New Roman"/>
            </a:endParaRPr>
          </a:p>
        </p:txBody>
      </p:sp>
      <p:sp>
        <p:nvSpPr>
          <p:cNvPr id="123" name=""/>
          <p:cNvSpPr/>
          <p:nvPr/>
        </p:nvSpPr>
        <p:spPr>
          <a:xfrm flipV="1">
            <a:off x="1219320" y="2362320"/>
            <a:ext cx="0" cy="365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rot="16200000">
            <a:off x="181440" y="3705120"/>
            <a:ext cx="1468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quency</a:t>
            </a:r>
            <a:endParaRPr b="0" lang="en-US" sz="2400" spc="-1" strike="noStrike">
              <a:solidFill>
                <a:srgbClr val="000000"/>
              </a:solidFill>
              <a:latin typeface="Times New Roman"/>
            </a:endParaRPr>
          </a:p>
        </p:txBody>
      </p:sp>
      <p:sp>
        <p:nvSpPr>
          <p:cNvPr id="125" name=""/>
          <p:cNvSpPr/>
          <p:nvPr/>
        </p:nvSpPr>
        <p:spPr>
          <a:xfrm>
            <a:off x="1219320" y="6019920"/>
            <a:ext cx="6629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91120" y="60199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127" name=""/>
          <p:cNvSpPr/>
          <p:nvPr/>
        </p:nvSpPr>
        <p:spPr>
          <a:xfrm>
            <a:off x="1447920" y="28195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8" name=""/>
          <p:cNvSpPr/>
          <p:nvPr/>
        </p:nvSpPr>
        <p:spPr>
          <a:xfrm>
            <a:off x="1905120" y="502920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9" name=""/>
          <p:cNvSpPr/>
          <p:nvPr/>
        </p:nvSpPr>
        <p:spPr>
          <a:xfrm>
            <a:off x="2362320" y="33526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0" name=""/>
          <p:cNvSpPr/>
          <p:nvPr/>
        </p:nvSpPr>
        <p:spPr>
          <a:xfrm>
            <a:off x="4191120" y="25909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1" name=""/>
          <p:cNvSpPr/>
          <p:nvPr/>
        </p:nvSpPr>
        <p:spPr>
          <a:xfrm>
            <a:off x="4648320" y="42670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5105520" y="44197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3" name=""/>
          <p:cNvSpPr/>
          <p:nvPr/>
        </p:nvSpPr>
        <p:spPr>
          <a:xfrm>
            <a:off x="5562720" y="3505320"/>
            <a:ext cx="304560" cy="75960"/>
          </a:xfrm>
          <a:prstGeom prst="rect">
            <a:avLst/>
          </a:prstGeom>
          <a:solidFill>
            <a:srgbClr val="33cccc"/>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4" name=""/>
          <p:cNvSpPr/>
          <p:nvPr/>
        </p:nvSpPr>
        <p:spPr>
          <a:xfrm>
            <a:off x="6019920" y="28954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5" name=""/>
          <p:cNvSpPr/>
          <p:nvPr/>
        </p:nvSpPr>
        <p:spPr>
          <a:xfrm>
            <a:off x="6477120" y="502920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6934320" y="426708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7" name=""/>
          <p:cNvSpPr/>
          <p:nvPr/>
        </p:nvSpPr>
        <p:spPr>
          <a:xfrm>
            <a:off x="7391520" y="5715000"/>
            <a:ext cx="30456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8" name=""/>
          <p:cNvSpPr/>
          <p:nvPr/>
        </p:nvSpPr>
        <p:spPr>
          <a:xfrm>
            <a:off x="1219320" y="3809880"/>
            <a:ext cx="30456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0020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4382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81080" y="3809880"/>
            <a:ext cx="3812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8098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962520" y="3809880"/>
            <a:ext cx="45720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4956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410080" y="3809880"/>
            <a:ext cx="60984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58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38880" y="3809880"/>
            <a:ext cx="76320" cy="9144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76520" y="2971800"/>
            <a:ext cx="304560" cy="198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2133720" y="3505320"/>
            <a:ext cx="38088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2514600" y="3505320"/>
            <a:ext cx="30492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962520" y="2742840"/>
            <a:ext cx="228600" cy="106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419720" y="2743200"/>
            <a:ext cx="22860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52880" y="4343400"/>
            <a:ext cx="76320" cy="7632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flipV="1">
            <a:off x="5334120" y="3657240"/>
            <a:ext cx="15228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5791320" y="304812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248520" y="3048120"/>
            <a:ext cx="228600" cy="1904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6705720" y="4419360"/>
            <a:ext cx="22860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62920" y="4419720"/>
            <a:ext cx="228600" cy="1218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09360" y="236232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Net Tx’s</a:t>
            </a:r>
            <a:endParaRPr b="0" lang="en-US" sz="2400" spc="-1" strike="noStrike">
              <a:solidFill>
                <a:srgbClr val="000000"/>
              </a:solidFill>
              <a:latin typeface="Times New Roman"/>
            </a:endParaRPr>
          </a:p>
        </p:txBody>
      </p:sp>
      <p:sp>
        <p:nvSpPr>
          <p:cNvPr id="160" name=""/>
          <p:cNvSpPr/>
          <p:nvPr/>
        </p:nvSpPr>
        <p:spPr>
          <a:xfrm>
            <a:off x="7468200" y="4191120"/>
            <a:ext cx="98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b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s</a:t>
            </a:r>
            <a:endParaRPr b="0" lang="en-US" sz="1800" spc="-1" strike="noStrike">
              <a:solidFill>
                <a:srgbClr val="000000"/>
              </a:solidFill>
              <a:latin typeface="Times New Roman"/>
            </a:endParaRPr>
          </a:p>
        </p:txBody>
      </p:sp>
      <p:sp>
        <p:nvSpPr>
          <p:cNvPr id="161" name=""/>
          <p:cNvSpPr/>
          <p:nvPr/>
        </p:nvSpPr>
        <p:spPr>
          <a:xfrm>
            <a:off x="2819520" y="3809880"/>
            <a:ext cx="1143000" cy="76320"/>
          </a:xfrm>
          <a:prstGeom prst="rect">
            <a:avLst/>
          </a:prstGeom>
          <a:solidFill>
            <a:srgbClr val="33cccc"/>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ential Co-existance issue</a:t>
            </a: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collisions where Bluetooth hops onto an 802.11b transmi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ly trashes 802.11b packet or any AC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Transmissions Potentially trash Bluetooth packe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happen of the order of 25% of the tim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e HRb transmit packet duration shor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ally HRb completes a data - ack (or data only if no ACK) during Bluetooth RF channel hops (&lt;249 </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and Bluetooth Tx Spectrum</a:t>
            </a:r>
            <a:endParaRPr b="0" lang="en-US" sz="4400" spc="-1" strike="noStrike">
              <a:solidFill>
                <a:srgbClr val="000000"/>
              </a:solidFill>
              <a:latin typeface="Times New Roman"/>
            </a:endParaRPr>
          </a:p>
        </p:txBody>
      </p:sp>
      <p:sp>
        <p:nvSpPr>
          <p:cNvPr id="165" name=""/>
          <p:cNvSpPr/>
          <p:nvPr/>
        </p:nvSpPr>
        <p:spPr>
          <a:xfrm>
            <a:off x="1271520" y="1887480"/>
            <a:ext cx="6653160" cy="411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271520" y="53150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1271520" y="46292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1271520" y="39434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1271520" y="32576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 name=""/>
          <p:cNvSpPr/>
          <p:nvPr/>
        </p:nvSpPr>
        <p:spPr>
          <a:xfrm>
            <a:off x="1271520" y="2571840"/>
            <a:ext cx="665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 name=""/>
          <p:cNvSpPr/>
          <p:nvPr/>
        </p:nvSpPr>
        <p:spPr>
          <a:xfrm>
            <a:off x="1271520" y="1887480"/>
            <a:ext cx="665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10348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3544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767040" y="1887480"/>
            <a:ext cx="180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9900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43096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6112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093080" y="1887480"/>
            <a:ext cx="144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924680" y="1887480"/>
            <a:ext cx="180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271520" y="1887480"/>
            <a:ext cx="6653160" cy="411156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271520" y="1887480"/>
            <a:ext cx="1800" cy="411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238400" y="599904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1238400" y="53150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1238400" y="46292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1238400" y="39434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1238400" y="32576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1238400" y="25718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1238400" y="188748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1271520" y="5999040"/>
            <a:ext cx="665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flipV="1">
            <a:off x="1271520" y="59986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1" name=""/>
          <p:cNvSpPr/>
          <p:nvPr/>
        </p:nvSpPr>
        <p:spPr>
          <a:xfrm flipV="1">
            <a:off x="210348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flipV="1">
            <a:off x="293544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 name=""/>
          <p:cNvSpPr/>
          <p:nvPr/>
        </p:nvSpPr>
        <p:spPr>
          <a:xfrm flipV="1">
            <a:off x="3767040" y="59986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flipV="1">
            <a:off x="459900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 name=""/>
          <p:cNvSpPr/>
          <p:nvPr/>
        </p:nvSpPr>
        <p:spPr>
          <a:xfrm flipV="1">
            <a:off x="543096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6" name=""/>
          <p:cNvSpPr/>
          <p:nvPr/>
        </p:nvSpPr>
        <p:spPr>
          <a:xfrm flipV="1">
            <a:off x="626112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flipV="1">
            <a:off x="7093080" y="599868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flipV="1">
            <a:off x="7924680" y="599868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a:off x="1271520" y="5657760"/>
            <a:ext cx="149724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flipV="1">
            <a:off x="2768760" y="4286160"/>
            <a:ext cx="1440" cy="1371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768760" y="4286160"/>
            <a:ext cx="9144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flipV="1">
            <a:off x="3683160" y="2230560"/>
            <a:ext cx="1440" cy="2055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83160" y="2230560"/>
            <a:ext cx="9158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4599000" y="2230560"/>
            <a:ext cx="91440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513400" y="2230560"/>
            <a:ext cx="1440" cy="2055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13400" y="4286160"/>
            <a:ext cx="9144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6427800" y="4286160"/>
            <a:ext cx="1440" cy="13716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427800" y="5657760"/>
            <a:ext cx="14968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9" name=""/>
          <p:cNvSpPr/>
          <p:nvPr/>
        </p:nvSpPr>
        <p:spPr>
          <a:xfrm>
            <a:off x="1271520" y="4971960"/>
            <a:ext cx="31194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flipV="1">
            <a:off x="4390920" y="3600360"/>
            <a:ext cx="1800" cy="13716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90920" y="3600360"/>
            <a:ext cx="1620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flipV="1">
            <a:off x="4552920" y="2230200"/>
            <a:ext cx="1440" cy="13698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552920" y="2230560"/>
            <a:ext cx="46080" cy="1440"/>
          </a:xfrm>
          <a:prstGeom prst="line">
            <a:avLst/>
          </a:prstGeom>
          <a:ln w="7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4599000" y="2230560"/>
            <a:ext cx="44280" cy="1440"/>
          </a:xfrm>
          <a:prstGeom prst="line">
            <a:avLst/>
          </a:prstGeom>
          <a:ln w="7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4643280" y="2230560"/>
            <a:ext cx="1800" cy="13698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643280" y="3600360"/>
            <a:ext cx="1638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4807080" y="3600360"/>
            <a:ext cx="1440" cy="1371600"/>
          </a:xfrm>
          <a:prstGeom prst="line">
            <a:avLst/>
          </a:prstGeom>
          <a:ln w="79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07080" y="4971960"/>
            <a:ext cx="3117600" cy="1800"/>
          </a:xfrm>
          <a:prstGeom prst="line">
            <a:avLst/>
          </a:prstGeom>
          <a:ln w="792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1054800" y="59356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5</a:t>
            </a:r>
            <a:endParaRPr b="0" lang="en-US" sz="900" spc="-1" strike="noStrike">
              <a:solidFill>
                <a:srgbClr val="000000"/>
              </a:solidFill>
              <a:latin typeface="Times New Roman"/>
            </a:endParaRPr>
          </a:p>
        </p:txBody>
      </p:sp>
      <p:sp>
        <p:nvSpPr>
          <p:cNvPr id="220" name=""/>
          <p:cNvSpPr/>
          <p:nvPr/>
        </p:nvSpPr>
        <p:spPr>
          <a:xfrm>
            <a:off x="1054800" y="5249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5</a:t>
            </a:r>
            <a:endParaRPr b="0" lang="en-US" sz="900" spc="-1" strike="noStrike">
              <a:solidFill>
                <a:srgbClr val="000000"/>
              </a:solidFill>
              <a:latin typeface="Times New Roman"/>
            </a:endParaRPr>
          </a:p>
        </p:txBody>
      </p:sp>
      <p:sp>
        <p:nvSpPr>
          <p:cNvPr id="221" name=""/>
          <p:cNvSpPr/>
          <p:nvPr/>
        </p:nvSpPr>
        <p:spPr>
          <a:xfrm>
            <a:off x="1054800" y="45655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5</a:t>
            </a:r>
            <a:endParaRPr b="0" lang="en-US" sz="900" spc="-1" strike="noStrike">
              <a:solidFill>
                <a:srgbClr val="000000"/>
              </a:solidFill>
              <a:latin typeface="Times New Roman"/>
            </a:endParaRPr>
          </a:p>
        </p:txBody>
      </p:sp>
      <p:sp>
        <p:nvSpPr>
          <p:cNvPr id="222" name=""/>
          <p:cNvSpPr/>
          <p:nvPr/>
        </p:nvSpPr>
        <p:spPr>
          <a:xfrm>
            <a:off x="1054800" y="38797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endParaRPr b="0" lang="en-US" sz="900" spc="-1" strike="noStrike">
              <a:solidFill>
                <a:srgbClr val="000000"/>
              </a:solidFill>
              <a:latin typeface="Times New Roman"/>
            </a:endParaRPr>
          </a:p>
        </p:txBody>
      </p:sp>
      <p:sp>
        <p:nvSpPr>
          <p:cNvPr id="223" name=""/>
          <p:cNvSpPr/>
          <p:nvPr/>
        </p:nvSpPr>
        <p:spPr>
          <a:xfrm>
            <a:off x="1054800" y="3193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a:t>
            </a:r>
            <a:endParaRPr b="0" lang="en-US" sz="900" spc="-1" strike="noStrike">
              <a:solidFill>
                <a:srgbClr val="000000"/>
              </a:solidFill>
              <a:latin typeface="Times New Roman"/>
            </a:endParaRPr>
          </a:p>
        </p:txBody>
      </p:sp>
      <p:sp>
        <p:nvSpPr>
          <p:cNvPr id="224" name=""/>
          <p:cNvSpPr/>
          <p:nvPr/>
        </p:nvSpPr>
        <p:spPr>
          <a:xfrm>
            <a:off x="1115280" y="25081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25" name=""/>
          <p:cNvSpPr/>
          <p:nvPr/>
        </p:nvSpPr>
        <p:spPr>
          <a:xfrm>
            <a:off x="1151640" y="1822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226" name=""/>
          <p:cNvSpPr/>
          <p:nvPr/>
        </p:nvSpPr>
        <p:spPr>
          <a:xfrm>
            <a:off x="121680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Times New Roman"/>
            </a:endParaRPr>
          </a:p>
        </p:txBody>
      </p:sp>
      <p:sp>
        <p:nvSpPr>
          <p:cNvPr id="227" name=""/>
          <p:cNvSpPr/>
          <p:nvPr/>
        </p:nvSpPr>
        <p:spPr>
          <a:xfrm>
            <a:off x="204840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Times New Roman"/>
            </a:endParaRPr>
          </a:p>
        </p:txBody>
      </p:sp>
      <p:sp>
        <p:nvSpPr>
          <p:cNvPr id="228" name=""/>
          <p:cNvSpPr/>
          <p:nvPr/>
        </p:nvSpPr>
        <p:spPr>
          <a:xfrm>
            <a:off x="288036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229" name=""/>
          <p:cNvSpPr/>
          <p:nvPr/>
        </p:nvSpPr>
        <p:spPr>
          <a:xfrm>
            <a:off x="3712320" y="6095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30" name=""/>
          <p:cNvSpPr/>
          <p:nvPr/>
        </p:nvSpPr>
        <p:spPr>
          <a:xfrm>
            <a:off x="4593600" y="60958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231" name=""/>
          <p:cNvSpPr/>
          <p:nvPr/>
        </p:nvSpPr>
        <p:spPr>
          <a:xfrm>
            <a:off x="539352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Times New Roman"/>
            </a:endParaRPr>
          </a:p>
        </p:txBody>
      </p:sp>
      <p:sp>
        <p:nvSpPr>
          <p:cNvPr id="232" name=""/>
          <p:cNvSpPr/>
          <p:nvPr/>
        </p:nvSpPr>
        <p:spPr>
          <a:xfrm>
            <a:off x="622512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endParaRPr b="0" lang="en-US" sz="900" spc="-1" strike="noStrike">
              <a:solidFill>
                <a:srgbClr val="000000"/>
              </a:solidFill>
              <a:latin typeface="Times New Roman"/>
            </a:endParaRPr>
          </a:p>
        </p:txBody>
      </p:sp>
      <p:sp>
        <p:nvSpPr>
          <p:cNvPr id="233" name=""/>
          <p:cNvSpPr/>
          <p:nvPr/>
        </p:nvSpPr>
        <p:spPr>
          <a:xfrm>
            <a:off x="705708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endParaRPr b="0" lang="en-US" sz="900" spc="-1" strike="noStrike">
              <a:solidFill>
                <a:srgbClr val="000000"/>
              </a:solidFill>
              <a:latin typeface="Times New Roman"/>
            </a:endParaRPr>
          </a:p>
        </p:txBody>
      </p:sp>
      <p:sp>
        <p:nvSpPr>
          <p:cNvPr id="234" name=""/>
          <p:cNvSpPr/>
          <p:nvPr/>
        </p:nvSpPr>
        <p:spPr>
          <a:xfrm>
            <a:off x="7889040" y="60958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0</a:t>
            </a:r>
            <a:endParaRPr b="0" lang="en-US" sz="900" spc="-1" strike="noStrike">
              <a:solidFill>
                <a:srgbClr val="000000"/>
              </a:solidFill>
              <a:latin typeface="Times New Roman"/>
            </a:endParaRPr>
          </a:p>
        </p:txBody>
      </p:sp>
      <p:sp>
        <p:nvSpPr>
          <p:cNvPr id="235" name=""/>
          <p:cNvSpPr/>
          <p:nvPr/>
        </p:nvSpPr>
        <p:spPr>
          <a:xfrm>
            <a:off x="4319640" y="6280200"/>
            <a:ext cx="924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requency (MHz)</a:t>
            </a:r>
            <a:endParaRPr b="0" lang="en-US" sz="900" spc="-1" strike="noStrike">
              <a:solidFill>
                <a:srgbClr val="000000"/>
              </a:solidFill>
              <a:latin typeface="Times New Roman"/>
            </a:endParaRPr>
          </a:p>
        </p:txBody>
      </p:sp>
      <p:sp>
        <p:nvSpPr>
          <p:cNvPr id="236" name=""/>
          <p:cNvSpPr/>
          <p:nvPr/>
        </p:nvSpPr>
        <p:spPr>
          <a:xfrm rot="16200000">
            <a:off x="841320" y="3844440"/>
            <a:ext cx="15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B</a:t>
            </a:r>
            <a:endParaRPr b="0" lang="en-US" sz="900" spc="-1" strike="noStrike">
              <a:solidFill>
                <a:srgbClr val="000000"/>
              </a:solidFill>
              <a:latin typeface="Times New Roman"/>
            </a:endParaRPr>
          </a:p>
        </p:txBody>
      </p:sp>
      <p:sp>
        <p:nvSpPr>
          <p:cNvPr id="237" name=""/>
          <p:cNvSpPr/>
          <p:nvPr/>
        </p:nvSpPr>
        <p:spPr>
          <a:xfrm>
            <a:off x="8083440" y="3787920"/>
            <a:ext cx="693720" cy="311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8116920" y="3870360"/>
            <a:ext cx="1364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8303040" y="3808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02.11b</a:t>
            </a:r>
            <a:endParaRPr b="0" lang="en-US" sz="900" spc="-1" strike="noStrike">
              <a:solidFill>
                <a:srgbClr val="000000"/>
              </a:solidFill>
              <a:latin typeface="Times New Roman"/>
            </a:endParaRPr>
          </a:p>
        </p:txBody>
      </p:sp>
      <p:sp>
        <p:nvSpPr>
          <p:cNvPr id="240" name=""/>
          <p:cNvSpPr/>
          <p:nvPr/>
        </p:nvSpPr>
        <p:spPr>
          <a:xfrm>
            <a:off x="8116920" y="4025880"/>
            <a:ext cx="136440" cy="1440"/>
          </a:xfrm>
          <a:prstGeom prst="line">
            <a:avLst/>
          </a:prstGeom>
          <a:ln w="792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 name=""/>
          <p:cNvSpPr/>
          <p:nvPr/>
        </p:nvSpPr>
        <p:spPr>
          <a:xfrm>
            <a:off x="8276760" y="3963960"/>
            <a:ext cx="486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luetooth</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657600" y="3809880"/>
            <a:ext cx="838080" cy="68580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b &amp; Bluetooth: Transmission overlap.</a:t>
            </a:r>
            <a:endParaRPr b="0" lang="en-US" sz="4400" spc="-1" strike="noStrike">
              <a:solidFill>
                <a:srgbClr val="000000"/>
              </a:solidFill>
              <a:latin typeface="Times New Roman"/>
            </a:endParaRPr>
          </a:p>
        </p:txBody>
      </p:sp>
      <p:sp>
        <p:nvSpPr>
          <p:cNvPr id="244" name=""/>
          <p:cNvSpPr/>
          <p:nvPr/>
        </p:nvSpPr>
        <p:spPr>
          <a:xfrm>
            <a:off x="838080" y="3429000"/>
            <a:ext cx="7467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95280" y="274320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7600" y="2743200"/>
            <a:ext cx="1371600" cy="6858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129528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365760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295280" y="243828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8480" y="205740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251" name=""/>
          <p:cNvSpPr/>
          <p:nvPr/>
        </p:nvSpPr>
        <p:spPr>
          <a:xfrm>
            <a:off x="3657600" y="2438280"/>
            <a:ext cx="2362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20800" y="205740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5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p:txBody>
      </p:sp>
      <p:sp>
        <p:nvSpPr>
          <p:cNvPr id="253" name=""/>
          <p:cNvSpPr/>
          <p:nvPr/>
        </p:nvSpPr>
        <p:spPr>
          <a:xfrm flipV="1">
            <a:off x="601992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19920" y="274320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476720" y="34480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p:txBody>
      </p:sp>
      <p:sp>
        <p:nvSpPr>
          <p:cNvPr id="256" name=""/>
          <p:cNvSpPr/>
          <p:nvPr/>
        </p:nvSpPr>
        <p:spPr>
          <a:xfrm>
            <a:off x="3848760" y="3438360"/>
            <a:ext cx="10540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 slot</a:t>
            </a:r>
            <a:endParaRPr b="0" lang="en-US" sz="2400" spc="-1" strike="noStrike">
              <a:solidFill>
                <a:srgbClr val="000000"/>
              </a:solidFill>
              <a:latin typeface="Times New Roman"/>
            </a:endParaRPr>
          </a:p>
        </p:txBody>
      </p:sp>
      <p:sp>
        <p:nvSpPr>
          <p:cNvPr id="257" name=""/>
          <p:cNvSpPr/>
          <p:nvPr/>
        </p:nvSpPr>
        <p:spPr>
          <a:xfrm>
            <a:off x="6277320" y="343836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 slot</a:t>
            </a:r>
            <a:endParaRPr b="0" lang="en-US" sz="2400" spc="-1" strike="noStrike">
              <a:solidFill>
                <a:srgbClr val="000000"/>
              </a:solidFill>
              <a:latin typeface="Times New Roman"/>
            </a:endParaRPr>
          </a:p>
        </p:txBody>
      </p:sp>
      <p:sp>
        <p:nvSpPr>
          <p:cNvPr id="258" name=""/>
          <p:cNvSpPr/>
          <p:nvPr/>
        </p:nvSpPr>
        <p:spPr>
          <a:xfrm>
            <a:off x="1295280" y="32767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248840" y="2813040"/>
            <a:ext cx="14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366 </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p:txBody>
      </p:sp>
      <p:sp>
        <p:nvSpPr>
          <p:cNvPr id="260" name=""/>
          <p:cNvSpPr/>
          <p:nvPr/>
        </p:nvSpPr>
        <p:spPr>
          <a:xfrm>
            <a:off x="2666880" y="281952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7960" y="2509920"/>
            <a:ext cx="11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249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262" name=""/>
          <p:cNvSpPr/>
          <p:nvPr/>
        </p:nvSpPr>
        <p:spPr>
          <a:xfrm>
            <a:off x="3581280" y="312408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506040" y="3119400"/>
            <a:ext cx="116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a:t>
            </a:r>
            <a:r>
              <a:rPr b="0" lang="en-US" sz="1800" spc="-1" strike="noStrike">
                <a:solidFill>
                  <a:srgbClr val="000000"/>
                </a:solidFill>
                <a:latin typeface="Symbol"/>
                <a:ea typeface="Symbol"/>
              </a:rPr>
              <a:t></a:t>
            </a:r>
            <a:r>
              <a:rPr b="0" lang="en-US" sz="1800" spc="-1" strike="noStrike">
                <a:solidFill>
                  <a:srgbClr val="000000"/>
                </a:solidFill>
                <a:latin typeface="Times New Roman"/>
              </a:rPr>
              <a:t>sec</a:t>
            </a:r>
            <a:endParaRPr b="0" lang="en-US" sz="1800" spc="-1" strike="noStrike">
              <a:solidFill>
                <a:srgbClr val="000000"/>
              </a:solidFill>
              <a:latin typeface="Times New Roman"/>
            </a:endParaRPr>
          </a:p>
        </p:txBody>
      </p:sp>
      <p:sp>
        <p:nvSpPr>
          <p:cNvPr id="264" name=""/>
          <p:cNvSpPr/>
          <p:nvPr/>
        </p:nvSpPr>
        <p:spPr>
          <a:xfrm>
            <a:off x="7577280" y="291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265" name=""/>
          <p:cNvSpPr/>
          <p:nvPr/>
        </p:nvSpPr>
        <p:spPr>
          <a:xfrm>
            <a:off x="987840" y="5943600"/>
            <a:ext cx="708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b at 11Mbps with Short pre-amble &amp; 420byte MPDU.</a:t>
            </a:r>
            <a:endParaRPr b="0" lang="en-US" sz="2400" spc="-1" strike="noStrike">
              <a:solidFill>
                <a:srgbClr val="000000"/>
              </a:solidFill>
              <a:latin typeface="Times New Roman"/>
            </a:endParaRPr>
          </a:p>
        </p:txBody>
      </p:sp>
      <p:sp>
        <p:nvSpPr>
          <p:cNvPr id="266" name=""/>
          <p:cNvSpPr/>
          <p:nvPr/>
        </p:nvSpPr>
        <p:spPr>
          <a:xfrm>
            <a:off x="2666880" y="4572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048840" y="4541760"/>
            <a:ext cx="87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8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68" name=""/>
          <p:cNvSpPr/>
          <p:nvPr/>
        </p:nvSpPr>
        <p:spPr>
          <a:xfrm>
            <a:off x="2666880" y="1981080"/>
            <a:ext cx="0" cy="28767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66880" y="4038480"/>
            <a:ext cx="121932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p:txBody>
      </p:sp>
      <p:sp>
        <p:nvSpPr>
          <p:cNvPr id="270" name=""/>
          <p:cNvSpPr/>
          <p:nvPr/>
        </p:nvSpPr>
        <p:spPr>
          <a:xfrm>
            <a:off x="3962520" y="4038480"/>
            <a:ext cx="50472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a:t>
            </a:r>
            <a:endParaRPr b="0" lang="en-US" sz="2400" spc="-1" strike="noStrike">
              <a:solidFill>
                <a:srgbClr val="000000"/>
              </a:solidFill>
              <a:latin typeface="Times New Roman"/>
            </a:endParaRPr>
          </a:p>
        </p:txBody>
      </p:sp>
      <p:sp>
        <p:nvSpPr>
          <p:cNvPr id="271" name=""/>
          <p:cNvSpPr/>
          <p:nvPr/>
        </p:nvSpPr>
        <p:spPr>
          <a:xfrm>
            <a:off x="304920" y="5257800"/>
            <a:ext cx="121896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5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2" name=""/>
          <p:cNvSpPr/>
          <p:nvPr/>
        </p:nvSpPr>
        <p:spPr>
          <a:xfrm>
            <a:off x="1523880" y="5257800"/>
            <a:ext cx="60984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3" name=""/>
          <p:cNvSpPr/>
          <p:nvPr/>
        </p:nvSpPr>
        <p:spPr>
          <a:xfrm>
            <a:off x="2133720" y="5257800"/>
            <a:ext cx="609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4" name=""/>
          <p:cNvSpPr/>
          <p:nvPr/>
        </p:nvSpPr>
        <p:spPr>
          <a:xfrm>
            <a:off x="2743200" y="5257800"/>
            <a:ext cx="137160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420by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5" name=""/>
          <p:cNvSpPr/>
          <p:nvPr/>
        </p:nvSpPr>
        <p:spPr>
          <a:xfrm>
            <a:off x="4572000" y="5257800"/>
            <a:ext cx="10666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5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6" name=""/>
          <p:cNvSpPr/>
          <p:nvPr/>
        </p:nvSpPr>
        <p:spPr>
          <a:xfrm>
            <a:off x="5638680" y="5257800"/>
            <a:ext cx="60984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F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7" name=""/>
          <p:cNvSpPr/>
          <p:nvPr/>
        </p:nvSpPr>
        <p:spPr>
          <a:xfrm>
            <a:off x="6248520" y="5257800"/>
            <a:ext cx="60948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8" name=""/>
          <p:cNvSpPr/>
          <p:nvPr/>
        </p:nvSpPr>
        <p:spPr>
          <a:xfrm>
            <a:off x="6858000" y="5257800"/>
            <a:ext cx="1447920" cy="533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 56 </a:t>
            </a:r>
            <a:r>
              <a:rPr b="0" lang="en-US" sz="1600" spc="-1" strike="noStrike">
                <a:solidFill>
                  <a:srgbClr val="000000"/>
                </a:solidFill>
                <a:latin typeface="Symbol"/>
                <a:ea typeface="Symbol"/>
              </a:rPr>
              <a:t></a:t>
            </a:r>
            <a:r>
              <a:rPr b="0" lang="en-US" sz="1600" spc="-1" strike="noStrike">
                <a:solidFill>
                  <a:srgbClr val="000000"/>
                </a:solidFill>
                <a:latin typeface="Times New Roman"/>
              </a:rPr>
              <a:t>sec</a:t>
            </a:r>
            <a:endParaRPr b="0" lang="en-US" sz="1600" spc="-1" strike="noStrike">
              <a:solidFill>
                <a:srgbClr val="000000"/>
              </a:solidFill>
              <a:latin typeface="Times New Roman"/>
            </a:endParaRPr>
          </a:p>
        </p:txBody>
      </p:sp>
      <p:sp>
        <p:nvSpPr>
          <p:cNvPr id="279" name=""/>
          <p:cNvSpPr/>
          <p:nvPr/>
        </p:nvSpPr>
        <p:spPr>
          <a:xfrm>
            <a:off x="4114800" y="556272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889080" y="5791320"/>
            <a:ext cx="1038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Rx 10usec</a:t>
            </a:r>
            <a:endParaRPr b="0" lang="en-US" sz="1200" spc="-1" strike="noStrike">
              <a:solidFill>
                <a:srgbClr val="000000"/>
              </a:solidFill>
              <a:latin typeface="Times New Roman"/>
            </a:endParaRPr>
          </a:p>
        </p:txBody>
      </p:sp>
      <p:sp>
        <p:nvSpPr>
          <p:cNvPr id="281" name=""/>
          <p:cNvSpPr/>
          <p:nvPr/>
        </p:nvSpPr>
        <p:spPr>
          <a:xfrm flipV="1">
            <a:off x="304920" y="4495320"/>
            <a:ext cx="2361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3657600" y="4495320"/>
            <a:ext cx="457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962520" y="4495680"/>
            <a:ext cx="6094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19720" y="4495680"/>
            <a:ext cx="388620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flipV="1">
            <a:off x="4343040" y="3962520"/>
            <a:ext cx="167652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019920" y="403848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l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 would like...</a:t>
            </a:r>
            <a:endParaRPr b="0" lang="en-US" sz="4400" spc="-1" strike="noStrike">
              <a:solidFill>
                <a:srgbClr val="000000"/>
              </a:solidFill>
              <a:latin typeface="Times New Roman"/>
            </a:endParaRPr>
          </a:p>
        </p:txBody>
      </p:sp>
      <p:sp>
        <p:nvSpPr>
          <p:cNvPr id="28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make transaction (data, or data+ack) duration fit into minimum hop time &lt;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s prevent us Transmitting over a Bluetooth</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vents Bluetooth Tx  killing 802.11b Data or ACK transmission</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802.11b Rxr does  not  see the next BT frame - we can keep transmitting more (short) packets </a:t>
            </a:r>
            <a:endParaRPr b="0" lang="en-US" sz="20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roughput calculations we should assume that ~25% of the time the channel is not available, due to Bluetooth activity.</a:t>
            </a:r>
            <a:endParaRPr b="0" lang="en-US" sz="2400" spc="-1" strike="noStrike">
              <a:solidFill>
                <a:srgbClr val="000000"/>
              </a:solidFill>
              <a:latin typeface="Times New Roman"/>
            </a:endParaRPr>
          </a:p>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want reasonable throughput (&gt;20Mbps), with 25% channel blocking and &lt;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 duration for the data-ACK.</a:t>
            </a:r>
            <a:endParaRPr b="0" lang="en-US" sz="2400" spc="-1" strike="noStrike">
              <a:solidFill>
                <a:srgbClr val="000000"/>
              </a:solidFill>
              <a:latin typeface="Times New Roman"/>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data rate does  802.11b achieve in a 249</a:t>
            </a:r>
            <a:r>
              <a:rPr b="0" lang="en-US" sz="4400" spc="-1" strike="noStrike">
                <a:solidFill>
                  <a:srgbClr val="000000"/>
                </a:solidFill>
                <a:latin typeface="Symbol"/>
                <a:ea typeface="Symbol"/>
              </a:rPr>
              <a:t></a:t>
            </a:r>
            <a:r>
              <a:rPr b="0" lang="en-US" sz="4400" spc="-1" strike="noStrike">
                <a:solidFill>
                  <a:srgbClr val="000000"/>
                </a:solidFill>
                <a:latin typeface="Times New Roman"/>
              </a:rPr>
              <a:t>sec window?</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0720"/>
            <a:ext cx="7772400" cy="11430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rt pre-amble 802.11b, with data - ack</a:t>
            </a:r>
            <a:endParaRPr b="0" lang="en-US" sz="3200" spc="-1" strike="noStrike">
              <a:solidFill>
                <a:srgbClr val="000000"/>
              </a:solidFill>
              <a:latin typeface="Times New Roman"/>
            </a:endParaRPr>
          </a:p>
        </p:txBody>
      </p:sp>
      <p:sp>
        <p:nvSpPr>
          <p:cNvPr id="291" name=""/>
          <p:cNvSpPr/>
          <p:nvPr/>
        </p:nvSpPr>
        <p:spPr>
          <a:xfrm>
            <a:off x="1134720" y="2633760"/>
            <a:ext cx="4344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 5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24 </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PDU</a:t>
            </a:r>
            <a:r>
              <a:rPr b="0" lang="en-US" sz="2000" spc="-1" strike="noStrike">
                <a:solidFill>
                  <a:srgbClr val="000000"/>
                </a:solidFill>
                <a:latin typeface="Times New Roman"/>
              </a:rPr>
              <a:t>	</a:t>
            </a:r>
            <a:r>
              <a:rPr b="0" lang="en-US" sz="2000" spc="-1" strike="noStrike">
                <a:solidFill>
                  <a:srgbClr val="000000"/>
                </a:solidFill>
                <a:latin typeface="Times New Roman"/>
              </a:rPr>
              <a:t>8*X/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Rx 10</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a:t>
            </a:r>
            <a:r>
              <a:rPr b="0" lang="en-US" sz="2000" spc="-1" strike="noStrike">
                <a:solidFill>
                  <a:srgbClr val="000000"/>
                </a:solidFill>
                <a:latin typeface="Times New Roman"/>
              </a:rPr>
              <a:t>	</a:t>
            </a:r>
            <a:r>
              <a:rPr b="0" lang="en-US" sz="2000" spc="-1" strike="noStrike">
                <a:solidFill>
                  <a:srgbClr val="000000"/>
                </a:solidFill>
                <a:latin typeface="Times New Roman"/>
              </a:rPr>
              <a:t>5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FD</a:t>
            </a:r>
            <a:r>
              <a:rPr b="0" lang="en-US" sz="2000" spc="-1" strike="noStrike">
                <a:solidFill>
                  <a:srgbClr val="000000"/>
                </a:solidFill>
                <a:latin typeface="Times New Roman"/>
              </a:rPr>
              <a:t>	</a:t>
            </a:r>
            <a:r>
              <a:rPr b="0" lang="en-US" sz="2000" spc="-1" strike="noStrike">
                <a:solidFill>
                  <a:srgbClr val="000000"/>
                </a:solidFill>
                <a:latin typeface="Times New Roman"/>
              </a:rPr>
              <a:t>1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K</a:t>
            </a:r>
            <a:r>
              <a:rPr b="0" lang="en-US" sz="2000" spc="-1" strike="noStrike">
                <a:solidFill>
                  <a:srgbClr val="000000"/>
                </a:solidFill>
                <a:latin typeface="Times New Roman"/>
              </a:rPr>
              <a:t>	</a:t>
            </a:r>
            <a:r>
              <a:rPr b="0" lang="en-US" sz="2000" spc="-1" strike="noStrike">
                <a:solidFill>
                  <a:srgbClr val="000000"/>
                </a:solidFill>
                <a:latin typeface="Times New Roman"/>
              </a:rPr>
              <a:t>56</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time = 258+8*X/R,  therefore </a:t>
            </a:r>
            <a:r>
              <a:rPr b="1" lang="en-US" sz="2000" spc="-1" strike="noStrike">
                <a:solidFill>
                  <a:srgbClr val="000000"/>
                </a:solidFill>
                <a:latin typeface="Times New Roman"/>
              </a:rPr>
              <a:t>X&lt;0</a:t>
            </a:r>
            <a:endParaRPr b="0" lang="en-US" sz="2000" spc="-1" strike="noStrike">
              <a:solidFill>
                <a:srgbClr val="000000"/>
              </a:solidFill>
              <a:latin typeface="Times New Roman"/>
            </a:endParaRPr>
          </a:p>
        </p:txBody>
      </p:sp>
      <p:sp>
        <p:nvSpPr>
          <p:cNvPr id="292" name=""/>
          <p:cNvSpPr/>
          <p:nvPr/>
        </p:nvSpPr>
        <p:spPr>
          <a:xfrm>
            <a:off x="1296000" y="5791320"/>
            <a:ext cx="191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MPDU in By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data rate MBPS</a:t>
            </a:r>
            <a:endParaRPr b="0" lang="en-US" sz="1800" spc="-1" strike="noStrike">
              <a:solidFill>
                <a:srgbClr val="000000"/>
              </a:solidFill>
              <a:latin typeface="Times New Roman"/>
            </a:endParaRPr>
          </a:p>
        </p:txBody>
      </p:sp>
      <p:sp>
        <p:nvSpPr>
          <p:cNvPr id="293" name=""/>
          <p:cNvSpPr/>
          <p:nvPr/>
        </p:nvSpPr>
        <p:spPr>
          <a:xfrm>
            <a:off x="4494960" y="3809880"/>
            <a:ext cx="3875040" cy="119124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 avoid Bluetooth, 802.11b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Y overhead is too hig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rate is z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 of Presentation</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needs and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1: Traffic packet siz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 2: Interference: Minimizing  ‘collisions’ with other systems in 2.4GHz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rate required with Ultra-short Preamble </a:t>
            </a:r>
            <a:br>
              <a:rPr sz="3200"/>
            </a:br>
            <a:r>
              <a:rPr b="0" lang="en-US" sz="3200" spc="-1" strike="noStrike">
                <a:solidFill>
                  <a:srgbClr val="000000"/>
                </a:solidFill>
                <a:latin typeface="Times New Roman"/>
              </a:rPr>
              <a:t>Example 802.11a frame format</a:t>
            </a:r>
            <a:endParaRPr b="0" lang="en-US" sz="3200" spc="-1" strike="noStrike">
              <a:solidFill>
                <a:srgbClr val="000000"/>
              </a:solidFill>
              <a:latin typeface="Times New Roman"/>
            </a:endParaRPr>
          </a:p>
        </p:txBody>
      </p:sp>
      <p:sp>
        <p:nvSpPr>
          <p:cNvPr id="295" name=""/>
          <p:cNvSpPr/>
          <p:nvPr/>
        </p:nvSpPr>
        <p:spPr>
          <a:xfrm>
            <a:off x="1584360" y="4079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96" name=""/>
          <p:cNvSpPr/>
          <p:nvPr/>
        </p:nvSpPr>
        <p:spPr>
          <a:xfrm>
            <a:off x="1828800" y="2362320"/>
            <a:ext cx="60948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297" name=""/>
          <p:cNvSpPr/>
          <p:nvPr/>
        </p:nvSpPr>
        <p:spPr>
          <a:xfrm>
            <a:off x="2438280" y="2362320"/>
            <a:ext cx="60984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298" name=""/>
          <p:cNvSpPr/>
          <p:nvPr/>
        </p:nvSpPr>
        <p:spPr>
          <a:xfrm>
            <a:off x="3048120" y="2362320"/>
            <a:ext cx="137160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a:t>
            </a:r>
            <a:endParaRPr b="0" lang="en-US" sz="1200" spc="-1" strike="noStrike">
              <a:solidFill>
                <a:srgbClr val="000000"/>
              </a:solidFill>
              <a:latin typeface="Times New Roman"/>
            </a:endParaRPr>
          </a:p>
        </p:txBody>
      </p:sp>
      <p:sp>
        <p:nvSpPr>
          <p:cNvPr id="299" name=""/>
          <p:cNvSpPr/>
          <p:nvPr/>
        </p:nvSpPr>
        <p:spPr>
          <a:xfrm>
            <a:off x="4876920" y="2362320"/>
            <a:ext cx="53316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300" name=""/>
          <p:cNvSpPr/>
          <p:nvPr/>
        </p:nvSpPr>
        <p:spPr>
          <a:xfrm>
            <a:off x="5410080" y="2362320"/>
            <a:ext cx="60984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301" name=""/>
          <p:cNvSpPr/>
          <p:nvPr/>
        </p:nvSpPr>
        <p:spPr>
          <a:xfrm>
            <a:off x="6019920" y="2362320"/>
            <a:ext cx="1447560" cy="5331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 16</a:t>
            </a:r>
            <a:r>
              <a:rPr b="0" lang="en-US" sz="1200" spc="-1" strike="noStrike">
                <a:solidFill>
                  <a:srgbClr val="000000"/>
                </a:solidFill>
                <a:latin typeface="Symbol"/>
                <a:ea typeface="Symbol"/>
              </a:rPr>
              <a:t></a:t>
            </a:r>
            <a:r>
              <a:rPr b="0" lang="en-US" sz="1200" spc="-1" strike="noStrike">
                <a:solidFill>
                  <a:srgbClr val="000000"/>
                </a:solidFill>
                <a:latin typeface="Times New Roman"/>
              </a:rPr>
              <a:t>s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Mbps)</a:t>
            </a:r>
            <a:endParaRPr b="0" lang="en-US" sz="1200" spc="-1" strike="noStrike">
              <a:solidFill>
                <a:srgbClr val="000000"/>
              </a:solidFill>
              <a:latin typeface="Times New Roman"/>
            </a:endParaRPr>
          </a:p>
        </p:txBody>
      </p:sp>
      <p:sp>
        <p:nvSpPr>
          <p:cNvPr id="302" name=""/>
          <p:cNvSpPr/>
          <p:nvPr/>
        </p:nvSpPr>
        <p:spPr>
          <a:xfrm>
            <a:off x="4419720" y="266688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91480" y="2968560"/>
            <a:ext cx="1156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x-Rx 5 </a:t>
            </a:r>
            <a:r>
              <a:rPr b="0" lang="en-US" sz="1400" spc="-1" strike="noStrike">
                <a:solidFill>
                  <a:srgbClr val="000000"/>
                </a:solidFill>
                <a:latin typeface="Symbol"/>
                <a:ea typeface="Symbol"/>
              </a:rPr>
              <a:t></a:t>
            </a:r>
            <a:r>
              <a:rPr b="0" lang="en-US" sz="1400" spc="-1" strike="noStrike">
                <a:solidFill>
                  <a:srgbClr val="000000"/>
                </a:solidFill>
                <a:latin typeface="Times New Roman"/>
              </a:rPr>
              <a:t>sec</a:t>
            </a:r>
            <a:endParaRPr b="0" lang="en-US" sz="1400" spc="-1" strike="noStrike">
              <a:solidFill>
                <a:srgbClr val="000000"/>
              </a:solidFill>
              <a:latin typeface="Times New Roman"/>
            </a:endParaRPr>
          </a:p>
        </p:txBody>
      </p:sp>
      <p:sp>
        <p:nvSpPr>
          <p:cNvPr id="304" name=""/>
          <p:cNvSpPr/>
          <p:nvPr/>
        </p:nvSpPr>
        <p:spPr>
          <a:xfrm>
            <a:off x="1828800" y="2286000"/>
            <a:ext cx="5638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404960" y="1863720"/>
            <a:ext cx="137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p:txBody>
      </p:sp>
      <p:sp>
        <p:nvSpPr>
          <p:cNvPr id="306" name=""/>
          <p:cNvSpPr/>
          <p:nvPr/>
        </p:nvSpPr>
        <p:spPr>
          <a:xfrm>
            <a:off x="3048120" y="335268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049200" y="34225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188 </a:t>
            </a:r>
            <a:r>
              <a:rPr b="0" lang="en-US" sz="2400" spc="-1" strike="noStrike">
                <a:solidFill>
                  <a:srgbClr val="000000"/>
                </a:solidFill>
                <a:latin typeface="Symbol"/>
                <a:ea typeface="Symbol"/>
              </a:rPr>
              <a:t></a:t>
            </a:r>
            <a:r>
              <a:rPr b="0" lang="en-US" sz="2400" spc="-1" strike="noStrike">
                <a:solidFill>
                  <a:srgbClr val="000000"/>
                </a:solidFill>
                <a:latin typeface="Times New Roman"/>
              </a:rPr>
              <a:t> sec</a:t>
            </a:r>
            <a:endParaRPr b="0" lang="en-US" sz="2400" spc="-1" strike="noStrike">
              <a:solidFill>
                <a:srgbClr val="000000"/>
              </a:solidFill>
              <a:latin typeface="Times New Roman"/>
            </a:endParaRPr>
          </a:p>
        </p:txBody>
      </p:sp>
      <p:sp>
        <p:nvSpPr>
          <p:cNvPr id="308" name=""/>
          <p:cNvSpPr/>
          <p:nvPr/>
        </p:nvSpPr>
        <p:spPr>
          <a:xfrm>
            <a:off x="667080" y="3921120"/>
            <a:ext cx="7149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We can have 188</a:t>
            </a:r>
            <a:r>
              <a:rPr b="0" lang="en-US" sz="2400" spc="-1" strike="noStrike">
                <a:solidFill>
                  <a:srgbClr val="000000"/>
                </a:solidFill>
                <a:latin typeface="Symbol"/>
                <a:ea typeface="Symbol"/>
              </a:rPr>
              <a:t></a:t>
            </a:r>
            <a:r>
              <a:rPr b="0" lang="en-US" sz="2400" spc="-1" strike="noStrike">
                <a:solidFill>
                  <a:srgbClr val="000000"/>
                </a:solidFill>
                <a:latin typeface="Times New Roman"/>
              </a:rPr>
              <a:t>sec MPDU in 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ssume 25% time RF channel busy due to Bluetoo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 time available =188*(1-.25)=14</a:t>
            </a:r>
            <a:r>
              <a:rPr b="0" lang="en-US" sz="2400" spc="-1" strike="noStrike">
                <a:solidFill>
                  <a:srgbClr val="000000"/>
                </a:solidFill>
                <a:latin typeface="Symbol"/>
                <a:ea typeface="Symbol"/>
              </a:rPr>
              <a:t></a:t>
            </a:r>
            <a:r>
              <a:rPr b="0" lang="en-US" sz="2400" spc="-1" strike="noStrike">
                <a:solidFill>
                  <a:srgbClr val="000000"/>
                </a:solidFill>
                <a:latin typeface="Times New Roman"/>
              </a:rPr>
              <a:t>sec in 249</a:t>
            </a:r>
            <a:r>
              <a:rPr b="0" lang="en-US" sz="2400" spc="-1" strike="noStrike">
                <a:solidFill>
                  <a:srgbClr val="000000"/>
                </a:solidFill>
                <a:latin typeface="Symbol"/>
                <a:ea typeface="Symbol"/>
              </a:rPr>
              <a:t></a:t>
            </a:r>
            <a:r>
              <a:rPr b="0" lang="en-US" sz="2400" spc="-1" strike="noStrike">
                <a:solidFill>
                  <a:srgbClr val="000000"/>
                </a:solidFill>
                <a:latin typeface="Times New Roman"/>
              </a:rPr>
              <a:t>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or 20Mbps throughput, data rate &gt; 20*249/141 Mb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a rate on air &gt; 35Mb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tential Issues: system</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 new ‘ultra-short’ preamble, &amp; &gt;35Mbps data rate: pre-HRb systems may not be able to detect or decode the packet (CCA in some systems may get ‘broken’).  Solution:</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CF to control traffic in a mixed environment</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Energy based CCA is used, which best avoids the Bluetooth, we could halt the 802.11HRb system in the presence of other systems as it continually defers.  Solution:</a:t>
            </a:r>
            <a:endParaRPr b="0" lang="en-US" sz="24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use timers to increase CCA energy threshold with time in a busy environment so the HRb can use its higher transmit power to burn through interfer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gineering/Spec Issues &amp; Recommendations</a:t>
            </a:r>
            <a:endParaRPr b="0" lang="en-US" sz="4400" spc="-1" strike="noStrike">
              <a:solidFill>
                <a:srgbClr val="000000"/>
              </a:solidFill>
              <a:latin typeface="Times New Roman"/>
            </a:endParaRPr>
          </a:p>
        </p:txBody>
      </p:sp>
      <p:sp>
        <p:nvSpPr>
          <p:cNvPr id="31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time for pre-amble/SFD.  This can make RF channel equalization difficult in the time avail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consider using Energy based Clear Channel Assessment  (CCA) for HRb syst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 the PCF to enable mixed HRb, 11b and 11DS networks. This means the HRb transmissions don’t have to be demodulated by the 11b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formance Requirements for HRb</a:t>
            </a:r>
            <a:endParaRPr b="0" lang="en-US" sz="4000" spc="-1" strike="noStrike">
              <a:solidFill>
                <a:srgbClr val="000000"/>
              </a:solidFill>
              <a:latin typeface="Times New Roman"/>
            </a:endParaRPr>
          </a:p>
        </p:txBody>
      </p:sp>
      <p:sp>
        <p:nvSpPr>
          <p:cNvPr id="314" name="PlaceHolder 2"/>
          <p:cNvSpPr>
            <a:spLocks noGrp="1"/>
          </p:cNvSpPr>
          <p:nvPr>
            <p:ph/>
          </p:nvPr>
        </p:nvSpPr>
        <p:spPr>
          <a:xfrm>
            <a:off x="685800" y="1904760"/>
            <a:ext cx="7772400" cy="373356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 systems throughput with a 420byte MPDU.</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reduction in PHY overhead for 100byte MPDU (target &lt;40%, including ACK).</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35Mbps on air data rate, to enable 20Mbps throughput.</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ly reduce PHY overhead, using ultra-short preambles, to allow a Data-ACK transaction in &lt;249</a:t>
            </a:r>
            <a:r>
              <a:rPr b="0" lang="en-US" sz="2800" spc="-1" strike="noStrike">
                <a:solidFill>
                  <a:srgbClr val="000000"/>
                </a:solidFill>
                <a:latin typeface="Symbol"/>
                <a:ea typeface="Symbol"/>
              </a:rPr>
              <a:t></a:t>
            </a:r>
            <a:r>
              <a:rPr b="0" lang="en-US" sz="2800" spc="-1" strike="noStrike">
                <a:solidFill>
                  <a:srgbClr val="000000"/>
                </a:solidFill>
                <a:latin typeface="Times New Roman"/>
              </a:rPr>
              <a:t>s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needs and issues</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fontScale="89000"/>
          </a:bodyPr>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desired is generally agreed to be &gt;20Mbps from other presentations</a:t>
            </a:r>
            <a:endParaRPr b="0" lang="en-US" sz="24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 voice, video &amp; data services</a:t>
            </a:r>
            <a:endParaRPr b="0" lang="en-US" sz="2400" spc="-1" strike="noStrike">
              <a:solidFill>
                <a:srgbClr val="000000"/>
              </a:solidFill>
              <a:latin typeface="Times New Roman"/>
            </a:endParaRPr>
          </a:p>
          <a:p>
            <a:pPr marL="305280" indent="-305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sues</a:t>
            </a:r>
            <a:endParaRPr b="0" lang="en-US" sz="2800" spc="-1" strike="noStrike">
              <a:solidFill>
                <a:srgbClr val="000000"/>
              </a:solidFill>
              <a:latin typeface="Times New Roman"/>
            </a:endParaRPr>
          </a:p>
          <a:p>
            <a:pPr lvl="1" marL="660960" indent="-2541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rate, on air, driven by throughput required by the service offered in the actual radio environment. </a:t>
            </a:r>
            <a:endParaRPr b="0" lang="en-US" sz="2400" spc="-1" strike="noStrike">
              <a:solidFill>
                <a:srgbClr val="000000"/>
              </a:solidFill>
              <a:latin typeface="Times New Roman"/>
            </a:endParaRPr>
          </a:p>
          <a:p>
            <a:pPr lvl="2" marL="966240" indent="-203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ctual environment will have interference from other radio systems.  We should allow for this in calculating the on air data rate needed.</a:t>
            </a:r>
            <a:endParaRPr b="0" lang="en-US" sz="2000" spc="-1" strike="noStrike">
              <a:solidFill>
                <a:srgbClr val="000000"/>
              </a:solidFill>
              <a:latin typeface="Times New Roman"/>
            </a:endParaRPr>
          </a:p>
          <a:p>
            <a:pPr lvl="2" marL="966240" indent="-203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ervices will effect the packet length, we must make sure any comparison of HRb schemes includes thi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cket Length &amp; PHY Overhead</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0720"/>
            <a:ext cx="7772400" cy="3581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overhead is the sum o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bits transmitted that are not the MPDU, plus the ACK and Tx-Rx turn round time, if us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ught Process for this presenta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ed at the likely packet length of data and make a recommendation for the packet length that should be used to compare the throughput of different HRb proposa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oked at Bluetooth interference and how HRb, with small packet sizes could co-exist better with Bluetooth this (and packet size above) shows the need for ‘ultra-short’ preambles/PHY headers/AC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then estimated the data rate needed for 20Mbps throughpu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 1: Packet Length</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ata will be IP format: WLAN will be transparent to the network (no packet bundling to increase payload size per packet).   We assume that the Packet length and their distribution will be broadly the same as that on the internet today.</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 will use packet length best suited to the radio environment.  Packet length should be tailored to minimize collisions with other systems, despite long packets offering greater throughput in the ideal environmen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ce services will require short packet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over IP data format (believed of the order of 110 bytes typical every few msec)</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si-Isochronous using the PCF,  2 - 10msec frames, with 64kbps each direction, packet lengths between 16 and 80 by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Traffic Packet Size</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ource</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SA Ames Internet exchange (AIX) in Mountain View, CA</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3 ATM Lin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collected over 10 month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day snapshots plotted</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s the percentage of packets transmitted as a function of packet siz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ws the what percentage of total data is transmitted as a function of packet size</a:t>
            </a:r>
            <a:endParaRPr b="0" lang="en-US" sz="20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63200" y="5943600"/>
            <a:ext cx="572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
            </a:r>
            <a:r>
              <a:rPr b="0" lang="en-US" sz="2400" spc="-1" strike="noStrike" u="sng">
                <a:solidFill>
                  <a:srgbClr val="0000ff"/>
                </a:solidFill>
                <a:uFillTx/>
                <a:latin typeface="Arial"/>
              </a:rPr>
              <a:t>&lt;http://old.caida.org/Papers/AIX00/&g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ability Distributions of IP Packet size and Bytes</a:t>
            </a:r>
            <a:endParaRPr b="0" lang="en-US" sz="4400" spc="-1" strike="noStrike">
              <a:solidFill>
                <a:srgbClr val="000000"/>
              </a:solidFill>
              <a:latin typeface="Times New Roman"/>
            </a:endParaRPr>
          </a:p>
        </p:txBody>
      </p:sp>
      <p:pic>
        <p:nvPicPr>
          <p:cNvPr id="66" name="" descr=""/>
          <p:cNvPicPr/>
          <p:nvPr/>
        </p:nvPicPr>
        <p:blipFill>
          <a:blip r:embed="rId1"/>
          <a:stretch/>
        </p:blipFill>
        <p:spPr>
          <a:xfrm>
            <a:off x="1523880" y="182880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of IP Packet Size</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of packets &lt; 10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 of packets &lt; 60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an size of packets was 80-90 by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size of packets ~ 42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0.1% packets &gt;1500 by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7% of bytes transmitted are in &lt;600 byte pack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information in repor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s varied little over the last 2 yea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er applications reducing packet size (gaming and RealAudi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Traffic packet size considerations for HRb:</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t to design HRb PHY for efficient transmission of &lt;100 byte pack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2Mbps the wanted data is transmitted &lt;37 </a:t>
            </a:r>
            <a:r>
              <a:rPr b="0" lang="en-US" sz="2000" spc="-1" strike="noStrike">
                <a:solidFill>
                  <a:srgbClr val="000000"/>
                </a:solidFill>
                <a:latin typeface="Symbol"/>
                <a:ea typeface="Symbol"/>
              </a:rPr>
              <a:t></a:t>
            </a:r>
            <a:r>
              <a:rPr b="0" lang="en-US" sz="2000" spc="-1" strike="noStrike">
                <a:solidFill>
                  <a:srgbClr val="000000"/>
                </a:solidFill>
                <a:latin typeface="Times New Roman"/>
              </a:rPr>
              <a:t>sec, with the a short 802.11b preamble is 88 </a:t>
            </a:r>
            <a:r>
              <a:rPr b="0" lang="en-US" sz="2000" spc="-1" strike="noStrike">
                <a:solidFill>
                  <a:srgbClr val="000000"/>
                </a:solidFill>
                <a:latin typeface="Symbol"/>
                <a:ea typeface="Symbol"/>
              </a:rPr>
              <a:t></a:t>
            </a:r>
            <a:r>
              <a:rPr b="0" lang="en-US" sz="2000" spc="-1" strike="noStrike">
                <a:solidFill>
                  <a:srgbClr val="000000"/>
                </a:solidFill>
                <a:latin typeface="Times New Roman"/>
              </a:rPr>
              <a:t>sec, the ACK of 144</a:t>
            </a:r>
            <a:r>
              <a:rPr b="0" lang="en-US" sz="2000" spc="-1" strike="noStrike">
                <a:solidFill>
                  <a:srgbClr val="000000"/>
                </a:solidFill>
                <a:latin typeface="Symbol"/>
                <a:ea typeface="Symbol"/>
              </a:rPr>
              <a:t></a:t>
            </a:r>
            <a:r>
              <a:rPr b="0" lang="en-US" sz="2000" spc="-1" strike="noStrike">
                <a:solidFill>
                  <a:srgbClr val="000000"/>
                </a:solidFill>
                <a:latin typeface="Times New Roman"/>
              </a:rPr>
              <a:t>sec</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overhead is &gt;30% for the data packet</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overhead including the ACK is &gt; 85%</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 should be PHY overhead &lt;40% for a 100 byte packet, including the ACK at 20Mbp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Use packet size of 420 bytes for assessing the different HRb proposals through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13:47:41Z</dcterms:created>
  <dc:creator>Jerry Loraine</dc:creator>
  <dc:description/>
  <dc:language>en-US</dc:language>
  <cp:lastModifiedBy>Jerry Loraine</cp:lastModifiedBy>
  <dcterms:modified xsi:type="dcterms:W3CDTF">2000-07-11T18:55:36Z</dcterms:modified>
  <cp:revision>194</cp:revision>
  <dc:subject/>
  <dc:title>Bluetooth Coexistance</dc:title>
</cp:coreProperties>
</file>