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2825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20A-DA9A-4602-85EC-0CF3182C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DB2-118B-4968-A5BC-894D2BDA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302-E25E-461F-B31E-2C624620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E4A6-E2B7-427C-BD9F-9A44874D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AD12-D543-4440-96E0-45CADB3B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E73-D6CF-4B71-8D9F-DC4F0BD6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DDA9-EB58-4255-A209-F2B4BD93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315-AD30-42F5-B4CB-74D71D86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4AF-3E1B-4454-9C9B-924FCD51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15C4-C728-43F9-942D-E2ACD875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0F12-9B32-4773-88ED-7EB1CB9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F93-2060-46C9-AD73-8DF3D6A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9564840" y="4800600"/>
          <a:ext cx="326880" cy="198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64840" y="4800600"/>
                    <a:ext cx="326880" cy="19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37320" indent="-337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1160" indent="-2818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25000" indent="-223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575720" indent="-2253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24640" indent="-2253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42640" y="31968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19920" y="639900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878000" y="639900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6721B3-1CB2-4FFB-A83D-4B858C8BA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029200" y="32004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5335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639936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219320" y="640080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762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lementation Options for the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stribution System in th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ireless LAN Infrastructur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86080" y="3200040"/>
            <a:ext cx="69307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re El-Hoiyd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EM, Switzerl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EEE ICC 2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5393-78B9-48BA-899D-C3A968839F1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ementation Options for the 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distribution transport protocol and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LC Type 1 (connectionless) transport, MAC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DP/IP transport, IP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ice of a mobility management signalling 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EA0D-5DA4-4175-8B87-FA3A769385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the discussed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76520"/>
            <a:ext cx="86295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C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1: Separated Access Points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2: Joined Access Point and Port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3: MAC Brid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ption 4: Network Layer Address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671-60B5-44D9-862D-A65824F8FC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762120"/>
            <a:ext cx="62830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parated AP / Por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90720" y="1447920"/>
          <a:ext cx="845820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845820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DD1-C240-487A-99CC-DC91B0F49B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43040" y="2133720"/>
            <a:ext cx="84168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a 802.11 MSDU = 2304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 size of the payload in 802.3 = 1492 By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gmentation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on protocol needed to avoid mixing segments from different 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ort pla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9B4A-B75F-4D59-B9D6-C054EF27A5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626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of the mobility management signalling is that each access point or portal knows through which access point or portal a given MAC address can be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ccess point correspond to what MAC addres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route resolution protocol similar to the Ethernet Address Resolution Protocol (ARP, RCF8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83BB-5F2B-4938-82ED-DE22994E3A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80880" y="1622520"/>
          <a:ext cx="9159840" cy="462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22520"/>
                    <a:ext cx="915984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B1F7-29F6-4396-8A36-7CF8EC976C55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905120"/>
          <a:ext cx="9068040" cy="33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05120"/>
                    <a:ext cx="9068040" cy="33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0948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3808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2395-F480-47B9-889C-7DD61D886994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609480" y="1181160"/>
          <a:ext cx="8763120" cy="552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181160"/>
                    <a:ext cx="876312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609480" y="1522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5228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ined AP / Por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39C-4D9C-4632-B278-7D31D804AB6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2 versus Op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bility management signalling protocol is identical as in op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ing the portal functions in the access points prevents the need of forwarding over the distribution medium the traffic to/from the wired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990-5069-4253-B2F9-B2AB14C974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42680" y="1752120"/>
            <a:ext cx="870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MSDU maximum size in 802.11 is reduced from 2304 to 1476, each access point can be a filtering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ess point will forward into the cell the frames destined to associated s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of mobility management signa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protocol is sufficient to give enough information for the filtering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C 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C690-4A5D-4EAE-B42C-34D00469FD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41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requency-Hopping / DSSS / Infra Re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C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reless Etherne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BEE-6885-4323-9947-05C76485FD4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85680" y="1228680"/>
          <a:ext cx="80060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228680"/>
                    <a:ext cx="80060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3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2A32-F774-4DE8-A35B-25EF364845A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1295280"/>
          <a:ext cx="8382240" cy="539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8382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30492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twork Layer Addr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9D8-F2D9-4321-803E-F25B97EC5F9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43040" y="1447560"/>
            <a:ext cx="84772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points not linked through a broadcast medium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Request and RoutingIndication messages cannot be broadcast any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roposed to use a dynamic address resolution protocol similar to the Address Resolution Protocol over ATM (ARP over ATM, RCF22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cess point must be given the IP address of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3EE-57B3-4D4B-A0D6-054A4151EE8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50760" y="1371600"/>
          <a:ext cx="79534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0760" y="1371600"/>
                    <a:ext cx="79534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ute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2B9E-9891-4E24-8C30-D798DEE5021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676520"/>
          <a:ext cx="9296280" cy="35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9296280" cy="35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9480" y="3049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tion 4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304920"/>
            <a:ext cx="4800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2E3-0B8E-4549-9B10-5A0A702B17E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80880" y="1297080"/>
          <a:ext cx="10287000" cy="499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7080"/>
                    <a:ext cx="1028700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FD6-05C5-41B8-80D4-3E45416D133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9067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TGf Task Group has started the work on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APP proposal made in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IP layer address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nsmission of unsolicited “announce”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57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y 2000, fist meeting hel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uly 2000, proposa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3002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pt 2000, first dra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0">
              <a:spcBef>
                <a:spcPts val="624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DB9-A18E-45F1-ADCD-8D598FF955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3040" y="1676520"/>
            <a:ext cx="84168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bridge solution simple but 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be augmented with a network layer I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aining points to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lost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of crossed handover messages (RoutingIndic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between schemes based on requests or on unsolicited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CEAA-18CC-42E2-8B00-4D6AF1720C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 Hoc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670120" y="1981080"/>
          <a:ext cx="433548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1981080"/>
                    <a:ext cx="433548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409C-B1C7-4565-9DA9-68A5F61AA2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tructure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66680" y="1413000"/>
          <a:ext cx="7772400" cy="51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13000"/>
                    <a:ext cx="77724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9288-95F9-4FC1-9DFB-2F27D83437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ic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 wireless ce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ded Service Se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ll wireless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: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5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Point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B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nection DS - Wired 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10080" y="2819520"/>
            <a:ext cx="4191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Glue between the BSS to form the 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BBE-88FD-4C15-B874-0B82D2C3FD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ribution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ral cells form a virtual single shared-me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responsible of routing fra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ribution system transparent to LL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al + Access Points = MAC Bridge between the wired LAN and the cel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4278240"/>
          <a:ext cx="720540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278240"/>
                    <a:ext cx="720540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3EE-1020-4228-AEA8-820F3CB549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841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365724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8920" indent="-358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rect traffic between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76520"/>
          <a:ext cx="8991720" cy="17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99172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200400" y="3809880"/>
          <a:ext cx="5875200" cy="24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58752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FFD6-D6D7-4A34-AFFD-A28C925B0F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ration: Roa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14400" y="1371600"/>
          <a:ext cx="79246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9246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43040" y="4800600"/>
            <a:ext cx="841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rmAutofit fontScale="87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sociation protocol gives to the distribution system the necessary information to perform the mobility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5EF7-5A8F-4961-8F83-C0973AD5FC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2960" y="380520"/>
            <a:ext cx="841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cal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660840" y="1371600"/>
          <a:ext cx="571176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0840" y="1371600"/>
                    <a:ext cx="571176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on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DU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ibution System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(unspecified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unspecifi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re El-Hoiydi, CSE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D046-BE00-4F4A-87E5-47773B0722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08:02:14Z</dcterms:created>
  <dc:creator>Amre El-Hoiydi</dc:creator>
  <dc:description/>
  <dc:language>en-US</dc:language>
  <cp:lastModifiedBy>Harry R. Worstell</cp:lastModifiedBy>
  <cp:lastPrinted>2000-06-09T12:50:42Z</cp:lastPrinted>
  <dcterms:modified xsi:type="dcterms:W3CDTF">2000-07-11T23:24:05Z</dcterms:modified>
  <cp:revision>45</cp:revision>
  <dc:subject>Submission</dc:subject>
  <dc:title>Implementation Options for the              Distribution System in the 802.11 Wireless LAN Infrastructure Network</dc:title>
</cp:coreProperties>
</file>