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49F-DDDC-4410-A503-8A06BA04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6212-D82B-4C41-A983-C1BCA109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D4-58EC-4F79-8E23-9E0152CA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D19-950A-4262-AA5D-CF6052E8A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615-F54A-4AB7-90E0-D840304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0C8A-6392-4A45-AC58-3DEAE2B6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5B9-AD19-4380-A623-366EB0F1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6F46-A2D0-423A-BC3A-DD395E9D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1C5-418E-457F-97B4-3E94C28C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272-8F74-4BD3-BE7C-8546236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488-2679-4377-ADA9-A820765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D10-8E7E-4AF6-B8E1-8B9214A4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164F0A-250E-4914-92A4-993055151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CB9-0292-4F17-BAB1-91135E49C4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of comments from letter ballot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035-75A2-49D7-A0C0-B2A062A256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are ed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70A-CDB0-478C-B56E-51E9488225F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F58E-6659-48BF-B405-F82CD75E56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0AC8-E1F6-4C4F-BDA8-50E1246C28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7-12T17:22:51Z</dcterms:modified>
  <cp:revision>11</cp:revision>
  <dc:subject/>
  <dc:title>TGd Agenda, March 2000</dc:title>
</cp:coreProperties>
</file>