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40B1-3477-49EC-B116-1A2EAFEB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8C4-8170-4F71-9CE2-91CE9826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C222-A731-408F-BDCB-26A150A1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9A0-9FC1-4257-B5D7-0B2EA919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52B-FE29-4D3B-90A1-640A43AB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D4FC-8FD2-4A67-9D53-4963C651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FD1-9FDE-4985-A6B5-85BA9CC7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EDE2-2AC4-4D06-8C24-23844CC9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6A0E-74E1-48E7-A375-C5111AF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6D2-DBE1-4C33-954F-555A219F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FF5-ADE8-4D83-BD88-2EFE79C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F5E-C9DB-4FBF-9268-61613E2F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, TG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F6635D-ADAF-431A-95ED-1E870FF60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2F4-ED60-4C3C-A8FC-371D965F1B9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d unanim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459-21B7-4621-8C99-6CDEA1B3D9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 comments were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ments were edi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comments were acce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comments were withdra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omment was resolved without change to the d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944-557D-4053-A1B9-305260D44F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option of Comment Re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opt the comment resolutions if document 00/22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: Ch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ed: (memory fails 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ly: 11/0/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27B-D7E8-41E4-B041-02E0A6C33B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802.11d Draf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d-D1.99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server in the Drafts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change b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d-D2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server in the Drafts dire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raft to be sent to sponsor b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183-7C4A-43DB-BCD8-E44F76DC21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d that 802.11d Draft 2 (file: 802.11d-D2.pdf) be forwarded to ExCom to be issued for sponso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: Bob O’H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l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4EC-5A99-48B1-BDBF-E33BB56653B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C9C9-0ACC-4FFE-8E1A-7463F5B4A1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dcterms:modified xsi:type="dcterms:W3CDTF">2000-07-12T17:38:04Z</dcterms:modified>
  <cp:revision>10</cp:revision>
  <dc:subject/>
  <dc:title>TGd Agenda, March 2000</dc:title>
</cp:coreProperties>
</file>