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CE0-3196-46C7-B7AD-1916219A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989-FABC-4ECD-BB24-85FA2DB2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211D-116B-4EDA-B4AC-86A649D8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86B3-7910-474B-9C3E-6ECE7DE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5E1-D0A0-47A0-A0BB-CF3185AB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2E8-A613-4482-831D-1101121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855-2CD3-459C-82A3-BC22E95D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9E32-9534-4680-BF58-3DE5B1C1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4BA-9CCE-4AF1-A614-D1D24E7F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BCF5-2A3B-4A11-B562-D2C4365E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984-8210-41B6-8F40-B5BE8D1B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0D02-946A-4318-95EF-47299296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Ditch, Motoro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E98EF5-7CF0-4644-AF77-21360D5BC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802" descr=""/>
          <p:cNvPicPr/>
          <p:nvPr/>
        </p:nvPicPr>
        <p:blipFill>
          <a:blip r:embed="rId1"/>
          <a:stretch/>
        </p:blipFill>
        <p:spPr>
          <a:xfrm>
            <a:off x="3886200" y="68580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000 meetings of the IEEE 802.1, 802.11 &amp; 802.15 Working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18-22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Radisson Resort &amp; Spa Scottsd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7171 N. Scottsdale Road (NE corner at Indian Be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Scottsdale, Ariz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Room Rate $1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Conference Fee $300-3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includes audio-visual, meeting space, DSL line, Breakfast, Breaks, Lunch 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Hotel Reservation Deadline: Thursday, August 10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Document IEEE 802.15-00/1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BZZZZ+Arial-BoldMT"/>
              </a:rPr>
              <a:t>Document IEEE 802.11-00/2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82A9-ABAB-4982-B5DC-966EA5F43CF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ich Ditch</dc:creator>
  <dc:description>Radisson Resort &amp; Spa Scottsdale</dc:description>
  <dc:language>en-US</dc:language>
  <cp:lastModifiedBy>Harry R. Worstell</cp:lastModifiedBy>
  <cp:lastPrinted>1998-02-10T13:28:06Z</cp:lastPrinted>
  <dcterms:modified xsi:type="dcterms:W3CDTF">2000-07-12T21:15:51Z</dcterms:modified>
  <cp:revision>69</cp:revision>
  <dc:subject>Phoenix September Venue</dc:subject>
  <dc:title>Phoenix September Venue</dc:title>
</cp:coreProperties>
</file>