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7D7-9220-427D-885F-6E787D13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3113-A9B6-43D9-B6AD-55BA0F67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084-2631-4B30-B5D6-A97FC1C3E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774-4554-45D8-82EF-D51F6241E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E51A-229E-4FB1-ADA1-3531FD37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816-D46A-4BF2-9E54-49676FAE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6CF-6674-4199-A54A-16EF82EE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DD3-BC46-4C01-ADCF-CD1336A0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2239-9738-4D66-9B39-FBBBD4EC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1FCA-FF54-4777-BF40-278F1904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9258-92DD-4505-821F-2193C4D8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21D-6756-4483-9F1D-29C74221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618ED5-A590-4098-B751-2BA5077AF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tu.int/" TargetMode="External"/><Relationship Id="rId2" Type="http://schemas.openxmlformats.org/officeDocument/2006/relationships/hyperlink" Target="http://www.itu.int/" TargetMode="External"/><Relationship Id="rId3" Type="http://schemas.openxmlformats.org/officeDocument/2006/relationships/hyperlink" Target="http://www.itu.int/" TargetMode="External"/><Relationship Id="rId4" Type="http://schemas.openxmlformats.org/officeDocument/2006/relationships/hyperlink" Target="http://www.itu.int/" TargetMode="External"/><Relationship Id="rId5" Type="http://schemas.openxmlformats.org/officeDocument/2006/relationships/hyperlink" Target="http://www.itu.int/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A0E-F963-4670-A594-B0BB98DC930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tion to JRG 8a 9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nominate a liaison officer from IEEE 802.11 to JRG 8a 9b Task 4 and to encourage participation by individuals supported by ITU-R sector member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it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i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ink to radio commun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clesine, Mu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4FB-E8D7-456C-BE41-0417FE427A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lity p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of hands for sector member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for Liaison officer volunt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018-EE7D-43BB-A33B-B412B18ADD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99-23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pprove doc.: 00/216d2 for submission to the FCC as an 802.11 Position statement, anticipating addition of 802.15 as joint sub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wahara, Zy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162920" y="685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8093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16247" y="3794"/>
                </a:lnTo>
                <a:lnTo>
                  <a:pt x="16247" y="17806"/>
                </a:lnTo>
                <a:lnTo>
                  <a:pt x="14585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20C9-C3FD-4ED6-AB13-6523845004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 5 GHz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pare a letter to ETSI-BRAN and MMAC to propose a joint collaboration between ETSI-BRAN, MMAC, and IEEE 802.11 on the convergence towards a single global 5GHz wireless LAN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nis Kuwahara, Steven 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/0/0  p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82B-9AE9-4C3C-8350-542B591DB0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TSI_BRAN-IEEE 802.11 joint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discussed with Chair ETSI-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EEE 802.11 experts participate a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ctober 3-6, 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eting, Stresa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members can  particip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need to get an invitation from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gistration required BEFORE July 20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ITSI-BRAN experts participate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v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e joint ETSI_BRAN-IEEE 802.11 meeting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anuary,  2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ose to Europe: Israel or Tur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Combined with 802.16 (22-26 January, Tel Aviv)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119-B7FE-4B93-AE78-0145112DD5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Meetings held Tuesday and Wednesday 8:30-10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00/@@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andard ad-hoc held Tuesday 10:30-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00/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742-E9BD-430B-B315-131730FEC3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ket 99-231 WBFH and D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216 draf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arrant that the CW Jammer test remains in the rules for approval of D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on Ligh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iling to be made available, probable position paper from September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6400800" y="403848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5861" y="10800"/>
                </a:moveTo>
                <a:lnTo>
                  <a:pt x="25355" y="17806"/>
                </a:lnTo>
                <a:lnTo>
                  <a:pt x="25355" y="3794"/>
                </a:lnTo>
                <a:close/>
              </a:path>
              <a:path fill="darken" w="64724" h="21600">
                <a:moveTo>
                  <a:pt x="37706" y="3794"/>
                </a:moveTo>
                <a:lnTo>
                  <a:pt x="37706" y="17806"/>
                </a:lnTo>
                <a:lnTo>
                  <a:pt x="39368" y="17806"/>
                </a:lnTo>
                <a:lnTo>
                  <a:pt x="39368" y="37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5BA-073A-44FD-9FE2-FFEC69A2CE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Radio Communications-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osition paper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eeting of the UK 5 GHz advisory group scheduled for July 27th,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-one can a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ndy for 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27F-8B0F-4FF2-BD6F-50F7BCC2DC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from September, 00/129, questions in response to our request to become HIPERLAN family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the requirement to have DFS and TPC, many questions needed to be respond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work is to be done on Liaison letters to address each of the items in the request from ETSI BR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 to send a liaison with partial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es a subject in the effort to make a single Global LAN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A288-888C-4183-8784-CAC104A498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ulation of RLAN parameters for sharing with satell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come a position paper for the Joint Rapporteur Group 8a 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o be done by Denis and 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FBB7-9A4F-468E-8D24-35B1A92FFC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U-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914400"/>
          <a:ext cx="378792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37879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1880" y="4038480"/>
            <a:ext cx="728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U-R meetings dealing with 5GHz Issues for WR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JTG 4-7-8-9 Sharing Issues in 5GHz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JTG 1-6-8-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Global Harmo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estrial Wireless Interactive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 For More Information see doc.: IEEE 802.11-00/2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0E4-E3A5-4CC1-86E9-24DA6AC537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ations for WRC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 Gowan presented paper 00/2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garding ITU-R, CEPT and ETSI-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dates of meetings and description of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t WRC 2003 agenda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EC2-4364-45B2-8056-52BB0DEC22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paper to JRG 8a 9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prepare a position paper to JRG 8a-9b to input the 802.11 Wireless LAN parameters into WP 7C for use in sharing stu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rray, Eccle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y and Denis are working on a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E0D-2ED9-410A-9AB6-C98373C6FF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25:24Z</dcterms:created>
  <dc:creator>Vic Hayes</dc:creator>
  <dc:description/>
  <dc:language>en-US</dc:language>
  <cp:lastModifiedBy>Vic Hayes</cp:lastModifiedBy>
  <cp:lastPrinted>1998-02-10T13:28:06Z</cp:lastPrinted>
  <dcterms:modified xsi:type="dcterms:W3CDTF">2000-07-13T06:56:55Z</dcterms:modified>
  <cp:revision>4</cp:revision>
  <dc:subject/>
  <dc:title>Regulatory and one standard ad-hocs Wednesday report</dc:title>
</cp:coreProperties>
</file>