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F765-689F-4525-9704-CB749CF0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7D59-E6AF-433B-800F-6A349DE4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319-9278-40F1-83C5-64F15B83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572-A5D0-41F5-821C-066A0604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835-A3BB-4B1F-8B79-9672F4AA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316-4782-46BD-8130-5D5EE7D9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453-12BA-4382-A044-66D1636B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237-643A-4840-AF38-BB2C5156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ACD-279E-48DF-95BB-7AECE895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F13-278F-41AC-962B-8144025F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048-748D-47C8-BEEF-01A0CC75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D638-F5C2-46D1-AC54-4E31B153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6668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714720" y="6474960"/>
            <a:ext cx="18954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ctoria M. Poncini, Micro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79299F1-A4C6-4C75-A64B-71140E18C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2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b-Cor1 Final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ed the edits to 802.11b-Cor1-AnnexA-Corrections-Draft-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d both corrections to 802.11b-Cor1 for MIB and Annex A to IEEE 802.11 Web Draft Document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day 7/10 WG Plenary session voted to include MIB and Annex A changes to 8802-11 amd2 as comments. Vote: 35/0/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076-202B-4692-BC11-709E78A04E1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AF2-66FB-4D04-AEC0-12AA4CF031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19:23:18Z</dcterms:created>
  <dc:creator>Victoria M Poncini</dc:creator>
  <dc:description/>
  <dc:language>en-US</dc:language>
  <cp:lastModifiedBy>Victoria M Poncini</cp:lastModifiedBy>
  <cp:lastPrinted>1998-02-10T13:28:06Z</cp:lastPrinted>
  <dcterms:modified xsi:type="dcterms:W3CDTF">2000-07-13T19:37:40Z</dcterms:modified>
  <cp:revision>1</cp:revision>
  <dc:subject/>
  <dc:title>PowerPoint Presentation</dc:title>
</cp:coreProperties>
</file>