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FB4-49F4-4A70-9FED-B298A21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778-0EA7-4A5B-9074-B0973BD5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7DD-557A-4F66-A1EE-7E3E1EC7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407-EB9A-43C1-87DD-2994E461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CAE-431D-46B0-83E2-A00C3BEA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F28-C466-4C0F-96DF-258A39F8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62D7-AA1A-4F88-9161-309076ED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C18B-93D7-4091-A5DE-77A06D8B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2724-F9D3-438D-A00D-9B1223FF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61B-ADE6-4D49-B88D-6CB4EB1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89D-D829-4F0C-89A0-39588033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9BE-1550-4CEB-99ED-BCE39974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D4210D-EC2A-4CF7-A649-4ABE6C17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IEEE 802.11-00/2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6520" y="6477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s from LinCom Wireless FCC Visi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/30/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LinCom Wirele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HRb like signals with F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CC is not entertaining any substantive discussions of potential Higher Rate Spread Spectrum certifications at thi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iting rulemaking related to NPRM 99-2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be certified using CW jammer test, which may b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 to have a problem with high order modulation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ed on it looking like “unspread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a sense that 11 Mbps in a 22 MHz bandwidth is about as far as they’ll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ead Spectrum is like porn, “We (the FCC) know it when we see i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want higher data rates go to 5 Ghz, that’s why we opened up the UNII ba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LinCom Wirel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a clear indication that they are leaning to replace the CW jammer test with an as yet undefined Gaussian jamme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ve a sense that an acceptable Processing Gain calculation (for SS systems with less than 10 chips/symbol) may likely NOT include the sum of “bits per symbol spreading gain” plus any coding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LinCom Wirele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Valued Sony Customer</cp:lastModifiedBy>
  <cp:lastPrinted>1998-02-10T13:28:06Z</cp:lastPrinted>
  <dcterms:modified xsi:type="dcterms:W3CDTF">2000-07-12T23:04:59Z</dcterms:modified>
  <cp:revision>20</cp:revision>
  <dc:subject>IEEE 802.15 Tutorial</dc:subject>
  <dc:title>Reliability of IEEE 802.11 WLANs in Presence of Bluetooth Radios</dc:title>
</cp:coreProperties>
</file>