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B92-4D74-4099-B520-20BDB47E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0F17-607D-4FF4-B37B-2C8136B6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496-29AC-4DAC-8C3D-3792955F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2ED3-29A9-4FBF-B387-902ED0A9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358-E0BB-4B01-87BC-72FAD133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3F2-10B3-438A-AB72-83285376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7FF-119B-4E8B-9729-03F2EEDE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BE1B-D9E6-46E4-9F3A-A09EF84C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92B-6982-4A91-AE78-92D98972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A9E-E50F-49ED-A2C3-4C10B87C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1A35-33AF-49CB-BB63-99FC463F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1C0-F96D-4B2F-AD83-BDF836C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9EAA9E-8822-49BB-8E31-702BB3BC6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GHz Sky is Fall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-NII Spectrum Sha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Jolla 13 Jul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EA3-4D44-446A-A5BE-CE9031D06A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GHz U-N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PL paper on sharing spectrum (02328R- SARs &amp; U-NII_Devices@5.3G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borne Synthetic Aperture Radar SAR footprint = 181.5 k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x 70 Mi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U-NII emitter w/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Pattern and Powe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im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-existenc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ACE-106D-4305-9CDF-2459291FC4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100 mW Emi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t ant = -20dBi High Elevation Angle Gain (10 dBi G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LAN signal is approximately 20 dB below senso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29C-2AC2-4DBB-AB4E-D9DB9B3C0E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250 mW Emi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t ant = -4dBi High Elevation Angle Gain (6 dBi G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LAN signal is approximately 1 dB above senso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0DF-1F3E-4600-94BC-35E0BD7119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250 mW Emi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t ant = -0dBi High Elevation Angle Gain (0 dBi G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LAN signal is approximately 5 dB above sensor thres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D16-392E-4DE5-BCE2-13350D5195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th Sensor Satellite folks are pessimi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case is a few WLAN emitters within an 8 X 8 mile square, using 10 dB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ase for WLANs with lower gain anten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: WLANs / RLANs are currently only a footnote for 5.15-.25GHz in ITU-R Radio Re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WLANs be eliminated from ITU re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BE9C-663E-4C90-AF37-71C874D784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 participation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ITU process to lobby for WLA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ment in multiple regulatory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on in Working Parties, Task Groups, Joint Rapporteur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 Spectrum is a Shared Resou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a Joint International WLAN forum e.g. 3GPartnership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5386-60CA-488D-A790-845EB1C8A1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643-DD64-4C23-B90F-2CAE25EDD3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enis Kuwahara</dc:creator>
  <dc:description/>
  <dc:language>en-US</dc:language>
  <cp:lastModifiedBy>Harry R. Worstell</cp:lastModifiedBy>
  <cp:lastPrinted>1998-02-10T13:28:06Z</cp:lastPrinted>
  <dcterms:modified xsi:type="dcterms:W3CDTF">2000-07-19T20:29:42Z</dcterms:modified>
  <cp:revision>9</cp:revision>
  <dc:subject/>
  <dc:title>5GHz Sky is Falling</dc:title>
</cp:coreProperties>
</file>