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8D9A-ACF2-4F42-9AFB-50CA55FE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D059-1E99-4133-9C99-C31D1806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2E07-9D33-4F4F-ACDF-A6E3DC41C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AE92-7B23-45E2-B35A-E2B0CF9F7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7A60-422C-432E-A533-8D3681EE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F0C4-B239-4396-ACE8-DB8F3966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2A20-60E1-410D-8F5C-8B5C30E7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D780-E7A6-43CC-B3A7-8C41DE8C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5CB9-D34D-45BC-989D-695729A0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A31F-DE8C-4BBD-92A3-6ADA69C8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D3AD-8EA8-4F8D-8444-6BAEB841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5E2A-8067-4B0D-BEF5-5DB02D87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 Shellhammer, Symbo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191F366-22A6-4FF2-9DF5-3DDE89D28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00/173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existence Task Group           802.11/.15 Joint Meeting Report 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 Jolla, 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E73A-C542-472B-970D-AD8812ADBC9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Shellhammer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G2 Submission to Bluetooth SIGnal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160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regular column on IEEE 802.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comments from Ian Giff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some 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2EED-C156-42C0-9415-0851610B23B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da Golmie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C Layer Model Parameters for First Experiment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222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ied scenario (2 BT &amp; 2 802.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BT and 802.11b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ded to validate by experi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1048-DE89-4E80-9112-A2FAB86E092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Shellhammer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G2 Project Plan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089r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d the TG2 Project 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5C5D-704C-4BEE-BC31-13DB980E321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2 Deliver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xistenc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 describing the mutual interference of WLAN and WPAN upon one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xistence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hanisms or techniques to facilitate coexistence of WLAN and WPAN de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to be documented in an IEEE Recommended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3FB2-AE3C-4DDC-8E5A-9289B8598C0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rrent Coexistence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2 is within 802.15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802.11 members are encouraged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802.11 liaisons can vote in TG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802.11 and 802.15 vote on the Recommended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8309-979A-4662-8789-DFB55F4734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 Proposed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lly Joint Coexistence Task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Co-Chai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ve Shellhammer (802.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co-chair (802.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 add another new co-chair (802.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 meetings part of both 802.11 &amp; 802.15 meeting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802.11 and 802.15 members can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DFDE-7E0E-44B8-B523-DF3D56485BF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 Proposed Orga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title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reless Coexistence Task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ly address all 802 Wireless Coexistence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orum for collaboration between 802.11, 802.15 and 802.16 on all issues of coexistence arising with Wireless 802 Working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51FB-FA3F-4DAE-8B09-544A8DF325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 Ditch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uetooth SIG Coexistence Working Group Liaison Report #1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228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BT SIG Coexistence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ing at applications and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Interfer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first at impact of other on Blueto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next at impact of Bluetooth on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doing PHY or MAC layer simul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457D-D588-452A-AAC6-AC34A45DC6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er Voltz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hysical Layer Model of the Impact of Bluetooth on IEEE 802.11b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220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 versus Signal-to-Interferer Ratio (S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d Multipath delay sp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need to add equalizer into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71FE-1A95-439E-B29C-86F1BA400A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im Lansford, Bluetoo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hysical Layer Modeling Update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229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 Description (Geomet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/MAC Model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B0FA-FD72-46E8-B670-B5E8A182B93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existence Pres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y Kelson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rkeley Wireless Research Center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0/221r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Research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terested in implement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al Sharing (USS)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ing about Uncoordinated Coexistence Mechanis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&lt;author&gt;, &lt;company&gt;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3815-C19B-4F5E-A98E-CFC8209DCEC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&lt;month year&gt;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6:01:39Z</dcterms:created>
  <dc:creator>Steve Shellhammer</dc:creator>
  <dc:description>&lt;doc#&gt;</dc:description>
  <dc:language>en-US</dc:language>
  <cp:lastModifiedBy>Harry R. Worstell</cp:lastModifiedBy>
  <cp:lastPrinted>1998-02-10T13:28:06Z</cp:lastPrinted>
  <dcterms:modified xsi:type="dcterms:W3CDTF">2000-07-13T16:27:13Z</dcterms:modified>
  <cp:revision>234</cp:revision>
  <dc:subject>IEEE 802.15 &lt;subject&gt;</dc:subject>
  <dc:title>IEEE P802.15 Working Group for Wireless Personal Area Networks</dc:title>
</cp:coreProperties>
</file>