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96FA-415D-4B47-8CB4-0A28A536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C47F-D7F5-476F-B3A6-DB06EB77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BF94-3CBC-4C07-B375-7305F2F40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DA52-E93E-4711-BF3C-BB2FB539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A8A1-DF22-48C4-A951-A3C85F23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870A-6BF7-4169-AAFE-B8649AAF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FE52-60CD-40DF-AD41-028284C2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E01D-C6D8-437A-8278-D0752006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87EB-0C4E-43CF-8B26-59BCEBBE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0E90-F30E-40F9-A484-9E8517DB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BEB9-04BC-4FA9-B719-7A4692EC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DB05-946B-4D75-9CDC-74DF7BD1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846865D-A465-4B92-9F17-5E5C584B5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33920" y="396000"/>
            <a:ext cx="472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42-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ory and “one 5 GHz standard” ad-hoc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ursday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 Hayes, Lucent Techn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6C50-82CD-43E5-98E6-D8245535B0A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ory and “one 5 GHz standard” ad-hoc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ursday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tory Meetings held Wednesday 16:00-17:00 and Thursday 8:30-11: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C655-63B7-4EC0-9F31-1CD3632EFFD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ulator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ition papers to Regulatory bodie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ket 99-231 WBFH and DS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/216 draft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warrant that the CW Jammer test remains in the rules for approval of DS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approve doc.: 00/216d3 for submission to the FCC as an 802.11 Position statement, anticipating addition of 802.15 as joint submi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yren/Kuwahara, passed with3/0/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/126d4 is the version on the Thursday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232A-908D-4D3A-BF72-DFFCB2D031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approve doc.: 00/216d4 for submission to the FCC as an 802.11 Position statement, anticipating addition of 802.15 as joint subm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02.11, approved 47,1,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02.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approve the addition of 802.15 as the second entity that submits doc.:216d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02.15, approved 12, 1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B28A-E0DB-475D-9B43-AF7437512E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to ETSI-BRA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aison from September, 00/129, questions in response to our request to become HIPERLAN family 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d the document (00/24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s most important answers and will have 802.11 and 802.11a standards attached as well as the link to the list of relevant IP letters at the SA web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ntions the ad-hoc group established for convergence to a single 5 GHz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gulatory ad-hoc group approved the submission with 3/0/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approve the submission of document 00/241 to the Chair of ETSI-B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kellern/Murray passed with 3/0/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6060-D4E4-4FA7-8CB7-48B86F0EA3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pprove the submission of document 00/241 to the Chair of ETSI-B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 approved with 45, 0,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D533-03C5-4BAE-AA58-422EFE07DB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to ETSI-BR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letter to MMAC and ETSI-BR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was no time to make this document, however, the liaison statement to ETSI-BRAN contains sufficient text to make ETSI-BRAN aware of the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 letters can be approved at the September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6942-B267-455E-ACD5-975253A5A3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ulation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ulation of RLAN parameters for sharing with satell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document will be completed off-line and placed for review on the web-site. The plan will be to attend the relevant ITU-R meeting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pproval will be deferred to next mee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2FFF-7086-4811-9142-8CF3E678FDC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TU-R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438280" y="914400"/>
          <a:ext cx="3787920" cy="31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914400"/>
                    <a:ext cx="3787920" cy="31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911880" y="4038480"/>
            <a:ext cx="728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U-R meetings dealing with 5GHz Issues for WRC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) JTG 4-7-8-9 Sharing Issues in 5GHz B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) JTG 1-6-8-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ilitate Global Harmonization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restrial Wireless Interactive Multimedia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) For More Information see doc.: IEEE 802.11-00/22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4F33-626D-42FB-9797-2C98968F3EF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3T03:25:24Z</dcterms:created>
  <dc:creator>Vic Hayes</dc:creator>
  <dc:description/>
  <dc:language>en-US</dc:language>
  <cp:lastModifiedBy>Vic Hayes</cp:lastModifiedBy>
  <cp:lastPrinted>1998-02-10T13:28:06Z</cp:lastPrinted>
  <dcterms:modified xsi:type="dcterms:W3CDTF">2000-07-14T09:06:02Z</dcterms:modified>
  <cp:revision>8</cp:revision>
  <dc:subject/>
  <dc:title>Regulatory and one standard ad-hocs Wednesday report</dc:title>
</cp:coreProperties>
</file>