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4B79C-CD38-4406-BE74-E0963BBDC1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5E02D-55DB-46EC-B1E0-789BB3DBC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9E52C-199A-42D1-BF25-9FA960C30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C88EF-E884-4A73-840A-15A82820D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112F0-2422-4D0B-A568-49A10D5EE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00142-3BBF-4AA0-927F-2852FF857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DE4D0-3B3F-4E17-8417-E58AA0EFB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7025B-4436-4EC8-8B8D-B9E71DF60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282E9-5E7B-48C3-9F10-18133E90B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E7F9A-5B3A-42B6-8B6D-224BADC38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6DE1C-8B06-47F4-A91A-C4E541BB5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F21CA-BAD9-47C7-AEE9-4060990E0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72576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hew B. Shoemake, Alantro Communication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6E302F-B14D-4444-B389-E857943E2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4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b SG Status Report to 802.11  Working Group</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4190760"/>
            <a:ext cx="6400800" cy="14475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thew B. Shoemake, Ph.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b SG Chairperson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32CB9F8-97E9-4EFC-BA92-7FE93711DAD0}"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us of PAR and 5 Criteri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on approval of PAR will be taken Thursday evening at the Executive Committee meetin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8472C83-0E7F-4117-AC11-EB2F544CBBF0}"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ted HRb SG Work</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ed and approved </a:t>
            </a:r>
            <a:r>
              <a:rPr b="0" i="1" lang="en-US" sz="2800" spc="-1" strike="noStrike">
                <a:solidFill>
                  <a:srgbClr val="000000"/>
                </a:solidFill>
                <a:latin typeface="Times New Roman"/>
              </a:rPr>
              <a:t>Call for Intent to Propose</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will be issued on 802.11 web-site and 802.11 e-mail reflector assuming the PAR is approved this week</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for intent is in document 00/198</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80B3C2A-E609-49AD-B487-DA46023FB3F2}"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rmative Press Releas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ed and approved IEEE press release announcing new PAR and TGg</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ved press release is in document 00/217r1</a:t>
            </a:r>
            <a:endParaRPr b="0" lang="en-US" sz="2400" spc="-1" strike="noStrike">
              <a:solidFill>
                <a:srgbClr val="000000"/>
              </a:solidFill>
              <a:latin typeface="Times New Roman"/>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  Move to accept document 217r1 and direct the Chair of the IEEE 802.11 WG to issue it as an IEEE press releas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D96C1CC-E1FC-4B23-9BCE-8729F4832C10}"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s Presented to HRb SG</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Feasibility of OFDM for HRb SG, Mark Webster, Intersil, 00/203</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DM in the 2.4GHz Band, Jan Boer, Lucent, 00/18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Rb Performance Requirements – PHY Overhead and Data Rate, Jerry Loraine, Microlinear, 00/20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cy Domain Modulators for 802.11b, Mark Webster, Intersil, 00/20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on Recent FCC Visit, Carlos Rios, LinCo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5EE06A4-A357-4DB9-921F-C49E1A235B93}"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b SG Work In Progress</a:t>
            </a:r>
            <a:endParaRPr b="0" lang="en-US" sz="4400" spc="-1" strike="noStrike">
              <a:solidFill>
                <a:srgbClr val="000000"/>
              </a:solidFill>
              <a:latin typeface="Times New Roman"/>
            </a:endParaRPr>
          </a:p>
        </p:txBody>
      </p:sp>
      <p:sp>
        <p:nvSpPr>
          <p:cNvPr id="56" name="PlaceHolder 2"/>
          <p:cNvSpPr>
            <a:spLocks noGrp="1"/>
          </p:cNvSpPr>
          <p:nvPr>
            <p:ph/>
          </p:nvPr>
        </p:nvSpPr>
        <p:spPr>
          <a:xfrm>
            <a:off x="0" y="1676520"/>
            <a:ext cx="9144000" cy="441936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ed </a:t>
            </a:r>
            <a:r>
              <a:rPr b="0" i="1" lang="en-US" sz="2400" spc="-1" strike="noStrike">
                <a:solidFill>
                  <a:srgbClr val="000000"/>
                </a:solidFill>
                <a:latin typeface="Times New Roman"/>
              </a:rPr>
              <a:t>Proposal Selection Process</a:t>
            </a:r>
            <a:endParaRPr b="0" lang="en-US" sz="24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on process is in document 00/209r2</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ed </a:t>
            </a:r>
            <a:r>
              <a:rPr b="0" i="1" lang="en-US" sz="2400" spc="-1" strike="noStrike">
                <a:solidFill>
                  <a:srgbClr val="000000"/>
                </a:solidFill>
                <a:latin typeface="Times New Roman"/>
              </a:rPr>
              <a:t>Functional Requirements</a:t>
            </a:r>
            <a:endParaRPr b="0" lang="en-US" sz="24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requirements are in document 00/210r1</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ed </a:t>
            </a:r>
            <a:r>
              <a:rPr b="0" i="1" lang="en-US" sz="2400" spc="-1" strike="noStrike">
                <a:solidFill>
                  <a:srgbClr val="000000"/>
                </a:solidFill>
                <a:latin typeface="Times New Roman"/>
              </a:rPr>
              <a:t>Comparison Criteria</a:t>
            </a:r>
            <a:endParaRPr b="0" lang="en-US" sz="24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criteria are in document 00/211 </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Authorize the HRb SG to hold a series of four conference calls organized and chaired by the HRb SG chairperson, starting at 8:00am Pacific Time, and lasting a maximum of 1.5 hours each on Wednesdays July 26, August 9, August 23 and September 6, 2000 the purpose of which is to continue work on the Proposal Selection Process, Functional Requirements, and Comparison Criteria.</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0FEA744-5436-4F6C-9406-106F96760D15}" type="slidenum">
              <a:t>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Matthew B. Shoemake</cp:lastModifiedBy>
  <cp:lastPrinted>1998-02-10T13:28:06Z</cp:lastPrinted>
  <dcterms:modified xsi:type="dcterms:W3CDTF">2000-07-13T20:38:23Z</dcterms:modified>
  <cp:revision>27</cp:revision>
  <dc:subject/>
  <dc:title>No Slide Title</dc:title>
</cp:coreProperties>
</file>