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06697-EE1B-463B-BAE7-C643815D2B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FDE94-B089-4E36-93D2-9A1239415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D12D8-1636-4761-9FA9-1B5672F2B9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9F143E-8B67-443E-9F8A-59497F964D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AE880-05B5-4E78-B72C-39B6A1FDD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92024-EEC7-4D4B-A5E7-51B630579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B0687-5E70-40B3-B099-68303A703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66447-71EC-45CF-9073-A94498727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43770-0968-4E42-B056-3B501BCFE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DE5FF-1F20-4EF8-A58E-46896D061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89D8E-7701-4DC9-9982-31EE06E7D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C9BA9-0756-4D05-9BEC-18EEDD7F98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182520"/>
            <a:ext cx="72576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hew B. Shoemake, Alantro Communication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2884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FCC6AC4-2DD1-40F2-888B-203F170549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244r2</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b SG Status Report to 802.11  Working Group</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4190760"/>
            <a:ext cx="6400800" cy="144756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thew B. Shoemake, Ph.D.</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Rb SG Chairperson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CC287927-1470-48F9-A59C-F4F202494BF8}" type="slidenum">
              <a:t>1</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us of PAR and 5 Criteria</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te on approval of PAR will be taken Thursday evening at the Executive Committee meeting</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37443DEC-0DF2-4878-AA48-2FC9B2AB47D6}" type="slidenum">
              <a:t>2</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leted HRb SG Work</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fted and approved </a:t>
            </a:r>
            <a:r>
              <a:rPr b="0" i="1" lang="en-US" sz="2800" spc="-1" strike="noStrike">
                <a:solidFill>
                  <a:srgbClr val="000000"/>
                </a:solidFill>
                <a:latin typeface="Times New Roman"/>
              </a:rPr>
              <a:t>Call for Intent to Propose</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will be issued on 802.11 web-site and 802.11 e-mail reflector assuming the PAR is approved this week</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for intent is in document 00/198</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907A6856-FC27-42BA-B2DD-F710724C0881}" type="slidenum">
              <a:t>3</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ormative Press Releas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fted and approved IEEE press release announcing new PAR and TGg</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ved press release is in document 00/217r1</a:t>
            </a:r>
            <a:endParaRPr b="0" lang="en-US" sz="2400" spc="-1" strike="noStrike">
              <a:solidFill>
                <a:srgbClr val="000000"/>
              </a:solidFill>
              <a:latin typeface="Times New Roman"/>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tion:  Move to accept document 217r1 and direct the Chair of the IEEE 802.11 WG to issue its contents as an IEEE press release pending approval of the PAR by the SE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D98FCA40-2814-4E09-A8FA-889B1BAEF03E}" type="slidenum">
              <a:t>4</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685440"/>
            <a:ext cx="83818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s Presented to HRb SG</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al Feasibility of OFDM for HRb SG, Mark Webster, Intersil, 00/203</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DM in the 2.4GHz Band, Jan Boer, Lucent, 00/188</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Rb Performance Requirements – PHY Overhead and Data Rate, Jerry Loraine, Microlinear, 00/206</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quency Domain Modulators for 802.11b, Mark Webster, Intersil, 00/202</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ort on Recent FCC Visit, Carlos Rios, LinCom, 00/230</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00490B8B-98AF-4A4D-AC44-E92DDC094F4B}" type="slidenum">
              <a:t>5</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b SG Work In Progress</a:t>
            </a:r>
            <a:endParaRPr b="0" lang="en-US" sz="4400" spc="-1" strike="noStrike">
              <a:solidFill>
                <a:srgbClr val="000000"/>
              </a:solidFill>
              <a:latin typeface="Times New Roman"/>
            </a:endParaRPr>
          </a:p>
        </p:txBody>
      </p:sp>
      <p:sp>
        <p:nvSpPr>
          <p:cNvPr id="56" name="PlaceHolder 2"/>
          <p:cNvSpPr>
            <a:spLocks noGrp="1"/>
          </p:cNvSpPr>
          <p:nvPr>
            <p:ph/>
          </p:nvPr>
        </p:nvSpPr>
        <p:spPr>
          <a:xfrm>
            <a:off x="0" y="1676520"/>
            <a:ext cx="9144000" cy="4419360"/>
          </a:xfrm>
          <a:prstGeom prst="rect">
            <a:avLst/>
          </a:prstGeom>
          <a:noFill/>
          <a:ln w="0">
            <a:noFill/>
          </a:ln>
        </p:spPr>
        <p:txBody>
          <a:bodyPr lIns="92160" rIns="92160" tIns="46080" bIns="46080" anchor="t">
            <a:normAutofit fontScale="97000"/>
          </a:bodyPr>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ed </a:t>
            </a:r>
            <a:r>
              <a:rPr b="0" i="1" lang="en-US" sz="2400" spc="-1" strike="noStrike">
                <a:solidFill>
                  <a:srgbClr val="000000"/>
                </a:solidFill>
                <a:latin typeface="Times New Roman"/>
              </a:rPr>
              <a:t>Proposal Selection Process</a:t>
            </a:r>
            <a:endParaRPr b="0" lang="en-US" sz="2400" spc="-1" strike="noStrike">
              <a:solidFill>
                <a:srgbClr val="000000"/>
              </a:solidFill>
              <a:latin typeface="Times New Roman"/>
            </a:endParaRPr>
          </a:p>
          <a:p>
            <a:pPr lvl="2" marL="1053000" indent="-221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ection process is in document 00/209r2</a:t>
            </a:r>
            <a:endParaRPr b="0" lang="en-US" sz="20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ed </a:t>
            </a:r>
            <a:r>
              <a:rPr b="0" i="1" lang="en-US" sz="2400" spc="-1" strike="noStrike">
                <a:solidFill>
                  <a:srgbClr val="000000"/>
                </a:solidFill>
                <a:latin typeface="Times New Roman"/>
              </a:rPr>
              <a:t>Functional Requirements</a:t>
            </a:r>
            <a:endParaRPr b="0" lang="en-US" sz="2400" spc="-1" strike="noStrike">
              <a:solidFill>
                <a:srgbClr val="000000"/>
              </a:solidFill>
              <a:latin typeface="Times New Roman"/>
            </a:endParaRPr>
          </a:p>
          <a:p>
            <a:pPr lvl="2" marL="1053000" indent="-221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ctional requirements are in document 00/210r1</a:t>
            </a:r>
            <a:endParaRPr b="0" lang="en-US" sz="20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ed </a:t>
            </a:r>
            <a:r>
              <a:rPr b="0" i="1" lang="en-US" sz="2400" spc="-1" strike="noStrike">
                <a:solidFill>
                  <a:srgbClr val="000000"/>
                </a:solidFill>
                <a:latin typeface="Times New Roman"/>
              </a:rPr>
              <a:t>Comparison Criteria</a:t>
            </a:r>
            <a:endParaRPr b="0" lang="en-US" sz="2400" spc="-1" strike="noStrike">
              <a:solidFill>
                <a:srgbClr val="000000"/>
              </a:solidFill>
              <a:latin typeface="Times New Roman"/>
            </a:endParaRPr>
          </a:p>
          <a:p>
            <a:pPr lvl="2" marL="1053000" indent="-221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rison criteria are in document 00/211 </a:t>
            </a:r>
            <a:endParaRPr b="0" lang="en-US" sz="2000" spc="-1" strike="noStrike">
              <a:solidFill>
                <a:srgbClr val="000000"/>
              </a:solidFill>
              <a:latin typeface="Times New Roman"/>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2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Authorize the HRb SG to hold a series of four conference calls organized and chaired by the HRb SG chairperson, starting at 8:00am Pacific Time, and lasting a maximum of 1.5 hours each on Wednesdays July 26, August 9, August 23 and September 6, 2000 the purpose of which is to continue work on the Proposal Selection Process, Functional Requirements, and Comparison Criteria the results of which will be recorded in minutes and posted on the 802.11 web site.</a:t>
            </a:r>
            <a:endParaRPr b="0" lang="en-US" sz="2000" spc="-1" strike="noStrike">
              <a:solidFill>
                <a:srgbClr val="000000"/>
              </a:solidFill>
              <a:latin typeface="Times New Roman"/>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07945509-D8E9-4479-9AC7-B64B9BE60EB4}" type="slidenum">
              <a:t>6</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Matthew B. Shoemake</cp:lastModifiedBy>
  <cp:lastPrinted>1998-02-10T13:28:06Z</cp:lastPrinted>
  <dcterms:modified xsi:type="dcterms:W3CDTF">2000-07-13T21:43:04Z</dcterms:modified>
  <cp:revision>31</cp:revision>
  <dc:subject/>
  <dc:title>No Slide Title</dc:title>
</cp:coreProperties>
</file>