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283700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531-349C-4034-9E3D-8F33B30C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BF0-1CE1-4D3A-8079-64CD7120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340-344B-41FC-9EEA-CB64D8D3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255-1DEA-4159-9D73-47B43084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77B-9467-448D-A536-AF2DADCD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7A2-5843-4F77-90F0-F7BFF4CF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00F-0E32-4405-82CA-29AF8F59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4AF-123D-4AED-995A-354A6987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E28-DFD2-4A57-960A-002F6DBF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952-C4CC-4CFF-8FA3-D39E4006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A338-E504-422F-955F-D4061109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8BB1-F214-4DE1-8C86-777AAA2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73FC73-5FC3-48F9-9627-682C09D82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AC applicability for WirelessHU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 Godfr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9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934-733A-44FB-9ADA-BC4E40D11DB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y doesn’t the existing Point Coordination Function provide adequate QoS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CF provides a Contention Free Period (CFP), where access to the medium is completely controlled by the Point Coordinator (P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FP begins with a beacon transmitted by the PC. The PC must contend for the medium using the DCF rules. Thus the beacon (and the CFP) may be delayed by other non-coordinated traff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unacknowledged unicast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standardized mechanism for controlling Point Coordinator bandwidth allocation poli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attempting to associate or reassociate in a Point Coordinated BSS must contend under DCF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B05-52FF-43FC-8C83-76C4F40600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E QoS Propos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590920"/>
            <a:ext cx="2514600" cy="30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Polling Proposal for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SA and Enrichnet - 0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 Enhancements Joi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, Lucent, Sharewave 0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oS Support in 802.11 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ilips Research 1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 PCF Enhancements and Contention Free Bur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WN 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EEE 802.11 Quality of Serv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crosoft 0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reless LAN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l 0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4320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1295280"/>
            <a:ext cx="68580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SBM for admission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43200" y="1295280"/>
            <a:ext cx="76212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802.1d VLAN tags to indicate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257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9112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92600" y="4876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92600" y="5334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260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1295280"/>
            <a:ext cx="68580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DCF rules to provide pri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87692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78400" y="53341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78400" y="4876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472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0520" y="4876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1295280"/>
            <a:ext cx="83808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existing problems with the P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0228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228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15000" y="1295280"/>
            <a:ext cx="762120" cy="1219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hance the P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440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4400" y="2590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2280" y="38098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1500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440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4720" y="2590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77120" y="1295280"/>
            <a:ext cx="0" cy="518184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334B-2CD0-4233-8451-21F6066C91C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E QoS Proposal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74320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1143000"/>
            <a:ext cx="685800" cy="1371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1143000"/>
            <a:ext cx="762120" cy="13716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762120"/>
            <a:ext cx="5486400" cy="3808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CF Enhanc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0481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114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0532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19112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60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1143000"/>
            <a:ext cx="8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igate the effects  overlapping BSS on the sam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87692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472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1143000"/>
            <a:ext cx="761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d CFP polling orde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1143000"/>
            <a:ext cx="914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to allow BW reservation without DCF Con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143000"/>
            <a:ext cx="914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 interface for bandwidth allocation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29400" y="1143000"/>
            <a:ext cx="838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acknowledgement polic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1143000"/>
            <a:ext cx="762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STA – STA trans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228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072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7880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1688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260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7840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0520" y="3200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2590920"/>
            <a:ext cx="2514600" cy="22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Polling Proposal for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SA and Enrichnet - 0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C Enhancements Joi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&amp;T, Lucent, Sharewave 0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 PCF Enhancements and Contention Free Bur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WN 1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676520"/>
            <a:ext cx="230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Times New Roman"/>
              </a:rPr>
              <a:t>Proposals using enhancements to the P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0520" y="434340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68920" y="2590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1143000"/>
            <a:ext cx="762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ypes of po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4720" y="259092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9132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62940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46748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8229600" y="1142640"/>
            <a:ext cx="0" cy="5334120"/>
          </a:xfrm>
          <a:prstGeom prst="line">
            <a:avLst/>
          </a:prstGeom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560" y="2590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ABD0-9B89-4C0C-BAEB-B9342434A1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E CEPT Harm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enhancements planned for 802.11E is the addition of support for Dynamic Frequency Selection (DFS) and Transmit Power Control (TPC) to the 802.11 M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implementation will require corresponding changes to the 802.11 PHY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0C22-CB4E-41F7-BBA8-6FA326D2DA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E Security Enhanc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uthentication mechanism will be extended to provide mutual authentication in both infrastructure and independent BSS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enhancements will protect network traffic from eavesdropping to a reasonable level compatible with the state of the 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enhancements will allow for authentication of the source of each packet, to prevent link hijacking or undetected insertion of rogue packets into the lin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enhancements will allow key distribution or derivation of per-link or per-session keys, and strongly protect keys and passwords from recovery by eavesdropp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2A83-8B0D-4C43-BC7F-1C606295033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E Project Time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1999 – Study Group formed by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1999 – MAC Enhancements PAR sub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2000 – PAR Approved, Task Group 802.11E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set of proposals and papers on MAC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000 – First meeting of Task Group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2000 – 802 Plenary Meeting, La Jolla, 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ation of presentation of papers and 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inement of Requirements and Evaluation Crit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2000 – Selection of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2000 – Target date for first letter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C43-151E-45DB-A987-978A5B6F6C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32763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HUMAN system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441936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ulti-hop network (wireless distribution system) is not directly supported by the 802.11 MA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and forwarding could be handled at higher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h a system would make support QoS with 802.11E MAC enhancements much more diffic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2920" y="35053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: 802.16hc-00/01 “</a:t>
            </a:r>
            <a:r>
              <a:rPr b="1" lang="en-US" sz="1200" spc="-1" strike="noStrike">
                <a:solidFill>
                  <a:srgbClr val="000000"/>
                </a:solidFill>
                <a:latin typeface="Times-Bold"/>
              </a:rPr>
              <a:t>Requirements for WirelessHUMAN Syste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363-DFD6-4D7D-B19A-B568F77313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 MAC is already implemented and in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 MAC is highly configur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changes in capabilities and characteristics can be achieved with changes to the MAC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hanges to the parameters are necessary for the WirelessHUMAN application, it does not affect the hardware implementation and thus does not reduce economy of scale advan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1D9-413C-4D66-88B4-4EA4F63283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ality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has broad market acceptance, and a rapidly growing installed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a WLAN devices will become available in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es of scale will reduce the cost for 802.11a and WirelessHUMAN implementations if they use comparable technolog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596E-A7CB-4B6A-A05B-6B6A22ABBA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a PHY is directly applicable to the Wireless HUMAN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a operates in the 5GHz UNII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a uses OFDM modulation with 52 subcarriers, providing excellent multipath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a supports 8 data rates in the range of 6 to 54Mbps, which allows adaptation to various link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a PHY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457B-FEDA-493F-B4B6-49217C82A2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802.11A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802-11%20frequency%20plan" descr=""/>
          <p:cNvPicPr/>
          <p:nvPr/>
        </p:nvPicPr>
        <p:blipFill>
          <a:blip r:embed="rId1"/>
          <a:stretch/>
        </p:blipFill>
        <p:spPr>
          <a:xfrm>
            <a:off x="0" y="1828800"/>
            <a:ext cx="562284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562720" y="1905120"/>
            <a:ext cx="3467160" cy="1609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715000" y="3809880"/>
            <a:ext cx="3247920" cy="259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3581280"/>
            <a:ext cx="3581280" cy="182880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D90-43CF-48E3-BDF0-4C74427DD64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is the 802.11 MAC appropriate for WirelessHU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MAC was designed to support a relatively unreliable RF link operating in an unlicensed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tocol is extremely robust, and provides the level of reliability required by higher layer protoc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C provides a level of indirection which enables nomadic users, and hand-off between access points, without affecting higher layer protoc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E35-118F-4835-BCEA-2610C028BC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potential problems with the 802.11 MAC for WirelessHUMA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MAC was not designed for node separation distances on the order of kilometers. At 5 kilometers, the propagation delay roughly equals the short interframe space (SIFS) of 16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propagation delays can result in failure of the CSMA/CA access mechanism, causing coll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the MAC’s Point Coordination Function prevents failure, although at a loss of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enhancements described in 802.11E proposals provide further improvements to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E92-1618-42F7-B398-BEBA0C703E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rovements to the 802.11 MA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eptember 1999, the MAC Enhancements study group was formed. Two PARs were gener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related to Quality of Service, Security, Authentication, and other internal MAC functions are being developed by Task Group E. The Task Group will produce a supplement to the 802.11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ments related to the Inter Access Point Protocol are being developed by Task Group F. This protocol is outside the scope of 802 standards, so Task Group F will produce a Recommended Practices Docu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538-D3E3-4044-B248-8B00764CFA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pe and Purpose of Project 802.11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, approved in March 2000, defines the scope and purpose of the pro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the 802.11 Medium Access Control (MA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and manage Quality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classes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enhanced security and authentication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efficiency enhancements in the areas of the Distributed Coordination Function (DCF) and Point Coordination Function (PC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8308-6BED-4104-BEC4-F0531B16BB6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Enhance the 802.11 MAC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and for Quality of Service over wireless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over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priorities and classes of service implemented in higher network lay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improvements in privacy and authent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nesses in existing WEP mechanism have been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regulations regarding export of encry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re to implement different authentication mechanisms in to correspond to differing security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0D6-791B-4238-A085-13EF958C58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13:02:09Z</dcterms:created>
  <dc:creator>Tim Godfrey</dc:creator>
  <dc:description>Tim Godfrey, Intersil</dc:description>
  <dc:language>en-US</dc:language>
  <cp:lastModifiedBy>Harry Worstell</cp:lastModifiedBy>
  <cp:lastPrinted>2000-04-29T13:14:27Z</cp:lastPrinted>
  <dcterms:modified xsi:type="dcterms:W3CDTF">2000-10-07T04:08:15Z</dcterms:modified>
  <cp:revision>84</cp:revision>
  <dc:subject>Submission</dc:subject>
  <dc:title>802.11 WirelessHUMAN</dc:title>
</cp:coreProperties>
</file>