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94320" y="931212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019AE4-439E-438A-8681-4DC4A791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50920" y="857160"/>
            <a:ext cx="455616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EEE Networks, Sept/Oct 1999 issue, notab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case for relative differentiated services and the proportional differentiated service model” - C.Dovrolis &amp; P. Ramananthan, University of Wiscons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ir neat concept of proportional service differentiation to maintain fair access to a variable capacity medium was combined with medium load feedback. to yield a distributed QoS mechanism that is self-adjusting and scales well. The key requirement is that all devices have to implement the model and policy and not play “rogu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 interesting property of this scheme is that it does not require changes in the 802.11 MAC and therefore it can be retrofitted on to existing system - at least in princip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fore, this can be applied to the 5 GHz MAC spec as well as a retrofitted as an option on the current 802.11 MAC spe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urther information: the IETF has issued a series of memos and RFC dealing with QoS. D-QoS ties in with IntServ but also with Diffserv - even if no differentiation other than the priority bit is available, the scheme still works - with only two clas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550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facing with DOCSIS should  also work by mapping DOCSIS priorities onto D-QoS clas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ey concept of D-QoS is that the available service rate at each station is allocated differentially to different calles of service. By adjusting the separation between class level service rates, the share that a given class gets of the availabe station service rate can be vari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The service rate per station varies with the overall network load - that is always true, with any QoS mechanism. Absolute service rates in packets per second are not possible - one can only set targets that can be achieved in good, stable propagation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nsmission opportunity: end of every transmission; every free channel condition and every slot interval during a free channel 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critical channel load: no delay in medium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ritical channel load: each node experiences some con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er critical channel load: all nodes experience contention and/or extended back-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 Service Rate: total of  transmission opportunities during some interval (may need different scales for sub- and (super)critical conditi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Service Rate: fraction of total transmission opportunities allowed for that class. CSR 4 means: 1 in 4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SR for class B is 2 then, even if there is no class A traffic, the device will only attempt to gain medium access one every second opportunity. That means that other stations with Class A service have a better chance of transmitting.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2360" y="857160"/>
            <a:ext cx="4553280" cy="34164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2960" y="4647960"/>
            <a:ext cx="503064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sue of RF chann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.4 G there are 4 (3?) channels, at 5 GHz US, there are 12 channels, in Europe, 17, in Japan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work shows that for a high density scenario with 54 Mb/s per home in a multi-story parallel housing block arrangement, 41 channels would be needed. The main reason is that the medium re-use  is not very good at high bit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8000"/>
              </a:lnSpc>
              <a:spcBef>
                <a:spcPts val="6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046F-37FE-4E6A-BC8F-C1079084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C95-0554-4A7B-A1E6-EE93EFE0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1B50-7482-47A7-BFB3-34E0B787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E37-FBCE-4E5F-B34D-4B9CF032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B56-19E1-4B78-A04E-B6123F95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4F1-29B0-481C-8F1C-323B5358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A03-FF86-4703-BF57-C9B2E870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4D7-66FE-4BD7-B434-35C1FB0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C1C-05FF-4933-B4D9-75E32BF3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1C0-FE9F-430F-B813-844DC849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255-2610-46D1-96A7-767D5B7B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A350-A788-42BE-9F52-1805E69E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5680" y="34992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29200" y="6523200"/>
            <a:ext cx="35114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 Kruys, Harold Teunissen, Lucent 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14440" y="652284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02DB45-F910-41BE-96DD-B528FE3F2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2320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d QoS model for IEEE 80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52464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228600"/>
            <a:ext cx="39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15238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QoS model for IEEE 802.11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Task Group E September 2000 meetin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Kruys - WC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Harold Teunissen - Bell Labs Tw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A6DE-B8A8-41FE-963E-96BCB43860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94736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QoS at system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 the application in connection se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QoS Classes of Service as generic classification that can be mapped to specific solutions and mechanisms (e.g. windowing, priorities, leaky bucket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eedback to higher layers to adjust feed rate to the available wireless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 in with IETF work on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e in with “OS” functions - admis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F9D-0D55-4F09-BFF7-BA7732FC6A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model for D-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QoS Flow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ve reduction of service rate for lower classes of service as the medium load goe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medium load feedback to drive local service rate decisions - per Servic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Admission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drop rate feedback to tell the application if a new “connection” i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Proportional Diff. Service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ECE9-EF44-4399-9290-7CFAE5A353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Policy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Class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s delay and jitter tar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es relativ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Policy speci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or proportional servic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 rate control and starvation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medium load on servic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or decrease the relative service rate of each cla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ssion cond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74B-1E2D-428D-8B80-41291B9A3B6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3400" y="1676520"/>
            <a:ext cx="767088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5349600" y="4809600"/>
            <a:ext cx="622440" cy="6033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5349240" y="3850200"/>
            <a:ext cx="623880" cy="600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5349600" y="2904480"/>
            <a:ext cx="622440" cy="60336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5349960" y="1966680"/>
            <a:ext cx="622080" cy="60012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938760" y="1959120"/>
            <a:ext cx="1406520" cy="3450240"/>
            <a:chOff x="3938760" y="1959120"/>
            <a:chExt cx="1406520" cy="3450240"/>
          </a:xfrm>
        </p:grpSpPr>
        <p:sp>
          <p:nvSpPr>
            <p:cNvPr id="79" name=""/>
            <p:cNvSpPr/>
            <p:nvPr/>
          </p:nvSpPr>
          <p:spPr>
            <a:xfrm rot="16200000">
              <a:off x="4331160" y="4395240"/>
              <a:ext cx="62172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6200000">
              <a:off x="4330080" y="3435120"/>
              <a:ext cx="62352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6200000">
              <a:off x="4330800" y="2471760"/>
              <a:ext cx="62208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4330800" y="1566720"/>
              <a:ext cx="622080" cy="140652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3989520" y="4843800"/>
              <a:ext cx="1304280" cy="509760"/>
              <a:chOff x="3989520" y="4843800"/>
              <a:chExt cx="1304280" cy="509760"/>
            </a:xfrm>
          </p:grpSpPr>
          <p:sp>
            <p:nvSpPr>
              <p:cNvPr id="84" name=""/>
              <p:cNvSpPr/>
              <p:nvPr/>
            </p:nvSpPr>
            <p:spPr>
              <a:xfrm rot="16200000">
                <a:off x="488844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6200000">
                <a:off x="423648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6200000">
                <a:off x="458748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6200000">
                <a:off x="3885120" y="494820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989520" y="3883680"/>
              <a:ext cx="1304280" cy="508680"/>
              <a:chOff x="3989520" y="3883680"/>
              <a:chExt cx="1304280" cy="508680"/>
            </a:xfrm>
          </p:grpSpPr>
          <p:sp>
            <p:nvSpPr>
              <p:cNvPr id="89" name=""/>
              <p:cNvSpPr/>
              <p:nvPr/>
            </p:nvSpPr>
            <p:spPr>
              <a:xfrm rot="16200000">
                <a:off x="488880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6200000">
                <a:off x="423684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6200000">
                <a:off x="458784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6200000">
                <a:off x="3885480" y="3987360"/>
                <a:ext cx="50868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989520" y="2919960"/>
              <a:ext cx="1304280" cy="509760"/>
              <a:chOff x="3989520" y="2919960"/>
              <a:chExt cx="1304280" cy="509760"/>
            </a:xfrm>
          </p:grpSpPr>
          <p:sp>
            <p:nvSpPr>
              <p:cNvPr id="94" name=""/>
              <p:cNvSpPr/>
              <p:nvPr/>
            </p:nvSpPr>
            <p:spPr>
              <a:xfrm rot="16200000">
                <a:off x="488844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200000">
                <a:off x="423648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200000">
                <a:off x="458748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3885120" y="302436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989520" y="2014920"/>
              <a:ext cx="1304280" cy="509760"/>
              <a:chOff x="3989520" y="2014920"/>
              <a:chExt cx="1304280" cy="509760"/>
            </a:xfrm>
          </p:grpSpPr>
          <p:sp>
            <p:nvSpPr>
              <p:cNvPr id="99" name=""/>
              <p:cNvSpPr/>
              <p:nvPr/>
            </p:nvSpPr>
            <p:spPr>
              <a:xfrm rot="16200000">
                <a:off x="488844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200000">
                <a:off x="423648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200000">
                <a:off x="458748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6200000">
                <a:off x="3885120" y="2119320"/>
                <a:ext cx="509760" cy="300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 rot="16200000">
            <a:off x="3296880" y="480960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3296160" y="3895920"/>
            <a:ext cx="62388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3296880" y="290448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3296880" y="1990080"/>
            <a:ext cx="622440" cy="603360"/>
          </a:xfrm>
          <a:prstGeom prst="ellipse">
            <a:avLst/>
          </a:prstGeom>
          <a:solidFill>
            <a:srgbClr val="e0204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94360" y="1828800"/>
            <a:ext cx="1124280" cy="3632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94360" y="31240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um Access Contro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910120" y="1981080"/>
            <a:ext cx="984240" cy="507960"/>
            <a:chOff x="5910120" y="1981080"/>
            <a:chExt cx="984240" cy="507960"/>
          </a:xfrm>
        </p:grpSpPr>
        <p:sp>
          <p:nvSpPr>
            <p:cNvPr id="110" name=""/>
            <p:cNvSpPr/>
            <p:nvPr/>
          </p:nvSpPr>
          <p:spPr>
            <a:xfrm>
              <a:off x="6050880" y="219888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0120" y="198108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78440" y="2962440"/>
            <a:ext cx="986040" cy="580320"/>
            <a:chOff x="5878440" y="2962440"/>
            <a:chExt cx="986040" cy="580320"/>
          </a:xfrm>
        </p:grpSpPr>
        <p:sp>
          <p:nvSpPr>
            <p:cNvPr id="113" name=""/>
            <p:cNvSpPr/>
            <p:nvPr/>
          </p:nvSpPr>
          <p:spPr>
            <a:xfrm>
              <a:off x="6019200" y="3211200"/>
              <a:ext cx="774360" cy="331560"/>
            </a:xfrm>
            <a:prstGeom prst="rightArrow">
              <a:avLst>
                <a:gd name="adj1" fmla="val 50000"/>
                <a:gd name="adj2" fmla="val 5838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878440" y="2962440"/>
              <a:ext cx="986040" cy="165600"/>
            </a:xfrm>
            <a:prstGeom prst="leftArrow">
              <a:avLst>
                <a:gd name="adj1" fmla="val 50000"/>
                <a:gd name="adj2" fmla="val 148859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910120" y="3886200"/>
            <a:ext cx="984240" cy="507960"/>
            <a:chOff x="5910120" y="3886200"/>
            <a:chExt cx="984240" cy="507960"/>
          </a:xfrm>
        </p:grpSpPr>
        <p:sp>
          <p:nvSpPr>
            <p:cNvPr id="116" name=""/>
            <p:cNvSpPr/>
            <p:nvPr/>
          </p:nvSpPr>
          <p:spPr>
            <a:xfrm>
              <a:off x="6050880" y="410400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10120" y="388620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910120" y="4876920"/>
            <a:ext cx="984240" cy="507960"/>
            <a:chOff x="5910120" y="4876920"/>
            <a:chExt cx="984240" cy="507960"/>
          </a:xfrm>
        </p:grpSpPr>
        <p:sp>
          <p:nvSpPr>
            <p:cNvPr id="119" name=""/>
            <p:cNvSpPr/>
            <p:nvPr/>
          </p:nvSpPr>
          <p:spPr>
            <a:xfrm>
              <a:off x="6050880" y="5094720"/>
              <a:ext cx="772920" cy="290160"/>
            </a:xfrm>
            <a:prstGeom prst="rightArrow">
              <a:avLst>
                <a:gd name="adj1" fmla="val 50000"/>
                <a:gd name="adj2" fmla="val 6659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910120" y="4876920"/>
              <a:ext cx="984240" cy="145080"/>
            </a:xfrm>
            <a:prstGeom prst="leftArrow">
              <a:avLst>
                <a:gd name="adj1" fmla="val 50000"/>
                <a:gd name="adj2" fmla="val 169603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09480" y="2743200"/>
            <a:ext cx="1852560" cy="2771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3102120"/>
            <a:ext cx="17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media Traffic 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462040" y="2035080"/>
            <a:ext cx="914400" cy="507960"/>
            <a:chOff x="2462040" y="2035080"/>
            <a:chExt cx="914400" cy="507960"/>
          </a:xfrm>
        </p:grpSpPr>
        <p:sp>
          <p:nvSpPr>
            <p:cNvPr id="124" name=""/>
            <p:cNvSpPr/>
            <p:nvPr/>
          </p:nvSpPr>
          <p:spPr>
            <a:xfrm>
              <a:off x="2602440" y="225288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62040" y="203508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462040" y="2914560"/>
            <a:ext cx="914400" cy="507960"/>
            <a:chOff x="2462040" y="2914560"/>
            <a:chExt cx="914400" cy="507960"/>
          </a:xfrm>
        </p:grpSpPr>
        <p:sp>
          <p:nvSpPr>
            <p:cNvPr id="127" name=""/>
            <p:cNvSpPr/>
            <p:nvPr/>
          </p:nvSpPr>
          <p:spPr>
            <a:xfrm>
              <a:off x="2602440" y="313236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62040" y="291456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462040" y="3962520"/>
            <a:ext cx="914400" cy="507960"/>
            <a:chOff x="2462040" y="3962520"/>
            <a:chExt cx="914400" cy="507960"/>
          </a:xfrm>
        </p:grpSpPr>
        <p:sp>
          <p:nvSpPr>
            <p:cNvPr id="130" name=""/>
            <p:cNvSpPr/>
            <p:nvPr/>
          </p:nvSpPr>
          <p:spPr>
            <a:xfrm>
              <a:off x="2602440" y="418032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62040" y="396252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462040" y="4854600"/>
            <a:ext cx="914400" cy="507960"/>
            <a:chOff x="2462040" y="4854600"/>
            <a:chExt cx="914400" cy="507960"/>
          </a:xfrm>
        </p:grpSpPr>
        <p:sp>
          <p:nvSpPr>
            <p:cNvPr id="133" name=""/>
            <p:cNvSpPr/>
            <p:nvPr/>
          </p:nvSpPr>
          <p:spPr>
            <a:xfrm>
              <a:off x="2602440" y="5072400"/>
              <a:ext cx="632880" cy="290160"/>
            </a:xfrm>
            <a:prstGeom prst="rightArrow">
              <a:avLst>
                <a:gd name="adj1" fmla="val 50000"/>
                <a:gd name="adj2" fmla="val 54529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62040" y="4854600"/>
              <a:ext cx="914400" cy="145080"/>
            </a:xfrm>
            <a:prstGeom prst="leftArrow">
              <a:avLst>
                <a:gd name="adj1" fmla="val 50000"/>
                <a:gd name="adj2" fmla="val 157568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938760" y="2057400"/>
            <a:ext cx="20412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4864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2045"/>
                </a:solidFill>
                <a:latin typeface="Arial"/>
              </a:rPr>
              <a:t>Drop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82960" y="54864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vice Rat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1905120"/>
            <a:ext cx="1852560" cy="7617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1981080"/>
            <a:ext cx="18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&amp; Networkt Mg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49E-0814-41FE-868B-A492393C41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3040" y="1523880"/>
            <a:ext cx="8199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classes are e.g.: A, B, C, D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size for Class A = 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rate = proportional, default distance is 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A will get 2 times as much service as B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access delay = x then increase class distance to .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access delay = y than increase class distance to 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Q is full then drop 2 random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rop rate is &gt; m packets/sec then refuse new interactive and stream conn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231A-387F-4920-B40B-6EE8BC9874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ing Behavi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3040" y="1600200"/>
            <a:ext cx="81234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ow medium load, all classes get “full”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load increases, bias shift towards highe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adju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tarvation of low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delay increases beyond medium capacity, applications see packet drop and adjust flow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drop rate reverses, applications increase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2F1-6D64-4B75-A120-31F945DE8DF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es to any siz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s capacity evenly over multiple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eed for cell overlap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implemented at any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requires packet stream separation - e.g. by labels or priority levels; this is needed any way for Int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sed admission control and/or service rate control can be 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riven by S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608D-32A8-46BC-9FB3-0789734802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pecify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MAC SAPs or extend current SAP definitions with additional primitives per Servic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Service Class operations and parameters as part of 802.11 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llow for remote control of policy and class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PI for Service Access and drop rate 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B41-8983-4F3F-BA01-E590D1C3F29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works with proven 802.11 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is robust and self-adjusts to medium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is simple, effective and open-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s with the Internet th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different poli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-QoS easy to implement - avoids the complexities of centralised scheduling and cell overlap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5C2A-48D9-48B7-9643-F9A7826C2D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eeded for the feedback channels (what information needs to be passed up/down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 if only lower classes are used, how to use the transmit opportun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 with backoff and possible re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lap with neighbor cell is still resolved by retransmissions, etc. but what are the effects for QoS (delay, jitter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BDA-C960-4B98-BDD8-44525B5FA99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3400" y="1676520"/>
            <a:ext cx="7670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started out as wireless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before talk is essential for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tle concern for QoS at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QoS with active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not a burning issue at th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signaling was not tr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n when wireless ATM was riding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 lot of telecom drive behin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7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the paradigm is IP and the Intern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D3E-3107-44F3-97C8-453567DC68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inement and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decision to ado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work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nto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this, besides PCF, to 802.11TGe and the Joint 802.11-HIPERLAN/2 group as basis of a QoS MAC specif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DFC-5C10-4BFB-95EF-A446784C0B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lear definition of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s spaces: home, busines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applications, change wit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quantitative yardstick to judg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ing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on the Internet evo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requencies and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performance of wireless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llation and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be easy / auto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CC8-710D-40CC-8962-98A0430A4B0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Requirements Analy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3040" y="1523880"/>
            <a:ext cx="81234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interactive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, videoconferencing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delay and jitter mar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streaming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olumes, video on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lerates delay and jit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 and any time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ikes a short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s or SPs define QoS Policy, not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05A-0167-42C9-9150-F1B9B60B29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QoS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priorities of traffic types or conn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starvation (allowed or n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r.t. to downgrading services when the medium capacity deg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medium 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term, due to changing propagation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erm, due to changes in the population of users and subnets (shared med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B50-8182-461A-A46F-9FDAE88BCD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3400" y="1599840"/>
            <a:ext cx="7971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ring QoS under control requ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licy for, e.g. admission control and flow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admission control is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demand/assignment is unfea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erminals; changing instantaneous de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propagation and interference conditions cause rate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pproximate QoS optimization i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ized flow control is not “RF robust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at 5 GHz not enough RF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B23-3C0B-4E8D-8232-0D4A14576B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Consid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03080" y="1665000"/>
            <a:ext cx="7670520" cy="40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is the dominant network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on the link to the 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(IETF) has a variety of QoS mechanisms at TCP and IP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 control at TC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and Differentiated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wireless MAC solution has to tie in with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research is being done on Network QoS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 be lever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E95-FFBF-4E18-829C-1FCA29337F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ig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3400" y="1600200"/>
            <a:ext cx="827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 the robustness of 802.11 D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suffers from hidden nodes and communication’s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intain efficient medium use (DCF is pretty g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 and in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ward compatible” with current 802.11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ECD-9786-471B-BC21-51DEBBE3D1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ness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Times New Roman"/>
              </a:rPr>
              <a:t>Be liberal in what you accept, and conservative in what you send*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- Jon Post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) RFC-1122, Requirements for Internet Hosts - Communication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3A2-E926-4451-AC42-AD33A7D231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1T06:36:16Z</dcterms:created>
  <dc:creator>Jan Kruys, Harold Teunissen</dc:creator>
  <dc:description>September 2000</dc:description>
  <dc:language>en-US</dc:language>
  <cp:lastModifiedBy>Harold Teunissen</cp:lastModifiedBy>
  <cp:lastPrinted>1997-07-21T17:22:44Z</cp:lastPrinted>
  <dcterms:modified xsi:type="dcterms:W3CDTF">2000-09-19T03:45:39Z</dcterms:modified>
  <cp:revision>38</cp:revision>
  <dc:subject>Meeting Proposal</dc:subject>
  <dc:title>00267-Distributed QoS model for IEEE 802.11</dc:title>
</cp:coreProperties>
</file>