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80CB-5EE7-4274-95B7-E51FAF14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9EED-00DB-47FE-BD72-B05706E4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E1C-05EA-437F-B4A0-012C9070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BDE-6C64-4CF2-975F-A739D966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4DE3-9333-4A4C-8C4B-4778F09A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B4C-91F7-48C8-8C30-091587D7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971-63D7-44EA-A049-5BC61D56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2A9-FB48-4A82-BDFE-7619003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FF03-396E-49D3-B3C6-31C4D8EF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12C-5A83-4D76-B3F0-B6E70F8C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8C4-BFA4-467C-B27B-2C827F5D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F6D-7FA9-40E4-8015-035467AC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Farland, Chesson, Atheros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50BC1D-454C-4460-BE7B-379039CA1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24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FS/TPC Propos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g Chesson, greg@athero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McFarland, billm@athero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ig_logo" descr=""/>
          <p:cNvPicPr/>
          <p:nvPr/>
        </p:nvPicPr>
        <p:blipFill>
          <a:blip r:embed="rId1"/>
          <a:stretch/>
        </p:blipFill>
        <p:spPr>
          <a:xfrm>
            <a:off x="2819520" y="914400"/>
            <a:ext cx="3352680" cy="3035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CE71-2E86-45AB-87D0-8CF6A2C648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 for TPC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atic TP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 power, to be consistent with ERC regulations, would be limited to 60.6 mW EI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hieve 3dB reduction from 200mW by always transmitting at lower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mW (ERC limit) * 0.5 (for -3dB TPC) * 200/330 (BW req) = 60.6mW EI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FCC-style 50 mW transmitter with a 6dB gain cap is consistent with ERC reg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a 50mW mobile unit, .83 dB antenna gain results in 60.6mW EIRP (in the direction of antenna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ypical mobile units have ~1.5dB antenna gain (70.6 EIR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50m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dB gain should be allowed, given that useful antennas would concentrate horizontal energy and reduce vertical radiatio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DAF-8F2F-4199-A772-2DB214281B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the TPC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reasonable performance in both central-control and distributed-control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, rather than 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TPC (DTPC) does not help inter-BSS interference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PC not helpful for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PC benefits for PCF are questionable since PCF relies on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PC applies to PCF uplink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cost/complexity, limited 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IP issues to a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TPC more stable than D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suited to ad hoc or direct STA-STA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62F-4C87-4898-9926-C566050066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F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-centric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channel power/bandwidth trading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TPC with antenna gain c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DDCD-FC86-466E-A7D0-57B69D5E16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C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9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perlan 2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3B0-3F02-4355-B7C8-5079CE628B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hieve ERC certification for 802.11a in European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y and select technic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HY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bby as a group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an regulatory bodies (CEPT, UK-R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9BB-CAFB-4963-9F9D-F5C3DA1994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 DFS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evenly distribute spectrum use to reduce average transmitted power “seen” by satell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ary goal: avoid BSS inter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e channels for interference with AP sensing and remote station sensing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vacant channe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BSS and stations to alternate channels when channel is degra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ead 200mW EIRP/STA over 330 Mhz (14 channe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EBE-5AD7-4997-9F44-819C6169BB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S Methods in the Hiperlan2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remote RSSI 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odes of sensing/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rocedure for channe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for dynamic channel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gthy (safe) notifica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ed by cu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d over 14 channels (330 Mh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E683-EB47-4E4F-B980-9F7A1731A9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pproach  DFS/DCS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 Channel Sen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 listens at start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s channel with least interference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s randomly from vacant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needed in 802.11 MAC/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 moves all stations if channel degrad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opt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require new MGMT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evant for BSS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26D-45FB-4B23-98D8-B46238BF86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pproach  DFS -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/Bandwidth T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16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e a regulatory option for FCC-style (200 MHz, 50mW/20MHz with antenna gain cap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equal spreading across 330 MHz and 200 mW transmit power for equal spreading across 200 MHz and 50 mW transmit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fication for the power/bandwidth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power spectral density is eve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the 200 MHz option.  (330MHz/200MHz)*(50mW/200mW) = 0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errestrial systems, adding antenna gain will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cre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ertically-transmitted power that might interfere with satellite syste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regulations were approved in U.S. to meet same satellite goa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118-0FDE-472B-A687-7EEBE2A780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the Proposed DFS/DCS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channel sensing and random channe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ng prevents buildup of energy in any one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channel selection assures uniform channel occu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vendor differentiation (e.g. methods to prevent inter-cell interfer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 of power/bandwidth tr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the market need for lower-cost, lower-power devices that aren’t forced to operate over very wide frequency range and in the upper 1W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the market need for devices that can operate glob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31B-D383-41A2-AC18-8E3BAC47A35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 TP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reduce total transmit power in primary service satellite footprint by 3dB (relative to 200 mW maximum transmit pow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low power when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maximum power only when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4E4-B483-4D07-966F-86646DFD8FD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Worstell</cp:lastModifiedBy>
  <cp:lastPrinted>1998-02-10T13:28:06Z</cp:lastPrinted>
  <dcterms:modified xsi:type="dcterms:W3CDTF">2000-09-20T05:00:03Z</dcterms:modified>
  <cp:revision>39</cp:revision>
  <dc:subject/>
  <dc:title>No Slide Title</dc:title>
</cp:coreProperties>
</file>