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856-424C-4142-8CAC-612FEF50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45A-E74B-466D-81A3-236AF7B71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D42-5B3B-4925-B6C3-CF51F2E0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231-D31D-4429-960F-D586452A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A5F-211E-4345-8A1B-5C875CBC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018-CE7D-493A-A740-7CFECC86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6B0-E2CF-4563-98D6-3B2A16BE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F02-3F67-45F7-BC44-4A16D95F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E48-9A62-4BA9-AE79-26536054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C21-B3D0-4B29-B4C7-15E75E68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E9B-1ED7-4F2D-83E3-7633376D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F021-A0CE-4ED5-A2A8-BBA8AC59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304920" y="6095880"/>
          <a:ext cx="1311120" cy="35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6095880"/>
                    <a:ext cx="131112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2636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7451280" y="6474960"/>
            <a:ext cx="115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M. Kowalsk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C6CA33-348A-4558-999F-8E685B76B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00/27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PEG-2 High Rate Video over 1394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Implications for 802.11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hn Kowalsk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p Corpo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8A7-61A5-403E-B034-9F1D6607C62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4 MPEG2-TS Transfer (cont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of MPEG2-TS data transfer defined in IEC61883 is shown bel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362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100320"/>
            <a:ext cx="12189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00544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4624560"/>
            <a:ext cx="609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310032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624560"/>
            <a:ext cx="6098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62456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7180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462456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9112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4624560"/>
            <a:ext cx="60948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8680" y="462456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4624560"/>
            <a:ext cx="60984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462456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2940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6245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52480" y="5234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440" y="52722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5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9920" y="27338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596600" y="3002040"/>
            <a:ext cx="2556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481560"/>
            <a:ext cx="0" cy="328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44840" y="4191120"/>
            <a:ext cx="198360" cy="40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22840" y="4191120"/>
            <a:ext cx="15264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1320" y="4191120"/>
            <a:ext cx="30312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603920" y="4191120"/>
            <a:ext cx="9180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384600" y="4191120"/>
            <a:ext cx="25884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97120" y="4191120"/>
            <a:ext cx="36540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4191120"/>
            <a:ext cx="609840" cy="40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75480" y="236232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46280" y="3809880"/>
            <a:ext cx="12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1764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0400" y="462456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66760" y="3809880"/>
            <a:ext cx="230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4324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92360" y="3809880"/>
            <a:ext cx="230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6848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17960" y="3809880"/>
            <a:ext cx="230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9552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3809880"/>
            <a:ext cx="12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481560"/>
            <a:ext cx="701640" cy="328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4191120"/>
            <a:ext cx="738000" cy="4334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75480" y="3100320"/>
            <a:ext cx="12189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22840" y="310032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2840" y="3481560"/>
            <a:ext cx="0" cy="328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45240" y="3809880"/>
            <a:ext cx="12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1660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65720" y="3809880"/>
            <a:ext cx="230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220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91320" y="3809880"/>
            <a:ext cx="230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6744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16920" y="3809880"/>
            <a:ext cx="2300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94480" y="3809880"/>
            <a:ext cx="20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22840" y="3809880"/>
            <a:ext cx="12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94440" y="3481560"/>
            <a:ext cx="701640" cy="328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2800" y="4440240"/>
            <a:ext cx="842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96960" y="4624560"/>
            <a:ext cx="469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68840" y="2163600"/>
            <a:ext cx="13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S Pac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868480" y="2361960"/>
            <a:ext cx="90036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68720" y="2378160"/>
            <a:ext cx="90180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1520" y="4898880"/>
            <a:ext cx="60480" cy="33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1560" y="5272200"/>
            <a:ext cx="146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ty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823-B570-4ABB-A410-19647D9D68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 Packet Transmission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37448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jitter is assumed to be about 311 ms on transmit, and 50ms from real time interface, from IEC 61883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2657520"/>
          <a:ext cx="6096240" cy="3286080"/>
        </p:xfrm>
        <a:graphic>
          <a:graphicData uri="http://schemas.openxmlformats.org/drawingml/2006/table">
            <a:tbl>
              <a:tblPr/>
              <a:tblGrid>
                <a:gridCol w="2975040"/>
                <a:gridCol w="3121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S Packet / cyc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mission rate (Mb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/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/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,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0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,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,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,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4641-C8B7-4882-96A2-A9E4B54993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73200" y="4419720"/>
            <a:ext cx="5970600" cy="129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 header and 1394 header is applied to each isochronous pack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P header is defined in IEC61883 standard, 1394 header is defined in IEEE1394 standa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ource packet header is applied to each TS packe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573200" y="3352680"/>
            <a:ext cx="59706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EE1394 isochronous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3886200"/>
            <a:ext cx="59706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73200" y="4419720"/>
            <a:ext cx="5970600" cy="533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acket header (shown in each TS pack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73200" y="5715000"/>
            <a:ext cx="59706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F19-A9E5-470A-B6F3-77A847E453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1523880" y="1981080"/>
            <a:ext cx="6096240" cy="2617920"/>
            <a:chOff x="1523880" y="1981080"/>
            <a:chExt cx="6096240" cy="2617920"/>
          </a:xfrm>
        </p:grpSpPr>
        <p:sp>
          <p:nvSpPr>
            <p:cNvPr id="176" name=""/>
            <p:cNvSpPr/>
            <p:nvPr/>
          </p:nvSpPr>
          <p:spPr>
            <a:xfrm>
              <a:off x="1523880" y="1981080"/>
              <a:ext cx="6096240" cy="91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4141800"/>
              <a:ext cx="609624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4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3352680"/>
            <a:ext cx="6096240" cy="789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43828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eader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4707000"/>
            <a:ext cx="743796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length: data block payload length 2 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ag: high level label for format of data. 01</a:t>
            </a:r>
            <a:r>
              <a:rPr b="0" lang="ja-JP" sz="24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is defined as CIP head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hannel: isochronous channel 6 b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code: transaction code. Ah is defined as isochronous data bloc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y: Application-specific control field. (4 bits synch. co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981080"/>
            <a:ext cx="304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198108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198108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81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1981080"/>
            <a:ext cx="762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3880" y="414180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83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aded field is defined by IEEE1394 (4 bytes/lin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289548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1F4-4BE2-4708-B6F6-5DAC8CD8F5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3880" y="2362320"/>
            <a:ext cx="6096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59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2362320"/>
            <a:ext cx="381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23623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236232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36232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362320"/>
            <a:ext cx="571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24560" y="2362320"/>
            <a:ext cx="190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23623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23880" y="2819520"/>
            <a:ext cx="381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281952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2819520"/>
            <a:ext cx="4572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298160"/>
            <a:ext cx="7772400" cy="15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aded field is defined by IEC61883. (4 bytes/lin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243080" y="4508640"/>
            <a:ext cx="3340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: Sender nod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S: Data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: Fraction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PC: Quadlet padding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(s): Source Pack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5320" y="4508640"/>
            <a:ext cx="331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C: Data Block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T: Forma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DF: Format Dependent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: 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3276720"/>
            <a:ext cx="609624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190512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94 isochronous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403848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5880" y="2362320"/>
            <a:ext cx="1524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FB5-9034-4339-99D7-68A08550D3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 Header (MPEG2-T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field is defined as the followings for MEPG2-TS transf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D: depends on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S: 0000011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6quadlets = 24by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: 11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8 data blocks in one source pack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PC: 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o padd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: 1 when source packet header is pres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C: 0 … 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T: 100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Format type of MPEG2-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DF: For MPEG2-TS transfer, most significant bit is defined as TSF, others are reserved. TSF indicates a time shifted data stream (1: the stream is time shifted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FF6-17CA-4AF9-8A6D-0BAFBAC91B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e Packet Hea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124080"/>
            <a:ext cx="1333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15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4bytes Source Packet Header i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The time stamp in the source packet header is used by isochronous data receivers for reconstructing a correct timing of the TSPs at their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4120" y="3124080"/>
            <a:ext cx="2286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ycle_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57680" y="3124080"/>
            <a:ext cx="2476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ycle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3657600"/>
            <a:ext cx="1333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57680" y="3657600"/>
            <a:ext cx="247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3657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3657600"/>
            <a:ext cx="133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4120" y="36576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57680" y="3657600"/>
            <a:ext cx="247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B0F-A887-4537-91A3-F07F73B09D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 Format (SD-DV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2120" y="106344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V video, audio data consists of 80 bytes (Digital Interface) DIF bloc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 DIF sequence consists of 150 DIF bloc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1 video frame consists of 10 DIF sequences (in case of NTSC) See: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ttp://www.chumpchange.com/parkplace/Video/DVPapers/dv_formt.htm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.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438280" y="3718080"/>
          <a:ext cx="4114800" cy="730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2438280" y="4708440"/>
          <a:ext cx="4114800" cy="730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4278240" y="4251240"/>
            <a:ext cx="4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7080" y="524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38280" y="5730840"/>
          <a:ext cx="4114800" cy="365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0" lang="en-US" sz="1800" spc="-1" strike="noStrike" baseline="-10000">
                          <a:solidFill>
                            <a:srgbClr val="000000"/>
                          </a:solidFill>
                          <a:latin typeface="Tahoma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877800" y="41893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 Sequence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3718080"/>
            <a:ext cx="247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77080" y="38703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629400" y="4937040"/>
            <a:ext cx="2476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77800" y="57135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 Sequence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77080" y="573084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629400" y="5927400"/>
            <a:ext cx="2476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54880" y="4509000"/>
            <a:ext cx="54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89000" y="371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82520" y="4129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12680" y="57294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68480" y="4509000"/>
            <a:ext cx="54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744640" y="321480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31240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45000" y="313848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2BAE-FF78-44FC-B027-7F2987F05C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4 DV Transf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 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18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 of DV Data transfer defined in IEC61883 is shown belo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523880" y="44719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409104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81080" y="409104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5248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5248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09104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00400" y="409104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409104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1040"/>
            <a:ext cx="609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091040"/>
            <a:ext cx="1526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0280" y="4091040"/>
            <a:ext cx="6098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0" y="4091040"/>
            <a:ext cx="152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29400" y="4091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47005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440" y="4738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5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3880" y="3405240"/>
            <a:ext cx="60984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0400" y="338148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3405240"/>
            <a:ext cx="91440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34052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619760" y="3405240"/>
            <a:ext cx="60948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400440" y="3405240"/>
            <a:ext cx="15228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962520" y="3405240"/>
            <a:ext cx="91440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2743200" y="3405240"/>
            <a:ext cx="45720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3880" y="3024360"/>
            <a:ext cx="1676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09000" y="3935520"/>
            <a:ext cx="842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4132440"/>
            <a:ext cx="38088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3024360"/>
            <a:ext cx="16765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76920" y="302436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553080" y="3019320"/>
            <a:ext cx="16765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0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11520" y="4343400"/>
            <a:ext cx="60480" cy="33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1560" y="4716360"/>
            <a:ext cx="1460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ty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CA23-F33D-48FA-8853-EA6132D9D8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 Format Rate (SD-DV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V video rate is calculated by the follow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data size of one video fram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0 (byte/DIF block) * 150 (DIF block/DIF sequence) * 10 (DIF sequence/video frame) = 120,000 by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0,000 (bytes/video frame) * 29.97 (frame/s;NTSC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3.43 (MB/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= 27.44 (M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M = 1024*102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8DE-2260-42FB-B876-0DBE4A7425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EG-2 High Rate Video and Transport Stream Description (1394/ IEC 61883-4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ncy, Jitter Requir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ues for 1394 AV over 802.1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ix: Formats for 1394/IEC61883-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133-815A-41AD-8D2F-58BCEF7F1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3880" y="3962520"/>
            <a:ext cx="6096240" cy="914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 Header (SD-DV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23880" y="3962520"/>
            <a:ext cx="381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0" y="39625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396252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396252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952880" y="3962520"/>
            <a:ext cx="5716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24560" y="3962520"/>
            <a:ext cx="190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39625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4419720"/>
            <a:ext cx="381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05120" y="441972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1120" y="4419720"/>
            <a:ext cx="380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4419720"/>
            <a:ext cx="30481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T(Timestamp for DV d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312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EEE1394 isochronous header of DV transfer is the same as the one of MPEG2-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CIP header of DV transfer, the SYT field is defined. Other fields are the same as MPEG2-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packet is not used since time stamp is applied as SY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350532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94 isochronous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5638680"/>
            <a:ext cx="6096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data_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962520"/>
            <a:ext cx="1524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4419720"/>
            <a:ext cx="1904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38560" y="4419720"/>
            <a:ext cx="9525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8120" y="495288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79800" y="491508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DF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1C2E-270B-49C7-87CD-50B501561F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P Header (SD-DVC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59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field is defined as the followings for SD-DVCR transf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D: depends on configu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S: 01111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20quadlets = 480by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N: 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Not divi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PC: 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no padd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: 0 (no source packet is u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C: 0 … 25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MT: 000000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Format type of SD-DVC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D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/60: Field system (0: 60 field, 1: 50 fiel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YPE: Signal type of video sig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T: Time stamp of the video frame synchroniz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F78D-F7E1-4B96-9BA4-7485E3115A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V Format Rate of 1394 trans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94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V data is transferred in every 125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ansferred DV data consists of 1394 header (12 bytes), CIP header (8 bytes) and DV data (480 byt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data packet size = 12+8+480 = 500 (by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0 (bytes) / 125 (us) = 4(MB/s)</a:t>
            </a:r>
            <a:br>
              <a:rPr sz="20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= 32 (M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1M = 1024*1024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570-04B7-474E-9529-7A01980577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on Criteria Group identified high rate MPEG as a data stream type for use in 802.11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Rate MPEG is closely tied to 1394, and IEC 61883-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94, although not strictly part of requirements, is  “nice to have” capability for 11e propos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 this summary of high rate MPEG via 1394/IEC 61883-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3B5-93C4-4D36-907B-0720D90CA4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PEG2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448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PEG2 ensures the data rate of  one transpo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CS, the actual data rate of one transponder is, for HDTV-like video 29.2Mbp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BS Digital, the actual data rate of one transponder is 26.085Mbp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reams are included in one transpo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Mbps – 6 Mbps is used for bit rate of one channe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DTV, one channel uses one transpon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2Mbps is required as the data r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out 24Mbps is upper limit because of their overhe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y requirement: 1394/IEC61883-4 use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sochronous, fixed length packet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E166-17C8-484C-8284-0BB00BBB13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S Packet Transmission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374840"/>
            <a:ext cx="77724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jitter is assumed to be about 31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on transmit, and 5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from real time interface, from IEC 61883-4. Latency arbitrated in 139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295280" y="2657520"/>
            <a:ext cx="6096240" cy="3286080"/>
            <a:chOff x="1295280" y="2657520"/>
            <a:chExt cx="6096240" cy="3286080"/>
          </a:xfrm>
        </p:grpSpPr>
        <p:sp>
          <p:nvSpPr>
            <p:cNvPr id="58" name=""/>
            <p:cNvSpPr/>
            <p:nvPr/>
          </p:nvSpPr>
          <p:spPr>
            <a:xfrm>
              <a:off x="4270320" y="557856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,1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557856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270320" y="521352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8,1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95280" y="521352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70320" y="484848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6,09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95280" y="484848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70320" y="4483080"/>
              <a:ext cx="312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4,0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95280" y="4483080"/>
              <a:ext cx="297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0320" y="411804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2,0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95280" y="411804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70320" y="375300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,0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95280" y="375300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/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70320" y="338796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,00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338796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/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70320" y="3022560"/>
              <a:ext cx="312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,50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95280" y="3022560"/>
              <a:ext cx="2975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/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70320" y="2657520"/>
              <a:ext cx="31212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ransmission rate (Mbp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2657520"/>
              <a:ext cx="29750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S Packet /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95280" y="2657520"/>
              <a:ext cx="6096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95280" y="5943600"/>
              <a:ext cx="6096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95280" y="2657520"/>
              <a:ext cx="0" cy="3286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391520" y="2657520"/>
              <a:ext cx="0" cy="3286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70320" y="2657520"/>
              <a:ext cx="0" cy="328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30225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95280" y="33879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95280" y="375300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95280" y="411804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95280" y="44830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95280" y="484848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95280" y="521352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95280" y="5578560"/>
              <a:ext cx="609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3C4F-6B70-49D7-9E94-0181654C91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 for 1394 AV over 802.11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5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94/6883-4 wants to see isochronous streams. So a lean  (low overhead, not complex) PCF is a mu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packet sizes of constant length (480 bytes +24 bytes O/H).  With Breezecom’s (nonoptimized?) estimates for efficien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ocument 99-256) an efficiency of at best 47% can be expected in the PCF, for 400 by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ing must be applied to compensate for 802.11 behavior which breaks the standard (as a recommended practice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2F6-847E-4033-AAF3-8613A80D0B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 for 1394 AV over 802.11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600200"/>
            <a:ext cx="77724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ow to transfer the QoS information? Must map 1394 information into 802.1p/q priority ta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ow to allocate the bandwidth, ji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Efficiency- how best to format over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 save requirements for portable AV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When does the equipment transfer the st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How to poll the equipments that is sleep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880-0102-44CF-A64B-BCDFB08B60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: Formats for 1394/IEC61883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11D-C457-4CBE-BB36-6C51B60894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94 MPEG2-TS Trans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PEG2-TS transfer sequence is defined in IEC61883 standar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ource packet header (4bytes) is applied to each transport stream (TS) packet (188bytes). (Source packet header consists of Reserved field (7bits), cycle count (13 bits), cycle_offset (12 bits). These field is used as time stamp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ource packet (comprising  source packet header and TS packet) is divided to each data block (24byte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Several data blocks are put into one isochronous pack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mmon Isocrhonous Packet (CIP)  header and IEEE1394 header are applied to each isochronous packe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The isochronous packet is transferr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Empty packet (composed only CIP and 1394 Header) is transferred when there is no data to be transferred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0B8-64D1-4125-8EDE-9DD33F0B86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07:44:12Z</dcterms:created>
  <dc:creator>Terada</dc:creator>
  <dc:description/>
  <dc:language>en-US</dc:language>
  <cp:lastModifiedBy>John Kowalski</cp:lastModifiedBy>
  <cp:lastPrinted>2000-09-15T16:24:52Z</cp:lastPrinted>
  <dcterms:modified xsi:type="dcterms:W3CDTF">2000-09-19T15:37:33Z</dcterms:modified>
  <cp:revision>26</cp:revision>
  <dc:subject/>
  <dc:title>Video Format</dc:title>
</cp:coreProperties>
</file>