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7.jpeg" ContentType="image/jpeg"/>
  <Override PartName="/ppt/media/image10.wmf" ContentType="image/x-wmf"/>
  <Override PartName="/ppt/media/image11.png" ContentType="image/png"/>
  <Override PartName="/ppt/media/image8.png" ContentType="image/png"/>
  <Override PartName="/ppt/media/image9.png" ContentType="image/png"/>
  <Override PartName="/ppt/media/image12.png" ContentType="image/pn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7304088"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7304400" cy="958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7" name="PlaceHolder 1"/>
          <p:cNvSpPr>
            <a:spLocks noGrp="1"/>
          </p:cNvSpPr>
          <p:nvPr>
            <p:ph type="hdr"/>
          </p:nvPr>
        </p:nvSpPr>
        <p:spPr>
          <a:xfrm>
            <a:off x="-360" y="0"/>
            <a:ext cx="3164040" cy="479520"/>
          </a:xfrm>
          <a:prstGeom prst="rect">
            <a:avLst/>
          </a:prstGeom>
          <a:noFill/>
          <a:ln w="0">
            <a:noFill/>
          </a:ln>
        </p:spPr>
        <p:txBody>
          <a:bodyPr lIns="96480" rIns="96480" tIns="48240" bIns="48240" anchor="t">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8" name="PlaceHolder 2"/>
          <p:cNvSpPr>
            <a:spLocks noGrp="1"/>
          </p:cNvSpPr>
          <p:nvPr>
            <p:ph type="dt" idx="2"/>
          </p:nvPr>
        </p:nvSpPr>
        <p:spPr>
          <a:xfrm>
            <a:off x="4138200" y="0"/>
            <a:ext cx="3164040" cy="479520"/>
          </a:xfrm>
          <a:prstGeom prst="rect">
            <a:avLst/>
          </a:prstGeom>
          <a:noFill/>
          <a:ln w="0">
            <a:noFill/>
          </a:ln>
        </p:spPr>
        <p:txBody>
          <a:bodyPr lIns="96480" rIns="96480" tIns="48240" bIns="48240" anchor="t">
            <a:noAutofit/>
          </a:bodyPr>
          <a:lstStyle>
            <a:lvl1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000000"/>
                </a:solidFill>
                <a:latin typeface="Times New Roman"/>
              </a:defRPr>
            </a:lvl1pPr>
          </a:lstStyle>
          <a:p>
            <a: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9" name="PlaceHolder 3"/>
          <p:cNvSpPr>
            <a:spLocks noGrp="1"/>
          </p:cNvSpPr>
          <p:nvPr>
            <p:ph type="sldImg"/>
          </p:nvPr>
        </p:nvSpPr>
        <p:spPr>
          <a:xfrm>
            <a:off x="1253880" y="719280"/>
            <a:ext cx="4794120" cy="3595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0" name="PlaceHolder 4"/>
          <p:cNvSpPr>
            <a:spLocks noGrp="1"/>
          </p:cNvSpPr>
          <p:nvPr>
            <p:ph type="body"/>
          </p:nvPr>
        </p:nvSpPr>
        <p:spPr>
          <a:xfrm>
            <a:off x="972720" y="4554360"/>
            <a:ext cx="5356440" cy="4313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3"/>
          </p:nvPr>
        </p:nvSpPr>
        <p:spPr>
          <a:xfrm>
            <a:off x="-360" y="9107280"/>
            <a:ext cx="3164040" cy="479160"/>
          </a:xfrm>
          <a:prstGeom prst="rect">
            <a:avLst/>
          </a:prstGeom>
          <a:noFill/>
          <a:ln w="0">
            <a:noFill/>
          </a:ln>
        </p:spPr>
        <p:txBody>
          <a:bodyPr lIns="96480" rIns="96480" tIns="48240" bIns="48240" anchor="b">
            <a:noAutofit/>
          </a:bodyPr>
          <a:lstStyle>
            <a:lvl1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000000"/>
                </a:solidFill>
                <a:latin typeface="Times New Roman"/>
              </a:defRPr>
            </a:lvl1pPr>
          </a:lstStyle>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2" name="PlaceHolder 6"/>
          <p:cNvSpPr>
            <a:spLocks noGrp="1"/>
          </p:cNvSpPr>
          <p:nvPr>
            <p:ph type="sldNum" idx="4"/>
          </p:nvPr>
        </p:nvSpPr>
        <p:spPr>
          <a:xfrm>
            <a:off x="4138200" y="9107280"/>
            <a:ext cx="3164040" cy="479160"/>
          </a:xfrm>
          <a:prstGeom prst="rect">
            <a:avLst/>
          </a:prstGeom>
          <a:noFill/>
          <a:ln w="0">
            <a:noFill/>
          </a:ln>
        </p:spPr>
        <p:txBody>
          <a:bodyPr lIns="96480" rIns="96480" tIns="48240" bIns="48240" anchor="b">
            <a:noAutofit/>
          </a:bodyPr>
          <a:lstStyle>
            <a:lvl1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300" spc="-1" strike="noStrike">
                <a:solidFill>
                  <a:srgbClr val="000000"/>
                </a:solidFill>
                <a:latin typeface="Times New Roman"/>
              </a:defRPr>
            </a:lvl1pPr>
          </a:lstStyle>
          <a:p>
            <a: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1C2DE41-DB7B-4923-9B3E-D348EEE1E25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254240" y="719280"/>
            <a:ext cx="4794120" cy="3595680"/>
          </a:xfrm>
          <a:prstGeom prst="rect">
            <a:avLst/>
          </a:prstGeom>
          <a:ln w="0">
            <a:noFill/>
          </a:ln>
        </p:spPr>
      </p:sp>
      <p:sp>
        <p:nvSpPr>
          <p:cNvPr id="952" name="PlaceHolder 2"/>
          <p:cNvSpPr>
            <a:spLocks noGrp="1"/>
          </p:cNvSpPr>
          <p:nvPr>
            <p:ph type="body"/>
          </p:nvPr>
        </p:nvSpPr>
        <p:spPr>
          <a:xfrm>
            <a:off x="972720" y="4554360"/>
            <a:ext cx="5356440" cy="4313520"/>
          </a:xfrm>
          <a:prstGeom prst="rect">
            <a:avLst/>
          </a:prstGeom>
          <a:noFill/>
          <a:ln w="0">
            <a:noFill/>
          </a:ln>
        </p:spPr>
        <p:txBody>
          <a:bodyPr lIns="96480" rIns="96480" tIns="48240" bIns="4824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50-fold margin of protection</a:t>
            </a:r>
            <a:endParaRPr b="0" lang="en-US" sz="8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milar to CENELEC-1995 in Europe and TTC/MPT-1900 in Japan</a:t>
            </a:r>
            <a:endParaRPr b="0" lang="en-US" sz="8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TIA Resource Manual, 1998)</a:t>
            </a:r>
            <a:endParaRPr b="0" lang="en-US" sz="8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1254240" y="719280"/>
            <a:ext cx="4794120" cy="3595680"/>
          </a:xfrm>
          <a:prstGeom prst="rect">
            <a:avLst/>
          </a:prstGeom>
          <a:ln w="0">
            <a:noFill/>
          </a:ln>
        </p:spPr>
      </p:sp>
      <p:sp>
        <p:nvSpPr>
          <p:cNvPr id="954" name="PlaceHolder 2"/>
          <p:cNvSpPr>
            <a:spLocks noGrp="1"/>
          </p:cNvSpPr>
          <p:nvPr>
            <p:ph type="body"/>
          </p:nvPr>
        </p:nvSpPr>
        <p:spPr>
          <a:xfrm>
            <a:off x="972720" y="4554360"/>
            <a:ext cx="5356440" cy="4313520"/>
          </a:xfrm>
          <a:prstGeom prst="rect">
            <a:avLst/>
          </a:prstGeom>
          <a:noFill/>
          <a:ln w="0">
            <a:noFill/>
          </a:ln>
        </p:spPr>
        <p:txBody>
          <a:bodyPr lIns="96480" rIns="96480" tIns="48240" bIns="482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www.nmjc.org/aoard/HERFR.html</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685440" y="6476760"/>
            <a:ext cx="289548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 name=""/>
          <p:cNvSpPr/>
          <p:nvPr/>
        </p:nvSpPr>
        <p:spPr>
          <a:xfrm>
            <a:off x="609480" y="228600"/>
            <a:ext cx="190512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ptember 2000</a:t>
            </a:r>
            <a:endParaRPr b="0" lang="en-US" sz="1400" spc="-1" strike="noStrike">
              <a:solidFill>
                <a:srgbClr val="000000"/>
              </a:solidFill>
              <a:latin typeface="Times New Roman"/>
            </a:endParaRPr>
          </a:p>
        </p:txBody>
      </p:sp>
      <p:sp>
        <p:nvSpPr>
          <p:cNvPr id="4" name=""/>
          <p:cNvSpPr/>
          <p:nvPr/>
        </p:nvSpPr>
        <p:spPr>
          <a:xfrm>
            <a:off x="4495680" y="228600"/>
            <a:ext cx="3962520" cy="457200"/>
          </a:xfrm>
          <a:prstGeom prst="rect">
            <a:avLst/>
          </a:prstGeom>
          <a:noFill/>
          <a:ln w="0">
            <a:noFill/>
          </a:ln>
        </p:spPr>
        <p:style>
          <a:lnRef idx="0"/>
          <a:fillRef idx="0"/>
          <a:effectRef idx="0"/>
          <a:fontRef idx="minor"/>
        </p:style>
        <p:txBody>
          <a:bodyPr lIns="19080" rIns="19080" tIns="0" bIns="0" anchor="ctr">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279</a:t>
            </a:r>
            <a:endParaRPr b="0" lang="en-US" sz="1400" spc="-1" strike="noStrike">
              <a:solidFill>
                <a:srgbClr val="000000"/>
              </a:solidFill>
              <a:latin typeface="Times New Roman"/>
            </a:endParaRPr>
          </a:p>
        </p:txBody>
      </p:sp>
      <p:sp>
        <p:nvSpPr>
          <p:cNvPr id="5"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5486400" y="6400800"/>
            <a:ext cx="31240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nald J. Bowen, AT&amp;T Labs</a:t>
            </a:r>
            <a:endParaRPr b="0" lang="en-US" sz="1400" spc="-1" strike="noStrike">
              <a:solidFill>
                <a:srgbClr val="000000"/>
              </a:solidFill>
              <a:latin typeface="Times New Roman"/>
            </a:endParaRPr>
          </a:p>
        </p:txBody>
      </p:sp>
      <p:sp>
        <p:nvSpPr>
          <p:cNvPr id="7" name=""/>
          <p:cNvSpPr/>
          <p:nvPr/>
        </p:nvSpPr>
        <p:spPr>
          <a:xfrm>
            <a:off x="3657600" y="63975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lide </a:t>
            </a:r>
            <a:fld id="{74495B8A-9BA8-4648-AC37-D7D44EC6CEA8}"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 name=""/>
          <p:cNvSpPr/>
          <p:nvPr/>
        </p:nvSpPr>
        <p:spPr>
          <a:xfrm>
            <a:off x="590760" y="6445080"/>
            <a:ext cx="9334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 name=""/>
          <p:cNvSpPr/>
          <p:nvPr/>
        </p:nvSpPr>
        <p:spPr>
          <a:xfrm>
            <a:off x="685800" y="64753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57200" y="762120"/>
            <a:ext cx="82296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me Health &amp; Safety Considerations for Emerging IEEE 802.11 Wireless Systems</a:t>
            </a:r>
            <a:endParaRPr b="0" lang="en-US" sz="3200" spc="-1" strike="noStrike">
              <a:solidFill>
                <a:srgbClr val="000000"/>
              </a:solidFill>
              <a:latin typeface="Times New Roman"/>
            </a:endParaRPr>
          </a:p>
        </p:txBody>
      </p:sp>
      <p:sp>
        <p:nvSpPr>
          <p:cNvPr id="54" name=""/>
          <p:cNvSpPr/>
          <p:nvPr/>
        </p:nvSpPr>
        <p:spPr>
          <a:xfrm>
            <a:off x="4114800" y="472428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ed by:</a:t>
            </a:r>
            <a:endParaRPr b="0" lang="en-US" sz="1800" spc="-1" strike="noStrike">
              <a:solidFill>
                <a:srgbClr val="000000"/>
              </a:solidFill>
              <a:latin typeface="Times New Roman"/>
            </a:endParaRPr>
          </a:p>
        </p:txBody>
      </p:sp>
      <p:sp>
        <p:nvSpPr>
          <p:cNvPr id="55" name=""/>
          <p:cNvSpPr/>
          <p:nvPr/>
        </p:nvSpPr>
        <p:spPr>
          <a:xfrm>
            <a:off x="5715000" y="4572000"/>
            <a:ext cx="2895480" cy="1768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ald J. Bowen, Ph.D.</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amp;T Labs</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73 236 6789 (voice)</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jbowen@att.com</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2" name=""/>
          <p:cNvGrpSpPr/>
          <p:nvPr/>
        </p:nvGrpSpPr>
        <p:grpSpPr>
          <a:xfrm>
            <a:off x="684720" y="762120"/>
            <a:ext cx="7887600" cy="5667840"/>
            <a:chOff x="684720" y="762120"/>
            <a:chExt cx="7887600" cy="5667840"/>
          </a:xfrm>
        </p:grpSpPr>
        <p:sp>
          <p:nvSpPr>
            <p:cNvPr id="243" name=""/>
            <p:cNvSpPr/>
            <p:nvPr/>
          </p:nvSpPr>
          <p:spPr>
            <a:xfrm>
              <a:off x="1798920" y="1342800"/>
              <a:ext cx="5882760" cy="4354200"/>
            </a:xfrm>
            <a:prstGeom prst="rect">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84720" y="762120"/>
              <a:ext cx="7887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wer Level as a Function of Distance From Antenna</a:t>
              </a:r>
              <a:endParaRPr b="0" lang="en-US" sz="2400" spc="-1" strike="noStrike">
                <a:solidFill>
                  <a:srgbClr val="000000"/>
                </a:solidFill>
                <a:latin typeface="Times New Roman"/>
              </a:endParaRPr>
            </a:p>
          </p:txBody>
        </p:sp>
        <p:grpSp>
          <p:nvGrpSpPr>
            <p:cNvPr id="245" name=""/>
            <p:cNvGrpSpPr/>
            <p:nvPr/>
          </p:nvGrpSpPr>
          <p:grpSpPr>
            <a:xfrm>
              <a:off x="2219400" y="5640480"/>
              <a:ext cx="5112360" cy="70200"/>
              <a:chOff x="2219400" y="5640480"/>
              <a:chExt cx="5112360" cy="70200"/>
            </a:xfrm>
          </p:grpSpPr>
          <p:sp>
            <p:nvSpPr>
              <p:cNvPr id="246" name=""/>
              <p:cNvSpPr/>
              <p:nvPr/>
            </p:nvSpPr>
            <p:spPr>
              <a:xfrm>
                <a:off x="2219400" y="5640480"/>
                <a:ext cx="0" cy="70200"/>
              </a:xfrm>
              <a:prstGeom prst="line">
                <a:avLst/>
              </a:prstGeom>
              <a:ln w="936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247" name=""/>
              <p:cNvSpPr/>
              <p:nvPr/>
            </p:nvSpPr>
            <p:spPr>
              <a:xfrm>
                <a:off x="5160600" y="5640480"/>
                <a:ext cx="0" cy="70200"/>
              </a:xfrm>
              <a:prstGeom prst="line">
                <a:avLst/>
              </a:prstGeom>
              <a:ln w="936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248" name=""/>
              <p:cNvSpPr/>
              <p:nvPr/>
            </p:nvSpPr>
            <p:spPr>
              <a:xfrm>
                <a:off x="2989440" y="5640480"/>
                <a:ext cx="0" cy="70200"/>
              </a:xfrm>
              <a:prstGeom prst="line">
                <a:avLst/>
              </a:prstGeom>
              <a:ln w="936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249" name=""/>
              <p:cNvSpPr/>
              <p:nvPr/>
            </p:nvSpPr>
            <p:spPr>
              <a:xfrm>
                <a:off x="3690000" y="5640480"/>
                <a:ext cx="0" cy="70200"/>
              </a:xfrm>
              <a:prstGeom prst="line">
                <a:avLst/>
              </a:prstGeom>
              <a:ln w="936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250" name=""/>
              <p:cNvSpPr/>
              <p:nvPr/>
            </p:nvSpPr>
            <p:spPr>
              <a:xfrm>
                <a:off x="4460040" y="5640480"/>
                <a:ext cx="0" cy="70200"/>
              </a:xfrm>
              <a:prstGeom prst="line">
                <a:avLst/>
              </a:prstGeom>
              <a:ln w="936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251" name=""/>
              <p:cNvSpPr/>
              <p:nvPr/>
            </p:nvSpPr>
            <p:spPr>
              <a:xfrm>
                <a:off x="5860800" y="5640480"/>
                <a:ext cx="0" cy="70200"/>
              </a:xfrm>
              <a:prstGeom prst="line">
                <a:avLst/>
              </a:prstGeom>
              <a:ln w="936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252" name=""/>
              <p:cNvSpPr/>
              <p:nvPr/>
            </p:nvSpPr>
            <p:spPr>
              <a:xfrm>
                <a:off x="6631200" y="5640480"/>
                <a:ext cx="0" cy="70200"/>
              </a:xfrm>
              <a:prstGeom prst="line">
                <a:avLst/>
              </a:prstGeom>
              <a:ln w="936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253" name=""/>
              <p:cNvSpPr/>
              <p:nvPr/>
            </p:nvSpPr>
            <p:spPr>
              <a:xfrm>
                <a:off x="7331760" y="5640480"/>
                <a:ext cx="0" cy="70200"/>
              </a:xfrm>
              <a:prstGeom prst="line">
                <a:avLst/>
              </a:prstGeom>
              <a:ln w="936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grpSp>
        <p:sp>
          <p:nvSpPr>
            <p:cNvPr id="254" name=""/>
            <p:cNvSpPr/>
            <p:nvPr/>
          </p:nvSpPr>
          <p:spPr>
            <a:xfrm>
              <a:off x="1798920" y="4854600"/>
              <a:ext cx="6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798920" y="4011840"/>
              <a:ext cx="6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798920" y="3169080"/>
              <a:ext cx="6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798920" y="2325960"/>
              <a:ext cx="6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009160" y="5810400"/>
              <a:ext cx="5601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001</a:t>
              </a:r>
              <a:endParaRPr b="0" lang="en-US" sz="1200" spc="-1" strike="noStrike">
                <a:solidFill>
                  <a:srgbClr val="000000"/>
                </a:solidFill>
                <a:latin typeface="Times New Roman"/>
              </a:endParaRPr>
            </a:p>
          </p:txBody>
        </p:sp>
        <p:sp>
          <p:nvSpPr>
            <p:cNvPr id="259" name=""/>
            <p:cNvSpPr/>
            <p:nvPr/>
          </p:nvSpPr>
          <p:spPr>
            <a:xfrm>
              <a:off x="2709720" y="5810400"/>
              <a:ext cx="488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01</a:t>
              </a:r>
              <a:endParaRPr b="0" lang="en-US" sz="1200" spc="-1" strike="noStrike">
                <a:solidFill>
                  <a:srgbClr val="000000"/>
                </a:solidFill>
                <a:latin typeface="Times New Roman"/>
              </a:endParaRPr>
            </a:p>
          </p:txBody>
        </p:sp>
        <p:sp>
          <p:nvSpPr>
            <p:cNvPr id="260" name=""/>
            <p:cNvSpPr/>
            <p:nvPr/>
          </p:nvSpPr>
          <p:spPr>
            <a:xfrm>
              <a:off x="3409560" y="5810400"/>
              <a:ext cx="490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1</a:t>
              </a:r>
              <a:endParaRPr b="0" lang="en-US" sz="1200" spc="-1" strike="noStrike">
                <a:solidFill>
                  <a:srgbClr val="000000"/>
                </a:solidFill>
                <a:latin typeface="Times New Roman"/>
              </a:endParaRPr>
            </a:p>
          </p:txBody>
        </p:sp>
        <p:sp>
          <p:nvSpPr>
            <p:cNvPr id="261" name=""/>
            <p:cNvSpPr/>
            <p:nvPr/>
          </p:nvSpPr>
          <p:spPr>
            <a:xfrm>
              <a:off x="4180320" y="5810400"/>
              <a:ext cx="489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262" name=""/>
            <p:cNvSpPr/>
            <p:nvPr/>
          </p:nvSpPr>
          <p:spPr>
            <a:xfrm>
              <a:off x="4879080" y="5810400"/>
              <a:ext cx="491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263" name=""/>
            <p:cNvSpPr/>
            <p:nvPr/>
          </p:nvSpPr>
          <p:spPr>
            <a:xfrm>
              <a:off x="5439240" y="5810400"/>
              <a:ext cx="771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000000"/>
                </a:solidFill>
                <a:latin typeface="Times New Roman"/>
              </a:endParaRPr>
            </a:p>
          </p:txBody>
        </p:sp>
        <p:sp>
          <p:nvSpPr>
            <p:cNvPr id="264" name=""/>
            <p:cNvSpPr/>
            <p:nvPr/>
          </p:nvSpPr>
          <p:spPr>
            <a:xfrm>
              <a:off x="6141240" y="5810400"/>
              <a:ext cx="910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0</a:t>
              </a:r>
              <a:endParaRPr b="0" lang="en-US" sz="1200" spc="-1" strike="noStrike">
                <a:solidFill>
                  <a:srgbClr val="000000"/>
                </a:solidFill>
                <a:latin typeface="Times New Roman"/>
              </a:endParaRPr>
            </a:p>
          </p:txBody>
        </p:sp>
        <p:sp>
          <p:nvSpPr>
            <p:cNvPr id="265" name=""/>
            <p:cNvSpPr/>
            <p:nvPr/>
          </p:nvSpPr>
          <p:spPr>
            <a:xfrm>
              <a:off x="6981480" y="5810400"/>
              <a:ext cx="770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00</a:t>
              </a:r>
              <a:endParaRPr b="0" lang="en-US" sz="1200" spc="-1" strike="noStrike">
                <a:solidFill>
                  <a:srgbClr val="000000"/>
                </a:solidFill>
                <a:latin typeface="Times New Roman"/>
              </a:endParaRPr>
            </a:p>
          </p:txBody>
        </p:sp>
        <p:sp>
          <p:nvSpPr>
            <p:cNvPr id="266" name=""/>
            <p:cNvSpPr/>
            <p:nvPr/>
          </p:nvSpPr>
          <p:spPr>
            <a:xfrm>
              <a:off x="2569320" y="6061680"/>
              <a:ext cx="441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ance in meters</a:t>
              </a:r>
              <a:endParaRPr b="0" lang="en-US" sz="1800" spc="-1" strike="noStrike">
                <a:solidFill>
                  <a:srgbClr val="000000"/>
                </a:solidFill>
                <a:latin typeface="Times New Roman"/>
              </a:endParaRPr>
            </a:p>
          </p:txBody>
        </p:sp>
        <p:sp>
          <p:nvSpPr>
            <p:cNvPr id="267" name=""/>
            <p:cNvSpPr/>
            <p:nvPr/>
          </p:nvSpPr>
          <p:spPr>
            <a:xfrm rot="16200000">
              <a:off x="-464400" y="3240000"/>
              <a:ext cx="3369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Density</a:t>
              </a:r>
              <a:endParaRPr b="0" lang="en-US" sz="1800" spc="-1" strike="noStrike">
                <a:solidFill>
                  <a:srgbClr val="000000"/>
                </a:solidFill>
                <a:latin typeface="Times New Roman"/>
              </a:endParaRPr>
            </a:p>
          </p:txBody>
        </p:sp>
        <p:sp>
          <p:nvSpPr>
            <p:cNvPr id="268" name=""/>
            <p:cNvSpPr/>
            <p:nvPr/>
          </p:nvSpPr>
          <p:spPr>
            <a:xfrm>
              <a:off x="1378800" y="4714200"/>
              <a:ext cx="490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2</a:t>
              </a:r>
              <a:endParaRPr b="0" lang="en-US" sz="1200" spc="-1" strike="noStrike">
                <a:solidFill>
                  <a:srgbClr val="000000"/>
                </a:solidFill>
                <a:latin typeface="Times New Roman"/>
              </a:endParaRPr>
            </a:p>
          </p:txBody>
        </p:sp>
        <p:sp>
          <p:nvSpPr>
            <p:cNvPr id="269" name=""/>
            <p:cNvSpPr/>
            <p:nvPr/>
          </p:nvSpPr>
          <p:spPr>
            <a:xfrm>
              <a:off x="1378800" y="3871440"/>
              <a:ext cx="490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4</a:t>
              </a:r>
              <a:endParaRPr b="0" lang="en-US" sz="1200" spc="-1" strike="noStrike">
                <a:solidFill>
                  <a:srgbClr val="000000"/>
                </a:solidFill>
                <a:latin typeface="Times New Roman"/>
              </a:endParaRPr>
            </a:p>
          </p:txBody>
        </p:sp>
        <p:sp>
          <p:nvSpPr>
            <p:cNvPr id="270" name=""/>
            <p:cNvSpPr/>
            <p:nvPr/>
          </p:nvSpPr>
          <p:spPr>
            <a:xfrm>
              <a:off x="1378800" y="3028680"/>
              <a:ext cx="490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6</a:t>
              </a:r>
              <a:endParaRPr b="0" lang="en-US" sz="1200" spc="-1" strike="noStrike">
                <a:solidFill>
                  <a:srgbClr val="000000"/>
                </a:solidFill>
                <a:latin typeface="Times New Roman"/>
              </a:endParaRPr>
            </a:p>
          </p:txBody>
        </p:sp>
        <p:sp>
          <p:nvSpPr>
            <p:cNvPr id="271" name=""/>
            <p:cNvSpPr/>
            <p:nvPr/>
          </p:nvSpPr>
          <p:spPr>
            <a:xfrm>
              <a:off x="1378800" y="2185920"/>
              <a:ext cx="490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8</a:t>
              </a:r>
              <a:endParaRPr b="0" lang="en-US" sz="1200" spc="-1" strike="noStrike">
                <a:solidFill>
                  <a:srgbClr val="000000"/>
                </a:solidFill>
                <a:latin typeface="Times New Roman"/>
              </a:endParaRPr>
            </a:p>
          </p:txBody>
        </p:sp>
        <p:sp>
          <p:nvSpPr>
            <p:cNvPr id="272" name=""/>
            <p:cNvSpPr/>
            <p:nvPr/>
          </p:nvSpPr>
          <p:spPr>
            <a:xfrm>
              <a:off x="1378800" y="1372320"/>
              <a:ext cx="490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273" name=""/>
            <p:cNvSpPr/>
            <p:nvPr/>
          </p:nvSpPr>
          <p:spPr>
            <a:xfrm>
              <a:off x="1449000" y="5556960"/>
              <a:ext cx="489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274" name=""/>
            <p:cNvSpPr/>
            <p:nvPr/>
          </p:nvSpPr>
          <p:spPr>
            <a:xfrm>
              <a:off x="1798920" y="1483200"/>
              <a:ext cx="6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219400" y="1483200"/>
              <a:ext cx="5100480" cy="4213800"/>
            </a:xfrm>
            <a:custGeom>
              <a:avLst/>
              <a:gdLst/>
              <a:ahLst/>
              <a:rect l="l" t="t" r="r" b="b"/>
              <a:pathLst>
                <a:path w="3496" h="2880">
                  <a:moveTo>
                    <a:pt x="0" y="0"/>
                  </a:moveTo>
                  <a:lnTo>
                    <a:pt x="124" y="1164"/>
                  </a:lnTo>
                  <a:lnTo>
                    <a:pt x="176" y="1680"/>
                  </a:lnTo>
                  <a:lnTo>
                    <a:pt x="256" y="2152"/>
                  </a:lnTo>
                  <a:lnTo>
                    <a:pt x="376" y="2368"/>
                  </a:lnTo>
                  <a:lnTo>
                    <a:pt x="536" y="2560"/>
                  </a:lnTo>
                  <a:lnTo>
                    <a:pt x="760" y="2688"/>
                  </a:lnTo>
                  <a:lnTo>
                    <a:pt x="1008" y="2784"/>
                  </a:lnTo>
                  <a:lnTo>
                    <a:pt x="1268" y="2824"/>
                  </a:lnTo>
                  <a:lnTo>
                    <a:pt x="1536" y="2848"/>
                  </a:lnTo>
                  <a:lnTo>
                    <a:pt x="2016" y="2872"/>
                  </a:lnTo>
                  <a:lnTo>
                    <a:pt x="2496" y="2872"/>
                  </a:lnTo>
                  <a:lnTo>
                    <a:pt x="3032" y="2880"/>
                  </a:lnTo>
                  <a:lnTo>
                    <a:pt x="3496" y="2880"/>
                  </a:lnTo>
                </a:path>
              </a:pathLst>
            </a:custGeom>
            <a:noFill/>
            <a:ln w="7632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849400" y="1413000"/>
              <a:ext cx="840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99"/>
                  </a:solidFill>
                  <a:latin typeface="Arial"/>
                </a:rPr>
                <a:t>1 inch</a:t>
              </a:r>
              <a:endParaRPr b="0" lang="en-US" sz="1200" spc="-1" strike="noStrike">
                <a:solidFill>
                  <a:srgbClr val="000000"/>
                </a:solidFill>
                <a:latin typeface="Times New Roman"/>
              </a:endParaRPr>
            </a:p>
          </p:txBody>
        </p:sp>
        <p:sp>
          <p:nvSpPr>
            <p:cNvPr id="277" name=""/>
            <p:cNvSpPr/>
            <p:nvPr/>
          </p:nvSpPr>
          <p:spPr>
            <a:xfrm>
              <a:off x="3690000" y="1413000"/>
              <a:ext cx="840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99"/>
                  </a:solidFill>
                  <a:latin typeface="Arial"/>
                </a:rPr>
                <a:t>1 foot</a:t>
              </a:r>
              <a:endParaRPr b="0" lang="en-US" sz="1200" spc="-1" strike="noStrike">
                <a:solidFill>
                  <a:srgbClr val="000000"/>
                </a:solidFill>
                <a:latin typeface="Times New Roman"/>
              </a:endParaRPr>
            </a:p>
          </p:txBody>
        </p:sp>
        <p:sp>
          <p:nvSpPr>
            <p:cNvPr id="278" name=""/>
            <p:cNvSpPr/>
            <p:nvPr/>
          </p:nvSpPr>
          <p:spPr>
            <a:xfrm>
              <a:off x="4390560" y="1413000"/>
              <a:ext cx="840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99"/>
                  </a:solidFill>
                  <a:latin typeface="Arial"/>
                </a:rPr>
                <a:t>10 feet</a:t>
              </a:r>
              <a:endParaRPr b="0" lang="en-US" sz="1200" spc="-1" strike="noStrike">
                <a:solidFill>
                  <a:srgbClr val="000000"/>
                </a:solidFill>
                <a:latin typeface="Times New Roman"/>
              </a:endParaRPr>
            </a:p>
          </p:txBody>
        </p:sp>
        <p:sp>
          <p:nvSpPr>
            <p:cNvPr id="279" name=""/>
            <p:cNvSpPr/>
            <p:nvPr/>
          </p:nvSpPr>
          <p:spPr>
            <a:xfrm>
              <a:off x="5090400" y="1413000"/>
              <a:ext cx="840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99"/>
                  </a:solidFill>
                  <a:latin typeface="Arial"/>
                </a:rPr>
                <a:t>100 feet</a:t>
              </a:r>
              <a:endParaRPr b="0" lang="en-US" sz="1200" spc="-1" strike="noStrike">
                <a:solidFill>
                  <a:srgbClr val="000000"/>
                </a:solidFill>
                <a:latin typeface="Times New Roman"/>
              </a:endParaRPr>
            </a:p>
          </p:txBody>
        </p:sp>
        <p:sp>
          <p:nvSpPr>
            <p:cNvPr id="280" name=""/>
            <p:cNvSpPr/>
            <p:nvPr/>
          </p:nvSpPr>
          <p:spPr>
            <a:xfrm>
              <a:off x="6421320" y="1413000"/>
              <a:ext cx="840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cc99"/>
                  </a:solidFill>
                  <a:latin typeface="Arial"/>
                </a:rPr>
                <a:t>1 mile</a:t>
              </a:r>
              <a:endParaRPr b="0" lang="en-US" sz="1200" spc="-1" strike="noStrike">
                <a:solidFill>
                  <a:srgbClr val="000000"/>
                </a:solidFill>
                <a:latin typeface="Times New Roman"/>
              </a:endParaRPr>
            </a:p>
          </p:txBody>
        </p:sp>
        <p:sp>
          <p:nvSpPr>
            <p:cNvPr id="281" name=""/>
            <p:cNvSpPr/>
            <p:nvPr/>
          </p:nvSpPr>
          <p:spPr>
            <a:xfrm>
              <a:off x="4810680" y="1342800"/>
              <a:ext cx="69480" cy="69840"/>
            </a:xfrm>
            <a:prstGeom prst="rect">
              <a:avLst/>
            </a:prstGeom>
            <a:solidFill>
              <a:srgbClr val="00cc99"/>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82" name=""/>
            <p:cNvSpPr/>
            <p:nvPr/>
          </p:nvSpPr>
          <p:spPr>
            <a:xfrm>
              <a:off x="5441040" y="1342800"/>
              <a:ext cx="69480" cy="69840"/>
            </a:xfrm>
            <a:prstGeom prst="rect">
              <a:avLst/>
            </a:prstGeom>
            <a:solidFill>
              <a:srgbClr val="00cc99"/>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83" name=""/>
            <p:cNvSpPr/>
            <p:nvPr/>
          </p:nvSpPr>
          <p:spPr>
            <a:xfrm>
              <a:off x="4110120" y="1342800"/>
              <a:ext cx="69840" cy="69840"/>
            </a:xfrm>
            <a:prstGeom prst="rect">
              <a:avLst/>
            </a:prstGeom>
            <a:solidFill>
              <a:srgbClr val="00cc99"/>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84" name=""/>
            <p:cNvSpPr/>
            <p:nvPr/>
          </p:nvSpPr>
          <p:spPr>
            <a:xfrm>
              <a:off x="3269880" y="1342800"/>
              <a:ext cx="69840" cy="69840"/>
            </a:xfrm>
            <a:prstGeom prst="rect">
              <a:avLst/>
            </a:prstGeom>
            <a:solidFill>
              <a:srgbClr val="00cc99"/>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85" name=""/>
            <p:cNvSpPr/>
            <p:nvPr/>
          </p:nvSpPr>
          <p:spPr>
            <a:xfrm>
              <a:off x="6911640" y="1342800"/>
              <a:ext cx="69480" cy="69840"/>
            </a:xfrm>
            <a:prstGeom prst="rect">
              <a:avLst/>
            </a:prstGeom>
            <a:solidFill>
              <a:srgbClr val="00cc99"/>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86" name=""/>
            <p:cNvSpPr/>
            <p:nvPr/>
          </p:nvSpPr>
          <p:spPr>
            <a:xfrm>
              <a:off x="3970080" y="2115360"/>
              <a:ext cx="3291480" cy="105336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all Level = 1/R</a:t>
              </a:r>
              <a:r>
                <a:rPr b="0" lang="en-US" sz="2400" spc="-1" strike="noStrike" baseline="30000">
                  <a:solidFill>
                    <a:srgbClr val="000000"/>
                  </a:solidFill>
                  <a:latin typeface="Times New Roman"/>
                </a:rPr>
                <a:t>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re N = 2 free-fiel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 = 2 - 4 outdoors (approximately) </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7" name=""/>
          <p:cNvGraphicFramePr/>
          <p:nvPr/>
        </p:nvGraphicFramePr>
        <p:xfrm>
          <a:off x="685800" y="838080"/>
          <a:ext cx="8098920" cy="5562720"/>
        </p:xfrm>
        <a:graphic>
          <a:graphicData uri="http://schemas.openxmlformats.org/drawingml/2006/table">
            <a:tbl>
              <a:tblPr/>
              <a:tblGrid>
                <a:gridCol w="216000"/>
                <a:gridCol w="216000"/>
                <a:gridCol w="691920"/>
                <a:gridCol w="431280"/>
                <a:gridCol w="216000"/>
                <a:gridCol w="1071720"/>
                <a:gridCol w="216000"/>
                <a:gridCol w="1866600"/>
                <a:gridCol w="3173400"/>
              </a:tblGrid>
              <a:tr h="4597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fic Absorption Rate (SAR)</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856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R Limit (C95.1) = 0.08 W/kg Whole Body Avg.</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or</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 W/kg peak SAR delivered to 1 gram of tissue (continuous exposure)</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5" rowSpan="4">
                  <a:txBody>
                    <a:bodyPr lIns="90000" rIns="90000" tIns="46800" bIns="46800" anchor="ctr">
                      <a:noAutofit/>
                    </a:bodyPr>
                    <a:p>
                      <a:endParaRPr b="0" lang="en-US" sz="2400" spc="-1" strike="noStrike">
                        <a:solidFill>
                          <a:srgbClr val="000000"/>
                        </a:solidFill>
                        <a:latin typeface="Times New Roman"/>
                      </a:endParaRPr>
                    </a:p>
                  </a:txBody>
                  <a:tcPr anchor="ctr" marL="90000" marR="90000">
                    <a:lnL>
                      <a:noFill/>
                    </a:lnL>
                    <a:lnR>
                      <a:noFill/>
                    </a:lnR>
                    <a:lnT>
                      <a:noFill/>
                    </a:lnT>
                    <a:lnB>
                      <a:noFill/>
                    </a:lnB>
                    <a:solidFill>
                      <a:srgbClr val="fffff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rowSpan="3">
                  <a: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er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r>
                        <a:rPr b="1" lang="en-US" sz="1000" spc="-1" strike="noStrike">
                          <a:solidFill>
                            <a:srgbClr val="000000"/>
                          </a:solidFill>
                          <a:latin typeface="Arial"/>
                        </a:rPr>
                        <a:t> </a:t>
                      </a:r>
                      <a:r>
                        <a:rPr b="1" lang="en-US" sz="1000" spc="-1" strike="noStrike">
                          <a:solidFill>
                            <a:srgbClr val="000000"/>
                          </a:solidFill>
                          <a:latin typeface="Arial"/>
                        </a:rPr>
                        <a:t>= conductivity</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Symbol"/>
                          <a:ea typeface="Symbol"/>
                        </a:rPr>
                        <a:t></a:t>
                      </a:r>
                      <a:r>
                        <a:rPr b="1" lang="en-US" sz="1000" spc="-1" strike="noStrike">
                          <a:solidFill>
                            <a:srgbClr val="000000"/>
                          </a:solidFill>
                          <a:latin typeface="Arial"/>
                        </a:rPr>
                        <a:t> </a:t>
                      </a:r>
                      <a:r>
                        <a:rPr b="1" lang="en-US" sz="1000" spc="-1" strike="noStrike">
                          <a:solidFill>
                            <a:srgbClr val="000000"/>
                          </a:solidFill>
                          <a:latin typeface="Arial"/>
                        </a:rPr>
                        <a:t>= density</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 = electric field</a:t>
                      </a:r>
                      <a:endParaRPr b="0" lang="en-US" sz="1000" spc="-1" strike="noStrike">
                        <a:solidFill>
                          <a:srgbClr val="000000"/>
                        </a:solidFill>
                        <a:latin typeface="Times New Roman"/>
                      </a:endParaRPr>
                    </a:p>
                  </a:txBody>
                  <a:tcPr anchor="t" marL="90000" marR="90000">
                    <a:lnL>
                      <a:noFill/>
                    </a:lnL>
                    <a:lnR>
                      <a:noFill/>
                    </a:lnR>
                    <a:lnT>
                      <a:noFill/>
                    </a:lnT>
                    <a:lnB>
                      <a:no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R = </a:t>
                      </a:r>
                      <a:r>
                        <a:rPr b="0" lang="en-US" sz="2400" spc="-1" strike="noStrike">
                          <a:solidFill>
                            <a:srgbClr val="000000"/>
                          </a:solidFill>
                          <a:latin typeface="Symbol"/>
                          <a:ea typeface="Symbol"/>
                        </a:rPr>
                        <a:t></a:t>
                      </a:r>
                      <a:r>
                        <a:rPr b="0" lang="en-US" sz="2400" spc="-1" strike="noStrike">
                          <a:solidFill>
                            <a:srgbClr val="000000"/>
                          </a:solidFill>
                          <a:latin typeface="Arial"/>
                        </a:rPr>
                        <a:t> * E</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Arial"/>
                        </a:rPr>
                        <a:t>	</a:t>
                      </a:r>
                      <a:r>
                        <a:rPr b="0" lang="en-US" sz="2400" spc="-1" strike="noStrike" baseline="30000">
                          <a:solidFill>
                            <a:srgbClr val="000000"/>
                          </a:solidFill>
                          <a:latin typeface="Arial"/>
                        </a:rPr>
                        <a:t> </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7">
                  <a:txBody>
                    <a:bodyPr lIns="90000" rIns="90000" tIns="46800" bIns="468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2126628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ximum spatially-averaged incident power density = 0.57 mW/cm</a:t>
                      </a:r>
                      <a:r>
                        <a:rPr b="1" lang="en-US" sz="1600" spc="-1" strike="noStrike" baseline="30000">
                          <a:solidFill>
                            <a:srgbClr val="000000"/>
                          </a:solidFill>
                          <a:latin typeface="Arial"/>
                        </a:rPr>
                        <a:t>2</a:t>
                      </a:r>
                      <a:r>
                        <a:rPr b="1" lang="en-US" sz="1600" spc="-1" strike="noStrike">
                          <a:solidFill>
                            <a:srgbClr val="000000"/>
                          </a:solidFill>
                          <a:latin typeface="Arial"/>
                        </a:rPr>
                        <a:t> for whole body exposure</a:t>
                      </a:r>
                      <a:endParaRPr b="0" lang="en-US" sz="16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3680">
                      <a:solidFill>
                        <a:srgbClr val="000000"/>
                      </a:solidFill>
                    </a:lnR>
                    <a:lnT>
                      <a:noFill/>
                    </a:lnT>
                    <a:lnB>
                      <a:noFill/>
                    </a:lnB>
                    <a:solidFill>
                      <a:srgbClr val="729fcf"/>
                    </a:solidFill>
                  </a:tcPr>
                </a:tc>
                <a:tc gridSpan="3">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ssu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ductivity (S/m)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nsity (kg/m</a:t>
                      </a:r>
                      <a:r>
                        <a:rPr b="1" lang="en-US" sz="1000" spc="-1" strike="noStrike" baseline="30000">
                          <a:solidFill>
                            <a:srgbClr val="000000"/>
                          </a:solidFill>
                          <a:latin typeface="Arial"/>
                        </a:rPr>
                        <a:t>3</a:t>
                      </a:r>
                      <a:r>
                        <a:rPr b="1" lang="en-US" sz="1000" spc="-1" strike="noStrike">
                          <a:solidFill>
                            <a:srgbClr val="000000"/>
                          </a:solidFill>
                          <a:latin typeface="Arial"/>
                        </a:rPr>
                        <a:t>)</a:t>
                      </a:r>
                      <a:endParaRPr b="0" lang="en-US" sz="1000" spc="-1" strike="noStrike">
                        <a:solidFill>
                          <a:srgbClr val="000000"/>
                        </a:solidFill>
                        <a:latin typeface="Times New Roman"/>
                      </a:endParaRPr>
                    </a:p>
                  </a:txBody>
                  <a:tcPr anchor="t" marL="90000" marR="90000">
                    <a:lnL w="5760">
                      <a:solidFill>
                        <a:srgbClr val="000000"/>
                      </a:solidFill>
                    </a:lnL>
                    <a:lnR>
                      <a:noFill/>
                    </a:lnR>
                    <a:lnT w="1368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3680">
                      <a:solidFill>
                        <a:srgbClr val="000000"/>
                      </a:solidFill>
                    </a:lnR>
                    <a:lnT>
                      <a:noFill/>
                    </a:lnT>
                    <a:lnB>
                      <a:noFill/>
                    </a:lnB>
                    <a:solidFill>
                      <a:srgbClr val="729fcf"/>
                    </a:solidFill>
                  </a:tcPr>
                </a:tc>
                <a:tc gridSpan="3">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ai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60</a:t>
                      </a:r>
                      <a:endParaRPr b="0" lang="en-US" sz="10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3680">
                      <a:solidFill>
                        <a:srgbClr val="000000"/>
                      </a:solidFill>
                    </a:lnR>
                    <a:lnT>
                      <a:noFill/>
                    </a:lnT>
                    <a:lnB>
                      <a:noFill/>
                    </a:lnB>
                    <a:solidFill>
                      <a:srgbClr val="729fcf"/>
                    </a:solidFill>
                  </a:tcPr>
                </a:tc>
                <a:tc gridSpan="3">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y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a:t>
                      </a:r>
                      <a:endParaRPr b="0" lang="en-US" sz="10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3680">
                      <a:solidFill>
                        <a:srgbClr val="000000"/>
                      </a:solidFill>
                    </a:lnR>
                    <a:lnT>
                      <a:noFill/>
                    </a:lnT>
                    <a:lnB>
                      <a:noFill/>
                    </a:lnB>
                    <a:solidFill>
                      <a:srgbClr val="729fcf"/>
                    </a:solidFill>
                  </a:tcPr>
                </a:tc>
                <a:tc gridSpan="3">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n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3680">
                      <a:solidFill>
                        <a:srgbClr val="000000"/>
                      </a:solidFill>
                    </a:lnR>
                    <a:lnT>
                      <a:noFill/>
                    </a:lnT>
                    <a:lnB>
                      <a:noFill/>
                    </a:lnB>
                    <a:solidFill>
                      <a:srgbClr val="729fcf"/>
                    </a:solidFill>
                  </a:tcPr>
                </a:tc>
                <a:tc gridSpan="3">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scl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a:t>
                      </a:r>
                      <a:r>
                        <a:rPr b="0" i="1" lang="en-US" sz="800" spc="-1" strike="noStrike">
                          <a:solidFill>
                            <a:srgbClr val="000000"/>
                          </a:solidFill>
                          <a:latin typeface="Arial"/>
                        </a:rPr>
                        <a:t>Specific Absorption Rate (SAR) Models of the Human Head Exposed to Handheld UHF Portable Radios</a:t>
                      </a:r>
                      <a:r>
                        <a:rPr b="0" lang="en-US" sz="800" spc="-1" strike="noStrike">
                          <a:solidFill>
                            <a:srgbClr val="000000"/>
                          </a:solidFill>
                          <a:latin typeface="Arial"/>
                        </a:rPr>
                        <a:t> by R.F.Cleveland, Jr. and T.W.Athey (1989)</a:t>
                      </a:r>
                      <a:endParaRPr b="0" lang="en-US" sz="800" spc="-1" strike="noStrike">
                        <a:solidFill>
                          <a:srgbClr val="0000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8" name=""/>
          <p:cNvGraphicFramePr/>
          <p:nvPr/>
        </p:nvGraphicFramePr>
        <p:xfrm>
          <a:off x="1143000" y="762120"/>
          <a:ext cx="8001000" cy="5584680"/>
        </p:xfrm>
        <a:graphic>
          <a:graphicData uri="http://schemas.openxmlformats.org/presentationml/2006/ole">
            <p:oleObj progId="Excel.Sheet.12" r:id="rId1" spid="">
              <p:embed/>
              <p:pic>
                <p:nvPicPr>
                  <p:cNvPr id="289" name="" descr=""/>
                  <p:cNvPicPr/>
                  <p:nvPr/>
                </p:nvPicPr>
                <p:blipFill>
                  <a:blip r:embed="rId2"/>
                  <a:stretch/>
                </p:blipFill>
                <p:spPr>
                  <a:xfrm>
                    <a:off x="1143000" y="762120"/>
                    <a:ext cx="8001000" cy="55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1181880" y="6004080"/>
            <a:ext cx="6686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http://www.manta.ieee.org/groups/scc28/update.html</a:t>
            </a:r>
            <a:endParaRPr b="0" lang="en-US" sz="2000" spc="-1" strike="noStrike">
              <a:solidFill>
                <a:srgbClr val="000000"/>
              </a:solidFill>
              <a:latin typeface="Times New Roman"/>
            </a:endParaRPr>
          </a:p>
        </p:txBody>
      </p:sp>
      <p:pic>
        <p:nvPicPr>
          <p:cNvPr id="291" name="num1blus" descr=""/>
          <p:cNvPicPr/>
          <p:nvPr/>
        </p:nvPicPr>
        <p:blipFill>
          <a:blip r:embed="rId1"/>
          <a:stretch/>
        </p:blipFill>
        <p:spPr>
          <a:xfrm>
            <a:off x="7391520" y="944640"/>
            <a:ext cx="1143000" cy="1417680"/>
          </a:xfrm>
          <a:prstGeom prst="rect">
            <a:avLst/>
          </a:prstGeom>
          <a:ln w="0">
            <a:noFill/>
          </a:ln>
        </p:spPr>
      </p:pic>
      <p:sp>
        <p:nvSpPr>
          <p:cNvPr id="292" name=""/>
          <p:cNvSpPr/>
          <p:nvPr/>
        </p:nvSpPr>
        <p:spPr>
          <a:xfrm>
            <a:off x="0" y="-1741320"/>
            <a:ext cx="9144000" cy="1404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The Status of IEEE SCC28 Standards and Projects </a:t>
            </a: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4 July 200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3" name=""/>
          <p:cNvSpPr/>
          <p:nvPr/>
        </p:nvSpPr>
        <p:spPr>
          <a:xfrm>
            <a:off x="0" y="-274680"/>
            <a:ext cx="9144000" cy="15840"/>
          </a:xfrm>
          <a:prstGeom prst="rect">
            <a:avLst/>
          </a:prstGeom>
          <a:solidFill>
            <a:srgbClr val="000000"/>
          </a:solidFill>
          <a:ln w="9360">
            <a:solidFill>
              <a:srgbClr val="000000"/>
            </a:solidFill>
            <a:miter/>
          </a:ln>
        </p:spPr>
        <p:style>
          <a:lnRef idx="0"/>
          <a:fillRef idx="0"/>
          <a:effectRef idx="0"/>
          <a:fontRef idx="minor"/>
        </p:style>
        <p:txBody>
          <a:bodyPr lIns="90000" rIns="90000" tIns="-30960" bIns="-30960" anchor="t">
            <a:spAutoFit/>
          </a:bodyPr>
          <a:p>
            <a:endParaRPr b="0" lang="en-US" sz="2400" spc="-1" strike="noStrike">
              <a:solidFill>
                <a:srgbClr val="000000"/>
              </a:solidFill>
              <a:latin typeface="Times New Roman"/>
            </a:endParaRPr>
          </a:p>
        </p:txBody>
      </p:sp>
      <p:sp>
        <p:nvSpPr>
          <p:cNvPr id="294" name=""/>
          <p:cNvSpPr/>
          <p:nvPr/>
        </p:nvSpPr>
        <p:spPr>
          <a:xfrm>
            <a:off x="457200" y="1143000"/>
            <a:ext cx="822960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signation:</a:t>
            </a:r>
            <a:r>
              <a:rPr b="0" lang="en-US" sz="1600" spc="-1" strike="noStrike">
                <a:solidFill>
                  <a:srgbClr val="000000"/>
                </a:solidFill>
                <a:latin typeface="Times New Roman"/>
              </a:rPr>
              <a:t> P1466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onsor:</a:t>
            </a:r>
            <a:r>
              <a:rPr b="0" lang="en-US" sz="1600" spc="-1" strike="noStrike">
                <a:solidFill>
                  <a:srgbClr val="000000"/>
                </a:solidFill>
                <a:latin typeface="Times New Roman"/>
              </a:rPr>
              <a:t> Non-Ionizing Radiatio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itle:</a:t>
            </a:r>
            <a:r>
              <a:rPr b="0" lang="en-US" sz="1600" spc="-1" strike="noStrike">
                <a:solidFill>
                  <a:srgbClr val="000000"/>
                </a:solidFill>
                <a:latin typeface="Times New Roman"/>
              </a:rPr>
              <a:t> Recommended Practice for the Safe Use of Electromagtnetic Energy Sourc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quipment and Systems Operating Between 3 kHz and 300 GHz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atus:</a:t>
            </a:r>
            <a:r>
              <a:rPr b="0" lang="en-US" sz="1600" spc="-1" strike="noStrike">
                <a:solidFill>
                  <a:srgbClr val="000000"/>
                </a:solidFill>
                <a:latin typeface="Times New Roman"/>
              </a:rPr>
              <a:t> New Standard Projec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chnical Contact:</a:t>
            </a:r>
            <a:r>
              <a:rPr b="0" lang="en-US" sz="1600" spc="-1" strike="noStrike">
                <a:solidFill>
                  <a:srgbClr val="000000"/>
                </a:solidFill>
                <a:latin typeface="Times New Roman"/>
              </a:rPr>
              <a:t> Richard A Tell, Phone:(702) 645-3338, Email: </a:t>
            </a:r>
            <a:r>
              <a:rPr b="0" lang="en-US" sz="1600" spc="-1" strike="noStrike" u="sng">
                <a:solidFill>
                  <a:srgbClr val="000000"/>
                </a:solidFill>
                <a:uFillTx/>
                <a:latin typeface="Times New Roman"/>
              </a:rPr>
              <a:t>rictell@accessnv.co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non-technical questions, including pricing, availability and ordering, please contact IEEE Customer Service at 1-800-678-IEEE (in U.S.and Canada); or 1-732-981-0060 (outside the U.S. and Canada); or send an email to: </a:t>
            </a:r>
            <a:r>
              <a:rPr b="0" lang="en-US" sz="1600" spc="-1" strike="noStrike" u="sng">
                <a:solidFill>
                  <a:srgbClr val="000000"/>
                </a:solidFill>
                <a:uFillTx/>
                <a:latin typeface="Times New Roman"/>
              </a:rPr>
              <a:t>customer.service@ieee.org</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istory:</a:t>
            </a:r>
            <a:r>
              <a:rPr b="0" lang="en-US" sz="1600" spc="-1" strike="noStrike">
                <a:solidFill>
                  <a:srgbClr val="000000"/>
                </a:solidFill>
                <a:latin typeface="Times New Roman"/>
              </a:rPr>
              <a:t> PAR APP: Jun 20, 1996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ject scope:</a:t>
            </a:r>
            <a:r>
              <a:rPr b="0" lang="en-US" sz="1600" spc="-1" strike="noStrike">
                <a:solidFill>
                  <a:srgbClr val="000000"/>
                </a:solidFill>
                <a:latin typeface="Times New Roman"/>
              </a:rPr>
              <a:t> Preparation of a guidance document for development of RF safety programs. This standard would provide useful guidance to those implementing ANSI/IEEE C95.1-1992 (IEEE C95.1-1991).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ject purpose:</a:t>
            </a:r>
            <a:r>
              <a:rPr b="0" lang="en-US" sz="1600" spc="-1" strike="noStrike">
                <a:solidFill>
                  <a:srgbClr val="000000"/>
                </a:solidFill>
                <a:latin typeface="Times New Roman"/>
              </a:rPr>
              <a:t> Presently, there exists no recommended approaches for developing safety programs by organizations wishing to implement the use of ANSI/IEEE C95.1-1992. Users would include industrial companies, federal, state and local government agencies. These organizations do not have any documentation of recommended ways for developing and implementing safety programs that are directed to the issue of radio frequency fields. This document would fill this gap in practical guidance. </a:t>
            </a:r>
            <a:endParaRPr b="0" lang="en-US" sz="1600" spc="-1" strike="noStrike">
              <a:solidFill>
                <a:srgbClr val="000000"/>
              </a:solidFill>
              <a:latin typeface="Times New Roman"/>
            </a:endParaRPr>
          </a:p>
        </p:txBody>
      </p:sp>
      <p:sp>
        <p:nvSpPr>
          <p:cNvPr id="295" name=""/>
          <p:cNvSpPr/>
          <p:nvPr/>
        </p:nvSpPr>
        <p:spPr>
          <a:xfrm>
            <a:off x="3654720" y="762120"/>
            <a:ext cx="1939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EE SCC2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num1blus" descr=""/>
          <p:cNvPicPr/>
          <p:nvPr/>
        </p:nvPicPr>
        <p:blipFill>
          <a:blip r:embed="rId1"/>
          <a:stretch/>
        </p:blipFill>
        <p:spPr>
          <a:xfrm>
            <a:off x="7391520" y="792000"/>
            <a:ext cx="1143000" cy="1417680"/>
          </a:xfrm>
          <a:prstGeom prst="rect">
            <a:avLst/>
          </a:prstGeom>
          <a:ln w="0">
            <a:noFill/>
          </a:ln>
        </p:spPr>
      </p:pic>
      <p:sp>
        <p:nvSpPr>
          <p:cNvPr id="297" name=""/>
          <p:cNvSpPr/>
          <p:nvPr/>
        </p:nvSpPr>
        <p:spPr>
          <a:xfrm>
            <a:off x="457200" y="990720"/>
            <a:ext cx="822960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Designation:</a:t>
            </a:r>
            <a:r>
              <a:rPr b="0" lang="en-US" sz="1600" spc="-1" strike="noStrike">
                <a:solidFill>
                  <a:srgbClr val="000000"/>
                </a:solidFill>
                <a:latin typeface="Times New Roman"/>
                <a:ea typeface="Arial"/>
              </a:rPr>
              <a:t> P1528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Sponsor:</a:t>
            </a:r>
            <a:r>
              <a:rPr b="0" lang="en-US" sz="1600" spc="-1" strike="noStrike">
                <a:solidFill>
                  <a:srgbClr val="000000"/>
                </a:solidFill>
                <a:latin typeface="Times New Roman"/>
                <a:ea typeface="Arial"/>
              </a:rPr>
              <a:t> Electromagnetic Energy Product Performance Safety (SCC-3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Title:</a:t>
            </a:r>
            <a:r>
              <a:rPr b="0" lang="en-US" sz="1600" spc="-1" strike="noStrike">
                <a:solidFill>
                  <a:srgbClr val="000000"/>
                </a:solidFill>
                <a:latin typeface="Times New Roman"/>
                <a:ea typeface="Arial"/>
              </a:rPr>
              <a:t> Recommended Practice for Determining the Spatial-Pea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Specific Absorption Rate (SAR) in the Human Body Due to Wireles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Communications Devices: Experimental Technique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Status:</a:t>
            </a:r>
            <a:r>
              <a:rPr b="0" lang="en-US" sz="1600" spc="-1" strike="noStrike">
                <a:solidFill>
                  <a:srgbClr val="000000"/>
                </a:solidFill>
                <a:latin typeface="Times New Roman"/>
                <a:ea typeface="Arial"/>
              </a:rPr>
              <a:t> New Standard Projec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Technical Contact:</a:t>
            </a:r>
            <a:r>
              <a:rPr b="0" lang="en-US" sz="1600" spc="-1" strike="noStrike">
                <a:solidFill>
                  <a:srgbClr val="000000"/>
                </a:solidFill>
                <a:latin typeface="Times New Roman"/>
                <a:ea typeface="Arial"/>
              </a:rPr>
              <a:t> Howard Bassen, Phone:(301)827-4950, Email: </a:t>
            </a:r>
            <a:r>
              <a:rPr b="0" lang="en-US" sz="1600" spc="-1" strike="noStrike" u="sng">
                <a:solidFill>
                  <a:srgbClr val="000000"/>
                </a:solidFill>
                <a:uFillTx/>
                <a:latin typeface="Times New Roman"/>
                <a:ea typeface="Arial"/>
              </a:rPr>
              <a:t>hib@cdrh.fda.go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For non-technical questions, including pricing, availability and ordering, please contact IEEE Customer Service at 1-800-678-IEEE (in U.S.and Canada); or 1-732-981-0060 (outside the U.S. and Canada); or send an email to </a:t>
            </a:r>
            <a:r>
              <a:rPr b="0" lang="en-US" sz="1600" spc="-1" strike="noStrike" u="sng">
                <a:solidFill>
                  <a:srgbClr val="000000"/>
                </a:solidFill>
                <a:uFillTx/>
                <a:latin typeface="Times New Roman"/>
                <a:ea typeface="Arial"/>
              </a:rPr>
              <a:t>customer.service@ieee.org</a:t>
            </a:r>
            <a:r>
              <a:rPr b="0" lang="en-US" sz="1600" spc="-1" strike="noStrike">
                <a:solidFill>
                  <a:srgbClr val="000000"/>
                </a:solidFill>
                <a:latin typeface="Times New Roman"/>
                <a:ea typeface="Arial"/>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History:</a:t>
            </a:r>
            <a:r>
              <a:rPr b="0" lang="en-US" sz="1600" spc="-1" strike="noStrike">
                <a:solidFill>
                  <a:srgbClr val="000000"/>
                </a:solidFill>
                <a:latin typeface="Times New Roman"/>
                <a:ea typeface="Arial"/>
              </a:rPr>
              <a:t> PAR APP: Mar 19, 1998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Project scope:</a:t>
            </a:r>
            <a:r>
              <a:rPr b="0" lang="en-US" sz="1600" spc="-1" strike="noStrike">
                <a:solidFill>
                  <a:srgbClr val="000000"/>
                </a:solidFill>
                <a:latin typeface="Times New Roman"/>
                <a:ea typeface="Arial"/>
              </a:rPr>
              <a:t> The scope of this project is to describe the concepts and specify techniques, instruments, calibration techniques, models for validation, uncertainties and limitations of systems used for measuring the electric field strength for purposes of determining the spatial-peak specific absorption rate (SAR) in simulated tissue models, including anatomical models of the human body. This document will not recommend specific SAR values since these are found in other documents, e.g. C95.1- 1991.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Project purpose:</a:t>
            </a:r>
            <a:r>
              <a:rPr b="0" lang="en-US" sz="1600" spc="-1" strike="noStrike">
                <a:solidFill>
                  <a:srgbClr val="000000"/>
                </a:solidFill>
                <a:latin typeface="Times New Roman"/>
                <a:ea typeface="Arial"/>
              </a:rPr>
              <a:t> The purpose of this document is to specify experimental protocols for the measurement of spatial-peak absorption rates (SAR) in the human body of users of certain hand-held wireless transceivers including cellular and personal communications services (PCS) telephones. The SARs will be determined from electric-field strength measurements made in simulated anatomical tissue models. </a:t>
            </a:r>
            <a:endParaRPr b="0" lang="en-US" sz="1600" spc="-1" strike="noStrike">
              <a:solidFill>
                <a:srgbClr val="000000"/>
              </a:solidFill>
              <a:latin typeface="Times New Roman"/>
            </a:endParaRPr>
          </a:p>
        </p:txBody>
      </p:sp>
      <p:sp>
        <p:nvSpPr>
          <p:cNvPr id="298" name=""/>
          <p:cNvSpPr/>
          <p:nvPr/>
        </p:nvSpPr>
        <p:spPr>
          <a:xfrm>
            <a:off x="3654720" y="609480"/>
            <a:ext cx="1939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EE SCC3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fcclogo" descr=""/>
          <p:cNvPicPr/>
          <p:nvPr/>
        </p:nvPicPr>
        <p:blipFill>
          <a:blip r:embed="rId1"/>
          <a:stretch/>
        </p:blipFill>
        <p:spPr>
          <a:xfrm>
            <a:off x="6629400" y="4079880"/>
            <a:ext cx="1995480" cy="2320920"/>
          </a:xfrm>
          <a:prstGeom prst="rect">
            <a:avLst/>
          </a:prstGeom>
          <a:ln w="0">
            <a:noFill/>
          </a:ln>
        </p:spPr>
      </p:pic>
      <p:sp>
        <p:nvSpPr>
          <p:cNvPr id="300" name=""/>
          <p:cNvSpPr/>
          <p:nvPr/>
        </p:nvSpPr>
        <p:spPr>
          <a:xfrm>
            <a:off x="2489760" y="6026040"/>
            <a:ext cx="4022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http://www.fcc.gov/oet/rfsafety/</a:t>
            </a:r>
            <a:endParaRPr b="0" lang="en-US" sz="2000" spc="-1" strike="noStrike">
              <a:solidFill>
                <a:srgbClr val="000000"/>
              </a:solidFill>
              <a:latin typeface="Times New Roman"/>
            </a:endParaRPr>
          </a:p>
        </p:txBody>
      </p:sp>
      <p:sp>
        <p:nvSpPr>
          <p:cNvPr id="301" name=""/>
          <p:cNvSpPr/>
          <p:nvPr/>
        </p:nvSpPr>
        <p:spPr>
          <a:xfrm>
            <a:off x="1753200" y="685800"/>
            <a:ext cx="573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deral Communications Commission</a:t>
            </a:r>
            <a:endParaRPr b="0" lang="en-US" sz="2400" spc="-1" strike="noStrike">
              <a:solidFill>
                <a:srgbClr val="000000"/>
              </a:solidFill>
              <a:latin typeface="Times New Roman"/>
            </a:endParaRPr>
          </a:p>
        </p:txBody>
      </p:sp>
      <p:sp>
        <p:nvSpPr>
          <p:cNvPr id="302" name=""/>
          <p:cNvSpPr/>
          <p:nvPr/>
        </p:nvSpPr>
        <p:spPr>
          <a:xfrm>
            <a:off x="457200" y="1317600"/>
            <a:ext cx="82296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Documents of intere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ET Bulletin Number 56 (Fourth Edition August 1999) </a:t>
            </a:r>
            <a:endParaRPr b="0" lang="en-US" sz="1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Questions and Answers about Biological Effects and Potential Hazards of Radiofrequency Electromagnetic Fields</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an informative bulletin written as a result of increasing interest and concern of the public with respect to this issue. The expanding use of radiofrequency technology has resulted in speculation concerning the alleged "electromagnetic pollution" of the environment and the potential dangers of exposure to non-ionizing radiation. This publication is designed to provide factual information to the public by answering some of the most commonly asked questions. It includes the latest information on FCC guidelines for human exposure to RF energ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ther documents of interest may be found at this site as wel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eea_logo" descr=""/>
          <p:cNvPicPr/>
          <p:nvPr/>
        </p:nvPicPr>
        <p:blipFill>
          <a:blip r:embed="rId1"/>
          <a:stretch/>
        </p:blipFill>
        <p:spPr>
          <a:xfrm>
            <a:off x="533520" y="1324080"/>
            <a:ext cx="8045280" cy="1038240"/>
          </a:xfrm>
          <a:prstGeom prst="rect">
            <a:avLst/>
          </a:prstGeom>
          <a:ln w="0">
            <a:noFill/>
          </a:ln>
        </p:spPr>
      </p:pic>
      <p:sp>
        <p:nvSpPr>
          <p:cNvPr id="304" name=""/>
          <p:cNvSpPr/>
          <p:nvPr/>
        </p:nvSpPr>
        <p:spPr>
          <a:xfrm>
            <a:off x="2756160" y="5977080"/>
            <a:ext cx="349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Black"/>
              </a:rPr>
              <a:t>http://www.elecenergy.com</a:t>
            </a:r>
            <a:endParaRPr b="0" lang="en-US" sz="2000" spc="-1" strike="noStrike">
              <a:solidFill>
                <a:srgbClr val="000000"/>
              </a:solidFill>
              <a:latin typeface="Times New Roman"/>
            </a:endParaRPr>
          </a:p>
        </p:txBody>
      </p:sp>
      <p:sp>
        <p:nvSpPr>
          <p:cNvPr id="305" name=""/>
          <p:cNvSpPr/>
          <p:nvPr/>
        </p:nvSpPr>
        <p:spPr>
          <a:xfrm>
            <a:off x="1754280" y="609480"/>
            <a:ext cx="548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ctromagnetic Energy Association</a:t>
            </a:r>
            <a:endParaRPr b="0" lang="en-US" sz="2400" spc="-1" strike="noStrike">
              <a:solidFill>
                <a:srgbClr val="000000"/>
              </a:solidFill>
              <a:latin typeface="Times New Roman"/>
            </a:endParaRPr>
          </a:p>
        </p:txBody>
      </p:sp>
      <p:sp>
        <p:nvSpPr>
          <p:cNvPr id="306" name=""/>
          <p:cNvSpPr/>
          <p:nvPr/>
        </p:nvSpPr>
        <p:spPr>
          <a:xfrm>
            <a:off x="304920" y="2590920"/>
            <a:ext cx="861048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Background</a:t>
            </a:r>
            <a:r>
              <a:rPr b="0" lang="en-US" sz="1600" spc="-1" strike="noStrike">
                <a:solidFill>
                  <a:srgbClr val="000000"/>
                </a:solidFill>
                <a:latin typeface="Times New Roman"/>
              </a:rPr>
              <a:t>:  The Electromagnetic Energy Association (EEA) was formed in 1984 to represent a broad range of manufacturers and users of products producing electromagnetic (EM) energ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Purpose</a:t>
            </a:r>
            <a:r>
              <a:rPr b="0" lang="en-US" sz="1600" spc="-1" strike="noStrike">
                <a:solidFill>
                  <a:srgbClr val="000000"/>
                </a:solidFill>
                <a:latin typeface="Times New Roman"/>
              </a:rPr>
              <a:t>: To work for a responsible and rational public policy regarding electromagnetic energy in the areas of public policy, regulation, research and educ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Member benefits</a:t>
            </a:r>
            <a:r>
              <a:rPr b="0" lang="en-US" sz="1600" spc="-1" strike="noStrike">
                <a:solidFill>
                  <a:srgbClr val="000000"/>
                </a:solidFill>
                <a:latin typeface="Times New Roman"/>
              </a:rPr>
              <a:t>: EEA monitors federal legislation and maintains cooperative relationships with federal agencies with responsibility for electromagnetic energy issues. Fact Sheets, focusing on specific issues, are available to members and the general public. EEA's education programs include a short course that is designed to provide industry representatives a background in the science and technologies, the standards, the practical art of issue management, risk communication and litigation regarding electromagnetic energy (EME).  Members share experience relating to political drivers of the issue and issues involving litiga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74640" y="3762360"/>
            <a:ext cx="8128080" cy="2489040"/>
          </a:xfrm>
          <a:prstGeom prst="roundRect">
            <a:avLst>
              <a:gd name="adj" fmla="val 5542"/>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36480" y="2238480"/>
            <a:ext cx="8204400" cy="888840"/>
          </a:xfrm>
          <a:prstGeom prst="roundRect">
            <a:avLst>
              <a:gd name="adj" fmla="val 12495"/>
            </a:avLst>
          </a:prstGeom>
          <a:solidFill>
            <a:srgbClr val="ffffff"/>
          </a:solidFill>
          <a:ln w="255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836640" y="838080"/>
            <a:ext cx="77425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minal Power Requirements for Wireless Systems</a:t>
            </a:r>
            <a:endParaRPr b="0" lang="en-US" sz="2400" spc="-1" strike="noStrike">
              <a:solidFill>
                <a:srgbClr val="000000"/>
              </a:solidFill>
              <a:latin typeface="Times New Roman"/>
            </a:endParaRPr>
          </a:p>
        </p:txBody>
      </p:sp>
      <p:sp>
        <p:nvSpPr>
          <p:cNvPr id="310" name=""/>
          <p:cNvSpPr/>
          <p:nvPr/>
        </p:nvSpPr>
        <p:spPr>
          <a:xfrm>
            <a:off x="848160" y="2438280"/>
            <a:ext cx="76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
            </a:r>
            <a:r>
              <a:rPr b="1" lang="en-US" sz="1600" spc="-1" strike="noStrike">
                <a:solidFill>
                  <a:srgbClr val="000000"/>
                </a:solidFill>
                <a:latin typeface="Arial"/>
              </a:rPr>
              <a:t>T </a:t>
            </a:r>
            <a:r>
              <a:rPr b="1" lang="en-US" sz="2000" spc="-1" strike="noStrike">
                <a:solidFill>
                  <a:srgbClr val="000000"/>
                </a:solidFill>
                <a:latin typeface="Arial"/>
              </a:rPr>
              <a:t>= L</a:t>
            </a:r>
            <a:r>
              <a:rPr b="1" lang="en-US" sz="1600" spc="-1" strike="noStrike">
                <a:solidFill>
                  <a:srgbClr val="000000"/>
                </a:solidFill>
                <a:latin typeface="Arial"/>
              </a:rPr>
              <a:t>90</a:t>
            </a:r>
            <a:r>
              <a:rPr b="1" lang="en-US" sz="2000" spc="-1" strike="noStrike">
                <a:solidFill>
                  <a:srgbClr val="000000"/>
                </a:solidFill>
                <a:latin typeface="Arial"/>
              </a:rPr>
              <a:t> - G</a:t>
            </a:r>
            <a:r>
              <a:rPr b="1" lang="en-US" sz="1600" spc="-1" strike="noStrike">
                <a:solidFill>
                  <a:srgbClr val="000000"/>
                </a:solidFill>
                <a:latin typeface="Arial"/>
              </a:rPr>
              <a:t>m</a:t>
            </a:r>
            <a:r>
              <a:rPr b="1" lang="en-US" sz="2000" spc="-1" strike="noStrike">
                <a:solidFill>
                  <a:srgbClr val="000000"/>
                </a:solidFill>
                <a:latin typeface="Arial"/>
              </a:rPr>
              <a:t> - G</a:t>
            </a:r>
            <a:r>
              <a:rPr b="1" lang="en-US" sz="1600" spc="-1" strike="noStrike">
                <a:solidFill>
                  <a:srgbClr val="000000"/>
                </a:solidFill>
                <a:latin typeface="Arial"/>
              </a:rPr>
              <a:t>b</a:t>
            </a:r>
            <a:r>
              <a:rPr b="1" lang="en-US" sz="2000" spc="-1" strike="noStrike">
                <a:solidFill>
                  <a:srgbClr val="000000"/>
                </a:solidFill>
                <a:latin typeface="Arial"/>
              </a:rPr>
              <a:t> - I</a:t>
            </a:r>
            <a:r>
              <a:rPr b="1" lang="en-US" sz="1600" spc="-1" strike="noStrike">
                <a:solidFill>
                  <a:srgbClr val="000000"/>
                </a:solidFill>
                <a:latin typeface="Arial"/>
              </a:rPr>
              <a:t>sd</a:t>
            </a:r>
            <a:r>
              <a:rPr b="1" lang="en-US" sz="2000" spc="-1" strike="noStrike">
                <a:solidFill>
                  <a:srgbClr val="000000"/>
                </a:solidFill>
                <a:latin typeface="Arial"/>
              </a:rPr>
              <a:t> + SNR</a:t>
            </a:r>
            <a:r>
              <a:rPr b="1" lang="en-US" sz="1600" spc="-1" strike="noStrike">
                <a:solidFill>
                  <a:srgbClr val="000000"/>
                </a:solidFill>
                <a:latin typeface="Arial"/>
              </a:rPr>
              <a:t>0</a:t>
            </a:r>
            <a:r>
              <a:rPr b="1" lang="en-US" sz="2000" spc="-1" strike="noStrike">
                <a:solidFill>
                  <a:srgbClr val="000000"/>
                </a:solidFill>
                <a:latin typeface="Arial"/>
              </a:rPr>
              <a:t> + </a:t>
            </a:r>
            <a:r>
              <a:rPr b="1" lang="en-US" sz="2400" spc="-1" strike="noStrike">
                <a:solidFill>
                  <a:srgbClr val="000000"/>
                </a:solidFill>
                <a:latin typeface="Arial"/>
              </a:rPr>
              <a:t>[</a:t>
            </a:r>
            <a:r>
              <a:rPr b="1" lang="en-US" sz="2000" spc="-1" strike="noStrike">
                <a:solidFill>
                  <a:srgbClr val="000000"/>
                </a:solidFill>
                <a:latin typeface="Arial"/>
              </a:rPr>
              <a:t> -174 </a:t>
            </a:r>
            <a:r>
              <a:rPr b="1" lang="en-US" sz="1600" spc="-1" strike="noStrike">
                <a:solidFill>
                  <a:srgbClr val="000000"/>
                </a:solidFill>
                <a:latin typeface="Arial"/>
              </a:rPr>
              <a:t>dBm/Hz</a:t>
            </a:r>
            <a:r>
              <a:rPr b="1" lang="en-US" sz="2000" spc="-1" strike="noStrike">
                <a:solidFill>
                  <a:srgbClr val="000000"/>
                </a:solidFill>
                <a:latin typeface="Arial"/>
              </a:rPr>
              <a:t> + N</a:t>
            </a:r>
            <a:r>
              <a:rPr b="1" lang="en-US" sz="1600" spc="-1" strike="noStrike">
                <a:solidFill>
                  <a:srgbClr val="000000"/>
                </a:solidFill>
                <a:latin typeface="Arial"/>
              </a:rPr>
              <a:t>F</a:t>
            </a:r>
            <a:r>
              <a:rPr b="1" lang="en-US" sz="2000" spc="-1" strike="noStrike">
                <a:solidFill>
                  <a:srgbClr val="000000"/>
                </a:solidFill>
                <a:latin typeface="Arial"/>
              </a:rPr>
              <a:t> + 10 log B </a:t>
            </a:r>
            <a:r>
              <a:rPr b="1"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311" name=""/>
          <p:cNvSpPr/>
          <p:nvPr/>
        </p:nvSpPr>
        <p:spPr>
          <a:xfrm>
            <a:off x="1597320" y="1690560"/>
            <a:ext cx="62917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ll things being equal, </a:t>
            </a:r>
            <a:r>
              <a:rPr b="1" i="1" lang="en-US" sz="1600" spc="-1" strike="noStrike">
                <a:solidFill>
                  <a:srgbClr val="ff0033"/>
                </a:solidFill>
                <a:latin typeface="Arial"/>
              </a:rPr>
              <a:t>power</a:t>
            </a:r>
            <a:r>
              <a:rPr b="1" i="1" lang="en-US" sz="1600" spc="-1" strike="noStrike">
                <a:solidFill>
                  <a:srgbClr val="000000"/>
                </a:solidFill>
                <a:latin typeface="Arial"/>
              </a:rPr>
              <a:t> will scale with channel </a:t>
            </a:r>
            <a:r>
              <a:rPr b="1" i="1" lang="en-US" sz="1600" spc="-1" strike="noStrike">
                <a:solidFill>
                  <a:srgbClr val="ff0033"/>
                </a:solidFill>
                <a:latin typeface="Arial"/>
              </a:rPr>
              <a:t>bandwidth</a:t>
            </a:r>
            <a:endParaRPr b="0" lang="en-US" sz="1600" spc="-1" strike="noStrike">
              <a:solidFill>
                <a:srgbClr val="000000"/>
              </a:solidFill>
              <a:latin typeface="Times New Roman"/>
            </a:endParaRPr>
          </a:p>
        </p:txBody>
      </p:sp>
      <p:sp>
        <p:nvSpPr>
          <p:cNvPr id="312" name=""/>
          <p:cNvSpPr/>
          <p:nvPr/>
        </p:nvSpPr>
        <p:spPr>
          <a:xfrm>
            <a:off x="1831320" y="3902040"/>
            <a:ext cx="5814720" cy="2282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
            </a:r>
            <a:r>
              <a:rPr b="1" lang="en-US" sz="1200" spc="-1" strike="noStrike">
                <a:solidFill>
                  <a:srgbClr val="000000"/>
                </a:solidFill>
                <a:latin typeface="Arial"/>
              </a:rPr>
              <a:t>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transmit pow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r>
              <a:rPr b="1" lang="en-US" sz="1200" spc="-1" strike="noStrike">
                <a:solidFill>
                  <a:srgbClr val="000000"/>
                </a:solidFill>
                <a:latin typeface="Arial"/>
              </a:rPr>
              <a:t>90</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maximum loss to achieve a given SNR</a:t>
            </a:r>
            <a:r>
              <a:rPr b="0" lang="en-US" sz="1200" spc="-1" strike="noStrike">
                <a:solidFill>
                  <a:srgbClr val="000000"/>
                </a:solidFill>
                <a:latin typeface="Arial"/>
              </a:rPr>
              <a:t>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t>
            </a:r>
            <a:r>
              <a:rPr b="1" lang="en-US" sz="1200" spc="-1" strike="noStrike">
                <a:solidFill>
                  <a:srgbClr val="000000"/>
                </a:solidFill>
                <a:latin typeface="Arial"/>
              </a:rPr>
              <a:t>m</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mobile terminal antenna ga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t>
            </a:r>
            <a:r>
              <a:rPr b="1" lang="en-US" sz="1200" spc="-1" strike="noStrike">
                <a:solidFill>
                  <a:srgbClr val="000000"/>
                </a:solidFill>
                <a:latin typeface="Arial"/>
              </a:rPr>
              <a:t>b</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base antenna ga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a:t>
            </a:r>
            <a:r>
              <a:rPr b="1" lang="en-US" sz="1200" spc="-1" strike="noStrike">
                <a:solidFill>
                  <a:srgbClr val="000000"/>
                </a:solidFill>
                <a:latin typeface="Arial"/>
              </a:rPr>
              <a:t>sd</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space diversity improv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NR</a:t>
            </a:r>
            <a:r>
              <a:rPr b="1" lang="en-US" sz="1200" spc="-1" strike="noStrike">
                <a:solidFill>
                  <a:srgbClr val="000000"/>
                </a:solidFill>
                <a:latin typeface="Arial"/>
              </a:rPr>
              <a:t>0</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0" lang="en-US" sz="1600" spc="-1" strike="noStrike">
                <a:solidFill>
                  <a:srgbClr val="000000"/>
                </a:solidFill>
                <a:latin typeface="Arial"/>
              </a:rPr>
              <a:t>required signal to noise rat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4 </a:t>
            </a:r>
            <a:r>
              <a:rPr b="1" lang="en-US" sz="1200" spc="-1" strike="noStrike">
                <a:solidFill>
                  <a:srgbClr val="000000"/>
                </a:solidFill>
                <a:latin typeface="Arial"/>
              </a:rPr>
              <a:t>dBm/Hz</a:t>
            </a:r>
            <a:r>
              <a:rPr b="0" lang="en-US" sz="1600" spc="-1" strike="noStrike">
                <a:solidFill>
                  <a:srgbClr val="000000"/>
                </a:solidFill>
                <a:latin typeface="Arial"/>
              </a:rPr>
              <a:t>	</a:t>
            </a:r>
            <a:r>
              <a:rPr b="0" lang="en-US" sz="1600" spc="-1" strike="noStrike">
                <a:solidFill>
                  <a:srgbClr val="000000"/>
                </a:solidFill>
                <a:latin typeface="Arial"/>
              </a:rPr>
              <a:t>-   thermal noi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t>
            </a:r>
            <a:r>
              <a:rPr b="1" lang="en-US" sz="1200" spc="-1" strike="noStrike">
                <a:solidFill>
                  <a:srgbClr val="000000"/>
                </a:solidFill>
                <a:latin typeface="Arial"/>
              </a:rPr>
              <a:t>F</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noise figu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 log B</a:t>
            </a:r>
            <a:r>
              <a:rPr b="1" lang="en-US" sz="1600" spc="-1" strike="noStrike">
                <a:solidFill>
                  <a:srgbClr val="000000"/>
                </a:solidFill>
                <a:latin typeface="Arial"/>
              </a:rPr>
              <a:t>	</a:t>
            </a:r>
            <a:r>
              <a:rPr b="1" lang="en-US" sz="1600" spc="-1" strike="noStrike">
                <a:solidFill>
                  <a:srgbClr val="000000"/>
                </a:solidFill>
                <a:latin typeface="Arial"/>
              </a:rPr>
              <a:t>	</a:t>
            </a:r>
            <a:r>
              <a:rPr b="0" lang="en-US" sz="1600" spc="-1" strike="noStrike">
                <a:solidFill>
                  <a:srgbClr val="000000"/>
                </a:solidFill>
                <a:latin typeface="Arial"/>
              </a:rPr>
              <a:t>-</a:t>
            </a:r>
            <a:r>
              <a:rPr b="1" lang="en-US" sz="1600" spc="-1" strike="noStrike">
                <a:solidFill>
                  <a:srgbClr val="000000"/>
                </a:solidFill>
                <a:latin typeface="Arial"/>
              </a:rPr>
              <a:t>   </a:t>
            </a:r>
            <a:r>
              <a:rPr b="0" lang="en-US" sz="1600" spc="-1" strike="noStrike">
                <a:solidFill>
                  <a:srgbClr val="000000"/>
                </a:solidFill>
                <a:latin typeface="Arial"/>
              </a:rPr>
              <a:t>10 x log of channel bandwidth (in Hz)</a:t>
            </a:r>
            <a:endParaRPr b="0" lang="en-US" sz="1600" spc="-1" strike="noStrike">
              <a:solidFill>
                <a:srgbClr val="000000"/>
              </a:solidFill>
              <a:latin typeface="Times New Roman"/>
            </a:endParaRPr>
          </a:p>
        </p:txBody>
      </p:sp>
      <p:sp>
        <p:nvSpPr>
          <p:cNvPr id="313" name=""/>
          <p:cNvSpPr/>
          <p:nvPr/>
        </p:nvSpPr>
        <p:spPr>
          <a:xfrm>
            <a:off x="6491160" y="1998720"/>
            <a:ext cx="1676160" cy="1066680"/>
          </a:xfrm>
          <a:custGeom>
            <a:avLst/>
            <a:gdLst/>
            <a:ahLst/>
            <a:rect l="l" t="t" r="r" b="b"/>
            <a:pathLst>
              <a:path stroke="0" w="21600" h="21600">
                <a:moveTo>
                  <a:pt x="10780" y="0"/>
                </a:moveTo>
                <a:arcTo wR="10800" hR="10800" stAng="-5406511" swAng="5406511"/>
                <a:lnTo>
                  <a:pt x="10800" y="10800"/>
                </a:lnTo>
                <a:close/>
              </a:path>
              <a:path fill="none" w="21600" h="21600">
                <a:moveTo>
                  <a:pt x="10780" y="0"/>
                </a:moveTo>
                <a:arcTo wR="10800" hR="10800" stAng="-5406511" swAng="5406511"/>
              </a:path>
            </a:pathLst>
          </a:custGeom>
          <a:noFill/>
          <a:ln cap="rnd" w="25560">
            <a:solidFill>
              <a:srgbClr val="ff0033"/>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158840" y="1998720"/>
            <a:ext cx="5486040" cy="1066680"/>
          </a:xfrm>
          <a:custGeom>
            <a:avLst/>
            <a:gdLst/>
            <a:ahLst/>
            <a:rect l="l" t="t" r="r" b="b"/>
            <a:pathLst>
              <a:path stroke="0" w="21600" h="21600">
                <a:moveTo>
                  <a:pt x="0" y="10800"/>
                </a:moveTo>
                <a:arcTo wR="10800" hR="10800" stAng="10800000" swAng="5398011"/>
                <a:lnTo>
                  <a:pt x="10800" y="10800"/>
                </a:lnTo>
                <a:close/>
              </a:path>
              <a:path fill="none" w="21600" h="21600">
                <a:moveTo>
                  <a:pt x="0" y="10800"/>
                </a:moveTo>
                <a:arcTo wR="10800" hR="10800" stAng="10800000" swAng="5398011"/>
              </a:path>
            </a:pathLst>
          </a:custGeom>
          <a:noFill/>
          <a:ln cap="rnd" w="25560">
            <a:solidFill>
              <a:srgbClr val="ff0033"/>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176560" y="3290760"/>
            <a:ext cx="49111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For a given distance, frequency and environmen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1392120" y="2308320"/>
            <a:ext cx="6388200" cy="3644640"/>
          </a:xfrm>
          <a:prstGeom prst="rect">
            <a:avLst/>
          </a:prstGeom>
          <a:solidFill>
            <a:srgbClr val="ffffff"/>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684360" y="2133720"/>
            <a:ext cx="183960" cy="45720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000000"/>
              </a:solidFill>
              <a:latin typeface="Times New Roman"/>
            </a:endParaRPr>
          </a:p>
        </p:txBody>
      </p:sp>
      <p:sp>
        <p:nvSpPr>
          <p:cNvPr id="318" name=""/>
          <p:cNvSpPr/>
          <p:nvPr/>
        </p:nvSpPr>
        <p:spPr>
          <a:xfrm>
            <a:off x="759240" y="3086280"/>
            <a:ext cx="6012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 W</a:t>
            </a:r>
            <a:endParaRPr b="0" lang="en-US" sz="1400" spc="-1" strike="noStrike">
              <a:solidFill>
                <a:srgbClr val="000000"/>
              </a:solidFill>
              <a:latin typeface="Times New Roman"/>
            </a:endParaRPr>
          </a:p>
        </p:txBody>
      </p:sp>
      <p:sp>
        <p:nvSpPr>
          <p:cNvPr id="319" name=""/>
          <p:cNvSpPr/>
          <p:nvPr/>
        </p:nvSpPr>
        <p:spPr>
          <a:xfrm>
            <a:off x="835560" y="4000680"/>
            <a:ext cx="5022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W</a:t>
            </a:r>
            <a:endParaRPr b="0" lang="en-US" sz="1400" spc="-1" strike="noStrike">
              <a:solidFill>
                <a:srgbClr val="000000"/>
              </a:solidFill>
              <a:latin typeface="Times New Roman"/>
            </a:endParaRPr>
          </a:p>
        </p:txBody>
      </p:sp>
      <p:sp>
        <p:nvSpPr>
          <p:cNvPr id="320" name=""/>
          <p:cNvSpPr/>
          <p:nvPr/>
        </p:nvSpPr>
        <p:spPr>
          <a:xfrm>
            <a:off x="682560" y="4915080"/>
            <a:ext cx="6512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1 W</a:t>
            </a:r>
            <a:endParaRPr b="0" lang="en-US" sz="1400" spc="-1" strike="noStrike">
              <a:solidFill>
                <a:srgbClr val="000000"/>
              </a:solidFill>
              <a:latin typeface="Times New Roman"/>
            </a:endParaRPr>
          </a:p>
        </p:txBody>
      </p:sp>
      <p:sp>
        <p:nvSpPr>
          <p:cNvPr id="321" name=""/>
          <p:cNvSpPr/>
          <p:nvPr/>
        </p:nvSpPr>
        <p:spPr>
          <a:xfrm>
            <a:off x="682560" y="2171880"/>
            <a:ext cx="7002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 W</a:t>
            </a:r>
            <a:endParaRPr b="0" lang="en-US" sz="1400" spc="-1" strike="noStrike">
              <a:solidFill>
                <a:srgbClr val="000000"/>
              </a:solidFill>
              <a:latin typeface="Times New Roman"/>
            </a:endParaRPr>
          </a:p>
        </p:txBody>
      </p:sp>
      <p:sp>
        <p:nvSpPr>
          <p:cNvPr id="322" name=""/>
          <p:cNvSpPr/>
          <p:nvPr/>
        </p:nvSpPr>
        <p:spPr>
          <a:xfrm>
            <a:off x="1666800" y="6058080"/>
            <a:ext cx="26053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ditional MacroCell Systems</a:t>
            </a:r>
            <a:endParaRPr b="0" lang="en-US" sz="1400" spc="-1" strike="noStrike">
              <a:solidFill>
                <a:srgbClr val="000000"/>
              </a:solidFill>
              <a:latin typeface="Times New Roman"/>
            </a:endParaRPr>
          </a:p>
        </p:txBody>
      </p:sp>
      <p:sp>
        <p:nvSpPr>
          <p:cNvPr id="323" name=""/>
          <p:cNvSpPr/>
          <p:nvPr/>
        </p:nvSpPr>
        <p:spPr>
          <a:xfrm>
            <a:off x="5250600" y="6058080"/>
            <a:ext cx="1764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Building Systems</a:t>
            </a:r>
            <a:endParaRPr b="0" lang="en-US" sz="1400" spc="-1" strike="noStrike">
              <a:solidFill>
                <a:srgbClr val="000000"/>
              </a:solidFill>
              <a:latin typeface="Times New Roman"/>
            </a:endParaRPr>
          </a:p>
        </p:txBody>
      </p:sp>
      <p:sp>
        <p:nvSpPr>
          <p:cNvPr id="324" name=""/>
          <p:cNvSpPr/>
          <p:nvPr/>
        </p:nvSpPr>
        <p:spPr>
          <a:xfrm>
            <a:off x="1386000" y="4435560"/>
            <a:ext cx="6400800" cy="1523880"/>
          </a:xfrm>
          <a:prstGeom prst="rect">
            <a:avLst/>
          </a:prstGeom>
          <a:solidFill>
            <a:srgbClr val="00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386000" y="4130640"/>
            <a:ext cx="6400800" cy="304920"/>
          </a:xfrm>
          <a:prstGeom prst="rect">
            <a:avLst/>
          </a:prstGeom>
          <a:gradFill rotWithShape="0">
            <a:gsLst>
              <a:gs pos="0">
                <a:srgbClr val="ffff66"/>
              </a:gs>
              <a:gs pos="100000">
                <a:srgbClr val="00ff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386000" y="2301840"/>
            <a:ext cx="6400800" cy="18288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386000" y="2225520"/>
            <a:ext cx="0" cy="37339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386000" y="5045040"/>
            <a:ext cx="759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386000" y="4130640"/>
            <a:ext cx="759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386000" y="3216240"/>
            <a:ext cx="759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386000" y="2301840"/>
            <a:ext cx="759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925640" y="4518000"/>
            <a:ext cx="596880" cy="14349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049720" y="5356080"/>
            <a:ext cx="596880" cy="5968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825200" y="4253040"/>
            <a:ext cx="7549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 kbps</a:t>
            </a:r>
            <a:endParaRPr b="0" lang="en-US" sz="1200" spc="-1" strike="noStrike">
              <a:solidFill>
                <a:srgbClr val="000000"/>
              </a:solidFill>
              <a:latin typeface="Times New Roman"/>
            </a:endParaRPr>
          </a:p>
        </p:txBody>
      </p:sp>
      <p:sp>
        <p:nvSpPr>
          <p:cNvPr id="335" name=""/>
          <p:cNvSpPr/>
          <p:nvPr/>
        </p:nvSpPr>
        <p:spPr>
          <a:xfrm>
            <a:off x="2602440" y="3262320"/>
            <a:ext cx="840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4 kbps</a:t>
            </a:r>
            <a:endParaRPr b="0" lang="en-US" sz="1200" spc="-1" strike="noStrike">
              <a:solidFill>
                <a:srgbClr val="000000"/>
              </a:solidFill>
              <a:latin typeface="Times New Roman"/>
            </a:endParaRPr>
          </a:p>
        </p:txBody>
      </p:sp>
      <p:sp>
        <p:nvSpPr>
          <p:cNvPr id="336" name=""/>
          <p:cNvSpPr/>
          <p:nvPr/>
        </p:nvSpPr>
        <p:spPr>
          <a:xfrm>
            <a:off x="4949640" y="5091120"/>
            <a:ext cx="7549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 kbps</a:t>
            </a:r>
            <a:endParaRPr b="0" lang="en-US" sz="1200" spc="-1" strike="noStrike">
              <a:solidFill>
                <a:srgbClr val="000000"/>
              </a:solidFill>
              <a:latin typeface="Times New Roman"/>
            </a:endParaRPr>
          </a:p>
        </p:txBody>
      </p:sp>
      <p:sp>
        <p:nvSpPr>
          <p:cNvPr id="337" name=""/>
          <p:cNvSpPr/>
          <p:nvPr/>
        </p:nvSpPr>
        <p:spPr>
          <a:xfrm>
            <a:off x="5711040" y="4253040"/>
            <a:ext cx="840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4 kbps</a:t>
            </a:r>
            <a:endParaRPr b="0" lang="en-US" sz="1200" spc="-1" strike="noStrike">
              <a:solidFill>
                <a:srgbClr val="000000"/>
              </a:solidFill>
              <a:latin typeface="Times New Roman"/>
            </a:endParaRPr>
          </a:p>
        </p:txBody>
      </p:sp>
      <p:sp>
        <p:nvSpPr>
          <p:cNvPr id="338" name=""/>
          <p:cNvSpPr/>
          <p:nvPr/>
        </p:nvSpPr>
        <p:spPr>
          <a:xfrm>
            <a:off x="6474240" y="3262320"/>
            <a:ext cx="8388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 Mbps</a:t>
            </a:r>
            <a:endParaRPr b="0" lang="en-US" sz="1200" spc="-1" strike="noStrike">
              <a:solidFill>
                <a:srgbClr val="000000"/>
              </a:solidFill>
              <a:latin typeface="Times New Roman"/>
            </a:endParaRPr>
          </a:p>
        </p:txBody>
      </p:sp>
      <p:sp>
        <p:nvSpPr>
          <p:cNvPr id="339" name=""/>
          <p:cNvSpPr/>
          <p:nvPr/>
        </p:nvSpPr>
        <p:spPr>
          <a:xfrm>
            <a:off x="2604960" y="3521160"/>
            <a:ext cx="914400" cy="2438280"/>
          </a:xfrm>
          <a:prstGeom prst="upArrow">
            <a:avLst>
              <a:gd name="adj1" fmla="val 63333"/>
              <a:gd name="adj2" fmla="val 80551"/>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729400" y="4511520"/>
            <a:ext cx="838080" cy="1447920"/>
          </a:xfrm>
          <a:prstGeom prst="upArrow">
            <a:avLst>
              <a:gd name="adj1" fmla="val 74306"/>
              <a:gd name="adj2" fmla="val 83544"/>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6491160" y="3521160"/>
            <a:ext cx="914400" cy="2438280"/>
          </a:xfrm>
          <a:prstGeom prst="upArrow">
            <a:avLst>
              <a:gd name="adj1" fmla="val 63333"/>
              <a:gd name="adj2" fmla="val 80551"/>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593000" y="1614600"/>
            <a:ext cx="6000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ll things being equal, power will scale with information rate</a:t>
            </a:r>
            <a:endParaRPr b="0" lang="en-US" sz="1600" spc="-1" strike="noStrike">
              <a:solidFill>
                <a:srgbClr val="000000"/>
              </a:solidFill>
              <a:latin typeface="Times New Roman"/>
            </a:endParaRPr>
          </a:p>
        </p:txBody>
      </p:sp>
      <p:sp>
        <p:nvSpPr>
          <p:cNvPr id="343" name=""/>
          <p:cNvSpPr/>
          <p:nvPr/>
        </p:nvSpPr>
        <p:spPr>
          <a:xfrm>
            <a:off x="684000" y="762120"/>
            <a:ext cx="77425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minal Power Requirements for Wireless Systems</a:t>
            </a:r>
            <a:endParaRPr b="0" lang="en-US" sz="2400" spc="-1" strike="noStrike">
              <a:solidFill>
                <a:srgbClr val="000000"/>
              </a:solidFill>
              <a:latin typeface="Times New Roman"/>
            </a:endParaRPr>
          </a:p>
        </p:txBody>
      </p:sp>
      <p:sp>
        <p:nvSpPr>
          <p:cNvPr id="344" name=""/>
          <p:cNvSpPr/>
          <p:nvPr/>
        </p:nvSpPr>
        <p:spPr>
          <a:xfrm>
            <a:off x="1386000" y="5959440"/>
            <a:ext cx="64008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829520" y="685800"/>
            <a:ext cx="5956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Rules for a “Scare” Environment</a:t>
            </a:r>
            <a:endParaRPr b="0" lang="en-US" sz="2400" spc="-1" strike="noStrike">
              <a:solidFill>
                <a:srgbClr val="000000"/>
              </a:solidFill>
              <a:latin typeface="Times New Roman"/>
            </a:endParaRPr>
          </a:p>
        </p:txBody>
      </p:sp>
      <p:sp>
        <p:nvSpPr>
          <p:cNvPr id="346" name=""/>
          <p:cNvSpPr/>
          <p:nvPr/>
        </p:nvSpPr>
        <p:spPr>
          <a:xfrm>
            <a:off x="880920" y="1523880"/>
            <a:ext cx="8001000" cy="414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blic perception of risk is based on perceived level of control of situation – powerlessness increases anxiety, availability of informed choices calm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Scares” don’t go away – once begun, they can be assuaged only by repeated broad coverage on a wide array of medi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s much be pro-active, “public team” solution of perceived problem – must avoid direct counterstrikes or categorical denial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seminate relevant information before it is required for backup</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oid backups which can be construed as acknowledgement of problem until scientific data are available and evaluate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sure released information is correct and consistent regardless of sourc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in kind – use “reasonable doubt” approach to blunt the thrust of minimally-supported charg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unter negatives with positives (e.g. benefits of product/service/technology)</a:t>
            </a:r>
            <a:endParaRPr b="0" lang="en-US" sz="1600" spc="-1" strike="noStrike">
              <a:solidFill>
                <a:srgbClr val="000000"/>
              </a:solidFill>
              <a:latin typeface="Times New Roman"/>
            </a:endParaRPr>
          </a:p>
        </p:txBody>
      </p:sp>
      <p:sp>
        <p:nvSpPr>
          <p:cNvPr id="347" name=""/>
          <p:cNvSpPr/>
          <p:nvPr/>
        </p:nvSpPr>
        <p:spPr>
          <a:xfrm>
            <a:off x="652320" y="1600200"/>
            <a:ext cx="152640" cy="1522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52320" y="2209680"/>
            <a:ext cx="152640" cy="15264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52320" y="2819520"/>
            <a:ext cx="152640" cy="1522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52320" y="3429000"/>
            <a:ext cx="152640" cy="1522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52320" y="3809880"/>
            <a:ext cx="152640" cy="15264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52320" y="4343400"/>
            <a:ext cx="152640" cy="1522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52320" y="4800600"/>
            <a:ext cx="152640" cy="1522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652320" y="5410080"/>
            <a:ext cx="152640" cy="15264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827800" y="792000"/>
            <a:ext cx="3449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lth &amp; Safety Issues</a:t>
            </a:r>
            <a:endParaRPr b="0" lang="en-US" sz="2400" spc="-1" strike="noStrike">
              <a:solidFill>
                <a:srgbClr val="000000"/>
              </a:solidFill>
              <a:latin typeface="Times New Roman"/>
            </a:endParaRPr>
          </a:p>
        </p:txBody>
      </p:sp>
      <p:sp>
        <p:nvSpPr>
          <p:cNvPr id="57" name=""/>
          <p:cNvSpPr/>
          <p:nvPr/>
        </p:nvSpPr>
        <p:spPr>
          <a:xfrm>
            <a:off x="1066680" y="1447920"/>
            <a:ext cx="8077320" cy="478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ological effects of exposure of humans to RF energy from clien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ological effects of exposure of humans to RF energy from base-station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s of exposure of instrumentation to RF energy</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cal</a:t>
            </a:r>
            <a:r>
              <a:rPr b="1" lang="en-US" sz="1600" spc="-1" strike="noStrike">
                <a:solidFill>
                  <a:srgbClr val="000000"/>
                </a:solidFill>
                <a:latin typeface="Arial"/>
              </a:rPr>
              <a:t>	</a:t>
            </a:r>
            <a:r>
              <a:rPr b="1" lang="en-US" sz="1600" spc="-1" strike="noStrike">
                <a:solidFill>
                  <a:srgbClr val="000000"/>
                </a:solidFill>
                <a:latin typeface="Arial"/>
              </a:rPr>
              <a:t>(pacemakers, hearing aids, hospital medical equipment)</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umer</a:t>
            </a:r>
            <a:r>
              <a:rPr b="1" lang="en-US" sz="1600" spc="-1" strike="noStrike">
                <a:solidFill>
                  <a:srgbClr val="000000"/>
                </a:solidFill>
                <a:latin typeface="Arial"/>
              </a:rPr>
              <a:t>	</a:t>
            </a:r>
            <a:r>
              <a:rPr b="1" lang="en-US" sz="1600" spc="-1" strike="noStrike">
                <a:solidFill>
                  <a:srgbClr val="000000"/>
                </a:solidFill>
                <a:latin typeface="Arial"/>
              </a:rPr>
              <a:t>(VCR, PC)</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omotive</a:t>
            </a:r>
            <a:r>
              <a:rPr b="1" lang="en-US" sz="1600" spc="-1" strike="noStrike">
                <a:solidFill>
                  <a:srgbClr val="000000"/>
                </a:solidFill>
                <a:latin typeface="Arial"/>
              </a:rPr>
              <a:t>	</a:t>
            </a:r>
            <a:r>
              <a:rPr b="1" lang="en-US" sz="1600" spc="-1" strike="noStrike">
                <a:solidFill>
                  <a:srgbClr val="000000"/>
                </a:solidFill>
                <a:latin typeface="Arial"/>
              </a:rPr>
              <a:t>(anti-lock brakes)</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ircraft</a:t>
            </a:r>
            <a:r>
              <a:rPr b="1" lang="en-US" sz="1600" spc="-1" strike="noStrike">
                <a:solidFill>
                  <a:srgbClr val="000000"/>
                </a:solidFill>
                <a:latin typeface="Arial"/>
              </a:rPr>
              <a:t>	</a:t>
            </a:r>
            <a:r>
              <a:rPr b="1" lang="en-US" sz="1600" spc="-1" strike="noStrike">
                <a:solidFill>
                  <a:srgbClr val="000000"/>
                </a:solidFill>
                <a:latin typeface="Arial"/>
              </a:rPr>
              <a:t>(navigational equipment)</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formance effects of the use of portable devices on driving safet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ever the public and the media believe are issues!</a:t>
            </a:r>
            <a:endParaRPr b="0" lang="en-US" sz="1600" spc="-1" strike="noStrike">
              <a:solidFill>
                <a:srgbClr val="000000"/>
              </a:solidFill>
              <a:latin typeface="Times New Roman"/>
            </a:endParaRPr>
          </a:p>
        </p:txBody>
      </p:sp>
      <p:sp>
        <p:nvSpPr>
          <p:cNvPr id="58" name=""/>
          <p:cNvSpPr/>
          <p:nvPr/>
        </p:nvSpPr>
        <p:spPr>
          <a:xfrm>
            <a:off x="914400" y="1554120"/>
            <a:ext cx="152280" cy="1522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914400" y="2316240"/>
            <a:ext cx="152280" cy="1522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914400" y="3002040"/>
            <a:ext cx="152280" cy="1522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914400" y="5211720"/>
            <a:ext cx="152280" cy="1522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914400" y="5973840"/>
            <a:ext cx="152280" cy="1522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2212560" y="762120"/>
            <a:ext cx="5005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 and Recommendations</a:t>
            </a:r>
            <a:endParaRPr b="0" lang="en-US" sz="2400" spc="-1" strike="noStrike">
              <a:solidFill>
                <a:srgbClr val="000000"/>
              </a:solidFill>
              <a:latin typeface="Times New Roman"/>
            </a:endParaRPr>
          </a:p>
        </p:txBody>
      </p:sp>
      <p:sp>
        <p:nvSpPr>
          <p:cNvPr id="356" name=""/>
          <p:cNvSpPr/>
          <p:nvPr/>
        </p:nvSpPr>
        <p:spPr>
          <a:xfrm>
            <a:off x="770040" y="1600200"/>
            <a:ext cx="8001000" cy="368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is no “Silver Bullet” near-term solution; Prepare for a long-term effor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ise against design activity for products which may be viewed as an acknowledgement of health risk until scientific data are available and evaluated</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peculating on the merits of some new study that neither demonstrates a hazard nor provides assurance that a hazard does not exist should be left up to the scientific community, e.g., the expert panels that evaluate the literature to develop safety criteri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rt industry wide response initiatives by the IEEE, EEA and other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7" name=""/>
          <p:cNvSpPr/>
          <p:nvPr/>
        </p:nvSpPr>
        <p:spPr>
          <a:xfrm>
            <a:off x="541440" y="1676520"/>
            <a:ext cx="152280" cy="1522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41440" y="2362320"/>
            <a:ext cx="152280" cy="1522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541440" y="3352680"/>
            <a:ext cx="152280" cy="15264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41440" y="4572000"/>
            <a:ext cx="152280" cy="1522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457200" y="762120"/>
            <a:ext cx="8229600" cy="255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me Health &amp; Safety Considerations for Emerging IEEE 802.11 Wireless Systems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aring Aid Compatibility</a:t>
            </a:r>
            <a:endParaRPr b="0" lang="en-US" sz="3200" spc="-1" strike="noStrike">
              <a:solidFill>
                <a:srgbClr val="000000"/>
              </a:solidFill>
              <a:latin typeface="Times New Roman"/>
            </a:endParaRPr>
          </a:p>
        </p:txBody>
      </p:sp>
      <p:sp>
        <p:nvSpPr>
          <p:cNvPr id="362" name=""/>
          <p:cNvSpPr/>
          <p:nvPr/>
        </p:nvSpPr>
        <p:spPr>
          <a:xfrm>
            <a:off x="3886200" y="472428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ed by:</a:t>
            </a:r>
            <a:endParaRPr b="0" lang="en-US" sz="1800" spc="-1" strike="noStrike">
              <a:solidFill>
                <a:srgbClr val="000000"/>
              </a:solidFill>
              <a:latin typeface="Times New Roman"/>
            </a:endParaRPr>
          </a:p>
        </p:txBody>
      </p:sp>
      <p:sp>
        <p:nvSpPr>
          <p:cNvPr id="363" name=""/>
          <p:cNvSpPr/>
          <p:nvPr/>
        </p:nvSpPr>
        <p:spPr>
          <a:xfrm>
            <a:off x="5715000" y="4572000"/>
            <a:ext cx="2895480" cy="1768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ald J. Bowen, Ph.D.</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amp;T Labs</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73 236 6789 (voice)</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jbowen@att.com</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3962520" y="685800"/>
            <a:ext cx="1232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line</a:t>
            </a:r>
            <a:endParaRPr b="0" lang="en-US" sz="2400" spc="-1" strike="noStrike">
              <a:solidFill>
                <a:srgbClr val="000000"/>
              </a:solidFill>
              <a:latin typeface="Times New Roman"/>
            </a:endParaRPr>
          </a:p>
        </p:txBody>
      </p:sp>
      <p:sp>
        <p:nvSpPr>
          <p:cNvPr id="365" name=""/>
          <p:cNvSpPr/>
          <p:nvPr/>
        </p:nvSpPr>
        <p:spPr>
          <a:xfrm>
            <a:off x="774720" y="1523880"/>
            <a:ext cx="777240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iew of hearing aid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iew of telephone receiver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elecoi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ring aid “Compatibilit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llenges to hearing aid users posed by wireless communicators</a:t>
            </a:r>
            <a:endParaRPr b="0" lang="en-US" sz="1800" spc="-1" strike="noStrike">
              <a:solidFill>
                <a:srgbClr val="000000"/>
              </a:solidFill>
              <a:latin typeface="Times New Roman"/>
            </a:endParaRPr>
          </a:p>
        </p:txBody>
      </p:sp>
      <p:sp>
        <p:nvSpPr>
          <p:cNvPr id="366" name=""/>
          <p:cNvSpPr/>
          <p:nvPr/>
        </p:nvSpPr>
        <p:spPr>
          <a:xfrm>
            <a:off x="507960" y="1600200"/>
            <a:ext cx="152280" cy="1522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07960" y="2438280"/>
            <a:ext cx="152280" cy="15264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07960" y="3276720"/>
            <a:ext cx="152280" cy="1522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07960" y="2895480"/>
            <a:ext cx="152280" cy="15264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07960" y="2057400"/>
            <a:ext cx="152280" cy="1522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1" name="human19" descr=""/>
          <p:cNvPicPr/>
          <p:nvPr/>
        </p:nvPicPr>
        <p:blipFill>
          <a:blip r:embed="rId1"/>
          <a:stretch/>
        </p:blipFill>
        <p:spPr>
          <a:xfrm>
            <a:off x="1600200" y="1143000"/>
            <a:ext cx="6095880" cy="5256360"/>
          </a:xfrm>
          <a:prstGeom prst="rect">
            <a:avLst/>
          </a:prstGeom>
          <a:ln w="0">
            <a:noFill/>
          </a:ln>
        </p:spPr>
      </p:pic>
      <p:sp>
        <p:nvSpPr>
          <p:cNvPr id="372" name=""/>
          <p:cNvSpPr/>
          <p:nvPr/>
        </p:nvSpPr>
        <p:spPr>
          <a:xfrm>
            <a:off x="3163320" y="808200"/>
            <a:ext cx="2975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tomy of the E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3" name=""/>
          <p:cNvGrpSpPr/>
          <p:nvPr/>
        </p:nvGrpSpPr>
        <p:grpSpPr>
          <a:xfrm>
            <a:off x="541800" y="685800"/>
            <a:ext cx="8154000" cy="5638680"/>
            <a:chOff x="541800" y="685800"/>
            <a:chExt cx="8154000" cy="5638680"/>
          </a:xfrm>
        </p:grpSpPr>
        <p:sp>
          <p:nvSpPr>
            <p:cNvPr id="374" name=""/>
            <p:cNvSpPr/>
            <p:nvPr/>
          </p:nvSpPr>
          <p:spPr>
            <a:xfrm>
              <a:off x="2192040" y="3077640"/>
              <a:ext cx="2501280" cy="2118960"/>
            </a:xfrm>
            <a:custGeom>
              <a:avLst/>
              <a:gdLst/>
              <a:ahLst/>
              <a:rect l="l" t="t" r="r" b="b"/>
              <a:pathLst>
                <a:path w="1680" h="1443">
                  <a:moveTo>
                    <a:pt x="0" y="643"/>
                  </a:moveTo>
                  <a:lnTo>
                    <a:pt x="0" y="163"/>
                  </a:lnTo>
                  <a:lnTo>
                    <a:pt x="54" y="51"/>
                  </a:lnTo>
                  <a:lnTo>
                    <a:pt x="146" y="3"/>
                  </a:lnTo>
                  <a:lnTo>
                    <a:pt x="256" y="0"/>
                  </a:lnTo>
                  <a:lnTo>
                    <a:pt x="358" y="29"/>
                  </a:lnTo>
                  <a:lnTo>
                    <a:pt x="432" y="77"/>
                  </a:lnTo>
                  <a:lnTo>
                    <a:pt x="511" y="163"/>
                  </a:lnTo>
                  <a:lnTo>
                    <a:pt x="928" y="339"/>
                  </a:lnTo>
                  <a:lnTo>
                    <a:pt x="1506" y="397"/>
                  </a:lnTo>
                  <a:lnTo>
                    <a:pt x="1624" y="429"/>
                  </a:lnTo>
                  <a:lnTo>
                    <a:pt x="1678" y="466"/>
                  </a:lnTo>
                  <a:lnTo>
                    <a:pt x="1675" y="556"/>
                  </a:lnTo>
                  <a:lnTo>
                    <a:pt x="1607" y="563"/>
                  </a:lnTo>
                  <a:lnTo>
                    <a:pt x="1607" y="723"/>
                  </a:lnTo>
                  <a:lnTo>
                    <a:pt x="1680" y="733"/>
                  </a:lnTo>
                  <a:lnTo>
                    <a:pt x="1680" y="803"/>
                  </a:lnTo>
                  <a:lnTo>
                    <a:pt x="1608" y="873"/>
                  </a:lnTo>
                  <a:lnTo>
                    <a:pt x="1382" y="939"/>
                  </a:lnTo>
                  <a:lnTo>
                    <a:pt x="1229" y="956"/>
                  </a:lnTo>
                  <a:lnTo>
                    <a:pt x="1030" y="961"/>
                  </a:lnTo>
                  <a:lnTo>
                    <a:pt x="653" y="966"/>
                  </a:lnTo>
                  <a:lnTo>
                    <a:pt x="541" y="1017"/>
                  </a:lnTo>
                  <a:lnTo>
                    <a:pt x="458" y="1101"/>
                  </a:lnTo>
                  <a:lnTo>
                    <a:pt x="406" y="1229"/>
                  </a:lnTo>
                  <a:lnTo>
                    <a:pt x="365" y="1363"/>
                  </a:lnTo>
                  <a:lnTo>
                    <a:pt x="310" y="1427"/>
                  </a:lnTo>
                  <a:lnTo>
                    <a:pt x="219" y="1443"/>
                  </a:lnTo>
                  <a:lnTo>
                    <a:pt x="73" y="1443"/>
                  </a:lnTo>
                  <a:lnTo>
                    <a:pt x="0" y="1363"/>
                  </a:lnTo>
                  <a:lnTo>
                    <a:pt x="0" y="643"/>
                  </a:lnTo>
                  <a:close/>
                </a:path>
              </a:pathLst>
            </a:custGeom>
            <a:solidFill>
              <a:srgbClr val="ffffcc"/>
            </a:solid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192040" y="4139640"/>
              <a:ext cx="357120" cy="634320"/>
            </a:xfrm>
            <a:prstGeom prst="flowChartMagneticDrum">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76" name=""/>
            <p:cNvGraphicFramePr/>
            <p:nvPr/>
          </p:nvGraphicFramePr>
          <p:xfrm>
            <a:off x="4907880" y="1249560"/>
            <a:ext cx="3787920" cy="5074920"/>
          </p:xfrm>
          <a:graphic>
            <a:graphicData uri="http://schemas.openxmlformats.org/presentationml/2006/ole">
              <p:oleObj r:id="rId1" spid="">
                <p:embed/>
                <p:pic>
                  <p:nvPicPr>
                    <p:cNvPr id="377" name="" descr=""/>
                    <p:cNvPicPr/>
                    <p:nvPr/>
                  </p:nvPicPr>
                  <p:blipFill>
                    <a:blip r:embed="rId2"/>
                    <a:stretch/>
                  </p:blipFill>
                  <p:spPr>
                    <a:xfrm>
                      <a:off x="4907880" y="1249560"/>
                      <a:ext cx="3787920" cy="5074920"/>
                    </a:xfrm>
                    <a:prstGeom prst="rect">
                      <a:avLst/>
                    </a:prstGeom>
                    <a:ln w="0">
                      <a:noFill/>
                    </a:ln>
                  </p:spPr>
                </p:pic>
              </p:oleObj>
            </a:graphicData>
          </a:graphic>
        </p:graphicFrame>
        <p:sp>
          <p:nvSpPr>
            <p:cNvPr id="378" name=""/>
            <p:cNvSpPr/>
            <p:nvPr/>
          </p:nvSpPr>
          <p:spPr>
            <a:xfrm>
              <a:off x="4264560" y="3927960"/>
              <a:ext cx="357120" cy="140760"/>
            </a:xfrm>
            <a:prstGeom prst="rect">
              <a:avLst/>
            </a:prstGeom>
            <a:solidFill>
              <a:srgbClr val="eaeaea">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427480" y="685800"/>
              <a:ext cx="4484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ring Aids - What’s inside?</a:t>
              </a:r>
              <a:endParaRPr b="0" lang="en-US" sz="2400" spc="-1" strike="noStrike">
                <a:solidFill>
                  <a:srgbClr val="000000"/>
                </a:solidFill>
                <a:latin typeface="Times New Roman"/>
              </a:endParaRPr>
            </a:p>
          </p:txBody>
        </p:sp>
        <p:sp>
          <p:nvSpPr>
            <p:cNvPr id="380" name=""/>
            <p:cNvSpPr/>
            <p:nvPr/>
          </p:nvSpPr>
          <p:spPr>
            <a:xfrm flipH="1">
              <a:off x="2119680" y="4914720"/>
              <a:ext cx="214200" cy="140760"/>
            </a:xfrm>
            <a:prstGeom prst="flowChartMagneticDrum">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2191320" y="4069080"/>
              <a:ext cx="428760" cy="775080"/>
            </a:xfrm>
            <a:prstGeom prst="flowChartMagneticDrum">
              <a:avLst/>
            </a:prstGeom>
            <a:solidFill>
              <a:srgbClr val="ff6600">
                <a:alpha val="50000"/>
              </a:srgbClr>
            </a:solidFill>
            <a:ln w="9360">
              <a:solidFill>
                <a:srgbClr val="000000">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2046600" y="3523680"/>
              <a:ext cx="359280" cy="263160"/>
              <a:chOff x="2046600" y="3523680"/>
              <a:chExt cx="359280" cy="263160"/>
            </a:xfrm>
          </p:grpSpPr>
          <p:sp>
            <p:nvSpPr>
              <p:cNvPr id="383" name=""/>
              <p:cNvSpPr/>
              <p:nvPr/>
            </p:nvSpPr>
            <p:spPr>
              <a:xfrm rot="1942800">
                <a:off x="2048400" y="3575520"/>
                <a:ext cx="214200" cy="70200"/>
              </a:xfrm>
              <a:prstGeom prst="rect">
                <a:avLst/>
              </a:prstGeom>
              <a:solidFill>
                <a:srgbClr val="ff9966"/>
              </a:solidFill>
              <a:ln w="936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384" name=""/>
              <p:cNvSpPr/>
              <p:nvPr/>
            </p:nvSpPr>
            <p:spPr>
              <a:xfrm>
                <a:off x="2191680" y="3575520"/>
                <a:ext cx="214200" cy="21132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5" name=""/>
            <p:cNvSpPr/>
            <p:nvPr/>
          </p:nvSpPr>
          <p:spPr>
            <a:xfrm>
              <a:off x="2192040" y="3857400"/>
              <a:ext cx="142560" cy="14076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386" name=""/>
            <p:cNvCxnSpPr/>
            <p:nvPr/>
          </p:nvCxnSpPr>
          <p:spPr>
            <a:xfrm flipV="1">
              <a:off x="3621600" y="3997800"/>
              <a:ext cx="143280" cy="71280"/>
            </a:xfrm>
            <a:prstGeom prst="curvedConnector5">
              <a:avLst>
                <a:gd name="adj1" fmla="val 49874"/>
                <a:gd name="adj2" fmla="val 49746"/>
                <a:gd name="adj3" fmla="val 49874"/>
              </a:avLst>
            </a:prstGeom>
            <a:ln w="9360">
              <a:solidFill>
                <a:srgbClr val="000000"/>
              </a:solidFill>
              <a:miter/>
            </a:ln>
          </p:spPr>
        </p:cxnSp>
        <p:sp>
          <p:nvSpPr>
            <p:cNvPr id="387" name=""/>
            <p:cNvSpPr/>
            <p:nvPr/>
          </p:nvSpPr>
          <p:spPr>
            <a:xfrm>
              <a:off x="2835360" y="3786840"/>
              <a:ext cx="785880" cy="563760"/>
            </a:xfrm>
            <a:custGeom>
              <a:avLst/>
              <a:gdLst/>
              <a:ahLst/>
              <a:rect l="l" t="t" r="r" b="b"/>
              <a:pathLst>
                <a:path w="528" h="384">
                  <a:moveTo>
                    <a:pt x="0" y="0"/>
                  </a:moveTo>
                  <a:lnTo>
                    <a:pt x="0" y="48"/>
                  </a:lnTo>
                  <a:lnTo>
                    <a:pt x="0" y="96"/>
                  </a:lnTo>
                  <a:lnTo>
                    <a:pt x="0" y="144"/>
                  </a:lnTo>
                  <a:lnTo>
                    <a:pt x="0" y="192"/>
                  </a:lnTo>
                  <a:lnTo>
                    <a:pt x="0" y="240"/>
                  </a:lnTo>
                  <a:lnTo>
                    <a:pt x="0" y="288"/>
                  </a:lnTo>
                  <a:lnTo>
                    <a:pt x="0" y="336"/>
                  </a:lnTo>
                  <a:lnTo>
                    <a:pt x="0" y="384"/>
                  </a:lnTo>
                  <a:lnTo>
                    <a:pt x="528" y="384"/>
                  </a:lnTo>
                  <a:lnTo>
                    <a:pt x="528" y="288"/>
                  </a:lnTo>
                  <a:lnTo>
                    <a:pt x="528" y="240"/>
                  </a:lnTo>
                  <a:lnTo>
                    <a:pt x="528" y="192"/>
                  </a:lnTo>
                  <a:lnTo>
                    <a:pt x="528" y="144"/>
                  </a:lnTo>
                  <a:lnTo>
                    <a:pt x="528" y="96"/>
                  </a:lnTo>
                  <a:lnTo>
                    <a:pt x="528" y="48"/>
                  </a:lnTo>
                  <a:lnTo>
                    <a:pt x="528" y="0"/>
                  </a:lnTo>
                  <a:lnTo>
                    <a:pt x="384" y="0"/>
                  </a:lnTo>
                  <a:lnTo>
                    <a:pt x="336" y="0"/>
                  </a:lnTo>
                  <a:lnTo>
                    <a:pt x="288" y="0"/>
                  </a:lnTo>
                  <a:lnTo>
                    <a:pt x="240" y="0"/>
                  </a:lnTo>
                  <a:lnTo>
                    <a:pt x="144" y="0"/>
                  </a:lnTo>
                  <a:lnTo>
                    <a:pt x="96" y="0"/>
                  </a:lnTo>
                  <a:lnTo>
                    <a:pt x="0" y="0"/>
                  </a:lnTo>
                  <a:close/>
                </a:path>
              </a:pathLst>
            </a:custGeom>
            <a:solidFill>
              <a:srgbClr val="cc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2906640" y="3857400"/>
              <a:ext cx="642960" cy="4226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89" name=""/>
            <p:cNvCxnSpPr>
              <a:stCxn id="390" idx="3"/>
              <a:endCxn id="387" idx="0"/>
            </p:cNvCxnSpPr>
            <p:nvPr/>
          </p:nvCxnSpPr>
          <p:spPr>
            <a:xfrm>
              <a:off x="2477880" y="3399120"/>
              <a:ext cx="572400" cy="388080"/>
            </a:xfrm>
            <a:prstGeom prst="curvedConnector2">
              <a:avLst/>
            </a:prstGeom>
            <a:ln w="9360">
              <a:solidFill>
                <a:srgbClr val="000000"/>
              </a:solidFill>
              <a:miter/>
            </a:ln>
          </p:spPr>
        </p:cxnSp>
        <p:cxnSp>
          <p:nvCxnSpPr>
            <p:cNvPr id="391" name=""/>
            <p:cNvCxnSpPr>
              <a:stCxn id="384" idx="3"/>
              <a:endCxn id="387" idx="1"/>
            </p:cNvCxnSpPr>
            <p:nvPr/>
          </p:nvCxnSpPr>
          <p:spPr>
            <a:xfrm>
              <a:off x="2406240" y="3681000"/>
              <a:ext cx="429480" cy="247320"/>
            </a:xfrm>
            <a:prstGeom prst="curvedConnector5">
              <a:avLst>
                <a:gd name="adj1" fmla="val 50000"/>
                <a:gd name="adj2" fmla="val 50000"/>
                <a:gd name="adj3" fmla="val 50000"/>
              </a:avLst>
            </a:prstGeom>
            <a:ln w="9360">
              <a:solidFill>
                <a:srgbClr val="000000"/>
              </a:solidFill>
              <a:miter/>
            </a:ln>
          </p:spPr>
        </p:cxnSp>
        <p:cxnSp>
          <p:nvCxnSpPr>
            <p:cNvPr id="392" name=""/>
            <p:cNvCxnSpPr>
              <a:stCxn id="385" idx="6"/>
              <a:endCxn id="387" idx="2"/>
            </p:cNvCxnSpPr>
            <p:nvPr/>
          </p:nvCxnSpPr>
          <p:spPr>
            <a:xfrm>
              <a:off x="2352960" y="3927600"/>
              <a:ext cx="483120" cy="70920"/>
            </a:xfrm>
            <a:prstGeom prst="curvedConnector5">
              <a:avLst>
                <a:gd name="adj1" fmla="val 48098"/>
                <a:gd name="adj2" fmla="val 50000"/>
                <a:gd name="adj3" fmla="val 48098"/>
              </a:avLst>
            </a:prstGeom>
            <a:ln w="9360">
              <a:solidFill>
                <a:srgbClr val="000000"/>
              </a:solidFill>
              <a:miter/>
            </a:ln>
          </p:spPr>
        </p:cxnSp>
        <p:cxnSp>
          <p:nvCxnSpPr>
            <p:cNvPr id="393" name=""/>
            <p:cNvCxnSpPr>
              <a:stCxn id="375" idx="1"/>
              <a:endCxn id="387" idx="3"/>
            </p:cNvCxnSpPr>
            <p:nvPr/>
          </p:nvCxnSpPr>
          <p:spPr>
            <a:xfrm flipV="1">
              <a:off x="2549160" y="4209120"/>
              <a:ext cx="286560" cy="245880"/>
            </a:xfrm>
            <a:prstGeom prst="curvedConnector5">
              <a:avLst>
                <a:gd name="adj1" fmla="val 49937"/>
                <a:gd name="adj2" fmla="val 50000"/>
                <a:gd name="adj3" fmla="val 49937"/>
              </a:avLst>
            </a:prstGeom>
            <a:ln w="9360">
              <a:solidFill>
                <a:srgbClr val="000000"/>
              </a:solidFill>
              <a:miter/>
            </a:ln>
          </p:spPr>
        </p:cxnSp>
        <p:cxnSp>
          <p:nvCxnSpPr>
            <p:cNvPr id="394" name=""/>
            <p:cNvCxnSpPr>
              <a:stCxn id="380" idx="1"/>
              <a:endCxn id="387" idx="4"/>
            </p:cNvCxnSpPr>
            <p:nvPr/>
          </p:nvCxnSpPr>
          <p:spPr>
            <a:xfrm flipV="1">
              <a:off x="2334960" y="4279680"/>
              <a:ext cx="501120" cy="703800"/>
            </a:xfrm>
            <a:prstGeom prst="curvedConnector5">
              <a:avLst>
                <a:gd name="adj1" fmla="val 69877"/>
                <a:gd name="adj2" fmla="val 50000"/>
                <a:gd name="adj3" fmla="val 69877"/>
              </a:avLst>
            </a:prstGeom>
            <a:ln w="9360">
              <a:solidFill>
                <a:srgbClr val="000000"/>
              </a:solidFill>
              <a:miter/>
            </a:ln>
          </p:spPr>
        </p:cxnSp>
        <p:sp>
          <p:nvSpPr>
            <p:cNvPr id="395" name=""/>
            <p:cNvSpPr/>
            <p:nvPr/>
          </p:nvSpPr>
          <p:spPr>
            <a:xfrm>
              <a:off x="2160720" y="3363840"/>
              <a:ext cx="71280" cy="70560"/>
            </a:xfrm>
            <a:prstGeom prst="rect">
              <a:avLst/>
            </a:prstGeom>
            <a:solidFill>
              <a:srgbClr val="eaeaea">
                <a:alpha val="50000"/>
              </a:srgbClr>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nvGrpSpPr>
            <p:cNvPr id="396" name=""/>
            <p:cNvGrpSpPr/>
            <p:nvPr/>
          </p:nvGrpSpPr>
          <p:grpSpPr>
            <a:xfrm>
              <a:off x="2192040" y="3293640"/>
              <a:ext cx="285120" cy="211320"/>
              <a:chOff x="2192040" y="3293640"/>
              <a:chExt cx="285120" cy="211320"/>
            </a:xfrm>
          </p:grpSpPr>
          <p:sp>
            <p:nvSpPr>
              <p:cNvPr id="390" name=""/>
              <p:cNvSpPr/>
              <p:nvPr/>
            </p:nvSpPr>
            <p:spPr>
              <a:xfrm>
                <a:off x="2262960" y="3293640"/>
                <a:ext cx="214200" cy="2113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2192040" y="3364200"/>
                <a:ext cx="70920" cy="70200"/>
              </a:xfrm>
              <a:prstGeom prst="rect">
                <a:avLst/>
              </a:prstGeom>
              <a:solidFill>
                <a:srgbClr val="808080"/>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grpSp>
        <p:sp>
          <p:nvSpPr>
            <p:cNvPr id="398" name=""/>
            <p:cNvSpPr/>
            <p:nvPr/>
          </p:nvSpPr>
          <p:spPr>
            <a:xfrm>
              <a:off x="2477880" y="3328920"/>
              <a:ext cx="642960" cy="457560"/>
            </a:xfrm>
            <a:custGeom>
              <a:avLst/>
              <a:gdLst/>
              <a:ahLst/>
              <a:rect l="l" t="t" r="r" b="b"/>
              <a:pathLst>
                <a:path w="432" h="312">
                  <a:moveTo>
                    <a:pt x="0" y="24"/>
                  </a:moveTo>
                  <a:cubicBezTo>
                    <a:pt x="64" y="12"/>
                    <a:pt x="128" y="0"/>
                    <a:pt x="192" y="24"/>
                  </a:cubicBezTo>
                  <a:cubicBezTo>
                    <a:pt x="256" y="48"/>
                    <a:pt x="344" y="120"/>
                    <a:pt x="384" y="168"/>
                  </a:cubicBezTo>
                  <a:cubicBezTo>
                    <a:pt x="424" y="216"/>
                    <a:pt x="424" y="288"/>
                    <a:pt x="432" y="3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2406600" y="3631320"/>
              <a:ext cx="428760" cy="226080"/>
            </a:xfrm>
            <a:custGeom>
              <a:avLst/>
              <a:gdLst/>
              <a:ahLst/>
              <a:rect l="l" t="t" r="r" b="b"/>
              <a:pathLst>
                <a:path w="288" h="154">
                  <a:moveTo>
                    <a:pt x="0" y="10"/>
                  </a:moveTo>
                  <a:cubicBezTo>
                    <a:pt x="20" y="12"/>
                    <a:pt x="74" y="0"/>
                    <a:pt x="122" y="24"/>
                  </a:cubicBezTo>
                  <a:cubicBezTo>
                    <a:pt x="170" y="48"/>
                    <a:pt x="254" y="127"/>
                    <a:pt x="288" y="15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342520" y="3966120"/>
              <a:ext cx="492840" cy="102600"/>
            </a:xfrm>
            <a:custGeom>
              <a:avLst/>
              <a:gdLst/>
              <a:ahLst/>
              <a:rect l="l" t="t" r="r" b="b"/>
              <a:pathLst>
                <a:path w="331" h="70">
                  <a:moveTo>
                    <a:pt x="0" y="0"/>
                  </a:moveTo>
                  <a:cubicBezTo>
                    <a:pt x="19" y="2"/>
                    <a:pt x="78" y="6"/>
                    <a:pt x="113" y="15"/>
                  </a:cubicBezTo>
                  <a:cubicBezTo>
                    <a:pt x="148" y="24"/>
                    <a:pt x="177" y="47"/>
                    <a:pt x="213" y="56"/>
                  </a:cubicBezTo>
                  <a:cubicBezTo>
                    <a:pt x="249" y="65"/>
                    <a:pt x="307" y="67"/>
                    <a:pt x="331" y="7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2549160" y="4139640"/>
              <a:ext cx="285840" cy="211320"/>
            </a:xfrm>
            <a:custGeom>
              <a:avLst/>
              <a:gdLst/>
              <a:ahLst/>
              <a:rect l="l" t="t" r="r" b="b"/>
              <a:pathLst>
                <a:path w="192" h="144">
                  <a:moveTo>
                    <a:pt x="0" y="144"/>
                  </a:moveTo>
                  <a:cubicBezTo>
                    <a:pt x="10" y="138"/>
                    <a:pt x="46" y="122"/>
                    <a:pt x="62" y="106"/>
                  </a:cubicBezTo>
                  <a:cubicBezTo>
                    <a:pt x="78" y="90"/>
                    <a:pt x="74" y="66"/>
                    <a:pt x="96" y="48"/>
                  </a:cubicBezTo>
                  <a:cubicBezTo>
                    <a:pt x="118" y="30"/>
                    <a:pt x="176" y="8"/>
                    <a:pt x="192"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2331720" y="4350960"/>
              <a:ext cx="570240" cy="661680"/>
            </a:xfrm>
            <a:custGeom>
              <a:avLst/>
              <a:gdLst/>
              <a:ahLst/>
              <a:rect l="l" t="t" r="r" b="b"/>
              <a:pathLst>
                <a:path w="383" h="451">
                  <a:moveTo>
                    <a:pt x="0" y="451"/>
                  </a:moveTo>
                  <a:cubicBezTo>
                    <a:pt x="16" y="448"/>
                    <a:pt x="60" y="451"/>
                    <a:pt x="98" y="432"/>
                  </a:cubicBezTo>
                  <a:cubicBezTo>
                    <a:pt x="136" y="413"/>
                    <a:pt x="197" y="390"/>
                    <a:pt x="230" y="334"/>
                  </a:cubicBezTo>
                  <a:cubicBezTo>
                    <a:pt x="263" y="278"/>
                    <a:pt x="274" y="148"/>
                    <a:pt x="297" y="98"/>
                  </a:cubicBezTo>
                  <a:cubicBezTo>
                    <a:pt x="320" y="48"/>
                    <a:pt x="355" y="52"/>
                    <a:pt x="369" y="36"/>
                  </a:cubicBezTo>
                  <a:cubicBezTo>
                    <a:pt x="383" y="20"/>
                    <a:pt x="379" y="7"/>
                    <a:pt x="381"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621600" y="3955680"/>
              <a:ext cx="145800" cy="47160"/>
            </a:xfrm>
            <a:custGeom>
              <a:avLst/>
              <a:gdLst/>
              <a:ahLst/>
              <a:rect l="l" t="t" r="r" b="b"/>
              <a:pathLst>
                <a:path w="98" h="32">
                  <a:moveTo>
                    <a:pt x="98" y="0"/>
                  </a:moveTo>
                  <a:cubicBezTo>
                    <a:pt x="87" y="5"/>
                    <a:pt x="50" y="22"/>
                    <a:pt x="34" y="27"/>
                  </a:cubicBezTo>
                  <a:cubicBezTo>
                    <a:pt x="18" y="32"/>
                    <a:pt x="7" y="29"/>
                    <a:pt x="0" y="29"/>
                  </a:cubicBezTo>
                </a:path>
              </a:pathLst>
            </a:custGeom>
            <a:noFill/>
            <a:ln w="9360">
              <a:solidFill>
                <a:srgbClr val="000000"/>
              </a:solidFill>
              <a:round/>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404" name=""/>
            <p:cNvSpPr/>
            <p:nvPr/>
          </p:nvSpPr>
          <p:spPr>
            <a:xfrm>
              <a:off x="4193280" y="3927960"/>
              <a:ext cx="142920" cy="1407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480120" y="31525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406" name=""/>
            <p:cNvSpPr/>
            <p:nvPr/>
          </p:nvSpPr>
          <p:spPr>
            <a:xfrm>
              <a:off x="575640" y="2629800"/>
              <a:ext cx="13284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crophone</a:t>
              </a:r>
              <a:endParaRPr b="0" lang="en-US" sz="1600" spc="-1" strike="noStrike">
                <a:solidFill>
                  <a:srgbClr val="000000"/>
                </a:solidFill>
                <a:latin typeface="Times New Roman"/>
              </a:endParaRPr>
            </a:p>
          </p:txBody>
        </p:sp>
        <p:sp>
          <p:nvSpPr>
            <p:cNvPr id="407" name=""/>
            <p:cNvSpPr/>
            <p:nvPr/>
          </p:nvSpPr>
          <p:spPr>
            <a:xfrm>
              <a:off x="1025640" y="4280400"/>
              <a:ext cx="8787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tery</a:t>
              </a:r>
              <a:endParaRPr b="0" lang="en-US" sz="1600" spc="-1" strike="noStrike">
                <a:solidFill>
                  <a:srgbClr val="000000"/>
                </a:solidFill>
                <a:latin typeface="Times New Roman"/>
              </a:endParaRPr>
            </a:p>
          </p:txBody>
        </p:sp>
        <p:sp>
          <p:nvSpPr>
            <p:cNvPr id="408" name=""/>
            <p:cNvSpPr/>
            <p:nvPr/>
          </p:nvSpPr>
          <p:spPr>
            <a:xfrm>
              <a:off x="960120" y="4844160"/>
              <a:ext cx="94428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urnpot</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just</a:t>
              </a:r>
              <a:endParaRPr b="0" lang="en-US" sz="1600" spc="-1" strike="noStrike">
                <a:solidFill>
                  <a:srgbClr val="000000"/>
                </a:solidFill>
                <a:latin typeface="Times New Roman"/>
              </a:endParaRPr>
            </a:p>
          </p:txBody>
        </p:sp>
        <p:sp>
          <p:nvSpPr>
            <p:cNvPr id="409" name=""/>
            <p:cNvSpPr/>
            <p:nvPr/>
          </p:nvSpPr>
          <p:spPr>
            <a:xfrm>
              <a:off x="3696840" y="5337720"/>
              <a:ext cx="140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lded shell</a:t>
              </a:r>
              <a:endParaRPr b="0" lang="en-US" sz="1600" spc="-1" strike="noStrike">
                <a:solidFill>
                  <a:srgbClr val="000000"/>
                </a:solidFill>
                <a:latin typeface="Times New Roman"/>
              </a:endParaRPr>
            </a:p>
          </p:txBody>
        </p:sp>
        <p:sp>
          <p:nvSpPr>
            <p:cNvPr id="410" name=""/>
            <p:cNvSpPr/>
            <p:nvPr/>
          </p:nvSpPr>
          <p:spPr>
            <a:xfrm>
              <a:off x="4410360" y="4844160"/>
              <a:ext cx="131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stic tube</a:t>
              </a:r>
              <a:endParaRPr b="0" lang="en-US" sz="1600" spc="-1" strike="noStrike">
                <a:solidFill>
                  <a:srgbClr val="000000"/>
                </a:solidFill>
                <a:latin typeface="Times New Roman"/>
              </a:endParaRPr>
            </a:p>
          </p:txBody>
        </p:sp>
        <p:sp>
          <p:nvSpPr>
            <p:cNvPr id="411" name=""/>
            <p:cNvSpPr/>
            <p:nvPr/>
          </p:nvSpPr>
          <p:spPr>
            <a:xfrm>
              <a:off x="541800" y="3179160"/>
              <a:ext cx="136044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 Off / TC</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witch</a:t>
              </a:r>
              <a:endParaRPr b="0" lang="en-US" sz="1600" spc="-1" strike="noStrike">
                <a:solidFill>
                  <a:srgbClr val="000000"/>
                </a:solidFill>
                <a:latin typeface="Times New Roman"/>
              </a:endParaRPr>
            </a:p>
          </p:txBody>
        </p:sp>
        <p:sp>
          <p:nvSpPr>
            <p:cNvPr id="412" name=""/>
            <p:cNvSpPr/>
            <p:nvPr/>
          </p:nvSpPr>
          <p:spPr>
            <a:xfrm>
              <a:off x="970920" y="3786840"/>
              <a:ext cx="9352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lecoil</a:t>
              </a:r>
              <a:endParaRPr b="0" lang="en-US" sz="1600" spc="-1" strike="noStrike">
                <a:solidFill>
                  <a:srgbClr val="000000"/>
                </a:solidFill>
                <a:latin typeface="Times New Roman"/>
              </a:endParaRPr>
            </a:p>
          </p:txBody>
        </p:sp>
        <p:sp>
          <p:nvSpPr>
            <p:cNvPr id="413" name=""/>
            <p:cNvSpPr/>
            <p:nvPr/>
          </p:nvSpPr>
          <p:spPr>
            <a:xfrm>
              <a:off x="2839320" y="2448000"/>
              <a:ext cx="1159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rat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ircuit</a:t>
              </a:r>
              <a:endParaRPr b="0" lang="en-US" sz="1600" spc="-1" strike="noStrike">
                <a:solidFill>
                  <a:srgbClr val="000000"/>
                </a:solidFill>
                <a:latin typeface="Times New Roman"/>
              </a:endParaRPr>
            </a:p>
          </p:txBody>
        </p:sp>
        <p:sp>
          <p:nvSpPr>
            <p:cNvPr id="414" name=""/>
            <p:cNvSpPr/>
            <p:nvPr/>
          </p:nvSpPr>
          <p:spPr>
            <a:xfrm>
              <a:off x="1834560" y="2870640"/>
              <a:ext cx="285840" cy="49284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834560" y="3646080"/>
              <a:ext cx="214200" cy="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1834560" y="3927960"/>
              <a:ext cx="285840" cy="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834560" y="4421160"/>
              <a:ext cx="285840" cy="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834560" y="4985280"/>
              <a:ext cx="214200" cy="0"/>
            </a:xfrm>
            <a:prstGeom prst="line">
              <a:avLst/>
            </a:prstGeom>
            <a:ln w="936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419" name=""/>
            <p:cNvCxnSpPr>
              <a:stCxn id="409" idx="0"/>
              <a:endCxn id="374" idx="0"/>
            </p:cNvCxnSpPr>
            <p:nvPr/>
          </p:nvCxnSpPr>
          <p:spPr>
            <a:xfrm flipV="1" rot="16200000">
              <a:off x="3633840" y="4614480"/>
              <a:ext cx="813960" cy="631800"/>
            </a:xfrm>
            <a:prstGeom prst="curvedConnector5">
              <a:avLst>
                <a:gd name="adj1" fmla="val 8628"/>
                <a:gd name="adj2" fmla="val 50000"/>
                <a:gd name="adj3" fmla="val 8628"/>
              </a:avLst>
            </a:prstGeom>
            <a:ln w="9360">
              <a:solidFill>
                <a:srgbClr val="b2b2b2"/>
              </a:solidFill>
              <a:miter/>
              <a:tailEnd len="med" type="triangle" w="med"/>
            </a:ln>
          </p:spPr>
        </p:cxnSp>
        <p:cxnSp>
          <p:nvCxnSpPr>
            <p:cNvPr id="420" name=""/>
            <p:cNvCxnSpPr>
              <a:stCxn id="410" idx="0"/>
              <a:endCxn id="378" idx="2"/>
            </p:cNvCxnSpPr>
            <p:nvPr/>
          </p:nvCxnSpPr>
          <p:spPr>
            <a:xfrm flipV="1" rot="16200000">
              <a:off x="4348800" y="4162320"/>
              <a:ext cx="775800" cy="587520"/>
            </a:xfrm>
            <a:prstGeom prst="curvedConnector5">
              <a:avLst>
                <a:gd name="adj1" fmla="val 50000"/>
                <a:gd name="adj2" fmla="val 49969"/>
                <a:gd name="adj3" fmla="val 50000"/>
              </a:avLst>
            </a:prstGeom>
            <a:ln w="9360">
              <a:solidFill>
                <a:srgbClr val="b2b2b2"/>
              </a:solidFill>
              <a:miter/>
              <a:tailEnd len="med" type="triangle" w="med"/>
            </a:ln>
          </p:spPr>
        </p:cxnSp>
        <p:cxnSp>
          <p:nvCxnSpPr>
            <p:cNvPr id="421" name=""/>
            <p:cNvCxnSpPr>
              <a:stCxn id="405" idx="2"/>
            </p:cNvCxnSpPr>
            <p:nvPr/>
          </p:nvCxnSpPr>
          <p:spPr>
            <a:xfrm flipH="1" rot="16200000">
              <a:off x="3772800" y="3652200"/>
              <a:ext cx="394200" cy="16920"/>
            </a:xfrm>
            <a:prstGeom prst="curvedConnector5">
              <a:avLst>
                <a:gd name="adj1" fmla="val 50000"/>
                <a:gd name="adj2" fmla="val 50000"/>
                <a:gd name="adj3" fmla="val 50000"/>
              </a:avLst>
            </a:prstGeom>
            <a:ln w="9360">
              <a:solidFill>
                <a:srgbClr val="b2b2b2"/>
              </a:solidFill>
              <a:miter/>
              <a:tailEnd len="med" type="triangle" w="med"/>
            </a:ln>
          </p:spPr>
        </p:cxnSp>
        <p:cxnSp>
          <p:nvCxnSpPr>
            <p:cNvPr id="422" name=""/>
            <p:cNvCxnSpPr>
              <a:stCxn id="413" idx="2"/>
              <a:endCxn id="387" idx="5"/>
            </p:cNvCxnSpPr>
            <p:nvPr/>
          </p:nvCxnSpPr>
          <p:spPr>
            <a:xfrm rot="5400000">
              <a:off x="2957760" y="3362400"/>
              <a:ext cx="802080" cy="48240"/>
            </a:xfrm>
            <a:prstGeom prst="curvedConnector5">
              <a:avLst>
                <a:gd name="adj1" fmla="val 49977"/>
                <a:gd name="adj2" fmla="val 49624"/>
                <a:gd name="adj3" fmla="val 49977"/>
              </a:avLst>
            </a:prstGeom>
            <a:ln w="9360">
              <a:solidFill>
                <a:srgbClr val="b2b2b2"/>
              </a:solidFill>
              <a:miter/>
              <a:tailEnd len="med" type="triangle" w="med"/>
            </a:ln>
          </p:spPr>
        </p:cxnSp>
        <p:sp>
          <p:nvSpPr>
            <p:cNvPr id="423" name=""/>
            <p:cNvSpPr/>
            <p:nvPr/>
          </p:nvSpPr>
          <p:spPr>
            <a:xfrm>
              <a:off x="2766240" y="5337720"/>
              <a:ext cx="81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ring</a:t>
              </a:r>
              <a:endParaRPr b="0" lang="en-US" sz="1600" spc="-1" strike="noStrike">
                <a:solidFill>
                  <a:srgbClr val="000000"/>
                </a:solidFill>
                <a:latin typeface="Times New Roman"/>
              </a:endParaRPr>
            </a:p>
          </p:txBody>
        </p:sp>
        <p:cxnSp>
          <p:nvCxnSpPr>
            <p:cNvPr id="424" name=""/>
            <p:cNvCxnSpPr>
              <a:stCxn id="423" idx="0"/>
              <a:endCxn id="402" idx="0"/>
            </p:cNvCxnSpPr>
            <p:nvPr/>
          </p:nvCxnSpPr>
          <p:spPr>
            <a:xfrm flipV="1" rot="16200000">
              <a:off x="2636280" y="4825800"/>
              <a:ext cx="352800" cy="670680"/>
            </a:xfrm>
            <a:prstGeom prst="curvedConnector5">
              <a:avLst>
                <a:gd name="adj1" fmla="val 45760"/>
                <a:gd name="adj2" fmla="val 50000"/>
                <a:gd name="adj3" fmla="val 45760"/>
              </a:avLst>
            </a:prstGeom>
            <a:ln w="9360">
              <a:solidFill>
                <a:srgbClr val="b2b2b2"/>
              </a:solidFill>
              <a:miter/>
              <a:tailEnd len="med" type="triangle" w="med"/>
            </a:ln>
          </p:spPr>
        </p:cxnSp>
        <p:sp>
          <p:nvSpPr>
            <p:cNvPr id="425" name=""/>
            <p:cNvSpPr/>
            <p:nvPr/>
          </p:nvSpPr>
          <p:spPr>
            <a:xfrm>
              <a:off x="3764160" y="3857400"/>
              <a:ext cx="428760" cy="281880"/>
            </a:xfrm>
            <a:prstGeom prst="roundRect">
              <a:avLst>
                <a:gd name="adj" fmla="val 16667"/>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3049920" y="762120"/>
            <a:ext cx="3042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ring Aids Styles</a:t>
            </a:r>
            <a:endParaRPr b="0" lang="en-US" sz="2400" spc="-1" strike="noStrike">
              <a:solidFill>
                <a:srgbClr val="000000"/>
              </a:solidFill>
              <a:latin typeface="Times New Roman"/>
            </a:endParaRPr>
          </a:p>
        </p:txBody>
      </p:sp>
      <p:sp>
        <p:nvSpPr>
          <p:cNvPr id="427" name=""/>
          <p:cNvSpPr/>
          <p:nvPr/>
        </p:nvSpPr>
        <p:spPr>
          <a:xfrm>
            <a:off x="1469880" y="3409920"/>
            <a:ext cx="792360" cy="371520"/>
          </a:xfrm>
          <a:custGeom>
            <a:avLst/>
            <a:gdLst/>
            <a:ahLst/>
            <a:rect l="l" t="t" r="r" b="b"/>
            <a:pathLst>
              <a:path w="499" h="234">
                <a:moveTo>
                  <a:pt x="0" y="116"/>
                </a:moveTo>
                <a:lnTo>
                  <a:pt x="0" y="20"/>
                </a:lnTo>
                <a:lnTo>
                  <a:pt x="58" y="0"/>
                </a:lnTo>
                <a:lnTo>
                  <a:pt x="108" y="2"/>
                </a:lnTo>
                <a:lnTo>
                  <a:pt x="152" y="20"/>
                </a:lnTo>
                <a:lnTo>
                  <a:pt x="276" y="55"/>
                </a:lnTo>
                <a:lnTo>
                  <a:pt x="447" y="67"/>
                </a:lnTo>
                <a:lnTo>
                  <a:pt x="482" y="73"/>
                </a:lnTo>
                <a:lnTo>
                  <a:pt x="498" y="81"/>
                </a:lnTo>
                <a:lnTo>
                  <a:pt x="498" y="99"/>
                </a:lnTo>
                <a:lnTo>
                  <a:pt x="477" y="100"/>
                </a:lnTo>
                <a:lnTo>
                  <a:pt x="477" y="132"/>
                </a:lnTo>
                <a:lnTo>
                  <a:pt x="499" y="134"/>
                </a:lnTo>
                <a:lnTo>
                  <a:pt x="499" y="148"/>
                </a:lnTo>
                <a:lnTo>
                  <a:pt x="478" y="162"/>
                </a:lnTo>
                <a:lnTo>
                  <a:pt x="432" y="204"/>
                </a:lnTo>
                <a:lnTo>
                  <a:pt x="392" y="212"/>
                </a:lnTo>
                <a:lnTo>
                  <a:pt x="329" y="214"/>
                </a:lnTo>
                <a:lnTo>
                  <a:pt x="234" y="218"/>
                </a:lnTo>
                <a:lnTo>
                  <a:pt x="120" y="228"/>
                </a:lnTo>
                <a:lnTo>
                  <a:pt x="90" y="230"/>
                </a:lnTo>
                <a:lnTo>
                  <a:pt x="30" y="234"/>
                </a:lnTo>
                <a:lnTo>
                  <a:pt x="1" y="212"/>
                </a:lnTo>
                <a:lnTo>
                  <a:pt x="0" y="116"/>
                </a:lnTo>
                <a:close/>
              </a:path>
            </a:pathLst>
          </a:custGeom>
          <a:solidFill>
            <a:srgbClr val="ffffcc">
              <a:alpha val="50000"/>
            </a:srgbClr>
          </a:solid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8" name=""/>
          <p:cNvGrpSpPr/>
          <p:nvPr/>
        </p:nvGrpSpPr>
        <p:grpSpPr>
          <a:xfrm>
            <a:off x="3504960" y="3238560"/>
            <a:ext cx="1293840" cy="762120"/>
            <a:chOff x="3504960" y="3238560"/>
            <a:chExt cx="1293840" cy="762120"/>
          </a:xfrm>
        </p:grpSpPr>
        <p:sp>
          <p:nvSpPr>
            <p:cNvPr id="429" name=""/>
            <p:cNvSpPr/>
            <p:nvPr/>
          </p:nvSpPr>
          <p:spPr>
            <a:xfrm flipH="1">
              <a:off x="3573360" y="3619440"/>
              <a:ext cx="174960" cy="228600"/>
            </a:xfrm>
            <a:prstGeom prst="flowChartMagneticDrum">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4588920" y="3543480"/>
              <a:ext cx="174960" cy="50760"/>
            </a:xfrm>
            <a:prstGeom prst="rect">
              <a:avLst/>
            </a:prstGeom>
            <a:solidFill>
              <a:srgbClr val="eaeaea">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31" name=""/>
            <p:cNvSpPr/>
            <p:nvPr/>
          </p:nvSpPr>
          <p:spPr>
            <a:xfrm flipH="1">
              <a:off x="3537720" y="3899160"/>
              <a:ext cx="104760" cy="50760"/>
            </a:xfrm>
            <a:prstGeom prst="flowChartMagneticDrum">
              <a:avLst/>
            </a:prstGeom>
            <a:solidFill>
              <a:srgbClr val="ff9966"/>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432" name=""/>
            <p:cNvSpPr/>
            <p:nvPr/>
          </p:nvSpPr>
          <p:spPr>
            <a:xfrm flipH="1">
              <a:off x="3572640" y="3594240"/>
              <a:ext cx="209880" cy="279360"/>
            </a:xfrm>
            <a:prstGeom prst="flowChartMagneticDrum">
              <a:avLst/>
            </a:prstGeom>
            <a:solidFill>
              <a:srgbClr val="ff6600">
                <a:alpha val="50000"/>
              </a:srgbClr>
            </a:solidFill>
            <a:ln w="9360">
              <a:solidFill>
                <a:srgbClr val="000000">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3" name=""/>
            <p:cNvGrpSpPr/>
            <p:nvPr/>
          </p:nvGrpSpPr>
          <p:grpSpPr>
            <a:xfrm>
              <a:off x="3504960" y="3390120"/>
              <a:ext cx="173160" cy="101880"/>
              <a:chOff x="3504960" y="3390120"/>
              <a:chExt cx="173160" cy="101880"/>
            </a:xfrm>
          </p:grpSpPr>
          <p:sp>
            <p:nvSpPr>
              <p:cNvPr id="434" name=""/>
              <p:cNvSpPr/>
              <p:nvPr/>
            </p:nvSpPr>
            <p:spPr>
              <a:xfrm rot="1942800">
                <a:off x="3503160" y="3416040"/>
                <a:ext cx="104760" cy="25200"/>
              </a:xfrm>
              <a:prstGeom prst="rect">
                <a:avLst/>
              </a:prstGeom>
              <a:solidFill>
                <a:srgbClr val="ff9966"/>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435" name=""/>
              <p:cNvSpPr/>
              <p:nvPr/>
            </p:nvSpPr>
            <p:spPr>
              <a:xfrm>
                <a:off x="3573360" y="3416040"/>
                <a:ext cx="104760" cy="75960"/>
              </a:xfrm>
              <a:prstGeom prst="rect">
                <a:avLst/>
              </a:prstGeom>
              <a:solidFill>
                <a:srgbClr val="ff9966"/>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
          <p:nvSpPr>
            <p:cNvPr id="436" name=""/>
            <p:cNvSpPr/>
            <p:nvPr/>
          </p:nvSpPr>
          <p:spPr>
            <a:xfrm>
              <a:off x="3573360" y="3517920"/>
              <a:ext cx="69840" cy="50760"/>
            </a:xfrm>
            <a:prstGeom prst="ellipse">
              <a:avLst/>
            </a:prstGeom>
            <a:noFill/>
            <a:ln w="38160">
              <a:solidFill>
                <a:srgbClr val="3333cc"/>
              </a:solidFill>
              <a:miter/>
            </a:ln>
          </p:spPr>
          <p:style>
            <a:lnRef idx="0"/>
            <a:fillRef idx="0"/>
            <a:effectRef idx="0"/>
            <a:fontRef idx="minor"/>
          </p:style>
          <p:txBody>
            <a:bodyPr wrap="none"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437" name=""/>
            <p:cNvCxnSpPr/>
            <p:nvPr/>
          </p:nvCxnSpPr>
          <p:spPr>
            <a:xfrm flipV="1">
              <a:off x="4273920" y="3568320"/>
              <a:ext cx="70200" cy="25920"/>
            </a:xfrm>
            <a:prstGeom prst="curvedConnector5">
              <a:avLst>
                <a:gd name="adj1" fmla="val 50000"/>
                <a:gd name="adj2" fmla="val 49295"/>
                <a:gd name="adj3" fmla="val 50000"/>
              </a:avLst>
            </a:prstGeom>
            <a:ln w="9360">
              <a:solidFill>
                <a:srgbClr val="000000"/>
              </a:solidFill>
              <a:miter/>
            </a:ln>
          </p:spPr>
        </p:cxnSp>
        <p:sp>
          <p:nvSpPr>
            <p:cNvPr id="438" name=""/>
            <p:cNvSpPr/>
            <p:nvPr/>
          </p:nvSpPr>
          <p:spPr>
            <a:xfrm>
              <a:off x="3888720" y="3492360"/>
              <a:ext cx="384840" cy="203040"/>
            </a:xfrm>
            <a:custGeom>
              <a:avLst/>
              <a:gdLst/>
              <a:ahLst/>
              <a:rect l="l" t="t" r="r" b="b"/>
              <a:pathLst>
                <a:path w="528" h="384">
                  <a:moveTo>
                    <a:pt x="0" y="0"/>
                  </a:moveTo>
                  <a:lnTo>
                    <a:pt x="0" y="48"/>
                  </a:lnTo>
                  <a:lnTo>
                    <a:pt x="0" y="96"/>
                  </a:lnTo>
                  <a:lnTo>
                    <a:pt x="0" y="144"/>
                  </a:lnTo>
                  <a:lnTo>
                    <a:pt x="0" y="192"/>
                  </a:lnTo>
                  <a:lnTo>
                    <a:pt x="0" y="240"/>
                  </a:lnTo>
                  <a:lnTo>
                    <a:pt x="0" y="288"/>
                  </a:lnTo>
                  <a:lnTo>
                    <a:pt x="0" y="336"/>
                  </a:lnTo>
                  <a:lnTo>
                    <a:pt x="0" y="384"/>
                  </a:lnTo>
                  <a:lnTo>
                    <a:pt x="528" y="384"/>
                  </a:lnTo>
                  <a:lnTo>
                    <a:pt x="528" y="288"/>
                  </a:lnTo>
                  <a:lnTo>
                    <a:pt x="528" y="240"/>
                  </a:lnTo>
                  <a:lnTo>
                    <a:pt x="528" y="192"/>
                  </a:lnTo>
                  <a:lnTo>
                    <a:pt x="528" y="144"/>
                  </a:lnTo>
                  <a:lnTo>
                    <a:pt x="528" y="96"/>
                  </a:lnTo>
                  <a:lnTo>
                    <a:pt x="528" y="48"/>
                  </a:lnTo>
                  <a:lnTo>
                    <a:pt x="528" y="0"/>
                  </a:lnTo>
                  <a:lnTo>
                    <a:pt x="384" y="0"/>
                  </a:lnTo>
                  <a:lnTo>
                    <a:pt x="336" y="0"/>
                  </a:lnTo>
                  <a:lnTo>
                    <a:pt x="288" y="0"/>
                  </a:lnTo>
                  <a:lnTo>
                    <a:pt x="240" y="0"/>
                  </a:lnTo>
                  <a:lnTo>
                    <a:pt x="144" y="0"/>
                  </a:lnTo>
                  <a:lnTo>
                    <a:pt x="96" y="0"/>
                  </a:lnTo>
                  <a:lnTo>
                    <a:pt x="0" y="0"/>
                  </a:lnTo>
                  <a:close/>
                </a:path>
              </a:pathLst>
            </a:custGeom>
            <a:solidFill>
              <a:srgbClr val="cc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3923640" y="3517920"/>
              <a:ext cx="315000" cy="1522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0" name=""/>
            <p:cNvCxnSpPr>
              <a:stCxn id="441" idx="3"/>
              <a:endCxn id="438" idx="0"/>
            </p:cNvCxnSpPr>
            <p:nvPr/>
          </p:nvCxnSpPr>
          <p:spPr>
            <a:xfrm>
              <a:off x="3713400" y="3352680"/>
              <a:ext cx="280800" cy="140400"/>
            </a:xfrm>
            <a:prstGeom prst="curvedConnector2">
              <a:avLst/>
            </a:prstGeom>
            <a:ln w="9360">
              <a:solidFill>
                <a:srgbClr val="000000"/>
              </a:solidFill>
              <a:miter/>
            </a:ln>
          </p:spPr>
        </p:cxnSp>
        <p:cxnSp>
          <p:nvCxnSpPr>
            <p:cNvPr id="442" name=""/>
            <p:cNvCxnSpPr>
              <a:stCxn id="435" idx="3"/>
              <a:endCxn id="438" idx="1"/>
            </p:cNvCxnSpPr>
            <p:nvPr/>
          </p:nvCxnSpPr>
          <p:spPr>
            <a:xfrm>
              <a:off x="3678120" y="3453840"/>
              <a:ext cx="210600" cy="89640"/>
            </a:xfrm>
            <a:prstGeom prst="curvedConnector5">
              <a:avLst>
                <a:gd name="adj1" fmla="val 50000"/>
                <a:gd name="adj2" fmla="val 50000"/>
                <a:gd name="adj3" fmla="val 50000"/>
              </a:avLst>
            </a:prstGeom>
            <a:ln w="9360">
              <a:solidFill>
                <a:srgbClr val="000000"/>
              </a:solidFill>
              <a:miter/>
            </a:ln>
          </p:spPr>
        </p:cxnSp>
        <p:cxnSp>
          <p:nvCxnSpPr>
            <p:cNvPr id="443" name=""/>
            <p:cNvCxnSpPr>
              <a:stCxn id="436" idx="6"/>
              <a:endCxn id="438" idx="2"/>
            </p:cNvCxnSpPr>
            <p:nvPr/>
          </p:nvCxnSpPr>
          <p:spPr>
            <a:xfrm>
              <a:off x="3652200" y="3543480"/>
              <a:ext cx="236880" cy="25920"/>
            </a:xfrm>
            <a:prstGeom prst="curvedConnector5">
              <a:avLst>
                <a:gd name="adj1" fmla="val 48097"/>
                <a:gd name="adj2" fmla="val 49295"/>
                <a:gd name="adj3" fmla="val 48097"/>
              </a:avLst>
            </a:prstGeom>
            <a:ln w="9360">
              <a:solidFill>
                <a:srgbClr val="000000"/>
              </a:solidFill>
              <a:miter/>
            </a:ln>
          </p:spPr>
        </p:cxnSp>
        <p:cxnSp>
          <p:nvCxnSpPr>
            <p:cNvPr id="444" name=""/>
            <p:cNvCxnSpPr>
              <a:stCxn id="429" idx="1"/>
              <a:endCxn id="438" idx="3"/>
            </p:cNvCxnSpPr>
            <p:nvPr/>
          </p:nvCxnSpPr>
          <p:spPr>
            <a:xfrm flipV="1">
              <a:off x="3748320" y="3644280"/>
              <a:ext cx="140400" cy="88920"/>
            </a:xfrm>
            <a:prstGeom prst="curvedConnector5">
              <a:avLst>
                <a:gd name="adj1" fmla="val 49871"/>
                <a:gd name="adj2" fmla="val 50000"/>
                <a:gd name="adj3" fmla="val 49871"/>
              </a:avLst>
            </a:prstGeom>
            <a:ln w="9360">
              <a:solidFill>
                <a:srgbClr val="000000"/>
              </a:solidFill>
              <a:miter/>
            </a:ln>
          </p:spPr>
        </p:cxnSp>
        <p:cxnSp>
          <p:nvCxnSpPr>
            <p:cNvPr id="445" name=""/>
            <p:cNvCxnSpPr>
              <a:stCxn id="431" idx="1"/>
              <a:endCxn id="438" idx="4"/>
            </p:cNvCxnSpPr>
            <p:nvPr/>
          </p:nvCxnSpPr>
          <p:spPr>
            <a:xfrm flipV="1">
              <a:off x="3643200" y="3669840"/>
              <a:ext cx="245880" cy="254160"/>
            </a:xfrm>
            <a:prstGeom prst="curvedConnector5">
              <a:avLst>
                <a:gd name="adj1" fmla="val 69794"/>
                <a:gd name="adj2" fmla="val 49929"/>
                <a:gd name="adj3" fmla="val 69794"/>
              </a:avLst>
            </a:prstGeom>
            <a:ln w="9360">
              <a:solidFill>
                <a:srgbClr val="000000"/>
              </a:solidFill>
              <a:miter/>
            </a:ln>
          </p:spPr>
        </p:cxnSp>
        <p:sp>
          <p:nvSpPr>
            <p:cNvPr id="446" name=""/>
            <p:cNvSpPr/>
            <p:nvPr/>
          </p:nvSpPr>
          <p:spPr>
            <a:xfrm>
              <a:off x="3558240" y="3340080"/>
              <a:ext cx="34920" cy="25200"/>
            </a:xfrm>
            <a:prstGeom prst="rect">
              <a:avLst/>
            </a:prstGeom>
            <a:solidFill>
              <a:srgbClr val="eaeaea">
                <a:alpha val="50000"/>
              </a:srgbClr>
            </a:solidFill>
            <a:ln w="936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nvGrpSpPr>
            <p:cNvPr id="447" name=""/>
            <p:cNvGrpSpPr/>
            <p:nvPr/>
          </p:nvGrpSpPr>
          <p:grpSpPr>
            <a:xfrm>
              <a:off x="3573360" y="3314520"/>
              <a:ext cx="139320" cy="75960"/>
              <a:chOff x="3573360" y="3314520"/>
              <a:chExt cx="139320" cy="75960"/>
            </a:xfrm>
          </p:grpSpPr>
          <p:sp>
            <p:nvSpPr>
              <p:cNvPr id="441" name=""/>
              <p:cNvSpPr/>
              <p:nvPr/>
            </p:nvSpPr>
            <p:spPr>
              <a:xfrm>
                <a:off x="3607920" y="3314520"/>
                <a:ext cx="104760" cy="75960"/>
              </a:xfrm>
              <a:prstGeom prst="rect">
                <a:avLst/>
              </a:prstGeom>
              <a:solidFill>
                <a:srgbClr val="80808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48" name=""/>
              <p:cNvSpPr/>
              <p:nvPr/>
            </p:nvSpPr>
            <p:spPr>
              <a:xfrm>
                <a:off x="3573360" y="3339720"/>
                <a:ext cx="34560" cy="25200"/>
              </a:xfrm>
              <a:prstGeom prst="rect">
                <a:avLst/>
              </a:prstGeom>
              <a:solidFill>
                <a:srgbClr val="80808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sp>
          <p:nvSpPr>
            <p:cNvPr id="449" name=""/>
            <p:cNvSpPr/>
            <p:nvPr/>
          </p:nvSpPr>
          <p:spPr>
            <a:xfrm>
              <a:off x="3713400" y="3327480"/>
              <a:ext cx="315000" cy="164880"/>
            </a:xfrm>
            <a:custGeom>
              <a:avLst/>
              <a:gdLst/>
              <a:ahLst/>
              <a:rect l="l" t="t" r="r" b="b"/>
              <a:pathLst>
                <a:path w="432" h="312">
                  <a:moveTo>
                    <a:pt x="0" y="24"/>
                  </a:moveTo>
                  <a:cubicBezTo>
                    <a:pt x="64" y="12"/>
                    <a:pt x="128" y="0"/>
                    <a:pt x="192" y="24"/>
                  </a:cubicBezTo>
                  <a:cubicBezTo>
                    <a:pt x="256" y="48"/>
                    <a:pt x="344" y="120"/>
                    <a:pt x="384" y="168"/>
                  </a:cubicBezTo>
                  <a:cubicBezTo>
                    <a:pt x="424" y="216"/>
                    <a:pt x="424" y="288"/>
                    <a:pt x="432" y="3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678480" y="3436200"/>
              <a:ext cx="209880" cy="81360"/>
            </a:xfrm>
            <a:custGeom>
              <a:avLst/>
              <a:gdLst/>
              <a:ahLst/>
              <a:rect l="l" t="t" r="r" b="b"/>
              <a:pathLst>
                <a:path w="288" h="154">
                  <a:moveTo>
                    <a:pt x="0" y="10"/>
                  </a:moveTo>
                  <a:cubicBezTo>
                    <a:pt x="20" y="12"/>
                    <a:pt x="74" y="0"/>
                    <a:pt x="122" y="24"/>
                  </a:cubicBezTo>
                  <a:cubicBezTo>
                    <a:pt x="170" y="48"/>
                    <a:pt x="254" y="127"/>
                    <a:pt x="288" y="154"/>
                  </a:cubicBezTo>
                </a:path>
              </a:pathLst>
            </a:custGeom>
            <a:noFill/>
            <a:ln w="9360">
              <a:solidFill>
                <a:srgbClr val="000000"/>
              </a:solidFill>
              <a:round/>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451" name=""/>
            <p:cNvSpPr/>
            <p:nvPr/>
          </p:nvSpPr>
          <p:spPr>
            <a:xfrm>
              <a:off x="3647160" y="3557160"/>
              <a:ext cx="241560" cy="37080"/>
            </a:xfrm>
            <a:custGeom>
              <a:avLst/>
              <a:gdLst/>
              <a:ahLst/>
              <a:rect l="l" t="t" r="r" b="b"/>
              <a:pathLst>
                <a:path w="331" h="70">
                  <a:moveTo>
                    <a:pt x="0" y="0"/>
                  </a:moveTo>
                  <a:cubicBezTo>
                    <a:pt x="19" y="2"/>
                    <a:pt x="78" y="6"/>
                    <a:pt x="113" y="15"/>
                  </a:cubicBezTo>
                  <a:cubicBezTo>
                    <a:pt x="148" y="24"/>
                    <a:pt x="177" y="47"/>
                    <a:pt x="213" y="56"/>
                  </a:cubicBezTo>
                  <a:cubicBezTo>
                    <a:pt x="249" y="65"/>
                    <a:pt x="307" y="67"/>
                    <a:pt x="331" y="70"/>
                  </a:cubicBezTo>
                </a:path>
              </a:pathLst>
            </a:custGeom>
            <a:noFill/>
            <a:ln w="9360">
              <a:solidFill>
                <a:srgbClr val="000000"/>
              </a:solidFill>
              <a:round/>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452" name=""/>
            <p:cNvSpPr/>
            <p:nvPr/>
          </p:nvSpPr>
          <p:spPr>
            <a:xfrm>
              <a:off x="3748680" y="3619440"/>
              <a:ext cx="140040" cy="75960"/>
            </a:xfrm>
            <a:custGeom>
              <a:avLst/>
              <a:gdLst/>
              <a:ahLst/>
              <a:rect l="l" t="t" r="r" b="b"/>
              <a:pathLst>
                <a:path w="192" h="144">
                  <a:moveTo>
                    <a:pt x="0" y="144"/>
                  </a:moveTo>
                  <a:cubicBezTo>
                    <a:pt x="10" y="138"/>
                    <a:pt x="46" y="122"/>
                    <a:pt x="62" y="106"/>
                  </a:cubicBezTo>
                  <a:cubicBezTo>
                    <a:pt x="78" y="90"/>
                    <a:pt x="74" y="66"/>
                    <a:pt x="96" y="48"/>
                  </a:cubicBezTo>
                  <a:cubicBezTo>
                    <a:pt x="118" y="30"/>
                    <a:pt x="176" y="8"/>
                    <a:pt x="192" y="0"/>
                  </a:cubicBezTo>
                </a:path>
              </a:pathLst>
            </a:custGeom>
            <a:noFill/>
            <a:ln w="9360">
              <a:solidFill>
                <a:srgbClr val="000000"/>
              </a:solidFill>
              <a:round/>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53" name=""/>
            <p:cNvSpPr/>
            <p:nvPr/>
          </p:nvSpPr>
          <p:spPr>
            <a:xfrm>
              <a:off x="3642120" y="3695760"/>
              <a:ext cx="279360" cy="238320"/>
            </a:xfrm>
            <a:custGeom>
              <a:avLst/>
              <a:gdLst/>
              <a:ahLst/>
              <a:rect l="l" t="t" r="r" b="b"/>
              <a:pathLst>
                <a:path w="383" h="451">
                  <a:moveTo>
                    <a:pt x="0" y="451"/>
                  </a:moveTo>
                  <a:cubicBezTo>
                    <a:pt x="16" y="448"/>
                    <a:pt x="60" y="451"/>
                    <a:pt x="98" y="432"/>
                  </a:cubicBezTo>
                  <a:cubicBezTo>
                    <a:pt x="136" y="413"/>
                    <a:pt x="197" y="390"/>
                    <a:pt x="230" y="334"/>
                  </a:cubicBezTo>
                  <a:cubicBezTo>
                    <a:pt x="263" y="278"/>
                    <a:pt x="274" y="148"/>
                    <a:pt x="297" y="98"/>
                  </a:cubicBezTo>
                  <a:cubicBezTo>
                    <a:pt x="320" y="48"/>
                    <a:pt x="355" y="52"/>
                    <a:pt x="369" y="36"/>
                  </a:cubicBezTo>
                  <a:cubicBezTo>
                    <a:pt x="383" y="20"/>
                    <a:pt x="379" y="7"/>
                    <a:pt x="381"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273920" y="3553200"/>
              <a:ext cx="71280" cy="16920"/>
            </a:xfrm>
            <a:custGeom>
              <a:avLst/>
              <a:gdLst/>
              <a:ahLst/>
              <a:rect l="l" t="t" r="r" b="b"/>
              <a:pathLst>
                <a:path w="98" h="32">
                  <a:moveTo>
                    <a:pt x="98" y="0"/>
                  </a:moveTo>
                  <a:cubicBezTo>
                    <a:pt x="87" y="5"/>
                    <a:pt x="50" y="22"/>
                    <a:pt x="34" y="27"/>
                  </a:cubicBezTo>
                  <a:cubicBezTo>
                    <a:pt x="18" y="32"/>
                    <a:pt x="7" y="29"/>
                    <a:pt x="0" y="29"/>
                  </a:cubicBezTo>
                </a:path>
              </a:pathLst>
            </a:custGeom>
            <a:noFill/>
            <a:ln w="9360">
              <a:solidFill>
                <a:srgbClr val="000000"/>
              </a:solidFill>
              <a:round/>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455" name=""/>
            <p:cNvSpPr/>
            <p:nvPr/>
          </p:nvSpPr>
          <p:spPr>
            <a:xfrm>
              <a:off x="4554000" y="3543480"/>
              <a:ext cx="69840" cy="50760"/>
            </a:xfrm>
            <a:prstGeom prst="rect">
              <a:avLst/>
            </a:prstGeom>
            <a:solidFill>
              <a:srgbClr val="80808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456" name=""/>
            <p:cNvSpPr/>
            <p:nvPr/>
          </p:nvSpPr>
          <p:spPr>
            <a:xfrm>
              <a:off x="4343760" y="3517920"/>
              <a:ext cx="209880" cy="101520"/>
            </a:xfrm>
            <a:prstGeom prst="roundRect">
              <a:avLst>
                <a:gd name="adj" fmla="val 16667"/>
              </a:avLst>
            </a:prstGeom>
            <a:solidFill>
              <a:srgbClr val="808080"/>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7" name=""/>
            <p:cNvSpPr/>
            <p:nvPr/>
          </p:nvSpPr>
          <p:spPr>
            <a:xfrm>
              <a:off x="3573360" y="3238560"/>
              <a:ext cx="1225440" cy="762120"/>
            </a:xfrm>
            <a:custGeom>
              <a:avLst/>
              <a:gdLst/>
              <a:ahLst/>
              <a:rect l="l" t="t" r="r" b="b"/>
              <a:pathLst>
                <a:path w="1680" h="1440">
                  <a:moveTo>
                    <a:pt x="0" y="640"/>
                  </a:moveTo>
                  <a:lnTo>
                    <a:pt x="0" y="160"/>
                  </a:lnTo>
                  <a:lnTo>
                    <a:pt x="146" y="0"/>
                  </a:lnTo>
                  <a:lnTo>
                    <a:pt x="365" y="0"/>
                  </a:lnTo>
                  <a:lnTo>
                    <a:pt x="511" y="160"/>
                  </a:lnTo>
                  <a:lnTo>
                    <a:pt x="928" y="336"/>
                  </a:lnTo>
                  <a:lnTo>
                    <a:pt x="1506" y="394"/>
                  </a:lnTo>
                  <a:lnTo>
                    <a:pt x="1624" y="426"/>
                  </a:lnTo>
                  <a:lnTo>
                    <a:pt x="1678" y="463"/>
                  </a:lnTo>
                  <a:lnTo>
                    <a:pt x="1675" y="553"/>
                  </a:lnTo>
                  <a:lnTo>
                    <a:pt x="1607" y="560"/>
                  </a:lnTo>
                  <a:lnTo>
                    <a:pt x="1607" y="720"/>
                  </a:lnTo>
                  <a:lnTo>
                    <a:pt x="1680" y="730"/>
                  </a:lnTo>
                  <a:lnTo>
                    <a:pt x="1680" y="800"/>
                  </a:lnTo>
                  <a:lnTo>
                    <a:pt x="1608" y="870"/>
                  </a:lnTo>
                  <a:lnTo>
                    <a:pt x="1382" y="936"/>
                  </a:lnTo>
                  <a:lnTo>
                    <a:pt x="1229" y="953"/>
                  </a:lnTo>
                  <a:lnTo>
                    <a:pt x="1030" y="958"/>
                  </a:lnTo>
                  <a:lnTo>
                    <a:pt x="511" y="960"/>
                  </a:lnTo>
                  <a:lnTo>
                    <a:pt x="365" y="1360"/>
                  </a:lnTo>
                  <a:lnTo>
                    <a:pt x="219" y="1440"/>
                  </a:lnTo>
                  <a:lnTo>
                    <a:pt x="73" y="1440"/>
                  </a:lnTo>
                  <a:lnTo>
                    <a:pt x="0" y="1360"/>
                  </a:lnTo>
                  <a:lnTo>
                    <a:pt x="0" y="640"/>
                  </a:lnTo>
                  <a:close/>
                </a:path>
              </a:pathLst>
            </a:custGeom>
            <a:solidFill>
              <a:srgbClr val="ffffcc">
                <a:alpha val="50000"/>
              </a:srgbClr>
            </a:solid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58" name=""/>
          <p:cNvSpPr/>
          <p:nvPr/>
        </p:nvSpPr>
        <p:spPr>
          <a:xfrm>
            <a:off x="7095960" y="2836800"/>
            <a:ext cx="546120" cy="679680"/>
          </a:xfrm>
          <a:custGeom>
            <a:avLst/>
            <a:gdLst/>
            <a:ahLst/>
            <a:rect l="l" t="t" r="r" b="b"/>
            <a:pathLst>
              <a:path w="344" h="428">
                <a:moveTo>
                  <a:pt x="0" y="0"/>
                </a:moveTo>
                <a:cubicBezTo>
                  <a:pt x="13" y="12"/>
                  <a:pt x="62" y="48"/>
                  <a:pt x="78" y="75"/>
                </a:cubicBezTo>
                <a:cubicBezTo>
                  <a:pt x="94" y="102"/>
                  <a:pt x="90" y="132"/>
                  <a:pt x="94" y="160"/>
                </a:cubicBezTo>
                <a:cubicBezTo>
                  <a:pt x="98" y="188"/>
                  <a:pt x="101" y="218"/>
                  <a:pt x="104" y="242"/>
                </a:cubicBezTo>
                <a:cubicBezTo>
                  <a:pt x="107" y="266"/>
                  <a:pt x="108" y="281"/>
                  <a:pt x="112" y="304"/>
                </a:cubicBezTo>
                <a:cubicBezTo>
                  <a:pt x="116" y="327"/>
                  <a:pt x="115" y="364"/>
                  <a:pt x="126" y="383"/>
                </a:cubicBezTo>
                <a:cubicBezTo>
                  <a:pt x="137" y="402"/>
                  <a:pt x="145" y="411"/>
                  <a:pt x="181" y="418"/>
                </a:cubicBezTo>
                <a:cubicBezTo>
                  <a:pt x="217" y="425"/>
                  <a:pt x="310" y="426"/>
                  <a:pt x="344" y="428"/>
                </a:cubicBezTo>
              </a:path>
            </a:pathLst>
          </a:custGeom>
          <a:noFill/>
          <a:ln w="127080">
            <a:solidFill>
              <a:srgbClr val="969696">
                <a:alpha val="50000"/>
              </a:srgbClr>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7489800" y="3211560"/>
            <a:ext cx="533520" cy="685800"/>
          </a:xfrm>
          <a:custGeom>
            <a:avLst/>
            <a:gdLst/>
            <a:ahLst/>
            <a:rect l="l" t="t" r="r" b="b"/>
            <a:pathLst>
              <a:path w="1680" h="1440">
                <a:moveTo>
                  <a:pt x="0" y="640"/>
                </a:moveTo>
                <a:lnTo>
                  <a:pt x="0" y="160"/>
                </a:lnTo>
                <a:lnTo>
                  <a:pt x="146" y="0"/>
                </a:lnTo>
                <a:lnTo>
                  <a:pt x="365" y="0"/>
                </a:lnTo>
                <a:lnTo>
                  <a:pt x="511" y="160"/>
                </a:lnTo>
                <a:lnTo>
                  <a:pt x="928" y="336"/>
                </a:lnTo>
                <a:lnTo>
                  <a:pt x="1506" y="394"/>
                </a:lnTo>
                <a:lnTo>
                  <a:pt x="1624" y="426"/>
                </a:lnTo>
                <a:lnTo>
                  <a:pt x="1678" y="463"/>
                </a:lnTo>
                <a:lnTo>
                  <a:pt x="1675" y="553"/>
                </a:lnTo>
                <a:lnTo>
                  <a:pt x="1607" y="560"/>
                </a:lnTo>
                <a:lnTo>
                  <a:pt x="1607" y="720"/>
                </a:lnTo>
                <a:lnTo>
                  <a:pt x="1680" y="730"/>
                </a:lnTo>
                <a:lnTo>
                  <a:pt x="1680" y="800"/>
                </a:lnTo>
                <a:lnTo>
                  <a:pt x="1608" y="870"/>
                </a:lnTo>
                <a:lnTo>
                  <a:pt x="1382" y="936"/>
                </a:lnTo>
                <a:lnTo>
                  <a:pt x="1229" y="953"/>
                </a:lnTo>
                <a:lnTo>
                  <a:pt x="1030" y="958"/>
                </a:lnTo>
                <a:lnTo>
                  <a:pt x="511" y="960"/>
                </a:lnTo>
                <a:lnTo>
                  <a:pt x="365" y="1360"/>
                </a:lnTo>
                <a:lnTo>
                  <a:pt x="219" y="1440"/>
                </a:lnTo>
                <a:lnTo>
                  <a:pt x="73" y="1440"/>
                </a:lnTo>
                <a:lnTo>
                  <a:pt x="0" y="1360"/>
                </a:lnTo>
                <a:lnTo>
                  <a:pt x="0" y="640"/>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041880" y="2657520"/>
            <a:ext cx="1143000" cy="1925640"/>
          </a:xfrm>
          <a:custGeom>
            <a:avLst/>
            <a:gdLst/>
            <a:ahLst/>
            <a:rect l="l" t="t" r="r" b="b"/>
            <a:pathLst>
              <a:path w="720" h="1213">
                <a:moveTo>
                  <a:pt x="51" y="1088"/>
                </a:moveTo>
                <a:lnTo>
                  <a:pt x="0" y="925"/>
                </a:lnTo>
                <a:lnTo>
                  <a:pt x="0" y="637"/>
                </a:lnTo>
                <a:lnTo>
                  <a:pt x="0" y="397"/>
                </a:lnTo>
                <a:lnTo>
                  <a:pt x="96" y="205"/>
                </a:lnTo>
                <a:lnTo>
                  <a:pt x="240" y="61"/>
                </a:lnTo>
                <a:lnTo>
                  <a:pt x="384" y="13"/>
                </a:lnTo>
                <a:lnTo>
                  <a:pt x="483" y="0"/>
                </a:lnTo>
                <a:lnTo>
                  <a:pt x="576" y="13"/>
                </a:lnTo>
                <a:lnTo>
                  <a:pt x="720" y="109"/>
                </a:lnTo>
                <a:lnTo>
                  <a:pt x="672" y="157"/>
                </a:lnTo>
                <a:lnTo>
                  <a:pt x="557" y="80"/>
                </a:lnTo>
                <a:lnTo>
                  <a:pt x="483" y="83"/>
                </a:lnTo>
                <a:lnTo>
                  <a:pt x="432" y="109"/>
                </a:lnTo>
                <a:lnTo>
                  <a:pt x="291" y="179"/>
                </a:lnTo>
                <a:lnTo>
                  <a:pt x="250" y="323"/>
                </a:lnTo>
                <a:lnTo>
                  <a:pt x="336" y="541"/>
                </a:lnTo>
                <a:lnTo>
                  <a:pt x="384" y="829"/>
                </a:lnTo>
                <a:lnTo>
                  <a:pt x="413" y="1066"/>
                </a:lnTo>
                <a:cubicBezTo>
                  <a:pt x="405" y="1130"/>
                  <a:pt x="382" y="1189"/>
                  <a:pt x="336" y="1213"/>
                </a:cubicBezTo>
                <a:lnTo>
                  <a:pt x="134" y="1210"/>
                </a:lnTo>
                <a:lnTo>
                  <a:pt x="51" y="1088"/>
                </a:lnTo>
                <a:close/>
              </a:path>
            </a:pathLst>
          </a:custGeom>
          <a:solidFill>
            <a:srgbClr val="ffcc99">
              <a:alpha val="50000"/>
            </a:srgbClr>
          </a:solidFill>
          <a:ln w="76320">
            <a:solidFill>
              <a:srgbClr val="ff9966"/>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1014840" y="5691240"/>
            <a:ext cx="199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C  </a:t>
            </a:r>
            <a:r>
              <a:rPr b="0" lang="en-US" sz="1800" spc="-1" strike="noStrike">
                <a:solidFill>
                  <a:srgbClr val="000000"/>
                </a:solidFill>
                <a:latin typeface="Arial"/>
              </a:rPr>
              <a:t>(in the canal)</a:t>
            </a:r>
            <a:endParaRPr b="0" lang="en-US" sz="1800" spc="-1" strike="noStrike">
              <a:solidFill>
                <a:srgbClr val="000000"/>
              </a:solidFill>
              <a:latin typeface="Times New Roman"/>
            </a:endParaRPr>
          </a:p>
        </p:txBody>
      </p:sp>
      <p:sp>
        <p:nvSpPr>
          <p:cNvPr id="462" name=""/>
          <p:cNvSpPr/>
          <p:nvPr/>
        </p:nvSpPr>
        <p:spPr>
          <a:xfrm>
            <a:off x="3377880" y="5691240"/>
            <a:ext cx="176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E  </a:t>
            </a:r>
            <a:r>
              <a:rPr b="0" lang="en-US" sz="1800" spc="-1" strike="noStrike">
                <a:solidFill>
                  <a:srgbClr val="000000"/>
                </a:solidFill>
                <a:latin typeface="Arial"/>
              </a:rPr>
              <a:t>(in the ear)</a:t>
            </a:r>
            <a:endParaRPr b="0" lang="en-US" sz="1800" spc="-1" strike="noStrike">
              <a:solidFill>
                <a:srgbClr val="000000"/>
              </a:solidFill>
              <a:latin typeface="Times New Roman"/>
            </a:endParaRPr>
          </a:p>
        </p:txBody>
      </p:sp>
      <p:sp>
        <p:nvSpPr>
          <p:cNvPr id="463" name=""/>
          <p:cNvSpPr/>
          <p:nvPr/>
        </p:nvSpPr>
        <p:spPr>
          <a:xfrm>
            <a:off x="5740200" y="5691240"/>
            <a:ext cx="23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TE  </a:t>
            </a:r>
            <a:r>
              <a:rPr b="0" lang="en-US" sz="1800" spc="-1" strike="noStrike">
                <a:solidFill>
                  <a:srgbClr val="000000"/>
                </a:solidFill>
                <a:latin typeface="Arial"/>
              </a:rPr>
              <a:t>(behind the ea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4" name=""/>
          <p:cNvGrpSpPr/>
          <p:nvPr/>
        </p:nvGrpSpPr>
        <p:grpSpPr>
          <a:xfrm>
            <a:off x="1909800" y="3200040"/>
            <a:ext cx="727200" cy="1904760"/>
            <a:chOff x="1909800" y="3200040"/>
            <a:chExt cx="727200" cy="1904760"/>
          </a:xfrm>
        </p:grpSpPr>
        <p:sp>
          <p:nvSpPr>
            <p:cNvPr id="465" name=""/>
            <p:cNvSpPr/>
            <p:nvPr/>
          </p:nvSpPr>
          <p:spPr>
            <a:xfrm rot="5400000">
              <a:off x="1246680" y="3939120"/>
              <a:ext cx="1752840" cy="426960"/>
            </a:xfrm>
            <a:custGeom>
              <a:avLst/>
              <a:gdLst/>
              <a:ahLst/>
              <a:rect l="l" t="t" r="r" b="b"/>
              <a:pathLst>
                <a:path w="2160" h="624">
                  <a:moveTo>
                    <a:pt x="0" y="0"/>
                  </a:moveTo>
                  <a:lnTo>
                    <a:pt x="624" y="0"/>
                  </a:lnTo>
                  <a:lnTo>
                    <a:pt x="624" y="528"/>
                  </a:lnTo>
                  <a:lnTo>
                    <a:pt x="816" y="528"/>
                  </a:lnTo>
                  <a:lnTo>
                    <a:pt x="816" y="96"/>
                  </a:lnTo>
                  <a:lnTo>
                    <a:pt x="1344" y="96"/>
                  </a:lnTo>
                  <a:lnTo>
                    <a:pt x="1344" y="528"/>
                  </a:lnTo>
                  <a:lnTo>
                    <a:pt x="1536" y="528"/>
                  </a:lnTo>
                  <a:lnTo>
                    <a:pt x="1536" y="0"/>
                  </a:lnTo>
                  <a:lnTo>
                    <a:pt x="2160" y="0"/>
                  </a:lnTo>
                  <a:lnTo>
                    <a:pt x="2160" y="624"/>
                  </a:lnTo>
                  <a:lnTo>
                    <a:pt x="0" y="624"/>
                  </a:lnTo>
                  <a:lnTo>
                    <a:pt x="0" y="0"/>
                  </a:lnTo>
                  <a:close/>
                </a:path>
              </a:pathLst>
            </a:custGeom>
            <a:gradFill rotWithShape="0">
              <a:gsLst>
                <a:gs pos="0">
                  <a:srgbClr val="000000"/>
                </a:gs>
                <a:gs pos="100000">
                  <a:srgbClr val="ffffff"/>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rot="5400000">
              <a:off x="1962000" y="3936600"/>
              <a:ext cx="546120" cy="419040"/>
            </a:xfrm>
            <a:prstGeom prst="rect">
              <a:avLst/>
            </a:prstGeom>
            <a:gradFill rotWithShape="0">
              <a:gsLst>
                <a:gs pos="0">
                  <a:srgbClr val="ffff00"/>
                </a:gs>
                <a:gs pos="100000">
                  <a:srgbClr val="fffff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7" name=""/>
            <p:cNvGrpSpPr/>
            <p:nvPr/>
          </p:nvGrpSpPr>
          <p:grpSpPr>
            <a:xfrm>
              <a:off x="2390760" y="3200040"/>
              <a:ext cx="246240" cy="1904760"/>
              <a:chOff x="2390760" y="3200040"/>
              <a:chExt cx="246240" cy="1904760"/>
            </a:xfrm>
          </p:grpSpPr>
          <p:grpSp>
            <p:nvGrpSpPr>
              <p:cNvPr id="468" name=""/>
              <p:cNvGrpSpPr/>
              <p:nvPr/>
            </p:nvGrpSpPr>
            <p:grpSpPr>
              <a:xfrm>
                <a:off x="2390760" y="3848760"/>
                <a:ext cx="109080" cy="607320"/>
                <a:chOff x="2390760" y="3848760"/>
                <a:chExt cx="109080" cy="607320"/>
              </a:xfrm>
            </p:grpSpPr>
            <p:sp>
              <p:nvSpPr>
                <p:cNvPr id="469" name=""/>
                <p:cNvSpPr/>
                <p:nvPr/>
              </p:nvSpPr>
              <p:spPr>
                <a:xfrm rot="5400000">
                  <a:off x="2141640" y="4097880"/>
                  <a:ext cx="606960" cy="109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400000">
                  <a:off x="2141280" y="4097520"/>
                  <a:ext cx="606960" cy="109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1" name=""/>
              <p:cNvSpPr/>
              <p:nvPr/>
            </p:nvSpPr>
            <p:spPr>
              <a:xfrm>
                <a:off x="2444760" y="4456440"/>
                <a:ext cx="192240" cy="64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flipV="1">
                <a:off x="2444760" y="3200040"/>
                <a:ext cx="192240" cy="648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3" name=""/>
            <p:cNvGrpSpPr/>
            <p:nvPr/>
          </p:nvGrpSpPr>
          <p:grpSpPr>
            <a:xfrm>
              <a:off x="2063520" y="3200040"/>
              <a:ext cx="336960" cy="1295640"/>
              <a:chOff x="2063520" y="3200040"/>
              <a:chExt cx="336960" cy="1295640"/>
            </a:xfrm>
          </p:grpSpPr>
          <p:sp>
            <p:nvSpPr>
              <p:cNvPr id="474" name=""/>
              <p:cNvSpPr/>
              <p:nvPr/>
            </p:nvSpPr>
            <p:spPr>
              <a:xfrm flipH="1">
                <a:off x="2292120" y="3809880"/>
                <a:ext cx="75960" cy="68580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H="1">
                <a:off x="2216160" y="3809880"/>
                <a:ext cx="76320" cy="68580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flipH="1">
                <a:off x="2139840" y="3809880"/>
                <a:ext cx="76320" cy="68580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flipH="1">
                <a:off x="2063520" y="3809880"/>
                <a:ext cx="75960" cy="68580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flipV="1">
                <a:off x="2368440" y="3200040"/>
                <a:ext cx="0" cy="60948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V="1">
                <a:off x="2400480" y="3200040"/>
                <a:ext cx="0" cy="60948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80" name=""/>
          <p:cNvSpPr/>
          <p:nvPr/>
        </p:nvSpPr>
        <p:spPr>
          <a:xfrm rot="16200000">
            <a:off x="2832840" y="3513960"/>
            <a:ext cx="1409760" cy="1773360"/>
          </a:xfrm>
          <a:prstGeom prst="triangle">
            <a:avLst>
              <a:gd name="adj" fmla="val 50000"/>
            </a:avLst>
          </a:prstGeom>
          <a:gradFill rotWithShape="0">
            <a:gsLst>
              <a:gs pos="0">
                <a:srgbClr val="ffffff"/>
              </a:gs>
              <a:gs pos="100000">
                <a:srgbClr val="ff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rot="16200000">
            <a:off x="2777400" y="3018600"/>
            <a:ext cx="1409760" cy="1773360"/>
          </a:xfrm>
          <a:prstGeom prst="triangle">
            <a:avLst>
              <a:gd name="adj" fmla="val 50000"/>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2515320" y="762120"/>
            <a:ext cx="4143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lephone Receiver Output</a:t>
            </a:r>
            <a:endParaRPr b="0" lang="en-US" sz="2400" spc="-1" strike="noStrike">
              <a:solidFill>
                <a:srgbClr val="000000"/>
              </a:solidFill>
              <a:latin typeface="Times New Roman"/>
            </a:endParaRPr>
          </a:p>
        </p:txBody>
      </p:sp>
      <p:grpSp>
        <p:nvGrpSpPr>
          <p:cNvPr id="483" name=""/>
          <p:cNvGrpSpPr/>
          <p:nvPr/>
        </p:nvGrpSpPr>
        <p:grpSpPr>
          <a:xfrm>
            <a:off x="5186520" y="2209680"/>
            <a:ext cx="2438280" cy="1066680"/>
            <a:chOff x="5186520" y="2209680"/>
            <a:chExt cx="2438280" cy="1066680"/>
          </a:xfrm>
        </p:grpSpPr>
        <p:sp>
          <p:nvSpPr>
            <p:cNvPr id="484" name=""/>
            <p:cNvSpPr/>
            <p:nvPr/>
          </p:nvSpPr>
          <p:spPr>
            <a:xfrm>
              <a:off x="5186520" y="220968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5186520" y="274284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6" name=""/>
          <p:cNvSpPr/>
          <p:nvPr/>
        </p:nvSpPr>
        <p:spPr>
          <a:xfrm>
            <a:off x="5186520" y="2120760"/>
            <a:ext cx="2438280" cy="1219320"/>
          </a:xfrm>
          <a:custGeom>
            <a:avLst/>
            <a:gdLst/>
            <a:ahLst/>
            <a:rect l="l" t="t" r="r" b="b"/>
            <a:pathLst>
              <a:path w="1536" h="768">
                <a:moveTo>
                  <a:pt x="0" y="392"/>
                </a:moveTo>
                <a:cubicBezTo>
                  <a:pt x="16" y="196"/>
                  <a:pt x="32" y="0"/>
                  <a:pt x="48" y="56"/>
                </a:cubicBezTo>
                <a:cubicBezTo>
                  <a:pt x="64" y="112"/>
                  <a:pt x="80" y="688"/>
                  <a:pt x="96" y="728"/>
                </a:cubicBezTo>
                <a:cubicBezTo>
                  <a:pt x="112" y="768"/>
                  <a:pt x="128" y="336"/>
                  <a:pt x="144" y="296"/>
                </a:cubicBezTo>
                <a:cubicBezTo>
                  <a:pt x="160" y="256"/>
                  <a:pt x="176" y="504"/>
                  <a:pt x="192" y="488"/>
                </a:cubicBezTo>
                <a:cubicBezTo>
                  <a:pt x="208" y="472"/>
                  <a:pt x="224" y="192"/>
                  <a:pt x="240" y="200"/>
                </a:cubicBezTo>
                <a:cubicBezTo>
                  <a:pt x="256" y="208"/>
                  <a:pt x="272" y="528"/>
                  <a:pt x="288" y="536"/>
                </a:cubicBezTo>
                <a:cubicBezTo>
                  <a:pt x="304" y="544"/>
                  <a:pt x="320" y="216"/>
                  <a:pt x="336" y="248"/>
                </a:cubicBezTo>
                <a:cubicBezTo>
                  <a:pt x="352" y="280"/>
                  <a:pt x="368" y="688"/>
                  <a:pt x="384" y="728"/>
                </a:cubicBezTo>
                <a:cubicBezTo>
                  <a:pt x="400" y="768"/>
                  <a:pt x="416" y="512"/>
                  <a:pt x="432" y="488"/>
                </a:cubicBezTo>
                <a:cubicBezTo>
                  <a:pt x="448" y="464"/>
                  <a:pt x="464" y="592"/>
                  <a:pt x="480" y="584"/>
                </a:cubicBezTo>
                <a:cubicBezTo>
                  <a:pt x="496" y="576"/>
                  <a:pt x="512" y="440"/>
                  <a:pt x="528" y="440"/>
                </a:cubicBezTo>
                <a:cubicBezTo>
                  <a:pt x="544" y="440"/>
                  <a:pt x="560" y="632"/>
                  <a:pt x="576" y="584"/>
                </a:cubicBezTo>
                <a:cubicBezTo>
                  <a:pt x="592" y="536"/>
                  <a:pt x="608" y="216"/>
                  <a:pt x="624" y="152"/>
                </a:cubicBezTo>
                <a:cubicBezTo>
                  <a:pt x="640" y="88"/>
                  <a:pt x="656" y="216"/>
                  <a:pt x="672" y="200"/>
                </a:cubicBezTo>
                <a:cubicBezTo>
                  <a:pt x="688" y="184"/>
                  <a:pt x="704" y="8"/>
                  <a:pt x="720" y="56"/>
                </a:cubicBezTo>
                <a:cubicBezTo>
                  <a:pt x="736" y="104"/>
                  <a:pt x="752" y="416"/>
                  <a:pt x="768" y="488"/>
                </a:cubicBezTo>
                <a:cubicBezTo>
                  <a:pt x="784" y="560"/>
                  <a:pt x="800" y="456"/>
                  <a:pt x="816" y="488"/>
                </a:cubicBezTo>
                <a:cubicBezTo>
                  <a:pt x="832" y="520"/>
                  <a:pt x="848" y="688"/>
                  <a:pt x="864" y="680"/>
                </a:cubicBezTo>
                <a:cubicBezTo>
                  <a:pt x="880" y="672"/>
                  <a:pt x="896" y="464"/>
                  <a:pt x="912" y="440"/>
                </a:cubicBezTo>
                <a:cubicBezTo>
                  <a:pt x="928" y="416"/>
                  <a:pt x="944" y="576"/>
                  <a:pt x="960" y="536"/>
                </a:cubicBezTo>
                <a:cubicBezTo>
                  <a:pt x="976" y="496"/>
                  <a:pt x="992" y="240"/>
                  <a:pt x="1008" y="200"/>
                </a:cubicBezTo>
                <a:cubicBezTo>
                  <a:pt x="1024" y="160"/>
                  <a:pt x="1040" y="232"/>
                  <a:pt x="1056" y="296"/>
                </a:cubicBezTo>
                <a:cubicBezTo>
                  <a:pt x="1072" y="360"/>
                  <a:pt x="1088" y="528"/>
                  <a:pt x="1104" y="584"/>
                </a:cubicBezTo>
                <a:cubicBezTo>
                  <a:pt x="1120" y="640"/>
                  <a:pt x="1136" y="720"/>
                  <a:pt x="1152" y="632"/>
                </a:cubicBezTo>
                <a:cubicBezTo>
                  <a:pt x="1168" y="544"/>
                  <a:pt x="1184" y="48"/>
                  <a:pt x="1200" y="56"/>
                </a:cubicBezTo>
                <a:cubicBezTo>
                  <a:pt x="1216" y="64"/>
                  <a:pt x="1232" y="592"/>
                  <a:pt x="1248" y="680"/>
                </a:cubicBezTo>
                <a:cubicBezTo>
                  <a:pt x="1264" y="768"/>
                  <a:pt x="1280" y="576"/>
                  <a:pt x="1296" y="584"/>
                </a:cubicBezTo>
                <a:cubicBezTo>
                  <a:pt x="1312" y="592"/>
                  <a:pt x="1328" y="744"/>
                  <a:pt x="1344" y="728"/>
                </a:cubicBezTo>
                <a:cubicBezTo>
                  <a:pt x="1360" y="712"/>
                  <a:pt x="1376" y="520"/>
                  <a:pt x="1392" y="488"/>
                </a:cubicBezTo>
                <a:cubicBezTo>
                  <a:pt x="1408" y="456"/>
                  <a:pt x="1424" y="568"/>
                  <a:pt x="1440" y="536"/>
                </a:cubicBezTo>
                <a:cubicBezTo>
                  <a:pt x="1456" y="504"/>
                  <a:pt x="1472" y="320"/>
                  <a:pt x="1488" y="296"/>
                </a:cubicBezTo>
                <a:cubicBezTo>
                  <a:pt x="1504" y="272"/>
                  <a:pt x="1528" y="376"/>
                  <a:pt x="1536" y="392"/>
                </a:cubicBezTo>
              </a:path>
            </a:pathLst>
          </a:custGeom>
          <a:no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7" name=""/>
          <p:cNvGrpSpPr/>
          <p:nvPr/>
        </p:nvGrpSpPr>
        <p:grpSpPr>
          <a:xfrm>
            <a:off x="5186520" y="4584600"/>
            <a:ext cx="2438280" cy="1066680"/>
            <a:chOff x="5186520" y="4584600"/>
            <a:chExt cx="2438280" cy="1066680"/>
          </a:xfrm>
        </p:grpSpPr>
        <p:sp>
          <p:nvSpPr>
            <p:cNvPr id="488" name=""/>
            <p:cNvSpPr/>
            <p:nvPr/>
          </p:nvSpPr>
          <p:spPr>
            <a:xfrm>
              <a:off x="5186520" y="45846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5186520" y="511776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0" name=""/>
          <p:cNvSpPr/>
          <p:nvPr/>
        </p:nvSpPr>
        <p:spPr>
          <a:xfrm>
            <a:off x="5186520" y="4495680"/>
            <a:ext cx="2438280" cy="1219320"/>
          </a:xfrm>
          <a:custGeom>
            <a:avLst/>
            <a:gdLst/>
            <a:ahLst/>
            <a:rect l="l" t="t" r="r" b="b"/>
            <a:pathLst>
              <a:path w="1536" h="768">
                <a:moveTo>
                  <a:pt x="0" y="392"/>
                </a:moveTo>
                <a:cubicBezTo>
                  <a:pt x="16" y="196"/>
                  <a:pt x="32" y="0"/>
                  <a:pt x="48" y="56"/>
                </a:cubicBezTo>
                <a:cubicBezTo>
                  <a:pt x="64" y="112"/>
                  <a:pt x="80" y="688"/>
                  <a:pt x="96" y="728"/>
                </a:cubicBezTo>
                <a:cubicBezTo>
                  <a:pt x="112" y="768"/>
                  <a:pt x="128" y="336"/>
                  <a:pt x="144" y="296"/>
                </a:cubicBezTo>
                <a:cubicBezTo>
                  <a:pt x="160" y="256"/>
                  <a:pt x="176" y="504"/>
                  <a:pt x="192" y="488"/>
                </a:cubicBezTo>
                <a:cubicBezTo>
                  <a:pt x="208" y="472"/>
                  <a:pt x="224" y="192"/>
                  <a:pt x="240" y="200"/>
                </a:cubicBezTo>
                <a:cubicBezTo>
                  <a:pt x="256" y="208"/>
                  <a:pt x="272" y="528"/>
                  <a:pt x="288" y="536"/>
                </a:cubicBezTo>
                <a:cubicBezTo>
                  <a:pt x="304" y="544"/>
                  <a:pt x="320" y="216"/>
                  <a:pt x="336" y="248"/>
                </a:cubicBezTo>
                <a:cubicBezTo>
                  <a:pt x="352" y="280"/>
                  <a:pt x="368" y="688"/>
                  <a:pt x="384" y="728"/>
                </a:cubicBezTo>
                <a:cubicBezTo>
                  <a:pt x="400" y="768"/>
                  <a:pt x="416" y="512"/>
                  <a:pt x="432" y="488"/>
                </a:cubicBezTo>
                <a:cubicBezTo>
                  <a:pt x="448" y="464"/>
                  <a:pt x="464" y="592"/>
                  <a:pt x="480" y="584"/>
                </a:cubicBezTo>
                <a:cubicBezTo>
                  <a:pt x="496" y="576"/>
                  <a:pt x="512" y="440"/>
                  <a:pt x="528" y="440"/>
                </a:cubicBezTo>
                <a:cubicBezTo>
                  <a:pt x="544" y="440"/>
                  <a:pt x="560" y="632"/>
                  <a:pt x="576" y="584"/>
                </a:cubicBezTo>
                <a:cubicBezTo>
                  <a:pt x="592" y="536"/>
                  <a:pt x="608" y="216"/>
                  <a:pt x="624" y="152"/>
                </a:cubicBezTo>
                <a:cubicBezTo>
                  <a:pt x="640" y="88"/>
                  <a:pt x="656" y="216"/>
                  <a:pt x="672" y="200"/>
                </a:cubicBezTo>
                <a:cubicBezTo>
                  <a:pt x="688" y="184"/>
                  <a:pt x="704" y="8"/>
                  <a:pt x="720" y="56"/>
                </a:cubicBezTo>
                <a:cubicBezTo>
                  <a:pt x="736" y="104"/>
                  <a:pt x="752" y="416"/>
                  <a:pt x="768" y="488"/>
                </a:cubicBezTo>
                <a:cubicBezTo>
                  <a:pt x="784" y="560"/>
                  <a:pt x="800" y="456"/>
                  <a:pt x="816" y="488"/>
                </a:cubicBezTo>
                <a:cubicBezTo>
                  <a:pt x="832" y="520"/>
                  <a:pt x="848" y="688"/>
                  <a:pt x="864" y="680"/>
                </a:cubicBezTo>
                <a:cubicBezTo>
                  <a:pt x="880" y="672"/>
                  <a:pt x="896" y="464"/>
                  <a:pt x="912" y="440"/>
                </a:cubicBezTo>
                <a:cubicBezTo>
                  <a:pt x="928" y="416"/>
                  <a:pt x="944" y="576"/>
                  <a:pt x="960" y="536"/>
                </a:cubicBezTo>
                <a:cubicBezTo>
                  <a:pt x="976" y="496"/>
                  <a:pt x="992" y="240"/>
                  <a:pt x="1008" y="200"/>
                </a:cubicBezTo>
                <a:cubicBezTo>
                  <a:pt x="1024" y="160"/>
                  <a:pt x="1040" y="232"/>
                  <a:pt x="1056" y="296"/>
                </a:cubicBezTo>
                <a:cubicBezTo>
                  <a:pt x="1072" y="360"/>
                  <a:pt x="1088" y="528"/>
                  <a:pt x="1104" y="584"/>
                </a:cubicBezTo>
                <a:cubicBezTo>
                  <a:pt x="1120" y="640"/>
                  <a:pt x="1136" y="720"/>
                  <a:pt x="1152" y="632"/>
                </a:cubicBezTo>
                <a:cubicBezTo>
                  <a:pt x="1168" y="544"/>
                  <a:pt x="1184" y="48"/>
                  <a:pt x="1200" y="56"/>
                </a:cubicBezTo>
                <a:cubicBezTo>
                  <a:pt x="1216" y="64"/>
                  <a:pt x="1232" y="592"/>
                  <a:pt x="1248" y="680"/>
                </a:cubicBezTo>
                <a:cubicBezTo>
                  <a:pt x="1264" y="768"/>
                  <a:pt x="1280" y="576"/>
                  <a:pt x="1296" y="584"/>
                </a:cubicBezTo>
                <a:cubicBezTo>
                  <a:pt x="1312" y="592"/>
                  <a:pt x="1328" y="744"/>
                  <a:pt x="1344" y="728"/>
                </a:cubicBezTo>
                <a:cubicBezTo>
                  <a:pt x="1360" y="712"/>
                  <a:pt x="1376" y="520"/>
                  <a:pt x="1392" y="488"/>
                </a:cubicBezTo>
                <a:cubicBezTo>
                  <a:pt x="1408" y="456"/>
                  <a:pt x="1424" y="568"/>
                  <a:pt x="1440" y="536"/>
                </a:cubicBezTo>
                <a:cubicBezTo>
                  <a:pt x="1456" y="504"/>
                  <a:pt x="1472" y="320"/>
                  <a:pt x="1488" y="296"/>
                </a:cubicBezTo>
                <a:cubicBezTo>
                  <a:pt x="1504" y="272"/>
                  <a:pt x="1528" y="376"/>
                  <a:pt x="1536" y="392"/>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4425840" y="4572000"/>
            <a:ext cx="67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m</a:t>
            </a:r>
            <a:endParaRPr b="0" lang="en-US" sz="1400" spc="-1" strike="noStrike">
              <a:solidFill>
                <a:srgbClr val="000000"/>
              </a:solidFill>
              <a:latin typeface="Times New Roman"/>
            </a:endParaRPr>
          </a:p>
        </p:txBody>
      </p:sp>
      <p:sp>
        <p:nvSpPr>
          <p:cNvPr id="492" name=""/>
          <p:cNvSpPr/>
          <p:nvPr/>
        </p:nvSpPr>
        <p:spPr>
          <a:xfrm>
            <a:off x="4295520" y="2209680"/>
            <a:ext cx="813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B SPL</a:t>
            </a:r>
            <a:endParaRPr b="0" lang="en-US" sz="1400" spc="-1" strike="noStrike">
              <a:solidFill>
                <a:srgbClr val="000000"/>
              </a:solidFill>
              <a:latin typeface="Times New Roman"/>
            </a:endParaRPr>
          </a:p>
        </p:txBody>
      </p:sp>
      <p:sp>
        <p:nvSpPr>
          <p:cNvPr id="493" name=""/>
          <p:cNvSpPr/>
          <p:nvPr/>
        </p:nvSpPr>
        <p:spPr>
          <a:xfrm>
            <a:off x="5187240" y="3413160"/>
            <a:ext cx="31158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dio output from recei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ed by ear or hearing aid microphone</a:t>
            </a:r>
            <a:endParaRPr b="0" lang="en-US" sz="1200" spc="-1" strike="noStrike">
              <a:solidFill>
                <a:srgbClr val="000000"/>
              </a:solidFill>
              <a:latin typeface="Times New Roman"/>
            </a:endParaRPr>
          </a:p>
        </p:txBody>
      </p:sp>
      <p:sp>
        <p:nvSpPr>
          <p:cNvPr id="494" name=""/>
          <p:cNvSpPr/>
          <p:nvPr/>
        </p:nvSpPr>
        <p:spPr>
          <a:xfrm>
            <a:off x="5187960" y="5775480"/>
            <a:ext cx="34574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gnetic output from recei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ed by hearing aid telecoil</a:t>
            </a:r>
            <a:endParaRPr b="0" lang="en-US" sz="1200" spc="-1" strike="noStrike">
              <a:solidFill>
                <a:srgbClr val="000000"/>
              </a:solidFill>
              <a:latin typeface="Times New Roman"/>
            </a:endParaRPr>
          </a:p>
        </p:txBody>
      </p:sp>
      <p:sp>
        <p:nvSpPr>
          <p:cNvPr id="495" name=""/>
          <p:cNvSpPr/>
          <p:nvPr/>
        </p:nvSpPr>
        <p:spPr>
          <a:xfrm>
            <a:off x="538200" y="1979640"/>
            <a:ext cx="3048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ring aid “compatible” receiver generates two outputs simultaneousl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6" name=""/>
          <p:cNvGrpSpPr/>
          <p:nvPr/>
        </p:nvGrpSpPr>
        <p:grpSpPr>
          <a:xfrm>
            <a:off x="1447920" y="914400"/>
            <a:ext cx="6832080" cy="5438520"/>
            <a:chOff x="1447920" y="914400"/>
            <a:chExt cx="6832080" cy="5438520"/>
          </a:xfrm>
        </p:grpSpPr>
        <p:sp>
          <p:nvSpPr>
            <p:cNvPr id="497" name=""/>
            <p:cNvSpPr/>
            <p:nvPr/>
          </p:nvSpPr>
          <p:spPr>
            <a:xfrm>
              <a:off x="4973400" y="3295080"/>
              <a:ext cx="828720" cy="772200"/>
            </a:xfrm>
            <a:custGeom>
              <a:avLst/>
              <a:gdLst/>
              <a:ahLst/>
              <a:rect l="l" t="t" r="r" b="b"/>
              <a:pathLst>
                <a:path w="577" h="535">
                  <a:moveTo>
                    <a:pt x="28" y="10"/>
                  </a:moveTo>
                  <a:cubicBezTo>
                    <a:pt x="34" y="9"/>
                    <a:pt x="33" y="0"/>
                    <a:pt x="63" y="4"/>
                  </a:cubicBezTo>
                  <a:cubicBezTo>
                    <a:pt x="93" y="8"/>
                    <a:pt x="158" y="23"/>
                    <a:pt x="207" y="32"/>
                  </a:cubicBezTo>
                  <a:cubicBezTo>
                    <a:pt x="248" y="38"/>
                    <a:pt x="310" y="49"/>
                    <a:pt x="355" y="60"/>
                  </a:cubicBezTo>
                  <a:cubicBezTo>
                    <a:pt x="413" y="72"/>
                    <a:pt x="520" y="63"/>
                    <a:pt x="555" y="103"/>
                  </a:cubicBezTo>
                  <a:cubicBezTo>
                    <a:pt x="577" y="146"/>
                    <a:pt x="570" y="249"/>
                    <a:pt x="568" y="303"/>
                  </a:cubicBezTo>
                  <a:cubicBezTo>
                    <a:pt x="566" y="357"/>
                    <a:pt x="565" y="399"/>
                    <a:pt x="540" y="426"/>
                  </a:cubicBezTo>
                  <a:cubicBezTo>
                    <a:pt x="515" y="453"/>
                    <a:pt x="454" y="453"/>
                    <a:pt x="417" y="462"/>
                  </a:cubicBezTo>
                  <a:cubicBezTo>
                    <a:pt x="379" y="473"/>
                    <a:pt x="357" y="470"/>
                    <a:pt x="319" y="483"/>
                  </a:cubicBezTo>
                  <a:cubicBezTo>
                    <a:pt x="302" y="489"/>
                    <a:pt x="239" y="488"/>
                    <a:pt x="226" y="490"/>
                  </a:cubicBezTo>
                  <a:cubicBezTo>
                    <a:pt x="178" y="498"/>
                    <a:pt x="95" y="509"/>
                    <a:pt x="57" y="517"/>
                  </a:cubicBezTo>
                  <a:cubicBezTo>
                    <a:pt x="19" y="525"/>
                    <a:pt x="12" y="531"/>
                    <a:pt x="0" y="535"/>
                  </a:cubicBezTo>
                </a:path>
              </a:pathLst>
            </a:custGeom>
            <a:noFill/>
            <a:ln w="7632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8" name=""/>
            <p:cNvGrpSpPr/>
            <p:nvPr/>
          </p:nvGrpSpPr>
          <p:grpSpPr>
            <a:xfrm>
              <a:off x="3878280" y="1953720"/>
              <a:ext cx="1532880" cy="3514320"/>
              <a:chOff x="3878280" y="1953720"/>
              <a:chExt cx="1532880" cy="3514320"/>
            </a:xfrm>
          </p:grpSpPr>
          <p:grpSp>
            <p:nvGrpSpPr>
              <p:cNvPr id="499" name=""/>
              <p:cNvGrpSpPr/>
              <p:nvPr/>
            </p:nvGrpSpPr>
            <p:grpSpPr>
              <a:xfrm>
                <a:off x="3878280" y="1953720"/>
                <a:ext cx="1532880" cy="3514320"/>
                <a:chOff x="3878280" y="1953720"/>
                <a:chExt cx="1532880" cy="3514320"/>
              </a:xfrm>
            </p:grpSpPr>
            <p:sp>
              <p:nvSpPr>
                <p:cNvPr id="500" name=""/>
                <p:cNvSpPr/>
                <p:nvPr/>
              </p:nvSpPr>
              <p:spPr>
                <a:xfrm>
                  <a:off x="3878280" y="1953720"/>
                  <a:ext cx="1530720" cy="3511080"/>
                </a:xfrm>
                <a:custGeom>
                  <a:avLst/>
                  <a:gdLst/>
                  <a:ahLst/>
                  <a:rect l="l" t="t" r="r" b="b"/>
                  <a:pathLst>
                    <a:path w="2588" h="3407">
                      <a:moveTo>
                        <a:pt x="2566" y="2727"/>
                      </a:moveTo>
                      <a:lnTo>
                        <a:pt x="2492" y="2590"/>
                      </a:lnTo>
                      <a:lnTo>
                        <a:pt x="2409" y="2467"/>
                      </a:lnTo>
                      <a:lnTo>
                        <a:pt x="2314" y="2350"/>
                      </a:lnTo>
                      <a:lnTo>
                        <a:pt x="2240" y="2171"/>
                      </a:lnTo>
                      <a:lnTo>
                        <a:pt x="2197" y="1930"/>
                      </a:lnTo>
                      <a:lnTo>
                        <a:pt x="2166" y="1697"/>
                      </a:lnTo>
                      <a:lnTo>
                        <a:pt x="2134" y="1454"/>
                      </a:lnTo>
                      <a:lnTo>
                        <a:pt x="2113" y="1181"/>
                      </a:lnTo>
                      <a:lnTo>
                        <a:pt x="2134" y="970"/>
                      </a:lnTo>
                      <a:lnTo>
                        <a:pt x="2102" y="741"/>
                      </a:lnTo>
                      <a:lnTo>
                        <a:pt x="2060" y="541"/>
                      </a:lnTo>
                      <a:lnTo>
                        <a:pt x="2009" y="361"/>
                      </a:lnTo>
                      <a:lnTo>
                        <a:pt x="1956" y="236"/>
                      </a:lnTo>
                      <a:lnTo>
                        <a:pt x="1840" y="201"/>
                      </a:lnTo>
                      <a:lnTo>
                        <a:pt x="1755" y="164"/>
                      </a:lnTo>
                      <a:lnTo>
                        <a:pt x="1671" y="106"/>
                      </a:lnTo>
                      <a:lnTo>
                        <a:pt x="1572" y="63"/>
                      </a:lnTo>
                      <a:lnTo>
                        <a:pt x="1450" y="32"/>
                      </a:lnTo>
                      <a:lnTo>
                        <a:pt x="1294" y="11"/>
                      </a:lnTo>
                      <a:lnTo>
                        <a:pt x="1140" y="0"/>
                      </a:lnTo>
                      <a:lnTo>
                        <a:pt x="987" y="11"/>
                      </a:lnTo>
                      <a:lnTo>
                        <a:pt x="835" y="37"/>
                      </a:lnTo>
                      <a:lnTo>
                        <a:pt x="693" y="79"/>
                      </a:lnTo>
                      <a:lnTo>
                        <a:pt x="578" y="137"/>
                      </a:lnTo>
                      <a:lnTo>
                        <a:pt x="453" y="222"/>
                      </a:lnTo>
                      <a:lnTo>
                        <a:pt x="337" y="326"/>
                      </a:lnTo>
                      <a:lnTo>
                        <a:pt x="252" y="431"/>
                      </a:lnTo>
                      <a:lnTo>
                        <a:pt x="170" y="569"/>
                      </a:lnTo>
                      <a:lnTo>
                        <a:pt x="111" y="685"/>
                      </a:lnTo>
                      <a:lnTo>
                        <a:pt x="69" y="785"/>
                      </a:lnTo>
                      <a:lnTo>
                        <a:pt x="32" y="903"/>
                      </a:lnTo>
                      <a:lnTo>
                        <a:pt x="6" y="1009"/>
                      </a:lnTo>
                      <a:lnTo>
                        <a:pt x="0" y="1120"/>
                      </a:lnTo>
                      <a:lnTo>
                        <a:pt x="22" y="1305"/>
                      </a:lnTo>
                      <a:lnTo>
                        <a:pt x="59" y="1467"/>
                      </a:lnTo>
                      <a:lnTo>
                        <a:pt x="74" y="1620"/>
                      </a:lnTo>
                      <a:lnTo>
                        <a:pt x="101" y="1708"/>
                      </a:lnTo>
                      <a:lnTo>
                        <a:pt x="154" y="1782"/>
                      </a:lnTo>
                      <a:lnTo>
                        <a:pt x="221" y="1866"/>
                      </a:lnTo>
                      <a:lnTo>
                        <a:pt x="279" y="1956"/>
                      </a:lnTo>
                      <a:lnTo>
                        <a:pt x="342" y="2034"/>
                      </a:lnTo>
                      <a:lnTo>
                        <a:pt x="421" y="2129"/>
                      </a:lnTo>
                      <a:lnTo>
                        <a:pt x="522" y="2271"/>
                      </a:lnTo>
                      <a:lnTo>
                        <a:pt x="621" y="2400"/>
                      </a:lnTo>
                      <a:lnTo>
                        <a:pt x="714" y="2516"/>
                      </a:lnTo>
                      <a:lnTo>
                        <a:pt x="783" y="2595"/>
                      </a:lnTo>
                      <a:lnTo>
                        <a:pt x="846" y="2694"/>
                      </a:lnTo>
                      <a:lnTo>
                        <a:pt x="901" y="2777"/>
                      </a:lnTo>
                      <a:lnTo>
                        <a:pt x="931" y="2836"/>
                      </a:lnTo>
                      <a:lnTo>
                        <a:pt x="976" y="2884"/>
                      </a:lnTo>
                      <a:lnTo>
                        <a:pt x="1035" y="2924"/>
                      </a:lnTo>
                      <a:lnTo>
                        <a:pt x="1119" y="2954"/>
                      </a:lnTo>
                      <a:lnTo>
                        <a:pt x="1230" y="2991"/>
                      </a:lnTo>
                      <a:lnTo>
                        <a:pt x="1329" y="3034"/>
                      </a:lnTo>
                      <a:lnTo>
                        <a:pt x="1419" y="3086"/>
                      </a:lnTo>
                      <a:lnTo>
                        <a:pt x="1514" y="3159"/>
                      </a:lnTo>
                      <a:lnTo>
                        <a:pt x="1625" y="3248"/>
                      </a:lnTo>
                      <a:lnTo>
                        <a:pt x="1708" y="3312"/>
                      </a:lnTo>
                      <a:lnTo>
                        <a:pt x="1787" y="3359"/>
                      </a:lnTo>
                      <a:lnTo>
                        <a:pt x="1850" y="3391"/>
                      </a:lnTo>
                      <a:lnTo>
                        <a:pt x="1930" y="3407"/>
                      </a:lnTo>
                      <a:lnTo>
                        <a:pt x="2012" y="3402"/>
                      </a:lnTo>
                      <a:lnTo>
                        <a:pt x="2069" y="3380"/>
                      </a:lnTo>
                      <a:lnTo>
                        <a:pt x="2132" y="3338"/>
                      </a:lnTo>
                      <a:lnTo>
                        <a:pt x="2180" y="3296"/>
                      </a:lnTo>
                      <a:lnTo>
                        <a:pt x="2248" y="3217"/>
                      </a:lnTo>
                      <a:lnTo>
                        <a:pt x="2322" y="3107"/>
                      </a:lnTo>
                      <a:lnTo>
                        <a:pt x="2386" y="3018"/>
                      </a:lnTo>
                      <a:lnTo>
                        <a:pt x="2453" y="2938"/>
                      </a:lnTo>
                      <a:lnTo>
                        <a:pt x="2493" y="2909"/>
                      </a:lnTo>
                      <a:lnTo>
                        <a:pt x="2534" y="2887"/>
                      </a:lnTo>
                      <a:lnTo>
                        <a:pt x="2588" y="2873"/>
                      </a:lnTo>
                      <a:lnTo>
                        <a:pt x="2566" y="272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3878280" y="1953720"/>
                  <a:ext cx="1532880" cy="3514320"/>
                </a:xfrm>
                <a:custGeom>
                  <a:avLst/>
                  <a:gdLst/>
                  <a:ahLst/>
                  <a:rect l="l" t="t" r="r" b="b"/>
                  <a:pathLst>
                    <a:path w="2592" h="3410">
                      <a:moveTo>
                        <a:pt x="1958" y="232"/>
                      </a:moveTo>
                      <a:lnTo>
                        <a:pt x="1841" y="201"/>
                      </a:lnTo>
                      <a:lnTo>
                        <a:pt x="1757" y="164"/>
                      </a:lnTo>
                      <a:lnTo>
                        <a:pt x="1672" y="106"/>
                      </a:lnTo>
                      <a:lnTo>
                        <a:pt x="1574" y="63"/>
                      </a:lnTo>
                      <a:lnTo>
                        <a:pt x="1452" y="32"/>
                      </a:lnTo>
                      <a:lnTo>
                        <a:pt x="1295" y="11"/>
                      </a:lnTo>
                      <a:lnTo>
                        <a:pt x="1142" y="0"/>
                      </a:lnTo>
                      <a:lnTo>
                        <a:pt x="989" y="11"/>
                      </a:lnTo>
                      <a:lnTo>
                        <a:pt x="837" y="37"/>
                      </a:lnTo>
                      <a:lnTo>
                        <a:pt x="695" y="79"/>
                      </a:lnTo>
                      <a:lnTo>
                        <a:pt x="578" y="137"/>
                      </a:lnTo>
                      <a:lnTo>
                        <a:pt x="453" y="222"/>
                      </a:lnTo>
                      <a:lnTo>
                        <a:pt x="337" y="326"/>
                      </a:lnTo>
                      <a:lnTo>
                        <a:pt x="252" y="431"/>
                      </a:lnTo>
                      <a:lnTo>
                        <a:pt x="170" y="569"/>
                      </a:lnTo>
                      <a:lnTo>
                        <a:pt x="111" y="685"/>
                      </a:lnTo>
                      <a:lnTo>
                        <a:pt x="69" y="785"/>
                      </a:lnTo>
                      <a:lnTo>
                        <a:pt x="32" y="905"/>
                      </a:lnTo>
                      <a:lnTo>
                        <a:pt x="6" y="1011"/>
                      </a:lnTo>
                      <a:lnTo>
                        <a:pt x="0" y="1122"/>
                      </a:lnTo>
                      <a:lnTo>
                        <a:pt x="22" y="1306"/>
                      </a:lnTo>
                      <a:lnTo>
                        <a:pt x="59" y="1468"/>
                      </a:lnTo>
                      <a:lnTo>
                        <a:pt x="74" y="1622"/>
                      </a:lnTo>
                      <a:lnTo>
                        <a:pt x="101" y="1710"/>
                      </a:lnTo>
                      <a:lnTo>
                        <a:pt x="154" y="1784"/>
                      </a:lnTo>
                      <a:lnTo>
                        <a:pt x="221" y="1868"/>
                      </a:lnTo>
                      <a:lnTo>
                        <a:pt x="279" y="1958"/>
                      </a:lnTo>
                      <a:lnTo>
                        <a:pt x="342" y="2035"/>
                      </a:lnTo>
                      <a:lnTo>
                        <a:pt x="421" y="2130"/>
                      </a:lnTo>
                      <a:lnTo>
                        <a:pt x="522" y="2273"/>
                      </a:lnTo>
                      <a:lnTo>
                        <a:pt x="621" y="2402"/>
                      </a:lnTo>
                      <a:lnTo>
                        <a:pt x="716" y="2518"/>
                      </a:lnTo>
                      <a:lnTo>
                        <a:pt x="784" y="2599"/>
                      </a:lnTo>
                      <a:lnTo>
                        <a:pt x="848" y="2697"/>
                      </a:lnTo>
                      <a:lnTo>
                        <a:pt x="902" y="2780"/>
                      </a:lnTo>
                      <a:lnTo>
                        <a:pt x="932" y="2840"/>
                      </a:lnTo>
                      <a:lnTo>
                        <a:pt x="978" y="2887"/>
                      </a:lnTo>
                      <a:lnTo>
                        <a:pt x="1036" y="2928"/>
                      </a:lnTo>
                      <a:lnTo>
                        <a:pt x="1121" y="2958"/>
                      </a:lnTo>
                      <a:lnTo>
                        <a:pt x="1232" y="2995"/>
                      </a:lnTo>
                      <a:lnTo>
                        <a:pt x="1331" y="3037"/>
                      </a:lnTo>
                      <a:lnTo>
                        <a:pt x="1420" y="3090"/>
                      </a:lnTo>
                      <a:lnTo>
                        <a:pt x="1516" y="3162"/>
                      </a:lnTo>
                      <a:lnTo>
                        <a:pt x="1627" y="3252"/>
                      </a:lnTo>
                      <a:lnTo>
                        <a:pt x="1709" y="3315"/>
                      </a:lnTo>
                      <a:lnTo>
                        <a:pt x="1789" y="3363"/>
                      </a:lnTo>
                      <a:lnTo>
                        <a:pt x="1852" y="3394"/>
                      </a:lnTo>
                      <a:lnTo>
                        <a:pt x="1931" y="3410"/>
                      </a:lnTo>
                      <a:lnTo>
                        <a:pt x="2016" y="3405"/>
                      </a:lnTo>
                      <a:lnTo>
                        <a:pt x="2072" y="3384"/>
                      </a:lnTo>
                      <a:lnTo>
                        <a:pt x="2136" y="3342"/>
                      </a:lnTo>
                      <a:lnTo>
                        <a:pt x="2183" y="3299"/>
                      </a:lnTo>
                      <a:lnTo>
                        <a:pt x="2252" y="3220"/>
                      </a:lnTo>
                      <a:lnTo>
                        <a:pt x="2326" y="3111"/>
                      </a:lnTo>
                      <a:lnTo>
                        <a:pt x="2389" y="3021"/>
                      </a:lnTo>
                      <a:lnTo>
                        <a:pt x="2456" y="2942"/>
                      </a:lnTo>
                      <a:lnTo>
                        <a:pt x="2497" y="2912"/>
                      </a:lnTo>
                      <a:lnTo>
                        <a:pt x="2537" y="2891"/>
                      </a:lnTo>
                      <a:lnTo>
                        <a:pt x="2592" y="287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
              <p:cNvGrpSpPr/>
              <p:nvPr/>
            </p:nvGrpSpPr>
            <p:grpSpPr>
              <a:xfrm>
                <a:off x="4021200" y="2321280"/>
                <a:ext cx="1051920" cy="2192040"/>
                <a:chOff x="4021200" y="2321280"/>
                <a:chExt cx="1051920" cy="2192040"/>
              </a:xfrm>
            </p:grpSpPr>
            <p:grpSp>
              <p:nvGrpSpPr>
                <p:cNvPr id="503" name=""/>
                <p:cNvGrpSpPr/>
                <p:nvPr/>
              </p:nvGrpSpPr>
              <p:grpSpPr>
                <a:xfrm>
                  <a:off x="4021200" y="2321280"/>
                  <a:ext cx="1050120" cy="2188800"/>
                  <a:chOff x="4021200" y="2321280"/>
                  <a:chExt cx="1050120" cy="2188800"/>
                </a:xfrm>
              </p:grpSpPr>
              <p:sp>
                <p:nvSpPr>
                  <p:cNvPr id="504" name=""/>
                  <p:cNvSpPr/>
                  <p:nvPr/>
                </p:nvSpPr>
                <p:spPr>
                  <a:xfrm>
                    <a:off x="4413600" y="2321280"/>
                    <a:ext cx="414360" cy="479160"/>
                  </a:xfrm>
                  <a:custGeom>
                    <a:avLst/>
                    <a:gdLst/>
                    <a:ahLst/>
                    <a:rect l="l" t="t" r="r" b="b"/>
                    <a:pathLst>
                      <a:path w="701" h="465">
                        <a:moveTo>
                          <a:pt x="648" y="465"/>
                        </a:moveTo>
                        <a:lnTo>
                          <a:pt x="622" y="375"/>
                        </a:lnTo>
                        <a:lnTo>
                          <a:pt x="590" y="319"/>
                        </a:lnTo>
                        <a:lnTo>
                          <a:pt x="553" y="277"/>
                        </a:lnTo>
                        <a:lnTo>
                          <a:pt x="491" y="250"/>
                        </a:lnTo>
                        <a:lnTo>
                          <a:pt x="402" y="240"/>
                        </a:lnTo>
                        <a:lnTo>
                          <a:pt x="308" y="229"/>
                        </a:lnTo>
                        <a:lnTo>
                          <a:pt x="162" y="203"/>
                        </a:lnTo>
                        <a:lnTo>
                          <a:pt x="77" y="182"/>
                        </a:lnTo>
                        <a:lnTo>
                          <a:pt x="0" y="157"/>
                        </a:lnTo>
                        <a:lnTo>
                          <a:pt x="141" y="120"/>
                        </a:lnTo>
                        <a:lnTo>
                          <a:pt x="240" y="85"/>
                        </a:lnTo>
                        <a:lnTo>
                          <a:pt x="361" y="27"/>
                        </a:lnTo>
                        <a:lnTo>
                          <a:pt x="465" y="0"/>
                        </a:lnTo>
                        <a:lnTo>
                          <a:pt x="595" y="22"/>
                        </a:lnTo>
                        <a:lnTo>
                          <a:pt x="659" y="59"/>
                        </a:lnTo>
                        <a:lnTo>
                          <a:pt x="691" y="111"/>
                        </a:lnTo>
                        <a:lnTo>
                          <a:pt x="701" y="189"/>
                        </a:lnTo>
                        <a:lnTo>
                          <a:pt x="680" y="284"/>
                        </a:lnTo>
                        <a:lnTo>
                          <a:pt x="664" y="377"/>
                        </a:lnTo>
                        <a:lnTo>
                          <a:pt x="648" y="46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4021200" y="2523240"/>
                    <a:ext cx="315720" cy="1042560"/>
                  </a:xfrm>
                  <a:custGeom>
                    <a:avLst/>
                    <a:gdLst/>
                    <a:ahLst/>
                    <a:rect l="l" t="t" r="r" b="b"/>
                    <a:pathLst>
                      <a:path w="534" h="1012">
                        <a:moveTo>
                          <a:pt x="74" y="1012"/>
                        </a:moveTo>
                        <a:lnTo>
                          <a:pt x="37" y="878"/>
                        </a:lnTo>
                        <a:lnTo>
                          <a:pt x="10" y="775"/>
                        </a:lnTo>
                        <a:lnTo>
                          <a:pt x="0" y="639"/>
                        </a:lnTo>
                        <a:lnTo>
                          <a:pt x="5" y="525"/>
                        </a:lnTo>
                        <a:lnTo>
                          <a:pt x="21" y="393"/>
                        </a:lnTo>
                        <a:lnTo>
                          <a:pt x="47" y="297"/>
                        </a:lnTo>
                        <a:lnTo>
                          <a:pt x="79" y="222"/>
                        </a:lnTo>
                        <a:lnTo>
                          <a:pt x="146" y="143"/>
                        </a:lnTo>
                        <a:lnTo>
                          <a:pt x="225" y="84"/>
                        </a:lnTo>
                        <a:lnTo>
                          <a:pt x="313" y="42"/>
                        </a:lnTo>
                        <a:lnTo>
                          <a:pt x="428" y="16"/>
                        </a:lnTo>
                        <a:lnTo>
                          <a:pt x="534" y="0"/>
                        </a:lnTo>
                        <a:lnTo>
                          <a:pt x="449" y="37"/>
                        </a:lnTo>
                        <a:lnTo>
                          <a:pt x="387" y="74"/>
                        </a:lnTo>
                        <a:lnTo>
                          <a:pt x="345" y="106"/>
                        </a:lnTo>
                        <a:lnTo>
                          <a:pt x="294" y="153"/>
                        </a:lnTo>
                        <a:lnTo>
                          <a:pt x="257" y="195"/>
                        </a:lnTo>
                        <a:lnTo>
                          <a:pt x="220" y="253"/>
                        </a:lnTo>
                        <a:lnTo>
                          <a:pt x="178" y="324"/>
                        </a:lnTo>
                        <a:lnTo>
                          <a:pt x="141" y="398"/>
                        </a:lnTo>
                        <a:lnTo>
                          <a:pt x="111" y="482"/>
                        </a:lnTo>
                        <a:lnTo>
                          <a:pt x="90" y="562"/>
                        </a:lnTo>
                        <a:lnTo>
                          <a:pt x="68" y="672"/>
                        </a:lnTo>
                        <a:lnTo>
                          <a:pt x="58" y="776"/>
                        </a:lnTo>
                        <a:lnTo>
                          <a:pt x="74" y="1007"/>
                        </a:lnTo>
                        <a:lnTo>
                          <a:pt x="74" y="10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4833720" y="3339360"/>
                    <a:ext cx="237600" cy="1170720"/>
                  </a:xfrm>
                  <a:custGeom>
                    <a:avLst/>
                    <a:gdLst/>
                    <a:ahLst/>
                    <a:rect l="l" t="t" r="r" b="b"/>
                    <a:pathLst>
                      <a:path w="402" h="1136">
                        <a:moveTo>
                          <a:pt x="322" y="4"/>
                        </a:moveTo>
                        <a:lnTo>
                          <a:pt x="359" y="62"/>
                        </a:lnTo>
                        <a:lnTo>
                          <a:pt x="375" y="134"/>
                        </a:lnTo>
                        <a:lnTo>
                          <a:pt x="365" y="218"/>
                        </a:lnTo>
                        <a:lnTo>
                          <a:pt x="338" y="306"/>
                        </a:lnTo>
                        <a:lnTo>
                          <a:pt x="298" y="370"/>
                        </a:lnTo>
                        <a:lnTo>
                          <a:pt x="224" y="433"/>
                        </a:lnTo>
                        <a:lnTo>
                          <a:pt x="171" y="500"/>
                        </a:lnTo>
                        <a:lnTo>
                          <a:pt x="150" y="564"/>
                        </a:lnTo>
                        <a:lnTo>
                          <a:pt x="166" y="643"/>
                        </a:lnTo>
                        <a:lnTo>
                          <a:pt x="208" y="694"/>
                        </a:lnTo>
                        <a:lnTo>
                          <a:pt x="271" y="736"/>
                        </a:lnTo>
                        <a:lnTo>
                          <a:pt x="338" y="794"/>
                        </a:lnTo>
                        <a:lnTo>
                          <a:pt x="381" y="861"/>
                        </a:lnTo>
                        <a:lnTo>
                          <a:pt x="402" y="958"/>
                        </a:lnTo>
                        <a:lnTo>
                          <a:pt x="381" y="1042"/>
                        </a:lnTo>
                        <a:lnTo>
                          <a:pt x="349" y="1099"/>
                        </a:lnTo>
                        <a:lnTo>
                          <a:pt x="282" y="1130"/>
                        </a:lnTo>
                        <a:lnTo>
                          <a:pt x="203" y="1136"/>
                        </a:lnTo>
                        <a:lnTo>
                          <a:pt x="134" y="1115"/>
                        </a:lnTo>
                        <a:lnTo>
                          <a:pt x="56" y="1067"/>
                        </a:lnTo>
                        <a:lnTo>
                          <a:pt x="0" y="1025"/>
                        </a:lnTo>
                        <a:lnTo>
                          <a:pt x="40" y="1023"/>
                        </a:lnTo>
                        <a:lnTo>
                          <a:pt x="81" y="1020"/>
                        </a:lnTo>
                        <a:lnTo>
                          <a:pt x="130" y="1012"/>
                        </a:lnTo>
                        <a:lnTo>
                          <a:pt x="167" y="997"/>
                        </a:lnTo>
                        <a:lnTo>
                          <a:pt x="199" y="970"/>
                        </a:lnTo>
                        <a:lnTo>
                          <a:pt x="225" y="939"/>
                        </a:lnTo>
                        <a:lnTo>
                          <a:pt x="241" y="898"/>
                        </a:lnTo>
                        <a:lnTo>
                          <a:pt x="247" y="854"/>
                        </a:lnTo>
                        <a:lnTo>
                          <a:pt x="241" y="808"/>
                        </a:lnTo>
                        <a:lnTo>
                          <a:pt x="233" y="771"/>
                        </a:lnTo>
                        <a:lnTo>
                          <a:pt x="222" y="745"/>
                        </a:lnTo>
                        <a:lnTo>
                          <a:pt x="199" y="724"/>
                        </a:lnTo>
                        <a:lnTo>
                          <a:pt x="167" y="699"/>
                        </a:lnTo>
                        <a:lnTo>
                          <a:pt x="120" y="660"/>
                        </a:lnTo>
                        <a:lnTo>
                          <a:pt x="95" y="630"/>
                        </a:lnTo>
                        <a:lnTo>
                          <a:pt x="70" y="595"/>
                        </a:lnTo>
                        <a:lnTo>
                          <a:pt x="58" y="551"/>
                        </a:lnTo>
                        <a:lnTo>
                          <a:pt x="55" y="504"/>
                        </a:lnTo>
                        <a:lnTo>
                          <a:pt x="55" y="453"/>
                        </a:lnTo>
                        <a:lnTo>
                          <a:pt x="60" y="409"/>
                        </a:lnTo>
                        <a:lnTo>
                          <a:pt x="79" y="373"/>
                        </a:lnTo>
                        <a:lnTo>
                          <a:pt x="104" y="336"/>
                        </a:lnTo>
                        <a:lnTo>
                          <a:pt x="132" y="305"/>
                        </a:lnTo>
                        <a:lnTo>
                          <a:pt x="169" y="284"/>
                        </a:lnTo>
                        <a:lnTo>
                          <a:pt x="225" y="268"/>
                        </a:lnTo>
                        <a:lnTo>
                          <a:pt x="264" y="252"/>
                        </a:lnTo>
                        <a:lnTo>
                          <a:pt x="301" y="226"/>
                        </a:lnTo>
                        <a:lnTo>
                          <a:pt x="326" y="183"/>
                        </a:lnTo>
                        <a:lnTo>
                          <a:pt x="335" y="143"/>
                        </a:lnTo>
                        <a:lnTo>
                          <a:pt x="340" y="88"/>
                        </a:lnTo>
                        <a:lnTo>
                          <a:pt x="322" y="0"/>
                        </a:lnTo>
                        <a:lnTo>
                          <a:pt x="322" y="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4490640" y="2950920"/>
                    <a:ext cx="281160" cy="571680"/>
                  </a:xfrm>
                  <a:custGeom>
                    <a:avLst/>
                    <a:gdLst/>
                    <a:ahLst/>
                    <a:rect l="l" t="t" r="r" b="b"/>
                    <a:pathLst>
                      <a:path w="476" h="555">
                        <a:moveTo>
                          <a:pt x="474" y="2"/>
                        </a:moveTo>
                        <a:lnTo>
                          <a:pt x="437" y="92"/>
                        </a:lnTo>
                        <a:lnTo>
                          <a:pt x="411" y="143"/>
                        </a:lnTo>
                        <a:lnTo>
                          <a:pt x="381" y="205"/>
                        </a:lnTo>
                        <a:lnTo>
                          <a:pt x="354" y="268"/>
                        </a:lnTo>
                        <a:lnTo>
                          <a:pt x="330" y="321"/>
                        </a:lnTo>
                        <a:lnTo>
                          <a:pt x="302" y="370"/>
                        </a:lnTo>
                        <a:lnTo>
                          <a:pt x="266" y="416"/>
                        </a:lnTo>
                        <a:lnTo>
                          <a:pt x="235" y="460"/>
                        </a:lnTo>
                        <a:lnTo>
                          <a:pt x="214" y="504"/>
                        </a:lnTo>
                        <a:lnTo>
                          <a:pt x="194" y="555"/>
                        </a:lnTo>
                        <a:lnTo>
                          <a:pt x="178" y="514"/>
                        </a:lnTo>
                        <a:lnTo>
                          <a:pt x="162" y="483"/>
                        </a:lnTo>
                        <a:lnTo>
                          <a:pt x="141" y="442"/>
                        </a:lnTo>
                        <a:lnTo>
                          <a:pt x="120" y="412"/>
                        </a:lnTo>
                        <a:lnTo>
                          <a:pt x="95" y="379"/>
                        </a:lnTo>
                        <a:lnTo>
                          <a:pt x="67" y="354"/>
                        </a:lnTo>
                        <a:lnTo>
                          <a:pt x="41" y="337"/>
                        </a:lnTo>
                        <a:lnTo>
                          <a:pt x="0" y="326"/>
                        </a:lnTo>
                        <a:lnTo>
                          <a:pt x="64" y="294"/>
                        </a:lnTo>
                        <a:lnTo>
                          <a:pt x="173" y="247"/>
                        </a:lnTo>
                        <a:lnTo>
                          <a:pt x="266" y="194"/>
                        </a:lnTo>
                        <a:lnTo>
                          <a:pt x="360" y="132"/>
                        </a:lnTo>
                        <a:lnTo>
                          <a:pt x="428" y="69"/>
                        </a:lnTo>
                        <a:lnTo>
                          <a:pt x="476" y="0"/>
                        </a:lnTo>
                        <a:lnTo>
                          <a:pt x="474" y="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8" name=""/>
                <p:cNvSpPr/>
                <p:nvPr/>
              </p:nvSpPr>
              <p:spPr>
                <a:xfrm>
                  <a:off x="4021200" y="2321280"/>
                  <a:ext cx="1051920" cy="2192040"/>
                </a:xfrm>
                <a:custGeom>
                  <a:avLst/>
                  <a:gdLst/>
                  <a:ahLst/>
                  <a:rect l="l" t="t" r="r" b="b"/>
                  <a:pathLst>
                    <a:path w="1779" h="2127">
                      <a:moveTo>
                        <a:pt x="1053" y="1222"/>
                      </a:moveTo>
                      <a:lnTo>
                        <a:pt x="1120" y="1138"/>
                      </a:lnTo>
                      <a:lnTo>
                        <a:pt x="1200" y="1064"/>
                      </a:lnTo>
                      <a:lnTo>
                        <a:pt x="1279" y="1008"/>
                      </a:lnTo>
                      <a:lnTo>
                        <a:pt x="1358" y="955"/>
                      </a:lnTo>
                      <a:lnTo>
                        <a:pt x="1422" y="923"/>
                      </a:lnTo>
                      <a:lnTo>
                        <a:pt x="1476" y="907"/>
                      </a:lnTo>
                      <a:lnTo>
                        <a:pt x="1536" y="897"/>
                      </a:lnTo>
                      <a:lnTo>
                        <a:pt x="1605" y="912"/>
                      </a:lnTo>
                      <a:lnTo>
                        <a:pt x="1652" y="939"/>
                      </a:lnTo>
                      <a:lnTo>
                        <a:pt x="1700" y="992"/>
                      </a:lnTo>
                      <a:lnTo>
                        <a:pt x="1737" y="1050"/>
                      </a:lnTo>
                      <a:lnTo>
                        <a:pt x="1753" y="1122"/>
                      </a:lnTo>
                      <a:lnTo>
                        <a:pt x="1742" y="1206"/>
                      </a:lnTo>
                      <a:lnTo>
                        <a:pt x="1716" y="1296"/>
                      </a:lnTo>
                      <a:lnTo>
                        <a:pt x="1673" y="1360"/>
                      </a:lnTo>
                      <a:lnTo>
                        <a:pt x="1599" y="1423"/>
                      </a:lnTo>
                      <a:lnTo>
                        <a:pt x="1547" y="1490"/>
                      </a:lnTo>
                      <a:lnTo>
                        <a:pt x="1525" y="1553"/>
                      </a:lnTo>
                      <a:lnTo>
                        <a:pt x="1541" y="1633"/>
                      </a:lnTo>
                      <a:lnTo>
                        <a:pt x="1584" y="1684"/>
                      </a:lnTo>
                      <a:lnTo>
                        <a:pt x="1647" y="1726"/>
                      </a:lnTo>
                      <a:lnTo>
                        <a:pt x="1716" y="1784"/>
                      </a:lnTo>
                      <a:lnTo>
                        <a:pt x="1758" y="1853"/>
                      </a:lnTo>
                      <a:lnTo>
                        <a:pt x="1779" y="1949"/>
                      </a:lnTo>
                      <a:lnTo>
                        <a:pt x="1758" y="2034"/>
                      </a:lnTo>
                      <a:lnTo>
                        <a:pt x="1726" y="2090"/>
                      </a:lnTo>
                      <a:lnTo>
                        <a:pt x="1658" y="2122"/>
                      </a:lnTo>
                      <a:lnTo>
                        <a:pt x="1578" y="2127"/>
                      </a:lnTo>
                      <a:lnTo>
                        <a:pt x="1510" y="2106"/>
                      </a:lnTo>
                      <a:lnTo>
                        <a:pt x="1430" y="2059"/>
                      </a:lnTo>
                      <a:lnTo>
                        <a:pt x="1374" y="2016"/>
                      </a:lnTo>
                      <a:lnTo>
                        <a:pt x="1307" y="1951"/>
                      </a:lnTo>
                      <a:lnTo>
                        <a:pt x="1242" y="1895"/>
                      </a:lnTo>
                      <a:lnTo>
                        <a:pt x="1175" y="1854"/>
                      </a:lnTo>
                      <a:lnTo>
                        <a:pt x="1096" y="1830"/>
                      </a:lnTo>
                      <a:lnTo>
                        <a:pt x="1011" y="1810"/>
                      </a:lnTo>
                      <a:lnTo>
                        <a:pt x="928" y="1795"/>
                      </a:lnTo>
                      <a:lnTo>
                        <a:pt x="847" y="1779"/>
                      </a:lnTo>
                      <a:lnTo>
                        <a:pt x="780" y="1758"/>
                      </a:lnTo>
                      <a:lnTo>
                        <a:pt x="715" y="1715"/>
                      </a:lnTo>
                      <a:lnTo>
                        <a:pt x="659" y="1652"/>
                      </a:lnTo>
                      <a:lnTo>
                        <a:pt x="616" y="1585"/>
                      </a:lnTo>
                      <a:lnTo>
                        <a:pt x="590" y="1508"/>
                      </a:lnTo>
                      <a:lnTo>
                        <a:pt x="569" y="1390"/>
                      </a:lnTo>
                      <a:lnTo>
                        <a:pt x="574" y="1273"/>
                      </a:lnTo>
                      <a:lnTo>
                        <a:pt x="595" y="1173"/>
                      </a:lnTo>
                      <a:lnTo>
                        <a:pt x="632" y="1090"/>
                      </a:lnTo>
                      <a:lnTo>
                        <a:pt x="676" y="1034"/>
                      </a:lnTo>
                      <a:lnTo>
                        <a:pt x="713" y="993"/>
                      </a:lnTo>
                      <a:lnTo>
                        <a:pt x="763" y="953"/>
                      </a:lnTo>
                      <a:lnTo>
                        <a:pt x="858" y="907"/>
                      </a:lnTo>
                      <a:lnTo>
                        <a:pt x="969" y="860"/>
                      </a:lnTo>
                      <a:lnTo>
                        <a:pt x="1062" y="807"/>
                      </a:lnTo>
                      <a:lnTo>
                        <a:pt x="1157" y="743"/>
                      </a:lnTo>
                      <a:lnTo>
                        <a:pt x="1226" y="680"/>
                      </a:lnTo>
                      <a:lnTo>
                        <a:pt x="1263" y="627"/>
                      </a:lnTo>
                      <a:lnTo>
                        <a:pt x="1277" y="592"/>
                      </a:lnTo>
                      <a:lnTo>
                        <a:pt x="1282" y="560"/>
                      </a:lnTo>
                      <a:lnTo>
                        <a:pt x="1284" y="506"/>
                      </a:lnTo>
                      <a:lnTo>
                        <a:pt x="1256" y="581"/>
                      </a:lnTo>
                      <a:lnTo>
                        <a:pt x="1224" y="624"/>
                      </a:lnTo>
                      <a:lnTo>
                        <a:pt x="1178" y="661"/>
                      </a:lnTo>
                      <a:lnTo>
                        <a:pt x="1129" y="687"/>
                      </a:lnTo>
                      <a:lnTo>
                        <a:pt x="1067" y="706"/>
                      </a:lnTo>
                      <a:lnTo>
                        <a:pt x="990" y="717"/>
                      </a:lnTo>
                      <a:lnTo>
                        <a:pt x="916" y="708"/>
                      </a:lnTo>
                      <a:lnTo>
                        <a:pt x="837" y="701"/>
                      </a:lnTo>
                      <a:lnTo>
                        <a:pt x="761" y="703"/>
                      </a:lnTo>
                      <a:lnTo>
                        <a:pt x="687" y="712"/>
                      </a:lnTo>
                      <a:lnTo>
                        <a:pt x="615" y="728"/>
                      </a:lnTo>
                      <a:lnTo>
                        <a:pt x="527" y="759"/>
                      </a:lnTo>
                      <a:lnTo>
                        <a:pt x="447" y="798"/>
                      </a:lnTo>
                      <a:lnTo>
                        <a:pt x="382" y="840"/>
                      </a:lnTo>
                      <a:lnTo>
                        <a:pt x="326" y="897"/>
                      </a:lnTo>
                      <a:lnTo>
                        <a:pt x="278" y="965"/>
                      </a:lnTo>
                      <a:lnTo>
                        <a:pt x="252" y="1030"/>
                      </a:lnTo>
                      <a:lnTo>
                        <a:pt x="241" y="1096"/>
                      </a:lnTo>
                      <a:lnTo>
                        <a:pt x="253" y="1212"/>
                      </a:lnTo>
                      <a:lnTo>
                        <a:pt x="285" y="1339"/>
                      </a:lnTo>
                      <a:lnTo>
                        <a:pt x="319" y="1428"/>
                      </a:lnTo>
                      <a:lnTo>
                        <a:pt x="359" y="1506"/>
                      </a:lnTo>
                      <a:lnTo>
                        <a:pt x="419" y="1592"/>
                      </a:lnTo>
                      <a:lnTo>
                        <a:pt x="475" y="1654"/>
                      </a:lnTo>
                      <a:lnTo>
                        <a:pt x="542" y="1715"/>
                      </a:lnTo>
                      <a:lnTo>
                        <a:pt x="629" y="1786"/>
                      </a:lnTo>
                      <a:lnTo>
                        <a:pt x="733" y="1849"/>
                      </a:lnTo>
                      <a:lnTo>
                        <a:pt x="837" y="1890"/>
                      </a:lnTo>
                      <a:lnTo>
                        <a:pt x="937" y="1918"/>
                      </a:lnTo>
                      <a:lnTo>
                        <a:pt x="1011" y="1932"/>
                      </a:lnTo>
                      <a:lnTo>
                        <a:pt x="1073" y="1948"/>
                      </a:lnTo>
                      <a:lnTo>
                        <a:pt x="1104" y="1972"/>
                      </a:lnTo>
                      <a:lnTo>
                        <a:pt x="1115" y="2004"/>
                      </a:lnTo>
                      <a:lnTo>
                        <a:pt x="1106" y="2036"/>
                      </a:lnTo>
                      <a:lnTo>
                        <a:pt x="1080" y="2053"/>
                      </a:lnTo>
                      <a:lnTo>
                        <a:pt x="1045" y="2059"/>
                      </a:lnTo>
                      <a:lnTo>
                        <a:pt x="979" y="2052"/>
                      </a:lnTo>
                      <a:lnTo>
                        <a:pt x="889" y="2027"/>
                      </a:lnTo>
                      <a:lnTo>
                        <a:pt x="800" y="1995"/>
                      </a:lnTo>
                      <a:lnTo>
                        <a:pt x="701" y="1948"/>
                      </a:lnTo>
                      <a:lnTo>
                        <a:pt x="627" y="1900"/>
                      </a:lnTo>
                      <a:lnTo>
                        <a:pt x="556" y="1842"/>
                      </a:lnTo>
                      <a:lnTo>
                        <a:pt x="498" y="1775"/>
                      </a:lnTo>
                      <a:lnTo>
                        <a:pt x="433" y="1694"/>
                      </a:lnTo>
                      <a:lnTo>
                        <a:pt x="363" y="1617"/>
                      </a:lnTo>
                      <a:lnTo>
                        <a:pt x="290" y="1532"/>
                      </a:lnTo>
                      <a:lnTo>
                        <a:pt x="218" y="1444"/>
                      </a:lnTo>
                      <a:lnTo>
                        <a:pt x="160" y="1370"/>
                      </a:lnTo>
                      <a:lnTo>
                        <a:pt x="113" y="1296"/>
                      </a:lnTo>
                      <a:lnTo>
                        <a:pt x="76" y="1212"/>
                      </a:lnTo>
                      <a:lnTo>
                        <a:pt x="37" y="1078"/>
                      </a:lnTo>
                      <a:lnTo>
                        <a:pt x="10" y="974"/>
                      </a:lnTo>
                      <a:lnTo>
                        <a:pt x="0" y="837"/>
                      </a:lnTo>
                      <a:lnTo>
                        <a:pt x="5" y="722"/>
                      </a:lnTo>
                      <a:lnTo>
                        <a:pt x="21" y="590"/>
                      </a:lnTo>
                      <a:lnTo>
                        <a:pt x="47" y="495"/>
                      </a:lnTo>
                      <a:lnTo>
                        <a:pt x="79" y="418"/>
                      </a:lnTo>
                      <a:lnTo>
                        <a:pt x="148" y="339"/>
                      </a:lnTo>
                      <a:lnTo>
                        <a:pt x="227" y="280"/>
                      </a:lnTo>
                      <a:lnTo>
                        <a:pt x="315" y="238"/>
                      </a:lnTo>
                      <a:lnTo>
                        <a:pt x="431" y="212"/>
                      </a:lnTo>
                      <a:lnTo>
                        <a:pt x="537" y="196"/>
                      </a:lnTo>
                      <a:lnTo>
                        <a:pt x="664" y="159"/>
                      </a:lnTo>
                      <a:lnTo>
                        <a:pt x="805" y="122"/>
                      </a:lnTo>
                      <a:lnTo>
                        <a:pt x="905" y="85"/>
                      </a:lnTo>
                      <a:lnTo>
                        <a:pt x="1027" y="27"/>
                      </a:lnTo>
                      <a:lnTo>
                        <a:pt x="1131" y="0"/>
                      </a:lnTo>
                      <a:lnTo>
                        <a:pt x="1263" y="22"/>
                      </a:lnTo>
                      <a:lnTo>
                        <a:pt x="1326" y="59"/>
                      </a:lnTo>
                      <a:lnTo>
                        <a:pt x="1358" y="111"/>
                      </a:lnTo>
                      <a:lnTo>
                        <a:pt x="1369" y="191"/>
                      </a:lnTo>
                      <a:lnTo>
                        <a:pt x="1348" y="286"/>
                      </a:lnTo>
                      <a:lnTo>
                        <a:pt x="1332" y="381"/>
                      </a:lnTo>
                      <a:lnTo>
                        <a:pt x="1316" y="465"/>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9" name=""/>
            <p:cNvSpPr/>
            <p:nvPr/>
          </p:nvSpPr>
          <p:spPr>
            <a:xfrm>
              <a:off x="4321080" y="3181320"/>
              <a:ext cx="1158840" cy="1019160"/>
            </a:xfrm>
            <a:custGeom>
              <a:avLst/>
              <a:gdLst/>
              <a:ahLst/>
              <a:rect l="l" t="t" r="r" b="b"/>
              <a:pathLst>
                <a:path w="1680" h="1440">
                  <a:moveTo>
                    <a:pt x="0" y="640"/>
                  </a:moveTo>
                  <a:lnTo>
                    <a:pt x="0" y="160"/>
                  </a:lnTo>
                  <a:lnTo>
                    <a:pt x="146" y="0"/>
                  </a:lnTo>
                  <a:lnTo>
                    <a:pt x="365" y="0"/>
                  </a:lnTo>
                  <a:lnTo>
                    <a:pt x="511" y="160"/>
                  </a:lnTo>
                  <a:lnTo>
                    <a:pt x="928" y="336"/>
                  </a:lnTo>
                  <a:lnTo>
                    <a:pt x="1506" y="394"/>
                  </a:lnTo>
                  <a:lnTo>
                    <a:pt x="1624" y="426"/>
                  </a:lnTo>
                  <a:lnTo>
                    <a:pt x="1678" y="463"/>
                  </a:lnTo>
                  <a:lnTo>
                    <a:pt x="1675" y="553"/>
                  </a:lnTo>
                  <a:lnTo>
                    <a:pt x="1607" y="560"/>
                  </a:lnTo>
                  <a:lnTo>
                    <a:pt x="1607" y="720"/>
                  </a:lnTo>
                  <a:lnTo>
                    <a:pt x="1680" y="730"/>
                  </a:lnTo>
                  <a:lnTo>
                    <a:pt x="1680" y="800"/>
                  </a:lnTo>
                  <a:lnTo>
                    <a:pt x="1608" y="870"/>
                  </a:lnTo>
                  <a:lnTo>
                    <a:pt x="1382" y="936"/>
                  </a:lnTo>
                  <a:lnTo>
                    <a:pt x="1229" y="953"/>
                  </a:lnTo>
                  <a:lnTo>
                    <a:pt x="1030" y="958"/>
                  </a:lnTo>
                  <a:lnTo>
                    <a:pt x="511" y="960"/>
                  </a:lnTo>
                  <a:lnTo>
                    <a:pt x="365" y="1360"/>
                  </a:lnTo>
                  <a:lnTo>
                    <a:pt x="219" y="1440"/>
                  </a:lnTo>
                  <a:lnTo>
                    <a:pt x="73" y="1440"/>
                  </a:lnTo>
                  <a:lnTo>
                    <a:pt x="0" y="1360"/>
                  </a:lnTo>
                  <a:lnTo>
                    <a:pt x="0" y="64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0" name=""/>
            <p:cNvGrpSpPr/>
            <p:nvPr/>
          </p:nvGrpSpPr>
          <p:grpSpPr>
            <a:xfrm>
              <a:off x="4253760" y="3181320"/>
              <a:ext cx="1226160" cy="1019160"/>
              <a:chOff x="4253760" y="3181320"/>
              <a:chExt cx="1226160" cy="1019160"/>
            </a:xfrm>
          </p:grpSpPr>
          <p:sp>
            <p:nvSpPr>
              <p:cNvPr id="511" name=""/>
              <p:cNvSpPr/>
              <p:nvPr/>
            </p:nvSpPr>
            <p:spPr>
              <a:xfrm flipH="1">
                <a:off x="4320360" y="3690720"/>
                <a:ext cx="165240" cy="305640"/>
              </a:xfrm>
              <a:prstGeom prst="flowChartMagneticDrum">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5281200" y="3588840"/>
                <a:ext cx="165240" cy="67680"/>
              </a:xfrm>
              <a:prstGeom prst="rect">
                <a:avLst/>
              </a:prstGeom>
              <a:solidFill>
                <a:srgbClr val="eaeaea">
                  <a:alpha val="50000"/>
                </a:srgbClr>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513" name=""/>
              <p:cNvSpPr/>
              <p:nvPr/>
            </p:nvSpPr>
            <p:spPr>
              <a:xfrm flipH="1">
                <a:off x="4287240" y="4064400"/>
                <a:ext cx="99000" cy="67680"/>
              </a:xfrm>
              <a:prstGeom prst="flowChartMagneticDrum">
                <a:avLst/>
              </a:prstGeom>
              <a:solidFill>
                <a:srgbClr val="ff9966"/>
              </a:solidFill>
              <a:ln w="936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514" name=""/>
              <p:cNvSpPr/>
              <p:nvPr/>
            </p:nvSpPr>
            <p:spPr>
              <a:xfrm flipH="1">
                <a:off x="4320360" y="3656880"/>
                <a:ext cx="198360" cy="373680"/>
              </a:xfrm>
              <a:prstGeom prst="flowChartMagneticDrum">
                <a:avLst/>
              </a:prstGeom>
              <a:solidFill>
                <a:srgbClr val="ff6600">
                  <a:alpha val="50000"/>
                </a:srgbClr>
              </a:solidFill>
              <a:ln w="9360">
                <a:solidFill>
                  <a:srgbClr val="000000">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5" name=""/>
              <p:cNvGrpSpPr/>
              <p:nvPr/>
            </p:nvGrpSpPr>
            <p:grpSpPr>
              <a:xfrm>
                <a:off x="4253760" y="3394800"/>
                <a:ext cx="166680" cy="126000"/>
                <a:chOff x="4253760" y="3394800"/>
                <a:chExt cx="166680" cy="126000"/>
              </a:xfrm>
            </p:grpSpPr>
            <p:sp>
              <p:nvSpPr>
                <p:cNvPr id="516" name=""/>
                <p:cNvSpPr/>
                <p:nvPr/>
              </p:nvSpPr>
              <p:spPr>
                <a:xfrm rot="1942800">
                  <a:off x="4254840" y="3418560"/>
                  <a:ext cx="99360" cy="33840"/>
                </a:xfrm>
                <a:prstGeom prst="rect">
                  <a:avLst/>
                </a:prstGeom>
                <a:solidFill>
                  <a:srgbClr val="ff9966"/>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517" name=""/>
                <p:cNvSpPr/>
                <p:nvPr/>
              </p:nvSpPr>
              <p:spPr>
                <a:xfrm>
                  <a:off x="4321080" y="3418920"/>
                  <a:ext cx="99360" cy="10188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8" name=""/>
              <p:cNvSpPr/>
              <p:nvPr/>
            </p:nvSpPr>
            <p:spPr>
              <a:xfrm>
                <a:off x="4321080" y="3555000"/>
                <a:ext cx="65880" cy="67680"/>
              </a:xfrm>
              <a:prstGeom prst="ellipse">
                <a:avLst/>
              </a:prstGeom>
              <a:noFill/>
              <a:ln w="38160">
                <a:solidFill>
                  <a:srgbClr val="3333cc"/>
                </a:solidFill>
                <a:miter/>
              </a:ln>
            </p:spPr>
            <p:style>
              <a:lnRef idx="0"/>
              <a:fillRef idx="0"/>
              <a:effectRef idx="0"/>
              <a:fontRef idx="minor"/>
            </p:style>
            <p:txBody>
              <a:bodyPr wrap="none"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519" name=""/>
              <p:cNvCxnSpPr/>
              <p:nvPr/>
            </p:nvCxnSpPr>
            <p:spPr>
              <a:xfrm flipV="1">
                <a:off x="4982760" y="3622320"/>
                <a:ext cx="66600" cy="34560"/>
              </a:xfrm>
              <a:prstGeom prst="curvedConnector5">
                <a:avLst>
                  <a:gd name="adj1" fmla="val 50000"/>
                  <a:gd name="adj2" fmla="val 49473"/>
                  <a:gd name="adj3" fmla="val 50000"/>
                </a:avLst>
              </a:prstGeom>
              <a:ln w="9360">
                <a:solidFill>
                  <a:srgbClr val="000000"/>
                </a:solidFill>
                <a:miter/>
              </a:ln>
            </p:spPr>
          </p:cxnSp>
          <p:sp>
            <p:nvSpPr>
              <p:cNvPr id="520" name=""/>
              <p:cNvSpPr/>
              <p:nvPr/>
            </p:nvSpPr>
            <p:spPr>
              <a:xfrm>
                <a:off x="4619160" y="3520800"/>
                <a:ext cx="363960" cy="271800"/>
              </a:xfrm>
              <a:custGeom>
                <a:avLst/>
                <a:gdLst/>
                <a:ahLst/>
                <a:rect l="l" t="t" r="r" b="b"/>
                <a:pathLst>
                  <a:path w="528" h="384">
                    <a:moveTo>
                      <a:pt x="0" y="0"/>
                    </a:moveTo>
                    <a:lnTo>
                      <a:pt x="0" y="48"/>
                    </a:lnTo>
                    <a:lnTo>
                      <a:pt x="0" y="96"/>
                    </a:lnTo>
                    <a:lnTo>
                      <a:pt x="0" y="144"/>
                    </a:lnTo>
                    <a:lnTo>
                      <a:pt x="0" y="192"/>
                    </a:lnTo>
                    <a:lnTo>
                      <a:pt x="0" y="240"/>
                    </a:lnTo>
                    <a:lnTo>
                      <a:pt x="0" y="288"/>
                    </a:lnTo>
                    <a:lnTo>
                      <a:pt x="0" y="336"/>
                    </a:lnTo>
                    <a:lnTo>
                      <a:pt x="0" y="384"/>
                    </a:lnTo>
                    <a:lnTo>
                      <a:pt x="528" y="384"/>
                    </a:lnTo>
                    <a:lnTo>
                      <a:pt x="528" y="288"/>
                    </a:lnTo>
                    <a:lnTo>
                      <a:pt x="528" y="240"/>
                    </a:lnTo>
                    <a:lnTo>
                      <a:pt x="528" y="192"/>
                    </a:lnTo>
                    <a:lnTo>
                      <a:pt x="528" y="144"/>
                    </a:lnTo>
                    <a:lnTo>
                      <a:pt x="528" y="96"/>
                    </a:lnTo>
                    <a:lnTo>
                      <a:pt x="528" y="48"/>
                    </a:lnTo>
                    <a:lnTo>
                      <a:pt x="528" y="0"/>
                    </a:lnTo>
                    <a:lnTo>
                      <a:pt x="384" y="0"/>
                    </a:lnTo>
                    <a:lnTo>
                      <a:pt x="336" y="0"/>
                    </a:lnTo>
                    <a:lnTo>
                      <a:pt x="288" y="0"/>
                    </a:lnTo>
                    <a:lnTo>
                      <a:pt x="240" y="0"/>
                    </a:lnTo>
                    <a:lnTo>
                      <a:pt x="144" y="0"/>
                    </a:lnTo>
                    <a:lnTo>
                      <a:pt x="96" y="0"/>
                    </a:lnTo>
                    <a:lnTo>
                      <a:pt x="0" y="0"/>
                    </a:lnTo>
                    <a:close/>
                  </a:path>
                </a:pathLst>
              </a:custGeom>
              <a:solidFill>
                <a:srgbClr val="cc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4651920" y="3555000"/>
                <a:ext cx="297720" cy="2037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22" name=""/>
              <p:cNvCxnSpPr>
                <a:stCxn id="523" idx="3"/>
                <a:endCxn id="520" idx="0"/>
              </p:cNvCxnSpPr>
              <p:nvPr/>
            </p:nvCxnSpPr>
            <p:spPr>
              <a:xfrm>
                <a:off x="4453200" y="3333600"/>
                <a:ext cx="265680" cy="187560"/>
              </a:xfrm>
              <a:prstGeom prst="curvedConnector2">
                <a:avLst/>
              </a:prstGeom>
              <a:ln w="9360">
                <a:solidFill>
                  <a:srgbClr val="000000"/>
                </a:solidFill>
                <a:miter/>
              </a:ln>
            </p:spPr>
          </p:cxnSp>
          <p:cxnSp>
            <p:nvCxnSpPr>
              <p:cNvPr id="524" name=""/>
              <p:cNvCxnSpPr>
                <a:stCxn id="517" idx="3"/>
                <a:endCxn id="520" idx="1"/>
              </p:cNvCxnSpPr>
              <p:nvPr/>
            </p:nvCxnSpPr>
            <p:spPr>
              <a:xfrm>
                <a:off x="4420080" y="3470040"/>
                <a:ext cx="199080" cy="119520"/>
              </a:xfrm>
              <a:prstGeom prst="curvedConnector5">
                <a:avLst>
                  <a:gd name="adj1" fmla="val 50000"/>
                  <a:gd name="adj2" fmla="val 49848"/>
                  <a:gd name="adj3" fmla="val 50000"/>
                </a:avLst>
              </a:prstGeom>
              <a:ln w="9360">
                <a:solidFill>
                  <a:srgbClr val="000000"/>
                </a:solidFill>
                <a:miter/>
              </a:ln>
            </p:spPr>
          </p:cxnSp>
          <p:cxnSp>
            <p:nvCxnSpPr>
              <p:cNvPr id="525" name=""/>
              <p:cNvCxnSpPr>
                <a:stCxn id="518" idx="6"/>
                <a:endCxn id="520" idx="2"/>
              </p:cNvCxnSpPr>
              <p:nvPr/>
            </p:nvCxnSpPr>
            <p:spPr>
              <a:xfrm>
                <a:off x="4395240" y="3588840"/>
                <a:ext cx="224280" cy="34560"/>
              </a:xfrm>
              <a:prstGeom prst="curvedConnector5">
                <a:avLst>
                  <a:gd name="adj1" fmla="val 48070"/>
                  <a:gd name="adj2" fmla="val 49473"/>
                  <a:gd name="adj3" fmla="val 48070"/>
                </a:avLst>
              </a:prstGeom>
              <a:ln w="9360">
                <a:solidFill>
                  <a:srgbClr val="000000"/>
                </a:solidFill>
                <a:miter/>
              </a:ln>
            </p:spPr>
          </p:cxnSp>
          <p:cxnSp>
            <p:nvCxnSpPr>
              <p:cNvPr id="526" name=""/>
              <p:cNvCxnSpPr>
                <a:stCxn id="511" idx="1"/>
                <a:endCxn id="520" idx="3"/>
              </p:cNvCxnSpPr>
              <p:nvPr/>
            </p:nvCxnSpPr>
            <p:spPr>
              <a:xfrm flipV="1">
                <a:off x="4486680" y="3724200"/>
                <a:ext cx="133200" cy="118800"/>
              </a:xfrm>
              <a:prstGeom prst="curvedConnector5">
                <a:avLst>
                  <a:gd name="adj1" fmla="val 49864"/>
                  <a:gd name="adj2" fmla="val 49848"/>
                  <a:gd name="adj3" fmla="val 49864"/>
                </a:avLst>
              </a:prstGeom>
              <a:ln w="9360">
                <a:solidFill>
                  <a:srgbClr val="000000"/>
                </a:solidFill>
                <a:miter/>
              </a:ln>
            </p:spPr>
          </p:cxnSp>
          <p:cxnSp>
            <p:nvCxnSpPr>
              <p:cNvPr id="527" name=""/>
              <p:cNvCxnSpPr>
                <a:stCxn id="513" idx="1"/>
                <a:endCxn id="520" idx="4"/>
              </p:cNvCxnSpPr>
              <p:nvPr/>
            </p:nvCxnSpPr>
            <p:spPr>
              <a:xfrm flipV="1">
                <a:off x="4387320" y="3758040"/>
                <a:ext cx="232560" cy="339480"/>
              </a:xfrm>
              <a:prstGeom prst="curvedConnector5">
                <a:avLst>
                  <a:gd name="adj1" fmla="val 69922"/>
                  <a:gd name="adj2" fmla="val 50000"/>
                  <a:gd name="adj3" fmla="val 69922"/>
                </a:avLst>
              </a:prstGeom>
              <a:ln w="9360">
                <a:solidFill>
                  <a:srgbClr val="000000"/>
                </a:solidFill>
                <a:miter/>
              </a:ln>
            </p:spPr>
          </p:cxnSp>
          <p:sp>
            <p:nvSpPr>
              <p:cNvPr id="528" name=""/>
              <p:cNvSpPr/>
              <p:nvPr/>
            </p:nvSpPr>
            <p:spPr>
              <a:xfrm>
                <a:off x="4306320" y="3317040"/>
                <a:ext cx="33120" cy="33840"/>
              </a:xfrm>
              <a:prstGeom prst="rect">
                <a:avLst/>
              </a:prstGeom>
              <a:solidFill>
                <a:srgbClr val="eaeaea">
                  <a:alpha val="50000"/>
                </a:srgbClr>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nvGrpSpPr>
              <p:cNvPr id="529" name=""/>
              <p:cNvGrpSpPr/>
              <p:nvPr/>
            </p:nvGrpSpPr>
            <p:grpSpPr>
              <a:xfrm>
                <a:off x="4321080" y="3283200"/>
                <a:ext cx="131760" cy="101880"/>
                <a:chOff x="4321080" y="3283200"/>
                <a:chExt cx="131760" cy="101880"/>
              </a:xfrm>
            </p:grpSpPr>
            <p:sp>
              <p:nvSpPr>
                <p:cNvPr id="523" name=""/>
                <p:cNvSpPr/>
                <p:nvPr/>
              </p:nvSpPr>
              <p:spPr>
                <a:xfrm>
                  <a:off x="4353840" y="3283200"/>
                  <a:ext cx="99000" cy="101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321080" y="3317040"/>
                  <a:ext cx="32760" cy="33840"/>
                </a:xfrm>
                <a:prstGeom prst="rect">
                  <a:avLst/>
                </a:prstGeom>
                <a:solidFill>
                  <a:srgbClr val="80808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sp>
            <p:nvSpPr>
              <p:cNvPr id="531" name=""/>
              <p:cNvSpPr/>
              <p:nvPr/>
            </p:nvSpPr>
            <p:spPr>
              <a:xfrm>
                <a:off x="4453200" y="3300120"/>
                <a:ext cx="297720" cy="220680"/>
              </a:xfrm>
              <a:custGeom>
                <a:avLst/>
                <a:gdLst/>
                <a:ahLst/>
                <a:rect l="l" t="t" r="r" b="b"/>
                <a:pathLst>
                  <a:path w="432" h="312">
                    <a:moveTo>
                      <a:pt x="0" y="24"/>
                    </a:moveTo>
                    <a:cubicBezTo>
                      <a:pt x="64" y="12"/>
                      <a:pt x="128" y="0"/>
                      <a:pt x="192" y="24"/>
                    </a:cubicBezTo>
                    <a:cubicBezTo>
                      <a:pt x="256" y="48"/>
                      <a:pt x="344" y="120"/>
                      <a:pt x="384" y="168"/>
                    </a:cubicBezTo>
                    <a:cubicBezTo>
                      <a:pt x="424" y="216"/>
                      <a:pt x="424" y="288"/>
                      <a:pt x="432" y="3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4420440" y="3445920"/>
                <a:ext cx="198360" cy="108720"/>
              </a:xfrm>
              <a:custGeom>
                <a:avLst/>
                <a:gdLst/>
                <a:ahLst/>
                <a:rect l="l" t="t" r="r" b="b"/>
                <a:pathLst>
                  <a:path w="288" h="154">
                    <a:moveTo>
                      <a:pt x="0" y="10"/>
                    </a:moveTo>
                    <a:cubicBezTo>
                      <a:pt x="20" y="12"/>
                      <a:pt x="74" y="0"/>
                      <a:pt x="122" y="24"/>
                    </a:cubicBezTo>
                    <a:cubicBezTo>
                      <a:pt x="170" y="48"/>
                      <a:pt x="254" y="127"/>
                      <a:pt x="288" y="15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4390560" y="3607200"/>
                <a:ext cx="228240" cy="49320"/>
              </a:xfrm>
              <a:custGeom>
                <a:avLst/>
                <a:gdLst/>
                <a:ahLst/>
                <a:rect l="l" t="t" r="r" b="b"/>
                <a:pathLst>
                  <a:path w="331" h="70">
                    <a:moveTo>
                      <a:pt x="0" y="0"/>
                    </a:moveTo>
                    <a:cubicBezTo>
                      <a:pt x="19" y="2"/>
                      <a:pt x="78" y="6"/>
                      <a:pt x="113" y="15"/>
                    </a:cubicBezTo>
                    <a:cubicBezTo>
                      <a:pt x="148" y="24"/>
                      <a:pt x="177" y="47"/>
                      <a:pt x="213" y="56"/>
                    </a:cubicBezTo>
                    <a:cubicBezTo>
                      <a:pt x="249" y="65"/>
                      <a:pt x="307" y="67"/>
                      <a:pt x="331" y="70"/>
                    </a:cubicBezTo>
                  </a:path>
                </a:pathLst>
              </a:custGeom>
              <a:noFill/>
              <a:ln w="9360">
                <a:solidFill>
                  <a:srgbClr val="000000"/>
                </a:solidFill>
                <a:round/>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534" name=""/>
              <p:cNvSpPr/>
              <p:nvPr/>
            </p:nvSpPr>
            <p:spPr>
              <a:xfrm>
                <a:off x="4486680" y="3690720"/>
                <a:ext cx="132480" cy="101880"/>
              </a:xfrm>
              <a:custGeom>
                <a:avLst/>
                <a:gdLst/>
                <a:ahLst/>
                <a:rect l="l" t="t" r="r" b="b"/>
                <a:pathLst>
                  <a:path w="192" h="144">
                    <a:moveTo>
                      <a:pt x="0" y="144"/>
                    </a:moveTo>
                    <a:cubicBezTo>
                      <a:pt x="10" y="138"/>
                      <a:pt x="46" y="122"/>
                      <a:pt x="62" y="106"/>
                    </a:cubicBezTo>
                    <a:cubicBezTo>
                      <a:pt x="78" y="90"/>
                      <a:pt x="74" y="66"/>
                      <a:pt x="96" y="48"/>
                    </a:cubicBezTo>
                    <a:cubicBezTo>
                      <a:pt x="118" y="30"/>
                      <a:pt x="176" y="8"/>
                      <a:pt x="192"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4385880" y="3792600"/>
                <a:ext cx="263880" cy="318960"/>
              </a:xfrm>
              <a:custGeom>
                <a:avLst/>
                <a:gdLst/>
                <a:ahLst/>
                <a:rect l="l" t="t" r="r" b="b"/>
                <a:pathLst>
                  <a:path w="383" h="451">
                    <a:moveTo>
                      <a:pt x="0" y="451"/>
                    </a:moveTo>
                    <a:cubicBezTo>
                      <a:pt x="16" y="448"/>
                      <a:pt x="60" y="451"/>
                      <a:pt x="98" y="432"/>
                    </a:cubicBezTo>
                    <a:cubicBezTo>
                      <a:pt x="136" y="413"/>
                      <a:pt x="197" y="390"/>
                      <a:pt x="230" y="334"/>
                    </a:cubicBezTo>
                    <a:cubicBezTo>
                      <a:pt x="263" y="278"/>
                      <a:pt x="274" y="148"/>
                      <a:pt x="297" y="98"/>
                    </a:cubicBezTo>
                    <a:cubicBezTo>
                      <a:pt x="320" y="48"/>
                      <a:pt x="355" y="52"/>
                      <a:pt x="369" y="36"/>
                    </a:cubicBezTo>
                    <a:cubicBezTo>
                      <a:pt x="383" y="20"/>
                      <a:pt x="379" y="7"/>
                      <a:pt x="381"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4983120" y="3602160"/>
                <a:ext cx="67320" cy="22680"/>
              </a:xfrm>
              <a:custGeom>
                <a:avLst/>
                <a:gdLst/>
                <a:ahLst/>
                <a:rect l="l" t="t" r="r" b="b"/>
                <a:pathLst>
                  <a:path w="98" h="32">
                    <a:moveTo>
                      <a:pt x="98" y="0"/>
                    </a:moveTo>
                    <a:cubicBezTo>
                      <a:pt x="87" y="5"/>
                      <a:pt x="50" y="22"/>
                      <a:pt x="34" y="27"/>
                    </a:cubicBezTo>
                    <a:cubicBezTo>
                      <a:pt x="18" y="32"/>
                      <a:pt x="7" y="29"/>
                      <a:pt x="0" y="29"/>
                    </a:cubicBezTo>
                  </a:path>
                </a:pathLst>
              </a:custGeom>
              <a:noFill/>
              <a:ln w="9360">
                <a:solidFill>
                  <a:srgbClr val="000000"/>
                </a:solidFill>
                <a:round/>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537" name=""/>
              <p:cNvSpPr/>
              <p:nvPr/>
            </p:nvSpPr>
            <p:spPr>
              <a:xfrm>
                <a:off x="5248080" y="3588840"/>
                <a:ext cx="66240" cy="67680"/>
              </a:xfrm>
              <a:prstGeom prst="rect">
                <a:avLst/>
              </a:prstGeom>
              <a:solidFill>
                <a:srgbClr val="808080"/>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538" name=""/>
              <p:cNvSpPr/>
              <p:nvPr/>
            </p:nvSpPr>
            <p:spPr>
              <a:xfrm>
                <a:off x="5049360" y="3555000"/>
                <a:ext cx="198360" cy="135720"/>
              </a:xfrm>
              <a:prstGeom prst="roundRect">
                <a:avLst>
                  <a:gd name="adj" fmla="val 16667"/>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4321080" y="3181320"/>
                <a:ext cx="1158840" cy="1019160"/>
              </a:xfrm>
              <a:custGeom>
                <a:avLst/>
                <a:gdLst/>
                <a:ahLst/>
                <a:rect l="l" t="t" r="r" b="b"/>
                <a:pathLst>
                  <a:path w="1680" h="1440">
                    <a:moveTo>
                      <a:pt x="0" y="640"/>
                    </a:moveTo>
                    <a:lnTo>
                      <a:pt x="0" y="160"/>
                    </a:lnTo>
                    <a:lnTo>
                      <a:pt x="146" y="0"/>
                    </a:lnTo>
                    <a:lnTo>
                      <a:pt x="365" y="0"/>
                    </a:lnTo>
                    <a:lnTo>
                      <a:pt x="511" y="160"/>
                    </a:lnTo>
                    <a:lnTo>
                      <a:pt x="928" y="336"/>
                    </a:lnTo>
                    <a:lnTo>
                      <a:pt x="1506" y="394"/>
                    </a:lnTo>
                    <a:lnTo>
                      <a:pt x="1624" y="426"/>
                    </a:lnTo>
                    <a:lnTo>
                      <a:pt x="1678" y="463"/>
                    </a:lnTo>
                    <a:lnTo>
                      <a:pt x="1675" y="553"/>
                    </a:lnTo>
                    <a:lnTo>
                      <a:pt x="1607" y="560"/>
                    </a:lnTo>
                    <a:lnTo>
                      <a:pt x="1607" y="720"/>
                    </a:lnTo>
                    <a:lnTo>
                      <a:pt x="1680" y="730"/>
                    </a:lnTo>
                    <a:lnTo>
                      <a:pt x="1680" y="800"/>
                    </a:lnTo>
                    <a:lnTo>
                      <a:pt x="1608" y="870"/>
                    </a:lnTo>
                    <a:lnTo>
                      <a:pt x="1382" y="936"/>
                    </a:lnTo>
                    <a:lnTo>
                      <a:pt x="1229" y="953"/>
                    </a:lnTo>
                    <a:lnTo>
                      <a:pt x="1030" y="958"/>
                    </a:lnTo>
                    <a:lnTo>
                      <a:pt x="511" y="960"/>
                    </a:lnTo>
                    <a:lnTo>
                      <a:pt x="365" y="1360"/>
                    </a:lnTo>
                    <a:lnTo>
                      <a:pt x="219" y="1440"/>
                    </a:lnTo>
                    <a:lnTo>
                      <a:pt x="73" y="1440"/>
                    </a:lnTo>
                    <a:lnTo>
                      <a:pt x="0" y="1360"/>
                    </a:lnTo>
                    <a:lnTo>
                      <a:pt x="0" y="640"/>
                    </a:lnTo>
                    <a:close/>
                  </a:path>
                </a:pathLst>
              </a:custGeom>
              <a:solidFill>
                <a:srgbClr val="ffffcc">
                  <a:alpha val="50000"/>
                </a:srgbClr>
              </a:solid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0" name=""/>
            <p:cNvSpPr/>
            <p:nvPr/>
          </p:nvSpPr>
          <p:spPr>
            <a:xfrm>
              <a:off x="2075400" y="914400"/>
              <a:ext cx="4804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ring Aids: Microphone Input</a:t>
              </a:r>
              <a:endParaRPr b="0" lang="en-US" sz="2400" spc="-1" strike="noStrike">
                <a:solidFill>
                  <a:srgbClr val="000000"/>
                </a:solidFill>
                <a:latin typeface="Times New Roman"/>
              </a:endParaRPr>
            </a:p>
          </p:txBody>
        </p:sp>
        <p:sp>
          <p:nvSpPr>
            <p:cNvPr id="541" name=""/>
            <p:cNvSpPr/>
            <p:nvPr/>
          </p:nvSpPr>
          <p:spPr>
            <a:xfrm>
              <a:off x="5909760" y="4310280"/>
              <a:ext cx="2232000" cy="1593720"/>
            </a:xfrm>
            <a:prstGeom prst="roundRect">
              <a:avLst>
                <a:gd name="adj" fmla="val 16667"/>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6104880" y="4656600"/>
              <a:ext cx="18673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6020280" y="4726080"/>
              <a:ext cx="2233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Path of direct acoustic input</a:t>
              </a:r>
              <a:endParaRPr b="0" lang="en-US" sz="1200" spc="-1" strike="noStrike">
                <a:solidFill>
                  <a:srgbClr val="000000"/>
                </a:solidFill>
                <a:latin typeface="Times New Roman"/>
              </a:endParaRPr>
            </a:p>
          </p:txBody>
        </p:sp>
        <p:sp>
          <p:nvSpPr>
            <p:cNvPr id="544" name=""/>
            <p:cNvSpPr/>
            <p:nvPr/>
          </p:nvSpPr>
          <p:spPr>
            <a:xfrm>
              <a:off x="6104160" y="5490000"/>
              <a:ext cx="20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Path of acoustic feedback</a:t>
              </a:r>
              <a:endParaRPr b="0" lang="en-US" sz="1200" spc="-1" strike="noStrike">
                <a:solidFill>
                  <a:srgbClr val="000000"/>
                </a:solidFill>
                <a:latin typeface="Times New Roman"/>
              </a:endParaRPr>
            </a:p>
          </p:txBody>
        </p:sp>
        <p:grpSp>
          <p:nvGrpSpPr>
            <p:cNvPr id="545" name=""/>
            <p:cNvGrpSpPr/>
            <p:nvPr/>
          </p:nvGrpSpPr>
          <p:grpSpPr>
            <a:xfrm>
              <a:off x="1447920" y="2286000"/>
              <a:ext cx="2381400" cy="3975480"/>
              <a:chOff x="1447920" y="2286000"/>
              <a:chExt cx="2381400" cy="3975480"/>
            </a:xfrm>
          </p:grpSpPr>
          <p:sp>
            <p:nvSpPr>
              <p:cNvPr id="546" name=""/>
              <p:cNvSpPr/>
              <p:nvPr/>
            </p:nvSpPr>
            <p:spPr>
              <a:xfrm>
                <a:off x="1447920" y="2286000"/>
                <a:ext cx="2137680" cy="3914640"/>
              </a:xfrm>
              <a:custGeom>
                <a:avLst/>
                <a:gdLst/>
                <a:ahLst/>
                <a:rect l="l" t="t" r="r" b="b"/>
                <a:pathLst>
                  <a:path w="1488" h="2712">
                    <a:moveTo>
                      <a:pt x="0" y="498"/>
                    </a:moveTo>
                    <a:lnTo>
                      <a:pt x="364" y="271"/>
                    </a:lnTo>
                    <a:lnTo>
                      <a:pt x="755" y="114"/>
                    </a:lnTo>
                    <a:lnTo>
                      <a:pt x="1070" y="0"/>
                    </a:lnTo>
                    <a:lnTo>
                      <a:pt x="1488" y="45"/>
                    </a:lnTo>
                    <a:lnTo>
                      <a:pt x="1488" y="2045"/>
                    </a:lnTo>
                    <a:lnTo>
                      <a:pt x="1393" y="2109"/>
                    </a:lnTo>
                    <a:lnTo>
                      <a:pt x="646" y="2290"/>
                    </a:lnTo>
                    <a:lnTo>
                      <a:pt x="661" y="2712"/>
                    </a:lnTo>
                    <a:lnTo>
                      <a:pt x="82" y="2695"/>
                    </a:lnTo>
                    <a:lnTo>
                      <a:pt x="0" y="498"/>
                    </a:lnTo>
                    <a:close/>
                  </a:path>
                </a:pathLst>
              </a:custGeom>
              <a:solidFill>
                <a:srgbClr val="b2b2b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7" name=""/>
              <p:cNvGrpSpPr/>
              <p:nvPr/>
            </p:nvGrpSpPr>
            <p:grpSpPr>
              <a:xfrm>
                <a:off x="2193840" y="2324160"/>
                <a:ext cx="759960" cy="3889440"/>
                <a:chOff x="2193840" y="2324160"/>
                <a:chExt cx="759960" cy="3889440"/>
              </a:xfrm>
            </p:grpSpPr>
            <p:sp>
              <p:nvSpPr>
                <p:cNvPr id="548" name=""/>
                <p:cNvSpPr/>
                <p:nvPr/>
              </p:nvSpPr>
              <p:spPr>
                <a:xfrm flipH="1">
                  <a:off x="2946960" y="2324160"/>
                  <a:ext cx="6840" cy="2705760"/>
                </a:xfrm>
                <a:prstGeom prst="line">
                  <a:avLst/>
                </a:prstGeom>
                <a:ln w="28440">
                  <a:solidFill>
                    <a:srgbClr val="4d4d4d">
                      <a:alpha val="50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flipH="1">
                  <a:off x="2233080" y="5029920"/>
                  <a:ext cx="714240" cy="447480"/>
                </a:xfrm>
                <a:prstGeom prst="line">
                  <a:avLst/>
                </a:prstGeom>
                <a:ln w="28440">
                  <a:solidFill>
                    <a:srgbClr val="4d4d4d">
                      <a:alpha val="50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rot="183600">
                  <a:off x="2213280" y="5478840"/>
                  <a:ext cx="70200" cy="732960"/>
                </a:xfrm>
                <a:custGeom>
                  <a:avLst/>
                  <a:gdLst/>
                  <a:ahLst/>
                  <a:rect l="l" t="t" r="r" b="b"/>
                  <a:pathLst>
                    <a:path w="49" h="508">
                      <a:moveTo>
                        <a:pt x="0" y="0"/>
                      </a:moveTo>
                      <a:lnTo>
                        <a:pt x="49" y="508"/>
                      </a:lnTo>
                    </a:path>
                  </a:pathLst>
                </a:custGeom>
                <a:solidFill>
                  <a:srgbClr val="b2b2b2"/>
                </a:solidFill>
                <a:ln w="28440">
                  <a:solidFill>
                    <a:srgbClr val="4d4d4d">
                      <a:alpha val="50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1" name=""/>
              <p:cNvGrpSpPr/>
              <p:nvPr/>
            </p:nvGrpSpPr>
            <p:grpSpPr>
              <a:xfrm>
                <a:off x="3316320" y="2774880"/>
                <a:ext cx="513000" cy="2079720"/>
                <a:chOff x="3316320" y="2774880"/>
                <a:chExt cx="513000" cy="2079720"/>
              </a:xfrm>
            </p:grpSpPr>
            <p:sp>
              <p:nvSpPr>
                <p:cNvPr id="552" name=""/>
                <p:cNvSpPr/>
                <p:nvPr/>
              </p:nvSpPr>
              <p:spPr>
                <a:xfrm flipV="1" rot="5396400">
                  <a:off x="2533320" y="3559320"/>
                  <a:ext cx="2078640" cy="510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f8f8f8"/>
                    </a:gs>
                    <a:gs pos="100000">
                      <a:srgbClr val="72727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flipH="1" flipV="1" rot="5396400">
                  <a:off x="2532600" y="3558960"/>
                  <a:ext cx="2079360" cy="510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f8f8f8"/>
                    </a:gs>
                    <a:gs pos="100000">
                      <a:srgbClr val="72727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4" name=""/>
              <p:cNvSpPr/>
              <p:nvPr/>
            </p:nvSpPr>
            <p:spPr>
              <a:xfrm>
                <a:off x="1546920" y="5884920"/>
                <a:ext cx="860400" cy="376560"/>
              </a:xfrm>
              <a:custGeom>
                <a:avLst/>
                <a:gdLst/>
                <a:ahLst/>
                <a:rect l="l" t="t" r="r" b="b"/>
                <a:pathLst>
                  <a:path w="599" h="261">
                    <a:moveTo>
                      <a:pt x="3" y="234"/>
                    </a:moveTo>
                    <a:lnTo>
                      <a:pt x="0" y="3"/>
                    </a:lnTo>
                    <a:lnTo>
                      <a:pt x="591" y="0"/>
                    </a:lnTo>
                    <a:lnTo>
                      <a:pt x="599" y="261"/>
                    </a:lnTo>
                    <a:lnTo>
                      <a:pt x="3" y="234"/>
                    </a:lnTo>
                    <a:close/>
                  </a:path>
                </a:pathLst>
              </a:custGeom>
              <a:gradFill rotWithShape="0">
                <a:gsLst>
                  <a:gs pos="0">
                    <a:srgbClr val="b2b2b2"/>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5" name=""/>
            <p:cNvGrpSpPr/>
            <p:nvPr/>
          </p:nvGrpSpPr>
          <p:grpSpPr>
            <a:xfrm>
              <a:off x="2650320" y="2950200"/>
              <a:ext cx="657720" cy="1732320"/>
              <a:chOff x="2650320" y="2950200"/>
              <a:chExt cx="657720" cy="1732320"/>
            </a:xfrm>
          </p:grpSpPr>
          <p:sp>
            <p:nvSpPr>
              <p:cNvPr id="556" name=""/>
              <p:cNvSpPr/>
              <p:nvPr/>
            </p:nvSpPr>
            <p:spPr>
              <a:xfrm rot="5400000">
                <a:off x="2045880" y="3623040"/>
                <a:ext cx="1594440" cy="385920"/>
              </a:xfrm>
              <a:custGeom>
                <a:avLst/>
                <a:gdLst/>
                <a:ahLst/>
                <a:rect l="l" t="t" r="r" b="b"/>
                <a:pathLst>
                  <a:path w="2160" h="624">
                    <a:moveTo>
                      <a:pt x="0" y="0"/>
                    </a:moveTo>
                    <a:lnTo>
                      <a:pt x="624" y="0"/>
                    </a:lnTo>
                    <a:lnTo>
                      <a:pt x="624" y="528"/>
                    </a:lnTo>
                    <a:lnTo>
                      <a:pt x="816" y="528"/>
                    </a:lnTo>
                    <a:lnTo>
                      <a:pt x="816" y="96"/>
                    </a:lnTo>
                    <a:lnTo>
                      <a:pt x="1344" y="96"/>
                    </a:lnTo>
                    <a:lnTo>
                      <a:pt x="1344" y="528"/>
                    </a:lnTo>
                    <a:lnTo>
                      <a:pt x="1536" y="528"/>
                    </a:lnTo>
                    <a:lnTo>
                      <a:pt x="1536" y="0"/>
                    </a:lnTo>
                    <a:lnTo>
                      <a:pt x="2160" y="0"/>
                    </a:lnTo>
                    <a:lnTo>
                      <a:pt x="2160" y="624"/>
                    </a:lnTo>
                    <a:lnTo>
                      <a:pt x="0" y="624"/>
                    </a:lnTo>
                    <a:lnTo>
                      <a:pt x="0" y="0"/>
                    </a:lnTo>
                    <a:close/>
                  </a:path>
                </a:pathLst>
              </a:custGeom>
              <a:gradFill rotWithShape="0">
                <a:gsLst>
                  <a:gs pos="0">
                    <a:srgbClr val="000000"/>
                  </a:gs>
                  <a:gs pos="100000">
                    <a:srgbClr val="ffffff"/>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rot="5400000">
                <a:off x="2696040" y="3620880"/>
                <a:ext cx="496440" cy="378720"/>
              </a:xfrm>
              <a:prstGeom prst="rect">
                <a:avLst/>
              </a:prstGeom>
              <a:gradFill rotWithShape="0">
                <a:gsLst>
                  <a:gs pos="0">
                    <a:srgbClr val="ffff00"/>
                  </a:gs>
                  <a:gs pos="100000">
                    <a:srgbClr val="fffff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8" name=""/>
              <p:cNvGrpSpPr/>
              <p:nvPr/>
            </p:nvGrpSpPr>
            <p:grpSpPr>
              <a:xfrm>
                <a:off x="3084480" y="2950200"/>
                <a:ext cx="223560" cy="1732320"/>
                <a:chOff x="3084480" y="2950200"/>
                <a:chExt cx="223560" cy="1732320"/>
              </a:xfrm>
            </p:grpSpPr>
            <p:grpSp>
              <p:nvGrpSpPr>
                <p:cNvPr id="559" name=""/>
                <p:cNvGrpSpPr/>
                <p:nvPr/>
              </p:nvGrpSpPr>
              <p:grpSpPr>
                <a:xfrm>
                  <a:off x="3084480" y="3539880"/>
                  <a:ext cx="99000" cy="552600"/>
                  <a:chOff x="3084480" y="3539880"/>
                  <a:chExt cx="99000" cy="552600"/>
                </a:xfrm>
              </p:grpSpPr>
              <p:sp>
                <p:nvSpPr>
                  <p:cNvPr id="560" name=""/>
                  <p:cNvSpPr/>
                  <p:nvPr/>
                </p:nvSpPr>
                <p:spPr>
                  <a:xfrm rot="5400000">
                    <a:off x="2857680" y="3766680"/>
                    <a:ext cx="552240" cy="99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5400000">
                    <a:off x="2857320" y="3766320"/>
                    <a:ext cx="552240" cy="99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2" name=""/>
                <p:cNvSpPr/>
                <p:nvPr/>
              </p:nvSpPr>
              <p:spPr>
                <a:xfrm>
                  <a:off x="3134160" y="4092840"/>
                  <a:ext cx="173880" cy="58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flipV="1">
                  <a:off x="3134160" y="2950200"/>
                  <a:ext cx="173880" cy="58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4" name=""/>
              <p:cNvGrpSpPr/>
              <p:nvPr/>
            </p:nvGrpSpPr>
            <p:grpSpPr>
              <a:xfrm>
                <a:off x="2789640" y="2950200"/>
                <a:ext cx="304200" cy="1177920"/>
                <a:chOff x="2789640" y="2950200"/>
                <a:chExt cx="304200" cy="1177920"/>
              </a:xfrm>
            </p:grpSpPr>
            <p:sp>
              <p:nvSpPr>
                <p:cNvPr id="565" name=""/>
                <p:cNvSpPr/>
                <p:nvPr/>
              </p:nvSpPr>
              <p:spPr>
                <a:xfrm flipH="1">
                  <a:off x="2995920" y="3504600"/>
                  <a:ext cx="68400" cy="62352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flipH="1">
                  <a:off x="2926800" y="3504600"/>
                  <a:ext cx="68760" cy="62352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flipH="1">
                  <a:off x="2857680" y="3504600"/>
                  <a:ext cx="68760" cy="62352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flipH="1">
                  <a:off x="2789640" y="3504600"/>
                  <a:ext cx="68400" cy="62352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flipV="1">
                  <a:off x="3064680" y="2950200"/>
                  <a:ext cx="0" cy="55440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V="1">
                  <a:off x="3093840" y="2950200"/>
                  <a:ext cx="0" cy="55440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71" name=""/>
            <p:cNvSpPr/>
            <p:nvPr/>
          </p:nvSpPr>
          <p:spPr>
            <a:xfrm flipV="1">
              <a:off x="3316680" y="3393000"/>
              <a:ext cx="856080" cy="4230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3359880" y="3567960"/>
              <a:ext cx="2368800" cy="831600"/>
            </a:xfrm>
            <a:custGeom>
              <a:avLst/>
              <a:gdLst/>
              <a:ahLst/>
              <a:rect l="l" t="t" r="r" b="b"/>
              <a:pathLst>
                <a:path w="1649" h="576">
                  <a:moveTo>
                    <a:pt x="1471" y="42"/>
                  </a:moveTo>
                  <a:lnTo>
                    <a:pt x="1649" y="99"/>
                  </a:lnTo>
                  <a:lnTo>
                    <a:pt x="1498" y="222"/>
                  </a:lnTo>
                  <a:lnTo>
                    <a:pt x="1348" y="244"/>
                  </a:lnTo>
                  <a:lnTo>
                    <a:pt x="1031" y="268"/>
                  </a:lnTo>
                  <a:lnTo>
                    <a:pt x="0" y="576"/>
                  </a:lnTo>
                  <a:lnTo>
                    <a:pt x="555" y="0"/>
                  </a:lnTo>
                </a:path>
              </a:pathLst>
            </a:custGeom>
            <a:noFill/>
            <a:ln w="76320">
              <a:solidFill>
                <a:srgbClr val="3333cc"/>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V="1">
              <a:off x="3878280" y="4461840"/>
              <a:ext cx="147960" cy="106704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3152880" y="5528880"/>
              <a:ext cx="1426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Arial"/>
                </a:rPr>
                <a:t>Acoustic Background Noise</a:t>
              </a:r>
              <a:endParaRPr b="0" lang="en-US" sz="1600" spc="-1" strike="noStrike">
                <a:solidFill>
                  <a:srgbClr val="000000"/>
                </a:solidFill>
                <a:latin typeface="Times New Roman"/>
              </a:endParaRPr>
            </a:p>
          </p:txBody>
        </p:sp>
        <p:sp>
          <p:nvSpPr>
            <p:cNvPr id="575" name=""/>
            <p:cNvSpPr/>
            <p:nvPr/>
          </p:nvSpPr>
          <p:spPr>
            <a:xfrm>
              <a:off x="6136560" y="5419080"/>
              <a:ext cx="1867320" cy="0"/>
            </a:xfrm>
            <a:prstGeom prst="line">
              <a:avLst/>
            </a:prstGeom>
            <a:ln w="76320">
              <a:solidFill>
                <a:srgbClr val="3333cc"/>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1590120" y="4726080"/>
              <a:ext cx="1267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lephone Handset</a:t>
              </a:r>
              <a:endParaRPr b="0" lang="en-US" sz="1800" spc="-1" strike="noStrike">
                <a:solidFill>
                  <a:srgbClr val="000000"/>
                </a:solidFill>
                <a:latin typeface="Times New Roman"/>
              </a:endParaRPr>
            </a:p>
          </p:txBody>
        </p:sp>
        <p:sp>
          <p:nvSpPr>
            <p:cNvPr id="577" name=""/>
            <p:cNvSpPr/>
            <p:nvPr/>
          </p:nvSpPr>
          <p:spPr>
            <a:xfrm>
              <a:off x="5590800" y="1746000"/>
              <a:ext cx="2689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of high-gain hearing aids with telephones can be difficult, owing to feedback and background noise</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8" name=""/>
          <p:cNvGrpSpPr/>
          <p:nvPr/>
        </p:nvGrpSpPr>
        <p:grpSpPr>
          <a:xfrm>
            <a:off x="1219320" y="838080"/>
            <a:ext cx="7086240" cy="5373720"/>
            <a:chOff x="1219320" y="838080"/>
            <a:chExt cx="7086240" cy="5373720"/>
          </a:xfrm>
        </p:grpSpPr>
        <p:sp>
          <p:nvSpPr>
            <p:cNvPr id="579" name=""/>
            <p:cNvSpPr/>
            <p:nvPr/>
          </p:nvSpPr>
          <p:spPr>
            <a:xfrm>
              <a:off x="4875480" y="3185640"/>
              <a:ext cx="859680" cy="761400"/>
            </a:xfrm>
            <a:custGeom>
              <a:avLst/>
              <a:gdLst/>
              <a:ahLst/>
              <a:rect l="l" t="t" r="r" b="b"/>
              <a:pathLst>
                <a:path w="577" h="535">
                  <a:moveTo>
                    <a:pt x="28" y="10"/>
                  </a:moveTo>
                  <a:cubicBezTo>
                    <a:pt x="34" y="9"/>
                    <a:pt x="33" y="0"/>
                    <a:pt x="63" y="4"/>
                  </a:cubicBezTo>
                  <a:cubicBezTo>
                    <a:pt x="93" y="8"/>
                    <a:pt x="158" y="23"/>
                    <a:pt x="207" y="32"/>
                  </a:cubicBezTo>
                  <a:cubicBezTo>
                    <a:pt x="248" y="38"/>
                    <a:pt x="310" y="49"/>
                    <a:pt x="355" y="60"/>
                  </a:cubicBezTo>
                  <a:cubicBezTo>
                    <a:pt x="413" y="72"/>
                    <a:pt x="520" y="63"/>
                    <a:pt x="555" y="103"/>
                  </a:cubicBezTo>
                  <a:cubicBezTo>
                    <a:pt x="577" y="146"/>
                    <a:pt x="570" y="249"/>
                    <a:pt x="568" y="303"/>
                  </a:cubicBezTo>
                  <a:cubicBezTo>
                    <a:pt x="566" y="357"/>
                    <a:pt x="565" y="399"/>
                    <a:pt x="540" y="426"/>
                  </a:cubicBezTo>
                  <a:cubicBezTo>
                    <a:pt x="515" y="453"/>
                    <a:pt x="454" y="453"/>
                    <a:pt x="417" y="462"/>
                  </a:cubicBezTo>
                  <a:cubicBezTo>
                    <a:pt x="379" y="473"/>
                    <a:pt x="357" y="470"/>
                    <a:pt x="319" y="483"/>
                  </a:cubicBezTo>
                  <a:cubicBezTo>
                    <a:pt x="302" y="489"/>
                    <a:pt x="239" y="488"/>
                    <a:pt x="226" y="490"/>
                  </a:cubicBezTo>
                  <a:cubicBezTo>
                    <a:pt x="178" y="498"/>
                    <a:pt x="95" y="509"/>
                    <a:pt x="57" y="517"/>
                  </a:cubicBezTo>
                  <a:cubicBezTo>
                    <a:pt x="19" y="525"/>
                    <a:pt x="12" y="531"/>
                    <a:pt x="0" y="535"/>
                  </a:cubicBezTo>
                </a:path>
              </a:pathLst>
            </a:custGeom>
            <a:noFill/>
            <a:ln w="7632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0" name=""/>
            <p:cNvGrpSpPr/>
            <p:nvPr/>
          </p:nvGrpSpPr>
          <p:grpSpPr>
            <a:xfrm>
              <a:off x="3740040" y="1863000"/>
              <a:ext cx="1589760" cy="3465000"/>
              <a:chOff x="3740040" y="1863000"/>
              <a:chExt cx="1589760" cy="3465000"/>
            </a:xfrm>
          </p:grpSpPr>
          <p:grpSp>
            <p:nvGrpSpPr>
              <p:cNvPr id="581" name=""/>
              <p:cNvGrpSpPr/>
              <p:nvPr/>
            </p:nvGrpSpPr>
            <p:grpSpPr>
              <a:xfrm>
                <a:off x="3740040" y="1863000"/>
                <a:ext cx="1589760" cy="3465000"/>
                <a:chOff x="3740040" y="1863000"/>
                <a:chExt cx="1589760" cy="3465000"/>
              </a:xfrm>
            </p:grpSpPr>
            <p:sp>
              <p:nvSpPr>
                <p:cNvPr id="582" name=""/>
                <p:cNvSpPr/>
                <p:nvPr/>
              </p:nvSpPr>
              <p:spPr>
                <a:xfrm>
                  <a:off x="3740040" y="1863000"/>
                  <a:ext cx="1587600" cy="3462120"/>
                </a:xfrm>
                <a:custGeom>
                  <a:avLst/>
                  <a:gdLst/>
                  <a:ahLst/>
                  <a:rect l="l" t="t" r="r" b="b"/>
                  <a:pathLst>
                    <a:path w="2588" h="3407">
                      <a:moveTo>
                        <a:pt x="2566" y="2727"/>
                      </a:moveTo>
                      <a:lnTo>
                        <a:pt x="2492" y="2590"/>
                      </a:lnTo>
                      <a:lnTo>
                        <a:pt x="2409" y="2467"/>
                      </a:lnTo>
                      <a:lnTo>
                        <a:pt x="2314" y="2350"/>
                      </a:lnTo>
                      <a:lnTo>
                        <a:pt x="2240" y="2171"/>
                      </a:lnTo>
                      <a:lnTo>
                        <a:pt x="2197" y="1930"/>
                      </a:lnTo>
                      <a:lnTo>
                        <a:pt x="2166" y="1697"/>
                      </a:lnTo>
                      <a:lnTo>
                        <a:pt x="2134" y="1454"/>
                      </a:lnTo>
                      <a:lnTo>
                        <a:pt x="2113" y="1181"/>
                      </a:lnTo>
                      <a:lnTo>
                        <a:pt x="2134" y="970"/>
                      </a:lnTo>
                      <a:lnTo>
                        <a:pt x="2102" y="741"/>
                      </a:lnTo>
                      <a:lnTo>
                        <a:pt x="2060" y="541"/>
                      </a:lnTo>
                      <a:lnTo>
                        <a:pt x="2009" y="361"/>
                      </a:lnTo>
                      <a:lnTo>
                        <a:pt x="1956" y="236"/>
                      </a:lnTo>
                      <a:lnTo>
                        <a:pt x="1840" y="201"/>
                      </a:lnTo>
                      <a:lnTo>
                        <a:pt x="1755" y="164"/>
                      </a:lnTo>
                      <a:lnTo>
                        <a:pt x="1671" y="106"/>
                      </a:lnTo>
                      <a:lnTo>
                        <a:pt x="1572" y="63"/>
                      </a:lnTo>
                      <a:lnTo>
                        <a:pt x="1450" y="32"/>
                      </a:lnTo>
                      <a:lnTo>
                        <a:pt x="1294" y="11"/>
                      </a:lnTo>
                      <a:lnTo>
                        <a:pt x="1140" y="0"/>
                      </a:lnTo>
                      <a:lnTo>
                        <a:pt x="987" y="11"/>
                      </a:lnTo>
                      <a:lnTo>
                        <a:pt x="835" y="37"/>
                      </a:lnTo>
                      <a:lnTo>
                        <a:pt x="693" y="79"/>
                      </a:lnTo>
                      <a:lnTo>
                        <a:pt x="578" y="137"/>
                      </a:lnTo>
                      <a:lnTo>
                        <a:pt x="453" y="222"/>
                      </a:lnTo>
                      <a:lnTo>
                        <a:pt x="337" y="326"/>
                      </a:lnTo>
                      <a:lnTo>
                        <a:pt x="252" y="431"/>
                      </a:lnTo>
                      <a:lnTo>
                        <a:pt x="170" y="569"/>
                      </a:lnTo>
                      <a:lnTo>
                        <a:pt x="111" y="685"/>
                      </a:lnTo>
                      <a:lnTo>
                        <a:pt x="69" y="785"/>
                      </a:lnTo>
                      <a:lnTo>
                        <a:pt x="32" y="903"/>
                      </a:lnTo>
                      <a:lnTo>
                        <a:pt x="6" y="1009"/>
                      </a:lnTo>
                      <a:lnTo>
                        <a:pt x="0" y="1120"/>
                      </a:lnTo>
                      <a:lnTo>
                        <a:pt x="22" y="1305"/>
                      </a:lnTo>
                      <a:lnTo>
                        <a:pt x="59" y="1467"/>
                      </a:lnTo>
                      <a:lnTo>
                        <a:pt x="74" y="1620"/>
                      </a:lnTo>
                      <a:lnTo>
                        <a:pt x="101" y="1708"/>
                      </a:lnTo>
                      <a:lnTo>
                        <a:pt x="154" y="1782"/>
                      </a:lnTo>
                      <a:lnTo>
                        <a:pt x="221" y="1866"/>
                      </a:lnTo>
                      <a:lnTo>
                        <a:pt x="279" y="1956"/>
                      </a:lnTo>
                      <a:lnTo>
                        <a:pt x="342" y="2034"/>
                      </a:lnTo>
                      <a:lnTo>
                        <a:pt x="421" y="2129"/>
                      </a:lnTo>
                      <a:lnTo>
                        <a:pt x="522" y="2271"/>
                      </a:lnTo>
                      <a:lnTo>
                        <a:pt x="621" y="2400"/>
                      </a:lnTo>
                      <a:lnTo>
                        <a:pt x="714" y="2516"/>
                      </a:lnTo>
                      <a:lnTo>
                        <a:pt x="783" y="2595"/>
                      </a:lnTo>
                      <a:lnTo>
                        <a:pt x="846" y="2694"/>
                      </a:lnTo>
                      <a:lnTo>
                        <a:pt x="901" y="2777"/>
                      </a:lnTo>
                      <a:lnTo>
                        <a:pt x="931" y="2836"/>
                      </a:lnTo>
                      <a:lnTo>
                        <a:pt x="976" y="2884"/>
                      </a:lnTo>
                      <a:lnTo>
                        <a:pt x="1035" y="2924"/>
                      </a:lnTo>
                      <a:lnTo>
                        <a:pt x="1119" y="2954"/>
                      </a:lnTo>
                      <a:lnTo>
                        <a:pt x="1230" y="2991"/>
                      </a:lnTo>
                      <a:lnTo>
                        <a:pt x="1329" y="3034"/>
                      </a:lnTo>
                      <a:lnTo>
                        <a:pt x="1419" y="3086"/>
                      </a:lnTo>
                      <a:lnTo>
                        <a:pt x="1514" y="3159"/>
                      </a:lnTo>
                      <a:lnTo>
                        <a:pt x="1625" y="3248"/>
                      </a:lnTo>
                      <a:lnTo>
                        <a:pt x="1708" y="3312"/>
                      </a:lnTo>
                      <a:lnTo>
                        <a:pt x="1787" y="3359"/>
                      </a:lnTo>
                      <a:lnTo>
                        <a:pt x="1850" y="3391"/>
                      </a:lnTo>
                      <a:lnTo>
                        <a:pt x="1930" y="3407"/>
                      </a:lnTo>
                      <a:lnTo>
                        <a:pt x="2012" y="3402"/>
                      </a:lnTo>
                      <a:lnTo>
                        <a:pt x="2069" y="3380"/>
                      </a:lnTo>
                      <a:lnTo>
                        <a:pt x="2132" y="3338"/>
                      </a:lnTo>
                      <a:lnTo>
                        <a:pt x="2180" y="3296"/>
                      </a:lnTo>
                      <a:lnTo>
                        <a:pt x="2248" y="3217"/>
                      </a:lnTo>
                      <a:lnTo>
                        <a:pt x="2322" y="3107"/>
                      </a:lnTo>
                      <a:lnTo>
                        <a:pt x="2386" y="3018"/>
                      </a:lnTo>
                      <a:lnTo>
                        <a:pt x="2453" y="2938"/>
                      </a:lnTo>
                      <a:lnTo>
                        <a:pt x="2493" y="2909"/>
                      </a:lnTo>
                      <a:lnTo>
                        <a:pt x="2534" y="2887"/>
                      </a:lnTo>
                      <a:lnTo>
                        <a:pt x="2588" y="2873"/>
                      </a:lnTo>
                      <a:lnTo>
                        <a:pt x="2566" y="272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3740040" y="1863000"/>
                  <a:ext cx="1589760" cy="3465000"/>
                </a:xfrm>
                <a:custGeom>
                  <a:avLst/>
                  <a:gdLst/>
                  <a:ahLst/>
                  <a:rect l="l" t="t" r="r" b="b"/>
                  <a:pathLst>
                    <a:path w="2592" h="3410">
                      <a:moveTo>
                        <a:pt x="1958" y="232"/>
                      </a:moveTo>
                      <a:lnTo>
                        <a:pt x="1841" y="201"/>
                      </a:lnTo>
                      <a:lnTo>
                        <a:pt x="1757" y="164"/>
                      </a:lnTo>
                      <a:lnTo>
                        <a:pt x="1672" y="106"/>
                      </a:lnTo>
                      <a:lnTo>
                        <a:pt x="1574" y="63"/>
                      </a:lnTo>
                      <a:lnTo>
                        <a:pt x="1452" y="32"/>
                      </a:lnTo>
                      <a:lnTo>
                        <a:pt x="1295" y="11"/>
                      </a:lnTo>
                      <a:lnTo>
                        <a:pt x="1142" y="0"/>
                      </a:lnTo>
                      <a:lnTo>
                        <a:pt x="989" y="11"/>
                      </a:lnTo>
                      <a:lnTo>
                        <a:pt x="837" y="37"/>
                      </a:lnTo>
                      <a:lnTo>
                        <a:pt x="695" y="79"/>
                      </a:lnTo>
                      <a:lnTo>
                        <a:pt x="578" y="137"/>
                      </a:lnTo>
                      <a:lnTo>
                        <a:pt x="453" y="222"/>
                      </a:lnTo>
                      <a:lnTo>
                        <a:pt x="337" y="326"/>
                      </a:lnTo>
                      <a:lnTo>
                        <a:pt x="252" y="431"/>
                      </a:lnTo>
                      <a:lnTo>
                        <a:pt x="170" y="569"/>
                      </a:lnTo>
                      <a:lnTo>
                        <a:pt x="111" y="685"/>
                      </a:lnTo>
                      <a:lnTo>
                        <a:pt x="69" y="785"/>
                      </a:lnTo>
                      <a:lnTo>
                        <a:pt x="32" y="905"/>
                      </a:lnTo>
                      <a:lnTo>
                        <a:pt x="6" y="1011"/>
                      </a:lnTo>
                      <a:lnTo>
                        <a:pt x="0" y="1122"/>
                      </a:lnTo>
                      <a:lnTo>
                        <a:pt x="22" y="1306"/>
                      </a:lnTo>
                      <a:lnTo>
                        <a:pt x="59" y="1468"/>
                      </a:lnTo>
                      <a:lnTo>
                        <a:pt x="74" y="1622"/>
                      </a:lnTo>
                      <a:lnTo>
                        <a:pt x="101" y="1710"/>
                      </a:lnTo>
                      <a:lnTo>
                        <a:pt x="154" y="1784"/>
                      </a:lnTo>
                      <a:lnTo>
                        <a:pt x="221" y="1868"/>
                      </a:lnTo>
                      <a:lnTo>
                        <a:pt x="279" y="1958"/>
                      </a:lnTo>
                      <a:lnTo>
                        <a:pt x="342" y="2035"/>
                      </a:lnTo>
                      <a:lnTo>
                        <a:pt x="421" y="2130"/>
                      </a:lnTo>
                      <a:lnTo>
                        <a:pt x="522" y="2273"/>
                      </a:lnTo>
                      <a:lnTo>
                        <a:pt x="621" y="2402"/>
                      </a:lnTo>
                      <a:lnTo>
                        <a:pt x="716" y="2518"/>
                      </a:lnTo>
                      <a:lnTo>
                        <a:pt x="784" y="2599"/>
                      </a:lnTo>
                      <a:lnTo>
                        <a:pt x="848" y="2697"/>
                      </a:lnTo>
                      <a:lnTo>
                        <a:pt x="902" y="2780"/>
                      </a:lnTo>
                      <a:lnTo>
                        <a:pt x="932" y="2840"/>
                      </a:lnTo>
                      <a:lnTo>
                        <a:pt x="978" y="2887"/>
                      </a:lnTo>
                      <a:lnTo>
                        <a:pt x="1036" y="2928"/>
                      </a:lnTo>
                      <a:lnTo>
                        <a:pt x="1121" y="2958"/>
                      </a:lnTo>
                      <a:lnTo>
                        <a:pt x="1232" y="2995"/>
                      </a:lnTo>
                      <a:lnTo>
                        <a:pt x="1331" y="3037"/>
                      </a:lnTo>
                      <a:lnTo>
                        <a:pt x="1420" y="3090"/>
                      </a:lnTo>
                      <a:lnTo>
                        <a:pt x="1516" y="3162"/>
                      </a:lnTo>
                      <a:lnTo>
                        <a:pt x="1627" y="3252"/>
                      </a:lnTo>
                      <a:lnTo>
                        <a:pt x="1709" y="3315"/>
                      </a:lnTo>
                      <a:lnTo>
                        <a:pt x="1789" y="3363"/>
                      </a:lnTo>
                      <a:lnTo>
                        <a:pt x="1852" y="3394"/>
                      </a:lnTo>
                      <a:lnTo>
                        <a:pt x="1931" y="3410"/>
                      </a:lnTo>
                      <a:lnTo>
                        <a:pt x="2016" y="3405"/>
                      </a:lnTo>
                      <a:lnTo>
                        <a:pt x="2072" y="3384"/>
                      </a:lnTo>
                      <a:lnTo>
                        <a:pt x="2136" y="3342"/>
                      </a:lnTo>
                      <a:lnTo>
                        <a:pt x="2183" y="3299"/>
                      </a:lnTo>
                      <a:lnTo>
                        <a:pt x="2252" y="3220"/>
                      </a:lnTo>
                      <a:lnTo>
                        <a:pt x="2326" y="3111"/>
                      </a:lnTo>
                      <a:lnTo>
                        <a:pt x="2389" y="3021"/>
                      </a:lnTo>
                      <a:lnTo>
                        <a:pt x="2456" y="2942"/>
                      </a:lnTo>
                      <a:lnTo>
                        <a:pt x="2497" y="2912"/>
                      </a:lnTo>
                      <a:lnTo>
                        <a:pt x="2537" y="2891"/>
                      </a:lnTo>
                      <a:lnTo>
                        <a:pt x="2592" y="287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4" name=""/>
              <p:cNvGrpSpPr/>
              <p:nvPr/>
            </p:nvGrpSpPr>
            <p:grpSpPr>
              <a:xfrm>
                <a:off x="3888360" y="2225520"/>
                <a:ext cx="1091160" cy="2161440"/>
                <a:chOff x="3888360" y="2225520"/>
                <a:chExt cx="1091160" cy="2161440"/>
              </a:xfrm>
            </p:grpSpPr>
            <p:grpSp>
              <p:nvGrpSpPr>
                <p:cNvPr id="585" name=""/>
                <p:cNvGrpSpPr/>
                <p:nvPr/>
              </p:nvGrpSpPr>
              <p:grpSpPr>
                <a:xfrm>
                  <a:off x="3888360" y="2225520"/>
                  <a:ext cx="1089360" cy="2158560"/>
                  <a:chOff x="3888360" y="2225520"/>
                  <a:chExt cx="1089360" cy="2158560"/>
                </a:xfrm>
              </p:grpSpPr>
              <p:sp>
                <p:nvSpPr>
                  <p:cNvPr id="586" name=""/>
                  <p:cNvSpPr/>
                  <p:nvPr/>
                </p:nvSpPr>
                <p:spPr>
                  <a:xfrm>
                    <a:off x="4295520" y="2225520"/>
                    <a:ext cx="429840" cy="472320"/>
                  </a:xfrm>
                  <a:custGeom>
                    <a:avLst/>
                    <a:gdLst/>
                    <a:ahLst/>
                    <a:rect l="l" t="t" r="r" b="b"/>
                    <a:pathLst>
                      <a:path w="701" h="465">
                        <a:moveTo>
                          <a:pt x="648" y="465"/>
                        </a:moveTo>
                        <a:lnTo>
                          <a:pt x="622" y="375"/>
                        </a:lnTo>
                        <a:lnTo>
                          <a:pt x="590" y="319"/>
                        </a:lnTo>
                        <a:lnTo>
                          <a:pt x="553" y="277"/>
                        </a:lnTo>
                        <a:lnTo>
                          <a:pt x="491" y="250"/>
                        </a:lnTo>
                        <a:lnTo>
                          <a:pt x="402" y="240"/>
                        </a:lnTo>
                        <a:lnTo>
                          <a:pt x="308" y="229"/>
                        </a:lnTo>
                        <a:lnTo>
                          <a:pt x="162" y="203"/>
                        </a:lnTo>
                        <a:lnTo>
                          <a:pt x="77" y="182"/>
                        </a:lnTo>
                        <a:lnTo>
                          <a:pt x="0" y="157"/>
                        </a:lnTo>
                        <a:lnTo>
                          <a:pt x="141" y="120"/>
                        </a:lnTo>
                        <a:lnTo>
                          <a:pt x="240" y="85"/>
                        </a:lnTo>
                        <a:lnTo>
                          <a:pt x="361" y="27"/>
                        </a:lnTo>
                        <a:lnTo>
                          <a:pt x="465" y="0"/>
                        </a:lnTo>
                        <a:lnTo>
                          <a:pt x="595" y="22"/>
                        </a:lnTo>
                        <a:lnTo>
                          <a:pt x="659" y="59"/>
                        </a:lnTo>
                        <a:lnTo>
                          <a:pt x="691" y="111"/>
                        </a:lnTo>
                        <a:lnTo>
                          <a:pt x="701" y="189"/>
                        </a:lnTo>
                        <a:lnTo>
                          <a:pt x="680" y="284"/>
                        </a:lnTo>
                        <a:lnTo>
                          <a:pt x="664" y="377"/>
                        </a:lnTo>
                        <a:lnTo>
                          <a:pt x="648" y="46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888360" y="2424600"/>
                    <a:ext cx="327600" cy="1028160"/>
                  </a:xfrm>
                  <a:custGeom>
                    <a:avLst/>
                    <a:gdLst/>
                    <a:ahLst/>
                    <a:rect l="l" t="t" r="r" b="b"/>
                    <a:pathLst>
                      <a:path w="534" h="1012">
                        <a:moveTo>
                          <a:pt x="74" y="1012"/>
                        </a:moveTo>
                        <a:lnTo>
                          <a:pt x="37" y="878"/>
                        </a:lnTo>
                        <a:lnTo>
                          <a:pt x="10" y="775"/>
                        </a:lnTo>
                        <a:lnTo>
                          <a:pt x="0" y="639"/>
                        </a:lnTo>
                        <a:lnTo>
                          <a:pt x="5" y="525"/>
                        </a:lnTo>
                        <a:lnTo>
                          <a:pt x="21" y="393"/>
                        </a:lnTo>
                        <a:lnTo>
                          <a:pt x="47" y="297"/>
                        </a:lnTo>
                        <a:lnTo>
                          <a:pt x="79" y="222"/>
                        </a:lnTo>
                        <a:lnTo>
                          <a:pt x="146" y="143"/>
                        </a:lnTo>
                        <a:lnTo>
                          <a:pt x="225" y="84"/>
                        </a:lnTo>
                        <a:lnTo>
                          <a:pt x="313" y="42"/>
                        </a:lnTo>
                        <a:lnTo>
                          <a:pt x="428" y="16"/>
                        </a:lnTo>
                        <a:lnTo>
                          <a:pt x="534" y="0"/>
                        </a:lnTo>
                        <a:lnTo>
                          <a:pt x="449" y="37"/>
                        </a:lnTo>
                        <a:lnTo>
                          <a:pt x="387" y="74"/>
                        </a:lnTo>
                        <a:lnTo>
                          <a:pt x="345" y="106"/>
                        </a:lnTo>
                        <a:lnTo>
                          <a:pt x="294" y="153"/>
                        </a:lnTo>
                        <a:lnTo>
                          <a:pt x="257" y="195"/>
                        </a:lnTo>
                        <a:lnTo>
                          <a:pt x="220" y="253"/>
                        </a:lnTo>
                        <a:lnTo>
                          <a:pt x="178" y="324"/>
                        </a:lnTo>
                        <a:lnTo>
                          <a:pt x="141" y="398"/>
                        </a:lnTo>
                        <a:lnTo>
                          <a:pt x="111" y="482"/>
                        </a:lnTo>
                        <a:lnTo>
                          <a:pt x="90" y="562"/>
                        </a:lnTo>
                        <a:lnTo>
                          <a:pt x="68" y="672"/>
                        </a:lnTo>
                        <a:lnTo>
                          <a:pt x="58" y="776"/>
                        </a:lnTo>
                        <a:lnTo>
                          <a:pt x="74" y="1007"/>
                        </a:lnTo>
                        <a:lnTo>
                          <a:pt x="74" y="10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4731120" y="3229560"/>
                    <a:ext cx="246600" cy="1154520"/>
                  </a:xfrm>
                  <a:custGeom>
                    <a:avLst/>
                    <a:gdLst/>
                    <a:ahLst/>
                    <a:rect l="l" t="t" r="r" b="b"/>
                    <a:pathLst>
                      <a:path w="402" h="1136">
                        <a:moveTo>
                          <a:pt x="322" y="4"/>
                        </a:moveTo>
                        <a:lnTo>
                          <a:pt x="359" y="62"/>
                        </a:lnTo>
                        <a:lnTo>
                          <a:pt x="375" y="134"/>
                        </a:lnTo>
                        <a:lnTo>
                          <a:pt x="365" y="218"/>
                        </a:lnTo>
                        <a:lnTo>
                          <a:pt x="338" y="306"/>
                        </a:lnTo>
                        <a:lnTo>
                          <a:pt x="298" y="370"/>
                        </a:lnTo>
                        <a:lnTo>
                          <a:pt x="224" y="433"/>
                        </a:lnTo>
                        <a:lnTo>
                          <a:pt x="171" y="500"/>
                        </a:lnTo>
                        <a:lnTo>
                          <a:pt x="150" y="564"/>
                        </a:lnTo>
                        <a:lnTo>
                          <a:pt x="166" y="643"/>
                        </a:lnTo>
                        <a:lnTo>
                          <a:pt x="208" y="694"/>
                        </a:lnTo>
                        <a:lnTo>
                          <a:pt x="271" y="736"/>
                        </a:lnTo>
                        <a:lnTo>
                          <a:pt x="338" y="794"/>
                        </a:lnTo>
                        <a:lnTo>
                          <a:pt x="381" y="861"/>
                        </a:lnTo>
                        <a:lnTo>
                          <a:pt x="402" y="958"/>
                        </a:lnTo>
                        <a:lnTo>
                          <a:pt x="381" y="1042"/>
                        </a:lnTo>
                        <a:lnTo>
                          <a:pt x="349" y="1099"/>
                        </a:lnTo>
                        <a:lnTo>
                          <a:pt x="282" y="1130"/>
                        </a:lnTo>
                        <a:lnTo>
                          <a:pt x="203" y="1136"/>
                        </a:lnTo>
                        <a:lnTo>
                          <a:pt x="134" y="1115"/>
                        </a:lnTo>
                        <a:lnTo>
                          <a:pt x="56" y="1067"/>
                        </a:lnTo>
                        <a:lnTo>
                          <a:pt x="0" y="1025"/>
                        </a:lnTo>
                        <a:lnTo>
                          <a:pt x="40" y="1023"/>
                        </a:lnTo>
                        <a:lnTo>
                          <a:pt x="81" y="1020"/>
                        </a:lnTo>
                        <a:lnTo>
                          <a:pt x="130" y="1012"/>
                        </a:lnTo>
                        <a:lnTo>
                          <a:pt x="167" y="997"/>
                        </a:lnTo>
                        <a:lnTo>
                          <a:pt x="199" y="970"/>
                        </a:lnTo>
                        <a:lnTo>
                          <a:pt x="225" y="939"/>
                        </a:lnTo>
                        <a:lnTo>
                          <a:pt x="241" y="898"/>
                        </a:lnTo>
                        <a:lnTo>
                          <a:pt x="247" y="854"/>
                        </a:lnTo>
                        <a:lnTo>
                          <a:pt x="241" y="808"/>
                        </a:lnTo>
                        <a:lnTo>
                          <a:pt x="233" y="771"/>
                        </a:lnTo>
                        <a:lnTo>
                          <a:pt x="222" y="745"/>
                        </a:lnTo>
                        <a:lnTo>
                          <a:pt x="199" y="724"/>
                        </a:lnTo>
                        <a:lnTo>
                          <a:pt x="167" y="699"/>
                        </a:lnTo>
                        <a:lnTo>
                          <a:pt x="120" y="660"/>
                        </a:lnTo>
                        <a:lnTo>
                          <a:pt x="95" y="630"/>
                        </a:lnTo>
                        <a:lnTo>
                          <a:pt x="70" y="595"/>
                        </a:lnTo>
                        <a:lnTo>
                          <a:pt x="58" y="551"/>
                        </a:lnTo>
                        <a:lnTo>
                          <a:pt x="55" y="504"/>
                        </a:lnTo>
                        <a:lnTo>
                          <a:pt x="55" y="453"/>
                        </a:lnTo>
                        <a:lnTo>
                          <a:pt x="60" y="409"/>
                        </a:lnTo>
                        <a:lnTo>
                          <a:pt x="79" y="373"/>
                        </a:lnTo>
                        <a:lnTo>
                          <a:pt x="104" y="336"/>
                        </a:lnTo>
                        <a:lnTo>
                          <a:pt x="132" y="305"/>
                        </a:lnTo>
                        <a:lnTo>
                          <a:pt x="169" y="284"/>
                        </a:lnTo>
                        <a:lnTo>
                          <a:pt x="225" y="268"/>
                        </a:lnTo>
                        <a:lnTo>
                          <a:pt x="264" y="252"/>
                        </a:lnTo>
                        <a:lnTo>
                          <a:pt x="301" y="226"/>
                        </a:lnTo>
                        <a:lnTo>
                          <a:pt x="326" y="183"/>
                        </a:lnTo>
                        <a:lnTo>
                          <a:pt x="335" y="143"/>
                        </a:lnTo>
                        <a:lnTo>
                          <a:pt x="340" y="88"/>
                        </a:lnTo>
                        <a:lnTo>
                          <a:pt x="322" y="0"/>
                        </a:lnTo>
                        <a:lnTo>
                          <a:pt x="322" y="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4375440" y="2846520"/>
                    <a:ext cx="291960" cy="563760"/>
                  </a:xfrm>
                  <a:custGeom>
                    <a:avLst/>
                    <a:gdLst/>
                    <a:ahLst/>
                    <a:rect l="l" t="t" r="r" b="b"/>
                    <a:pathLst>
                      <a:path w="476" h="555">
                        <a:moveTo>
                          <a:pt x="474" y="2"/>
                        </a:moveTo>
                        <a:lnTo>
                          <a:pt x="437" y="92"/>
                        </a:lnTo>
                        <a:lnTo>
                          <a:pt x="411" y="143"/>
                        </a:lnTo>
                        <a:lnTo>
                          <a:pt x="381" y="205"/>
                        </a:lnTo>
                        <a:lnTo>
                          <a:pt x="354" y="268"/>
                        </a:lnTo>
                        <a:lnTo>
                          <a:pt x="330" y="321"/>
                        </a:lnTo>
                        <a:lnTo>
                          <a:pt x="302" y="370"/>
                        </a:lnTo>
                        <a:lnTo>
                          <a:pt x="266" y="416"/>
                        </a:lnTo>
                        <a:lnTo>
                          <a:pt x="235" y="460"/>
                        </a:lnTo>
                        <a:lnTo>
                          <a:pt x="214" y="504"/>
                        </a:lnTo>
                        <a:lnTo>
                          <a:pt x="194" y="555"/>
                        </a:lnTo>
                        <a:lnTo>
                          <a:pt x="178" y="514"/>
                        </a:lnTo>
                        <a:lnTo>
                          <a:pt x="162" y="483"/>
                        </a:lnTo>
                        <a:lnTo>
                          <a:pt x="141" y="442"/>
                        </a:lnTo>
                        <a:lnTo>
                          <a:pt x="120" y="412"/>
                        </a:lnTo>
                        <a:lnTo>
                          <a:pt x="95" y="379"/>
                        </a:lnTo>
                        <a:lnTo>
                          <a:pt x="67" y="354"/>
                        </a:lnTo>
                        <a:lnTo>
                          <a:pt x="41" y="337"/>
                        </a:lnTo>
                        <a:lnTo>
                          <a:pt x="0" y="326"/>
                        </a:lnTo>
                        <a:lnTo>
                          <a:pt x="64" y="294"/>
                        </a:lnTo>
                        <a:lnTo>
                          <a:pt x="173" y="247"/>
                        </a:lnTo>
                        <a:lnTo>
                          <a:pt x="266" y="194"/>
                        </a:lnTo>
                        <a:lnTo>
                          <a:pt x="360" y="132"/>
                        </a:lnTo>
                        <a:lnTo>
                          <a:pt x="428" y="69"/>
                        </a:lnTo>
                        <a:lnTo>
                          <a:pt x="476" y="0"/>
                        </a:lnTo>
                        <a:lnTo>
                          <a:pt x="474" y="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0" name=""/>
                <p:cNvSpPr/>
                <p:nvPr/>
              </p:nvSpPr>
              <p:spPr>
                <a:xfrm>
                  <a:off x="3888360" y="2225520"/>
                  <a:ext cx="1091160" cy="2161440"/>
                </a:xfrm>
                <a:custGeom>
                  <a:avLst/>
                  <a:gdLst/>
                  <a:ahLst/>
                  <a:rect l="l" t="t" r="r" b="b"/>
                  <a:pathLst>
                    <a:path w="1779" h="2127">
                      <a:moveTo>
                        <a:pt x="1053" y="1222"/>
                      </a:moveTo>
                      <a:lnTo>
                        <a:pt x="1120" y="1138"/>
                      </a:lnTo>
                      <a:lnTo>
                        <a:pt x="1200" y="1064"/>
                      </a:lnTo>
                      <a:lnTo>
                        <a:pt x="1279" y="1008"/>
                      </a:lnTo>
                      <a:lnTo>
                        <a:pt x="1358" y="955"/>
                      </a:lnTo>
                      <a:lnTo>
                        <a:pt x="1422" y="923"/>
                      </a:lnTo>
                      <a:lnTo>
                        <a:pt x="1476" y="907"/>
                      </a:lnTo>
                      <a:lnTo>
                        <a:pt x="1536" y="897"/>
                      </a:lnTo>
                      <a:lnTo>
                        <a:pt x="1605" y="912"/>
                      </a:lnTo>
                      <a:lnTo>
                        <a:pt x="1652" y="939"/>
                      </a:lnTo>
                      <a:lnTo>
                        <a:pt x="1700" y="992"/>
                      </a:lnTo>
                      <a:lnTo>
                        <a:pt x="1737" y="1050"/>
                      </a:lnTo>
                      <a:lnTo>
                        <a:pt x="1753" y="1122"/>
                      </a:lnTo>
                      <a:lnTo>
                        <a:pt x="1742" y="1206"/>
                      </a:lnTo>
                      <a:lnTo>
                        <a:pt x="1716" y="1296"/>
                      </a:lnTo>
                      <a:lnTo>
                        <a:pt x="1673" y="1360"/>
                      </a:lnTo>
                      <a:lnTo>
                        <a:pt x="1599" y="1423"/>
                      </a:lnTo>
                      <a:lnTo>
                        <a:pt x="1547" y="1490"/>
                      </a:lnTo>
                      <a:lnTo>
                        <a:pt x="1525" y="1553"/>
                      </a:lnTo>
                      <a:lnTo>
                        <a:pt x="1541" y="1633"/>
                      </a:lnTo>
                      <a:lnTo>
                        <a:pt x="1584" y="1684"/>
                      </a:lnTo>
                      <a:lnTo>
                        <a:pt x="1647" y="1726"/>
                      </a:lnTo>
                      <a:lnTo>
                        <a:pt x="1716" y="1784"/>
                      </a:lnTo>
                      <a:lnTo>
                        <a:pt x="1758" y="1853"/>
                      </a:lnTo>
                      <a:lnTo>
                        <a:pt x="1779" y="1949"/>
                      </a:lnTo>
                      <a:lnTo>
                        <a:pt x="1758" y="2034"/>
                      </a:lnTo>
                      <a:lnTo>
                        <a:pt x="1726" y="2090"/>
                      </a:lnTo>
                      <a:lnTo>
                        <a:pt x="1658" y="2122"/>
                      </a:lnTo>
                      <a:lnTo>
                        <a:pt x="1578" y="2127"/>
                      </a:lnTo>
                      <a:lnTo>
                        <a:pt x="1510" y="2106"/>
                      </a:lnTo>
                      <a:lnTo>
                        <a:pt x="1430" y="2059"/>
                      </a:lnTo>
                      <a:lnTo>
                        <a:pt x="1374" y="2016"/>
                      </a:lnTo>
                      <a:lnTo>
                        <a:pt x="1307" y="1951"/>
                      </a:lnTo>
                      <a:lnTo>
                        <a:pt x="1242" y="1895"/>
                      </a:lnTo>
                      <a:lnTo>
                        <a:pt x="1175" y="1854"/>
                      </a:lnTo>
                      <a:lnTo>
                        <a:pt x="1096" y="1830"/>
                      </a:lnTo>
                      <a:lnTo>
                        <a:pt x="1011" y="1810"/>
                      </a:lnTo>
                      <a:lnTo>
                        <a:pt x="928" y="1795"/>
                      </a:lnTo>
                      <a:lnTo>
                        <a:pt x="847" y="1779"/>
                      </a:lnTo>
                      <a:lnTo>
                        <a:pt x="780" y="1758"/>
                      </a:lnTo>
                      <a:lnTo>
                        <a:pt x="715" y="1715"/>
                      </a:lnTo>
                      <a:lnTo>
                        <a:pt x="659" y="1652"/>
                      </a:lnTo>
                      <a:lnTo>
                        <a:pt x="616" y="1585"/>
                      </a:lnTo>
                      <a:lnTo>
                        <a:pt x="590" y="1508"/>
                      </a:lnTo>
                      <a:lnTo>
                        <a:pt x="569" y="1390"/>
                      </a:lnTo>
                      <a:lnTo>
                        <a:pt x="574" y="1273"/>
                      </a:lnTo>
                      <a:lnTo>
                        <a:pt x="595" y="1173"/>
                      </a:lnTo>
                      <a:lnTo>
                        <a:pt x="632" y="1090"/>
                      </a:lnTo>
                      <a:lnTo>
                        <a:pt x="676" y="1034"/>
                      </a:lnTo>
                      <a:lnTo>
                        <a:pt x="713" y="993"/>
                      </a:lnTo>
                      <a:lnTo>
                        <a:pt x="763" y="953"/>
                      </a:lnTo>
                      <a:lnTo>
                        <a:pt x="858" y="907"/>
                      </a:lnTo>
                      <a:lnTo>
                        <a:pt x="969" y="860"/>
                      </a:lnTo>
                      <a:lnTo>
                        <a:pt x="1062" y="807"/>
                      </a:lnTo>
                      <a:lnTo>
                        <a:pt x="1157" y="743"/>
                      </a:lnTo>
                      <a:lnTo>
                        <a:pt x="1226" y="680"/>
                      </a:lnTo>
                      <a:lnTo>
                        <a:pt x="1263" y="627"/>
                      </a:lnTo>
                      <a:lnTo>
                        <a:pt x="1277" y="592"/>
                      </a:lnTo>
                      <a:lnTo>
                        <a:pt x="1282" y="560"/>
                      </a:lnTo>
                      <a:lnTo>
                        <a:pt x="1284" y="506"/>
                      </a:lnTo>
                      <a:lnTo>
                        <a:pt x="1256" y="581"/>
                      </a:lnTo>
                      <a:lnTo>
                        <a:pt x="1224" y="624"/>
                      </a:lnTo>
                      <a:lnTo>
                        <a:pt x="1178" y="661"/>
                      </a:lnTo>
                      <a:lnTo>
                        <a:pt x="1129" y="687"/>
                      </a:lnTo>
                      <a:lnTo>
                        <a:pt x="1067" y="706"/>
                      </a:lnTo>
                      <a:lnTo>
                        <a:pt x="990" y="717"/>
                      </a:lnTo>
                      <a:lnTo>
                        <a:pt x="916" y="708"/>
                      </a:lnTo>
                      <a:lnTo>
                        <a:pt x="837" y="701"/>
                      </a:lnTo>
                      <a:lnTo>
                        <a:pt x="761" y="703"/>
                      </a:lnTo>
                      <a:lnTo>
                        <a:pt x="687" y="712"/>
                      </a:lnTo>
                      <a:lnTo>
                        <a:pt x="615" y="728"/>
                      </a:lnTo>
                      <a:lnTo>
                        <a:pt x="527" y="759"/>
                      </a:lnTo>
                      <a:lnTo>
                        <a:pt x="447" y="798"/>
                      </a:lnTo>
                      <a:lnTo>
                        <a:pt x="382" y="840"/>
                      </a:lnTo>
                      <a:lnTo>
                        <a:pt x="326" y="897"/>
                      </a:lnTo>
                      <a:lnTo>
                        <a:pt x="278" y="965"/>
                      </a:lnTo>
                      <a:lnTo>
                        <a:pt x="252" y="1030"/>
                      </a:lnTo>
                      <a:lnTo>
                        <a:pt x="241" y="1096"/>
                      </a:lnTo>
                      <a:lnTo>
                        <a:pt x="253" y="1212"/>
                      </a:lnTo>
                      <a:lnTo>
                        <a:pt x="285" y="1339"/>
                      </a:lnTo>
                      <a:lnTo>
                        <a:pt x="319" y="1428"/>
                      </a:lnTo>
                      <a:lnTo>
                        <a:pt x="359" y="1506"/>
                      </a:lnTo>
                      <a:lnTo>
                        <a:pt x="419" y="1592"/>
                      </a:lnTo>
                      <a:lnTo>
                        <a:pt x="475" y="1654"/>
                      </a:lnTo>
                      <a:lnTo>
                        <a:pt x="542" y="1715"/>
                      </a:lnTo>
                      <a:lnTo>
                        <a:pt x="629" y="1786"/>
                      </a:lnTo>
                      <a:lnTo>
                        <a:pt x="733" y="1849"/>
                      </a:lnTo>
                      <a:lnTo>
                        <a:pt x="837" y="1890"/>
                      </a:lnTo>
                      <a:lnTo>
                        <a:pt x="937" y="1918"/>
                      </a:lnTo>
                      <a:lnTo>
                        <a:pt x="1011" y="1932"/>
                      </a:lnTo>
                      <a:lnTo>
                        <a:pt x="1073" y="1948"/>
                      </a:lnTo>
                      <a:lnTo>
                        <a:pt x="1104" y="1972"/>
                      </a:lnTo>
                      <a:lnTo>
                        <a:pt x="1115" y="2004"/>
                      </a:lnTo>
                      <a:lnTo>
                        <a:pt x="1106" y="2036"/>
                      </a:lnTo>
                      <a:lnTo>
                        <a:pt x="1080" y="2053"/>
                      </a:lnTo>
                      <a:lnTo>
                        <a:pt x="1045" y="2059"/>
                      </a:lnTo>
                      <a:lnTo>
                        <a:pt x="979" y="2052"/>
                      </a:lnTo>
                      <a:lnTo>
                        <a:pt x="889" y="2027"/>
                      </a:lnTo>
                      <a:lnTo>
                        <a:pt x="800" y="1995"/>
                      </a:lnTo>
                      <a:lnTo>
                        <a:pt x="701" y="1948"/>
                      </a:lnTo>
                      <a:lnTo>
                        <a:pt x="627" y="1900"/>
                      </a:lnTo>
                      <a:lnTo>
                        <a:pt x="556" y="1842"/>
                      </a:lnTo>
                      <a:lnTo>
                        <a:pt x="498" y="1775"/>
                      </a:lnTo>
                      <a:lnTo>
                        <a:pt x="433" y="1694"/>
                      </a:lnTo>
                      <a:lnTo>
                        <a:pt x="363" y="1617"/>
                      </a:lnTo>
                      <a:lnTo>
                        <a:pt x="290" y="1532"/>
                      </a:lnTo>
                      <a:lnTo>
                        <a:pt x="218" y="1444"/>
                      </a:lnTo>
                      <a:lnTo>
                        <a:pt x="160" y="1370"/>
                      </a:lnTo>
                      <a:lnTo>
                        <a:pt x="113" y="1296"/>
                      </a:lnTo>
                      <a:lnTo>
                        <a:pt x="76" y="1212"/>
                      </a:lnTo>
                      <a:lnTo>
                        <a:pt x="37" y="1078"/>
                      </a:lnTo>
                      <a:lnTo>
                        <a:pt x="10" y="974"/>
                      </a:lnTo>
                      <a:lnTo>
                        <a:pt x="0" y="837"/>
                      </a:lnTo>
                      <a:lnTo>
                        <a:pt x="5" y="722"/>
                      </a:lnTo>
                      <a:lnTo>
                        <a:pt x="21" y="590"/>
                      </a:lnTo>
                      <a:lnTo>
                        <a:pt x="47" y="495"/>
                      </a:lnTo>
                      <a:lnTo>
                        <a:pt x="79" y="418"/>
                      </a:lnTo>
                      <a:lnTo>
                        <a:pt x="148" y="339"/>
                      </a:lnTo>
                      <a:lnTo>
                        <a:pt x="227" y="280"/>
                      </a:lnTo>
                      <a:lnTo>
                        <a:pt x="315" y="238"/>
                      </a:lnTo>
                      <a:lnTo>
                        <a:pt x="431" y="212"/>
                      </a:lnTo>
                      <a:lnTo>
                        <a:pt x="537" y="196"/>
                      </a:lnTo>
                      <a:lnTo>
                        <a:pt x="664" y="159"/>
                      </a:lnTo>
                      <a:lnTo>
                        <a:pt x="805" y="122"/>
                      </a:lnTo>
                      <a:lnTo>
                        <a:pt x="905" y="85"/>
                      </a:lnTo>
                      <a:lnTo>
                        <a:pt x="1027" y="27"/>
                      </a:lnTo>
                      <a:lnTo>
                        <a:pt x="1131" y="0"/>
                      </a:lnTo>
                      <a:lnTo>
                        <a:pt x="1263" y="22"/>
                      </a:lnTo>
                      <a:lnTo>
                        <a:pt x="1326" y="59"/>
                      </a:lnTo>
                      <a:lnTo>
                        <a:pt x="1358" y="111"/>
                      </a:lnTo>
                      <a:lnTo>
                        <a:pt x="1369" y="191"/>
                      </a:lnTo>
                      <a:lnTo>
                        <a:pt x="1348" y="286"/>
                      </a:lnTo>
                      <a:lnTo>
                        <a:pt x="1332" y="381"/>
                      </a:lnTo>
                      <a:lnTo>
                        <a:pt x="1316" y="465"/>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91" name=""/>
            <p:cNvSpPr/>
            <p:nvPr/>
          </p:nvSpPr>
          <p:spPr>
            <a:xfrm>
              <a:off x="4199040" y="3072960"/>
              <a:ext cx="1202400" cy="1005120"/>
            </a:xfrm>
            <a:custGeom>
              <a:avLst/>
              <a:gdLst/>
              <a:ahLst/>
              <a:rect l="l" t="t" r="r" b="b"/>
              <a:pathLst>
                <a:path w="1680" h="1440">
                  <a:moveTo>
                    <a:pt x="0" y="640"/>
                  </a:moveTo>
                  <a:lnTo>
                    <a:pt x="0" y="160"/>
                  </a:lnTo>
                  <a:lnTo>
                    <a:pt x="146" y="0"/>
                  </a:lnTo>
                  <a:lnTo>
                    <a:pt x="365" y="0"/>
                  </a:lnTo>
                  <a:lnTo>
                    <a:pt x="511" y="160"/>
                  </a:lnTo>
                  <a:lnTo>
                    <a:pt x="928" y="336"/>
                  </a:lnTo>
                  <a:lnTo>
                    <a:pt x="1506" y="394"/>
                  </a:lnTo>
                  <a:lnTo>
                    <a:pt x="1624" y="426"/>
                  </a:lnTo>
                  <a:lnTo>
                    <a:pt x="1678" y="463"/>
                  </a:lnTo>
                  <a:lnTo>
                    <a:pt x="1675" y="553"/>
                  </a:lnTo>
                  <a:lnTo>
                    <a:pt x="1607" y="560"/>
                  </a:lnTo>
                  <a:lnTo>
                    <a:pt x="1607" y="720"/>
                  </a:lnTo>
                  <a:lnTo>
                    <a:pt x="1680" y="730"/>
                  </a:lnTo>
                  <a:lnTo>
                    <a:pt x="1680" y="800"/>
                  </a:lnTo>
                  <a:lnTo>
                    <a:pt x="1608" y="870"/>
                  </a:lnTo>
                  <a:lnTo>
                    <a:pt x="1382" y="936"/>
                  </a:lnTo>
                  <a:lnTo>
                    <a:pt x="1229" y="953"/>
                  </a:lnTo>
                  <a:lnTo>
                    <a:pt x="1030" y="958"/>
                  </a:lnTo>
                  <a:lnTo>
                    <a:pt x="511" y="960"/>
                  </a:lnTo>
                  <a:lnTo>
                    <a:pt x="365" y="1360"/>
                  </a:lnTo>
                  <a:lnTo>
                    <a:pt x="219" y="1440"/>
                  </a:lnTo>
                  <a:lnTo>
                    <a:pt x="73" y="1440"/>
                  </a:lnTo>
                  <a:lnTo>
                    <a:pt x="0" y="1360"/>
                  </a:lnTo>
                  <a:lnTo>
                    <a:pt x="0" y="64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2" name=""/>
            <p:cNvGrpSpPr/>
            <p:nvPr/>
          </p:nvGrpSpPr>
          <p:grpSpPr>
            <a:xfrm>
              <a:off x="4129920" y="3072960"/>
              <a:ext cx="1271520" cy="1005120"/>
              <a:chOff x="4129920" y="3072960"/>
              <a:chExt cx="1271520" cy="1005120"/>
            </a:xfrm>
          </p:grpSpPr>
          <p:sp>
            <p:nvSpPr>
              <p:cNvPr id="593" name=""/>
              <p:cNvSpPr/>
              <p:nvPr/>
            </p:nvSpPr>
            <p:spPr>
              <a:xfrm flipH="1">
                <a:off x="4199400" y="3575520"/>
                <a:ext cx="171360" cy="301320"/>
              </a:xfrm>
              <a:prstGeom prst="flowChartMagneticDrum">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5195520" y="3475080"/>
                <a:ext cx="171360" cy="66960"/>
              </a:xfrm>
              <a:prstGeom prst="rect">
                <a:avLst/>
              </a:prstGeom>
              <a:solidFill>
                <a:srgbClr val="eaeaea">
                  <a:alpha val="50000"/>
                </a:srgbClr>
              </a:solidFill>
              <a:ln w="936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595" name=""/>
              <p:cNvSpPr/>
              <p:nvPr/>
            </p:nvSpPr>
            <p:spPr>
              <a:xfrm flipH="1">
                <a:off x="4164840" y="3944160"/>
                <a:ext cx="102960" cy="66960"/>
              </a:xfrm>
              <a:prstGeom prst="flowChartMagneticDrum">
                <a:avLst/>
              </a:prstGeom>
              <a:solidFill>
                <a:srgbClr val="ff9966"/>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596" name=""/>
              <p:cNvSpPr/>
              <p:nvPr/>
            </p:nvSpPr>
            <p:spPr>
              <a:xfrm flipH="1">
                <a:off x="4199400" y="3542040"/>
                <a:ext cx="205920" cy="368280"/>
              </a:xfrm>
              <a:prstGeom prst="flowChartMagneticDrum">
                <a:avLst/>
              </a:prstGeom>
              <a:solidFill>
                <a:srgbClr val="ff6600">
                  <a:alpha val="50000"/>
                </a:srgbClr>
              </a:solidFill>
              <a:ln w="9360">
                <a:solidFill>
                  <a:srgbClr val="000000">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7" name=""/>
              <p:cNvGrpSpPr/>
              <p:nvPr/>
            </p:nvGrpSpPr>
            <p:grpSpPr>
              <a:xfrm>
                <a:off x="4129920" y="3282480"/>
                <a:ext cx="172440" cy="125280"/>
                <a:chOff x="4129920" y="3282480"/>
                <a:chExt cx="172440" cy="125280"/>
              </a:xfrm>
            </p:grpSpPr>
            <p:sp>
              <p:nvSpPr>
                <p:cNvPr id="598" name=""/>
                <p:cNvSpPr/>
                <p:nvPr/>
              </p:nvSpPr>
              <p:spPr>
                <a:xfrm rot="1942800">
                  <a:off x="4130640" y="3307320"/>
                  <a:ext cx="102960" cy="33120"/>
                </a:xfrm>
                <a:prstGeom prst="rect">
                  <a:avLst/>
                </a:prstGeom>
                <a:solidFill>
                  <a:srgbClr val="ff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599" name=""/>
                <p:cNvSpPr/>
                <p:nvPr/>
              </p:nvSpPr>
              <p:spPr>
                <a:xfrm>
                  <a:off x="4199400" y="3307320"/>
                  <a:ext cx="102960" cy="10044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0" name=""/>
              <p:cNvSpPr/>
              <p:nvPr/>
            </p:nvSpPr>
            <p:spPr>
              <a:xfrm>
                <a:off x="4199400" y="3441240"/>
                <a:ext cx="68400" cy="66960"/>
              </a:xfrm>
              <a:prstGeom prst="ellipse">
                <a:avLst/>
              </a:prstGeom>
              <a:noFill/>
              <a:ln w="38160">
                <a:solidFill>
                  <a:srgbClr val="3333cc"/>
                </a:solidFill>
                <a:miter/>
              </a:ln>
            </p:spPr>
            <p:style>
              <a:lnRef idx="0"/>
              <a:fillRef idx="0"/>
              <a:effectRef idx="0"/>
              <a:fontRef idx="minor"/>
            </p:style>
            <p:txBody>
              <a:bodyPr wrap="none"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601" name=""/>
              <p:cNvCxnSpPr/>
              <p:nvPr/>
            </p:nvCxnSpPr>
            <p:spPr>
              <a:xfrm flipV="1">
                <a:off x="4886280" y="3507480"/>
                <a:ext cx="69120" cy="34200"/>
              </a:xfrm>
              <a:prstGeom prst="curvedConnector5">
                <a:avLst>
                  <a:gd name="adj1" fmla="val 49738"/>
                  <a:gd name="adj2" fmla="val 50000"/>
                  <a:gd name="adj3" fmla="val 49738"/>
                </a:avLst>
              </a:prstGeom>
              <a:ln w="9360">
                <a:solidFill>
                  <a:srgbClr val="000000"/>
                </a:solidFill>
                <a:miter/>
              </a:ln>
            </p:spPr>
          </p:cxnSp>
          <p:sp>
            <p:nvSpPr>
              <p:cNvPr id="602" name=""/>
              <p:cNvSpPr/>
              <p:nvPr/>
            </p:nvSpPr>
            <p:spPr>
              <a:xfrm>
                <a:off x="4508280" y="3407760"/>
                <a:ext cx="377640" cy="267840"/>
              </a:xfrm>
              <a:custGeom>
                <a:avLst/>
                <a:gdLst/>
                <a:ahLst/>
                <a:rect l="l" t="t" r="r" b="b"/>
                <a:pathLst>
                  <a:path w="528" h="384">
                    <a:moveTo>
                      <a:pt x="0" y="0"/>
                    </a:moveTo>
                    <a:lnTo>
                      <a:pt x="0" y="48"/>
                    </a:lnTo>
                    <a:lnTo>
                      <a:pt x="0" y="96"/>
                    </a:lnTo>
                    <a:lnTo>
                      <a:pt x="0" y="144"/>
                    </a:lnTo>
                    <a:lnTo>
                      <a:pt x="0" y="192"/>
                    </a:lnTo>
                    <a:lnTo>
                      <a:pt x="0" y="240"/>
                    </a:lnTo>
                    <a:lnTo>
                      <a:pt x="0" y="288"/>
                    </a:lnTo>
                    <a:lnTo>
                      <a:pt x="0" y="336"/>
                    </a:lnTo>
                    <a:lnTo>
                      <a:pt x="0" y="384"/>
                    </a:lnTo>
                    <a:lnTo>
                      <a:pt x="528" y="384"/>
                    </a:lnTo>
                    <a:lnTo>
                      <a:pt x="528" y="288"/>
                    </a:lnTo>
                    <a:lnTo>
                      <a:pt x="528" y="240"/>
                    </a:lnTo>
                    <a:lnTo>
                      <a:pt x="528" y="192"/>
                    </a:lnTo>
                    <a:lnTo>
                      <a:pt x="528" y="144"/>
                    </a:lnTo>
                    <a:lnTo>
                      <a:pt x="528" y="96"/>
                    </a:lnTo>
                    <a:lnTo>
                      <a:pt x="528" y="48"/>
                    </a:lnTo>
                    <a:lnTo>
                      <a:pt x="528" y="0"/>
                    </a:lnTo>
                    <a:lnTo>
                      <a:pt x="384" y="0"/>
                    </a:lnTo>
                    <a:lnTo>
                      <a:pt x="336" y="0"/>
                    </a:lnTo>
                    <a:lnTo>
                      <a:pt x="288" y="0"/>
                    </a:lnTo>
                    <a:lnTo>
                      <a:pt x="240" y="0"/>
                    </a:lnTo>
                    <a:lnTo>
                      <a:pt x="144" y="0"/>
                    </a:lnTo>
                    <a:lnTo>
                      <a:pt x="96" y="0"/>
                    </a:lnTo>
                    <a:lnTo>
                      <a:pt x="0" y="0"/>
                    </a:lnTo>
                    <a:close/>
                  </a:path>
                </a:pathLst>
              </a:custGeom>
              <a:solidFill>
                <a:srgbClr val="cc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4542480" y="3441240"/>
                <a:ext cx="308880" cy="2008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4" name=""/>
              <p:cNvCxnSpPr>
                <a:stCxn id="605" idx="3"/>
                <a:endCxn id="602" idx="0"/>
              </p:cNvCxnSpPr>
              <p:nvPr/>
            </p:nvCxnSpPr>
            <p:spPr>
              <a:xfrm>
                <a:off x="4336200" y="3223080"/>
                <a:ext cx="275400" cy="184680"/>
              </a:xfrm>
              <a:prstGeom prst="curvedConnector2">
                <a:avLst/>
              </a:prstGeom>
              <a:ln w="9360">
                <a:solidFill>
                  <a:srgbClr val="000000"/>
                </a:solidFill>
                <a:miter/>
              </a:ln>
            </p:spPr>
          </p:cxnSp>
          <p:cxnSp>
            <p:nvCxnSpPr>
              <p:cNvPr id="606" name=""/>
              <p:cNvCxnSpPr>
                <a:stCxn id="599" idx="3"/>
                <a:endCxn id="602" idx="1"/>
              </p:cNvCxnSpPr>
              <p:nvPr/>
            </p:nvCxnSpPr>
            <p:spPr>
              <a:xfrm>
                <a:off x="4302360" y="3357360"/>
                <a:ext cx="206640" cy="117720"/>
              </a:xfrm>
              <a:prstGeom prst="curvedConnector5">
                <a:avLst>
                  <a:gd name="adj1" fmla="val 49912"/>
                  <a:gd name="adj2" fmla="val 50000"/>
                  <a:gd name="adj3" fmla="val 49912"/>
                </a:avLst>
              </a:prstGeom>
              <a:ln w="9360">
                <a:solidFill>
                  <a:srgbClr val="000000"/>
                </a:solidFill>
                <a:miter/>
              </a:ln>
            </p:spPr>
          </p:cxnSp>
          <p:cxnSp>
            <p:nvCxnSpPr>
              <p:cNvPr id="607" name=""/>
              <p:cNvCxnSpPr>
                <a:stCxn id="600" idx="6"/>
                <a:endCxn id="602" idx="2"/>
              </p:cNvCxnSpPr>
              <p:nvPr/>
            </p:nvCxnSpPr>
            <p:spPr>
              <a:xfrm>
                <a:off x="4276440" y="3475080"/>
                <a:ext cx="232560" cy="33840"/>
              </a:xfrm>
              <a:prstGeom prst="curvedConnector5">
                <a:avLst>
                  <a:gd name="adj1" fmla="val 48062"/>
                  <a:gd name="adj2" fmla="val 49462"/>
                  <a:gd name="adj3" fmla="val 48062"/>
                </a:avLst>
              </a:prstGeom>
              <a:ln w="9360">
                <a:solidFill>
                  <a:srgbClr val="000000"/>
                </a:solidFill>
                <a:miter/>
              </a:ln>
            </p:spPr>
          </p:cxnSp>
          <p:cxnSp>
            <p:nvCxnSpPr>
              <p:cNvPr id="608" name=""/>
              <p:cNvCxnSpPr>
                <a:stCxn id="593" idx="1"/>
                <a:endCxn id="602" idx="3"/>
              </p:cNvCxnSpPr>
              <p:nvPr/>
            </p:nvCxnSpPr>
            <p:spPr>
              <a:xfrm flipV="1">
                <a:off x="4370760" y="3608640"/>
                <a:ext cx="137880" cy="117360"/>
              </a:xfrm>
              <a:prstGeom prst="curvedConnector5">
                <a:avLst>
                  <a:gd name="adj1" fmla="val 50000"/>
                  <a:gd name="adj2" fmla="val 49846"/>
                  <a:gd name="adj3" fmla="val 50000"/>
                </a:avLst>
              </a:prstGeom>
              <a:ln w="9360">
                <a:solidFill>
                  <a:srgbClr val="000000"/>
                </a:solidFill>
                <a:miter/>
              </a:ln>
            </p:spPr>
          </p:cxnSp>
          <p:cxnSp>
            <p:nvCxnSpPr>
              <p:cNvPr id="609" name=""/>
              <p:cNvCxnSpPr>
                <a:stCxn id="595" idx="1"/>
                <a:endCxn id="602" idx="4"/>
              </p:cNvCxnSpPr>
              <p:nvPr/>
            </p:nvCxnSpPr>
            <p:spPr>
              <a:xfrm flipV="1">
                <a:off x="4267800" y="3642120"/>
                <a:ext cx="241200" cy="334800"/>
              </a:xfrm>
              <a:prstGeom prst="curvedConnector5">
                <a:avLst>
                  <a:gd name="adj1" fmla="val 69805"/>
                  <a:gd name="adj2" fmla="val 49946"/>
                  <a:gd name="adj3" fmla="val 69805"/>
                </a:avLst>
              </a:prstGeom>
              <a:ln w="9360">
                <a:solidFill>
                  <a:srgbClr val="000000"/>
                </a:solidFill>
                <a:miter/>
              </a:ln>
            </p:spPr>
          </p:cxnSp>
          <p:sp>
            <p:nvSpPr>
              <p:cNvPr id="610" name=""/>
              <p:cNvSpPr/>
              <p:nvPr/>
            </p:nvSpPr>
            <p:spPr>
              <a:xfrm>
                <a:off x="4184280" y="3206880"/>
                <a:ext cx="34200" cy="33480"/>
              </a:xfrm>
              <a:prstGeom prst="rect">
                <a:avLst/>
              </a:prstGeom>
              <a:solidFill>
                <a:srgbClr val="eaeaea">
                  <a:alpha val="50000"/>
                </a:srgbClr>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grpSp>
            <p:nvGrpSpPr>
              <p:cNvPr id="611" name=""/>
              <p:cNvGrpSpPr/>
              <p:nvPr/>
            </p:nvGrpSpPr>
            <p:grpSpPr>
              <a:xfrm>
                <a:off x="4199400" y="3173400"/>
                <a:ext cx="137160" cy="100440"/>
                <a:chOff x="4199400" y="3173400"/>
                <a:chExt cx="137160" cy="100440"/>
              </a:xfrm>
            </p:grpSpPr>
            <p:sp>
              <p:nvSpPr>
                <p:cNvPr id="605" name=""/>
                <p:cNvSpPr/>
                <p:nvPr/>
              </p:nvSpPr>
              <p:spPr>
                <a:xfrm>
                  <a:off x="4233600" y="3173400"/>
                  <a:ext cx="102960" cy="1004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4199400" y="3206880"/>
                  <a:ext cx="34200" cy="33120"/>
                </a:xfrm>
                <a:prstGeom prst="rect">
                  <a:avLst/>
                </a:prstGeom>
                <a:solidFill>
                  <a:srgbClr val="808080"/>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sp>
            <p:nvSpPr>
              <p:cNvPr id="613" name=""/>
              <p:cNvSpPr/>
              <p:nvPr/>
            </p:nvSpPr>
            <p:spPr>
              <a:xfrm>
                <a:off x="4336560" y="3189960"/>
                <a:ext cx="308880" cy="217440"/>
              </a:xfrm>
              <a:custGeom>
                <a:avLst/>
                <a:gdLst/>
                <a:ahLst/>
                <a:rect l="l" t="t" r="r" b="b"/>
                <a:pathLst>
                  <a:path w="432" h="312">
                    <a:moveTo>
                      <a:pt x="0" y="24"/>
                    </a:moveTo>
                    <a:cubicBezTo>
                      <a:pt x="64" y="12"/>
                      <a:pt x="128" y="0"/>
                      <a:pt x="192" y="24"/>
                    </a:cubicBezTo>
                    <a:cubicBezTo>
                      <a:pt x="256" y="48"/>
                      <a:pt x="344" y="120"/>
                      <a:pt x="384" y="168"/>
                    </a:cubicBezTo>
                    <a:cubicBezTo>
                      <a:pt x="424" y="216"/>
                      <a:pt x="424" y="288"/>
                      <a:pt x="432" y="3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4302360" y="3333960"/>
                <a:ext cx="205920" cy="107280"/>
              </a:xfrm>
              <a:custGeom>
                <a:avLst/>
                <a:gdLst/>
                <a:ahLst/>
                <a:rect l="l" t="t" r="r" b="b"/>
                <a:pathLst>
                  <a:path w="288" h="154">
                    <a:moveTo>
                      <a:pt x="0" y="10"/>
                    </a:moveTo>
                    <a:cubicBezTo>
                      <a:pt x="20" y="12"/>
                      <a:pt x="74" y="0"/>
                      <a:pt x="122" y="24"/>
                    </a:cubicBezTo>
                    <a:cubicBezTo>
                      <a:pt x="170" y="48"/>
                      <a:pt x="254" y="127"/>
                      <a:pt x="288" y="15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4271400" y="3493080"/>
                <a:ext cx="236880" cy="48600"/>
              </a:xfrm>
              <a:custGeom>
                <a:avLst/>
                <a:gdLst/>
                <a:ahLst/>
                <a:rect l="l" t="t" r="r" b="b"/>
                <a:pathLst>
                  <a:path w="331" h="70">
                    <a:moveTo>
                      <a:pt x="0" y="0"/>
                    </a:moveTo>
                    <a:cubicBezTo>
                      <a:pt x="19" y="2"/>
                      <a:pt x="78" y="6"/>
                      <a:pt x="113" y="15"/>
                    </a:cubicBezTo>
                    <a:cubicBezTo>
                      <a:pt x="148" y="24"/>
                      <a:pt x="177" y="47"/>
                      <a:pt x="213" y="56"/>
                    </a:cubicBezTo>
                    <a:cubicBezTo>
                      <a:pt x="249" y="65"/>
                      <a:pt x="307" y="67"/>
                      <a:pt x="331" y="70"/>
                    </a:cubicBezTo>
                  </a:path>
                </a:pathLst>
              </a:custGeom>
              <a:noFill/>
              <a:ln w="9360">
                <a:solidFill>
                  <a:srgbClr val="000000"/>
                </a:solidFill>
                <a:round/>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616" name=""/>
              <p:cNvSpPr/>
              <p:nvPr/>
            </p:nvSpPr>
            <p:spPr>
              <a:xfrm>
                <a:off x="4371120" y="3575520"/>
                <a:ext cx="137160" cy="100440"/>
              </a:xfrm>
              <a:custGeom>
                <a:avLst/>
                <a:gdLst/>
                <a:ahLst/>
                <a:rect l="l" t="t" r="r" b="b"/>
                <a:pathLst>
                  <a:path w="192" h="144">
                    <a:moveTo>
                      <a:pt x="0" y="144"/>
                    </a:moveTo>
                    <a:cubicBezTo>
                      <a:pt x="10" y="138"/>
                      <a:pt x="46" y="122"/>
                      <a:pt x="62" y="106"/>
                    </a:cubicBezTo>
                    <a:cubicBezTo>
                      <a:pt x="78" y="90"/>
                      <a:pt x="74" y="66"/>
                      <a:pt x="96" y="48"/>
                    </a:cubicBezTo>
                    <a:cubicBezTo>
                      <a:pt x="118" y="30"/>
                      <a:pt x="176" y="8"/>
                      <a:pt x="192"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4266360" y="3675960"/>
                <a:ext cx="273960" cy="314640"/>
              </a:xfrm>
              <a:custGeom>
                <a:avLst/>
                <a:gdLst/>
                <a:ahLst/>
                <a:rect l="l" t="t" r="r" b="b"/>
                <a:pathLst>
                  <a:path w="383" h="451">
                    <a:moveTo>
                      <a:pt x="0" y="451"/>
                    </a:moveTo>
                    <a:cubicBezTo>
                      <a:pt x="16" y="448"/>
                      <a:pt x="60" y="451"/>
                      <a:pt x="98" y="432"/>
                    </a:cubicBezTo>
                    <a:cubicBezTo>
                      <a:pt x="136" y="413"/>
                      <a:pt x="197" y="390"/>
                      <a:pt x="230" y="334"/>
                    </a:cubicBezTo>
                    <a:cubicBezTo>
                      <a:pt x="263" y="278"/>
                      <a:pt x="274" y="148"/>
                      <a:pt x="297" y="98"/>
                    </a:cubicBezTo>
                    <a:cubicBezTo>
                      <a:pt x="320" y="48"/>
                      <a:pt x="355" y="52"/>
                      <a:pt x="369" y="36"/>
                    </a:cubicBezTo>
                    <a:cubicBezTo>
                      <a:pt x="383" y="20"/>
                      <a:pt x="379" y="7"/>
                      <a:pt x="381"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886280" y="3488040"/>
                <a:ext cx="69840" cy="22320"/>
              </a:xfrm>
              <a:custGeom>
                <a:avLst/>
                <a:gdLst/>
                <a:ahLst/>
                <a:rect l="l" t="t" r="r" b="b"/>
                <a:pathLst>
                  <a:path w="98" h="32">
                    <a:moveTo>
                      <a:pt x="98" y="0"/>
                    </a:moveTo>
                    <a:cubicBezTo>
                      <a:pt x="87" y="5"/>
                      <a:pt x="50" y="22"/>
                      <a:pt x="34" y="27"/>
                    </a:cubicBezTo>
                    <a:cubicBezTo>
                      <a:pt x="18" y="32"/>
                      <a:pt x="7" y="29"/>
                      <a:pt x="0" y="29"/>
                    </a:cubicBezTo>
                  </a:path>
                </a:pathLst>
              </a:custGeom>
              <a:noFill/>
              <a:ln w="9360">
                <a:solidFill>
                  <a:srgbClr val="000000"/>
                </a:solidFill>
                <a:round/>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619" name=""/>
              <p:cNvSpPr/>
              <p:nvPr/>
            </p:nvSpPr>
            <p:spPr>
              <a:xfrm>
                <a:off x="5160960" y="3475080"/>
                <a:ext cx="68760" cy="66960"/>
              </a:xfrm>
              <a:prstGeom prst="rect">
                <a:avLst/>
              </a:prstGeom>
              <a:solidFill>
                <a:srgbClr val="808080"/>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620" name=""/>
              <p:cNvSpPr/>
              <p:nvPr/>
            </p:nvSpPr>
            <p:spPr>
              <a:xfrm>
                <a:off x="4954680" y="3441240"/>
                <a:ext cx="205920" cy="133920"/>
              </a:xfrm>
              <a:prstGeom prst="roundRect">
                <a:avLst>
                  <a:gd name="adj" fmla="val 16667"/>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4199400" y="3072960"/>
                <a:ext cx="1202040" cy="1005120"/>
              </a:xfrm>
              <a:custGeom>
                <a:avLst/>
                <a:gdLst/>
                <a:ahLst/>
                <a:rect l="l" t="t" r="r" b="b"/>
                <a:pathLst>
                  <a:path w="1680" h="1440">
                    <a:moveTo>
                      <a:pt x="0" y="640"/>
                    </a:moveTo>
                    <a:lnTo>
                      <a:pt x="0" y="160"/>
                    </a:lnTo>
                    <a:lnTo>
                      <a:pt x="146" y="0"/>
                    </a:lnTo>
                    <a:lnTo>
                      <a:pt x="365" y="0"/>
                    </a:lnTo>
                    <a:lnTo>
                      <a:pt x="511" y="160"/>
                    </a:lnTo>
                    <a:lnTo>
                      <a:pt x="928" y="336"/>
                    </a:lnTo>
                    <a:lnTo>
                      <a:pt x="1506" y="394"/>
                    </a:lnTo>
                    <a:lnTo>
                      <a:pt x="1624" y="426"/>
                    </a:lnTo>
                    <a:lnTo>
                      <a:pt x="1678" y="463"/>
                    </a:lnTo>
                    <a:lnTo>
                      <a:pt x="1675" y="553"/>
                    </a:lnTo>
                    <a:lnTo>
                      <a:pt x="1607" y="560"/>
                    </a:lnTo>
                    <a:lnTo>
                      <a:pt x="1607" y="720"/>
                    </a:lnTo>
                    <a:lnTo>
                      <a:pt x="1680" y="730"/>
                    </a:lnTo>
                    <a:lnTo>
                      <a:pt x="1680" y="800"/>
                    </a:lnTo>
                    <a:lnTo>
                      <a:pt x="1608" y="870"/>
                    </a:lnTo>
                    <a:lnTo>
                      <a:pt x="1382" y="936"/>
                    </a:lnTo>
                    <a:lnTo>
                      <a:pt x="1229" y="953"/>
                    </a:lnTo>
                    <a:lnTo>
                      <a:pt x="1030" y="958"/>
                    </a:lnTo>
                    <a:lnTo>
                      <a:pt x="511" y="960"/>
                    </a:lnTo>
                    <a:lnTo>
                      <a:pt x="365" y="1360"/>
                    </a:lnTo>
                    <a:lnTo>
                      <a:pt x="219" y="1440"/>
                    </a:lnTo>
                    <a:lnTo>
                      <a:pt x="73" y="1440"/>
                    </a:lnTo>
                    <a:lnTo>
                      <a:pt x="0" y="1360"/>
                    </a:lnTo>
                    <a:lnTo>
                      <a:pt x="0" y="640"/>
                    </a:lnTo>
                    <a:close/>
                  </a:path>
                </a:pathLst>
              </a:custGeom>
              <a:solidFill>
                <a:srgbClr val="ffffcc">
                  <a:alpha val="50000"/>
                </a:srgbClr>
              </a:solid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2" name=""/>
            <p:cNvSpPr/>
            <p:nvPr/>
          </p:nvSpPr>
          <p:spPr>
            <a:xfrm>
              <a:off x="2260440" y="838080"/>
              <a:ext cx="4213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ring Aids: Telecoil Input</a:t>
              </a:r>
              <a:endParaRPr b="0" lang="en-US" sz="2400" spc="-1" strike="noStrike">
                <a:solidFill>
                  <a:srgbClr val="000000"/>
                </a:solidFill>
                <a:latin typeface="Times New Roman"/>
              </a:endParaRPr>
            </a:p>
          </p:txBody>
        </p:sp>
        <p:sp>
          <p:nvSpPr>
            <p:cNvPr id="623" name=""/>
            <p:cNvSpPr/>
            <p:nvPr/>
          </p:nvSpPr>
          <p:spPr>
            <a:xfrm>
              <a:off x="5847120" y="4186440"/>
              <a:ext cx="2315160" cy="1571400"/>
            </a:xfrm>
            <a:prstGeom prst="roundRect">
              <a:avLst>
                <a:gd name="adj" fmla="val 16667"/>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
            <p:cNvSpPr/>
            <p:nvPr/>
          </p:nvSpPr>
          <p:spPr>
            <a:xfrm>
              <a:off x="6049800" y="4528080"/>
              <a:ext cx="19368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5963040" y="4596480"/>
              <a:ext cx="2326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Path of electromagnetic input</a:t>
              </a:r>
              <a:endParaRPr b="0" lang="en-US" sz="1200" spc="-1" strike="noStrike">
                <a:solidFill>
                  <a:srgbClr val="000000"/>
                </a:solidFill>
                <a:latin typeface="Times New Roman"/>
              </a:endParaRPr>
            </a:p>
          </p:txBody>
        </p:sp>
        <p:sp>
          <p:nvSpPr>
            <p:cNvPr id="626" name=""/>
            <p:cNvSpPr/>
            <p:nvPr/>
          </p:nvSpPr>
          <p:spPr>
            <a:xfrm>
              <a:off x="6048720" y="5347800"/>
              <a:ext cx="20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Path of acoustic feedback</a:t>
              </a:r>
              <a:endParaRPr b="0" lang="en-US" sz="1200" spc="-1" strike="noStrike">
                <a:solidFill>
                  <a:srgbClr val="000000"/>
                </a:solidFill>
                <a:latin typeface="Times New Roman"/>
              </a:endParaRPr>
            </a:p>
          </p:txBody>
        </p:sp>
        <p:grpSp>
          <p:nvGrpSpPr>
            <p:cNvPr id="627" name=""/>
            <p:cNvGrpSpPr/>
            <p:nvPr/>
          </p:nvGrpSpPr>
          <p:grpSpPr>
            <a:xfrm>
              <a:off x="1219320" y="2190240"/>
              <a:ext cx="2469600" cy="3920400"/>
              <a:chOff x="1219320" y="2190240"/>
              <a:chExt cx="2469600" cy="3920400"/>
            </a:xfrm>
          </p:grpSpPr>
          <p:sp>
            <p:nvSpPr>
              <p:cNvPr id="628" name=""/>
              <p:cNvSpPr/>
              <p:nvPr/>
            </p:nvSpPr>
            <p:spPr>
              <a:xfrm>
                <a:off x="1219320" y="2190240"/>
                <a:ext cx="2217240" cy="3860640"/>
              </a:xfrm>
              <a:custGeom>
                <a:avLst/>
                <a:gdLst/>
                <a:ahLst/>
                <a:rect l="l" t="t" r="r" b="b"/>
                <a:pathLst>
                  <a:path w="1488" h="2712">
                    <a:moveTo>
                      <a:pt x="0" y="498"/>
                    </a:moveTo>
                    <a:lnTo>
                      <a:pt x="364" y="271"/>
                    </a:lnTo>
                    <a:lnTo>
                      <a:pt x="755" y="114"/>
                    </a:lnTo>
                    <a:lnTo>
                      <a:pt x="1070" y="0"/>
                    </a:lnTo>
                    <a:lnTo>
                      <a:pt x="1488" y="45"/>
                    </a:lnTo>
                    <a:lnTo>
                      <a:pt x="1488" y="2045"/>
                    </a:lnTo>
                    <a:lnTo>
                      <a:pt x="1393" y="2109"/>
                    </a:lnTo>
                    <a:lnTo>
                      <a:pt x="646" y="2290"/>
                    </a:lnTo>
                    <a:lnTo>
                      <a:pt x="661" y="2712"/>
                    </a:lnTo>
                    <a:lnTo>
                      <a:pt x="82" y="2695"/>
                    </a:lnTo>
                    <a:lnTo>
                      <a:pt x="0" y="498"/>
                    </a:lnTo>
                    <a:close/>
                  </a:path>
                </a:pathLst>
              </a:custGeom>
              <a:solidFill>
                <a:srgbClr val="b2b2b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9" name=""/>
              <p:cNvGrpSpPr/>
              <p:nvPr/>
            </p:nvGrpSpPr>
            <p:grpSpPr>
              <a:xfrm>
                <a:off x="1998720" y="2228400"/>
                <a:ext cx="777960" cy="3834000"/>
                <a:chOff x="1998720" y="2228400"/>
                <a:chExt cx="777960" cy="3834000"/>
              </a:xfrm>
            </p:grpSpPr>
            <p:sp>
              <p:nvSpPr>
                <p:cNvPr id="630" name=""/>
                <p:cNvSpPr/>
                <p:nvPr/>
              </p:nvSpPr>
              <p:spPr>
                <a:xfrm>
                  <a:off x="2776320" y="2228400"/>
                  <a:ext cx="360" cy="2668680"/>
                </a:xfrm>
                <a:prstGeom prst="line">
                  <a:avLst/>
                </a:prstGeom>
                <a:ln w="28440">
                  <a:solidFill>
                    <a:srgbClr val="4d4d4d">
                      <a:alpha val="50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flipH="1">
                  <a:off x="2037240" y="4897080"/>
                  <a:ext cx="739440" cy="439200"/>
                </a:xfrm>
                <a:prstGeom prst="line">
                  <a:avLst/>
                </a:prstGeom>
                <a:ln w="28440">
                  <a:solidFill>
                    <a:srgbClr val="4d4d4d">
                      <a:alpha val="50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rot="183600">
                  <a:off x="2017800" y="5337720"/>
                  <a:ext cx="72720" cy="722880"/>
                </a:xfrm>
                <a:custGeom>
                  <a:avLst/>
                  <a:gdLst/>
                  <a:ahLst/>
                  <a:rect l="l" t="t" r="r" b="b"/>
                  <a:pathLst>
                    <a:path w="49" h="508">
                      <a:moveTo>
                        <a:pt x="0" y="0"/>
                      </a:moveTo>
                      <a:lnTo>
                        <a:pt x="49" y="508"/>
                      </a:lnTo>
                    </a:path>
                  </a:pathLst>
                </a:custGeom>
                <a:solidFill>
                  <a:srgbClr val="b2b2b2"/>
                </a:solidFill>
                <a:ln w="28440">
                  <a:solidFill>
                    <a:srgbClr val="4d4d4d">
                      <a:alpha val="50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3" name=""/>
              <p:cNvGrpSpPr/>
              <p:nvPr/>
            </p:nvGrpSpPr>
            <p:grpSpPr>
              <a:xfrm>
                <a:off x="3157200" y="2671920"/>
                <a:ext cx="531720" cy="2051280"/>
                <a:chOff x="3157200" y="2671920"/>
                <a:chExt cx="531720" cy="2051280"/>
              </a:xfrm>
            </p:grpSpPr>
            <p:sp>
              <p:nvSpPr>
                <p:cNvPr id="634" name=""/>
                <p:cNvSpPr/>
                <p:nvPr/>
              </p:nvSpPr>
              <p:spPr>
                <a:xfrm flipV="1" rot="5396400">
                  <a:off x="2397960" y="3432960"/>
                  <a:ext cx="2049840" cy="529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f8f8f8"/>
                    </a:gs>
                    <a:gs pos="100000">
                      <a:srgbClr val="72727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flipV="1" rot="5396400">
                  <a:off x="2397240" y="3432600"/>
                  <a:ext cx="2050560" cy="529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f8f8f8"/>
                    </a:gs>
                    <a:gs pos="100000">
                      <a:srgbClr val="72727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6" name=""/>
              <p:cNvSpPr/>
              <p:nvPr/>
            </p:nvSpPr>
            <p:spPr>
              <a:xfrm>
                <a:off x="1321920" y="5739120"/>
                <a:ext cx="892440" cy="371520"/>
              </a:xfrm>
              <a:custGeom>
                <a:avLst/>
                <a:gdLst/>
                <a:ahLst/>
                <a:rect l="l" t="t" r="r" b="b"/>
                <a:pathLst>
                  <a:path w="599" h="261">
                    <a:moveTo>
                      <a:pt x="3" y="234"/>
                    </a:moveTo>
                    <a:lnTo>
                      <a:pt x="0" y="3"/>
                    </a:lnTo>
                    <a:lnTo>
                      <a:pt x="591" y="0"/>
                    </a:lnTo>
                    <a:lnTo>
                      <a:pt x="599" y="261"/>
                    </a:lnTo>
                    <a:lnTo>
                      <a:pt x="3" y="234"/>
                    </a:lnTo>
                    <a:close/>
                  </a:path>
                </a:pathLst>
              </a:custGeom>
              <a:gradFill rotWithShape="0">
                <a:gsLst>
                  <a:gs pos="0">
                    <a:srgbClr val="b2b2b2"/>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7" name=""/>
            <p:cNvGrpSpPr/>
            <p:nvPr/>
          </p:nvGrpSpPr>
          <p:grpSpPr>
            <a:xfrm>
              <a:off x="2466360" y="2845440"/>
              <a:ext cx="681840" cy="1707840"/>
              <a:chOff x="2466360" y="2845440"/>
              <a:chExt cx="681840" cy="1707840"/>
            </a:xfrm>
          </p:grpSpPr>
          <p:sp>
            <p:nvSpPr>
              <p:cNvPr id="638" name=""/>
              <p:cNvSpPr/>
              <p:nvPr/>
            </p:nvSpPr>
            <p:spPr>
              <a:xfrm rot="5400000">
                <a:off x="1880640" y="3498840"/>
                <a:ext cx="1571400" cy="400320"/>
              </a:xfrm>
              <a:custGeom>
                <a:avLst/>
                <a:gdLst/>
                <a:ahLst/>
                <a:rect l="l" t="t" r="r" b="b"/>
                <a:pathLst>
                  <a:path w="2160" h="624">
                    <a:moveTo>
                      <a:pt x="0" y="0"/>
                    </a:moveTo>
                    <a:lnTo>
                      <a:pt x="624" y="0"/>
                    </a:lnTo>
                    <a:lnTo>
                      <a:pt x="624" y="528"/>
                    </a:lnTo>
                    <a:lnTo>
                      <a:pt x="816" y="528"/>
                    </a:lnTo>
                    <a:lnTo>
                      <a:pt x="816" y="96"/>
                    </a:lnTo>
                    <a:lnTo>
                      <a:pt x="1344" y="96"/>
                    </a:lnTo>
                    <a:lnTo>
                      <a:pt x="1344" y="528"/>
                    </a:lnTo>
                    <a:lnTo>
                      <a:pt x="1536" y="528"/>
                    </a:lnTo>
                    <a:lnTo>
                      <a:pt x="1536" y="0"/>
                    </a:lnTo>
                    <a:lnTo>
                      <a:pt x="2160" y="0"/>
                    </a:lnTo>
                    <a:lnTo>
                      <a:pt x="2160" y="624"/>
                    </a:lnTo>
                    <a:lnTo>
                      <a:pt x="0" y="624"/>
                    </a:lnTo>
                    <a:lnTo>
                      <a:pt x="0" y="0"/>
                    </a:lnTo>
                    <a:close/>
                  </a:path>
                </a:pathLst>
              </a:custGeom>
              <a:gradFill rotWithShape="0">
                <a:gsLst>
                  <a:gs pos="0">
                    <a:srgbClr val="000000"/>
                  </a:gs>
                  <a:gs pos="100000">
                    <a:srgbClr val="ffffff"/>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rot="5400000">
                <a:off x="2526840" y="3496680"/>
                <a:ext cx="489600" cy="393120"/>
              </a:xfrm>
              <a:prstGeom prst="rect">
                <a:avLst/>
              </a:prstGeom>
              <a:gradFill rotWithShape="0">
                <a:gsLst>
                  <a:gs pos="0">
                    <a:srgbClr val="ffff00"/>
                  </a:gs>
                  <a:gs pos="100000">
                    <a:srgbClr val="fffff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0" name=""/>
              <p:cNvGrpSpPr/>
              <p:nvPr/>
            </p:nvGrpSpPr>
            <p:grpSpPr>
              <a:xfrm>
                <a:off x="2917080" y="2845440"/>
                <a:ext cx="231120" cy="1707840"/>
                <a:chOff x="2917080" y="2845440"/>
                <a:chExt cx="231120" cy="1707840"/>
              </a:xfrm>
            </p:grpSpPr>
            <p:grpSp>
              <p:nvGrpSpPr>
                <p:cNvPr id="641" name=""/>
                <p:cNvGrpSpPr/>
                <p:nvPr/>
              </p:nvGrpSpPr>
              <p:grpSpPr>
                <a:xfrm>
                  <a:off x="2917080" y="3426480"/>
                  <a:ext cx="102600" cy="544680"/>
                  <a:chOff x="2917080" y="3426480"/>
                  <a:chExt cx="102600" cy="544680"/>
                </a:xfrm>
              </p:grpSpPr>
              <p:sp>
                <p:nvSpPr>
                  <p:cNvPr id="642" name=""/>
                  <p:cNvSpPr/>
                  <p:nvPr/>
                </p:nvSpPr>
                <p:spPr>
                  <a:xfrm rot="5400000">
                    <a:off x="2696040" y="3647520"/>
                    <a:ext cx="544320" cy="10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flipH="1" rot="5400000">
                    <a:off x="2695680" y="3647160"/>
                    <a:ext cx="544320" cy="10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4" name=""/>
                <p:cNvSpPr/>
                <p:nvPr/>
              </p:nvSpPr>
              <p:spPr>
                <a:xfrm>
                  <a:off x="2968200" y="3971880"/>
                  <a:ext cx="180000" cy="581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flipV="1">
                  <a:off x="2968200" y="2845440"/>
                  <a:ext cx="180000" cy="581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6" name=""/>
              <p:cNvGrpSpPr/>
              <p:nvPr/>
            </p:nvGrpSpPr>
            <p:grpSpPr>
              <a:xfrm>
                <a:off x="2610360" y="2845440"/>
                <a:ext cx="316080" cy="1161360"/>
                <a:chOff x="2610360" y="2845440"/>
                <a:chExt cx="316080" cy="1161360"/>
              </a:xfrm>
            </p:grpSpPr>
            <p:sp>
              <p:nvSpPr>
                <p:cNvPr id="647" name=""/>
                <p:cNvSpPr/>
                <p:nvPr/>
              </p:nvSpPr>
              <p:spPr>
                <a:xfrm flipH="1">
                  <a:off x="2824560" y="3391920"/>
                  <a:ext cx="70920" cy="61488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flipH="1">
                  <a:off x="2753280" y="3391920"/>
                  <a:ext cx="71280" cy="61488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flipH="1">
                  <a:off x="2681640" y="3391920"/>
                  <a:ext cx="71280" cy="61488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flipH="1">
                  <a:off x="2610360" y="3391920"/>
                  <a:ext cx="70920" cy="61488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flipV="1">
                  <a:off x="2896200" y="2845440"/>
                  <a:ext cx="0" cy="54648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V="1">
                  <a:off x="2926440" y="2845440"/>
                  <a:ext cx="0" cy="54648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3" name=""/>
            <p:cNvSpPr/>
            <p:nvPr/>
          </p:nvSpPr>
          <p:spPr>
            <a:xfrm flipV="1">
              <a:off x="3157560" y="3488400"/>
              <a:ext cx="973080" cy="210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3202200" y="3514320"/>
              <a:ext cx="2457000" cy="759960"/>
            </a:xfrm>
            <a:custGeom>
              <a:avLst/>
              <a:gdLst/>
              <a:ahLst/>
              <a:rect l="l" t="t" r="r" b="b"/>
              <a:pathLst>
                <a:path w="1649" h="534">
                  <a:moveTo>
                    <a:pt x="1471" y="0"/>
                  </a:moveTo>
                  <a:lnTo>
                    <a:pt x="1649" y="57"/>
                  </a:lnTo>
                  <a:lnTo>
                    <a:pt x="1498" y="180"/>
                  </a:lnTo>
                  <a:lnTo>
                    <a:pt x="1348" y="202"/>
                  </a:lnTo>
                  <a:lnTo>
                    <a:pt x="1031" y="226"/>
                  </a:lnTo>
                  <a:lnTo>
                    <a:pt x="0" y="534"/>
                  </a:lnTo>
                </a:path>
              </a:pathLst>
            </a:custGeom>
            <a:noFill/>
            <a:ln w="76320">
              <a:solidFill>
                <a:srgbClr val="3333cc"/>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6082560" y="5279400"/>
              <a:ext cx="1936800" cy="0"/>
            </a:xfrm>
            <a:prstGeom prst="line">
              <a:avLst/>
            </a:prstGeom>
            <a:ln w="76320">
              <a:solidFill>
                <a:srgbClr val="3333cc"/>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6660720" y="4596480"/>
              <a:ext cx="714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0000"/>
                  </a:solidFill>
                  <a:latin typeface="Arial"/>
                </a:rPr>
                <a:t>x</a:t>
              </a:r>
              <a:endParaRPr b="0" lang="en-US" sz="7200" spc="-1" strike="noStrike">
                <a:solidFill>
                  <a:srgbClr val="000000"/>
                </a:solidFill>
                <a:latin typeface="Times New Roman"/>
              </a:endParaRPr>
            </a:p>
          </p:txBody>
        </p:sp>
        <p:sp>
          <p:nvSpPr>
            <p:cNvPr id="657" name=""/>
            <p:cNvSpPr/>
            <p:nvPr/>
          </p:nvSpPr>
          <p:spPr>
            <a:xfrm>
              <a:off x="5516280" y="1656720"/>
              <a:ext cx="2789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lecoil input breaks the acoustic feedback loop, and eliminates acoustic background noise</a:t>
              </a:r>
              <a:endParaRPr b="0" lang="en-US" sz="1800" spc="-1" strike="noStrike">
                <a:solidFill>
                  <a:srgbClr val="000000"/>
                </a:solidFill>
                <a:latin typeface="Times New Roman"/>
              </a:endParaRPr>
            </a:p>
          </p:txBody>
        </p:sp>
        <p:sp>
          <p:nvSpPr>
            <p:cNvPr id="658" name=""/>
            <p:cNvSpPr/>
            <p:nvPr/>
          </p:nvSpPr>
          <p:spPr>
            <a:xfrm>
              <a:off x="1368000" y="4596480"/>
              <a:ext cx="131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lephone Handset</a:t>
              </a:r>
              <a:endParaRPr b="0" lang="en-US" sz="1800" spc="-1" strike="noStrike">
                <a:solidFill>
                  <a:srgbClr val="000000"/>
                </a:solidFill>
                <a:latin typeface="Times New Roman"/>
              </a:endParaRPr>
            </a:p>
          </p:txBody>
        </p:sp>
        <p:sp>
          <p:nvSpPr>
            <p:cNvPr id="659" name=""/>
            <p:cNvSpPr/>
            <p:nvPr/>
          </p:nvSpPr>
          <p:spPr>
            <a:xfrm>
              <a:off x="2987640" y="5387760"/>
              <a:ext cx="1479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b2b2b2"/>
                  </a:solidFill>
                  <a:latin typeface="Arial"/>
                </a:rPr>
                <a:t>Acoustic Background Noise</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0" name=""/>
          <p:cNvGrpSpPr/>
          <p:nvPr/>
        </p:nvGrpSpPr>
        <p:grpSpPr>
          <a:xfrm>
            <a:off x="609480" y="838080"/>
            <a:ext cx="8076960" cy="5105160"/>
            <a:chOff x="609480" y="838080"/>
            <a:chExt cx="8076960" cy="5105160"/>
          </a:xfrm>
        </p:grpSpPr>
        <p:sp>
          <p:nvSpPr>
            <p:cNvPr id="661" name=""/>
            <p:cNvSpPr/>
            <p:nvPr/>
          </p:nvSpPr>
          <p:spPr>
            <a:xfrm>
              <a:off x="6786720" y="1527840"/>
              <a:ext cx="1756800" cy="1664280"/>
            </a:xfrm>
            <a:custGeom>
              <a:avLst/>
              <a:gdLst/>
              <a:ahLst/>
              <a:rect l="l" t="t" r="r" b="b"/>
              <a:pathLst>
                <a:path w="1180" h="1104">
                  <a:moveTo>
                    <a:pt x="418" y="1104"/>
                  </a:moveTo>
                  <a:lnTo>
                    <a:pt x="0" y="223"/>
                  </a:lnTo>
                  <a:lnTo>
                    <a:pt x="9" y="189"/>
                  </a:lnTo>
                  <a:lnTo>
                    <a:pt x="31" y="156"/>
                  </a:lnTo>
                  <a:lnTo>
                    <a:pt x="58" y="129"/>
                  </a:lnTo>
                  <a:lnTo>
                    <a:pt x="91" y="108"/>
                  </a:lnTo>
                  <a:lnTo>
                    <a:pt x="192" y="60"/>
                  </a:lnTo>
                  <a:lnTo>
                    <a:pt x="351" y="19"/>
                  </a:lnTo>
                  <a:lnTo>
                    <a:pt x="531" y="1"/>
                  </a:lnTo>
                  <a:lnTo>
                    <a:pt x="652" y="0"/>
                  </a:lnTo>
                  <a:lnTo>
                    <a:pt x="831" y="21"/>
                  </a:lnTo>
                  <a:lnTo>
                    <a:pt x="979" y="57"/>
                  </a:lnTo>
                  <a:lnTo>
                    <a:pt x="1080" y="103"/>
                  </a:lnTo>
                  <a:lnTo>
                    <a:pt x="1120" y="132"/>
                  </a:lnTo>
                  <a:lnTo>
                    <a:pt x="1156" y="163"/>
                  </a:lnTo>
                  <a:lnTo>
                    <a:pt x="1173" y="195"/>
                  </a:lnTo>
                  <a:lnTo>
                    <a:pt x="1180" y="226"/>
                  </a:lnTo>
                  <a:lnTo>
                    <a:pt x="751" y="1104"/>
                  </a:lnTo>
                  <a:lnTo>
                    <a:pt x="418" y="1104"/>
                  </a:lnTo>
                  <a:close/>
                </a:path>
              </a:pathLst>
            </a:custGeom>
            <a:gradFill rotWithShape="0">
              <a:gsLst>
                <a:gs pos="0">
                  <a:srgbClr val="ffcccc"/>
                </a:gs>
                <a:gs pos="100000">
                  <a:srgbClr val="ff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1455120" y="3182400"/>
              <a:ext cx="369000" cy="346320"/>
            </a:xfrm>
            <a:prstGeom prst="rect">
              <a:avLst/>
            </a:prstGeom>
            <a:gradFill rotWithShape="0">
              <a:gsLst>
                <a:gs pos="0">
                  <a:srgbClr val="ffffff"/>
                </a:gs>
                <a:gs pos="100000">
                  <a:srgbClr val="00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1896120" y="3220920"/>
              <a:ext cx="71280" cy="3074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1324080" y="3218400"/>
              <a:ext cx="70920" cy="3099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768600" y="1543680"/>
              <a:ext cx="1756800" cy="1586880"/>
            </a:xfrm>
            <a:custGeom>
              <a:avLst/>
              <a:gdLst/>
              <a:ahLst/>
              <a:rect l="l" t="t" r="r" b="b"/>
              <a:pathLst>
                <a:path w="1180" h="1104">
                  <a:moveTo>
                    <a:pt x="418" y="1104"/>
                  </a:moveTo>
                  <a:lnTo>
                    <a:pt x="0" y="223"/>
                  </a:lnTo>
                  <a:lnTo>
                    <a:pt x="9" y="189"/>
                  </a:lnTo>
                  <a:lnTo>
                    <a:pt x="31" y="156"/>
                  </a:lnTo>
                  <a:lnTo>
                    <a:pt x="58" y="129"/>
                  </a:lnTo>
                  <a:lnTo>
                    <a:pt x="91" y="108"/>
                  </a:lnTo>
                  <a:lnTo>
                    <a:pt x="192" y="60"/>
                  </a:lnTo>
                  <a:lnTo>
                    <a:pt x="351" y="19"/>
                  </a:lnTo>
                  <a:lnTo>
                    <a:pt x="531" y="1"/>
                  </a:lnTo>
                  <a:lnTo>
                    <a:pt x="652" y="0"/>
                  </a:lnTo>
                  <a:lnTo>
                    <a:pt x="831" y="21"/>
                  </a:lnTo>
                  <a:lnTo>
                    <a:pt x="979" y="57"/>
                  </a:lnTo>
                  <a:lnTo>
                    <a:pt x="1080" y="103"/>
                  </a:lnTo>
                  <a:lnTo>
                    <a:pt x="1120" y="132"/>
                  </a:lnTo>
                  <a:lnTo>
                    <a:pt x="1156" y="163"/>
                  </a:lnTo>
                  <a:lnTo>
                    <a:pt x="1173" y="195"/>
                  </a:lnTo>
                  <a:lnTo>
                    <a:pt x="1180" y="226"/>
                  </a:lnTo>
                  <a:lnTo>
                    <a:pt x="751" y="1104"/>
                  </a:lnTo>
                  <a:lnTo>
                    <a:pt x="418" y="1104"/>
                  </a:lnTo>
                  <a:close/>
                </a:path>
              </a:pathLst>
            </a:custGeom>
            <a:gradFill rotWithShape="0">
              <a:gsLst>
                <a:gs pos="0">
                  <a:srgbClr val="ffcccc"/>
                </a:gs>
                <a:gs pos="100000">
                  <a:srgbClr val="ff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2825280" y="1527840"/>
              <a:ext cx="1756800" cy="1586520"/>
            </a:xfrm>
            <a:custGeom>
              <a:avLst/>
              <a:gdLst/>
              <a:ahLst/>
              <a:rect l="l" t="t" r="r" b="b"/>
              <a:pathLst>
                <a:path w="1180" h="1104">
                  <a:moveTo>
                    <a:pt x="418" y="1104"/>
                  </a:moveTo>
                  <a:lnTo>
                    <a:pt x="0" y="223"/>
                  </a:lnTo>
                  <a:lnTo>
                    <a:pt x="9" y="189"/>
                  </a:lnTo>
                  <a:lnTo>
                    <a:pt x="31" y="156"/>
                  </a:lnTo>
                  <a:lnTo>
                    <a:pt x="58" y="129"/>
                  </a:lnTo>
                  <a:lnTo>
                    <a:pt x="91" y="108"/>
                  </a:lnTo>
                  <a:lnTo>
                    <a:pt x="192" y="60"/>
                  </a:lnTo>
                  <a:lnTo>
                    <a:pt x="351" y="19"/>
                  </a:lnTo>
                  <a:lnTo>
                    <a:pt x="531" y="1"/>
                  </a:lnTo>
                  <a:lnTo>
                    <a:pt x="652" y="0"/>
                  </a:lnTo>
                  <a:lnTo>
                    <a:pt x="831" y="21"/>
                  </a:lnTo>
                  <a:lnTo>
                    <a:pt x="979" y="57"/>
                  </a:lnTo>
                  <a:lnTo>
                    <a:pt x="1080" y="103"/>
                  </a:lnTo>
                  <a:lnTo>
                    <a:pt x="1120" y="132"/>
                  </a:lnTo>
                  <a:lnTo>
                    <a:pt x="1156" y="163"/>
                  </a:lnTo>
                  <a:lnTo>
                    <a:pt x="1173" y="195"/>
                  </a:lnTo>
                  <a:lnTo>
                    <a:pt x="1180" y="226"/>
                  </a:lnTo>
                  <a:lnTo>
                    <a:pt x="751" y="1104"/>
                  </a:lnTo>
                  <a:lnTo>
                    <a:pt x="418" y="1104"/>
                  </a:lnTo>
                  <a:close/>
                </a:path>
              </a:pathLst>
            </a:custGeom>
            <a:gradFill rotWithShape="0">
              <a:gsLst>
                <a:gs pos="0">
                  <a:srgbClr val="ffffff"/>
                </a:gs>
                <a:gs pos="100000">
                  <a:srgbClr val="ff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4755240" y="1527840"/>
              <a:ext cx="1756800" cy="1586520"/>
            </a:xfrm>
            <a:custGeom>
              <a:avLst/>
              <a:gdLst/>
              <a:ahLst/>
              <a:rect l="l" t="t" r="r" b="b"/>
              <a:pathLst>
                <a:path w="1180" h="1104">
                  <a:moveTo>
                    <a:pt x="418" y="1104"/>
                  </a:moveTo>
                  <a:lnTo>
                    <a:pt x="0" y="223"/>
                  </a:lnTo>
                  <a:lnTo>
                    <a:pt x="9" y="189"/>
                  </a:lnTo>
                  <a:lnTo>
                    <a:pt x="31" y="156"/>
                  </a:lnTo>
                  <a:lnTo>
                    <a:pt x="58" y="129"/>
                  </a:lnTo>
                  <a:lnTo>
                    <a:pt x="91" y="108"/>
                  </a:lnTo>
                  <a:lnTo>
                    <a:pt x="192" y="60"/>
                  </a:lnTo>
                  <a:lnTo>
                    <a:pt x="351" y="19"/>
                  </a:lnTo>
                  <a:lnTo>
                    <a:pt x="531" y="1"/>
                  </a:lnTo>
                  <a:lnTo>
                    <a:pt x="652" y="0"/>
                  </a:lnTo>
                  <a:lnTo>
                    <a:pt x="831" y="21"/>
                  </a:lnTo>
                  <a:lnTo>
                    <a:pt x="979" y="57"/>
                  </a:lnTo>
                  <a:lnTo>
                    <a:pt x="1080" y="103"/>
                  </a:lnTo>
                  <a:lnTo>
                    <a:pt x="1120" y="132"/>
                  </a:lnTo>
                  <a:lnTo>
                    <a:pt x="1156" y="163"/>
                  </a:lnTo>
                  <a:lnTo>
                    <a:pt x="1173" y="195"/>
                  </a:lnTo>
                  <a:lnTo>
                    <a:pt x="1180" y="226"/>
                  </a:lnTo>
                  <a:lnTo>
                    <a:pt x="751" y="1104"/>
                  </a:lnTo>
                  <a:lnTo>
                    <a:pt x="418" y="1104"/>
                  </a:lnTo>
                  <a:close/>
                </a:path>
              </a:pathLst>
            </a:custGeom>
            <a:gradFill rotWithShape="0">
              <a:gsLst>
                <a:gs pos="0">
                  <a:srgbClr val="ffcccc"/>
                </a:gs>
                <a:gs pos="100000">
                  <a:srgbClr val="ff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1324080" y="3220920"/>
              <a:ext cx="643320" cy="68760"/>
            </a:xfrm>
            <a:prstGeom prst="line">
              <a:avLst/>
            </a:prstGeom>
            <a:ln w="19080">
              <a:solidFill>
                <a:srgbClr val="00cc66"/>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69" name=""/>
            <p:cNvSpPr/>
            <p:nvPr/>
          </p:nvSpPr>
          <p:spPr>
            <a:xfrm>
              <a:off x="1324080" y="3290040"/>
              <a:ext cx="643320" cy="68760"/>
            </a:xfrm>
            <a:prstGeom prst="line">
              <a:avLst/>
            </a:prstGeom>
            <a:ln w="19080">
              <a:solidFill>
                <a:srgbClr val="00cc66"/>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70" name=""/>
            <p:cNvSpPr/>
            <p:nvPr/>
          </p:nvSpPr>
          <p:spPr>
            <a:xfrm>
              <a:off x="1324080" y="3359160"/>
              <a:ext cx="643320" cy="68760"/>
            </a:xfrm>
            <a:prstGeom prst="line">
              <a:avLst/>
            </a:prstGeom>
            <a:ln w="19080">
              <a:solidFill>
                <a:srgbClr val="00cc66"/>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71" name=""/>
            <p:cNvSpPr/>
            <p:nvPr/>
          </p:nvSpPr>
          <p:spPr>
            <a:xfrm>
              <a:off x="1324080" y="3427920"/>
              <a:ext cx="643320" cy="68760"/>
            </a:xfrm>
            <a:prstGeom prst="line">
              <a:avLst/>
            </a:prstGeom>
            <a:ln w="19080">
              <a:solidFill>
                <a:srgbClr val="00cc66"/>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72" name=""/>
            <p:cNvSpPr/>
            <p:nvPr/>
          </p:nvSpPr>
          <p:spPr>
            <a:xfrm flipH="1">
              <a:off x="751680" y="3220920"/>
              <a:ext cx="572040" cy="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flipH="1">
              <a:off x="751680" y="3245400"/>
              <a:ext cx="572040" cy="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4" name=""/>
            <p:cNvGrpSpPr/>
            <p:nvPr/>
          </p:nvGrpSpPr>
          <p:grpSpPr>
            <a:xfrm>
              <a:off x="2789280" y="2973600"/>
              <a:ext cx="1787400" cy="658440"/>
              <a:chOff x="2789280" y="2973600"/>
              <a:chExt cx="1787400" cy="658440"/>
            </a:xfrm>
          </p:grpSpPr>
          <p:sp>
            <p:nvSpPr>
              <p:cNvPr id="675" name=""/>
              <p:cNvSpPr/>
              <p:nvPr/>
            </p:nvSpPr>
            <p:spPr>
              <a:xfrm>
                <a:off x="2860920" y="3245400"/>
                <a:ext cx="1643760" cy="386640"/>
              </a:xfrm>
              <a:custGeom>
                <a:avLst/>
                <a:gdLst/>
                <a:ahLst/>
                <a:rect l="l" t="t" r="r" b="b"/>
                <a:pathLst>
                  <a:path w="2160" h="624">
                    <a:moveTo>
                      <a:pt x="0" y="0"/>
                    </a:moveTo>
                    <a:lnTo>
                      <a:pt x="624" y="0"/>
                    </a:lnTo>
                    <a:lnTo>
                      <a:pt x="624" y="528"/>
                    </a:lnTo>
                    <a:lnTo>
                      <a:pt x="816" y="528"/>
                    </a:lnTo>
                    <a:lnTo>
                      <a:pt x="816" y="96"/>
                    </a:lnTo>
                    <a:lnTo>
                      <a:pt x="1344" y="96"/>
                    </a:lnTo>
                    <a:lnTo>
                      <a:pt x="1344" y="528"/>
                    </a:lnTo>
                    <a:lnTo>
                      <a:pt x="1536" y="528"/>
                    </a:lnTo>
                    <a:lnTo>
                      <a:pt x="1536" y="0"/>
                    </a:lnTo>
                    <a:lnTo>
                      <a:pt x="2160" y="0"/>
                    </a:lnTo>
                    <a:lnTo>
                      <a:pt x="2160" y="624"/>
                    </a:lnTo>
                    <a:lnTo>
                      <a:pt x="0" y="624"/>
                    </a:lnTo>
                    <a:lnTo>
                      <a:pt x="0" y="0"/>
                    </a:lnTo>
                    <a:close/>
                  </a:path>
                </a:pathLst>
              </a:custGeom>
              <a:gradFill rotWithShape="0">
                <a:gsLst>
                  <a:gs pos="0">
                    <a:srgbClr val="ffffff"/>
                  </a:gs>
                  <a:gs pos="100000">
                    <a:srgbClr val="000000"/>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3421080" y="3149280"/>
                <a:ext cx="511920" cy="379080"/>
              </a:xfrm>
              <a:prstGeom prst="rect">
                <a:avLst/>
              </a:prstGeom>
              <a:gradFill rotWithShape="0">
                <a:gsLst>
                  <a:gs pos="0">
                    <a:srgbClr val="ffffff"/>
                  </a:gs>
                  <a:gs pos="100000">
                    <a:srgbClr val="ffff00"/>
                  </a:gs>
                </a:gsLst>
                <a:lin ang="108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7" name=""/>
              <p:cNvGrpSpPr/>
              <p:nvPr/>
            </p:nvGrpSpPr>
            <p:grpSpPr>
              <a:xfrm>
                <a:off x="2789280" y="2973600"/>
                <a:ext cx="1787400" cy="223560"/>
                <a:chOff x="2789280" y="2973600"/>
                <a:chExt cx="1787400" cy="223560"/>
              </a:xfrm>
            </p:grpSpPr>
            <p:grpSp>
              <p:nvGrpSpPr>
                <p:cNvPr id="678" name=""/>
                <p:cNvGrpSpPr/>
                <p:nvPr/>
              </p:nvGrpSpPr>
              <p:grpSpPr>
                <a:xfrm>
                  <a:off x="3397680" y="3098160"/>
                  <a:ext cx="569880" cy="99000"/>
                  <a:chOff x="3397680" y="3098160"/>
                  <a:chExt cx="569880" cy="99000"/>
                </a:xfrm>
              </p:grpSpPr>
              <p:sp>
                <p:nvSpPr>
                  <p:cNvPr id="679" name=""/>
                  <p:cNvSpPr/>
                  <p:nvPr/>
                </p:nvSpPr>
                <p:spPr>
                  <a:xfrm>
                    <a:off x="3398040" y="3098160"/>
                    <a:ext cx="569520" cy="99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3397680" y="3098160"/>
                    <a:ext cx="569520" cy="99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81" name=""/>
                <p:cNvSpPr/>
                <p:nvPr/>
              </p:nvSpPr>
              <p:spPr>
                <a:xfrm flipV="1">
                  <a:off x="3968280" y="2973600"/>
                  <a:ext cx="608400" cy="17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H="1" flipV="1">
                  <a:off x="2789280" y="2973600"/>
                  <a:ext cx="608040" cy="17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3" name=""/>
              <p:cNvSpPr/>
              <p:nvPr/>
            </p:nvSpPr>
            <p:spPr>
              <a:xfrm>
                <a:off x="3361320" y="3218400"/>
                <a:ext cx="642960" cy="68760"/>
              </a:xfrm>
              <a:prstGeom prst="line">
                <a:avLst/>
              </a:prstGeom>
              <a:ln w="19080">
                <a:solidFill>
                  <a:srgbClr val="00cc66"/>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84" name=""/>
              <p:cNvSpPr/>
              <p:nvPr/>
            </p:nvSpPr>
            <p:spPr>
              <a:xfrm>
                <a:off x="3361320" y="3287160"/>
                <a:ext cx="642960" cy="68760"/>
              </a:xfrm>
              <a:prstGeom prst="line">
                <a:avLst/>
              </a:prstGeom>
              <a:ln w="19080">
                <a:solidFill>
                  <a:srgbClr val="00cc66"/>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85" name=""/>
              <p:cNvSpPr/>
              <p:nvPr/>
            </p:nvSpPr>
            <p:spPr>
              <a:xfrm>
                <a:off x="3361320" y="3356280"/>
                <a:ext cx="642960" cy="68760"/>
              </a:xfrm>
              <a:prstGeom prst="line">
                <a:avLst/>
              </a:prstGeom>
              <a:ln w="19080">
                <a:solidFill>
                  <a:srgbClr val="00cc66"/>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86" name=""/>
              <p:cNvSpPr/>
              <p:nvPr/>
            </p:nvSpPr>
            <p:spPr>
              <a:xfrm>
                <a:off x="3361320" y="3425400"/>
                <a:ext cx="642960" cy="68760"/>
              </a:xfrm>
              <a:prstGeom prst="line">
                <a:avLst/>
              </a:prstGeom>
              <a:ln w="19080">
                <a:solidFill>
                  <a:srgbClr val="00cc66"/>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87" name=""/>
              <p:cNvSpPr/>
              <p:nvPr/>
            </p:nvSpPr>
            <p:spPr>
              <a:xfrm flipH="1">
                <a:off x="2789640" y="3218400"/>
                <a:ext cx="571680" cy="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flipH="1">
                <a:off x="2789640" y="3189240"/>
                <a:ext cx="571680" cy="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9" name=""/>
            <p:cNvGrpSpPr/>
            <p:nvPr/>
          </p:nvGrpSpPr>
          <p:grpSpPr>
            <a:xfrm>
              <a:off x="4754880" y="2973600"/>
              <a:ext cx="1786680" cy="658440"/>
              <a:chOff x="4754880" y="2973600"/>
              <a:chExt cx="1786680" cy="658440"/>
            </a:xfrm>
          </p:grpSpPr>
          <p:sp>
            <p:nvSpPr>
              <p:cNvPr id="690" name=""/>
              <p:cNvSpPr/>
              <p:nvPr/>
            </p:nvSpPr>
            <p:spPr>
              <a:xfrm>
                <a:off x="4826520" y="3245400"/>
                <a:ext cx="1643400" cy="386640"/>
              </a:xfrm>
              <a:custGeom>
                <a:avLst/>
                <a:gdLst/>
                <a:ahLst/>
                <a:rect l="l" t="t" r="r" b="b"/>
                <a:pathLst>
                  <a:path w="2160" h="624">
                    <a:moveTo>
                      <a:pt x="0" y="0"/>
                    </a:moveTo>
                    <a:lnTo>
                      <a:pt x="624" y="0"/>
                    </a:lnTo>
                    <a:lnTo>
                      <a:pt x="624" y="528"/>
                    </a:lnTo>
                    <a:lnTo>
                      <a:pt x="816" y="528"/>
                    </a:lnTo>
                    <a:lnTo>
                      <a:pt x="816" y="96"/>
                    </a:lnTo>
                    <a:lnTo>
                      <a:pt x="1344" y="96"/>
                    </a:lnTo>
                    <a:lnTo>
                      <a:pt x="1344" y="528"/>
                    </a:lnTo>
                    <a:lnTo>
                      <a:pt x="1536" y="528"/>
                    </a:lnTo>
                    <a:lnTo>
                      <a:pt x="1536" y="0"/>
                    </a:lnTo>
                    <a:lnTo>
                      <a:pt x="2160" y="0"/>
                    </a:lnTo>
                    <a:lnTo>
                      <a:pt x="2160" y="624"/>
                    </a:lnTo>
                    <a:lnTo>
                      <a:pt x="0" y="624"/>
                    </a:lnTo>
                    <a:lnTo>
                      <a:pt x="0" y="0"/>
                    </a:lnTo>
                    <a:close/>
                  </a:path>
                </a:pathLst>
              </a:custGeom>
              <a:gradFill rotWithShape="0">
                <a:gsLst>
                  <a:gs pos="0">
                    <a:srgbClr val="ffffff"/>
                  </a:gs>
                  <a:gs pos="100000">
                    <a:srgbClr val="000000"/>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386320" y="3149280"/>
                <a:ext cx="511920" cy="379080"/>
              </a:xfrm>
              <a:prstGeom prst="rect">
                <a:avLst/>
              </a:prstGeom>
              <a:gradFill rotWithShape="0">
                <a:gsLst>
                  <a:gs pos="0">
                    <a:srgbClr val="ffffff"/>
                  </a:gs>
                  <a:gs pos="100000">
                    <a:srgbClr val="ffff00"/>
                  </a:gs>
                </a:gsLst>
                <a:lin ang="108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2" name=""/>
              <p:cNvGrpSpPr/>
              <p:nvPr/>
            </p:nvGrpSpPr>
            <p:grpSpPr>
              <a:xfrm>
                <a:off x="4754880" y="2973600"/>
                <a:ext cx="1786680" cy="223560"/>
                <a:chOff x="4754880" y="2973600"/>
                <a:chExt cx="1786680" cy="223560"/>
              </a:xfrm>
            </p:grpSpPr>
            <p:grpSp>
              <p:nvGrpSpPr>
                <p:cNvPr id="693" name=""/>
                <p:cNvGrpSpPr/>
                <p:nvPr/>
              </p:nvGrpSpPr>
              <p:grpSpPr>
                <a:xfrm>
                  <a:off x="5363280" y="3098160"/>
                  <a:ext cx="569880" cy="99000"/>
                  <a:chOff x="5363280" y="3098160"/>
                  <a:chExt cx="569880" cy="99000"/>
                </a:xfrm>
              </p:grpSpPr>
              <p:sp>
                <p:nvSpPr>
                  <p:cNvPr id="694" name=""/>
                  <p:cNvSpPr/>
                  <p:nvPr/>
                </p:nvSpPr>
                <p:spPr>
                  <a:xfrm>
                    <a:off x="5363640" y="3098160"/>
                    <a:ext cx="569520" cy="99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5363280" y="3098160"/>
                    <a:ext cx="569520" cy="99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96" name=""/>
                <p:cNvSpPr/>
                <p:nvPr/>
              </p:nvSpPr>
              <p:spPr>
                <a:xfrm flipV="1">
                  <a:off x="5933520" y="2973600"/>
                  <a:ext cx="608040" cy="17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flipH="1" flipV="1">
                  <a:off x="4754880" y="2973600"/>
                  <a:ext cx="608040" cy="173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8" name=""/>
              <p:cNvSpPr/>
              <p:nvPr/>
            </p:nvSpPr>
            <p:spPr>
              <a:xfrm>
                <a:off x="5326560" y="3218400"/>
                <a:ext cx="642960" cy="68760"/>
              </a:xfrm>
              <a:prstGeom prst="line">
                <a:avLst/>
              </a:prstGeom>
              <a:ln w="19080">
                <a:solidFill>
                  <a:srgbClr val="00cc66"/>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99" name=""/>
              <p:cNvSpPr/>
              <p:nvPr/>
            </p:nvSpPr>
            <p:spPr>
              <a:xfrm>
                <a:off x="5326560" y="3287160"/>
                <a:ext cx="642960" cy="68760"/>
              </a:xfrm>
              <a:prstGeom prst="line">
                <a:avLst/>
              </a:prstGeom>
              <a:ln w="19080">
                <a:solidFill>
                  <a:srgbClr val="00cc66"/>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00" name=""/>
              <p:cNvSpPr/>
              <p:nvPr/>
            </p:nvSpPr>
            <p:spPr>
              <a:xfrm>
                <a:off x="5326560" y="3356280"/>
                <a:ext cx="642960" cy="68760"/>
              </a:xfrm>
              <a:prstGeom prst="line">
                <a:avLst/>
              </a:prstGeom>
              <a:ln w="19080">
                <a:solidFill>
                  <a:srgbClr val="00cc66"/>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01" name=""/>
              <p:cNvSpPr/>
              <p:nvPr/>
            </p:nvSpPr>
            <p:spPr>
              <a:xfrm>
                <a:off x="5326560" y="3425400"/>
                <a:ext cx="642960" cy="68760"/>
              </a:xfrm>
              <a:prstGeom prst="line">
                <a:avLst/>
              </a:prstGeom>
              <a:ln w="19080">
                <a:solidFill>
                  <a:srgbClr val="00cc66"/>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02" name=""/>
              <p:cNvSpPr/>
              <p:nvPr/>
            </p:nvSpPr>
            <p:spPr>
              <a:xfrm flipH="1">
                <a:off x="4754880" y="3218400"/>
                <a:ext cx="571320" cy="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H="1">
                <a:off x="4754880" y="3189240"/>
                <a:ext cx="571320" cy="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4" name=""/>
            <p:cNvGrpSpPr/>
            <p:nvPr/>
          </p:nvGrpSpPr>
          <p:grpSpPr>
            <a:xfrm>
              <a:off x="6971040" y="3114360"/>
              <a:ext cx="1357920" cy="413640"/>
              <a:chOff x="6971040" y="3114360"/>
              <a:chExt cx="1357920" cy="413640"/>
            </a:xfrm>
          </p:grpSpPr>
          <p:sp>
            <p:nvSpPr>
              <p:cNvPr id="705" name=""/>
              <p:cNvSpPr/>
              <p:nvPr/>
            </p:nvSpPr>
            <p:spPr>
              <a:xfrm>
                <a:off x="7025400" y="3285000"/>
                <a:ext cx="1249200" cy="243000"/>
              </a:xfrm>
              <a:custGeom>
                <a:avLst/>
                <a:gdLst/>
                <a:ahLst/>
                <a:rect l="l" t="t" r="r" b="b"/>
                <a:pathLst>
                  <a:path w="2160" h="624">
                    <a:moveTo>
                      <a:pt x="0" y="0"/>
                    </a:moveTo>
                    <a:lnTo>
                      <a:pt x="624" y="0"/>
                    </a:lnTo>
                    <a:lnTo>
                      <a:pt x="624" y="528"/>
                    </a:lnTo>
                    <a:lnTo>
                      <a:pt x="816" y="528"/>
                    </a:lnTo>
                    <a:lnTo>
                      <a:pt x="816" y="96"/>
                    </a:lnTo>
                    <a:lnTo>
                      <a:pt x="1344" y="96"/>
                    </a:lnTo>
                    <a:lnTo>
                      <a:pt x="1344" y="528"/>
                    </a:lnTo>
                    <a:lnTo>
                      <a:pt x="1536" y="528"/>
                    </a:lnTo>
                    <a:lnTo>
                      <a:pt x="1536" y="0"/>
                    </a:lnTo>
                    <a:lnTo>
                      <a:pt x="2160" y="0"/>
                    </a:lnTo>
                    <a:lnTo>
                      <a:pt x="2160" y="624"/>
                    </a:lnTo>
                    <a:lnTo>
                      <a:pt x="0" y="624"/>
                    </a:lnTo>
                    <a:lnTo>
                      <a:pt x="0" y="0"/>
                    </a:lnTo>
                    <a:close/>
                  </a:path>
                </a:pathLst>
              </a:custGeom>
              <a:gradFill rotWithShape="0">
                <a:gsLst>
                  <a:gs pos="0">
                    <a:srgbClr val="ffffff"/>
                  </a:gs>
                  <a:gs pos="100000">
                    <a:srgbClr val="000000"/>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7450560" y="3224880"/>
                <a:ext cx="389160" cy="238320"/>
              </a:xfrm>
              <a:prstGeom prst="rect">
                <a:avLst/>
              </a:prstGeom>
              <a:gradFill rotWithShape="0">
                <a:gsLst>
                  <a:gs pos="0">
                    <a:srgbClr val="ffffff"/>
                  </a:gs>
                  <a:gs pos="100000">
                    <a:srgbClr val="ffff00"/>
                  </a:gs>
                </a:gsLst>
                <a:lin ang="108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7" name=""/>
              <p:cNvGrpSpPr/>
              <p:nvPr/>
            </p:nvGrpSpPr>
            <p:grpSpPr>
              <a:xfrm>
                <a:off x="6971040" y="3114360"/>
                <a:ext cx="1357920" cy="139680"/>
                <a:chOff x="6971040" y="3114360"/>
                <a:chExt cx="1357920" cy="139680"/>
              </a:xfrm>
            </p:grpSpPr>
            <p:grpSp>
              <p:nvGrpSpPr>
                <p:cNvPr id="708" name=""/>
                <p:cNvGrpSpPr/>
                <p:nvPr/>
              </p:nvGrpSpPr>
              <p:grpSpPr>
                <a:xfrm>
                  <a:off x="7433280" y="3192480"/>
                  <a:ext cx="433080" cy="61560"/>
                  <a:chOff x="7433280" y="3192480"/>
                  <a:chExt cx="433080" cy="61560"/>
                </a:xfrm>
              </p:grpSpPr>
              <p:sp>
                <p:nvSpPr>
                  <p:cNvPr id="709" name=""/>
                  <p:cNvSpPr/>
                  <p:nvPr/>
                </p:nvSpPr>
                <p:spPr>
                  <a:xfrm>
                    <a:off x="7433640" y="3192480"/>
                    <a:ext cx="432720" cy="61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710" name=""/>
                  <p:cNvSpPr/>
                  <p:nvPr/>
                </p:nvSpPr>
                <p:spPr>
                  <a:xfrm flipH="1">
                    <a:off x="7433280" y="3192480"/>
                    <a:ext cx="432720" cy="61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sp>
              <p:nvSpPr>
                <p:cNvPr id="711" name=""/>
                <p:cNvSpPr/>
                <p:nvPr/>
              </p:nvSpPr>
              <p:spPr>
                <a:xfrm flipV="1">
                  <a:off x="7866720" y="3114360"/>
                  <a:ext cx="462240" cy="109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flipH="1" flipV="1">
                  <a:off x="6971040" y="3114360"/>
                  <a:ext cx="462240" cy="109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3" name=""/>
              <p:cNvSpPr/>
              <p:nvPr/>
            </p:nvSpPr>
            <p:spPr>
              <a:xfrm>
                <a:off x="7405200" y="3268080"/>
                <a:ext cx="488520" cy="43200"/>
              </a:xfrm>
              <a:prstGeom prst="line">
                <a:avLst/>
              </a:prstGeom>
              <a:ln w="19080">
                <a:solidFill>
                  <a:srgbClr val="00cc66"/>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14" name=""/>
              <p:cNvSpPr/>
              <p:nvPr/>
            </p:nvSpPr>
            <p:spPr>
              <a:xfrm>
                <a:off x="7405200" y="3311280"/>
                <a:ext cx="488520" cy="43200"/>
              </a:xfrm>
              <a:prstGeom prst="line">
                <a:avLst/>
              </a:prstGeom>
              <a:ln w="19080">
                <a:solidFill>
                  <a:srgbClr val="00cc66"/>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15" name=""/>
              <p:cNvSpPr/>
              <p:nvPr/>
            </p:nvSpPr>
            <p:spPr>
              <a:xfrm>
                <a:off x="7405200" y="3354840"/>
                <a:ext cx="488520" cy="43200"/>
              </a:xfrm>
              <a:prstGeom prst="line">
                <a:avLst/>
              </a:prstGeom>
              <a:ln w="19080">
                <a:solidFill>
                  <a:srgbClr val="00cc66"/>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16" name=""/>
              <p:cNvSpPr/>
              <p:nvPr/>
            </p:nvSpPr>
            <p:spPr>
              <a:xfrm>
                <a:off x="7405200" y="3398400"/>
                <a:ext cx="488520" cy="43200"/>
              </a:xfrm>
              <a:prstGeom prst="line">
                <a:avLst/>
              </a:prstGeom>
              <a:ln w="19080">
                <a:solidFill>
                  <a:srgbClr val="00cc66"/>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17" name=""/>
              <p:cNvSpPr/>
              <p:nvPr/>
            </p:nvSpPr>
            <p:spPr>
              <a:xfrm flipH="1">
                <a:off x="6971040" y="3268080"/>
                <a:ext cx="434160" cy="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flipH="1">
                <a:off x="6971040" y="3250080"/>
                <a:ext cx="434160" cy="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9" name=""/>
            <p:cNvSpPr/>
            <p:nvPr/>
          </p:nvSpPr>
          <p:spPr>
            <a:xfrm>
              <a:off x="2429640" y="838080"/>
              <a:ext cx="4531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lephone Receiver Evolution</a:t>
              </a:r>
              <a:endParaRPr b="0" lang="en-US" sz="2400" spc="-1" strike="noStrike">
                <a:solidFill>
                  <a:srgbClr val="000000"/>
                </a:solidFill>
                <a:latin typeface="Times New Roman"/>
              </a:endParaRPr>
            </a:p>
          </p:txBody>
        </p:sp>
        <p:sp>
          <p:nvSpPr>
            <p:cNvPr id="720" name=""/>
            <p:cNvSpPr/>
            <p:nvPr/>
          </p:nvSpPr>
          <p:spPr>
            <a:xfrm>
              <a:off x="609480" y="1596600"/>
              <a:ext cx="20016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Modulated Electromagnetic Field</a:t>
              </a:r>
              <a:endParaRPr b="0" lang="en-US" sz="1600" spc="-1" strike="noStrike">
                <a:solidFill>
                  <a:srgbClr val="000000"/>
                </a:solidFill>
                <a:latin typeface="Times New Roman"/>
              </a:endParaRPr>
            </a:p>
          </p:txBody>
        </p:sp>
        <p:sp>
          <p:nvSpPr>
            <p:cNvPr id="721" name=""/>
            <p:cNvSpPr/>
            <p:nvPr/>
          </p:nvSpPr>
          <p:spPr>
            <a:xfrm>
              <a:off x="752040" y="3116160"/>
              <a:ext cx="1773360" cy="67680"/>
            </a:xfrm>
            <a:prstGeom prst="rect">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722" name=""/>
            <p:cNvSpPr/>
            <p:nvPr/>
          </p:nvSpPr>
          <p:spPr>
            <a:xfrm>
              <a:off x="1252800" y="3666600"/>
              <a:ext cx="1000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ving Magnet</a:t>
              </a:r>
              <a:endParaRPr b="0" lang="en-US" sz="800" spc="-1" strike="noStrike">
                <a:solidFill>
                  <a:srgbClr val="000000"/>
                </a:solidFill>
                <a:latin typeface="Times New Roman"/>
              </a:endParaRPr>
            </a:p>
          </p:txBody>
        </p:sp>
        <p:sp>
          <p:nvSpPr>
            <p:cNvPr id="723" name=""/>
            <p:cNvSpPr/>
            <p:nvPr/>
          </p:nvSpPr>
          <p:spPr>
            <a:xfrm flipV="1">
              <a:off x="1609920" y="3528360"/>
              <a:ext cx="0" cy="17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758160" y="3985560"/>
              <a:ext cx="17870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ing magnet required substantial electromagnetic field to produce sound</a:t>
              </a:r>
              <a:endParaRPr b="0" lang="en-US" sz="1400" spc="-1" strike="noStrike">
                <a:solidFill>
                  <a:srgbClr val="000000"/>
                </a:solidFill>
                <a:latin typeface="Times New Roman"/>
              </a:endParaRPr>
            </a:p>
          </p:txBody>
        </p:sp>
        <p:sp>
          <p:nvSpPr>
            <p:cNvPr id="725" name=""/>
            <p:cNvSpPr/>
            <p:nvPr/>
          </p:nvSpPr>
          <p:spPr>
            <a:xfrm>
              <a:off x="2611080" y="3033000"/>
              <a:ext cx="1000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cc66"/>
                  </a:solidFill>
                  <a:latin typeface="Arial"/>
                </a:rPr>
                <a:t>Voice Coil</a:t>
              </a:r>
              <a:endParaRPr b="0" lang="en-US" sz="800" spc="-1" strike="noStrike">
                <a:solidFill>
                  <a:srgbClr val="000000"/>
                </a:solidFill>
                <a:latin typeface="Times New Roman"/>
              </a:endParaRPr>
            </a:p>
          </p:txBody>
        </p:sp>
        <p:sp>
          <p:nvSpPr>
            <p:cNvPr id="726" name=""/>
            <p:cNvSpPr/>
            <p:nvPr/>
          </p:nvSpPr>
          <p:spPr>
            <a:xfrm>
              <a:off x="4004640" y="3287160"/>
              <a:ext cx="75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xed Magnet</a:t>
              </a:r>
              <a:endParaRPr b="0" lang="en-US" sz="800" spc="-1" strike="noStrike">
                <a:solidFill>
                  <a:srgbClr val="000000"/>
                </a:solidFill>
                <a:latin typeface="Times New Roman"/>
              </a:endParaRPr>
            </a:p>
          </p:txBody>
        </p:sp>
        <p:sp>
          <p:nvSpPr>
            <p:cNvPr id="727" name=""/>
            <p:cNvSpPr/>
            <p:nvPr/>
          </p:nvSpPr>
          <p:spPr>
            <a:xfrm>
              <a:off x="2795400" y="3985560"/>
              <a:ext cx="17870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er efficiency moving coil receivers generated weaker electromagnetic fields</a:t>
              </a:r>
              <a:endParaRPr b="0" lang="en-US" sz="1400" spc="-1" strike="noStrike">
                <a:solidFill>
                  <a:srgbClr val="000000"/>
                </a:solidFill>
                <a:latin typeface="Times New Roman"/>
              </a:endParaRPr>
            </a:p>
          </p:txBody>
        </p:sp>
        <p:sp>
          <p:nvSpPr>
            <p:cNvPr id="728" name=""/>
            <p:cNvSpPr/>
            <p:nvPr/>
          </p:nvSpPr>
          <p:spPr>
            <a:xfrm>
              <a:off x="4755240" y="3287160"/>
              <a:ext cx="1786680" cy="34200"/>
            </a:xfrm>
            <a:prstGeom prst="line">
              <a:avLst/>
            </a:prstGeom>
            <a:ln w="6480">
              <a:solidFill>
                <a:srgbClr val="00cc66"/>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29" name=""/>
            <p:cNvSpPr/>
            <p:nvPr/>
          </p:nvSpPr>
          <p:spPr>
            <a:xfrm>
              <a:off x="4755240" y="3321720"/>
              <a:ext cx="1786680" cy="34200"/>
            </a:xfrm>
            <a:prstGeom prst="line">
              <a:avLst/>
            </a:prstGeom>
            <a:ln w="6480">
              <a:solidFill>
                <a:srgbClr val="00cc66"/>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30" name=""/>
            <p:cNvSpPr/>
            <p:nvPr/>
          </p:nvSpPr>
          <p:spPr>
            <a:xfrm>
              <a:off x="4755240" y="3356280"/>
              <a:ext cx="1786680" cy="34200"/>
            </a:xfrm>
            <a:prstGeom prst="line">
              <a:avLst/>
            </a:prstGeom>
            <a:ln w="6480">
              <a:solidFill>
                <a:srgbClr val="00cc66"/>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31" name=""/>
            <p:cNvSpPr/>
            <p:nvPr/>
          </p:nvSpPr>
          <p:spPr>
            <a:xfrm>
              <a:off x="4755240" y="3390840"/>
              <a:ext cx="1786680" cy="34200"/>
            </a:xfrm>
            <a:prstGeom prst="line">
              <a:avLst/>
            </a:prstGeom>
            <a:ln w="6480">
              <a:solidFill>
                <a:srgbClr val="00cc66"/>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32" name=""/>
            <p:cNvSpPr/>
            <p:nvPr/>
          </p:nvSpPr>
          <p:spPr>
            <a:xfrm>
              <a:off x="4755240" y="3425400"/>
              <a:ext cx="1786680" cy="34200"/>
            </a:xfrm>
            <a:prstGeom prst="line">
              <a:avLst/>
            </a:prstGeom>
            <a:ln w="6480">
              <a:solidFill>
                <a:srgbClr val="00cc66"/>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33" name=""/>
            <p:cNvSpPr/>
            <p:nvPr/>
          </p:nvSpPr>
          <p:spPr>
            <a:xfrm>
              <a:off x="4755240" y="3459600"/>
              <a:ext cx="1786680" cy="34200"/>
            </a:xfrm>
            <a:prstGeom prst="line">
              <a:avLst/>
            </a:prstGeom>
            <a:ln w="6480">
              <a:solidFill>
                <a:srgbClr val="00cc66"/>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34" name=""/>
            <p:cNvSpPr/>
            <p:nvPr/>
          </p:nvSpPr>
          <p:spPr>
            <a:xfrm>
              <a:off x="4755240" y="3494160"/>
              <a:ext cx="1786680" cy="34200"/>
            </a:xfrm>
            <a:prstGeom prst="line">
              <a:avLst/>
            </a:prstGeom>
            <a:ln w="6480">
              <a:solidFill>
                <a:srgbClr val="00cc66"/>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35" name=""/>
            <p:cNvSpPr/>
            <p:nvPr/>
          </p:nvSpPr>
          <p:spPr>
            <a:xfrm>
              <a:off x="4755240" y="3528720"/>
              <a:ext cx="1786680" cy="34200"/>
            </a:xfrm>
            <a:prstGeom prst="line">
              <a:avLst/>
            </a:prstGeom>
            <a:ln w="6480">
              <a:solidFill>
                <a:srgbClr val="00cc66"/>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36" name=""/>
            <p:cNvSpPr/>
            <p:nvPr/>
          </p:nvSpPr>
          <p:spPr>
            <a:xfrm>
              <a:off x="4755240" y="3563280"/>
              <a:ext cx="1786680" cy="34200"/>
            </a:xfrm>
            <a:prstGeom prst="line">
              <a:avLst/>
            </a:prstGeom>
            <a:ln w="6480">
              <a:solidFill>
                <a:srgbClr val="00cc66"/>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37" name=""/>
            <p:cNvSpPr/>
            <p:nvPr/>
          </p:nvSpPr>
          <p:spPr>
            <a:xfrm>
              <a:off x="4755240" y="3985560"/>
              <a:ext cx="17866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al windings are added to boost electromagnetic fields for hearing aids</a:t>
              </a:r>
              <a:endParaRPr b="0" lang="en-US" sz="1400" spc="-1" strike="noStrike">
                <a:solidFill>
                  <a:srgbClr val="000000"/>
                </a:solidFill>
                <a:latin typeface="Times New Roman"/>
              </a:endParaRPr>
            </a:p>
          </p:txBody>
        </p:sp>
        <p:sp>
          <p:nvSpPr>
            <p:cNvPr id="738" name=""/>
            <p:cNvSpPr/>
            <p:nvPr/>
          </p:nvSpPr>
          <p:spPr>
            <a:xfrm>
              <a:off x="6756480" y="3985560"/>
              <a:ext cx="17870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er receivers generate more powerful electromagnetic fields</a:t>
              </a:r>
              <a:endParaRPr b="0" lang="en-US" sz="1400" spc="-1" strike="noStrike">
                <a:solidFill>
                  <a:srgbClr val="000000"/>
                </a:solidFill>
                <a:latin typeface="Times New Roman"/>
              </a:endParaRPr>
            </a:p>
          </p:txBody>
        </p:sp>
        <p:sp>
          <p:nvSpPr>
            <p:cNvPr id="739" name=""/>
            <p:cNvSpPr/>
            <p:nvPr/>
          </p:nvSpPr>
          <p:spPr>
            <a:xfrm>
              <a:off x="895320" y="5046840"/>
              <a:ext cx="7791120" cy="896400"/>
            </a:xfrm>
            <a:prstGeom prst="rightArrow">
              <a:avLst>
                <a:gd name="adj1" fmla="val 48398"/>
                <a:gd name="adj2" fmla="val 118986"/>
              </a:avLst>
            </a:prstGeom>
            <a:solidFill>
              <a:srgbClr val="66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eivers evolving to be more like loudspeakers…</a:t>
              </a:r>
              <a:endParaRPr b="0" lang="en-US" sz="1600" spc="-1" strike="noStrike">
                <a:solidFill>
                  <a:srgbClr val="000000"/>
                </a:solidFill>
                <a:latin typeface="Times New Roman"/>
              </a:endParaRPr>
            </a:p>
          </p:txBody>
        </p:sp>
        <p:sp>
          <p:nvSpPr>
            <p:cNvPr id="740" name=""/>
            <p:cNvSpPr/>
            <p:nvPr/>
          </p:nvSpPr>
          <p:spPr>
            <a:xfrm>
              <a:off x="2825280" y="1125360"/>
              <a:ext cx="1756800" cy="1092240"/>
            </a:xfrm>
            <a:prstGeom prst="irregularSeal1">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elecoils ca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ick up th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eaker signal</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199680" y="609480"/>
            <a:ext cx="2620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s at Stake?</a:t>
            </a:r>
            <a:endParaRPr b="0" lang="en-US" sz="2400" spc="-1" strike="noStrike">
              <a:solidFill>
                <a:srgbClr val="000000"/>
              </a:solidFill>
              <a:latin typeface="Times New Roman"/>
            </a:endParaRPr>
          </a:p>
        </p:txBody>
      </p:sp>
      <p:sp>
        <p:nvSpPr>
          <p:cNvPr id="64" name=""/>
          <p:cNvSpPr/>
          <p:nvPr/>
        </p:nvSpPr>
        <p:spPr>
          <a:xfrm>
            <a:off x="685800" y="1219320"/>
            <a:ext cx="7772400" cy="536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If a safety risk exists</a:t>
            </a:r>
            <a:r>
              <a:rPr b="1" lang="en-US" sz="1600" spc="-1" strike="noStrike">
                <a:solidFill>
                  <a:srgbClr val="000000"/>
                </a:solidFill>
                <a:latin typeface="Arial"/>
              </a:rPr>
              <a:t>…</a:t>
            </a:r>
            <a:endParaRPr b="0" lang="en-US" sz="1600" spc="-1" strike="noStrike">
              <a:solidFill>
                <a:srgbClr val="000000"/>
              </a:solidFill>
              <a:latin typeface="Times New Roman"/>
            </a:endParaRPr>
          </a:p>
          <a:p>
            <a:pPr lvl="2" marL="91440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ustry must be proactive in addressing it</a:t>
            </a:r>
            <a:endParaRPr b="0" lang="en-US" sz="1200" spc="-1" strike="noStrike">
              <a:solidFill>
                <a:srgbClr val="000000"/>
              </a:solidFill>
              <a:latin typeface="Times New Roman"/>
            </a:endParaRPr>
          </a:p>
          <a:p>
            <a:pPr lvl="2" marL="91440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st deal straightforwardly with customers</a:t>
            </a:r>
            <a:endParaRPr b="0" lang="en-US" sz="1200" spc="-1" strike="noStrike">
              <a:solidFill>
                <a:srgbClr val="000000"/>
              </a:solidFill>
              <a:latin typeface="Times New Roman"/>
            </a:endParaRPr>
          </a:p>
          <a:p>
            <a:pPr lvl="2" marL="91440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st do everything possible from a system and products perspective to ensure the safety of customers</a:t>
            </a: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If a safety risk does not exist and misinformation is released, a multibillion dollar business may be jeopardized</a:t>
            </a:r>
            <a:r>
              <a:rPr b="1" lang="en-US" sz="1600" spc="-1" strike="noStrike">
                <a:solidFill>
                  <a:srgbClr val="000000"/>
                </a:solidFill>
                <a:latin typeface="Arial"/>
              </a:rPr>
              <a:t>…</a:t>
            </a:r>
            <a:endParaRPr b="0" lang="en-US" sz="1600" spc="-1" strike="noStrike">
              <a:solidFill>
                <a:srgbClr val="000000"/>
              </a:solidFill>
              <a:latin typeface="Times New Roman"/>
            </a:endParaRPr>
          </a:p>
          <a:p>
            <a:pPr lvl="2" marL="91440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umers will be unnecessarily distressed</a:t>
            </a:r>
            <a:endParaRPr b="0" lang="en-US" sz="1200" spc="-1" strike="noStrike">
              <a:solidFill>
                <a:srgbClr val="000000"/>
              </a:solidFill>
              <a:latin typeface="Times New Roman"/>
            </a:endParaRPr>
          </a:p>
          <a:p>
            <a:pPr lvl="2" marL="91440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reased litigation</a:t>
            </a:r>
            <a:endParaRPr b="0" lang="en-US" sz="1200" spc="-1" strike="noStrike">
              <a:solidFill>
                <a:srgbClr val="000000"/>
              </a:solidFill>
              <a:latin typeface="Times New Roman"/>
            </a:endParaRPr>
          </a:p>
          <a:p>
            <a:pPr lvl="2" marL="91440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ential of current systems will remain untapped</a:t>
            </a:r>
            <a:endParaRPr b="0" lang="en-US" sz="1200" spc="-1" strike="noStrike">
              <a:solidFill>
                <a:srgbClr val="000000"/>
              </a:solidFill>
              <a:latin typeface="Times New Roman"/>
            </a:endParaRPr>
          </a:p>
          <a:p>
            <a:pPr lvl="2" marL="91440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owed growth of new wireless services</a:t>
            </a: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To prudently deal with the situation, risk-management options must be prepared, matched to the degree of risk</a:t>
            </a:r>
            <a:r>
              <a:rPr b="1" lang="en-US" sz="1600" spc="-1" strike="noStrike">
                <a:solidFill>
                  <a:srgbClr val="000000"/>
                </a:solidFill>
                <a:latin typeface="Arial"/>
              </a:rPr>
              <a:t>:</a:t>
            </a:r>
            <a:endParaRPr b="0" lang="en-US" sz="1600" spc="-1" strike="noStrike">
              <a:solidFill>
                <a:srgbClr val="000000"/>
              </a:solidFill>
              <a:latin typeface="Times New Roman"/>
            </a:endParaRPr>
          </a:p>
          <a:p>
            <a:pPr lvl="2" marL="91440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ucation</a:t>
            </a:r>
            <a:endParaRPr b="0" lang="en-US" sz="1200" spc="-1" strike="noStrike">
              <a:solidFill>
                <a:srgbClr val="000000"/>
              </a:solidFill>
              <a:latin typeface="Times New Roman"/>
            </a:endParaRPr>
          </a:p>
          <a:p>
            <a:pPr lvl="2" marL="91440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rtification</a:t>
            </a:r>
            <a:endParaRPr b="0" lang="en-US" sz="1200" spc="-1" strike="noStrike">
              <a:solidFill>
                <a:srgbClr val="000000"/>
              </a:solidFill>
              <a:latin typeface="Times New Roman"/>
            </a:endParaRPr>
          </a:p>
          <a:p>
            <a:pPr lvl="2" marL="91440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beling</a:t>
            </a:r>
            <a:endParaRPr b="0" lang="en-US" sz="1200" spc="-1" strike="noStrike">
              <a:solidFill>
                <a:srgbClr val="000000"/>
              </a:solidFill>
              <a:latin typeface="Times New Roman"/>
            </a:endParaRPr>
          </a:p>
          <a:p>
            <a:pPr lvl="2" marL="91440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a:t>
            </a:r>
            <a:endParaRPr b="0" lang="en-US" sz="1200" spc="-1" strike="noStrike">
              <a:solidFill>
                <a:srgbClr val="000000"/>
              </a:solidFill>
              <a:latin typeface="Times New Roman"/>
            </a:endParaRPr>
          </a:p>
          <a:p>
            <a:pPr lvl="2" marL="914400">
              <a:lnSpc>
                <a:spcPct val="10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age Restricti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 name=""/>
          <p:cNvSpPr/>
          <p:nvPr/>
        </p:nvSpPr>
        <p:spPr>
          <a:xfrm>
            <a:off x="457200" y="1295280"/>
            <a:ext cx="152280" cy="15264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57200" y="2743200"/>
            <a:ext cx="152280" cy="1522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57200" y="4343400"/>
            <a:ext cx="152280" cy="1522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1" name=""/>
          <p:cNvGrpSpPr/>
          <p:nvPr/>
        </p:nvGrpSpPr>
        <p:grpSpPr>
          <a:xfrm>
            <a:off x="762120" y="762120"/>
            <a:ext cx="7924680" cy="5727240"/>
            <a:chOff x="762120" y="762120"/>
            <a:chExt cx="7924680" cy="5727240"/>
          </a:xfrm>
        </p:grpSpPr>
        <p:sp>
          <p:nvSpPr>
            <p:cNvPr id="742" name=""/>
            <p:cNvSpPr/>
            <p:nvPr/>
          </p:nvSpPr>
          <p:spPr>
            <a:xfrm>
              <a:off x="1824840" y="762120"/>
              <a:ext cx="5725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ring Aid Compatibility - What is it?</a:t>
              </a:r>
              <a:endParaRPr b="0" lang="en-US" sz="2400" spc="-1" strike="noStrike">
                <a:solidFill>
                  <a:srgbClr val="000000"/>
                </a:solidFill>
                <a:latin typeface="Times New Roman"/>
              </a:endParaRPr>
            </a:p>
          </p:txBody>
        </p:sp>
        <p:grpSp>
          <p:nvGrpSpPr>
            <p:cNvPr id="743" name=""/>
            <p:cNvGrpSpPr/>
            <p:nvPr/>
          </p:nvGrpSpPr>
          <p:grpSpPr>
            <a:xfrm>
              <a:off x="5970240" y="4448520"/>
              <a:ext cx="1541880" cy="1232640"/>
              <a:chOff x="5970240" y="4448520"/>
              <a:chExt cx="1541880" cy="1232640"/>
            </a:xfrm>
          </p:grpSpPr>
          <p:sp>
            <p:nvSpPr>
              <p:cNvPr id="744" name=""/>
              <p:cNvSpPr/>
              <p:nvPr/>
            </p:nvSpPr>
            <p:spPr>
              <a:xfrm flipH="1">
                <a:off x="6054840" y="5064840"/>
                <a:ext cx="208080" cy="369720"/>
              </a:xfrm>
              <a:prstGeom prst="flowChartMagneticDrum">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7262640" y="4941360"/>
                <a:ext cx="208080" cy="82080"/>
              </a:xfrm>
              <a:prstGeom prst="rect">
                <a:avLst/>
              </a:prstGeom>
              <a:solidFill>
                <a:srgbClr val="eaeaea">
                  <a:alpha val="50000"/>
                </a:srgbClr>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46" name=""/>
              <p:cNvSpPr/>
              <p:nvPr/>
            </p:nvSpPr>
            <p:spPr>
              <a:xfrm flipH="1">
                <a:off x="6012360" y="5516640"/>
                <a:ext cx="124920" cy="82080"/>
              </a:xfrm>
              <a:prstGeom prst="flowChartMagneticDrum">
                <a:avLst/>
              </a:prstGeom>
              <a:solidFill>
                <a:srgbClr val="ff9966"/>
              </a:solidFill>
              <a:ln w="93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747" name=""/>
              <p:cNvSpPr/>
              <p:nvPr/>
            </p:nvSpPr>
            <p:spPr>
              <a:xfrm flipH="1">
                <a:off x="6054840" y="5023440"/>
                <a:ext cx="249840" cy="451800"/>
              </a:xfrm>
              <a:prstGeom prst="flowChartMagneticDrum">
                <a:avLst/>
              </a:prstGeom>
              <a:solidFill>
                <a:srgbClr val="ff6600">
                  <a:alpha val="50000"/>
                </a:srgbClr>
              </a:solidFill>
              <a:ln w="9360">
                <a:solidFill>
                  <a:srgbClr val="000000">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5970240" y="4705560"/>
                <a:ext cx="209160" cy="153360"/>
                <a:chOff x="5970240" y="4705560"/>
                <a:chExt cx="209160" cy="153360"/>
              </a:xfrm>
            </p:grpSpPr>
            <p:sp>
              <p:nvSpPr>
                <p:cNvPr id="749" name=""/>
                <p:cNvSpPr/>
                <p:nvPr/>
              </p:nvSpPr>
              <p:spPr>
                <a:xfrm rot="1942800">
                  <a:off x="5971320" y="4735440"/>
                  <a:ext cx="124560" cy="40680"/>
                </a:xfrm>
                <a:prstGeom prst="rect">
                  <a:avLst/>
                </a:prstGeom>
                <a:solidFill>
                  <a:srgbClr val="ff99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750" name=""/>
                <p:cNvSpPr/>
                <p:nvPr/>
              </p:nvSpPr>
              <p:spPr>
                <a:xfrm>
                  <a:off x="6054840" y="4735800"/>
                  <a:ext cx="124560" cy="12312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1" name=""/>
              <p:cNvSpPr/>
              <p:nvPr/>
            </p:nvSpPr>
            <p:spPr>
              <a:xfrm>
                <a:off x="6054840" y="4900320"/>
                <a:ext cx="83160" cy="82080"/>
              </a:xfrm>
              <a:prstGeom prst="ellipse">
                <a:avLst/>
              </a:prstGeom>
              <a:noFill/>
              <a:ln w="38160">
                <a:solidFill>
                  <a:srgbClr val="3333cc"/>
                </a:solidFill>
                <a:miter/>
              </a:ln>
            </p:spPr>
            <p:style>
              <a:lnRef idx="0"/>
              <a:fillRef idx="0"/>
              <a:effectRef idx="0"/>
              <a:fontRef idx="minor"/>
            </p:style>
            <p:txBody>
              <a:bodyPr wrap="none" lIns="90000" rIns="90000" tIns="11520" bIns="11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752" name=""/>
              <p:cNvCxnSpPr/>
              <p:nvPr/>
            </p:nvCxnSpPr>
            <p:spPr>
              <a:xfrm flipV="1">
                <a:off x="6887520" y="4982040"/>
                <a:ext cx="83520" cy="41760"/>
              </a:xfrm>
              <a:prstGeom prst="curvedConnector5">
                <a:avLst>
                  <a:gd name="adj1" fmla="val 49783"/>
                  <a:gd name="adj2" fmla="val 49565"/>
                  <a:gd name="adj3" fmla="val 49783"/>
                </a:avLst>
              </a:prstGeom>
              <a:ln w="9360">
                <a:solidFill>
                  <a:srgbClr val="000000"/>
                </a:solidFill>
                <a:miter/>
              </a:ln>
            </p:spPr>
          </p:cxnSp>
          <p:sp>
            <p:nvSpPr>
              <p:cNvPr id="753" name=""/>
              <p:cNvSpPr/>
              <p:nvPr/>
            </p:nvSpPr>
            <p:spPr>
              <a:xfrm>
                <a:off x="6429600" y="4859280"/>
                <a:ext cx="457920" cy="328680"/>
              </a:xfrm>
              <a:custGeom>
                <a:avLst/>
                <a:gdLst/>
                <a:ahLst/>
                <a:rect l="l" t="t" r="r" b="b"/>
                <a:pathLst>
                  <a:path w="528" h="384">
                    <a:moveTo>
                      <a:pt x="0" y="0"/>
                    </a:moveTo>
                    <a:lnTo>
                      <a:pt x="0" y="48"/>
                    </a:lnTo>
                    <a:lnTo>
                      <a:pt x="0" y="96"/>
                    </a:lnTo>
                    <a:lnTo>
                      <a:pt x="0" y="144"/>
                    </a:lnTo>
                    <a:lnTo>
                      <a:pt x="0" y="192"/>
                    </a:lnTo>
                    <a:lnTo>
                      <a:pt x="0" y="240"/>
                    </a:lnTo>
                    <a:lnTo>
                      <a:pt x="0" y="288"/>
                    </a:lnTo>
                    <a:lnTo>
                      <a:pt x="0" y="336"/>
                    </a:lnTo>
                    <a:lnTo>
                      <a:pt x="0" y="384"/>
                    </a:lnTo>
                    <a:lnTo>
                      <a:pt x="528" y="384"/>
                    </a:lnTo>
                    <a:lnTo>
                      <a:pt x="528" y="288"/>
                    </a:lnTo>
                    <a:lnTo>
                      <a:pt x="528" y="240"/>
                    </a:lnTo>
                    <a:lnTo>
                      <a:pt x="528" y="192"/>
                    </a:lnTo>
                    <a:lnTo>
                      <a:pt x="528" y="144"/>
                    </a:lnTo>
                    <a:lnTo>
                      <a:pt x="528" y="96"/>
                    </a:lnTo>
                    <a:lnTo>
                      <a:pt x="528" y="48"/>
                    </a:lnTo>
                    <a:lnTo>
                      <a:pt x="528" y="0"/>
                    </a:lnTo>
                    <a:lnTo>
                      <a:pt x="384" y="0"/>
                    </a:lnTo>
                    <a:lnTo>
                      <a:pt x="336" y="0"/>
                    </a:lnTo>
                    <a:lnTo>
                      <a:pt x="288" y="0"/>
                    </a:lnTo>
                    <a:lnTo>
                      <a:pt x="240" y="0"/>
                    </a:lnTo>
                    <a:lnTo>
                      <a:pt x="144" y="0"/>
                    </a:lnTo>
                    <a:lnTo>
                      <a:pt x="96" y="0"/>
                    </a:lnTo>
                    <a:lnTo>
                      <a:pt x="0" y="0"/>
                    </a:lnTo>
                    <a:close/>
                  </a:path>
                </a:pathLst>
              </a:custGeom>
              <a:solidFill>
                <a:srgbClr val="cc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6471360" y="4900320"/>
                <a:ext cx="374760" cy="2462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55" name=""/>
              <p:cNvCxnSpPr>
                <a:stCxn id="756" idx="3"/>
                <a:endCxn id="753" idx="0"/>
              </p:cNvCxnSpPr>
              <p:nvPr/>
            </p:nvCxnSpPr>
            <p:spPr>
              <a:xfrm>
                <a:off x="6221160" y="4632840"/>
                <a:ext cx="333720" cy="226440"/>
              </a:xfrm>
              <a:prstGeom prst="curvedConnector2">
                <a:avLst/>
              </a:prstGeom>
              <a:ln w="9360">
                <a:solidFill>
                  <a:srgbClr val="000000"/>
                </a:solidFill>
                <a:miter/>
              </a:ln>
            </p:spPr>
          </p:cxnSp>
          <p:cxnSp>
            <p:nvCxnSpPr>
              <p:cNvPr id="757" name=""/>
              <p:cNvCxnSpPr>
                <a:stCxn id="750" idx="3"/>
                <a:endCxn id="753" idx="1"/>
              </p:cNvCxnSpPr>
              <p:nvPr/>
            </p:nvCxnSpPr>
            <p:spPr>
              <a:xfrm>
                <a:off x="6179760" y="4797360"/>
                <a:ext cx="250560" cy="144360"/>
              </a:xfrm>
              <a:prstGeom prst="curvedConnector5">
                <a:avLst>
                  <a:gd name="adj1" fmla="val 49928"/>
                  <a:gd name="adj2" fmla="val 50000"/>
                  <a:gd name="adj3" fmla="val 49928"/>
                </a:avLst>
              </a:prstGeom>
              <a:ln w="9360">
                <a:solidFill>
                  <a:srgbClr val="000000"/>
                </a:solidFill>
                <a:miter/>
              </a:ln>
            </p:spPr>
          </p:cxnSp>
          <p:cxnSp>
            <p:nvCxnSpPr>
              <p:cNvPr id="758" name=""/>
              <p:cNvCxnSpPr>
                <a:stCxn id="751" idx="6"/>
                <a:endCxn id="753" idx="2"/>
              </p:cNvCxnSpPr>
              <p:nvPr/>
            </p:nvCxnSpPr>
            <p:spPr>
              <a:xfrm>
                <a:off x="6148440" y="4941000"/>
                <a:ext cx="281520" cy="41400"/>
              </a:xfrm>
              <a:prstGeom prst="curvedConnector5">
                <a:avLst>
                  <a:gd name="adj1" fmla="val 48143"/>
                  <a:gd name="adj2" fmla="val 50000"/>
                  <a:gd name="adj3" fmla="val 48143"/>
                </a:avLst>
              </a:prstGeom>
              <a:ln w="9360">
                <a:solidFill>
                  <a:srgbClr val="000000"/>
                </a:solidFill>
                <a:miter/>
              </a:ln>
            </p:spPr>
          </p:cxnSp>
          <p:cxnSp>
            <p:nvCxnSpPr>
              <p:cNvPr id="759" name=""/>
              <p:cNvCxnSpPr>
                <a:stCxn id="744" idx="1"/>
                <a:endCxn id="753" idx="3"/>
              </p:cNvCxnSpPr>
              <p:nvPr/>
            </p:nvCxnSpPr>
            <p:spPr>
              <a:xfrm flipV="1">
                <a:off x="6262920" y="5105160"/>
                <a:ext cx="167040" cy="143640"/>
              </a:xfrm>
              <a:prstGeom prst="curvedConnector5">
                <a:avLst>
                  <a:gd name="adj1" fmla="val 49892"/>
                  <a:gd name="adj2" fmla="val 50000"/>
                  <a:gd name="adj3" fmla="val 49892"/>
                </a:avLst>
              </a:prstGeom>
              <a:ln w="9360">
                <a:solidFill>
                  <a:srgbClr val="000000"/>
                </a:solidFill>
                <a:miter/>
              </a:ln>
            </p:spPr>
          </p:cxnSp>
          <p:cxnSp>
            <p:nvCxnSpPr>
              <p:cNvPr id="760" name=""/>
              <p:cNvCxnSpPr>
                <a:stCxn id="746" idx="1"/>
                <a:endCxn id="753" idx="4"/>
              </p:cNvCxnSpPr>
              <p:nvPr/>
            </p:nvCxnSpPr>
            <p:spPr>
              <a:xfrm flipV="1">
                <a:off x="6137640" y="5146560"/>
                <a:ext cx="291960" cy="410400"/>
              </a:xfrm>
              <a:prstGeom prst="curvedConnector5">
                <a:avLst>
                  <a:gd name="adj1" fmla="val 69876"/>
                  <a:gd name="adj2" fmla="val 49956"/>
                  <a:gd name="adj3" fmla="val 69876"/>
                </a:avLst>
              </a:prstGeom>
              <a:ln w="9360">
                <a:solidFill>
                  <a:srgbClr val="000000"/>
                </a:solidFill>
                <a:miter/>
              </a:ln>
            </p:spPr>
          </p:cxnSp>
          <p:sp>
            <p:nvSpPr>
              <p:cNvPr id="761" name=""/>
              <p:cNvSpPr/>
              <p:nvPr/>
            </p:nvSpPr>
            <p:spPr>
              <a:xfrm>
                <a:off x="6036480" y="4612680"/>
                <a:ext cx="41400" cy="41040"/>
              </a:xfrm>
              <a:prstGeom prst="rect">
                <a:avLst/>
              </a:prstGeom>
              <a:solidFill>
                <a:srgbClr val="eaeaea">
                  <a:alpha val="50000"/>
                </a:srgbClr>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nvGrpSpPr>
              <p:cNvPr id="762" name=""/>
              <p:cNvGrpSpPr/>
              <p:nvPr/>
            </p:nvGrpSpPr>
            <p:grpSpPr>
              <a:xfrm>
                <a:off x="6054840" y="4571640"/>
                <a:ext cx="166320" cy="123120"/>
                <a:chOff x="6054840" y="4571640"/>
                <a:chExt cx="166320" cy="123120"/>
              </a:xfrm>
            </p:grpSpPr>
            <p:sp>
              <p:nvSpPr>
                <p:cNvPr id="756" name=""/>
                <p:cNvSpPr/>
                <p:nvPr/>
              </p:nvSpPr>
              <p:spPr>
                <a:xfrm>
                  <a:off x="6096240" y="4571640"/>
                  <a:ext cx="124920" cy="123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6054840" y="4612680"/>
                  <a:ext cx="41400" cy="40680"/>
                </a:xfrm>
                <a:prstGeom prst="rect">
                  <a:avLst/>
                </a:prstGeom>
                <a:solidFill>
                  <a:srgbClr val="808080"/>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sp>
            <p:nvSpPr>
              <p:cNvPr id="764" name=""/>
              <p:cNvSpPr/>
              <p:nvPr/>
            </p:nvSpPr>
            <p:spPr>
              <a:xfrm>
                <a:off x="6221520" y="4592160"/>
                <a:ext cx="374760" cy="266760"/>
              </a:xfrm>
              <a:custGeom>
                <a:avLst/>
                <a:gdLst/>
                <a:ahLst/>
                <a:rect l="l" t="t" r="r" b="b"/>
                <a:pathLst>
                  <a:path w="432" h="312">
                    <a:moveTo>
                      <a:pt x="0" y="24"/>
                    </a:moveTo>
                    <a:cubicBezTo>
                      <a:pt x="64" y="12"/>
                      <a:pt x="128" y="0"/>
                      <a:pt x="192" y="24"/>
                    </a:cubicBezTo>
                    <a:cubicBezTo>
                      <a:pt x="256" y="48"/>
                      <a:pt x="344" y="120"/>
                      <a:pt x="384" y="168"/>
                    </a:cubicBezTo>
                    <a:cubicBezTo>
                      <a:pt x="424" y="216"/>
                      <a:pt x="424" y="288"/>
                      <a:pt x="432" y="3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6179760" y="4768560"/>
                <a:ext cx="249840" cy="131760"/>
              </a:xfrm>
              <a:custGeom>
                <a:avLst/>
                <a:gdLst/>
                <a:ahLst/>
                <a:rect l="l" t="t" r="r" b="b"/>
                <a:pathLst>
                  <a:path w="288" h="154">
                    <a:moveTo>
                      <a:pt x="0" y="10"/>
                    </a:moveTo>
                    <a:cubicBezTo>
                      <a:pt x="20" y="12"/>
                      <a:pt x="74" y="0"/>
                      <a:pt x="122" y="24"/>
                    </a:cubicBezTo>
                    <a:cubicBezTo>
                      <a:pt x="170" y="48"/>
                      <a:pt x="254" y="127"/>
                      <a:pt x="288" y="15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142320" y="4963680"/>
                <a:ext cx="286920" cy="59760"/>
              </a:xfrm>
              <a:custGeom>
                <a:avLst/>
                <a:gdLst/>
                <a:ahLst/>
                <a:rect l="l" t="t" r="r" b="b"/>
                <a:pathLst>
                  <a:path w="331" h="70">
                    <a:moveTo>
                      <a:pt x="0" y="0"/>
                    </a:moveTo>
                    <a:cubicBezTo>
                      <a:pt x="19" y="2"/>
                      <a:pt x="78" y="6"/>
                      <a:pt x="113" y="15"/>
                    </a:cubicBezTo>
                    <a:cubicBezTo>
                      <a:pt x="148" y="24"/>
                      <a:pt x="177" y="47"/>
                      <a:pt x="213" y="56"/>
                    </a:cubicBezTo>
                    <a:cubicBezTo>
                      <a:pt x="249" y="65"/>
                      <a:pt x="307" y="67"/>
                      <a:pt x="331" y="70"/>
                    </a:cubicBezTo>
                  </a:path>
                </a:pathLst>
              </a:custGeom>
              <a:noFill/>
              <a:ln w="9360">
                <a:solidFill>
                  <a:srgbClr val="000000"/>
                </a:solidFill>
                <a:round/>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67" name=""/>
              <p:cNvSpPr/>
              <p:nvPr/>
            </p:nvSpPr>
            <p:spPr>
              <a:xfrm>
                <a:off x="6262920" y="5064840"/>
                <a:ext cx="166320" cy="123120"/>
              </a:xfrm>
              <a:custGeom>
                <a:avLst/>
                <a:gdLst/>
                <a:ahLst/>
                <a:rect l="l" t="t" r="r" b="b"/>
                <a:pathLst>
                  <a:path w="192" h="144">
                    <a:moveTo>
                      <a:pt x="0" y="144"/>
                    </a:moveTo>
                    <a:cubicBezTo>
                      <a:pt x="10" y="138"/>
                      <a:pt x="46" y="122"/>
                      <a:pt x="62" y="106"/>
                    </a:cubicBezTo>
                    <a:cubicBezTo>
                      <a:pt x="78" y="90"/>
                      <a:pt x="74" y="66"/>
                      <a:pt x="96" y="48"/>
                    </a:cubicBezTo>
                    <a:cubicBezTo>
                      <a:pt x="118" y="30"/>
                      <a:pt x="176" y="8"/>
                      <a:pt x="192"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136200" y="5187960"/>
                <a:ext cx="332280" cy="385920"/>
              </a:xfrm>
              <a:custGeom>
                <a:avLst/>
                <a:gdLst/>
                <a:ahLst/>
                <a:rect l="l" t="t" r="r" b="b"/>
                <a:pathLst>
                  <a:path w="383" h="451">
                    <a:moveTo>
                      <a:pt x="0" y="451"/>
                    </a:moveTo>
                    <a:cubicBezTo>
                      <a:pt x="16" y="448"/>
                      <a:pt x="60" y="451"/>
                      <a:pt x="98" y="432"/>
                    </a:cubicBezTo>
                    <a:cubicBezTo>
                      <a:pt x="136" y="413"/>
                      <a:pt x="197" y="390"/>
                      <a:pt x="230" y="334"/>
                    </a:cubicBezTo>
                    <a:cubicBezTo>
                      <a:pt x="263" y="278"/>
                      <a:pt x="274" y="148"/>
                      <a:pt x="297" y="98"/>
                    </a:cubicBezTo>
                    <a:cubicBezTo>
                      <a:pt x="320" y="48"/>
                      <a:pt x="355" y="52"/>
                      <a:pt x="369" y="36"/>
                    </a:cubicBezTo>
                    <a:cubicBezTo>
                      <a:pt x="383" y="20"/>
                      <a:pt x="379" y="7"/>
                      <a:pt x="381"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6887880" y="4957560"/>
                <a:ext cx="84960" cy="27360"/>
              </a:xfrm>
              <a:custGeom>
                <a:avLst/>
                <a:gdLst/>
                <a:ahLst/>
                <a:rect l="l" t="t" r="r" b="b"/>
                <a:pathLst>
                  <a:path w="98" h="32">
                    <a:moveTo>
                      <a:pt x="98" y="0"/>
                    </a:moveTo>
                    <a:cubicBezTo>
                      <a:pt x="87" y="5"/>
                      <a:pt x="50" y="22"/>
                      <a:pt x="34" y="27"/>
                    </a:cubicBezTo>
                    <a:cubicBezTo>
                      <a:pt x="18" y="32"/>
                      <a:pt x="7" y="29"/>
                      <a:pt x="0" y="29"/>
                    </a:cubicBezTo>
                  </a:path>
                </a:pathLst>
              </a:custGeom>
              <a:noFill/>
              <a:ln w="9360">
                <a:solidFill>
                  <a:srgbClr val="000000"/>
                </a:solidFill>
                <a:round/>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770" name=""/>
              <p:cNvSpPr/>
              <p:nvPr/>
            </p:nvSpPr>
            <p:spPr>
              <a:xfrm>
                <a:off x="7220880" y="4941360"/>
                <a:ext cx="83160" cy="82080"/>
              </a:xfrm>
              <a:prstGeom prst="rect">
                <a:avLst/>
              </a:prstGeom>
              <a:solidFill>
                <a:srgbClr val="80808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71" name=""/>
              <p:cNvSpPr/>
              <p:nvPr/>
            </p:nvSpPr>
            <p:spPr>
              <a:xfrm>
                <a:off x="6971040" y="4900320"/>
                <a:ext cx="249840" cy="164160"/>
              </a:xfrm>
              <a:prstGeom prst="roundRect">
                <a:avLst>
                  <a:gd name="adj" fmla="val 16667"/>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6054840" y="4448520"/>
                <a:ext cx="1457280" cy="1232640"/>
              </a:xfrm>
              <a:custGeom>
                <a:avLst/>
                <a:gdLst/>
                <a:ahLst/>
                <a:rect l="l" t="t" r="r" b="b"/>
                <a:pathLst>
                  <a:path w="1680" h="1440">
                    <a:moveTo>
                      <a:pt x="0" y="640"/>
                    </a:moveTo>
                    <a:lnTo>
                      <a:pt x="0" y="160"/>
                    </a:lnTo>
                    <a:lnTo>
                      <a:pt x="146" y="0"/>
                    </a:lnTo>
                    <a:lnTo>
                      <a:pt x="365" y="0"/>
                    </a:lnTo>
                    <a:lnTo>
                      <a:pt x="511" y="160"/>
                    </a:lnTo>
                    <a:lnTo>
                      <a:pt x="928" y="336"/>
                    </a:lnTo>
                    <a:lnTo>
                      <a:pt x="1506" y="394"/>
                    </a:lnTo>
                    <a:lnTo>
                      <a:pt x="1624" y="426"/>
                    </a:lnTo>
                    <a:lnTo>
                      <a:pt x="1678" y="463"/>
                    </a:lnTo>
                    <a:lnTo>
                      <a:pt x="1675" y="553"/>
                    </a:lnTo>
                    <a:lnTo>
                      <a:pt x="1607" y="560"/>
                    </a:lnTo>
                    <a:lnTo>
                      <a:pt x="1607" y="720"/>
                    </a:lnTo>
                    <a:lnTo>
                      <a:pt x="1680" y="730"/>
                    </a:lnTo>
                    <a:lnTo>
                      <a:pt x="1680" y="800"/>
                    </a:lnTo>
                    <a:lnTo>
                      <a:pt x="1608" y="870"/>
                    </a:lnTo>
                    <a:lnTo>
                      <a:pt x="1382" y="936"/>
                    </a:lnTo>
                    <a:lnTo>
                      <a:pt x="1229" y="953"/>
                    </a:lnTo>
                    <a:lnTo>
                      <a:pt x="1030" y="958"/>
                    </a:lnTo>
                    <a:lnTo>
                      <a:pt x="511" y="960"/>
                    </a:lnTo>
                    <a:lnTo>
                      <a:pt x="365" y="1360"/>
                    </a:lnTo>
                    <a:lnTo>
                      <a:pt x="219" y="1440"/>
                    </a:lnTo>
                    <a:lnTo>
                      <a:pt x="73" y="1440"/>
                    </a:lnTo>
                    <a:lnTo>
                      <a:pt x="0" y="1360"/>
                    </a:lnTo>
                    <a:lnTo>
                      <a:pt x="0" y="640"/>
                    </a:lnTo>
                    <a:close/>
                  </a:path>
                </a:pathLst>
              </a:custGeom>
              <a:solidFill>
                <a:srgbClr val="ffffcc">
                  <a:alpha val="50000"/>
                </a:srgbClr>
              </a:solid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3" name=""/>
            <p:cNvGrpSpPr/>
            <p:nvPr/>
          </p:nvGrpSpPr>
          <p:grpSpPr>
            <a:xfrm>
              <a:off x="2189520" y="4234320"/>
              <a:ext cx="699840" cy="1808640"/>
              <a:chOff x="2189520" y="4234320"/>
              <a:chExt cx="699840" cy="1808640"/>
            </a:xfrm>
          </p:grpSpPr>
          <p:sp>
            <p:nvSpPr>
              <p:cNvPr id="774" name=""/>
              <p:cNvSpPr/>
              <p:nvPr/>
            </p:nvSpPr>
            <p:spPr>
              <a:xfrm rot="5400000">
                <a:off x="1562760" y="4933440"/>
                <a:ext cx="1664280" cy="410760"/>
              </a:xfrm>
              <a:custGeom>
                <a:avLst/>
                <a:gdLst/>
                <a:ahLst/>
                <a:rect l="l" t="t" r="r" b="b"/>
                <a:pathLst>
                  <a:path w="2160" h="624">
                    <a:moveTo>
                      <a:pt x="0" y="0"/>
                    </a:moveTo>
                    <a:lnTo>
                      <a:pt x="624" y="0"/>
                    </a:lnTo>
                    <a:lnTo>
                      <a:pt x="624" y="528"/>
                    </a:lnTo>
                    <a:lnTo>
                      <a:pt x="816" y="528"/>
                    </a:lnTo>
                    <a:lnTo>
                      <a:pt x="816" y="96"/>
                    </a:lnTo>
                    <a:lnTo>
                      <a:pt x="1344" y="96"/>
                    </a:lnTo>
                    <a:lnTo>
                      <a:pt x="1344" y="528"/>
                    </a:lnTo>
                    <a:lnTo>
                      <a:pt x="1536" y="528"/>
                    </a:lnTo>
                    <a:lnTo>
                      <a:pt x="1536" y="0"/>
                    </a:lnTo>
                    <a:lnTo>
                      <a:pt x="2160" y="0"/>
                    </a:lnTo>
                    <a:lnTo>
                      <a:pt x="2160" y="624"/>
                    </a:lnTo>
                    <a:lnTo>
                      <a:pt x="0" y="624"/>
                    </a:lnTo>
                    <a:lnTo>
                      <a:pt x="0" y="0"/>
                    </a:lnTo>
                    <a:close/>
                  </a:path>
                </a:pathLst>
              </a:custGeom>
              <a:gradFill rotWithShape="0">
                <a:gsLst>
                  <a:gs pos="0">
                    <a:srgbClr val="000000"/>
                  </a:gs>
                  <a:gs pos="100000">
                    <a:srgbClr val="ffffff"/>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rot="5400000">
                <a:off x="2243520" y="4930920"/>
                <a:ext cx="518400" cy="403200"/>
              </a:xfrm>
              <a:prstGeom prst="rect">
                <a:avLst/>
              </a:prstGeom>
              <a:gradFill rotWithShape="0">
                <a:gsLst>
                  <a:gs pos="0">
                    <a:srgbClr val="ffff00"/>
                  </a:gs>
                  <a:gs pos="100000">
                    <a:srgbClr val="fffff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6" name=""/>
              <p:cNvGrpSpPr/>
              <p:nvPr/>
            </p:nvGrpSpPr>
            <p:grpSpPr>
              <a:xfrm>
                <a:off x="2652480" y="4234680"/>
                <a:ext cx="236880" cy="1808280"/>
                <a:chOff x="2652480" y="4234680"/>
                <a:chExt cx="236880" cy="1808280"/>
              </a:xfrm>
            </p:grpSpPr>
            <p:grpSp>
              <p:nvGrpSpPr>
                <p:cNvPr id="777" name=""/>
                <p:cNvGrpSpPr/>
                <p:nvPr/>
              </p:nvGrpSpPr>
              <p:grpSpPr>
                <a:xfrm>
                  <a:off x="2652480" y="4850280"/>
                  <a:ext cx="104760" cy="576720"/>
                  <a:chOff x="2652480" y="4850280"/>
                  <a:chExt cx="104760" cy="576720"/>
                </a:xfrm>
              </p:grpSpPr>
              <p:sp>
                <p:nvSpPr>
                  <p:cNvPr id="778" name=""/>
                  <p:cNvSpPr/>
                  <p:nvPr/>
                </p:nvSpPr>
                <p:spPr>
                  <a:xfrm rot="5400000">
                    <a:off x="2416320" y="5086080"/>
                    <a:ext cx="576720" cy="10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H="1" rot="5400000">
                    <a:off x="2416320" y="5085720"/>
                    <a:ext cx="576000" cy="10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80" name=""/>
                <p:cNvSpPr/>
                <p:nvPr/>
              </p:nvSpPr>
              <p:spPr>
                <a:xfrm>
                  <a:off x="2704680" y="5427360"/>
                  <a:ext cx="184680" cy="615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flipV="1">
                  <a:off x="2704680" y="4234680"/>
                  <a:ext cx="184680" cy="615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2" name=""/>
              <p:cNvGrpSpPr/>
              <p:nvPr/>
            </p:nvGrpSpPr>
            <p:grpSpPr>
              <a:xfrm>
                <a:off x="2337840" y="4234320"/>
                <a:ext cx="323640" cy="1229760"/>
                <a:chOff x="2337840" y="4234320"/>
                <a:chExt cx="323640" cy="1229760"/>
              </a:xfrm>
            </p:grpSpPr>
            <p:sp>
              <p:nvSpPr>
                <p:cNvPr id="783" name=""/>
                <p:cNvSpPr/>
                <p:nvPr/>
              </p:nvSpPr>
              <p:spPr>
                <a:xfrm flipH="1">
                  <a:off x="2557440" y="4813200"/>
                  <a:ext cx="72720" cy="65088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flipH="1">
                  <a:off x="2483640" y="4813200"/>
                  <a:ext cx="73080" cy="65088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flipH="1">
                  <a:off x="2410200" y="4813200"/>
                  <a:ext cx="73080" cy="65088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flipH="1">
                  <a:off x="2337840" y="4813200"/>
                  <a:ext cx="72720" cy="65088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flipV="1">
                  <a:off x="2630520" y="4234320"/>
                  <a:ext cx="0" cy="57852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flipV="1">
                  <a:off x="2661480" y="4234320"/>
                  <a:ext cx="0" cy="57852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89" name=""/>
            <p:cNvSpPr/>
            <p:nvPr/>
          </p:nvSpPr>
          <p:spPr>
            <a:xfrm>
              <a:off x="3256920" y="4524120"/>
              <a:ext cx="2347920" cy="1157040"/>
            </a:xfrm>
            <a:custGeom>
              <a:avLst/>
              <a:gdLst/>
              <a:ahLst/>
              <a:rect l="l" t="t" r="r" b="b"/>
              <a:pathLst>
                <a:path w="1536" h="768">
                  <a:moveTo>
                    <a:pt x="0" y="392"/>
                  </a:moveTo>
                  <a:cubicBezTo>
                    <a:pt x="16" y="196"/>
                    <a:pt x="32" y="0"/>
                    <a:pt x="48" y="56"/>
                  </a:cubicBezTo>
                  <a:cubicBezTo>
                    <a:pt x="64" y="112"/>
                    <a:pt x="80" y="688"/>
                    <a:pt x="96" y="728"/>
                  </a:cubicBezTo>
                  <a:cubicBezTo>
                    <a:pt x="112" y="768"/>
                    <a:pt x="128" y="336"/>
                    <a:pt x="144" y="296"/>
                  </a:cubicBezTo>
                  <a:cubicBezTo>
                    <a:pt x="160" y="256"/>
                    <a:pt x="176" y="504"/>
                    <a:pt x="192" y="488"/>
                  </a:cubicBezTo>
                  <a:cubicBezTo>
                    <a:pt x="208" y="472"/>
                    <a:pt x="224" y="192"/>
                    <a:pt x="240" y="200"/>
                  </a:cubicBezTo>
                  <a:cubicBezTo>
                    <a:pt x="256" y="208"/>
                    <a:pt x="272" y="528"/>
                    <a:pt x="288" y="536"/>
                  </a:cubicBezTo>
                  <a:cubicBezTo>
                    <a:pt x="304" y="544"/>
                    <a:pt x="320" y="216"/>
                    <a:pt x="336" y="248"/>
                  </a:cubicBezTo>
                  <a:cubicBezTo>
                    <a:pt x="352" y="280"/>
                    <a:pt x="368" y="688"/>
                    <a:pt x="384" y="728"/>
                  </a:cubicBezTo>
                  <a:cubicBezTo>
                    <a:pt x="400" y="768"/>
                    <a:pt x="416" y="512"/>
                    <a:pt x="432" y="488"/>
                  </a:cubicBezTo>
                  <a:cubicBezTo>
                    <a:pt x="448" y="464"/>
                    <a:pt x="464" y="592"/>
                    <a:pt x="480" y="584"/>
                  </a:cubicBezTo>
                  <a:cubicBezTo>
                    <a:pt x="496" y="576"/>
                    <a:pt x="512" y="440"/>
                    <a:pt x="528" y="440"/>
                  </a:cubicBezTo>
                  <a:cubicBezTo>
                    <a:pt x="544" y="440"/>
                    <a:pt x="560" y="632"/>
                    <a:pt x="576" y="584"/>
                  </a:cubicBezTo>
                  <a:cubicBezTo>
                    <a:pt x="592" y="536"/>
                    <a:pt x="608" y="216"/>
                    <a:pt x="624" y="152"/>
                  </a:cubicBezTo>
                  <a:cubicBezTo>
                    <a:pt x="640" y="88"/>
                    <a:pt x="656" y="216"/>
                    <a:pt x="672" y="200"/>
                  </a:cubicBezTo>
                  <a:cubicBezTo>
                    <a:pt x="688" y="184"/>
                    <a:pt x="704" y="8"/>
                    <a:pt x="720" y="56"/>
                  </a:cubicBezTo>
                  <a:cubicBezTo>
                    <a:pt x="736" y="104"/>
                    <a:pt x="752" y="416"/>
                    <a:pt x="768" y="488"/>
                  </a:cubicBezTo>
                  <a:cubicBezTo>
                    <a:pt x="784" y="560"/>
                    <a:pt x="800" y="456"/>
                    <a:pt x="816" y="488"/>
                  </a:cubicBezTo>
                  <a:cubicBezTo>
                    <a:pt x="832" y="520"/>
                    <a:pt x="848" y="688"/>
                    <a:pt x="864" y="680"/>
                  </a:cubicBezTo>
                  <a:cubicBezTo>
                    <a:pt x="880" y="672"/>
                    <a:pt x="896" y="464"/>
                    <a:pt x="912" y="440"/>
                  </a:cubicBezTo>
                  <a:cubicBezTo>
                    <a:pt x="928" y="416"/>
                    <a:pt x="944" y="576"/>
                    <a:pt x="960" y="536"/>
                  </a:cubicBezTo>
                  <a:cubicBezTo>
                    <a:pt x="976" y="496"/>
                    <a:pt x="992" y="240"/>
                    <a:pt x="1008" y="200"/>
                  </a:cubicBezTo>
                  <a:cubicBezTo>
                    <a:pt x="1024" y="160"/>
                    <a:pt x="1040" y="232"/>
                    <a:pt x="1056" y="296"/>
                  </a:cubicBezTo>
                  <a:cubicBezTo>
                    <a:pt x="1072" y="360"/>
                    <a:pt x="1088" y="528"/>
                    <a:pt x="1104" y="584"/>
                  </a:cubicBezTo>
                  <a:cubicBezTo>
                    <a:pt x="1120" y="640"/>
                    <a:pt x="1136" y="720"/>
                    <a:pt x="1152" y="632"/>
                  </a:cubicBezTo>
                  <a:cubicBezTo>
                    <a:pt x="1168" y="544"/>
                    <a:pt x="1184" y="48"/>
                    <a:pt x="1200" y="56"/>
                  </a:cubicBezTo>
                  <a:cubicBezTo>
                    <a:pt x="1216" y="64"/>
                    <a:pt x="1232" y="592"/>
                    <a:pt x="1248" y="680"/>
                  </a:cubicBezTo>
                  <a:cubicBezTo>
                    <a:pt x="1264" y="768"/>
                    <a:pt x="1280" y="576"/>
                    <a:pt x="1296" y="584"/>
                  </a:cubicBezTo>
                  <a:cubicBezTo>
                    <a:pt x="1312" y="592"/>
                    <a:pt x="1328" y="744"/>
                    <a:pt x="1344" y="728"/>
                  </a:cubicBezTo>
                  <a:cubicBezTo>
                    <a:pt x="1360" y="712"/>
                    <a:pt x="1376" y="520"/>
                    <a:pt x="1392" y="488"/>
                  </a:cubicBezTo>
                  <a:cubicBezTo>
                    <a:pt x="1408" y="456"/>
                    <a:pt x="1424" y="568"/>
                    <a:pt x="1440" y="536"/>
                  </a:cubicBezTo>
                  <a:cubicBezTo>
                    <a:pt x="1456" y="504"/>
                    <a:pt x="1472" y="320"/>
                    <a:pt x="1488" y="296"/>
                  </a:cubicBezTo>
                  <a:cubicBezTo>
                    <a:pt x="1504" y="272"/>
                    <a:pt x="1528" y="376"/>
                    <a:pt x="1536" y="392"/>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762120" y="1413000"/>
              <a:ext cx="79246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telephone is hearing aid compatible if it provides </a:t>
              </a:r>
              <a:r>
                <a:rPr b="1" i="1" lang="en-US" sz="1800" spc="-1" strike="noStrike">
                  <a:solidFill>
                    <a:srgbClr val="000000"/>
                  </a:solidFill>
                  <a:latin typeface="Arial"/>
                </a:rPr>
                <a:t>internal</a:t>
              </a:r>
              <a:r>
                <a:rPr b="1" lang="en-US" sz="1800" spc="-1" strike="noStrike">
                  <a:solidFill>
                    <a:srgbClr val="000000"/>
                  </a:solidFill>
                  <a:latin typeface="Arial"/>
                </a:rPr>
                <a:t> means (i.e., without the use of external devices) for effective use with hearing aids that are designed to be compatible with telephones that meet the FCC's technical standard for hearing aid compatibility (the technical standard is codified at 47 C.F.R. § 68.316). This is usually accomplished by inserting a telecoil in telephones that detects, or is compatible with, a similar telecoil in the hearing aid, and thus allows the hearing aid to "couple" with the telephone through an electromagnetic field.</a:t>
              </a:r>
              <a:endParaRPr b="0" lang="en-US" sz="1800" spc="-1" strike="noStrike">
                <a:solidFill>
                  <a:srgbClr val="000000"/>
                </a:solidFill>
                <a:latin typeface="Times New Roman"/>
              </a:endParaRPr>
            </a:p>
          </p:txBody>
        </p:sp>
        <p:sp>
          <p:nvSpPr>
            <p:cNvPr id="791" name=""/>
            <p:cNvSpPr/>
            <p:nvPr/>
          </p:nvSpPr>
          <p:spPr>
            <a:xfrm>
              <a:off x="5351400" y="6273720"/>
              <a:ext cx="3082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fcc.gov/Bureaus/Common_Carrier/FAQ/faq_hac.html</a:t>
              </a: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2" name=""/>
          <p:cNvGrpSpPr/>
          <p:nvPr/>
        </p:nvGrpSpPr>
        <p:grpSpPr>
          <a:xfrm>
            <a:off x="1066680" y="838080"/>
            <a:ext cx="7269120" cy="5441760"/>
            <a:chOff x="1066680" y="838080"/>
            <a:chExt cx="7269120" cy="5441760"/>
          </a:xfrm>
        </p:grpSpPr>
        <p:sp>
          <p:nvSpPr>
            <p:cNvPr id="793" name=""/>
            <p:cNvSpPr/>
            <p:nvPr/>
          </p:nvSpPr>
          <p:spPr>
            <a:xfrm>
              <a:off x="3026880" y="1692360"/>
              <a:ext cx="4663080" cy="4486320"/>
            </a:xfrm>
            <a:prstGeom prst="ellipse">
              <a:avLst/>
            </a:prstGeom>
            <a:gradFill rotWithShape="0">
              <a:gsLst>
                <a:gs pos="0">
                  <a:srgbClr val="ff0000"/>
                </a:gs>
                <a:gs pos="100000">
                  <a:srgbClr val="fefefe"/>
                </a:gs>
              </a:gsLst>
              <a:path path="rect">
                <a:fillToRect l="50000" t="50000" r="50000" b="50000"/>
              </a:path>
            </a:grad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2606400" y="3382560"/>
              <a:ext cx="2753280" cy="2796480"/>
            </a:xfrm>
            <a:prstGeom prst="ellipse">
              <a:avLst/>
            </a:prstGeom>
            <a:gradFill rotWithShape="0">
              <a:gsLst>
                <a:gs pos="0">
                  <a:srgbClr val="ff0000"/>
                </a:gs>
                <a:gs pos="100000">
                  <a:srgbClr val="fefefe"/>
                </a:gs>
              </a:gsLst>
              <a:path path="rect">
                <a:fillToRect l="50000" t="50000" r="50000" b="50000"/>
              </a:path>
            </a:grad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1066680" y="3543840"/>
              <a:ext cx="2693520" cy="2736000"/>
            </a:xfrm>
            <a:prstGeom prst="ellipse">
              <a:avLst/>
            </a:prstGeom>
            <a:gradFill rotWithShape="0">
              <a:gsLst>
                <a:gs pos="0">
                  <a:srgbClr val="ff0000"/>
                </a:gs>
                <a:gs pos="100000">
                  <a:srgbClr val="fefefe"/>
                </a:gs>
              </a:gsLst>
              <a:path path="rect">
                <a:fillToRect l="50000" t="50000" r="50000" b="50000"/>
              </a:path>
            </a:gradFill>
            <a:ln w="76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ectromagneti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ise fro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 sources</a:t>
              </a:r>
              <a:endParaRPr b="0" lang="en-US" sz="1400" spc="-1" strike="noStrike">
                <a:solidFill>
                  <a:srgbClr val="000000"/>
                </a:solidFill>
                <a:latin typeface="Times New Roman"/>
              </a:endParaRPr>
            </a:p>
          </p:txBody>
        </p:sp>
        <p:sp>
          <p:nvSpPr>
            <p:cNvPr id="796" name=""/>
            <p:cNvSpPr/>
            <p:nvPr/>
          </p:nvSpPr>
          <p:spPr>
            <a:xfrm>
              <a:off x="3657960" y="2431440"/>
              <a:ext cx="210240" cy="186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3587760" y="2591640"/>
              <a:ext cx="838440" cy="3445200"/>
            </a:xfrm>
            <a:custGeom>
              <a:avLst/>
              <a:gdLst>
                <a:gd name="textAreaLeft" fmla="*/ 40680 w 838440"/>
                <a:gd name="textAreaRight" fmla="*/ 797760 w 838440"/>
                <a:gd name="textAreaTop" fmla="*/ 40680 h 3445200"/>
                <a:gd name="textAreaBottom" fmla="*/ 3404520 h 3445200"/>
              </a:gdLst>
              <a:ahLst/>
              <a:rect l="textAreaLeft" t="textAreaTop" r="textAreaRight" b="textAreaBottom"/>
              <a:pathLst>
                <a:path w="21600" h="88727">
                  <a:moveTo>
                    <a:pt x="3600" y="0"/>
                  </a:moveTo>
                  <a:arcTo wR="3600" hR="3600" stAng="16200000" swAng="-5400000"/>
                  <a:lnTo>
                    <a:pt x="0" y="85127"/>
                  </a:lnTo>
                  <a:arcTo wR="3600" hR="3600" stAng="10800000" swAng="-5400000"/>
                  <a:lnTo>
                    <a:pt x="18000" y="88727"/>
                  </a:lnTo>
                  <a:arcTo wR="3600" hR="3600" stAng="5400000" swAng="-5400000"/>
                  <a:lnTo>
                    <a:pt x="21600" y="3600"/>
                  </a:lnTo>
                  <a:arcTo wR="3600" hR="3600" stAng="0" swAng="-5400000"/>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8" name=""/>
            <p:cNvGrpSpPr/>
            <p:nvPr/>
          </p:nvGrpSpPr>
          <p:grpSpPr>
            <a:xfrm>
              <a:off x="4078800" y="2902680"/>
              <a:ext cx="347400" cy="925920"/>
              <a:chOff x="4078800" y="2902680"/>
              <a:chExt cx="347400" cy="925920"/>
            </a:xfrm>
          </p:grpSpPr>
          <p:sp>
            <p:nvSpPr>
              <p:cNvPr id="799" name=""/>
              <p:cNvSpPr/>
              <p:nvPr/>
            </p:nvSpPr>
            <p:spPr>
              <a:xfrm rot="5400000">
                <a:off x="3754440" y="3263760"/>
                <a:ext cx="852120" cy="203760"/>
              </a:xfrm>
              <a:custGeom>
                <a:avLst/>
                <a:gdLst/>
                <a:ahLst/>
                <a:rect l="l" t="t" r="r" b="b"/>
                <a:pathLst>
                  <a:path w="2160" h="624">
                    <a:moveTo>
                      <a:pt x="0" y="0"/>
                    </a:moveTo>
                    <a:lnTo>
                      <a:pt x="624" y="0"/>
                    </a:lnTo>
                    <a:lnTo>
                      <a:pt x="624" y="528"/>
                    </a:lnTo>
                    <a:lnTo>
                      <a:pt x="816" y="528"/>
                    </a:lnTo>
                    <a:lnTo>
                      <a:pt x="816" y="96"/>
                    </a:lnTo>
                    <a:lnTo>
                      <a:pt x="1344" y="96"/>
                    </a:lnTo>
                    <a:lnTo>
                      <a:pt x="1344" y="528"/>
                    </a:lnTo>
                    <a:lnTo>
                      <a:pt x="1536" y="528"/>
                    </a:lnTo>
                    <a:lnTo>
                      <a:pt x="1536" y="0"/>
                    </a:lnTo>
                    <a:lnTo>
                      <a:pt x="2160" y="0"/>
                    </a:lnTo>
                    <a:lnTo>
                      <a:pt x="2160" y="624"/>
                    </a:lnTo>
                    <a:lnTo>
                      <a:pt x="0" y="624"/>
                    </a:lnTo>
                    <a:lnTo>
                      <a:pt x="0" y="0"/>
                    </a:lnTo>
                    <a:close/>
                  </a:path>
                </a:pathLst>
              </a:custGeom>
              <a:gradFill rotWithShape="0">
                <a:gsLst>
                  <a:gs pos="0">
                    <a:srgbClr val="000000"/>
                  </a:gs>
                  <a:gs pos="100000">
                    <a:srgbClr val="ffffff"/>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rot="5400000">
                <a:off x="4101120" y="3262320"/>
                <a:ext cx="265320" cy="200160"/>
              </a:xfrm>
              <a:prstGeom prst="rect">
                <a:avLst/>
              </a:prstGeom>
              <a:gradFill rotWithShape="0">
                <a:gsLst>
                  <a:gs pos="0">
                    <a:srgbClr val="ffff00"/>
                  </a:gs>
                  <a:gs pos="100000">
                    <a:srgbClr val="ffffff"/>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1" name=""/>
              <p:cNvGrpSpPr/>
              <p:nvPr/>
            </p:nvGrpSpPr>
            <p:grpSpPr>
              <a:xfrm>
                <a:off x="4308120" y="2902680"/>
                <a:ext cx="118080" cy="925920"/>
                <a:chOff x="4308120" y="2902680"/>
                <a:chExt cx="118080" cy="925920"/>
              </a:xfrm>
            </p:grpSpPr>
            <p:grpSp>
              <p:nvGrpSpPr>
                <p:cNvPr id="802" name=""/>
                <p:cNvGrpSpPr/>
                <p:nvPr/>
              </p:nvGrpSpPr>
              <p:grpSpPr>
                <a:xfrm>
                  <a:off x="4308120" y="3218040"/>
                  <a:ext cx="52200" cy="295200"/>
                  <a:chOff x="4308120" y="3218040"/>
                  <a:chExt cx="52200" cy="295200"/>
                </a:xfrm>
              </p:grpSpPr>
              <p:sp>
                <p:nvSpPr>
                  <p:cNvPr id="803" name=""/>
                  <p:cNvSpPr/>
                  <p:nvPr/>
                </p:nvSpPr>
                <p:spPr>
                  <a:xfrm rot="5400000">
                    <a:off x="4186440" y="3339360"/>
                    <a:ext cx="295200" cy="5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804" name=""/>
                  <p:cNvSpPr/>
                  <p:nvPr/>
                </p:nvSpPr>
                <p:spPr>
                  <a:xfrm flipH="1" rot="5400000">
                    <a:off x="4186440" y="3339000"/>
                    <a:ext cx="294480" cy="5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sp>
              <p:nvSpPr>
                <p:cNvPr id="805" name=""/>
                <p:cNvSpPr/>
                <p:nvPr/>
              </p:nvSpPr>
              <p:spPr>
                <a:xfrm>
                  <a:off x="4334400" y="3513600"/>
                  <a:ext cx="91800" cy="315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flipV="1">
                  <a:off x="4334400" y="2902680"/>
                  <a:ext cx="91800" cy="315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7" name=""/>
              <p:cNvGrpSpPr/>
              <p:nvPr/>
            </p:nvGrpSpPr>
            <p:grpSpPr>
              <a:xfrm>
                <a:off x="4152240" y="2902680"/>
                <a:ext cx="160560" cy="630000"/>
                <a:chOff x="4152240" y="2902680"/>
                <a:chExt cx="160560" cy="630000"/>
              </a:xfrm>
            </p:grpSpPr>
            <p:sp>
              <p:nvSpPr>
                <p:cNvPr id="808" name=""/>
                <p:cNvSpPr/>
                <p:nvPr/>
              </p:nvSpPr>
              <p:spPr>
                <a:xfrm flipH="1">
                  <a:off x="4261320" y="3199320"/>
                  <a:ext cx="36000" cy="33336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flipH="1">
                  <a:off x="4224600" y="3199320"/>
                  <a:ext cx="36360" cy="33336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flipH="1">
                  <a:off x="4187880" y="3199320"/>
                  <a:ext cx="36360" cy="33336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flipH="1">
                  <a:off x="4152240" y="3199320"/>
                  <a:ext cx="36000" cy="33336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flipV="1">
                  <a:off x="4297680" y="2902680"/>
                  <a:ext cx="0" cy="29628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flipV="1">
                  <a:off x="4312800" y="2902680"/>
                  <a:ext cx="0" cy="29628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14" name=""/>
            <p:cNvGrpSpPr/>
            <p:nvPr/>
          </p:nvGrpSpPr>
          <p:grpSpPr>
            <a:xfrm>
              <a:off x="6182640" y="2404800"/>
              <a:ext cx="803160" cy="1779840"/>
              <a:chOff x="6182640" y="2404800"/>
              <a:chExt cx="803160" cy="1779840"/>
            </a:xfrm>
          </p:grpSpPr>
          <p:grpSp>
            <p:nvGrpSpPr>
              <p:cNvPr id="815" name=""/>
              <p:cNvGrpSpPr/>
              <p:nvPr/>
            </p:nvGrpSpPr>
            <p:grpSpPr>
              <a:xfrm>
                <a:off x="6182640" y="2404800"/>
                <a:ext cx="768600" cy="1779840"/>
                <a:chOff x="6182640" y="2404800"/>
                <a:chExt cx="768600" cy="1779840"/>
              </a:xfrm>
            </p:grpSpPr>
            <p:grpSp>
              <p:nvGrpSpPr>
                <p:cNvPr id="816" name=""/>
                <p:cNvGrpSpPr/>
                <p:nvPr/>
              </p:nvGrpSpPr>
              <p:grpSpPr>
                <a:xfrm>
                  <a:off x="6182640" y="2404800"/>
                  <a:ext cx="768600" cy="1779840"/>
                  <a:chOff x="6182640" y="2404800"/>
                  <a:chExt cx="768600" cy="1779840"/>
                </a:xfrm>
              </p:grpSpPr>
              <p:sp>
                <p:nvSpPr>
                  <p:cNvPr id="817" name=""/>
                  <p:cNvSpPr/>
                  <p:nvPr/>
                </p:nvSpPr>
                <p:spPr>
                  <a:xfrm>
                    <a:off x="6182640" y="2404800"/>
                    <a:ext cx="767520" cy="1778400"/>
                  </a:xfrm>
                  <a:custGeom>
                    <a:avLst/>
                    <a:gdLst/>
                    <a:ahLst/>
                    <a:rect l="l" t="t" r="r" b="b"/>
                    <a:pathLst>
                      <a:path w="2588" h="3407">
                        <a:moveTo>
                          <a:pt x="2566" y="2727"/>
                        </a:moveTo>
                        <a:lnTo>
                          <a:pt x="2492" y="2590"/>
                        </a:lnTo>
                        <a:lnTo>
                          <a:pt x="2409" y="2467"/>
                        </a:lnTo>
                        <a:lnTo>
                          <a:pt x="2314" y="2350"/>
                        </a:lnTo>
                        <a:lnTo>
                          <a:pt x="2240" y="2171"/>
                        </a:lnTo>
                        <a:lnTo>
                          <a:pt x="2197" y="1930"/>
                        </a:lnTo>
                        <a:lnTo>
                          <a:pt x="2166" y="1697"/>
                        </a:lnTo>
                        <a:lnTo>
                          <a:pt x="2134" y="1454"/>
                        </a:lnTo>
                        <a:lnTo>
                          <a:pt x="2113" y="1181"/>
                        </a:lnTo>
                        <a:lnTo>
                          <a:pt x="2134" y="970"/>
                        </a:lnTo>
                        <a:lnTo>
                          <a:pt x="2102" y="741"/>
                        </a:lnTo>
                        <a:lnTo>
                          <a:pt x="2060" y="541"/>
                        </a:lnTo>
                        <a:lnTo>
                          <a:pt x="2009" y="361"/>
                        </a:lnTo>
                        <a:lnTo>
                          <a:pt x="1956" y="236"/>
                        </a:lnTo>
                        <a:lnTo>
                          <a:pt x="1840" y="201"/>
                        </a:lnTo>
                        <a:lnTo>
                          <a:pt x="1755" y="164"/>
                        </a:lnTo>
                        <a:lnTo>
                          <a:pt x="1671" y="106"/>
                        </a:lnTo>
                        <a:lnTo>
                          <a:pt x="1572" y="63"/>
                        </a:lnTo>
                        <a:lnTo>
                          <a:pt x="1450" y="32"/>
                        </a:lnTo>
                        <a:lnTo>
                          <a:pt x="1294" y="11"/>
                        </a:lnTo>
                        <a:lnTo>
                          <a:pt x="1140" y="0"/>
                        </a:lnTo>
                        <a:lnTo>
                          <a:pt x="987" y="11"/>
                        </a:lnTo>
                        <a:lnTo>
                          <a:pt x="835" y="37"/>
                        </a:lnTo>
                        <a:lnTo>
                          <a:pt x="693" y="79"/>
                        </a:lnTo>
                        <a:lnTo>
                          <a:pt x="578" y="137"/>
                        </a:lnTo>
                        <a:lnTo>
                          <a:pt x="453" y="222"/>
                        </a:lnTo>
                        <a:lnTo>
                          <a:pt x="337" y="326"/>
                        </a:lnTo>
                        <a:lnTo>
                          <a:pt x="252" y="431"/>
                        </a:lnTo>
                        <a:lnTo>
                          <a:pt x="170" y="569"/>
                        </a:lnTo>
                        <a:lnTo>
                          <a:pt x="111" y="685"/>
                        </a:lnTo>
                        <a:lnTo>
                          <a:pt x="69" y="785"/>
                        </a:lnTo>
                        <a:lnTo>
                          <a:pt x="32" y="903"/>
                        </a:lnTo>
                        <a:lnTo>
                          <a:pt x="6" y="1009"/>
                        </a:lnTo>
                        <a:lnTo>
                          <a:pt x="0" y="1120"/>
                        </a:lnTo>
                        <a:lnTo>
                          <a:pt x="22" y="1305"/>
                        </a:lnTo>
                        <a:lnTo>
                          <a:pt x="59" y="1467"/>
                        </a:lnTo>
                        <a:lnTo>
                          <a:pt x="74" y="1620"/>
                        </a:lnTo>
                        <a:lnTo>
                          <a:pt x="101" y="1708"/>
                        </a:lnTo>
                        <a:lnTo>
                          <a:pt x="154" y="1782"/>
                        </a:lnTo>
                        <a:lnTo>
                          <a:pt x="221" y="1866"/>
                        </a:lnTo>
                        <a:lnTo>
                          <a:pt x="279" y="1956"/>
                        </a:lnTo>
                        <a:lnTo>
                          <a:pt x="342" y="2034"/>
                        </a:lnTo>
                        <a:lnTo>
                          <a:pt x="421" y="2129"/>
                        </a:lnTo>
                        <a:lnTo>
                          <a:pt x="522" y="2271"/>
                        </a:lnTo>
                        <a:lnTo>
                          <a:pt x="621" y="2400"/>
                        </a:lnTo>
                        <a:lnTo>
                          <a:pt x="714" y="2516"/>
                        </a:lnTo>
                        <a:lnTo>
                          <a:pt x="783" y="2595"/>
                        </a:lnTo>
                        <a:lnTo>
                          <a:pt x="846" y="2694"/>
                        </a:lnTo>
                        <a:lnTo>
                          <a:pt x="901" y="2777"/>
                        </a:lnTo>
                        <a:lnTo>
                          <a:pt x="931" y="2836"/>
                        </a:lnTo>
                        <a:lnTo>
                          <a:pt x="976" y="2884"/>
                        </a:lnTo>
                        <a:lnTo>
                          <a:pt x="1035" y="2924"/>
                        </a:lnTo>
                        <a:lnTo>
                          <a:pt x="1119" y="2954"/>
                        </a:lnTo>
                        <a:lnTo>
                          <a:pt x="1230" y="2991"/>
                        </a:lnTo>
                        <a:lnTo>
                          <a:pt x="1329" y="3034"/>
                        </a:lnTo>
                        <a:lnTo>
                          <a:pt x="1419" y="3086"/>
                        </a:lnTo>
                        <a:lnTo>
                          <a:pt x="1514" y="3159"/>
                        </a:lnTo>
                        <a:lnTo>
                          <a:pt x="1625" y="3248"/>
                        </a:lnTo>
                        <a:lnTo>
                          <a:pt x="1708" y="3312"/>
                        </a:lnTo>
                        <a:lnTo>
                          <a:pt x="1787" y="3359"/>
                        </a:lnTo>
                        <a:lnTo>
                          <a:pt x="1850" y="3391"/>
                        </a:lnTo>
                        <a:lnTo>
                          <a:pt x="1930" y="3407"/>
                        </a:lnTo>
                        <a:lnTo>
                          <a:pt x="2012" y="3402"/>
                        </a:lnTo>
                        <a:lnTo>
                          <a:pt x="2069" y="3380"/>
                        </a:lnTo>
                        <a:lnTo>
                          <a:pt x="2132" y="3338"/>
                        </a:lnTo>
                        <a:lnTo>
                          <a:pt x="2180" y="3296"/>
                        </a:lnTo>
                        <a:lnTo>
                          <a:pt x="2248" y="3217"/>
                        </a:lnTo>
                        <a:lnTo>
                          <a:pt x="2322" y="3107"/>
                        </a:lnTo>
                        <a:lnTo>
                          <a:pt x="2386" y="3018"/>
                        </a:lnTo>
                        <a:lnTo>
                          <a:pt x="2453" y="2938"/>
                        </a:lnTo>
                        <a:lnTo>
                          <a:pt x="2493" y="2909"/>
                        </a:lnTo>
                        <a:lnTo>
                          <a:pt x="2534" y="2887"/>
                        </a:lnTo>
                        <a:lnTo>
                          <a:pt x="2588" y="2873"/>
                        </a:lnTo>
                        <a:lnTo>
                          <a:pt x="2566" y="2727"/>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6182640" y="2404800"/>
                    <a:ext cx="768600" cy="1779840"/>
                  </a:xfrm>
                  <a:custGeom>
                    <a:avLst/>
                    <a:gdLst/>
                    <a:ahLst/>
                    <a:rect l="l" t="t" r="r" b="b"/>
                    <a:pathLst>
                      <a:path w="2592" h="3410">
                        <a:moveTo>
                          <a:pt x="1958" y="232"/>
                        </a:moveTo>
                        <a:lnTo>
                          <a:pt x="1841" y="201"/>
                        </a:lnTo>
                        <a:lnTo>
                          <a:pt x="1757" y="164"/>
                        </a:lnTo>
                        <a:lnTo>
                          <a:pt x="1672" y="106"/>
                        </a:lnTo>
                        <a:lnTo>
                          <a:pt x="1574" y="63"/>
                        </a:lnTo>
                        <a:lnTo>
                          <a:pt x="1452" y="32"/>
                        </a:lnTo>
                        <a:lnTo>
                          <a:pt x="1295" y="11"/>
                        </a:lnTo>
                        <a:lnTo>
                          <a:pt x="1142" y="0"/>
                        </a:lnTo>
                        <a:lnTo>
                          <a:pt x="989" y="11"/>
                        </a:lnTo>
                        <a:lnTo>
                          <a:pt x="837" y="37"/>
                        </a:lnTo>
                        <a:lnTo>
                          <a:pt x="695" y="79"/>
                        </a:lnTo>
                        <a:lnTo>
                          <a:pt x="578" y="137"/>
                        </a:lnTo>
                        <a:lnTo>
                          <a:pt x="453" y="222"/>
                        </a:lnTo>
                        <a:lnTo>
                          <a:pt x="337" y="326"/>
                        </a:lnTo>
                        <a:lnTo>
                          <a:pt x="252" y="431"/>
                        </a:lnTo>
                        <a:lnTo>
                          <a:pt x="170" y="569"/>
                        </a:lnTo>
                        <a:lnTo>
                          <a:pt x="111" y="685"/>
                        </a:lnTo>
                        <a:lnTo>
                          <a:pt x="69" y="785"/>
                        </a:lnTo>
                        <a:lnTo>
                          <a:pt x="32" y="905"/>
                        </a:lnTo>
                        <a:lnTo>
                          <a:pt x="6" y="1011"/>
                        </a:lnTo>
                        <a:lnTo>
                          <a:pt x="0" y="1122"/>
                        </a:lnTo>
                        <a:lnTo>
                          <a:pt x="22" y="1306"/>
                        </a:lnTo>
                        <a:lnTo>
                          <a:pt x="59" y="1468"/>
                        </a:lnTo>
                        <a:lnTo>
                          <a:pt x="74" y="1622"/>
                        </a:lnTo>
                        <a:lnTo>
                          <a:pt x="101" y="1710"/>
                        </a:lnTo>
                        <a:lnTo>
                          <a:pt x="154" y="1784"/>
                        </a:lnTo>
                        <a:lnTo>
                          <a:pt x="221" y="1868"/>
                        </a:lnTo>
                        <a:lnTo>
                          <a:pt x="279" y="1958"/>
                        </a:lnTo>
                        <a:lnTo>
                          <a:pt x="342" y="2035"/>
                        </a:lnTo>
                        <a:lnTo>
                          <a:pt x="421" y="2130"/>
                        </a:lnTo>
                        <a:lnTo>
                          <a:pt x="522" y="2273"/>
                        </a:lnTo>
                        <a:lnTo>
                          <a:pt x="621" y="2402"/>
                        </a:lnTo>
                        <a:lnTo>
                          <a:pt x="716" y="2518"/>
                        </a:lnTo>
                        <a:lnTo>
                          <a:pt x="784" y="2599"/>
                        </a:lnTo>
                        <a:lnTo>
                          <a:pt x="848" y="2697"/>
                        </a:lnTo>
                        <a:lnTo>
                          <a:pt x="902" y="2780"/>
                        </a:lnTo>
                        <a:lnTo>
                          <a:pt x="932" y="2840"/>
                        </a:lnTo>
                        <a:lnTo>
                          <a:pt x="978" y="2887"/>
                        </a:lnTo>
                        <a:lnTo>
                          <a:pt x="1036" y="2928"/>
                        </a:lnTo>
                        <a:lnTo>
                          <a:pt x="1121" y="2958"/>
                        </a:lnTo>
                        <a:lnTo>
                          <a:pt x="1232" y="2995"/>
                        </a:lnTo>
                        <a:lnTo>
                          <a:pt x="1331" y="3037"/>
                        </a:lnTo>
                        <a:lnTo>
                          <a:pt x="1420" y="3090"/>
                        </a:lnTo>
                        <a:lnTo>
                          <a:pt x="1516" y="3162"/>
                        </a:lnTo>
                        <a:lnTo>
                          <a:pt x="1627" y="3252"/>
                        </a:lnTo>
                        <a:lnTo>
                          <a:pt x="1709" y="3315"/>
                        </a:lnTo>
                        <a:lnTo>
                          <a:pt x="1789" y="3363"/>
                        </a:lnTo>
                        <a:lnTo>
                          <a:pt x="1852" y="3394"/>
                        </a:lnTo>
                        <a:lnTo>
                          <a:pt x="1931" y="3410"/>
                        </a:lnTo>
                        <a:lnTo>
                          <a:pt x="2016" y="3405"/>
                        </a:lnTo>
                        <a:lnTo>
                          <a:pt x="2072" y="3384"/>
                        </a:lnTo>
                        <a:lnTo>
                          <a:pt x="2136" y="3342"/>
                        </a:lnTo>
                        <a:lnTo>
                          <a:pt x="2183" y="3299"/>
                        </a:lnTo>
                        <a:lnTo>
                          <a:pt x="2252" y="3220"/>
                        </a:lnTo>
                        <a:lnTo>
                          <a:pt x="2326" y="3111"/>
                        </a:lnTo>
                        <a:lnTo>
                          <a:pt x="2389" y="3021"/>
                        </a:lnTo>
                        <a:lnTo>
                          <a:pt x="2456" y="2942"/>
                        </a:lnTo>
                        <a:lnTo>
                          <a:pt x="2497" y="2912"/>
                        </a:lnTo>
                        <a:lnTo>
                          <a:pt x="2537" y="2891"/>
                        </a:lnTo>
                        <a:lnTo>
                          <a:pt x="2592" y="287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9" name=""/>
                <p:cNvGrpSpPr/>
                <p:nvPr/>
              </p:nvGrpSpPr>
              <p:grpSpPr>
                <a:xfrm>
                  <a:off x="6254280" y="2590920"/>
                  <a:ext cx="527400" cy="1110240"/>
                  <a:chOff x="6254280" y="2590920"/>
                  <a:chExt cx="527400" cy="1110240"/>
                </a:xfrm>
              </p:grpSpPr>
              <p:grpSp>
                <p:nvGrpSpPr>
                  <p:cNvPr id="820" name=""/>
                  <p:cNvGrpSpPr/>
                  <p:nvPr/>
                </p:nvGrpSpPr>
                <p:grpSpPr>
                  <a:xfrm>
                    <a:off x="6254280" y="2590920"/>
                    <a:ext cx="526680" cy="1108440"/>
                    <a:chOff x="6254280" y="2590920"/>
                    <a:chExt cx="526680" cy="1108440"/>
                  </a:xfrm>
                </p:grpSpPr>
                <p:sp>
                  <p:nvSpPr>
                    <p:cNvPr id="821" name=""/>
                    <p:cNvSpPr/>
                    <p:nvPr/>
                  </p:nvSpPr>
                  <p:spPr>
                    <a:xfrm>
                      <a:off x="6451200" y="2590920"/>
                      <a:ext cx="207720" cy="242640"/>
                    </a:xfrm>
                    <a:custGeom>
                      <a:avLst/>
                      <a:gdLst/>
                      <a:ahLst/>
                      <a:rect l="l" t="t" r="r" b="b"/>
                      <a:pathLst>
                        <a:path w="701" h="465">
                          <a:moveTo>
                            <a:pt x="648" y="465"/>
                          </a:moveTo>
                          <a:lnTo>
                            <a:pt x="622" y="375"/>
                          </a:lnTo>
                          <a:lnTo>
                            <a:pt x="590" y="319"/>
                          </a:lnTo>
                          <a:lnTo>
                            <a:pt x="553" y="277"/>
                          </a:lnTo>
                          <a:lnTo>
                            <a:pt x="491" y="250"/>
                          </a:lnTo>
                          <a:lnTo>
                            <a:pt x="402" y="240"/>
                          </a:lnTo>
                          <a:lnTo>
                            <a:pt x="308" y="229"/>
                          </a:lnTo>
                          <a:lnTo>
                            <a:pt x="162" y="203"/>
                          </a:lnTo>
                          <a:lnTo>
                            <a:pt x="77" y="182"/>
                          </a:lnTo>
                          <a:lnTo>
                            <a:pt x="0" y="157"/>
                          </a:lnTo>
                          <a:lnTo>
                            <a:pt x="141" y="120"/>
                          </a:lnTo>
                          <a:lnTo>
                            <a:pt x="240" y="85"/>
                          </a:lnTo>
                          <a:lnTo>
                            <a:pt x="361" y="27"/>
                          </a:lnTo>
                          <a:lnTo>
                            <a:pt x="465" y="0"/>
                          </a:lnTo>
                          <a:lnTo>
                            <a:pt x="595" y="22"/>
                          </a:lnTo>
                          <a:lnTo>
                            <a:pt x="659" y="59"/>
                          </a:lnTo>
                          <a:lnTo>
                            <a:pt x="691" y="111"/>
                          </a:lnTo>
                          <a:lnTo>
                            <a:pt x="701" y="189"/>
                          </a:lnTo>
                          <a:lnTo>
                            <a:pt x="680" y="284"/>
                          </a:lnTo>
                          <a:lnTo>
                            <a:pt x="664" y="377"/>
                          </a:lnTo>
                          <a:lnTo>
                            <a:pt x="648" y="46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6254280" y="2693160"/>
                      <a:ext cx="158400" cy="528120"/>
                    </a:xfrm>
                    <a:custGeom>
                      <a:avLst/>
                      <a:gdLst/>
                      <a:ahLst/>
                      <a:rect l="l" t="t" r="r" b="b"/>
                      <a:pathLst>
                        <a:path w="534" h="1012">
                          <a:moveTo>
                            <a:pt x="74" y="1012"/>
                          </a:moveTo>
                          <a:lnTo>
                            <a:pt x="37" y="878"/>
                          </a:lnTo>
                          <a:lnTo>
                            <a:pt x="10" y="775"/>
                          </a:lnTo>
                          <a:lnTo>
                            <a:pt x="0" y="639"/>
                          </a:lnTo>
                          <a:lnTo>
                            <a:pt x="5" y="525"/>
                          </a:lnTo>
                          <a:lnTo>
                            <a:pt x="21" y="393"/>
                          </a:lnTo>
                          <a:lnTo>
                            <a:pt x="47" y="297"/>
                          </a:lnTo>
                          <a:lnTo>
                            <a:pt x="79" y="222"/>
                          </a:lnTo>
                          <a:lnTo>
                            <a:pt x="146" y="143"/>
                          </a:lnTo>
                          <a:lnTo>
                            <a:pt x="225" y="84"/>
                          </a:lnTo>
                          <a:lnTo>
                            <a:pt x="313" y="42"/>
                          </a:lnTo>
                          <a:lnTo>
                            <a:pt x="428" y="16"/>
                          </a:lnTo>
                          <a:lnTo>
                            <a:pt x="534" y="0"/>
                          </a:lnTo>
                          <a:lnTo>
                            <a:pt x="449" y="37"/>
                          </a:lnTo>
                          <a:lnTo>
                            <a:pt x="387" y="74"/>
                          </a:lnTo>
                          <a:lnTo>
                            <a:pt x="345" y="106"/>
                          </a:lnTo>
                          <a:lnTo>
                            <a:pt x="294" y="153"/>
                          </a:lnTo>
                          <a:lnTo>
                            <a:pt x="257" y="195"/>
                          </a:lnTo>
                          <a:lnTo>
                            <a:pt x="220" y="253"/>
                          </a:lnTo>
                          <a:lnTo>
                            <a:pt x="178" y="324"/>
                          </a:lnTo>
                          <a:lnTo>
                            <a:pt x="141" y="398"/>
                          </a:lnTo>
                          <a:lnTo>
                            <a:pt x="111" y="482"/>
                          </a:lnTo>
                          <a:lnTo>
                            <a:pt x="90" y="562"/>
                          </a:lnTo>
                          <a:lnTo>
                            <a:pt x="68" y="672"/>
                          </a:lnTo>
                          <a:lnTo>
                            <a:pt x="58" y="776"/>
                          </a:lnTo>
                          <a:lnTo>
                            <a:pt x="74" y="1007"/>
                          </a:lnTo>
                          <a:lnTo>
                            <a:pt x="74" y="101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6661800" y="3106440"/>
                      <a:ext cx="119160" cy="592920"/>
                    </a:xfrm>
                    <a:custGeom>
                      <a:avLst/>
                      <a:gdLst/>
                      <a:ahLst/>
                      <a:rect l="l" t="t" r="r" b="b"/>
                      <a:pathLst>
                        <a:path w="402" h="1136">
                          <a:moveTo>
                            <a:pt x="322" y="4"/>
                          </a:moveTo>
                          <a:lnTo>
                            <a:pt x="359" y="62"/>
                          </a:lnTo>
                          <a:lnTo>
                            <a:pt x="375" y="134"/>
                          </a:lnTo>
                          <a:lnTo>
                            <a:pt x="365" y="218"/>
                          </a:lnTo>
                          <a:lnTo>
                            <a:pt x="338" y="306"/>
                          </a:lnTo>
                          <a:lnTo>
                            <a:pt x="298" y="370"/>
                          </a:lnTo>
                          <a:lnTo>
                            <a:pt x="224" y="433"/>
                          </a:lnTo>
                          <a:lnTo>
                            <a:pt x="171" y="500"/>
                          </a:lnTo>
                          <a:lnTo>
                            <a:pt x="150" y="564"/>
                          </a:lnTo>
                          <a:lnTo>
                            <a:pt x="166" y="643"/>
                          </a:lnTo>
                          <a:lnTo>
                            <a:pt x="208" y="694"/>
                          </a:lnTo>
                          <a:lnTo>
                            <a:pt x="271" y="736"/>
                          </a:lnTo>
                          <a:lnTo>
                            <a:pt x="338" y="794"/>
                          </a:lnTo>
                          <a:lnTo>
                            <a:pt x="381" y="861"/>
                          </a:lnTo>
                          <a:lnTo>
                            <a:pt x="402" y="958"/>
                          </a:lnTo>
                          <a:lnTo>
                            <a:pt x="381" y="1042"/>
                          </a:lnTo>
                          <a:lnTo>
                            <a:pt x="349" y="1099"/>
                          </a:lnTo>
                          <a:lnTo>
                            <a:pt x="282" y="1130"/>
                          </a:lnTo>
                          <a:lnTo>
                            <a:pt x="203" y="1136"/>
                          </a:lnTo>
                          <a:lnTo>
                            <a:pt x="134" y="1115"/>
                          </a:lnTo>
                          <a:lnTo>
                            <a:pt x="56" y="1067"/>
                          </a:lnTo>
                          <a:lnTo>
                            <a:pt x="0" y="1025"/>
                          </a:lnTo>
                          <a:lnTo>
                            <a:pt x="40" y="1023"/>
                          </a:lnTo>
                          <a:lnTo>
                            <a:pt x="81" y="1020"/>
                          </a:lnTo>
                          <a:lnTo>
                            <a:pt x="130" y="1012"/>
                          </a:lnTo>
                          <a:lnTo>
                            <a:pt x="167" y="997"/>
                          </a:lnTo>
                          <a:lnTo>
                            <a:pt x="199" y="970"/>
                          </a:lnTo>
                          <a:lnTo>
                            <a:pt x="225" y="939"/>
                          </a:lnTo>
                          <a:lnTo>
                            <a:pt x="241" y="898"/>
                          </a:lnTo>
                          <a:lnTo>
                            <a:pt x="247" y="854"/>
                          </a:lnTo>
                          <a:lnTo>
                            <a:pt x="241" y="808"/>
                          </a:lnTo>
                          <a:lnTo>
                            <a:pt x="233" y="771"/>
                          </a:lnTo>
                          <a:lnTo>
                            <a:pt x="222" y="745"/>
                          </a:lnTo>
                          <a:lnTo>
                            <a:pt x="199" y="724"/>
                          </a:lnTo>
                          <a:lnTo>
                            <a:pt x="167" y="699"/>
                          </a:lnTo>
                          <a:lnTo>
                            <a:pt x="120" y="660"/>
                          </a:lnTo>
                          <a:lnTo>
                            <a:pt x="95" y="630"/>
                          </a:lnTo>
                          <a:lnTo>
                            <a:pt x="70" y="595"/>
                          </a:lnTo>
                          <a:lnTo>
                            <a:pt x="58" y="551"/>
                          </a:lnTo>
                          <a:lnTo>
                            <a:pt x="55" y="504"/>
                          </a:lnTo>
                          <a:lnTo>
                            <a:pt x="55" y="453"/>
                          </a:lnTo>
                          <a:lnTo>
                            <a:pt x="60" y="409"/>
                          </a:lnTo>
                          <a:lnTo>
                            <a:pt x="79" y="373"/>
                          </a:lnTo>
                          <a:lnTo>
                            <a:pt x="104" y="336"/>
                          </a:lnTo>
                          <a:lnTo>
                            <a:pt x="132" y="305"/>
                          </a:lnTo>
                          <a:lnTo>
                            <a:pt x="169" y="284"/>
                          </a:lnTo>
                          <a:lnTo>
                            <a:pt x="225" y="268"/>
                          </a:lnTo>
                          <a:lnTo>
                            <a:pt x="264" y="252"/>
                          </a:lnTo>
                          <a:lnTo>
                            <a:pt x="301" y="226"/>
                          </a:lnTo>
                          <a:lnTo>
                            <a:pt x="326" y="183"/>
                          </a:lnTo>
                          <a:lnTo>
                            <a:pt x="335" y="143"/>
                          </a:lnTo>
                          <a:lnTo>
                            <a:pt x="340" y="88"/>
                          </a:lnTo>
                          <a:lnTo>
                            <a:pt x="322" y="0"/>
                          </a:lnTo>
                          <a:lnTo>
                            <a:pt x="322" y="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6489720" y="2909880"/>
                      <a:ext cx="141120" cy="289440"/>
                    </a:xfrm>
                    <a:custGeom>
                      <a:avLst/>
                      <a:gdLst/>
                      <a:ahLst/>
                      <a:rect l="l" t="t" r="r" b="b"/>
                      <a:pathLst>
                        <a:path w="476" h="555">
                          <a:moveTo>
                            <a:pt x="474" y="2"/>
                          </a:moveTo>
                          <a:lnTo>
                            <a:pt x="437" y="92"/>
                          </a:lnTo>
                          <a:lnTo>
                            <a:pt x="411" y="143"/>
                          </a:lnTo>
                          <a:lnTo>
                            <a:pt x="381" y="205"/>
                          </a:lnTo>
                          <a:lnTo>
                            <a:pt x="354" y="268"/>
                          </a:lnTo>
                          <a:lnTo>
                            <a:pt x="330" y="321"/>
                          </a:lnTo>
                          <a:lnTo>
                            <a:pt x="302" y="370"/>
                          </a:lnTo>
                          <a:lnTo>
                            <a:pt x="266" y="416"/>
                          </a:lnTo>
                          <a:lnTo>
                            <a:pt x="235" y="460"/>
                          </a:lnTo>
                          <a:lnTo>
                            <a:pt x="214" y="504"/>
                          </a:lnTo>
                          <a:lnTo>
                            <a:pt x="194" y="555"/>
                          </a:lnTo>
                          <a:lnTo>
                            <a:pt x="178" y="514"/>
                          </a:lnTo>
                          <a:lnTo>
                            <a:pt x="162" y="483"/>
                          </a:lnTo>
                          <a:lnTo>
                            <a:pt x="141" y="442"/>
                          </a:lnTo>
                          <a:lnTo>
                            <a:pt x="120" y="412"/>
                          </a:lnTo>
                          <a:lnTo>
                            <a:pt x="95" y="379"/>
                          </a:lnTo>
                          <a:lnTo>
                            <a:pt x="67" y="354"/>
                          </a:lnTo>
                          <a:lnTo>
                            <a:pt x="41" y="337"/>
                          </a:lnTo>
                          <a:lnTo>
                            <a:pt x="0" y="326"/>
                          </a:lnTo>
                          <a:lnTo>
                            <a:pt x="64" y="294"/>
                          </a:lnTo>
                          <a:lnTo>
                            <a:pt x="173" y="247"/>
                          </a:lnTo>
                          <a:lnTo>
                            <a:pt x="266" y="194"/>
                          </a:lnTo>
                          <a:lnTo>
                            <a:pt x="360" y="132"/>
                          </a:lnTo>
                          <a:lnTo>
                            <a:pt x="428" y="69"/>
                          </a:lnTo>
                          <a:lnTo>
                            <a:pt x="476" y="0"/>
                          </a:lnTo>
                          <a:lnTo>
                            <a:pt x="474" y="2"/>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5" name=""/>
                  <p:cNvSpPr/>
                  <p:nvPr/>
                </p:nvSpPr>
                <p:spPr>
                  <a:xfrm>
                    <a:off x="6254280" y="2590920"/>
                    <a:ext cx="527400" cy="1110240"/>
                  </a:xfrm>
                  <a:custGeom>
                    <a:avLst/>
                    <a:gdLst/>
                    <a:ahLst/>
                    <a:rect l="l" t="t" r="r" b="b"/>
                    <a:pathLst>
                      <a:path w="1779" h="2127">
                        <a:moveTo>
                          <a:pt x="1053" y="1222"/>
                        </a:moveTo>
                        <a:lnTo>
                          <a:pt x="1120" y="1138"/>
                        </a:lnTo>
                        <a:lnTo>
                          <a:pt x="1200" y="1064"/>
                        </a:lnTo>
                        <a:lnTo>
                          <a:pt x="1279" y="1008"/>
                        </a:lnTo>
                        <a:lnTo>
                          <a:pt x="1358" y="955"/>
                        </a:lnTo>
                        <a:lnTo>
                          <a:pt x="1422" y="923"/>
                        </a:lnTo>
                        <a:lnTo>
                          <a:pt x="1476" y="907"/>
                        </a:lnTo>
                        <a:lnTo>
                          <a:pt x="1536" y="897"/>
                        </a:lnTo>
                        <a:lnTo>
                          <a:pt x="1605" y="912"/>
                        </a:lnTo>
                        <a:lnTo>
                          <a:pt x="1652" y="939"/>
                        </a:lnTo>
                        <a:lnTo>
                          <a:pt x="1700" y="992"/>
                        </a:lnTo>
                        <a:lnTo>
                          <a:pt x="1737" y="1050"/>
                        </a:lnTo>
                        <a:lnTo>
                          <a:pt x="1753" y="1122"/>
                        </a:lnTo>
                        <a:lnTo>
                          <a:pt x="1742" y="1206"/>
                        </a:lnTo>
                        <a:lnTo>
                          <a:pt x="1716" y="1296"/>
                        </a:lnTo>
                        <a:lnTo>
                          <a:pt x="1673" y="1360"/>
                        </a:lnTo>
                        <a:lnTo>
                          <a:pt x="1599" y="1423"/>
                        </a:lnTo>
                        <a:lnTo>
                          <a:pt x="1547" y="1490"/>
                        </a:lnTo>
                        <a:lnTo>
                          <a:pt x="1525" y="1553"/>
                        </a:lnTo>
                        <a:lnTo>
                          <a:pt x="1541" y="1633"/>
                        </a:lnTo>
                        <a:lnTo>
                          <a:pt x="1584" y="1684"/>
                        </a:lnTo>
                        <a:lnTo>
                          <a:pt x="1647" y="1726"/>
                        </a:lnTo>
                        <a:lnTo>
                          <a:pt x="1716" y="1784"/>
                        </a:lnTo>
                        <a:lnTo>
                          <a:pt x="1758" y="1853"/>
                        </a:lnTo>
                        <a:lnTo>
                          <a:pt x="1779" y="1949"/>
                        </a:lnTo>
                        <a:lnTo>
                          <a:pt x="1758" y="2034"/>
                        </a:lnTo>
                        <a:lnTo>
                          <a:pt x="1726" y="2090"/>
                        </a:lnTo>
                        <a:lnTo>
                          <a:pt x="1658" y="2122"/>
                        </a:lnTo>
                        <a:lnTo>
                          <a:pt x="1578" y="2127"/>
                        </a:lnTo>
                        <a:lnTo>
                          <a:pt x="1510" y="2106"/>
                        </a:lnTo>
                        <a:lnTo>
                          <a:pt x="1430" y="2059"/>
                        </a:lnTo>
                        <a:lnTo>
                          <a:pt x="1374" y="2016"/>
                        </a:lnTo>
                        <a:lnTo>
                          <a:pt x="1307" y="1951"/>
                        </a:lnTo>
                        <a:lnTo>
                          <a:pt x="1242" y="1895"/>
                        </a:lnTo>
                        <a:lnTo>
                          <a:pt x="1175" y="1854"/>
                        </a:lnTo>
                        <a:lnTo>
                          <a:pt x="1096" y="1830"/>
                        </a:lnTo>
                        <a:lnTo>
                          <a:pt x="1011" y="1810"/>
                        </a:lnTo>
                        <a:lnTo>
                          <a:pt x="928" y="1795"/>
                        </a:lnTo>
                        <a:lnTo>
                          <a:pt x="847" y="1779"/>
                        </a:lnTo>
                        <a:lnTo>
                          <a:pt x="780" y="1758"/>
                        </a:lnTo>
                        <a:lnTo>
                          <a:pt x="715" y="1715"/>
                        </a:lnTo>
                        <a:lnTo>
                          <a:pt x="659" y="1652"/>
                        </a:lnTo>
                        <a:lnTo>
                          <a:pt x="616" y="1585"/>
                        </a:lnTo>
                        <a:lnTo>
                          <a:pt x="590" y="1508"/>
                        </a:lnTo>
                        <a:lnTo>
                          <a:pt x="569" y="1390"/>
                        </a:lnTo>
                        <a:lnTo>
                          <a:pt x="574" y="1273"/>
                        </a:lnTo>
                        <a:lnTo>
                          <a:pt x="595" y="1173"/>
                        </a:lnTo>
                        <a:lnTo>
                          <a:pt x="632" y="1090"/>
                        </a:lnTo>
                        <a:lnTo>
                          <a:pt x="676" y="1034"/>
                        </a:lnTo>
                        <a:lnTo>
                          <a:pt x="713" y="993"/>
                        </a:lnTo>
                        <a:lnTo>
                          <a:pt x="763" y="953"/>
                        </a:lnTo>
                        <a:lnTo>
                          <a:pt x="858" y="907"/>
                        </a:lnTo>
                        <a:lnTo>
                          <a:pt x="969" y="860"/>
                        </a:lnTo>
                        <a:lnTo>
                          <a:pt x="1062" y="807"/>
                        </a:lnTo>
                        <a:lnTo>
                          <a:pt x="1157" y="743"/>
                        </a:lnTo>
                        <a:lnTo>
                          <a:pt x="1226" y="680"/>
                        </a:lnTo>
                        <a:lnTo>
                          <a:pt x="1263" y="627"/>
                        </a:lnTo>
                        <a:lnTo>
                          <a:pt x="1277" y="592"/>
                        </a:lnTo>
                        <a:lnTo>
                          <a:pt x="1282" y="560"/>
                        </a:lnTo>
                        <a:lnTo>
                          <a:pt x="1284" y="506"/>
                        </a:lnTo>
                        <a:lnTo>
                          <a:pt x="1256" y="581"/>
                        </a:lnTo>
                        <a:lnTo>
                          <a:pt x="1224" y="624"/>
                        </a:lnTo>
                        <a:lnTo>
                          <a:pt x="1178" y="661"/>
                        </a:lnTo>
                        <a:lnTo>
                          <a:pt x="1129" y="687"/>
                        </a:lnTo>
                        <a:lnTo>
                          <a:pt x="1067" y="706"/>
                        </a:lnTo>
                        <a:lnTo>
                          <a:pt x="990" y="717"/>
                        </a:lnTo>
                        <a:lnTo>
                          <a:pt x="916" y="708"/>
                        </a:lnTo>
                        <a:lnTo>
                          <a:pt x="837" y="701"/>
                        </a:lnTo>
                        <a:lnTo>
                          <a:pt x="761" y="703"/>
                        </a:lnTo>
                        <a:lnTo>
                          <a:pt x="687" y="712"/>
                        </a:lnTo>
                        <a:lnTo>
                          <a:pt x="615" y="728"/>
                        </a:lnTo>
                        <a:lnTo>
                          <a:pt x="527" y="759"/>
                        </a:lnTo>
                        <a:lnTo>
                          <a:pt x="447" y="798"/>
                        </a:lnTo>
                        <a:lnTo>
                          <a:pt x="382" y="840"/>
                        </a:lnTo>
                        <a:lnTo>
                          <a:pt x="326" y="897"/>
                        </a:lnTo>
                        <a:lnTo>
                          <a:pt x="278" y="965"/>
                        </a:lnTo>
                        <a:lnTo>
                          <a:pt x="252" y="1030"/>
                        </a:lnTo>
                        <a:lnTo>
                          <a:pt x="241" y="1096"/>
                        </a:lnTo>
                        <a:lnTo>
                          <a:pt x="253" y="1212"/>
                        </a:lnTo>
                        <a:lnTo>
                          <a:pt x="285" y="1339"/>
                        </a:lnTo>
                        <a:lnTo>
                          <a:pt x="319" y="1428"/>
                        </a:lnTo>
                        <a:lnTo>
                          <a:pt x="359" y="1506"/>
                        </a:lnTo>
                        <a:lnTo>
                          <a:pt x="419" y="1592"/>
                        </a:lnTo>
                        <a:lnTo>
                          <a:pt x="475" y="1654"/>
                        </a:lnTo>
                        <a:lnTo>
                          <a:pt x="542" y="1715"/>
                        </a:lnTo>
                        <a:lnTo>
                          <a:pt x="629" y="1786"/>
                        </a:lnTo>
                        <a:lnTo>
                          <a:pt x="733" y="1849"/>
                        </a:lnTo>
                        <a:lnTo>
                          <a:pt x="837" y="1890"/>
                        </a:lnTo>
                        <a:lnTo>
                          <a:pt x="937" y="1918"/>
                        </a:lnTo>
                        <a:lnTo>
                          <a:pt x="1011" y="1932"/>
                        </a:lnTo>
                        <a:lnTo>
                          <a:pt x="1073" y="1948"/>
                        </a:lnTo>
                        <a:lnTo>
                          <a:pt x="1104" y="1972"/>
                        </a:lnTo>
                        <a:lnTo>
                          <a:pt x="1115" y="2004"/>
                        </a:lnTo>
                        <a:lnTo>
                          <a:pt x="1106" y="2036"/>
                        </a:lnTo>
                        <a:lnTo>
                          <a:pt x="1080" y="2053"/>
                        </a:lnTo>
                        <a:lnTo>
                          <a:pt x="1045" y="2059"/>
                        </a:lnTo>
                        <a:lnTo>
                          <a:pt x="979" y="2052"/>
                        </a:lnTo>
                        <a:lnTo>
                          <a:pt x="889" y="2027"/>
                        </a:lnTo>
                        <a:lnTo>
                          <a:pt x="800" y="1995"/>
                        </a:lnTo>
                        <a:lnTo>
                          <a:pt x="701" y="1948"/>
                        </a:lnTo>
                        <a:lnTo>
                          <a:pt x="627" y="1900"/>
                        </a:lnTo>
                        <a:lnTo>
                          <a:pt x="556" y="1842"/>
                        </a:lnTo>
                        <a:lnTo>
                          <a:pt x="498" y="1775"/>
                        </a:lnTo>
                        <a:lnTo>
                          <a:pt x="433" y="1694"/>
                        </a:lnTo>
                        <a:lnTo>
                          <a:pt x="363" y="1617"/>
                        </a:lnTo>
                        <a:lnTo>
                          <a:pt x="290" y="1532"/>
                        </a:lnTo>
                        <a:lnTo>
                          <a:pt x="218" y="1444"/>
                        </a:lnTo>
                        <a:lnTo>
                          <a:pt x="160" y="1370"/>
                        </a:lnTo>
                        <a:lnTo>
                          <a:pt x="113" y="1296"/>
                        </a:lnTo>
                        <a:lnTo>
                          <a:pt x="76" y="1212"/>
                        </a:lnTo>
                        <a:lnTo>
                          <a:pt x="37" y="1078"/>
                        </a:lnTo>
                        <a:lnTo>
                          <a:pt x="10" y="974"/>
                        </a:lnTo>
                        <a:lnTo>
                          <a:pt x="0" y="837"/>
                        </a:lnTo>
                        <a:lnTo>
                          <a:pt x="5" y="722"/>
                        </a:lnTo>
                        <a:lnTo>
                          <a:pt x="21" y="590"/>
                        </a:lnTo>
                        <a:lnTo>
                          <a:pt x="47" y="495"/>
                        </a:lnTo>
                        <a:lnTo>
                          <a:pt x="79" y="418"/>
                        </a:lnTo>
                        <a:lnTo>
                          <a:pt x="148" y="339"/>
                        </a:lnTo>
                        <a:lnTo>
                          <a:pt x="227" y="280"/>
                        </a:lnTo>
                        <a:lnTo>
                          <a:pt x="315" y="238"/>
                        </a:lnTo>
                        <a:lnTo>
                          <a:pt x="431" y="212"/>
                        </a:lnTo>
                        <a:lnTo>
                          <a:pt x="537" y="196"/>
                        </a:lnTo>
                        <a:lnTo>
                          <a:pt x="664" y="159"/>
                        </a:lnTo>
                        <a:lnTo>
                          <a:pt x="805" y="122"/>
                        </a:lnTo>
                        <a:lnTo>
                          <a:pt x="905" y="85"/>
                        </a:lnTo>
                        <a:lnTo>
                          <a:pt x="1027" y="27"/>
                        </a:lnTo>
                        <a:lnTo>
                          <a:pt x="1131" y="0"/>
                        </a:lnTo>
                        <a:lnTo>
                          <a:pt x="1263" y="22"/>
                        </a:lnTo>
                        <a:lnTo>
                          <a:pt x="1326" y="59"/>
                        </a:lnTo>
                        <a:lnTo>
                          <a:pt x="1358" y="111"/>
                        </a:lnTo>
                        <a:lnTo>
                          <a:pt x="1369" y="191"/>
                        </a:lnTo>
                        <a:lnTo>
                          <a:pt x="1348" y="286"/>
                        </a:lnTo>
                        <a:lnTo>
                          <a:pt x="1332" y="381"/>
                        </a:lnTo>
                        <a:lnTo>
                          <a:pt x="1316" y="465"/>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26" name=""/>
              <p:cNvSpPr/>
              <p:nvPr/>
            </p:nvSpPr>
            <p:spPr>
              <a:xfrm>
                <a:off x="6404400" y="3026160"/>
                <a:ext cx="581400" cy="516240"/>
              </a:xfrm>
              <a:custGeom>
                <a:avLst/>
                <a:gdLst/>
                <a:ahLst/>
                <a:rect l="l" t="t" r="r" b="b"/>
                <a:pathLst>
                  <a:path w="1680" h="1440">
                    <a:moveTo>
                      <a:pt x="0" y="640"/>
                    </a:moveTo>
                    <a:lnTo>
                      <a:pt x="0" y="160"/>
                    </a:lnTo>
                    <a:lnTo>
                      <a:pt x="146" y="0"/>
                    </a:lnTo>
                    <a:lnTo>
                      <a:pt x="365" y="0"/>
                    </a:lnTo>
                    <a:lnTo>
                      <a:pt x="511" y="160"/>
                    </a:lnTo>
                    <a:lnTo>
                      <a:pt x="928" y="336"/>
                    </a:lnTo>
                    <a:lnTo>
                      <a:pt x="1506" y="394"/>
                    </a:lnTo>
                    <a:lnTo>
                      <a:pt x="1624" y="426"/>
                    </a:lnTo>
                    <a:lnTo>
                      <a:pt x="1678" y="463"/>
                    </a:lnTo>
                    <a:lnTo>
                      <a:pt x="1675" y="553"/>
                    </a:lnTo>
                    <a:lnTo>
                      <a:pt x="1607" y="560"/>
                    </a:lnTo>
                    <a:lnTo>
                      <a:pt x="1607" y="720"/>
                    </a:lnTo>
                    <a:lnTo>
                      <a:pt x="1680" y="730"/>
                    </a:lnTo>
                    <a:lnTo>
                      <a:pt x="1680" y="800"/>
                    </a:lnTo>
                    <a:lnTo>
                      <a:pt x="1608" y="870"/>
                    </a:lnTo>
                    <a:lnTo>
                      <a:pt x="1382" y="936"/>
                    </a:lnTo>
                    <a:lnTo>
                      <a:pt x="1229" y="953"/>
                    </a:lnTo>
                    <a:lnTo>
                      <a:pt x="1030" y="958"/>
                    </a:lnTo>
                    <a:lnTo>
                      <a:pt x="511" y="960"/>
                    </a:lnTo>
                    <a:lnTo>
                      <a:pt x="365" y="1360"/>
                    </a:lnTo>
                    <a:lnTo>
                      <a:pt x="219" y="1440"/>
                    </a:lnTo>
                    <a:lnTo>
                      <a:pt x="73" y="1440"/>
                    </a:lnTo>
                    <a:lnTo>
                      <a:pt x="0" y="1360"/>
                    </a:lnTo>
                    <a:lnTo>
                      <a:pt x="0" y="64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7" name=""/>
              <p:cNvGrpSpPr/>
              <p:nvPr/>
            </p:nvGrpSpPr>
            <p:grpSpPr>
              <a:xfrm>
                <a:off x="6370560" y="3026160"/>
                <a:ext cx="614880" cy="516240"/>
                <a:chOff x="6370560" y="3026160"/>
                <a:chExt cx="614880" cy="516240"/>
              </a:xfrm>
            </p:grpSpPr>
            <p:sp>
              <p:nvSpPr>
                <p:cNvPr id="828" name=""/>
                <p:cNvSpPr/>
                <p:nvPr/>
              </p:nvSpPr>
              <p:spPr>
                <a:xfrm flipH="1">
                  <a:off x="6404400" y="3284280"/>
                  <a:ext cx="82800" cy="154800"/>
                </a:xfrm>
                <a:prstGeom prst="flowChartMagneticDrum">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6886080" y="3232440"/>
                  <a:ext cx="82800" cy="34200"/>
                </a:xfrm>
                <a:prstGeom prst="rect">
                  <a:avLst/>
                </a:prstGeom>
                <a:solidFill>
                  <a:srgbClr val="eaeaea">
                    <a:alpha val="50000"/>
                  </a:srgbClr>
                </a:solidFill>
                <a:ln w="936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830" name=""/>
                <p:cNvSpPr/>
                <p:nvPr/>
              </p:nvSpPr>
              <p:spPr>
                <a:xfrm flipH="1">
                  <a:off x="6387840" y="3473640"/>
                  <a:ext cx="49680" cy="34200"/>
                </a:xfrm>
                <a:prstGeom prst="flowChartMagneticDrum">
                  <a:avLst/>
                </a:prstGeom>
                <a:solidFill>
                  <a:srgbClr val="ff9966"/>
                </a:solidFill>
                <a:ln w="936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831" name=""/>
                <p:cNvSpPr/>
                <p:nvPr/>
              </p:nvSpPr>
              <p:spPr>
                <a:xfrm flipH="1">
                  <a:off x="6404400" y="3267000"/>
                  <a:ext cx="99360" cy="189360"/>
                </a:xfrm>
                <a:prstGeom prst="flowChartMagneticDrum">
                  <a:avLst/>
                </a:prstGeom>
                <a:solidFill>
                  <a:srgbClr val="ff6600">
                    <a:alpha val="50000"/>
                  </a:srgbClr>
                </a:solidFill>
                <a:ln w="9360">
                  <a:solidFill>
                    <a:srgbClr val="000000">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2" name=""/>
                <p:cNvGrpSpPr/>
                <p:nvPr/>
              </p:nvGrpSpPr>
              <p:grpSpPr>
                <a:xfrm>
                  <a:off x="6370560" y="3134520"/>
                  <a:ext cx="83520" cy="63360"/>
                  <a:chOff x="6370560" y="3134520"/>
                  <a:chExt cx="83520" cy="63360"/>
                </a:xfrm>
              </p:grpSpPr>
              <p:sp>
                <p:nvSpPr>
                  <p:cNvPr id="833" name=""/>
                  <p:cNvSpPr/>
                  <p:nvPr/>
                </p:nvSpPr>
                <p:spPr>
                  <a:xfrm rot="1942800">
                    <a:off x="6370920" y="3146400"/>
                    <a:ext cx="49680" cy="16920"/>
                  </a:xfrm>
                  <a:prstGeom prst="rect">
                    <a:avLst/>
                  </a:prstGeom>
                  <a:solidFill>
                    <a:srgbClr val="ff9966"/>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834" name=""/>
                  <p:cNvSpPr/>
                  <p:nvPr/>
                </p:nvSpPr>
                <p:spPr>
                  <a:xfrm>
                    <a:off x="6404400" y="3146400"/>
                    <a:ext cx="49680" cy="5148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sp>
              <p:nvSpPr>
                <p:cNvPr id="835" name=""/>
                <p:cNvSpPr/>
                <p:nvPr/>
              </p:nvSpPr>
              <p:spPr>
                <a:xfrm>
                  <a:off x="6404400" y="3215520"/>
                  <a:ext cx="33120" cy="34200"/>
                </a:xfrm>
                <a:prstGeom prst="ellipse">
                  <a:avLst/>
                </a:prstGeom>
                <a:noFill/>
                <a:ln w="38160">
                  <a:solidFill>
                    <a:srgbClr val="3333cc"/>
                  </a:solidFill>
                  <a:miter/>
                </a:ln>
              </p:spPr>
              <p:style>
                <a:lnRef idx="0"/>
                <a:fillRef idx="0"/>
                <a:effectRef idx="0"/>
                <a:fontRef idx="minor"/>
              </p:style>
              <p:txBody>
                <a:bodyPr wrap="none"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836" name=""/>
                <p:cNvCxnSpPr/>
                <p:nvPr/>
              </p:nvCxnSpPr>
              <p:spPr>
                <a:xfrm flipV="1">
                  <a:off x="6736320" y="3249000"/>
                  <a:ext cx="33840" cy="17640"/>
                </a:xfrm>
                <a:prstGeom prst="curvedConnector5">
                  <a:avLst>
                    <a:gd name="adj1" fmla="val 49462"/>
                    <a:gd name="adj2" fmla="val 50000"/>
                    <a:gd name="adj3" fmla="val 49462"/>
                  </a:avLst>
                </a:prstGeom>
                <a:ln w="9360">
                  <a:solidFill>
                    <a:srgbClr val="000000"/>
                  </a:solidFill>
                  <a:miter/>
                </a:ln>
              </p:spPr>
            </p:cxnSp>
            <p:sp>
              <p:nvSpPr>
                <p:cNvPr id="837" name=""/>
                <p:cNvSpPr/>
                <p:nvPr/>
              </p:nvSpPr>
              <p:spPr>
                <a:xfrm>
                  <a:off x="6553800" y="3198240"/>
                  <a:ext cx="182520" cy="137520"/>
                </a:xfrm>
                <a:custGeom>
                  <a:avLst/>
                  <a:gdLst/>
                  <a:ahLst/>
                  <a:rect l="l" t="t" r="r" b="b"/>
                  <a:pathLst>
                    <a:path w="528" h="384">
                      <a:moveTo>
                        <a:pt x="0" y="0"/>
                      </a:moveTo>
                      <a:lnTo>
                        <a:pt x="0" y="48"/>
                      </a:lnTo>
                      <a:lnTo>
                        <a:pt x="0" y="96"/>
                      </a:lnTo>
                      <a:lnTo>
                        <a:pt x="0" y="144"/>
                      </a:lnTo>
                      <a:lnTo>
                        <a:pt x="0" y="192"/>
                      </a:lnTo>
                      <a:lnTo>
                        <a:pt x="0" y="240"/>
                      </a:lnTo>
                      <a:lnTo>
                        <a:pt x="0" y="288"/>
                      </a:lnTo>
                      <a:lnTo>
                        <a:pt x="0" y="336"/>
                      </a:lnTo>
                      <a:lnTo>
                        <a:pt x="0" y="384"/>
                      </a:lnTo>
                      <a:lnTo>
                        <a:pt x="528" y="384"/>
                      </a:lnTo>
                      <a:lnTo>
                        <a:pt x="528" y="288"/>
                      </a:lnTo>
                      <a:lnTo>
                        <a:pt x="528" y="240"/>
                      </a:lnTo>
                      <a:lnTo>
                        <a:pt x="528" y="192"/>
                      </a:lnTo>
                      <a:lnTo>
                        <a:pt x="528" y="144"/>
                      </a:lnTo>
                      <a:lnTo>
                        <a:pt x="528" y="96"/>
                      </a:lnTo>
                      <a:lnTo>
                        <a:pt x="528" y="48"/>
                      </a:lnTo>
                      <a:lnTo>
                        <a:pt x="528" y="0"/>
                      </a:lnTo>
                      <a:lnTo>
                        <a:pt x="384" y="0"/>
                      </a:lnTo>
                      <a:lnTo>
                        <a:pt x="336" y="0"/>
                      </a:lnTo>
                      <a:lnTo>
                        <a:pt x="288" y="0"/>
                      </a:lnTo>
                      <a:lnTo>
                        <a:pt x="240" y="0"/>
                      </a:lnTo>
                      <a:lnTo>
                        <a:pt x="144" y="0"/>
                      </a:lnTo>
                      <a:lnTo>
                        <a:pt x="96" y="0"/>
                      </a:lnTo>
                      <a:lnTo>
                        <a:pt x="0" y="0"/>
                      </a:lnTo>
                      <a:close/>
                    </a:path>
                  </a:pathLst>
                </a:custGeom>
                <a:solidFill>
                  <a:srgbClr val="cc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6570360" y="3215520"/>
                  <a:ext cx="149400" cy="1029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39" name=""/>
                <p:cNvCxnSpPr>
                  <a:stCxn id="840" idx="3"/>
                  <a:endCxn id="837" idx="0"/>
                </p:cNvCxnSpPr>
                <p:nvPr/>
              </p:nvCxnSpPr>
              <p:spPr>
                <a:xfrm>
                  <a:off x="6470280" y="3103200"/>
                  <a:ext cx="133560" cy="95400"/>
                </a:xfrm>
                <a:prstGeom prst="curvedConnector2">
                  <a:avLst/>
                </a:prstGeom>
                <a:ln w="9360">
                  <a:solidFill>
                    <a:srgbClr val="000000"/>
                  </a:solidFill>
                  <a:miter/>
                </a:ln>
              </p:spPr>
            </p:cxnSp>
            <p:cxnSp>
              <p:nvCxnSpPr>
                <p:cNvPr id="841" name=""/>
                <p:cNvCxnSpPr>
                  <a:stCxn id="834" idx="3"/>
                  <a:endCxn id="837" idx="1"/>
                </p:cNvCxnSpPr>
                <p:nvPr/>
              </p:nvCxnSpPr>
              <p:spPr>
                <a:xfrm>
                  <a:off x="6454080" y="3171960"/>
                  <a:ext cx="100080" cy="60840"/>
                </a:xfrm>
                <a:prstGeom prst="curvedConnector5">
                  <a:avLst>
                    <a:gd name="adj1" fmla="val 49819"/>
                    <a:gd name="adj2" fmla="val 50000"/>
                    <a:gd name="adj3" fmla="val 49819"/>
                  </a:avLst>
                </a:prstGeom>
                <a:ln w="9360">
                  <a:solidFill>
                    <a:srgbClr val="000000"/>
                  </a:solidFill>
                  <a:miter/>
                </a:ln>
              </p:spPr>
            </p:cxnSp>
            <p:cxnSp>
              <p:nvCxnSpPr>
                <p:cNvPr id="842" name=""/>
                <p:cNvCxnSpPr>
                  <a:stCxn id="835" idx="6"/>
                  <a:endCxn id="837" idx="2"/>
                </p:cNvCxnSpPr>
                <p:nvPr/>
              </p:nvCxnSpPr>
              <p:spPr>
                <a:xfrm>
                  <a:off x="6441480" y="3232080"/>
                  <a:ext cx="112680" cy="17640"/>
                </a:xfrm>
                <a:prstGeom prst="curvedConnector5">
                  <a:avLst>
                    <a:gd name="adj1" fmla="val 48076"/>
                    <a:gd name="adj2" fmla="val 50000"/>
                    <a:gd name="adj3" fmla="val 48076"/>
                  </a:avLst>
                </a:prstGeom>
                <a:ln w="9360">
                  <a:solidFill>
                    <a:srgbClr val="000000"/>
                  </a:solidFill>
                  <a:miter/>
                </a:ln>
              </p:spPr>
            </p:cxnSp>
            <p:cxnSp>
              <p:nvCxnSpPr>
                <p:cNvPr id="843" name=""/>
                <p:cNvCxnSpPr>
                  <a:stCxn id="828" idx="1"/>
                  <a:endCxn id="837" idx="3"/>
                </p:cNvCxnSpPr>
                <p:nvPr/>
              </p:nvCxnSpPr>
              <p:spPr>
                <a:xfrm flipV="1">
                  <a:off x="6487200" y="3301200"/>
                  <a:ext cx="66960" cy="60480"/>
                </a:xfrm>
                <a:prstGeom prst="curvedConnector5">
                  <a:avLst>
                    <a:gd name="adj1" fmla="val 49729"/>
                    <a:gd name="adj2" fmla="val 49700"/>
                    <a:gd name="adj3" fmla="val 49729"/>
                  </a:avLst>
                </a:prstGeom>
                <a:ln w="9360">
                  <a:solidFill>
                    <a:srgbClr val="000000"/>
                  </a:solidFill>
                  <a:miter/>
                </a:ln>
              </p:spPr>
            </p:cxnSp>
            <p:cxnSp>
              <p:nvCxnSpPr>
                <p:cNvPr id="844" name=""/>
                <p:cNvCxnSpPr>
                  <a:stCxn id="830" idx="1"/>
                  <a:endCxn id="837" idx="4"/>
                </p:cNvCxnSpPr>
                <p:nvPr/>
              </p:nvCxnSpPr>
              <p:spPr>
                <a:xfrm flipV="1">
                  <a:off x="6437520" y="3317760"/>
                  <a:ext cx="116640" cy="172440"/>
                </a:xfrm>
                <a:prstGeom prst="curvedConnector5">
                  <a:avLst>
                    <a:gd name="adj1" fmla="val 69659"/>
                    <a:gd name="adj2" fmla="val 50000"/>
                    <a:gd name="adj3" fmla="val 69659"/>
                  </a:avLst>
                </a:prstGeom>
                <a:ln w="9360">
                  <a:solidFill>
                    <a:srgbClr val="000000"/>
                  </a:solidFill>
                  <a:miter/>
                </a:ln>
              </p:spPr>
            </p:cxnSp>
            <p:sp>
              <p:nvSpPr>
                <p:cNvPr id="845" name=""/>
                <p:cNvSpPr/>
                <p:nvPr/>
              </p:nvSpPr>
              <p:spPr>
                <a:xfrm>
                  <a:off x="6397200" y="3094920"/>
                  <a:ext cx="16560" cy="16920"/>
                </a:xfrm>
                <a:prstGeom prst="rect">
                  <a:avLst/>
                </a:prstGeom>
                <a:solidFill>
                  <a:srgbClr val="eaeaea">
                    <a:alpha val="50000"/>
                  </a:srgbClr>
                </a:solidFill>
                <a:ln w="936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nvGrpSpPr>
                <p:cNvPr id="846" name=""/>
                <p:cNvGrpSpPr/>
                <p:nvPr/>
              </p:nvGrpSpPr>
              <p:grpSpPr>
                <a:xfrm>
                  <a:off x="6404400" y="3077640"/>
                  <a:ext cx="66240" cy="51480"/>
                  <a:chOff x="6404400" y="3077640"/>
                  <a:chExt cx="66240" cy="51480"/>
                </a:xfrm>
              </p:grpSpPr>
              <p:sp>
                <p:nvSpPr>
                  <p:cNvPr id="840" name=""/>
                  <p:cNvSpPr/>
                  <p:nvPr/>
                </p:nvSpPr>
                <p:spPr>
                  <a:xfrm>
                    <a:off x="6420960" y="3077640"/>
                    <a:ext cx="49680" cy="51480"/>
                  </a:xfrm>
                  <a:prstGeom prst="rect">
                    <a:avLst/>
                  </a:prstGeom>
                  <a:solidFill>
                    <a:srgbClr val="808080"/>
                  </a:solid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847" name=""/>
                  <p:cNvSpPr/>
                  <p:nvPr/>
                </p:nvSpPr>
                <p:spPr>
                  <a:xfrm>
                    <a:off x="6404400" y="3094920"/>
                    <a:ext cx="16560" cy="16920"/>
                  </a:xfrm>
                  <a:prstGeom prst="rect">
                    <a:avLst/>
                  </a:prstGeom>
                  <a:solidFill>
                    <a:srgbClr val="808080"/>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sp>
              <p:nvSpPr>
                <p:cNvPr id="848" name=""/>
                <p:cNvSpPr/>
                <p:nvPr/>
              </p:nvSpPr>
              <p:spPr>
                <a:xfrm>
                  <a:off x="6470640" y="3086280"/>
                  <a:ext cx="149400" cy="111600"/>
                </a:xfrm>
                <a:custGeom>
                  <a:avLst/>
                  <a:gdLst/>
                  <a:ahLst/>
                  <a:rect l="l" t="t" r="r" b="b"/>
                  <a:pathLst>
                    <a:path w="432" h="312">
                      <a:moveTo>
                        <a:pt x="0" y="24"/>
                      </a:moveTo>
                      <a:cubicBezTo>
                        <a:pt x="64" y="12"/>
                        <a:pt x="128" y="0"/>
                        <a:pt x="192" y="24"/>
                      </a:cubicBezTo>
                      <a:cubicBezTo>
                        <a:pt x="256" y="48"/>
                        <a:pt x="344" y="120"/>
                        <a:pt x="384" y="168"/>
                      </a:cubicBezTo>
                      <a:cubicBezTo>
                        <a:pt x="424" y="216"/>
                        <a:pt x="424" y="288"/>
                        <a:pt x="432" y="3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6454080" y="3160080"/>
                  <a:ext cx="99360" cy="55080"/>
                </a:xfrm>
                <a:custGeom>
                  <a:avLst/>
                  <a:gdLst/>
                  <a:ahLst/>
                  <a:rect l="l" t="t" r="r" b="b"/>
                  <a:pathLst>
                    <a:path w="288" h="154">
                      <a:moveTo>
                        <a:pt x="0" y="10"/>
                      </a:moveTo>
                      <a:cubicBezTo>
                        <a:pt x="20" y="12"/>
                        <a:pt x="74" y="0"/>
                        <a:pt x="122" y="24"/>
                      </a:cubicBezTo>
                      <a:cubicBezTo>
                        <a:pt x="170" y="48"/>
                        <a:pt x="254" y="127"/>
                        <a:pt x="288" y="154"/>
                      </a:cubicBezTo>
                    </a:path>
                  </a:pathLst>
                </a:custGeom>
                <a:noFill/>
                <a:ln w="9360">
                  <a:solidFill>
                    <a:srgbClr val="000000"/>
                  </a:solidFill>
                  <a:round/>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850" name=""/>
                <p:cNvSpPr/>
                <p:nvPr/>
              </p:nvSpPr>
              <p:spPr>
                <a:xfrm>
                  <a:off x="6439320" y="3241800"/>
                  <a:ext cx="114480" cy="24840"/>
                </a:xfrm>
                <a:custGeom>
                  <a:avLst/>
                  <a:gdLst/>
                  <a:ahLst/>
                  <a:rect l="l" t="t" r="r" b="b"/>
                  <a:pathLst>
                    <a:path w="331" h="70">
                      <a:moveTo>
                        <a:pt x="0" y="0"/>
                      </a:moveTo>
                      <a:cubicBezTo>
                        <a:pt x="19" y="2"/>
                        <a:pt x="78" y="6"/>
                        <a:pt x="113" y="15"/>
                      </a:cubicBezTo>
                      <a:cubicBezTo>
                        <a:pt x="148" y="24"/>
                        <a:pt x="177" y="47"/>
                        <a:pt x="213" y="56"/>
                      </a:cubicBezTo>
                      <a:cubicBezTo>
                        <a:pt x="249" y="65"/>
                        <a:pt x="307" y="67"/>
                        <a:pt x="331" y="70"/>
                      </a:cubicBezTo>
                    </a:path>
                  </a:pathLst>
                </a:custGeom>
                <a:noFill/>
                <a:ln w="9360">
                  <a:solidFill>
                    <a:srgbClr val="000000"/>
                  </a:solidFill>
                  <a:round/>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851" name=""/>
                <p:cNvSpPr/>
                <p:nvPr/>
              </p:nvSpPr>
              <p:spPr>
                <a:xfrm>
                  <a:off x="6487200" y="3284280"/>
                  <a:ext cx="66240" cy="51480"/>
                </a:xfrm>
                <a:custGeom>
                  <a:avLst/>
                  <a:gdLst/>
                  <a:ahLst/>
                  <a:rect l="l" t="t" r="r" b="b"/>
                  <a:pathLst>
                    <a:path w="192" h="144">
                      <a:moveTo>
                        <a:pt x="0" y="144"/>
                      </a:moveTo>
                      <a:cubicBezTo>
                        <a:pt x="10" y="138"/>
                        <a:pt x="46" y="122"/>
                        <a:pt x="62" y="106"/>
                      </a:cubicBezTo>
                      <a:cubicBezTo>
                        <a:pt x="78" y="90"/>
                        <a:pt x="74" y="66"/>
                        <a:pt x="96" y="48"/>
                      </a:cubicBezTo>
                      <a:cubicBezTo>
                        <a:pt x="118" y="30"/>
                        <a:pt x="176" y="8"/>
                        <a:pt x="192" y="0"/>
                      </a:cubicBezTo>
                    </a:path>
                  </a:pathLst>
                </a:custGeom>
                <a:noFill/>
                <a:ln w="9360">
                  <a:solidFill>
                    <a:srgbClr val="000000"/>
                  </a:solidFill>
                  <a:round/>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852" name=""/>
                <p:cNvSpPr/>
                <p:nvPr/>
              </p:nvSpPr>
              <p:spPr>
                <a:xfrm>
                  <a:off x="6436800" y="3335760"/>
                  <a:ext cx="132480" cy="161640"/>
                </a:xfrm>
                <a:custGeom>
                  <a:avLst/>
                  <a:gdLst/>
                  <a:ahLst/>
                  <a:rect l="l" t="t" r="r" b="b"/>
                  <a:pathLst>
                    <a:path w="383" h="451">
                      <a:moveTo>
                        <a:pt x="0" y="451"/>
                      </a:moveTo>
                      <a:cubicBezTo>
                        <a:pt x="16" y="448"/>
                        <a:pt x="60" y="451"/>
                        <a:pt x="98" y="432"/>
                      </a:cubicBezTo>
                      <a:cubicBezTo>
                        <a:pt x="136" y="413"/>
                        <a:pt x="197" y="390"/>
                        <a:pt x="230" y="334"/>
                      </a:cubicBezTo>
                      <a:cubicBezTo>
                        <a:pt x="263" y="278"/>
                        <a:pt x="274" y="148"/>
                        <a:pt x="297" y="98"/>
                      </a:cubicBezTo>
                      <a:cubicBezTo>
                        <a:pt x="320" y="48"/>
                        <a:pt x="355" y="52"/>
                        <a:pt x="369" y="36"/>
                      </a:cubicBezTo>
                      <a:cubicBezTo>
                        <a:pt x="383" y="20"/>
                        <a:pt x="379" y="7"/>
                        <a:pt x="381"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6736320" y="3239280"/>
                  <a:ext cx="33840" cy="11520"/>
                </a:xfrm>
                <a:custGeom>
                  <a:avLst/>
                  <a:gdLst/>
                  <a:ahLst/>
                  <a:rect l="l" t="t" r="r" b="b"/>
                  <a:pathLst>
                    <a:path w="98" h="32">
                      <a:moveTo>
                        <a:pt x="98" y="0"/>
                      </a:moveTo>
                      <a:cubicBezTo>
                        <a:pt x="87" y="5"/>
                        <a:pt x="50" y="22"/>
                        <a:pt x="34" y="27"/>
                      </a:cubicBezTo>
                      <a:cubicBezTo>
                        <a:pt x="18" y="32"/>
                        <a:pt x="7" y="29"/>
                        <a:pt x="0" y="29"/>
                      </a:cubicBezTo>
                    </a:path>
                  </a:pathLst>
                </a:custGeom>
                <a:noFill/>
                <a:ln w="9360">
                  <a:solidFill>
                    <a:srgbClr val="000000"/>
                  </a:solidFill>
                  <a:round/>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854" name=""/>
                <p:cNvSpPr/>
                <p:nvPr/>
              </p:nvSpPr>
              <p:spPr>
                <a:xfrm>
                  <a:off x="6869160" y="3232440"/>
                  <a:ext cx="33120" cy="34200"/>
                </a:xfrm>
                <a:prstGeom prst="rect">
                  <a:avLst/>
                </a:prstGeom>
                <a:solidFill>
                  <a:srgbClr val="808080"/>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855" name=""/>
                <p:cNvSpPr/>
                <p:nvPr/>
              </p:nvSpPr>
              <p:spPr>
                <a:xfrm>
                  <a:off x="6769800" y="3215520"/>
                  <a:ext cx="99360" cy="68760"/>
                </a:xfrm>
                <a:prstGeom prst="roundRect">
                  <a:avLst>
                    <a:gd name="adj" fmla="val 16667"/>
                  </a:avLst>
                </a:prstGeom>
                <a:solidFill>
                  <a:srgbClr val="808080"/>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856" name=""/>
                <p:cNvSpPr/>
                <p:nvPr/>
              </p:nvSpPr>
              <p:spPr>
                <a:xfrm>
                  <a:off x="6404400" y="3026160"/>
                  <a:ext cx="581040" cy="516240"/>
                </a:xfrm>
                <a:custGeom>
                  <a:avLst/>
                  <a:gdLst/>
                  <a:ahLst/>
                  <a:rect l="l" t="t" r="r" b="b"/>
                  <a:pathLst>
                    <a:path w="1680" h="1440">
                      <a:moveTo>
                        <a:pt x="0" y="640"/>
                      </a:moveTo>
                      <a:lnTo>
                        <a:pt x="0" y="160"/>
                      </a:lnTo>
                      <a:lnTo>
                        <a:pt x="146" y="0"/>
                      </a:lnTo>
                      <a:lnTo>
                        <a:pt x="365" y="0"/>
                      </a:lnTo>
                      <a:lnTo>
                        <a:pt x="511" y="160"/>
                      </a:lnTo>
                      <a:lnTo>
                        <a:pt x="928" y="336"/>
                      </a:lnTo>
                      <a:lnTo>
                        <a:pt x="1506" y="394"/>
                      </a:lnTo>
                      <a:lnTo>
                        <a:pt x="1624" y="426"/>
                      </a:lnTo>
                      <a:lnTo>
                        <a:pt x="1678" y="463"/>
                      </a:lnTo>
                      <a:lnTo>
                        <a:pt x="1675" y="553"/>
                      </a:lnTo>
                      <a:lnTo>
                        <a:pt x="1607" y="560"/>
                      </a:lnTo>
                      <a:lnTo>
                        <a:pt x="1607" y="720"/>
                      </a:lnTo>
                      <a:lnTo>
                        <a:pt x="1680" y="730"/>
                      </a:lnTo>
                      <a:lnTo>
                        <a:pt x="1680" y="800"/>
                      </a:lnTo>
                      <a:lnTo>
                        <a:pt x="1608" y="870"/>
                      </a:lnTo>
                      <a:lnTo>
                        <a:pt x="1382" y="936"/>
                      </a:lnTo>
                      <a:lnTo>
                        <a:pt x="1229" y="953"/>
                      </a:lnTo>
                      <a:lnTo>
                        <a:pt x="1030" y="958"/>
                      </a:lnTo>
                      <a:lnTo>
                        <a:pt x="511" y="960"/>
                      </a:lnTo>
                      <a:lnTo>
                        <a:pt x="365" y="1360"/>
                      </a:lnTo>
                      <a:lnTo>
                        <a:pt x="219" y="1440"/>
                      </a:lnTo>
                      <a:lnTo>
                        <a:pt x="73" y="1440"/>
                      </a:lnTo>
                      <a:lnTo>
                        <a:pt x="0" y="1360"/>
                      </a:lnTo>
                      <a:lnTo>
                        <a:pt x="0" y="640"/>
                      </a:lnTo>
                      <a:close/>
                    </a:path>
                  </a:pathLst>
                </a:custGeom>
                <a:solidFill>
                  <a:srgbClr val="ffffcc">
                    <a:alpha val="50000"/>
                  </a:srgbClr>
                </a:solid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57" name=""/>
            <p:cNvSpPr/>
            <p:nvPr/>
          </p:nvSpPr>
          <p:spPr>
            <a:xfrm rot="5400000">
              <a:off x="4397040" y="2469240"/>
              <a:ext cx="1750320" cy="1823040"/>
            </a:xfrm>
            <a:custGeom>
              <a:avLst/>
              <a:gdLst/>
              <a:ahLst/>
              <a:rect l="l" t="t" r="r" b="b"/>
              <a:pathLst>
                <a:path w="1180" h="1104">
                  <a:moveTo>
                    <a:pt x="418" y="1104"/>
                  </a:moveTo>
                  <a:lnTo>
                    <a:pt x="0" y="223"/>
                  </a:lnTo>
                  <a:lnTo>
                    <a:pt x="9" y="189"/>
                  </a:lnTo>
                  <a:lnTo>
                    <a:pt x="31" y="156"/>
                  </a:lnTo>
                  <a:lnTo>
                    <a:pt x="58" y="129"/>
                  </a:lnTo>
                  <a:lnTo>
                    <a:pt x="91" y="108"/>
                  </a:lnTo>
                  <a:lnTo>
                    <a:pt x="192" y="60"/>
                  </a:lnTo>
                  <a:lnTo>
                    <a:pt x="351" y="19"/>
                  </a:lnTo>
                  <a:lnTo>
                    <a:pt x="531" y="1"/>
                  </a:lnTo>
                  <a:lnTo>
                    <a:pt x="652" y="0"/>
                  </a:lnTo>
                  <a:lnTo>
                    <a:pt x="831" y="21"/>
                  </a:lnTo>
                  <a:lnTo>
                    <a:pt x="979" y="57"/>
                  </a:lnTo>
                  <a:lnTo>
                    <a:pt x="1080" y="103"/>
                  </a:lnTo>
                  <a:lnTo>
                    <a:pt x="1120" y="132"/>
                  </a:lnTo>
                  <a:lnTo>
                    <a:pt x="1156" y="163"/>
                  </a:lnTo>
                  <a:lnTo>
                    <a:pt x="1173" y="195"/>
                  </a:lnTo>
                  <a:lnTo>
                    <a:pt x="1180" y="226"/>
                  </a:lnTo>
                  <a:lnTo>
                    <a:pt x="751" y="1104"/>
                  </a:lnTo>
                  <a:lnTo>
                    <a:pt x="418" y="1104"/>
                  </a:lnTo>
                  <a:close/>
                </a:path>
              </a:pathLst>
            </a:custGeom>
            <a:gradFill rotWithShape="0">
              <a:gsLst>
                <a:gs pos="0">
                  <a:srgbClr val="ffffff"/>
                </a:gs>
                <a:gs pos="100000">
                  <a:srgbClr val="ff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4779720" y="2947680"/>
              <a:ext cx="1501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ired electromagnetic signal (modulated)</a:t>
              </a:r>
              <a:endParaRPr b="0" lang="en-US" sz="1400" spc="-1" strike="noStrike">
                <a:solidFill>
                  <a:srgbClr val="000000"/>
                </a:solidFill>
                <a:latin typeface="Times New Roman"/>
              </a:endParaRPr>
            </a:p>
          </p:txBody>
        </p:sp>
        <p:sp>
          <p:nvSpPr>
            <p:cNvPr id="859" name=""/>
            <p:cNvSpPr/>
            <p:nvPr/>
          </p:nvSpPr>
          <p:spPr>
            <a:xfrm>
              <a:off x="3657960" y="4469760"/>
              <a:ext cx="702360" cy="569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di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rcuitry</a:t>
              </a:r>
              <a:endParaRPr b="0" lang="en-US" sz="1200" spc="-1" strike="noStrike">
                <a:solidFill>
                  <a:srgbClr val="000000"/>
                </a:solidFill>
                <a:latin typeface="Times New Roman"/>
              </a:endParaRPr>
            </a:p>
          </p:txBody>
        </p:sp>
        <p:sp>
          <p:nvSpPr>
            <p:cNvPr id="860" name=""/>
            <p:cNvSpPr/>
            <p:nvPr/>
          </p:nvSpPr>
          <p:spPr>
            <a:xfrm>
              <a:off x="3622320" y="5680440"/>
              <a:ext cx="79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one</a:t>
              </a:r>
              <a:endParaRPr b="0" lang="en-US" sz="1600" spc="-1" strike="noStrike">
                <a:solidFill>
                  <a:srgbClr val="000000"/>
                </a:solidFill>
                <a:latin typeface="Times New Roman"/>
              </a:endParaRPr>
            </a:p>
          </p:txBody>
        </p:sp>
        <p:sp>
          <p:nvSpPr>
            <p:cNvPr id="861" name=""/>
            <p:cNvSpPr/>
            <p:nvPr/>
          </p:nvSpPr>
          <p:spPr>
            <a:xfrm>
              <a:off x="4261320" y="3542760"/>
              <a:ext cx="0" cy="42840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4218840" y="3543840"/>
              <a:ext cx="0" cy="428760"/>
            </a:xfrm>
            <a:prstGeom prst="line">
              <a:avLst/>
            </a:prstGeom>
            <a:ln w="19080">
              <a:solidFill>
                <a:srgbClr val="00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3868560" y="3971160"/>
              <a:ext cx="490320" cy="356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udio</a:t>
              </a:r>
              <a:endParaRPr b="0" lang="en-US" sz="1200" spc="-1" strike="noStrike">
                <a:solidFill>
                  <a:srgbClr val="000000"/>
                </a:solidFill>
                <a:latin typeface="Times New Roman"/>
              </a:endParaRPr>
            </a:p>
          </p:txBody>
        </p:sp>
        <p:sp>
          <p:nvSpPr>
            <p:cNvPr id="864" name=""/>
            <p:cNvSpPr/>
            <p:nvPr/>
          </p:nvSpPr>
          <p:spPr>
            <a:xfrm>
              <a:off x="3728160" y="1977480"/>
              <a:ext cx="70200" cy="502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3657960" y="1764000"/>
              <a:ext cx="210240" cy="21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446480" y="838080"/>
              <a:ext cx="6889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reless Phones and Telecoils: the “Problem”</a:t>
              </a:r>
              <a:endParaRPr b="0" lang="en-US" sz="2400" spc="-1" strike="noStrike">
                <a:solidFill>
                  <a:srgbClr val="000000"/>
                </a:solidFill>
                <a:latin typeface="Times New Roman"/>
              </a:endParaRPr>
            </a:p>
          </p:txBody>
        </p:sp>
        <p:sp>
          <p:nvSpPr>
            <p:cNvPr id="867" name=""/>
            <p:cNvSpPr/>
            <p:nvPr/>
          </p:nvSpPr>
          <p:spPr>
            <a:xfrm>
              <a:off x="6913800" y="24490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lecoil</a:t>
              </a:r>
              <a:endParaRPr b="0" lang="en-US" sz="1400" spc="-1" strike="noStrike">
                <a:solidFill>
                  <a:srgbClr val="000000"/>
                </a:solidFill>
                <a:latin typeface="Times New Roman"/>
              </a:endParaRPr>
            </a:p>
          </p:txBody>
        </p:sp>
        <p:cxnSp>
          <p:nvCxnSpPr>
            <p:cNvPr id="868" name=""/>
            <p:cNvCxnSpPr>
              <a:stCxn id="867" idx="1"/>
              <a:endCxn id="856" idx="0"/>
            </p:cNvCxnSpPr>
            <p:nvPr/>
          </p:nvCxnSpPr>
          <p:spPr>
            <a:xfrm flipH="1">
              <a:off x="6368760" y="2591640"/>
              <a:ext cx="545400" cy="665280"/>
            </a:xfrm>
            <a:prstGeom prst="straightConnector1">
              <a:avLst/>
            </a:prstGeom>
            <a:ln w="9360">
              <a:solidFill>
                <a:srgbClr val="000000"/>
              </a:solidFill>
              <a:miter/>
              <a:tailEnd len="med" type="triangle" w="med"/>
            </a:ln>
          </p:spPr>
        </p:cxnSp>
        <p:sp>
          <p:nvSpPr>
            <p:cNvPr id="869" name=""/>
            <p:cNvSpPr/>
            <p:nvPr/>
          </p:nvSpPr>
          <p:spPr>
            <a:xfrm>
              <a:off x="4073400" y="1616760"/>
              <a:ext cx="23508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werful electromagneti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gnal from rad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mitter</a:t>
              </a:r>
              <a:endParaRPr b="0" lang="en-US" sz="1400" spc="-1" strike="noStrike">
                <a:solidFill>
                  <a:srgbClr val="000000"/>
                </a:solidFill>
                <a:latin typeface="Times New Roman"/>
              </a:endParaRPr>
            </a:p>
          </p:txBody>
        </p:sp>
        <p:sp>
          <p:nvSpPr>
            <p:cNvPr id="870" name=""/>
            <p:cNvSpPr/>
            <p:nvPr/>
          </p:nvSpPr>
          <p:spPr>
            <a:xfrm>
              <a:off x="3726720" y="268956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eiver</a:t>
              </a:r>
              <a:endParaRPr b="0" lang="en-US" sz="1200" spc="-1" strike="noStrike">
                <a:solidFill>
                  <a:srgbClr val="000000"/>
                </a:solidFill>
                <a:latin typeface="Times New Roman"/>
              </a:endParaRPr>
            </a:p>
          </p:txBody>
        </p:sp>
        <p:sp>
          <p:nvSpPr>
            <p:cNvPr id="871" name=""/>
            <p:cNvSpPr/>
            <p:nvPr/>
          </p:nvSpPr>
          <p:spPr>
            <a:xfrm>
              <a:off x="3760200" y="2591640"/>
              <a:ext cx="0" cy="187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3938400" y="4327560"/>
              <a:ext cx="0" cy="14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4569480" y="4398480"/>
              <a:ext cx="1501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cidental electromagnetic noise from phone</a:t>
              </a:r>
              <a:endParaRPr b="0" lang="en-US" sz="1400" spc="-1" strike="noStrike">
                <a:solidFill>
                  <a:srgbClr val="000000"/>
                </a:solidFill>
                <a:latin typeface="Times New Roman"/>
              </a:endParaRPr>
            </a:p>
          </p:txBody>
        </p:sp>
        <p:sp>
          <p:nvSpPr>
            <p:cNvPr id="874" name=""/>
            <p:cNvSpPr/>
            <p:nvPr/>
          </p:nvSpPr>
          <p:spPr>
            <a:xfrm>
              <a:off x="6953760" y="3345120"/>
              <a:ext cx="911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aring aid</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
          <p:cNvSpPr/>
          <p:nvPr/>
        </p:nvSpPr>
        <p:spPr>
          <a:xfrm>
            <a:off x="1785960" y="5029200"/>
            <a:ext cx="2438280" cy="1066680"/>
          </a:xfrm>
          <a:custGeom>
            <a:avLst/>
            <a:gdLst/>
            <a:ahLst/>
            <a:rect l="l" t="t" r="r" b="b"/>
            <a:pathLst>
              <a:path w="1536" h="672">
                <a:moveTo>
                  <a:pt x="0" y="96"/>
                </a:moveTo>
                <a:lnTo>
                  <a:pt x="48" y="96"/>
                </a:lnTo>
                <a:lnTo>
                  <a:pt x="144" y="0"/>
                </a:lnTo>
                <a:lnTo>
                  <a:pt x="240" y="0"/>
                </a:lnTo>
                <a:lnTo>
                  <a:pt x="336" y="144"/>
                </a:lnTo>
                <a:lnTo>
                  <a:pt x="528" y="96"/>
                </a:lnTo>
                <a:lnTo>
                  <a:pt x="720" y="0"/>
                </a:lnTo>
                <a:lnTo>
                  <a:pt x="816" y="288"/>
                </a:lnTo>
                <a:lnTo>
                  <a:pt x="912" y="288"/>
                </a:lnTo>
                <a:lnTo>
                  <a:pt x="1008" y="288"/>
                </a:lnTo>
                <a:lnTo>
                  <a:pt x="1152" y="288"/>
                </a:lnTo>
                <a:lnTo>
                  <a:pt x="1296" y="0"/>
                </a:lnTo>
                <a:lnTo>
                  <a:pt x="1440" y="48"/>
                </a:lnTo>
                <a:lnTo>
                  <a:pt x="1536" y="96"/>
                </a:lnTo>
                <a:lnTo>
                  <a:pt x="1536" y="672"/>
                </a:lnTo>
                <a:lnTo>
                  <a:pt x="1488" y="672"/>
                </a:lnTo>
                <a:lnTo>
                  <a:pt x="1392" y="576"/>
                </a:lnTo>
                <a:lnTo>
                  <a:pt x="1200" y="672"/>
                </a:lnTo>
                <a:lnTo>
                  <a:pt x="1056" y="384"/>
                </a:lnTo>
                <a:lnTo>
                  <a:pt x="864" y="384"/>
                </a:lnTo>
                <a:lnTo>
                  <a:pt x="768" y="672"/>
                </a:lnTo>
                <a:lnTo>
                  <a:pt x="432" y="672"/>
                </a:lnTo>
                <a:lnTo>
                  <a:pt x="288" y="576"/>
                </a:lnTo>
                <a:lnTo>
                  <a:pt x="192" y="528"/>
                </a:lnTo>
                <a:lnTo>
                  <a:pt x="96" y="672"/>
                </a:lnTo>
                <a:lnTo>
                  <a:pt x="0" y="624"/>
                </a:lnTo>
                <a:lnTo>
                  <a:pt x="0" y="96"/>
                </a:lnTo>
                <a:close/>
              </a:path>
            </a:pathLst>
          </a:custGeom>
          <a:solidFill>
            <a:srgbClr val="ff505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1785960" y="1528920"/>
            <a:ext cx="2438280" cy="106668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7" name=""/>
          <p:cNvGrpSpPr/>
          <p:nvPr/>
        </p:nvGrpSpPr>
        <p:grpSpPr>
          <a:xfrm>
            <a:off x="1785960" y="1528920"/>
            <a:ext cx="2438280" cy="1066680"/>
            <a:chOff x="1785960" y="1528920"/>
            <a:chExt cx="2438280" cy="1066680"/>
          </a:xfrm>
        </p:grpSpPr>
        <p:sp>
          <p:nvSpPr>
            <p:cNvPr id="878" name=""/>
            <p:cNvSpPr/>
            <p:nvPr/>
          </p:nvSpPr>
          <p:spPr>
            <a:xfrm>
              <a:off x="1785960" y="152892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1785960" y="206208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1785960" y="1442880"/>
            <a:ext cx="2438280" cy="1224000"/>
          </a:xfrm>
          <a:custGeom>
            <a:avLst/>
            <a:gdLst/>
            <a:ahLst/>
            <a:rect l="l" t="t" r="r" b="b"/>
            <a:pathLst>
              <a:path w="1536" h="771">
                <a:moveTo>
                  <a:pt x="0" y="390"/>
                </a:moveTo>
                <a:cubicBezTo>
                  <a:pt x="7" y="334"/>
                  <a:pt x="28" y="0"/>
                  <a:pt x="44" y="56"/>
                </a:cubicBezTo>
                <a:cubicBezTo>
                  <a:pt x="60" y="112"/>
                  <a:pt x="79" y="726"/>
                  <a:pt x="96" y="726"/>
                </a:cubicBezTo>
                <a:cubicBezTo>
                  <a:pt x="113" y="726"/>
                  <a:pt x="128" y="54"/>
                  <a:pt x="144" y="54"/>
                </a:cubicBezTo>
                <a:cubicBezTo>
                  <a:pt x="160" y="54"/>
                  <a:pt x="176" y="726"/>
                  <a:pt x="192" y="726"/>
                </a:cubicBezTo>
                <a:cubicBezTo>
                  <a:pt x="208" y="726"/>
                  <a:pt x="224" y="54"/>
                  <a:pt x="240" y="54"/>
                </a:cubicBezTo>
                <a:cubicBezTo>
                  <a:pt x="256" y="54"/>
                  <a:pt x="272" y="726"/>
                  <a:pt x="288" y="726"/>
                </a:cubicBezTo>
                <a:cubicBezTo>
                  <a:pt x="304" y="726"/>
                  <a:pt x="312" y="54"/>
                  <a:pt x="336" y="54"/>
                </a:cubicBezTo>
                <a:cubicBezTo>
                  <a:pt x="360" y="54"/>
                  <a:pt x="400" y="726"/>
                  <a:pt x="432" y="726"/>
                </a:cubicBezTo>
                <a:cubicBezTo>
                  <a:pt x="464" y="726"/>
                  <a:pt x="496" y="54"/>
                  <a:pt x="528" y="54"/>
                </a:cubicBezTo>
                <a:cubicBezTo>
                  <a:pt x="560" y="54"/>
                  <a:pt x="592" y="726"/>
                  <a:pt x="624" y="726"/>
                </a:cubicBezTo>
                <a:cubicBezTo>
                  <a:pt x="656" y="726"/>
                  <a:pt x="696" y="54"/>
                  <a:pt x="720" y="54"/>
                </a:cubicBezTo>
                <a:cubicBezTo>
                  <a:pt x="744" y="54"/>
                  <a:pt x="752" y="726"/>
                  <a:pt x="768" y="726"/>
                </a:cubicBezTo>
                <a:cubicBezTo>
                  <a:pt x="784" y="726"/>
                  <a:pt x="800" y="54"/>
                  <a:pt x="816" y="54"/>
                </a:cubicBezTo>
                <a:cubicBezTo>
                  <a:pt x="832" y="54"/>
                  <a:pt x="848" y="726"/>
                  <a:pt x="864" y="726"/>
                </a:cubicBezTo>
                <a:cubicBezTo>
                  <a:pt x="880" y="726"/>
                  <a:pt x="896" y="54"/>
                  <a:pt x="912" y="54"/>
                </a:cubicBezTo>
                <a:cubicBezTo>
                  <a:pt x="928" y="54"/>
                  <a:pt x="944" y="726"/>
                  <a:pt x="960" y="726"/>
                </a:cubicBezTo>
                <a:cubicBezTo>
                  <a:pt x="976" y="726"/>
                  <a:pt x="984" y="54"/>
                  <a:pt x="1008" y="54"/>
                </a:cubicBezTo>
                <a:cubicBezTo>
                  <a:pt x="1032" y="54"/>
                  <a:pt x="1080" y="726"/>
                  <a:pt x="1104" y="726"/>
                </a:cubicBezTo>
                <a:cubicBezTo>
                  <a:pt x="1128" y="726"/>
                  <a:pt x="1136" y="54"/>
                  <a:pt x="1152" y="54"/>
                </a:cubicBezTo>
                <a:cubicBezTo>
                  <a:pt x="1168" y="54"/>
                  <a:pt x="1176" y="726"/>
                  <a:pt x="1200" y="726"/>
                </a:cubicBezTo>
                <a:cubicBezTo>
                  <a:pt x="1224" y="726"/>
                  <a:pt x="1264" y="54"/>
                  <a:pt x="1296" y="54"/>
                </a:cubicBezTo>
                <a:cubicBezTo>
                  <a:pt x="1328" y="54"/>
                  <a:pt x="1368" y="726"/>
                  <a:pt x="1392" y="726"/>
                </a:cubicBezTo>
                <a:cubicBezTo>
                  <a:pt x="1416" y="726"/>
                  <a:pt x="1424" y="56"/>
                  <a:pt x="1440" y="54"/>
                </a:cubicBezTo>
                <a:cubicBezTo>
                  <a:pt x="1456" y="52"/>
                  <a:pt x="1472" y="659"/>
                  <a:pt x="1488" y="715"/>
                </a:cubicBezTo>
                <a:cubicBezTo>
                  <a:pt x="1504" y="771"/>
                  <a:pt x="1526" y="458"/>
                  <a:pt x="1536" y="390"/>
                </a:cubicBezTo>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1785960" y="3263760"/>
            <a:ext cx="533520" cy="106704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2" name=""/>
          <p:cNvGrpSpPr/>
          <p:nvPr/>
        </p:nvGrpSpPr>
        <p:grpSpPr>
          <a:xfrm>
            <a:off x="1785960" y="3263760"/>
            <a:ext cx="2438280" cy="1066680"/>
            <a:chOff x="1785960" y="3263760"/>
            <a:chExt cx="2438280" cy="1066680"/>
          </a:xfrm>
        </p:grpSpPr>
        <p:sp>
          <p:nvSpPr>
            <p:cNvPr id="883" name=""/>
            <p:cNvSpPr/>
            <p:nvPr/>
          </p:nvSpPr>
          <p:spPr>
            <a:xfrm>
              <a:off x="1785960" y="326376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1785960" y="379692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5" name=""/>
          <p:cNvSpPr/>
          <p:nvPr/>
        </p:nvSpPr>
        <p:spPr>
          <a:xfrm>
            <a:off x="1785960" y="3174840"/>
            <a:ext cx="2438280" cy="1244880"/>
          </a:xfrm>
          <a:custGeom>
            <a:avLst/>
            <a:gdLst/>
            <a:ahLst/>
            <a:rect l="l" t="t" r="r" b="b"/>
            <a:pathLst>
              <a:path w="1536" h="784">
                <a:moveTo>
                  <a:pt x="0" y="392"/>
                </a:moveTo>
                <a:cubicBezTo>
                  <a:pt x="7" y="336"/>
                  <a:pt x="28" y="2"/>
                  <a:pt x="44" y="58"/>
                </a:cubicBezTo>
                <a:cubicBezTo>
                  <a:pt x="60" y="114"/>
                  <a:pt x="79" y="728"/>
                  <a:pt x="96" y="728"/>
                </a:cubicBezTo>
                <a:cubicBezTo>
                  <a:pt x="113" y="728"/>
                  <a:pt x="128" y="56"/>
                  <a:pt x="144" y="56"/>
                </a:cubicBezTo>
                <a:cubicBezTo>
                  <a:pt x="160" y="56"/>
                  <a:pt x="176" y="728"/>
                  <a:pt x="192" y="728"/>
                </a:cubicBezTo>
                <a:cubicBezTo>
                  <a:pt x="208" y="728"/>
                  <a:pt x="224" y="56"/>
                  <a:pt x="240" y="56"/>
                </a:cubicBezTo>
                <a:cubicBezTo>
                  <a:pt x="256" y="56"/>
                  <a:pt x="271" y="672"/>
                  <a:pt x="288" y="728"/>
                </a:cubicBezTo>
                <a:cubicBezTo>
                  <a:pt x="305" y="784"/>
                  <a:pt x="330" y="447"/>
                  <a:pt x="342" y="391"/>
                </a:cubicBezTo>
                <a:cubicBezTo>
                  <a:pt x="354" y="335"/>
                  <a:pt x="355" y="392"/>
                  <a:pt x="362" y="392"/>
                </a:cubicBezTo>
                <a:cubicBezTo>
                  <a:pt x="369" y="392"/>
                  <a:pt x="320" y="392"/>
                  <a:pt x="384" y="392"/>
                </a:cubicBezTo>
                <a:cubicBezTo>
                  <a:pt x="448" y="392"/>
                  <a:pt x="638" y="392"/>
                  <a:pt x="747" y="392"/>
                </a:cubicBezTo>
                <a:cubicBezTo>
                  <a:pt x="856" y="392"/>
                  <a:pt x="981" y="392"/>
                  <a:pt x="1041" y="392"/>
                </a:cubicBezTo>
                <a:cubicBezTo>
                  <a:pt x="1101" y="392"/>
                  <a:pt x="1091" y="392"/>
                  <a:pt x="1106" y="392"/>
                </a:cubicBezTo>
                <a:cubicBezTo>
                  <a:pt x="1121" y="392"/>
                  <a:pt x="1122" y="448"/>
                  <a:pt x="1130" y="392"/>
                </a:cubicBezTo>
                <a:cubicBezTo>
                  <a:pt x="1138" y="336"/>
                  <a:pt x="1140" y="0"/>
                  <a:pt x="1152" y="56"/>
                </a:cubicBezTo>
                <a:cubicBezTo>
                  <a:pt x="1164" y="112"/>
                  <a:pt x="1176" y="728"/>
                  <a:pt x="1200" y="728"/>
                </a:cubicBezTo>
                <a:cubicBezTo>
                  <a:pt x="1224" y="728"/>
                  <a:pt x="1264" y="56"/>
                  <a:pt x="1296" y="56"/>
                </a:cubicBezTo>
                <a:cubicBezTo>
                  <a:pt x="1328" y="56"/>
                  <a:pt x="1368" y="728"/>
                  <a:pt x="1392" y="728"/>
                </a:cubicBezTo>
                <a:cubicBezTo>
                  <a:pt x="1416" y="728"/>
                  <a:pt x="1424" y="58"/>
                  <a:pt x="1440" y="56"/>
                </a:cubicBezTo>
                <a:cubicBezTo>
                  <a:pt x="1456" y="54"/>
                  <a:pt x="1472" y="661"/>
                  <a:pt x="1488" y="717"/>
                </a:cubicBezTo>
                <a:cubicBezTo>
                  <a:pt x="1504" y="773"/>
                  <a:pt x="1526" y="460"/>
                  <a:pt x="1536" y="392"/>
                </a:cubicBezTo>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86" name=""/>
          <p:cNvGrpSpPr/>
          <p:nvPr/>
        </p:nvGrpSpPr>
        <p:grpSpPr>
          <a:xfrm>
            <a:off x="1785960" y="5038560"/>
            <a:ext cx="2438280" cy="1066680"/>
            <a:chOff x="1785960" y="5038560"/>
            <a:chExt cx="2438280" cy="1066680"/>
          </a:xfrm>
        </p:grpSpPr>
        <p:sp>
          <p:nvSpPr>
            <p:cNvPr id="887" name=""/>
            <p:cNvSpPr/>
            <p:nvPr/>
          </p:nvSpPr>
          <p:spPr>
            <a:xfrm>
              <a:off x="1785960" y="503856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1785960" y="557172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9" name=""/>
          <p:cNvSpPr/>
          <p:nvPr/>
        </p:nvSpPr>
        <p:spPr>
          <a:xfrm>
            <a:off x="1785960" y="4994280"/>
            <a:ext cx="2438280" cy="1193760"/>
          </a:xfrm>
          <a:custGeom>
            <a:avLst/>
            <a:gdLst/>
            <a:ahLst/>
            <a:rect l="l" t="t" r="r" b="b"/>
            <a:pathLst>
              <a:path w="1536" h="752">
                <a:moveTo>
                  <a:pt x="0" y="364"/>
                </a:moveTo>
                <a:cubicBezTo>
                  <a:pt x="7" y="327"/>
                  <a:pt x="25" y="85"/>
                  <a:pt x="41" y="141"/>
                </a:cubicBezTo>
                <a:cubicBezTo>
                  <a:pt x="57" y="197"/>
                  <a:pt x="79" y="719"/>
                  <a:pt x="96" y="700"/>
                </a:cubicBezTo>
                <a:cubicBezTo>
                  <a:pt x="113" y="681"/>
                  <a:pt x="128" y="56"/>
                  <a:pt x="144" y="28"/>
                </a:cubicBezTo>
                <a:cubicBezTo>
                  <a:pt x="160" y="0"/>
                  <a:pt x="176" y="535"/>
                  <a:pt x="192" y="535"/>
                </a:cubicBezTo>
                <a:cubicBezTo>
                  <a:pt x="208" y="535"/>
                  <a:pt x="224" y="14"/>
                  <a:pt x="240" y="28"/>
                </a:cubicBezTo>
                <a:cubicBezTo>
                  <a:pt x="256" y="42"/>
                  <a:pt x="271" y="598"/>
                  <a:pt x="287" y="618"/>
                </a:cubicBezTo>
                <a:cubicBezTo>
                  <a:pt x="303" y="638"/>
                  <a:pt x="314" y="134"/>
                  <a:pt x="338" y="148"/>
                </a:cubicBezTo>
                <a:cubicBezTo>
                  <a:pt x="362" y="162"/>
                  <a:pt x="401" y="706"/>
                  <a:pt x="432" y="700"/>
                </a:cubicBezTo>
                <a:cubicBezTo>
                  <a:pt x="463" y="694"/>
                  <a:pt x="495" y="111"/>
                  <a:pt x="527" y="111"/>
                </a:cubicBezTo>
                <a:cubicBezTo>
                  <a:pt x="559" y="111"/>
                  <a:pt x="592" y="714"/>
                  <a:pt x="624" y="700"/>
                </a:cubicBezTo>
                <a:cubicBezTo>
                  <a:pt x="656" y="686"/>
                  <a:pt x="696" y="28"/>
                  <a:pt x="720" y="28"/>
                </a:cubicBezTo>
                <a:cubicBezTo>
                  <a:pt x="744" y="28"/>
                  <a:pt x="752" y="656"/>
                  <a:pt x="768" y="700"/>
                </a:cubicBezTo>
                <a:cubicBezTo>
                  <a:pt x="784" y="744"/>
                  <a:pt x="801" y="342"/>
                  <a:pt x="816" y="291"/>
                </a:cubicBezTo>
                <a:cubicBezTo>
                  <a:pt x="831" y="240"/>
                  <a:pt x="846" y="388"/>
                  <a:pt x="861" y="394"/>
                </a:cubicBezTo>
                <a:cubicBezTo>
                  <a:pt x="876" y="400"/>
                  <a:pt x="893" y="325"/>
                  <a:pt x="909" y="325"/>
                </a:cubicBezTo>
                <a:cubicBezTo>
                  <a:pt x="925" y="325"/>
                  <a:pt x="939" y="397"/>
                  <a:pt x="956" y="397"/>
                </a:cubicBezTo>
                <a:cubicBezTo>
                  <a:pt x="973" y="397"/>
                  <a:pt x="994" y="328"/>
                  <a:pt x="1014" y="328"/>
                </a:cubicBezTo>
                <a:cubicBezTo>
                  <a:pt x="1034" y="328"/>
                  <a:pt x="1057" y="397"/>
                  <a:pt x="1077" y="399"/>
                </a:cubicBezTo>
                <a:cubicBezTo>
                  <a:pt x="1097" y="401"/>
                  <a:pt x="1116" y="290"/>
                  <a:pt x="1136" y="340"/>
                </a:cubicBezTo>
                <a:cubicBezTo>
                  <a:pt x="1156" y="390"/>
                  <a:pt x="1173" y="752"/>
                  <a:pt x="1200" y="700"/>
                </a:cubicBezTo>
                <a:cubicBezTo>
                  <a:pt x="1227" y="648"/>
                  <a:pt x="1265" y="46"/>
                  <a:pt x="1296" y="28"/>
                </a:cubicBezTo>
                <a:cubicBezTo>
                  <a:pt x="1327" y="10"/>
                  <a:pt x="1364" y="586"/>
                  <a:pt x="1388" y="592"/>
                </a:cubicBezTo>
                <a:cubicBezTo>
                  <a:pt x="1412" y="598"/>
                  <a:pt x="1422" y="51"/>
                  <a:pt x="1439" y="67"/>
                </a:cubicBezTo>
                <a:cubicBezTo>
                  <a:pt x="1456" y="83"/>
                  <a:pt x="1472" y="640"/>
                  <a:pt x="1488" y="689"/>
                </a:cubicBezTo>
                <a:cubicBezTo>
                  <a:pt x="1504" y="738"/>
                  <a:pt x="1526" y="432"/>
                  <a:pt x="1536" y="364"/>
                </a:cubicBezTo>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056320" y="685800"/>
            <a:ext cx="4804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ring Aids: Radio Modulation</a:t>
            </a:r>
            <a:endParaRPr b="0" lang="en-US" sz="2400" spc="-1" strike="noStrike">
              <a:solidFill>
                <a:srgbClr val="000000"/>
              </a:solidFill>
              <a:latin typeface="Times New Roman"/>
            </a:endParaRPr>
          </a:p>
        </p:txBody>
      </p:sp>
      <p:sp>
        <p:nvSpPr>
          <p:cNvPr id="891" name=""/>
          <p:cNvSpPr/>
          <p:nvPr/>
        </p:nvSpPr>
        <p:spPr>
          <a:xfrm>
            <a:off x="3614760" y="3263760"/>
            <a:ext cx="533520" cy="1067040"/>
          </a:xfrm>
          <a:prstGeom prst="rect">
            <a:avLst/>
          </a:prstGeom>
          <a:solidFill>
            <a:srgbClr val="ff505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66640" y="1905120"/>
            <a:ext cx="10670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DMA</a:t>
            </a:r>
            <a:endParaRPr b="0" lang="en-US" sz="1800" spc="-1" strike="noStrike">
              <a:solidFill>
                <a:srgbClr val="000000"/>
              </a:solidFill>
              <a:latin typeface="Times New Roman"/>
            </a:endParaRPr>
          </a:p>
        </p:txBody>
      </p:sp>
      <p:sp>
        <p:nvSpPr>
          <p:cNvPr id="893" name=""/>
          <p:cNvSpPr/>
          <p:nvPr/>
        </p:nvSpPr>
        <p:spPr>
          <a:xfrm>
            <a:off x="566640" y="3581280"/>
            <a:ext cx="10670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DMA</a:t>
            </a:r>
            <a:endParaRPr b="0" lang="en-US" sz="1800" spc="-1" strike="noStrike">
              <a:solidFill>
                <a:srgbClr val="000000"/>
              </a:solidFill>
              <a:latin typeface="Times New Roman"/>
            </a:endParaRPr>
          </a:p>
        </p:txBody>
      </p:sp>
      <p:sp>
        <p:nvSpPr>
          <p:cNvPr id="894" name=""/>
          <p:cNvSpPr/>
          <p:nvPr/>
        </p:nvSpPr>
        <p:spPr>
          <a:xfrm>
            <a:off x="566640" y="5410080"/>
            <a:ext cx="10670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MA</a:t>
            </a:r>
            <a:endParaRPr b="0" lang="en-US" sz="1800" spc="-1" strike="noStrike">
              <a:solidFill>
                <a:srgbClr val="000000"/>
              </a:solidFill>
              <a:latin typeface="Times New Roman"/>
            </a:endParaRPr>
          </a:p>
        </p:txBody>
      </p:sp>
      <p:sp>
        <p:nvSpPr>
          <p:cNvPr id="895" name=""/>
          <p:cNvSpPr/>
          <p:nvPr/>
        </p:nvSpPr>
        <p:spPr>
          <a:xfrm>
            <a:off x="2395440" y="2819520"/>
            <a:ext cx="2133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5050"/>
                </a:solidFill>
                <a:latin typeface="Arial"/>
              </a:rPr>
              <a:t>“</a:t>
            </a:r>
            <a:r>
              <a:rPr b="1" lang="en-US" sz="1200" spc="-1" strike="noStrike">
                <a:solidFill>
                  <a:srgbClr val="ff5050"/>
                </a:solidFill>
                <a:latin typeface="Arial"/>
              </a:rPr>
              <a:t>Audio” Energy Envelope</a:t>
            </a:r>
            <a:endParaRPr b="0" lang="en-US" sz="1200" spc="-1" strike="noStrike">
              <a:solidFill>
                <a:srgbClr val="000000"/>
              </a:solidFill>
              <a:latin typeface="Times New Roman"/>
            </a:endParaRPr>
          </a:p>
        </p:txBody>
      </p:sp>
      <p:cxnSp>
        <p:nvCxnSpPr>
          <p:cNvPr id="896" name=""/>
          <p:cNvCxnSpPr>
            <a:stCxn id="895" idx="1"/>
            <a:endCxn id="880" idx="0"/>
          </p:cNvCxnSpPr>
          <p:nvPr/>
        </p:nvCxnSpPr>
        <p:spPr>
          <a:xfrm rot="10800000">
            <a:off x="2090160" y="2594880"/>
            <a:ext cx="305280" cy="362520"/>
          </a:xfrm>
          <a:prstGeom prst="curvedConnector5">
            <a:avLst>
              <a:gd name="adj1" fmla="val 72373"/>
              <a:gd name="adj2" fmla="val 50000"/>
              <a:gd name="adj3" fmla="val 72373"/>
            </a:avLst>
          </a:prstGeom>
          <a:ln w="9360">
            <a:solidFill>
              <a:srgbClr val="000000"/>
            </a:solidFill>
            <a:miter/>
            <a:tailEnd len="med" type="triangle" w="med"/>
          </a:ln>
        </p:spPr>
      </p:cxnSp>
      <p:cxnSp>
        <p:nvCxnSpPr>
          <p:cNvPr id="897" name=""/>
          <p:cNvCxnSpPr>
            <a:stCxn id="895" idx="1"/>
            <a:endCxn id="885" idx="0"/>
          </p:cNvCxnSpPr>
          <p:nvPr/>
        </p:nvCxnSpPr>
        <p:spPr>
          <a:xfrm flipV="1" rot="10800000">
            <a:off x="2166120" y="2955960"/>
            <a:ext cx="229320" cy="306720"/>
          </a:xfrm>
          <a:prstGeom prst="curvedConnector5">
            <a:avLst>
              <a:gd name="adj1" fmla="val 66666"/>
              <a:gd name="adj2" fmla="val 49941"/>
              <a:gd name="adj3" fmla="val 66666"/>
            </a:avLst>
          </a:prstGeom>
          <a:ln w="9360">
            <a:solidFill>
              <a:srgbClr val="000000"/>
            </a:solidFill>
            <a:miter/>
            <a:tailEnd len="med" type="triangle" w="med"/>
          </a:ln>
        </p:spPr>
      </p:cxnSp>
      <p:sp>
        <p:nvSpPr>
          <p:cNvPr id="898" name=""/>
          <p:cNvSpPr/>
          <p:nvPr/>
        </p:nvSpPr>
        <p:spPr>
          <a:xfrm>
            <a:off x="5138640" y="1460520"/>
            <a:ext cx="3429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ergy envelope contains little energy at audio frequencies (constant amplitude)</a:t>
            </a:r>
            <a:endParaRPr b="0" lang="en-US" sz="1600" spc="-1" strike="noStrike">
              <a:solidFill>
                <a:srgbClr val="000000"/>
              </a:solidFill>
              <a:latin typeface="Times New Roman"/>
            </a:endParaRPr>
          </a:p>
        </p:txBody>
      </p:sp>
      <p:sp>
        <p:nvSpPr>
          <p:cNvPr id="899" name=""/>
          <p:cNvSpPr/>
          <p:nvPr/>
        </p:nvSpPr>
        <p:spPr>
          <a:xfrm>
            <a:off x="5138640" y="3124080"/>
            <a:ext cx="3429000" cy="137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ergy envelope contains substantial energy at audio frequencies </a:t>
            </a:r>
            <a:endParaRPr b="0" lang="en-US" sz="1600" spc="-1" strike="noStrike">
              <a:solidFill>
                <a:srgbClr val="000000"/>
              </a:solidFill>
              <a:latin typeface="Times New Roman"/>
            </a:endParaRPr>
          </a:p>
          <a:p>
            <a:pPr lvl="1" marL="457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GSM burst rate = 217 Hz</a:t>
            </a:r>
            <a:endParaRPr b="0" lang="en-US" sz="1200" spc="-1" strike="noStrike">
              <a:solidFill>
                <a:srgbClr val="000000"/>
              </a:solidFill>
              <a:latin typeface="Times New Roman"/>
            </a:endParaRPr>
          </a:p>
          <a:p>
            <a:pPr lvl="1" marL="457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S-136 burst rate = 50 Hz</a:t>
            </a:r>
            <a:endParaRPr b="0" lang="en-US" sz="1200" spc="-1" strike="noStrike">
              <a:solidFill>
                <a:srgbClr val="000000"/>
              </a:solidFill>
              <a:latin typeface="Times New Roman"/>
            </a:endParaRPr>
          </a:p>
        </p:txBody>
      </p:sp>
      <p:sp>
        <p:nvSpPr>
          <p:cNvPr id="900" name=""/>
          <p:cNvSpPr/>
          <p:nvPr/>
        </p:nvSpPr>
        <p:spPr>
          <a:xfrm>
            <a:off x="5138640" y="5029200"/>
            <a:ext cx="3429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ergy envelope contains some energy at audio frequencies (especially when “talk activity detection” is employed)</a:t>
            </a:r>
            <a:endParaRPr b="0" lang="en-US" sz="1600" spc="-1" strike="noStrike">
              <a:solidFill>
                <a:srgbClr val="000000"/>
              </a:solidFill>
              <a:latin typeface="Times New Roman"/>
            </a:endParaRPr>
          </a:p>
        </p:txBody>
      </p:sp>
      <p:sp>
        <p:nvSpPr>
          <p:cNvPr id="901" name=""/>
          <p:cNvSpPr/>
          <p:nvPr/>
        </p:nvSpPr>
        <p:spPr>
          <a:xfrm flipV="1">
            <a:off x="4376880" y="1528560"/>
            <a:ext cx="0" cy="5331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4378680" y="1406520"/>
            <a:ext cx="609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Energy</a:t>
            </a:r>
            <a:endParaRPr b="0" lang="en-US" sz="1000" spc="-1" strike="noStrike">
              <a:solidFill>
                <a:srgbClr val="000000"/>
              </a:solidFill>
              <a:latin typeface="Times New Roman"/>
            </a:endParaRPr>
          </a:p>
        </p:txBody>
      </p:sp>
      <p:sp>
        <p:nvSpPr>
          <p:cNvPr id="903" name=""/>
          <p:cNvSpPr/>
          <p:nvPr/>
        </p:nvSpPr>
        <p:spPr>
          <a:xfrm>
            <a:off x="4376880" y="2062080"/>
            <a:ext cx="457200" cy="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4378320" y="2041560"/>
            <a:ext cx="476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Time</a:t>
            </a:r>
            <a:endParaRPr b="0" lang="en-US" sz="1000" spc="-1" strike="noStrike">
              <a:solidFill>
                <a:srgbClr val="000000"/>
              </a:solidFill>
              <a:latin typeface="Times New Roman"/>
            </a:endParaRPr>
          </a:p>
        </p:txBody>
      </p:sp>
      <p:sp>
        <p:nvSpPr>
          <p:cNvPr id="905" name=""/>
          <p:cNvSpPr/>
          <p:nvPr/>
        </p:nvSpPr>
        <p:spPr>
          <a:xfrm>
            <a:off x="1785960" y="4419720"/>
            <a:ext cx="1828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1939680" y="4449600"/>
            <a:ext cx="157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TDMA Burst Period</a:t>
            </a:r>
            <a:endParaRPr b="0" lang="en-US" sz="1200" spc="-1" strike="noStrike">
              <a:solidFill>
                <a:srgbClr val="000000"/>
              </a:solidFill>
              <a:latin typeface="Times New Roman"/>
            </a:endParaRPr>
          </a:p>
        </p:txBody>
      </p:sp>
      <p:sp>
        <p:nvSpPr>
          <p:cNvPr id="907" name=""/>
          <p:cNvSpPr/>
          <p:nvPr/>
        </p:nvSpPr>
        <p:spPr>
          <a:xfrm>
            <a:off x="1785960" y="434340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3614760" y="4343400"/>
            <a:ext cx="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modem"/>
          <p:cNvSpPr/>
          <p:nvPr/>
        </p:nvSpPr>
        <p:spPr>
          <a:xfrm>
            <a:off x="3710160" y="5257800"/>
            <a:ext cx="1809720" cy="91440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1450080" y="990720"/>
            <a:ext cx="6412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 Exposure Effects on Electronic Devices</a:t>
            </a:r>
            <a:endParaRPr b="0" lang="en-US" sz="2400" spc="-1" strike="noStrike">
              <a:solidFill>
                <a:srgbClr val="000000"/>
              </a:solidFill>
              <a:latin typeface="Times New Roman"/>
            </a:endParaRPr>
          </a:p>
        </p:txBody>
      </p:sp>
      <p:sp>
        <p:nvSpPr>
          <p:cNvPr id="911" name=""/>
          <p:cNvSpPr/>
          <p:nvPr/>
        </p:nvSpPr>
        <p:spPr>
          <a:xfrm flipH="1">
            <a:off x="2262240" y="2532240"/>
            <a:ext cx="2819520" cy="2496960"/>
          </a:xfrm>
          <a:prstGeom prst="wedgeEllipseCallout">
            <a:avLst>
              <a:gd name="adj1" fmla="val -28212"/>
              <a:gd name="adj2" fmla="val 4497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 name=""/>
          <p:cNvSpPr/>
          <p:nvPr/>
        </p:nvSpPr>
        <p:spPr>
          <a:xfrm>
            <a:off x="2490840" y="3581280"/>
            <a:ext cx="2362320" cy="762120"/>
          </a:xfrm>
          <a:prstGeom prst="parallelogram">
            <a:avLst>
              <a:gd name="adj" fmla="val 83705"/>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4014720" y="4191120"/>
            <a:ext cx="15264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14" name=""/>
          <p:cNvSpPr/>
          <p:nvPr/>
        </p:nvSpPr>
        <p:spPr>
          <a:xfrm>
            <a:off x="2795760" y="2895480"/>
            <a:ext cx="761760" cy="91440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5" name=""/>
          <p:cNvGrpSpPr/>
          <p:nvPr/>
        </p:nvGrpSpPr>
        <p:grpSpPr>
          <a:xfrm>
            <a:off x="2819520" y="2666520"/>
            <a:ext cx="1880640" cy="1524240"/>
            <a:chOff x="2819520" y="2666520"/>
            <a:chExt cx="1880640" cy="1524240"/>
          </a:xfrm>
        </p:grpSpPr>
        <p:sp>
          <p:nvSpPr>
            <p:cNvPr id="916" name=""/>
            <p:cNvSpPr/>
            <p:nvPr/>
          </p:nvSpPr>
          <p:spPr>
            <a:xfrm>
              <a:off x="2819520" y="3809880"/>
              <a:ext cx="1118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3938400" y="3657240"/>
              <a:ext cx="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3938400" y="3885840"/>
              <a:ext cx="15192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flipV="1">
              <a:off x="3938400" y="3657240"/>
              <a:ext cx="7596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20" name=""/>
            <p:cNvSpPr/>
            <p:nvPr/>
          </p:nvSpPr>
          <p:spPr>
            <a:xfrm flipV="1">
              <a:off x="4014720" y="335268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flipV="1">
              <a:off x="4014720" y="3276360"/>
              <a:ext cx="7560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22" name=""/>
            <p:cNvSpPr/>
            <p:nvPr/>
          </p:nvSpPr>
          <p:spPr>
            <a:xfrm flipH="1" flipV="1">
              <a:off x="3938400" y="3200040"/>
              <a:ext cx="15192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23" name=""/>
            <p:cNvSpPr/>
            <p:nvPr/>
          </p:nvSpPr>
          <p:spPr>
            <a:xfrm flipV="1">
              <a:off x="3938400" y="3123720"/>
              <a:ext cx="15192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4" name=""/>
            <p:cNvSpPr/>
            <p:nvPr/>
          </p:nvSpPr>
          <p:spPr>
            <a:xfrm flipH="1" flipV="1">
              <a:off x="3938400" y="3047760"/>
              <a:ext cx="15192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25" name=""/>
            <p:cNvSpPr/>
            <p:nvPr/>
          </p:nvSpPr>
          <p:spPr>
            <a:xfrm flipV="1">
              <a:off x="3938400" y="2971440"/>
              <a:ext cx="15192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26" name=""/>
            <p:cNvSpPr/>
            <p:nvPr/>
          </p:nvSpPr>
          <p:spPr>
            <a:xfrm flipH="1" flipV="1">
              <a:off x="4014720" y="2895120"/>
              <a:ext cx="75600" cy="75960"/>
            </a:xfrm>
            <a:prstGeom prst="line">
              <a:avLst/>
            </a:prstGeom>
            <a:ln w="1908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7" name=""/>
            <p:cNvSpPr/>
            <p:nvPr/>
          </p:nvSpPr>
          <p:spPr>
            <a:xfrm flipV="1">
              <a:off x="4014720" y="26665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4090680" y="403848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4014720" y="3504960"/>
              <a:ext cx="685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0" name=""/>
          <p:cNvGrpSpPr/>
          <p:nvPr/>
        </p:nvGrpSpPr>
        <p:grpSpPr>
          <a:xfrm>
            <a:off x="2819520" y="3886200"/>
            <a:ext cx="228600" cy="228600"/>
            <a:chOff x="2819520" y="3886200"/>
            <a:chExt cx="228600" cy="228600"/>
          </a:xfrm>
        </p:grpSpPr>
        <p:sp>
          <p:nvSpPr>
            <p:cNvPr id="931" name=""/>
            <p:cNvSpPr/>
            <p:nvPr/>
          </p:nvSpPr>
          <p:spPr>
            <a:xfrm>
              <a:off x="2819520" y="3886200"/>
              <a:ext cx="228600" cy="2286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2895840" y="3978360"/>
              <a:ext cx="7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2895840" y="4022640"/>
              <a:ext cx="7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2934000" y="4022640"/>
              <a:ext cx="0" cy="9216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5" name=""/>
            <p:cNvSpPr/>
            <p:nvPr/>
          </p:nvSpPr>
          <p:spPr>
            <a:xfrm>
              <a:off x="2934000" y="3886200"/>
              <a:ext cx="0" cy="9216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936" name=""/>
          <p:cNvSpPr/>
          <p:nvPr/>
        </p:nvSpPr>
        <p:spPr>
          <a:xfrm>
            <a:off x="2933640" y="3809880"/>
            <a:ext cx="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7" name=""/>
          <p:cNvSpPr/>
          <p:nvPr/>
        </p:nvSpPr>
        <p:spPr>
          <a:xfrm>
            <a:off x="2933640" y="4114800"/>
            <a:ext cx="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2855880" y="4191120"/>
            <a:ext cx="15228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39" name=""/>
          <p:cNvSpPr/>
          <p:nvPr/>
        </p:nvSpPr>
        <p:spPr>
          <a:xfrm>
            <a:off x="3049200" y="3809880"/>
            <a:ext cx="816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Antenna”</a:t>
            </a:r>
            <a:endParaRPr b="0" lang="en-US" sz="1000" spc="-1" strike="noStrike">
              <a:solidFill>
                <a:srgbClr val="000000"/>
              </a:solidFill>
              <a:latin typeface="Times New Roman"/>
            </a:endParaRPr>
          </a:p>
        </p:txBody>
      </p:sp>
      <p:sp>
        <p:nvSpPr>
          <p:cNvPr id="940" name=""/>
          <p:cNvSpPr/>
          <p:nvPr/>
        </p:nvSpPr>
        <p:spPr>
          <a:xfrm>
            <a:off x="4853160" y="2085840"/>
            <a:ext cx="3429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cern about Electromagnetic compatibility is not limited to telecoil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41" name=""/>
          <p:cNvGraphicFramePr/>
          <p:nvPr/>
        </p:nvGraphicFramePr>
        <p:xfrm>
          <a:off x="2622600" y="3835440"/>
          <a:ext cx="4038480" cy="2023920"/>
        </p:xfrm>
        <a:graphic>
          <a:graphicData uri="http://schemas.openxmlformats.org/drawingml/2006/table">
            <a:tbl>
              <a:tblPr/>
              <a:tblGrid>
                <a:gridCol w="2019240"/>
                <a:gridCol w="2019240"/>
              </a:tblGrid>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ical Battery Specifications</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t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 V</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acity</a:t>
                      </a:r>
                      <a:r>
                        <a:rPr b="0" lang="en-US" sz="1600" spc="-1" strike="noStrike">
                          <a:solidFill>
                            <a:srgbClr val="000000"/>
                          </a:solidFill>
                          <a:latin typeface="Arial"/>
                        </a:rPr>
                        <a:t>	</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0 mAh</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mistr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inc Ai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igh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12 oz.</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mensions (D x H)</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9 x 3.6 m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42" name=""/>
          <p:cNvSpPr/>
          <p:nvPr/>
        </p:nvSpPr>
        <p:spPr>
          <a:xfrm>
            <a:off x="5846040" y="6262560"/>
            <a:ext cx="2459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batteriesplus.com/Product/hearaid.html</a:t>
            </a:r>
            <a:endParaRPr b="0" lang="en-US" sz="800" spc="-1" strike="noStrike">
              <a:solidFill>
                <a:srgbClr val="000000"/>
              </a:solidFill>
              <a:latin typeface="Times New Roman"/>
            </a:endParaRPr>
          </a:p>
        </p:txBody>
      </p:sp>
      <p:sp>
        <p:nvSpPr>
          <p:cNvPr id="943" name=""/>
          <p:cNvSpPr/>
          <p:nvPr/>
        </p:nvSpPr>
        <p:spPr>
          <a:xfrm>
            <a:off x="684720" y="990720"/>
            <a:ext cx="8039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ring Aids Present Difficult Engineering Challenges</a:t>
            </a:r>
            <a:endParaRPr b="0" lang="en-US" sz="2400" spc="-1" strike="noStrike">
              <a:solidFill>
                <a:srgbClr val="000000"/>
              </a:solidFill>
              <a:latin typeface="Times New Roman"/>
            </a:endParaRPr>
          </a:p>
        </p:txBody>
      </p:sp>
      <p:sp>
        <p:nvSpPr>
          <p:cNvPr id="944" name=""/>
          <p:cNvSpPr/>
          <p:nvPr/>
        </p:nvSpPr>
        <p:spPr>
          <a:xfrm>
            <a:off x="488880" y="2160720"/>
            <a:ext cx="830592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are each custom assembled</a:t>
            </a:r>
            <a:endParaRPr b="0" lang="en-US" sz="1800" spc="-1" strike="noStrike">
              <a:solidFill>
                <a:srgbClr val="000000"/>
              </a:solidFill>
              <a:latin typeface="Times New Roman"/>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operate in the presence of sweat, oils, and earwax</a:t>
            </a:r>
            <a:endParaRPr b="0" lang="en-US" sz="1800" spc="-1" strike="noStrike">
              <a:solidFill>
                <a:srgbClr val="000000"/>
              </a:solidFill>
              <a:latin typeface="Times New Roman"/>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operate 12+ hours per day for several days on a </a:t>
            </a:r>
            <a:r>
              <a:rPr b="1" lang="en-US" sz="1800" spc="-1" strike="noStrike" u="sng">
                <a:solidFill>
                  <a:srgbClr val="000000"/>
                </a:solidFill>
                <a:uFillTx/>
                <a:latin typeface="Arial"/>
              </a:rPr>
              <a:t>tiny</a:t>
            </a:r>
            <a:r>
              <a:rPr b="1" lang="en-US" sz="1800" spc="-1" strike="noStrike">
                <a:solidFill>
                  <a:srgbClr val="000000"/>
                </a:solidFill>
                <a:latin typeface="Arial"/>
              </a:rPr>
              <a:t> batter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533520" y="1447920"/>
            <a:ext cx="8205840" cy="46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s to improve access for the hearing impaired to wireless communications are being explored.  They includ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roved EMC design for hearing aids</a:t>
            </a:r>
            <a:endParaRPr b="0" lang="en-US" sz="1800" spc="-1" strike="noStrike">
              <a:solidFill>
                <a:srgbClr val="000000"/>
              </a:solidFill>
              <a:latin typeface="Times New Roman"/>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rter microphone leads</a:t>
            </a:r>
            <a:endParaRPr b="0" lang="en-US" sz="1600" spc="-1" strike="noStrike">
              <a:solidFill>
                <a:srgbClr val="000000"/>
              </a:solidFill>
              <a:latin typeface="Times New Roman"/>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ielded case</a:t>
            </a:r>
            <a:endParaRPr b="0" lang="en-US" sz="1600" spc="-1" strike="noStrike">
              <a:solidFill>
                <a:srgbClr val="000000"/>
              </a:solidFill>
              <a:latin typeface="Times New Roman"/>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roved EMC design for wireless communicators</a:t>
            </a:r>
            <a:endParaRPr b="0" lang="en-US" sz="1800" spc="-1" strike="noStrike">
              <a:solidFill>
                <a:srgbClr val="000000"/>
              </a:solidFill>
              <a:latin typeface="Times New Roman"/>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uced spurious emissions</a:t>
            </a:r>
            <a:endParaRPr b="0" lang="en-US" sz="1600" spc="-1" strike="noStrike">
              <a:solidFill>
                <a:srgbClr val="000000"/>
              </a:solidFill>
              <a:latin typeface="Times New Roman"/>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sted listening devices for hearing aids</a:t>
            </a:r>
            <a:endParaRPr b="0" lang="en-US" sz="1800" spc="-1" strike="noStrike">
              <a:solidFill>
                <a:srgbClr val="000000"/>
              </a:solidFill>
              <a:latin typeface="Times New Roman"/>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ring Aid Telephone Interconnect System (HATIS)</a:t>
            </a:r>
            <a:endParaRPr b="0" lang="en-US" sz="1600" spc="-1" strike="noStrike">
              <a:solidFill>
                <a:srgbClr val="000000"/>
              </a:solidFill>
              <a:latin typeface="Times New Roman"/>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 improvements for the hearing impaired w/o hearing aids</a:t>
            </a:r>
            <a:endParaRPr b="0" lang="en-US" sz="1800" spc="-1" strike="noStrike">
              <a:solidFill>
                <a:srgbClr val="000000"/>
              </a:solidFill>
              <a:latin typeface="Times New Roman"/>
            </a:endParaRPr>
          </a:p>
          <a:p>
            <a:pPr lvl="1" marL="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hanced volume controls</a:t>
            </a:r>
            <a:endParaRPr b="0" lang="en-US" sz="1600" spc="-1" strike="noStrike">
              <a:solidFill>
                <a:srgbClr val="000000"/>
              </a:solidFill>
              <a:latin typeface="Times New Roman"/>
            </a:endParaRPr>
          </a:p>
        </p:txBody>
      </p:sp>
      <p:sp>
        <p:nvSpPr>
          <p:cNvPr id="946" name=""/>
          <p:cNvSpPr/>
          <p:nvPr/>
        </p:nvSpPr>
        <p:spPr>
          <a:xfrm>
            <a:off x="534600" y="762120"/>
            <a:ext cx="8343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C Issues Between Hearing Aids and Wireless Ph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
          <p:cNvSpPr/>
          <p:nvPr/>
        </p:nvSpPr>
        <p:spPr>
          <a:xfrm>
            <a:off x="461880" y="1757520"/>
            <a:ext cx="82296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 all telephones sold in the U.S. required to be hearing aid compati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s. As of August 16, 1989, all telephones manufactured or imported for use in the U.S. have been required to be hearing aid compatible. Cordless telephones manufactured or imported for use in the U.S. have also been required to be hearing aid compatible since August 16, 1991. Secure telephones are exempt, as are telephones used with public mobile services or private radio servi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 all HAC phones sold in the U.S. also have volume contro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at present. The definition of hearing aid compatibility was recently expanded to include the volume control feature. Manufacturers and importers will be required to ensure that wireline telephones manufactured imported for use in the U.S. after January 1, 2000 contain a volume control feature.</a:t>
            </a:r>
            <a:endParaRPr b="0" lang="en-US" sz="1800" spc="-1" strike="noStrike">
              <a:solidFill>
                <a:srgbClr val="000000"/>
              </a:solidFill>
              <a:latin typeface="Times New Roman"/>
            </a:endParaRPr>
          </a:p>
        </p:txBody>
      </p:sp>
      <p:sp>
        <p:nvSpPr>
          <p:cNvPr id="948" name=""/>
          <p:cNvSpPr/>
          <p:nvPr/>
        </p:nvSpPr>
        <p:spPr>
          <a:xfrm>
            <a:off x="614520" y="3276720"/>
            <a:ext cx="685800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
          <p:cNvSpPr/>
          <p:nvPr/>
        </p:nvSpPr>
        <p:spPr>
          <a:xfrm>
            <a:off x="761040" y="838080"/>
            <a:ext cx="7818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ring Aids and Wireless Phones: Additional Notes</a:t>
            </a:r>
            <a:endParaRPr b="0" lang="en-US" sz="2400" spc="-1" strike="noStrike">
              <a:solidFill>
                <a:srgbClr val="000000"/>
              </a:solidFill>
              <a:latin typeface="Times New Roman"/>
            </a:endParaRPr>
          </a:p>
        </p:txBody>
      </p:sp>
      <p:sp>
        <p:nvSpPr>
          <p:cNvPr id="950" name=""/>
          <p:cNvSpPr/>
          <p:nvPr/>
        </p:nvSpPr>
        <p:spPr>
          <a:xfrm>
            <a:off x="5223240" y="6262560"/>
            <a:ext cx="3082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fcc.gov/Bureaus/Common_Carrier/FAQ/faq_hac.html</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08400" y="990720"/>
            <a:ext cx="822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ological Effects of Exposure of Humans to RF Energy</a:t>
            </a:r>
            <a:endParaRPr b="0" lang="en-US" sz="2400" spc="-1" strike="noStrike">
              <a:solidFill>
                <a:srgbClr val="000000"/>
              </a:solidFill>
              <a:latin typeface="Times New Roman"/>
            </a:endParaRPr>
          </a:p>
        </p:txBody>
      </p:sp>
      <p:sp>
        <p:nvSpPr>
          <p:cNvPr id="69" name=""/>
          <p:cNvSpPr/>
          <p:nvPr/>
        </p:nvSpPr>
        <p:spPr>
          <a:xfrm>
            <a:off x="914400" y="1828800"/>
            <a:ext cx="7772400" cy="326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FCC regulates exposure to Radio Frequency (RF) energy based on a comprehensive review of the scientific literature conducted by expert groups such as the National Council on Radiation Protection and Measurements (NCRP) and the expert committees sponsored by the IEE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though “non-thermal” mechanisms have been postulated, there is no conclusive evidence that confirms the existence of such mechanisms nor is there any meaningful way to relate to human health the postulated effects associated with such mechanisms.</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egulatory limits are set at levels 10 (occupational) to 50 (public) times below the threshold for the most sensitive, reproducible effect that can be related to human health, i.e., disruption of learned behavior in trained animals, which is accompanied by a temperature increase of about 1</a:t>
            </a:r>
            <a:r>
              <a:rPr b="1" lang="en-US" sz="1600" spc="-1" strike="noStrike" baseline="30000">
                <a:solidFill>
                  <a:srgbClr val="000000"/>
                </a:solidFill>
                <a:latin typeface="Arial"/>
                <a:ea typeface="Times New Roman"/>
              </a:rPr>
              <a:t>o</a:t>
            </a:r>
            <a:r>
              <a:rPr b="1" lang="en-US" sz="1600" spc="-1" strike="noStrike">
                <a:solidFill>
                  <a:srgbClr val="000000"/>
                </a:solidFill>
                <a:latin typeface="Arial"/>
                <a:ea typeface="Times New Roman"/>
              </a:rPr>
              <a:t>C.</a:t>
            </a:r>
            <a:endParaRPr b="0" lang="en-US" sz="1600" spc="-1" strike="noStrike">
              <a:solidFill>
                <a:srgbClr val="000000"/>
              </a:solidFill>
              <a:latin typeface="Times New Roman"/>
            </a:endParaRPr>
          </a:p>
        </p:txBody>
      </p:sp>
      <p:sp>
        <p:nvSpPr>
          <p:cNvPr id="70" name=""/>
          <p:cNvSpPr/>
          <p:nvPr/>
        </p:nvSpPr>
        <p:spPr>
          <a:xfrm>
            <a:off x="685800" y="1905120"/>
            <a:ext cx="152280" cy="1522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85800" y="3048120"/>
            <a:ext cx="152280" cy="1522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85800" y="4114800"/>
            <a:ext cx="152280" cy="15228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HEADAC" descr=""/>
          <p:cNvPicPr/>
          <p:nvPr/>
        </p:nvPicPr>
        <p:blipFill>
          <a:blip r:embed="rId1"/>
          <a:stretch/>
        </p:blipFill>
        <p:spPr>
          <a:xfrm>
            <a:off x="6529320" y="2133720"/>
            <a:ext cx="1279440" cy="1719000"/>
          </a:xfrm>
          <a:prstGeom prst="rect">
            <a:avLst/>
          </a:prstGeom>
          <a:ln w="0">
            <a:noFill/>
          </a:ln>
        </p:spPr>
      </p:pic>
      <p:sp>
        <p:nvSpPr>
          <p:cNvPr id="74" name=""/>
          <p:cNvSpPr/>
          <p:nvPr/>
        </p:nvSpPr>
        <p:spPr>
          <a:xfrm>
            <a:off x="1066680" y="838080"/>
            <a:ext cx="711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ims Arise Daily and are Being Investigated…</a:t>
            </a:r>
            <a:endParaRPr b="0" lang="en-US" sz="2400" spc="-1" strike="noStrike">
              <a:solidFill>
                <a:srgbClr val="000000"/>
              </a:solidFill>
              <a:latin typeface="Times New Roman"/>
            </a:endParaRPr>
          </a:p>
        </p:txBody>
      </p:sp>
      <p:sp>
        <p:nvSpPr>
          <p:cNvPr id="75" name=""/>
          <p:cNvSpPr/>
          <p:nvPr/>
        </p:nvSpPr>
        <p:spPr>
          <a:xfrm>
            <a:off x="6453360" y="3962520"/>
            <a:ext cx="1676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daches?</a:t>
            </a:r>
            <a:endParaRPr b="0" lang="en-US" sz="1400" spc="-1" strike="noStrike">
              <a:solidFill>
                <a:srgbClr val="000000"/>
              </a:solidFill>
              <a:latin typeface="Times New Roman"/>
            </a:endParaRPr>
          </a:p>
        </p:txBody>
      </p:sp>
      <p:pic>
        <p:nvPicPr>
          <p:cNvPr id="76" name="bp0006" descr=""/>
          <p:cNvPicPr/>
          <p:nvPr/>
        </p:nvPicPr>
        <p:blipFill>
          <a:blip r:embed="rId2"/>
          <a:stretch/>
        </p:blipFill>
        <p:spPr>
          <a:xfrm>
            <a:off x="3710160" y="2743200"/>
            <a:ext cx="1631880" cy="1812960"/>
          </a:xfrm>
          <a:prstGeom prst="rect">
            <a:avLst/>
          </a:prstGeom>
          <a:ln w="0">
            <a:noFill/>
          </a:ln>
        </p:spPr>
      </p:pic>
      <p:sp>
        <p:nvSpPr>
          <p:cNvPr id="77" name=""/>
          <p:cNvSpPr/>
          <p:nvPr/>
        </p:nvSpPr>
        <p:spPr>
          <a:xfrm>
            <a:off x="3633840" y="4632480"/>
            <a:ext cx="17524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omagnetically “sensitive” individuals?</a:t>
            </a:r>
            <a:endParaRPr b="0" lang="en-US" sz="1400" spc="-1" strike="noStrike">
              <a:solidFill>
                <a:srgbClr val="000000"/>
              </a:solidFill>
              <a:latin typeface="Times New Roman"/>
            </a:endParaRPr>
          </a:p>
        </p:txBody>
      </p:sp>
      <p:sp>
        <p:nvSpPr>
          <p:cNvPr id="78" name=""/>
          <p:cNvSpPr/>
          <p:nvPr/>
        </p:nvSpPr>
        <p:spPr>
          <a:xfrm>
            <a:off x="882000" y="5641920"/>
            <a:ext cx="74152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times they have little or no scientific credibility, bu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nearly impossible to prove a negative.</a:t>
            </a:r>
            <a:endParaRPr b="0" lang="en-US" sz="2000" spc="-1" strike="noStrike">
              <a:solidFill>
                <a:srgbClr val="000000"/>
              </a:solidFill>
              <a:latin typeface="Times New Roman"/>
            </a:endParaRPr>
          </a:p>
        </p:txBody>
      </p:sp>
      <p:pic>
        <p:nvPicPr>
          <p:cNvPr id="79" name="whatnow" descr=""/>
          <p:cNvPicPr/>
          <p:nvPr/>
        </p:nvPicPr>
        <p:blipFill>
          <a:blip r:embed="rId3"/>
          <a:stretch/>
        </p:blipFill>
        <p:spPr>
          <a:xfrm>
            <a:off x="1119240" y="2057400"/>
            <a:ext cx="1282680" cy="1825560"/>
          </a:xfrm>
          <a:prstGeom prst="rect">
            <a:avLst/>
          </a:prstGeom>
          <a:ln w="0">
            <a:noFill/>
          </a:ln>
        </p:spPr>
      </p:pic>
      <p:sp>
        <p:nvSpPr>
          <p:cNvPr id="80" name=""/>
          <p:cNvSpPr/>
          <p:nvPr/>
        </p:nvSpPr>
        <p:spPr>
          <a:xfrm>
            <a:off x="890640" y="396252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mory Los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828800" y="2209680"/>
            <a:ext cx="6172200" cy="3298320"/>
          </a:xfrm>
          <a:prstGeom prst="rect">
            <a:avLst/>
          </a:prstGeom>
          <a:noFill/>
          <a:ln w="0">
            <a:noFill/>
          </a:ln>
        </p:spPr>
        <p:style>
          <a:lnRef idx="0"/>
          <a:fillRef idx="0"/>
          <a:effectRef idx="0"/>
          <a:fontRef idx="minor"/>
        </p:style>
        <p:txBody>
          <a:bodyPr lIns="90000" rIns="90000" tIns="46800" bIns="46800" anchor="t">
            <a:spAutoFit/>
          </a:bodyPr>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 Radio:  535 - 1605 kHz</a:t>
            </a: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B Radio:  27 MHz</a:t>
            </a: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ordless Phones:  49 MHz</a:t>
            </a: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V Ch 2-6:  54 - 88 MHz</a:t>
            </a: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M Radio:  88 - 108 MHz</a:t>
            </a: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arine Radio:  160 MHz</a:t>
            </a: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V Ch 7-13:  174 - 216 MHz</a:t>
            </a: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V UHF Ch 14-69:  470 - 800 MHz</a:t>
            </a: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ellular Radio, SMR, Paging:  806 - 946 MHz</a:t>
            </a: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ntitheft devices:  10 - 20 kHz and/or 915 MHz</a:t>
            </a: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icrowave oven:  915 and 2450 MHz</a:t>
            </a: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ersonal Communication Services:  1800 - 2200 MHz</a:t>
            </a: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ntrusion Alarms / door openers:  10.5 GHz</a:t>
            </a: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icrowave Radio:  1 - 40 GHz</a:t>
            </a: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atellite Communications:  100 MHz - 275 GHz</a:t>
            </a:r>
            <a:endParaRPr b="0" lang="en-US" sz="1400" spc="-1" strike="noStrike">
              <a:solidFill>
                <a:srgbClr val="000000"/>
              </a:solidFill>
              <a:latin typeface="Times New Roman"/>
            </a:endParaRPr>
          </a:p>
        </p:txBody>
      </p:sp>
      <p:sp>
        <p:nvSpPr>
          <p:cNvPr id="82" name=""/>
          <p:cNvSpPr/>
          <p:nvPr/>
        </p:nvSpPr>
        <p:spPr>
          <a:xfrm>
            <a:off x="3200400" y="6156360"/>
            <a:ext cx="2819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cy (Hz)</a:t>
            </a:r>
            <a:endParaRPr b="0" lang="en-US" sz="2000" spc="-1" strike="noStrike">
              <a:solidFill>
                <a:srgbClr val="000000"/>
              </a:solidFill>
              <a:latin typeface="Times New Roman"/>
            </a:endParaRPr>
          </a:p>
        </p:txBody>
      </p:sp>
      <p:sp>
        <p:nvSpPr>
          <p:cNvPr id="83" name=""/>
          <p:cNvSpPr/>
          <p:nvPr/>
        </p:nvSpPr>
        <p:spPr>
          <a:xfrm>
            <a:off x="228600" y="106668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on-Ionizing Radiation</a:t>
            </a:r>
            <a:endParaRPr b="0" lang="en-US" sz="1200" spc="-1" strike="noStrike">
              <a:solidFill>
                <a:srgbClr val="000000"/>
              </a:solidFill>
              <a:latin typeface="Times New Roman"/>
            </a:endParaRPr>
          </a:p>
        </p:txBody>
      </p:sp>
      <p:sp>
        <p:nvSpPr>
          <p:cNvPr id="84" name=""/>
          <p:cNvSpPr/>
          <p:nvPr/>
        </p:nvSpPr>
        <p:spPr>
          <a:xfrm>
            <a:off x="7467480" y="106668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onizing Radiation</a:t>
            </a:r>
            <a:endParaRPr b="0" lang="en-US" sz="1200" spc="-1" strike="noStrike">
              <a:solidFill>
                <a:srgbClr val="000000"/>
              </a:solidFill>
              <a:latin typeface="Times New Roman"/>
            </a:endParaRPr>
          </a:p>
        </p:txBody>
      </p:sp>
      <p:sp>
        <p:nvSpPr>
          <p:cNvPr id="85" name=""/>
          <p:cNvSpPr/>
          <p:nvPr/>
        </p:nvSpPr>
        <p:spPr>
          <a:xfrm>
            <a:off x="2286000" y="533520"/>
            <a:ext cx="4495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ctromagnetic Spectrum</a:t>
            </a:r>
            <a:endParaRPr b="0" lang="en-US" sz="2400" spc="-1" strike="noStrike">
              <a:solidFill>
                <a:srgbClr val="000000"/>
              </a:solidFill>
              <a:latin typeface="Times New Roman"/>
            </a:endParaRPr>
          </a:p>
        </p:txBody>
      </p:sp>
      <p:grpSp>
        <p:nvGrpSpPr>
          <p:cNvPr id="86" name=""/>
          <p:cNvGrpSpPr/>
          <p:nvPr/>
        </p:nvGrpSpPr>
        <p:grpSpPr>
          <a:xfrm>
            <a:off x="152280" y="5546880"/>
            <a:ext cx="8839440" cy="457200"/>
            <a:chOff x="152280" y="5546880"/>
            <a:chExt cx="8839440" cy="457200"/>
          </a:xfrm>
        </p:grpSpPr>
        <p:sp>
          <p:nvSpPr>
            <p:cNvPr id="87" name=""/>
            <p:cNvSpPr/>
            <p:nvPr/>
          </p:nvSpPr>
          <p:spPr>
            <a:xfrm>
              <a:off x="152280" y="5546880"/>
              <a:ext cx="8839440" cy="457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 name=""/>
            <p:cNvGrpSpPr/>
            <p:nvPr/>
          </p:nvGrpSpPr>
          <p:grpSpPr>
            <a:xfrm>
              <a:off x="228600" y="5623200"/>
              <a:ext cx="8610480" cy="368280"/>
              <a:chOff x="228600" y="5623200"/>
              <a:chExt cx="8610480" cy="368280"/>
            </a:xfrm>
          </p:grpSpPr>
          <p:sp>
            <p:nvSpPr>
              <p:cNvPr id="89" name=""/>
              <p:cNvSpPr/>
              <p:nvPr/>
            </p:nvSpPr>
            <p:spPr>
              <a:xfrm>
                <a:off x="609480" y="56232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a:t>
                </a:r>
                <a:r>
                  <a:rPr b="0" lang="en-US" sz="1800" spc="-1" strike="noStrike" baseline="30000">
                    <a:solidFill>
                      <a:srgbClr val="000000"/>
                    </a:solidFill>
                    <a:latin typeface="Arial"/>
                  </a:rPr>
                  <a:t>3</a:t>
                </a:r>
                <a:endParaRPr b="0" lang="en-US" sz="1800" spc="-1" strike="noStrike">
                  <a:solidFill>
                    <a:srgbClr val="000000"/>
                  </a:solidFill>
                  <a:latin typeface="Times New Roman"/>
                </a:endParaRPr>
              </a:p>
            </p:txBody>
          </p:sp>
          <p:sp>
            <p:nvSpPr>
              <p:cNvPr id="90" name=""/>
              <p:cNvSpPr/>
              <p:nvPr/>
            </p:nvSpPr>
            <p:spPr>
              <a:xfrm>
                <a:off x="1981080" y="56232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a:t>
                </a:r>
                <a:r>
                  <a:rPr b="0" lang="en-US" sz="1800" spc="-1" strike="noStrike" baseline="30000">
                    <a:solidFill>
                      <a:srgbClr val="000000"/>
                    </a:solidFill>
                    <a:latin typeface="Arial"/>
                  </a:rPr>
                  <a:t>6</a:t>
                </a:r>
                <a:endParaRPr b="0" lang="en-US" sz="1800" spc="-1" strike="noStrike">
                  <a:solidFill>
                    <a:srgbClr val="000000"/>
                  </a:solidFill>
                  <a:latin typeface="Times New Roman"/>
                </a:endParaRPr>
              </a:p>
            </p:txBody>
          </p:sp>
          <p:sp>
            <p:nvSpPr>
              <p:cNvPr id="91" name=""/>
              <p:cNvSpPr/>
              <p:nvPr/>
            </p:nvSpPr>
            <p:spPr>
              <a:xfrm>
                <a:off x="3352680" y="56232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a:t>
                </a:r>
                <a:r>
                  <a:rPr b="0" lang="en-US" sz="1800" spc="-1" strike="noStrike" baseline="30000">
                    <a:solidFill>
                      <a:srgbClr val="000000"/>
                    </a:solidFill>
                    <a:latin typeface="Arial"/>
                  </a:rPr>
                  <a:t>9</a:t>
                </a:r>
                <a:endParaRPr b="0" lang="en-US" sz="1800" spc="-1" strike="noStrike">
                  <a:solidFill>
                    <a:srgbClr val="000000"/>
                  </a:solidFill>
                  <a:latin typeface="Times New Roman"/>
                </a:endParaRPr>
              </a:p>
            </p:txBody>
          </p:sp>
          <p:sp>
            <p:nvSpPr>
              <p:cNvPr id="92" name=""/>
              <p:cNvSpPr/>
              <p:nvPr/>
            </p:nvSpPr>
            <p:spPr>
              <a:xfrm>
                <a:off x="4724280" y="56232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r>
                  <a:rPr b="0" lang="en-US" sz="1800" spc="-1" strike="noStrike" baseline="30000">
                    <a:solidFill>
                      <a:srgbClr val="000000"/>
                    </a:solidFill>
                    <a:latin typeface="Arial"/>
                  </a:rPr>
                  <a:t>12</a:t>
                </a:r>
                <a:endParaRPr b="0" lang="en-US" sz="1800" spc="-1" strike="noStrike">
                  <a:solidFill>
                    <a:srgbClr val="000000"/>
                  </a:solidFill>
                  <a:latin typeface="Times New Roman"/>
                </a:endParaRPr>
              </a:p>
            </p:txBody>
          </p:sp>
          <p:sp>
            <p:nvSpPr>
              <p:cNvPr id="93" name=""/>
              <p:cNvSpPr/>
              <p:nvPr/>
            </p:nvSpPr>
            <p:spPr>
              <a:xfrm>
                <a:off x="6095880" y="56232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r>
                  <a:rPr b="0" lang="en-US" sz="1800" spc="-1" strike="noStrike" baseline="30000">
                    <a:solidFill>
                      <a:srgbClr val="000000"/>
                    </a:solidFill>
                    <a:latin typeface="Arial"/>
                  </a:rPr>
                  <a:t>15</a:t>
                </a:r>
                <a:endParaRPr b="0" lang="en-US" sz="1800" spc="-1" strike="noStrike">
                  <a:solidFill>
                    <a:srgbClr val="000000"/>
                  </a:solidFill>
                  <a:latin typeface="Times New Roman"/>
                </a:endParaRPr>
              </a:p>
            </p:txBody>
          </p:sp>
          <p:sp>
            <p:nvSpPr>
              <p:cNvPr id="94" name=""/>
              <p:cNvSpPr/>
              <p:nvPr/>
            </p:nvSpPr>
            <p:spPr>
              <a:xfrm>
                <a:off x="7467480" y="56232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r>
                  <a:rPr b="0" lang="en-US" sz="1800" spc="-1" strike="noStrike" baseline="30000">
                    <a:solidFill>
                      <a:srgbClr val="000000"/>
                    </a:solidFill>
                    <a:latin typeface="Arial"/>
                  </a:rPr>
                  <a:t>18</a:t>
                </a:r>
                <a:endParaRPr b="0" lang="en-US" sz="1800" spc="-1" strike="noStrike">
                  <a:solidFill>
                    <a:srgbClr val="000000"/>
                  </a:solidFill>
                  <a:latin typeface="Times New Roman"/>
                </a:endParaRPr>
              </a:p>
            </p:txBody>
          </p:sp>
          <p:sp>
            <p:nvSpPr>
              <p:cNvPr id="95" name=""/>
              <p:cNvSpPr/>
              <p:nvPr/>
            </p:nvSpPr>
            <p:spPr>
              <a:xfrm>
                <a:off x="1219320" y="5775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371600" y="569916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828800" y="569916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28600" y="577548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57200" y="569916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590920" y="5775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743200" y="569916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200400" y="569916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962520" y="5775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114800" y="569916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572000" y="569916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334120" y="5775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486400" y="569916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943600" y="569916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720" y="5775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858000" y="569916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315200" y="569916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77320" y="5775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8229600" y="569916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8686800" y="569916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 name=""/>
          <p:cNvSpPr/>
          <p:nvPr/>
        </p:nvSpPr>
        <p:spPr>
          <a:xfrm>
            <a:off x="304920" y="1523880"/>
            <a:ext cx="990360" cy="457200"/>
          </a:xfrm>
          <a:prstGeom prst="rect">
            <a:avLst/>
          </a:prstGeom>
          <a:gradFill rotWithShape="0">
            <a:gsLst>
              <a:gs pos="0">
                <a:srgbClr val="dddddd"/>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1295280" y="1523880"/>
            <a:ext cx="4876920" cy="457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172200" y="1523880"/>
            <a:ext cx="2286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400800" y="1523880"/>
            <a:ext cx="1371600" cy="457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772400" y="1523880"/>
            <a:ext cx="1066680" cy="457200"/>
          </a:xfrm>
          <a:prstGeom prst="rect">
            <a:avLst/>
          </a:prstGeom>
          <a:gradFill rotWithShape="0">
            <a:gsLst>
              <a:gs pos="0">
                <a:srgbClr val="ffffff"/>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52280" y="1523880"/>
            <a:ext cx="8839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52280" y="1981080"/>
            <a:ext cx="8839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2" name=""/>
          <p:cNvGrpSpPr/>
          <p:nvPr/>
        </p:nvGrpSpPr>
        <p:grpSpPr>
          <a:xfrm>
            <a:off x="5867280" y="2438280"/>
            <a:ext cx="2057400" cy="838080"/>
            <a:chOff x="5867280" y="2438280"/>
            <a:chExt cx="2057400" cy="838080"/>
          </a:xfrm>
        </p:grpSpPr>
        <p:sp>
          <p:nvSpPr>
            <p:cNvPr id="123" name=""/>
            <p:cNvSpPr/>
            <p:nvPr/>
          </p:nvSpPr>
          <p:spPr>
            <a:xfrm>
              <a:off x="6095880" y="2438280"/>
              <a:ext cx="228600" cy="838080"/>
            </a:xfrm>
            <a:prstGeom prst="rect">
              <a:avLst/>
            </a:prstGeom>
            <a:gradFill rotWithShape="0">
              <a:gsLst>
                <a:gs pos="0">
                  <a:srgbClr val="ff0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324480" y="2438280"/>
              <a:ext cx="228600" cy="838080"/>
            </a:xfrm>
            <a:prstGeom prst="rect">
              <a:avLst/>
            </a:prstGeom>
            <a:gradFill rotWithShape="0">
              <a:gsLst>
                <a:gs pos="0">
                  <a:srgbClr val="ff9933"/>
                </a:gs>
                <a:gs pos="100000">
                  <a:srgbClr val="ff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553080" y="2438280"/>
              <a:ext cx="228600" cy="838080"/>
            </a:xfrm>
            <a:prstGeom prst="rect">
              <a:avLst/>
            </a:prstGeom>
            <a:gradFill rotWithShape="0">
              <a:gsLst>
                <a:gs pos="0">
                  <a:srgbClr val="ffff00"/>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781680" y="2438280"/>
              <a:ext cx="228600" cy="838080"/>
            </a:xfrm>
            <a:prstGeom prst="rect">
              <a:avLst/>
            </a:prstGeom>
            <a:gradFill rotWithShape="0">
              <a:gsLst>
                <a:gs pos="0">
                  <a:srgbClr val="ccff99"/>
                </a:gs>
                <a:gs pos="100000">
                  <a:srgbClr val="ffff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010280" y="2438280"/>
              <a:ext cx="228600" cy="838080"/>
            </a:xfrm>
            <a:prstGeom prst="rect">
              <a:avLst/>
            </a:prstGeom>
            <a:gradFill rotWithShape="0">
              <a:gsLst>
                <a:gs pos="0">
                  <a:srgbClr val="33cc33"/>
                </a:gs>
                <a:gs pos="100000">
                  <a:srgbClr val="ccff9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238880" y="2438280"/>
              <a:ext cx="228600" cy="838080"/>
            </a:xfrm>
            <a:prstGeom prst="rect">
              <a:avLst/>
            </a:prstGeom>
            <a:gradFill rotWithShape="0">
              <a:gsLst>
                <a:gs pos="0">
                  <a:srgbClr val="00ffcc"/>
                </a:gs>
                <a:gs pos="100000">
                  <a:srgbClr val="33cc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467480" y="2438280"/>
              <a:ext cx="228600" cy="838080"/>
            </a:xfrm>
            <a:prstGeom prst="rect">
              <a:avLst/>
            </a:prstGeom>
            <a:gradFill rotWithShape="0">
              <a:gsLst>
                <a:gs pos="0">
                  <a:srgbClr val="3333cc"/>
                </a:gs>
                <a:gs pos="100000">
                  <a:srgbClr val="00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696080" y="2438280"/>
              <a:ext cx="228600" cy="838080"/>
            </a:xfrm>
            <a:prstGeom prst="rect">
              <a:avLst/>
            </a:prstGeom>
            <a:gradFill rotWithShape="0">
              <a:gsLst>
                <a:gs pos="0">
                  <a:srgbClr val="000000"/>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867280" y="2438280"/>
              <a:ext cx="228600" cy="838080"/>
            </a:xfrm>
            <a:prstGeom prst="rect">
              <a:avLst/>
            </a:prstGeom>
            <a:gradFill rotWithShape="0">
              <a:gsLst>
                <a:gs pos="0">
                  <a:srgbClr val="8000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2" name=""/>
          <p:cNvSpPr/>
          <p:nvPr/>
        </p:nvSpPr>
        <p:spPr>
          <a:xfrm flipH="1">
            <a:off x="5866920" y="2057400"/>
            <a:ext cx="3049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400800" y="2057400"/>
            <a:ext cx="15238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096240" y="2108160"/>
            <a:ext cx="567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Times New Roman"/>
            </a:endParaRPr>
          </a:p>
        </p:txBody>
      </p:sp>
      <p:sp>
        <p:nvSpPr>
          <p:cNvPr id="135" name=""/>
          <p:cNvSpPr/>
          <p:nvPr/>
        </p:nvSpPr>
        <p:spPr>
          <a:xfrm flipH="1" flipV="1">
            <a:off x="6629040" y="1294920"/>
            <a:ext cx="1522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304920" y="1295280"/>
            <a:ext cx="632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6781680" y="1294920"/>
            <a:ext cx="1526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934320" y="129528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28600" y="160020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F</a:t>
            </a:r>
            <a:endParaRPr b="0" lang="en-US" sz="1200" spc="-1" strike="noStrike">
              <a:solidFill>
                <a:srgbClr val="000000"/>
              </a:solidFill>
              <a:latin typeface="Times New Roman"/>
            </a:endParaRPr>
          </a:p>
        </p:txBody>
      </p:sp>
      <p:sp>
        <p:nvSpPr>
          <p:cNvPr id="140" name=""/>
          <p:cNvSpPr/>
          <p:nvPr/>
        </p:nvSpPr>
        <p:spPr>
          <a:xfrm>
            <a:off x="1676520" y="1600200"/>
            <a:ext cx="1981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 Frequencies</a:t>
            </a:r>
            <a:endParaRPr b="0" lang="en-US" sz="1200" spc="-1" strike="noStrike">
              <a:solidFill>
                <a:srgbClr val="000000"/>
              </a:solidFill>
              <a:latin typeface="Times New Roman"/>
            </a:endParaRPr>
          </a:p>
        </p:txBody>
      </p:sp>
      <p:sp>
        <p:nvSpPr>
          <p:cNvPr id="141" name=""/>
          <p:cNvSpPr/>
          <p:nvPr/>
        </p:nvSpPr>
        <p:spPr>
          <a:xfrm>
            <a:off x="6858000" y="160020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Rays</a:t>
            </a:r>
            <a:endParaRPr b="0" lang="en-US" sz="1200" spc="-1" strike="noStrike">
              <a:solidFill>
                <a:srgbClr val="000000"/>
              </a:solidFill>
              <a:latin typeface="Times New Roman"/>
            </a:endParaRPr>
          </a:p>
        </p:txBody>
      </p:sp>
      <p:sp>
        <p:nvSpPr>
          <p:cNvPr id="142" name=""/>
          <p:cNvSpPr/>
          <p:nvPr/>
        </p:nvSpPr>
        <p:spPr>
          <a:xfrm>
            <a:off x="7924680" y="1523880"/>
            <a:ext cx="1067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mma Ray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
          <p:cNvGrpSpPr/>
          <p:nvPr/>
        </p:nvGrpSpPr>
        <p:grpSpPr>
          <a:xfrm>
            <a:off x="609480" y="762120"/>
            <a:ext cx="7848720" cy="5581800"/>
            <a:chOff x="609480" y="762120"/>
            <a:chExt cx="7848720" cy="5581800"/>
          </a:xfrm>
        </p:grpSpPr>
        <p:sp>
          <p:nvSpPr>
            <p:cNvPr id="144" name=""/>
            <p:cNvSpPr/>
            <p:nvPr/>
          </p:nvSpPr>
          <p:spPr>
            <a:xfrm>
              <a:off x="1699560" y="1596240"/>
              <a:ext cx="6104520" cy="3753720"/>
            </a:xfrm>
            <a:prstGeom prst="rect">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09480" y="762120"/>
              <a:ext cx="7848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CC 96-326 Guidelines for Evaluating the Environmental Effects of RF Radiation</a:t>
              </a:r>
              <a:endParaRPr b="0" lang="en-US" sz="2400" spc="-1" strike="noStrike">
                <a:solidFill>
                  <a:srgbClr val="000000"/>
                </a:solidFill>
                <a:latin typeface="Times New Roman"/>
              </a:endParaRPr>
            </a:p>
          </p:txBody>
        </p:sp>
        <p:grpSp>
          <p:nvGrpSpPr>
            <p:cNvPr id="146" name=""/>
            <p:cNvGrpSpPr/>
            <p:nvPr/>
          </p:nvGrpSpPr>
          <p:grpSpPr>
            <a:xfrm>
              <a:off x="2135520" y="5280120"/>
              <a:ext cx="5304960" cy="69480"/>
              <a:chOff x="2135520" y="5280120"/>
              <a:chExt cx="5304960" cy="69480"/>
            </a:xfrm>
          </p:grpSpPr>
          <p:sp>
            <p:nvSpPr>
              <p:cNvPr id="147" name=""/>
              <p:cNvSpPr/>
              <p:nvPr/>
            </p:nvSpPr>
            <p:spPr>
              <a:xfrm>
                <a:off x="2135520" y="5280120"/>
                <a:ext cx="0" cy="6948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148" name=""/>
              <p:cNvSpPr/>
              <p:nvPr/>
            </p:nvSpPr>
            <p:spPr>
              <a:xfrm>
                <a:off x="5187600" y="5280120"/>
                <a:ext cx="0" cy="6948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149" name=""/>
              <p:cNvSpPr/>
              <p:nvPr/>
            </p:nvSpPr>
            <p:spPr>
              <a:xfrm>
                <a:off x="2934720" y="5280120"/>
                <a:ext cx="0" cy="6948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150" name=""/>
              <p:cNvSpPr/>
              <p:nvPr/>
            </p:nvSpPr>
            <p:spPr>
              <a:xfrm>
                <a:off x="3661560" y="5280120"/>
                <a:ext cx="0" cy="6948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151" name=""/>
              <p:cNvSpPr/>
              <p:nvPr/>
            </p:nvSpPr>
            <p:spPr>
              <a:xfrm>
                <a:off x="4460760" y="5280120"/>
                <a:ext cx="0" cy="6948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152" name=""/>
              <p:cNvSpPr/>
              <p:nvPr/>
            </p:nvSpPr>
            <p:spPr>
              <a:xfrm>
                <a:off x="5914440" y="5280120"/>
                <a:ext cx="0" cy="6948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153" name=""/>
              <p:cNvSpPr/>
              <p:nvPr/>
            </p:nvSpPr>
            <p:spPr>
              <a:xfrm>
                <a:off x="6713640" y="5280120"/>
                <a:ext cx="0" cy="6948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154" name=""/>
              <p:cNvSpPr/>
              <p:nvPr/>
            </p:nvSpPr>
            <p:spPr>
              <a:xfrm>
                <a:off x="7440480" y="5280120"/>
                <a:ext cx="0" cy="6948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grpSp>
        <p:sp>
          <p:nvSpPr>
            <p:cNvPr id="155" name=""/>
            <p:cNvSpPr/>
            <p:nvPr/>
          </p:nvSpPr>
          <p:spPr>
            <a:xfrm>
              <a:off x="1699560" y="4515840"/>
              <a:ext cx="7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699560" y="3681360"/>
              <a:ext cx="7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699560" y="2847240"/>
              <a:ext cx="7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699560" y="2013120"/>
              <a:ext cx="7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699560" y="4237560"/>
              <a:ext cx="7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699560" y="3125520"/>
              <a:ext cx="7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917360" y="5488920"/>
              <a:ext cx="508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03</a:t>
              </a:r>
              <a:endParaRPr b="0" lang="en-US" sz="1200" spc="-1" strike="noStrike">
                <a:solidFill>
                  <a:srgbClr val="000000"/>
                </a:solidFill>
                <a:latin typeface="Times New Roman"/>
              </a:endParaRPr>
            </a:p>
          </p:txBody>
        </p:sp>
        <p:sp>
          <p:nvSpPr>
            <p:cNvPr id="162" name=""/>
            <p:cNvSpPr/>
            <p:nvPr/>
          </p:nvSpPr>
          <p:spPr>
            <a:xfrm>
              <a:off x="2644200" y="5488920"/>
              <a:ext cx="508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3</a:t>
              </a:r>
              <a:endParaRPr b="0" lang="en-US" sz="1200" spc="-1" strike="noStrike">
                <a:solidFill>
                  <a:srgbClr val="000000"/>
                </a:solidFill>
                <a:latin typeface="Times New Roman"/>
              </a:endParaRPr>
            </a:p>
          </p:txBody>
        </p:sp>
        <p:sp>
          <p:nvSpPr>
            <p:cNvPr id="163" name=""/>
            <p:cNvSpPr/>
            <p:nvPr/>
          </p:nvSpPr>
          <p:spPr>
            <a:xfrm>
              <a:off x="3370680" y="5488920"/>
              <a:ext cx="508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64" name=""/>
            <p:cNvSpPr/>
            <p:nvPr/>
          </p:nvSpPr>
          <p:spPr>
            <a:xfrm>
              <a:off x="4170240" y="5488920"/>
              <a:ext cx="508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a:t>
              </a:r>
              <a:endParaRPr b="0" lang="en-US" sz="1200" spc="-1" strike="noStrike">
                <a:solidFill>
                  <a:srgbClr val="000000"/>
                </a:solidFill>
                <a:latin typeface="Times New Roman"/>
              </a:endParaRPr>
            </a:p>
          </p:txBody>
        </p:sp>
        <p:sp>
          <p:nvSpPr>
            <p:cNvPr id="165" name=""/>
            <p:cNvSpPr/>
            <p:nvPr/>
          </p:nvSpPr>
          <p:spPr>
            <a:xfrm>
              <a:off x="4897080" y="5488920"/>
              <a:ext cx="508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000000"/>
                </a:solidFill>
                <a:latin typeface="Times New Roman"/>
              </a:endParaRPr>
            </a:p>
          </p:txBody>
        </p:sp>
        <p:sp>
          <p:nvSpPr>
            <p:cNvPr id="166" name=""/>
            <p:cNvSpPr/>
            <p:nvPr/>
          </p:nvSpPr>
          <p:spPr>
            <a:xfrm>
              <a:off x="5478480" y="5488920"/>
              <a:ext cx="799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0</a:t>
              </a:r>
              <a:endParaRPr b="0" lang="en-US" sz="1200" spc="-1" strike="noStrike">
                <a:solidFill>
                  <a:srgbClr val="000000"/>
                </a:solidFill>
                <a:latin typeface="Times New Roman"/>
              </a:endParaRPr>
            </a:p>
          </p:txBody>
        </p:sp>
        <p:sp>
          <p:nvSpPr>
            <p:cNvPr id="167" name=""/>
            <p:cNvSpPr/>
            <p:nvPr/>
          </p:nvSpPr>
          <p:spPr>
            <a:xfrm>
              <a:off x="6204960" y="5488920"/>
              <a:ext cx="944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00</a:t>
              </a:r>
              <a:endParaRPr b="0" lang="en-US" sz="1200" spc="-1" strike="noStrike">
                <a:solidFill>
                  <a:srgbClr val="000000"/>
                </a:solidFill>
                <a:latin typeface="Times New Roman"/>
              </a:endParaRPr>
            </a:p>
          </p:txBody>
        </p:sp>
        <p:sp>
          <p:nvSpPr>
            <p:cNvPr id="168" name=""/>
            <p:cNvSpPr/>
            <p:nvPr/>
          </p:nvSpPr>
          <p:spPr>
            <a:xfrm>
              <a:off x="7077240" y="5488920"/>
              <a:ext cx="799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000</a:t>
              </a:r>
              <a:endParaRPr b="0" lang="en-US" sz="1200" spc="-1" strike="noStrike">
                <a:solidFill>
                  <a:srgbClr val="000000"/>
                </a:solidFill>
                <a:latin typeface="Times New Roman"/>
              </a:endParaRPr>
            </a:p>
          </p:txBody>
        </p:sp>
        <p:sp>
          <p:nvSpPr>
            <p:cNvPr id="169" name=""/>
            <p:cNvSpPr/>
            <p:nvPr/>
          </p:nvSpPr>
          <p:spPr>
            <a:xfrm>
              <a:off x="2498760" y="5975640"/>
              <a:ext cx="4578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cy in Megahertz (MHz)</a:t>
              </a:r>
              <a:endParaRPr b="0" lang="en-US" sz="1800" spc="-1" strike="noStrike">
                <a:solidFill>
                  <a:srgbClr val="000000"/>
                </a:solidFill>
                <a:latin typeface="Times New Roman"/>
              </a:endParaRPr>
            </a:p>
          </p:txBody>
        </p:sp>
        <p:sp>
          <p:nvSpPr>
            <p:cNvPr id="170" name=""/>
            <p:cNvSpPr/>
            <p:nvPr/>
          </p:nvSpPr>
          <p:spPr>
            <a:xfrm rot="16200000">
              <a:off x="-544680" y="3180240"/>
              <a:ext cx="3544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imum Power Density, mW/cm</a:t>
              </a:r>
              <a:r>
                <a:rPr b="0" lang="en-US" sz="1800" spc="-1" strike="noStrike" baseline="30000">
                  <a:solidFill>
                    <a:srgbClr val="000000"/>
                  </a:solidFill>
                  <a:latin typeface="Arial"/>
                </a:rPr>
                <a:t>2</a:t>
              </a:r>
              <a:endParaRPr b="0" lang="en-US" sz="1800" spc="-1" strike="noStrike">
                <a:solidFill>
                  <a:srgbClr val="000000"/>
                </a:solidFill>
                <a:latin typeface="Times New Roman"/>
              </a:endParaRPr>
            </a:p>
          </p:txBody>
        </p:sp>
        <p:sp>
          <p:nvSpPr>
            <p:cNvPr id="171" name=""/>
            <p:cNvSpPr/>
            <p:nvPr/>
          </p:nvSpPr>
          <p:spPr>
            <a:xfrm>
              <a:off x="1263240" y="4376880"/>
              <a:ext cx="508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1</a:t>
              </a:r>
              <a:endParaRPr b="0" lang="en-US" sz="1200" spc="-1" strike="noStrike">
                <a:solidFill>
                  <a:srgbClr val="000000"/>
                </a:solidFill>
                <a:latin typeface="Times New Roman"/>
              </a:endParaRPr>
            </a:p>
          </p:txBody>
        </p:sp>
        <p:sp>
          <p:nvSpPr>
            <p:cNvPr id="172" name=""/>
            <p:cNvSpPr/>
            <p:nvPr/>
          </p:nvSpPr>
          <p:spPr>
            <a:xfrm>
              <a:off x="1263240" y="4098600"/>
              <a:ext cx="508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2</a:t>
              </a:r>
              <a:endParaRPr b="0" lang="en-US" sz="1200" spc="-1" strike="noStrike">
                <a:solidFill>
                  <a:srgbClr val="000000"/>
                </a:solidFill>
                <a:latin typeface="Times New Roman"/>
              </a:endParaRPr>
            </a:p>
          </p:txBody>
        </p:sp>
        <p:sp>
          <p:nvSpPr>
            <p:cNvPr id="173" name=""/>
            <p:cNvSpPr/>
            <p:nvPr/>
          </p:nvSpPr>
          <p:spPr>
            <a:xfrm>
              <a:off x="1263240" y="3542760"/>
              <a:ext cx="508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74" name=""/>
            <p:cNvSpPr/>
            <p:nvPr/>
          </p:nvSpPr>
          <p:spPr>
            <a:xfrm>
              <a:off x="1263240" y="2986200"/>
              <a:ext cx="508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75" name=""/>
            <p:cNvSpPr/>
            <p:nvPr/>
          </p:nvSpPr>
          <p:spPr>
            <a:xfrm>
              <a:off x="1263240" y="2708280"/>
              <a:ext cx="508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176" name=""/>
            <p:cNvSpPr/>
            <p:nvPr/>
          </p:nvSpPr>
          <p:spPr>
            <a:xfrm>
              <a:off x="1263240" y="1874160"/>
              <a:ext cx="508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000000"/>
                </a:solidFill>
                <a:latin typeface="Times New Roman"/>
              </a:endParaRPr>
            </a:p>
          </p:txBody>
        </p:sp>
        <p:sp>
          <p:nvSpPr>
            <p:cNvPr id="177" name=""/>
            <p:cNvSpPr/>
            <p:nvPr/>
          </p:nvSpPr>
          <p:spPr>
            <a:xfrm>
              <a:off x="1844640" y="4793760"/>
              <a:ext cx="2180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eneral Public Exposure</a:t>
              </a:r>
              <a:endParaRPr b="0" lang="en-US" sz="1400" spc="-1" strike="noStrike">
                <a:solidFill>
                  <a:srgbClr val="000000"/>
                </a:solidFill>
                <a:latin typeface="Times New Roman"/>
              </a:endParaRPr>
            </a:p>
          </p:txBody>
        </p:sp>
        <p:sp>
          <p:nvSpPr>
            <p:cNvPr id="178" name=""/>
            <p:cNvSpPr/>
            <p:nvPr/>
          </p:nvSpPr>
          <p:spPr>
            <a:xfrm rot="16200000">
              <a:off x="4088160" y="3273840"/>
              <a:ext cx="3579840" cy="36324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EEE  802.11                                        </a:t>
              </a:r>
              <a:endParaRPr b="0" lang="en-US" sz="1600" spc="-1" strike="noStrike">
                <a:solidFill>
                  <a:srgbClr val="000000"/>
                </a:solidFill>
                <a:latin typeface="Times New Roman"/>
              </a:endParaRPr>
            </a:p>
          </p:txBody>
        </p:sp>
        <p:sp>
          <p:nvSpPr>
            <p:cNvPr id="179" name=""/>
            <p:cNvSpPr/>
            <p:nvPr/>
          </p:nvSpPr>
          <p:spPr>
            <a:xfrm>
              <a:off x="2099160" y="2024640"/>
              <a:ext cx="5389920" cy="2270880"/>
            </a:xfrm>
            <a:custGeom>
              <a:avLst/>
              <a:gdLst/>
              <a:ahLst/>
              <a:rect l="l" t="t" r="r" b="b"/>
              <a:pathLst>
                <a:path w="3560" h="1568">
                  <a:moveTo>
                    <a:pt x="0" y="0"/>
                  </a:moveTo>
                  <a:lnTo>
                    <a:pt x="1000" y="0"/>
                  </a:lnTo>
                  <a:lnTo>
                    <a:pt x="1560" y="1568"/>
                  </a:lnTo>
                  <a:lnTo>
                    <a:pt x="2064" y="1568"/>
                  </a:lnTo>
                  <a:lnTo>
                    <a:pt x="2464" y="1128"/>
                  </a:lnTo>
                  <a:lnTo>
                    <a:pt x="3560" y="1128"/>
                  </a:lnTo>
                </a:path>
              </a:pathLst>
            </a:custGeom>
            <a:noFill/>
            <a:ln w="7632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393920" y="1419120"/>
            <a:ext cx="6858000" cy="4114800"/>
          </a:xfrm>
          <a:prstGeom prst="rect">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599640" y="3308400"/>
            <a:ext cx="4410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 Radio Tower (50,000 Watts ERP)</a:t>
            </a:r>
            <a:endParaRPr b="0" lang="en-US" sz="2000" spc="-1" strike="noStrike">
              <a:solidFill>
                <a:srgbClr val="000000"/>
              </a:solidFill>
              <a:latin typeface="Times New Roman"/>
            </a:endParaRPr>
          </a:p>
        </p:txBody>
      </p:sp>
      <p:sp>
        <p:nvSpPr>
          <p:cNvPr id="182" name=""/>
          <p:cNvSpPr/>
          <p:nvPr/>
        </p:nvSpPr>
        <p:spPr>
          <a:xfrm>
            <a:off x="1465920" y="4086360"/>
            <a:ext cx="4050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ce Station Tower (~300 Watts)</a:t>
            </a:r>
            <a:endParaRPr b="0" lang="en-US" sz="2000" spc="-1" strike="noStrike">
              <a:solidFill>
                <a:srgbClr val="000000"/>
              </a:solidFill>
              <a:latin typeface="Times New Roman"/>
            </a:endParaRPr>
          </a:p>
        </p:txBody>
      </p:sp>
      <p:sp>
        <p:nvSpPr>
          <p:cNvPr id="183" name=""/>
          <p:cNvSpPr/>
          <p:nvPr/>
        </p:nvSpPr>
        <p:spPr>
          <a:xfrm>
            <a:off x="1618560" y="4848120"/>
            <a:ext cx="4094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ular Tower (~2100 Watts ERP)</a:t>
            </a:r>
            <a:endParaRPr b="0" lang="en-US" sz="2000" spc="-1" strike="noStrike">
              <a:solidFill>
                <a:srgbClr val="000000"/>
              </a:solidFill>
              <a:latin typeface="Times New Roman"/>
            </a:endParaRPr>
          </a:p>
        </p:txBody>
      </p:sp>
      <p:sp>
        <p:nvSpPr>
          <p:cNvPr id="184" name=""/>
          <p:cNvSpPr/>
          <p:nvPr/>
        </p:nvSpPr>
        <p:spPr>
          <a:xfrm>
            <a:off x="1828800" y="762120"/>
            <a:ext cx="561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um Power Levels From Towers</a:t>
            </a:r>
            <a:endParaRPr b="0" lang="en-US" sz="2400" spc="-1" strike="noStrike">
              <a:solidFill>
                <a:srgbClr val="000000"/>
              </a:solidFill>
              <a:latin typeface="Times New Roman"/>
            </a:endParaRPr>
          </a:p>
        </p:txBody>
      </p:sp>
      <p:sp>
        <p:nvSpPr>
          <p:cNvPr id="185" name=""/>
          <p:cNvSpPr/>
          <p:nvPr/>
        </p:nvSpPr>
        <p:spPr>
          <a:xfrm>
            <a:off x="6019560" y="6248520"/>
            <a:ext cx="2286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Federal Communications Commission</a:t>
            </a:r>
            <a:endParaRPr b="0" lang="en-US" sz="800" spc="-1" strike="noStrike">
              <a:solidFill>
                <a:srgbClr val="000000"/>
              </a:solidFill>
              <a:latin typeface="Times New Roman"/>
            </a:endParaRPr>
          </a:p>
        </p:txBody>
      </p:sp>
      <p:sp>
        <p:nvSpPr>
          <p:cNvPr id="186" name=""/>
          <p:cNvSpPr/>
          <p:nvPr/>
        </p:nvSpPr>
        <p:spPr>
          <a:xfrm flipV="1">
            <a:off x="2308320" y="54576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7" name=""/>
          <p:cNvSpPr/>
          <p:nvPr/>
        </p:nvSpPr>
        <p:spPr>
          <a:xfrm flipV="1">
            <a:off x="3222720" y="54576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8" name=""/>
          <p:cNvSpPr/>
          <p:nvPr/>
        </p:nvSpPr>
        <p:spPr>
          <a:xfrm flipV="1">
            <a:off x="4137120" y="54576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9" name=""/>
          <p:cNvSpPr/>
          <p:nvPr/>
        </p:nvSpPr>
        <p:spPr>
          <a:xfrm flipV="1">
            <a:off x="5051520" y="54576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0" name=""/>
          <p:cNvSpPr/>
          <p:nvPr/>
        </p:nvSpPr>
        <p:spPr>
          <a:xfrm flipV="1">
            <a:off x="5965920" y="54576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1" name=""/>
          <p:cNvSpPr/>
          <p:nvPr/>
        </p:nvSpPr>
        <p:spPr>
          <a:xfrm flipV="1">
            <a:off x="7794720" y="54576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92" name=""/>
          <p:cNvSpPr/>
          <p:nvPr/>
        </p:nvSpPr>
        <p:spPr>
          <a:xfrm>
            <a:off x="1927080" y="568656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00</a:t>
            </a:r>
            <a:endParaRPr b="0" lang="en-US" sz="1200" spc="-1" strike="noStrike">
              <a:solidFill>
                <a:srgbClr val="000000"/>
              </a:solidFill>
              <a:latin typeface="Times New Roman"/>
            </a:endParaRPr>
          </a:p>
        </p:txBody>
      </p:sp>
      <p:sp>
        <p:nvSpPr>
          <p:cNvPr id="193" name=""/>
          <p:cNvSpPr/>
          <p:nvPr/>
        </p:nvSpPr>
        <p:spPr>
          <a:xfrm>
            <a:off x="2841480" y="568656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00</a:t>
            </a:r>
            <a:endParaRPr b="0" lang="en-US" sz="1200" spc="-1" strike="noStrike">
              <a:solidFill>
                <a:srgbClr val="000000"/>
              </a:solidFill>
              <a:latin typeface="Times New Roman"/>
            </a:endParaRPr>
          </a:p>
        </p:txBody>
      </p:sp>
      <p:sp>
        <p:nvSpPr>
          <p:cNvPr id="194" name=""/>
          <p:cNvSpPr/>
          <p:nvPr/>
        </p:nvSpPr>
        <p:spPr>
          <a:xfrm>
            <a:off x="3755880" y="568656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0,000</a:t>
            </a:r>
            <a:endParaRPr b="0" lang="en-US" sz="1200" spc="-1" strike="noStrike">
              <a:solidFill>
                <a:srgbClr val="000000"/>
              </a:solidFill>
              <a:latin typeface="Times New Roman"/>
            </a:endParaRPr>
          </a:p>
        </p:txBody>
      </p:sp>
      <p:sp>
        <p:nvSpPr>
          <p:cNvPr id="195" name=""/>
          <p:cNvSpPr/>
          <p:nvPr/>
        </p:nvSpPr>
        <p:spPr>
          <a:xfrm>
            <a:off x="4670280" y="568656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000</a:t>
            </a:r>
            <a:endParaRPr b="0" lang="en-US" sz="1200" spc="-1" strike="noStrike">
              <a:solidFill>
                <a:srgbClr val="000000"/>
              </a:solidFill>
              <a:latin typeface="Times New Roman"/>
            </a:endParaRPr>
          </a:p>
        </p:txBody>
      </p:sp>
      <p:sp>
        <p:nvSpPr>
          <p:cNvPr id="196" name=""/>
          <p:cNvSpPr/>
          <p:nvPr/>
        </p:nvSpPr>
        <p:spPr>
          <a:xfrm>
            <a:off x="5584680" y="568656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000</a:t>
            </a:r>
            <a:endParaRPr b="0" lang="en-US" sz="1200" spc="-1" strike="noStrike">
              <a:solidFill>
                <a:srgbClr val="000000"/>
              </a:solidFill>
              <a:latin typeface="Times New Roman"/>
            </a:endParaRPr>
          </a:p>
        </p:txBody>
      </p:sp>
      <p:sp>
        <p:nvSpPr>
          <p:cNvPr id="197" name=""/>
          <p:cNvSpPr/>
          <p:nvPr/>
        </p:nvSpPr>
        <p:spPr>
          <a:xfrm>
            <a:off x="7337520" y="5686560"/>
            <a:ext cx="99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00,000</a:t>
            </a:r>
            <a:endParaRPr b="0" lang="en-US" sz="1200" spc="-1" strike="noStrike">
              <a:solidFill>
                <a:srgbClr val="000000"/>
              </a:solidFill>
              <a:latin typeface="Times New Roman"/>
            </a:endParaRPr>
          </a:p>
        </p:txBody>
      </p:sp>
      <p:sp>
        <p:nvSpPr>
          <p:cNvPr id="198" name=""/>
          <p:cNvSpPr/>
          <p:nvPr/>
        </p:nvSpPr>
        <p:spPr>
          <a:xfrm>
            <a:off x="3908520" y="606744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ts</a:t>
            </a:r>
            <a:endParaRPr b="0" lang="en-US" sz="1800" spc="-1" strike="noStrike">
              <a:solidFill>
                <a:srgbClr val="000000"/>
              </a:solidFill>
              <a:latin typeface="Times New Roman"/>
            </a:endParaRPr>
          </a:p>
        </p:txBody>
      </p:sp>
      <p:sp>
        <p:nvSpPr>
          <p:cNvPr id="199" name=""/>
          <p:cNvSpPr/>
          <p:nvPr/>
        </p:nvSpPr>
        <p:spPr>
          <a:xfrm>
            <a:off x="1393920" y="1800360"/>
            <a:ext cx="5257800" cy="3045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HF TV Tower (5 Million Watts ERP)</a:t>
            </a:r>
            <a:endParaRPr b="0" lang="en-US" sz="2000" spc="-1" strike="noStrike">
              <a:solidFill>
                <a:srgbClr val="000000"/>
              </a:solidFill>
              <a:latin typeface="Times New Roman"/>
            </a:endParaRPr>
          </a:p>
        </p:txBody>
      </p:sp>
      <p:sp>
        <p:nvSpPr>
          <p:cNvPr id="200" name=""/>
          <p:cNvSpPr/>
          <p:nvPr/>
        </p:nvSpPr>
        <p:spPr>
          <a:xfrm>
            <a:off x="1393920" y="2562120"/>
            <a:ext cx="525780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M Radio Tower (100,000 Watts ERP)</a:t>
            </a:r>
            <a:endParaRPr b="0" lang="en-US" sz="2000" spc="-1" strike="noStrike">
              <a:solidFill>
                <a:srgbClr val="000000"/>
              </a:solidFill>
              <a:latin typeface="Times New Roman"/>
            </a:endParaRPr>
          </a:p>
        </p:txBody>
      </p:sp>
      <p:sp>
        <p:nvSpPr>
          <p:cNvPr id="201" name=""/>
          <p:cNvSpPr/>
          <p:nvPr/>
        </p:nvSpPr>
        <p:spPr>
          <a:xfrm>
            <a:off x="1393920" y="3324240"/>
            <a:ext cx="22096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1393920" y="4086360"/>
            <a:ext cx="7596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393920" y="4848120"/>
            <a:ext cx="1522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261200" y="1800360"/>
            <a:ext cx="609480" cy="3045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6651720" y="1800360"/>
            <a:ext cx="609480" cy="3045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6" name=""/>
          <p:cNvGrpSpPr/>
          <p:nvPr/>
        </p:nvGrpSpPr>
        <p:grpSpPr>
          <a:xfrm>
            <a:off x="6499080" y="5457600"/>
            <a:ext cx="761760" cy="152640"/>
            <a:chOff x="6499080" y="5457600"/>
            <a:chExt cx="761760" cy="152640"/>
          </a:xfrm>
        </p:grpSpPr>
        <p:sp>
          <p:nvSpPr>
            <p:cNvPr id="207" name=""/>
            <p:cNvSpPr/>
            <p:nvPr/>
          </p:nvSpPr>
          <p:spPr>
            <a:xfrm flipV="1">
              <a:off x="6499080" y="5457600"/>
              <a:ext cx="45720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08" name=""/>
            <p:cNvSpPr/>
            <p:nvPr/>
          </p:nvSpPr>
          <p:spPr>
            <a:xfrm flipH="1">
              <a:off x="6803640" y="5457960"/>
              <a:ext cx="1526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V="1">
              <a:off x="6803640" y="5533560"/>
              <a:ext cx="45720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sp>
        <p:nvSpPr>
          <p:cNvPr id="210" name=""/>
          <p:cNvSpPr/>
          <p:nvPr/>
        </p:nvSpPr>
        <p:spPr>
          <a:xfrm>
            <a:off x="1393920" y="1800360"/>
            <a:ext cx="647676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flipV="1">
            <a:off x="6575400" y="1876320"/>
            <a:ext cx="4572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12" name=""/>
          <p:cNvSpPr/>
          <p:nvPr/>
        </p:nvSpPr>
        <p:spPr>
          <a:xfrm flipH="1">
            <a:off x="6879960" y="1876320"/>
            <a:ext cx="15228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6880320" y="195264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1371600" y="1266840"/>
            <a:ext cx="6858000" cy="4114800"/>
          </a:xfrm>
          <a:prstGeom prst="rect">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338200" y="3156120"/>
            <a:ext cx="3551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dless 900 MHz Telephone</a:t>
            </a:r>
            <a:endParaRPr b="0" lang="en-US" sz="2000" spc="-1" strike="noStrike">
              <a:solidFill>
                <a:srgbClr val="000000"/>
              </a:solidFill>
              <a:latin typeface="Times New Roman"/>
            </a:endParaRPr>
          </a:p>
        </p:txBody>
      </p:sp>
      <p:sp>
        <p:nvSpPr>
          <p:cNvPr id="216" name=""/>
          <p:cNvSpPr/>
          <p:nvPr/>
        </p:nvSpPr>
        <p:spPr>
          <a:xfrm>
            <a:off x="2351160" y="3933720"/>
            <a:ext cx="406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bile Cellular Telephone [AMPS]</a:t>
            </a:r>
            <a:endParaRPr b="0" lang="en-US" sz="2000" spc="-1" strike="noStrike">
              <a:solidFill>
                <a:srgbClr val="000000"/>
              </a:solidFill>
              <a:latin typeface="Times New Roman"/>
            </a:endParaRPr>
          </a:p>
        </p:txBody>
      </p:sp>
      <p:sp>
        <p:nvSpPr>
          <p:cNvPr id="217" name=""/>
          <p:cNvSpPr/>
          <p:nvPr/>
        </p:nvSpPr>
        <p:spPr>
          <a:xfrm>
            <a:off x="2361600" y="4695840"/>
            <a:ext cx="330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802.11 Client Devices</a:t>
            </a:r>
            <a:endParaRPr b="0" lang="en-US" sz="2000" spc="-1" strike="noStrike">
              <a:solidFill>
                <a:srgbClr val="000000"/>
              </a:solidFill>
              <a:latin typeface="Times New Roman"/>
            </a:endParaRPr>
          </a:p>
        </p:txBody>
      </p:sp>
      <p:sp>
        <p:nvSpPr>
          <p:cNvPr id="218" name=""/>
          <p:cNvSpPr/>
          <p:nvPr/>
        </p:nvSpPr>
        <p:spPr>
          <a:xfrm>
            <a:off x="1069560" y="609480"/>
            <a:ext cx="6990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um Average Power Levels From Devices</a:t>
            </a:r>
            <a:endParaRPr b="0" lang="en-US" sz="2400" spc="-1" strike="noStrike">
              <a:solidFill>
                <a:srgbClr val="000000"/>
              </a:solidFill>
              <a:latin typeface="Times New Roman"/>
            </a:endParaRPr>
          </a:p>
        </p:txBody>
      </p:sp>
      <p:sp>
        <p:nvSpPr>
          <p:cNvPr id="219" name=""/>
          <p:cNvSpPr/>
          <p:nvPr/>
        </p:nvSpPr>
        <p:spPr>
          <a:xfrm>
            <a:off x="5727960" y="6262560"/>
            <a:ext cx="2579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Federal Communications Commission; IEEE</a:t>
            </a:r>
            <a:endParaRPr b="0" lang="en-US" sz="800" spc="-1" strike="noStrike">
              <a:solidFill>
                <a:srgbClr val="000000"/>
              </a:solidFill>
              <a:latin typeface="Times New Roman"/>
            </a:endParaRPr>
          </a:p>
        </p:txBody>
      </p:sp>
      <p:sp>
        <p:nvSpPr>
          <p:cNvPr id="220" name=""/>
          <p:cNvSpPr/>
          <p:nvPr/>
        </p:nvSpPr>
        <p:spPr>
          <a:xfrm flipV="1">
            <a:off x="2286000" y="530532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21" name=""/>
          <p:cNvSpPr/>
          <p:nvPr/>
        </p:nvSpPr>
        <p:spPr>
          <a:xfrm flipV="1">
            <a:off x="3200400" y="530532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22" name=""/>
          <p:cNvSpPr/>
          <p:nvPr/>
        </p:nvSpPr>
        <p:spPr>
          <a:xfrm flipV="1">
            <a:off x="4114800" y="530532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23" name=""/>
          <p:cNvSpPr/>
          <p:nvPr/>
        </p:nvSpPr>
        <p:spPr>
          <a:xfrm flipV="1">
            <a:off x="5029200" y="530532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24" name=""/>
          <p:cNvSpPr/>
          <p:nvPr/>
        </p:nvSpPr>
        <p:spPr>
          <a:xfrm flipV="1">
            <a:off x="5943600" y="530532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25" name=""/>
          <p:cNvSpPr/>
          <p:nvPr/>
        </p:nvSpPr>
        <p:spPr>
          <a:xfrm flipV="1">
            <a:off x="7772400" y="530532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26" name=""/>
          <p:cNvSpPr/>
          <p:nvPr/>
        </p:nvSpPr>
        <p:spPr>
          <a:xfrm>
            <a:off x="1905120" y="5533920"/>
            <a:ext cx="761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27" name=""/>
          <p:cNvSpPr/>
          <p:nvPr/>
        </p:nvSpPr>
        <p:spPr>
          <a:xfrm>
            <a:off x="2819520" y="5533920"/>
            <a:ext cx="761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228" name=""/>
          <p:cNvSpPr/>
          <p:nvPr/>
        </p:nvSpPr>
        <p:spPr>
          <a:xfrm>
            <a:off x="3733920" y="5533920"/>
            <a:ext cx="761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229" name=""/>
          <p:cNvSpPr/>
          <p:nvPr/>
        </p:nvSpPr>
        <p:spPr>
          <a:xfrm>
            <a:off x="4648320" y="5533920"/>
            <a:ext cx="761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230" name=""/>
          <p:cNvSpPr/>
          <p:nvPr/>
        </p:nvSpPr>
        <p:spPr>
          <a:xfrm>
            <a:off x="5562720" y="5533920"/>
            <a:ext cx="761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231" name=""/>
          <p:cNvSpPr/>
          <p:nvPr/>
        </p:nvSpPr>
        <p:spPr>
          <a:xfrm>
            <a:off x="7315200" y="5533920"/>
            <a:ext cx="99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Times New Roman"/>
            </a:endParaRPr>
          </a:p>
        </p:txBody>
      </p:sp>
      <p:sp>
        <p:nvSpPr>
          <p:cNvPr id="232" name=""/>
          <p:cNvSpPr/>
          <p:nvPr/>
        </p:nvSpPr>
        <p:spPr>
          <a:xfrm>
            <a:off x="3886200" y="5915160"/>
            <a:ext cx="1523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ts</a:t>
            </a:r>
            <a:endParaRPr b="0" lang="en-US" sz="1800" spc="-1" strike="noStrike">
              <a:solidFill>
                <a:srgbClr val="000000"/>
              </a:solidFill>
              <a:latin typeface="Times New Roman"/>
            </a:endParaRPr>
          </a:p>
        </p:txBody>
      </p:sp>
      <p:sp>
        <p:nvSpPr>
          <p:cNvPr id="233" name=""/>
          <p:cNvSpPr/>
          <p:nvPr/>
        </p:nvSpPr>
        <p:spPr>
          <a:xfrm>
            <a:off x="1371600" y="1647720"/>
            <a:ext cx="6477120" cy="3049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ce and Emergency Worker Handheld Radios</a:t>
            </a:r>
            <a:endParaRPr b="0" lang="en-US" sz="2000" spc="-1" strike="noStrike">
              <a:solidFill>
                <a:srgbClr val="000000"/>
              </a:solidFill>
              <a:latin typeface="Times New Roman"/>
            </a:endParaRPr>
          </a:p>
        </p:txBody>
      </p:sp>
      <p:sp>
        <p:nvSpPr>
          <p:cNvPr id="234" name=""/>
          <p:cNvSpPr/>
          <p:nvPr/>
        </p:nvSpPr>
        <p:spPr>
          <a:xfrm>
            <a:off x="1371600" y="2409840"/>
            <a:ext cx="22860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1371600" y="3171960"/>
            <a:ext cx="91440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371600" y="3933720"/>
            <a:ext cx="68580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371600" y="4695840"/>
            <a:ext cx="91440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71600" y="1647720"/>
            <a:ext cx="6477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flipV="1">
            <a:off x="6858000" y="530532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0" name=""/>
          <p:cNvSpPr/>
          <p:nvPr/>
        </p:nvSpPr>
        <p:spPr>
          <a:xfrm>
            <a:off x="6400800" y="5533920"/>
            <a:ext cx="99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241" name=""/>
          <p:cNvSpPr/>
          <p:nvPr/>
        </p:nvSpPr>
        <p:spPr>
          <a:xfrm>
            <a:off x="1598040" y="2394000"/>
            <a:ext cx="501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bile Cellular Telephone [Class IV GSM]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3T14:14:40Z</dcterms:created>
  <dc:creator>Donald J. Bowen</dc:creator>
  <dc:description/>
  <dc:language>en-US</dc:language>
  <cp:lastModifiedBy>Harry Worstell</cp:lastModifiedBy>
  <dcterms:modified xsi:type="dcterms:W3CDTF">2000-09-18T19:57:11Z</dcterms:modified>
  <cp:revision>74</cp:revision>
  <dc:subject/>
  <dc:title>No Slide Title</dc:title>
</cp:coreProperties>
</file>