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FCDA-21D6-4CF8-863F-096768BCE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5A5-F337-4589-9EED-1A580ACB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890-F467-4F1F-B637-7D13E584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CF1-46FD-4594-A4D6-79F68CF0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3C13-0D68-4EF3-AFAB-CA0F307F3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DD2-99C4-4EC7-93E0-1142CA27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80AA-DCB4-40CF-A7BA-4BA296D0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6FD-5052-44C8-BF01-217F488D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4A1-FF04-4E10-B1CE-57B2CE0C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731-DCD3-4A30-9166-4BCDC836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E9F-B4D9-446A-AD40-F8348DA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3B06-1822-49D4-AAAC-8821A459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1825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DDDBEE-7E0F-4587-9949-E20E20034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8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gh Rate 802.11b Study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 to Full Working Grou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ptember 18, 2000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Chairperson HRb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emake@ti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80D5-3FB1-4DFA-98FA-56AB781895B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tter Ballot #2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ter Ballot contained on motion to reaffirm 802.11 support of the PAR for extension of 802.11b to higher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d on vote of 70-0-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cipate final approval by IEEE SA on Thursday, September 21, 2000 at which point TGg will officially b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390F-F6B6-4C12-B036-1DCC4E8177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RbSG Conference C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fully completed series of four conference calls between July 2000 and September 2000 sessions of the 802.11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d draft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dure: 00-209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: 00-210r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Criteria: 00-211r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ADC-C3BF-4827-B9CD-3310F2AF5A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LB #23, specifically YES WITH COMMENTS 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Selection Procedure, Functional Requirements, and Comparis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liaisons with regulatory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 liaisons with other standards organ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BA30-4F40-469B-8EC3-6BA6A66FFF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ssion Objectives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r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for multipath and phase noi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formal call for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complete all work required to allow formal presentation of proposals at the November 2000 s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AA66-76F7-433A-B191-06975D1142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shoemake</cp:lastModifiedBy>
  <cp:lastPrinted>1998-02-10T13:28:06Z</cp:lastPrinted>
  <dcterms:modified xsi:type="dcterms:W3CDTF">2000-09-18T15:40:58Z</dcterms:modified>
  <cp:revision>27</cp:revision>
  <dc:subject/>
  <dc:title>No Slide Title</dc:title>
</cp:coreProperties>
</file>