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E01-871B-4A02-AD86-B5497271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8ECE-F3B4-4620-BFF8-F41B571E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35B-0ACC-4669-B706-5A9424FE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F6D9-65F3-4A66-8457-C2B85584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374-F1D2-469C-A44A-F824A83B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CEF5-C739-4442-B707-505458A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7A32-2C6F-4933-BE9D-8AC58715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FE9-B040-4A8B-9A97-E59B333E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AEBC-8F38-47F0-A82B-9EC02068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C6C-7622-447F-B145-1689A4D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072-C55B-42AB-8E9E-E53FCAB7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B24-76B8-4173-BDB2-9AE525D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A96053-FDE1-432A-BE18-F2AD4AF8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ate 802.11b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tember 18-22,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emake@t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D99-CF17-4B12-B9F0-32A6D86E1A3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ment of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July 2000 Meeting – Doc.: 00/2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 Ballot #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of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81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YES WITH COMMENTS v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6049-D163-4E78-AC2E-D25B9577C0A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Old Business 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status of press release – 00/217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results of conference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utes 00/25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revis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ion Procedure – 00/209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al Requirements – 00/210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1120" indent="-380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rison Criteria – 00/211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420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ath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420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Nois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Procedure, Functional Requirements and Comparison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 related sub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00/209r2, 00/210r3, 00/211r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tain motions to adopt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liaison with FCC and other regulatory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24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BA1-567B-4B6C-8F04-6C725CF246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PAR reaches final approval and TGg is formed, entertain motion to accept HRbSG work and 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of  remaining sub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etermine cut-off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008-8B6F-40E0-BE74-00B2688B71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New Business Cont’d.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liaison with and entertain motions related to liaison wit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CC34 - Electromagnetic Energy Product Performanc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436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TC106 – Testing Instrumentation and Methods for Measuring Electronic and Magnetic Fields Associated with Huma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45E5-9E65-411A-AFB3-AA0B2F3612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10:30 AM – 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day 1:00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1:00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3:30 PM – 5:3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10:30 AM – 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8:00 AM – 10:00 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0:30 AM – 12:00 No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1:00 PM – 3:0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3:30 PM – 5:30 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C56-A7D9-4886-81D2-50A30F9FEB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hoemake</cp:lastModifiedBy>
  <cp:lastPrinted>1998-02-10T13:28:06Z</cp:lastPrinted>
  <dcterms:modified xsi:type="dcterms:W3CDTF">2000-09-18T18:54:30Z</dcterms:modified>
  <cp:revision>28</cp:revision>
  <dc:subject/>
  <dc:title>No Slide Title</dc:title>
</cp:coreProperties>
</file>