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21ECE-5E4B-4959-9820-38ADC6AA62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2778D-3C0B-4EC7-ACAD-C07CB811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CED90-86DA-452C-82BB-F23FA2FF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10B07-F438-4117-B005-D1D68B838F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549FB-C8BB-4C34-9CDC-A7A40F88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7814F-58E7-41F8-B57F-3D38E912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9CFED-0492-498B-AB4C-81A0B284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4D9DC-E5E6-484D-93E6-DA810981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79BAE-0C37-4700-9EF7-F22843D5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FA715-C711-4799-85C6-5852D448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EE51A-DC36-4076-B2B6-1C198746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6C937-BCF5-4700-87A0-72C4B704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5551B9A-0DDF-4742-97E3-A4205EA3E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486400" y="6476760"/>
            <a:ext cx="297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 Petrick, Parker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3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6476760"/>
            <a:ext cx="297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 Petrick, Parker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4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General Overview</a:t>
            </a:r>
            <a:br>
              <a:rPr sz="3600"/>
            </a:b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IEEE 802.11</a:t>
            </a:r>
            <a:br>
              <a:rPr sz="3600"/>
            </a:br>
            <a:r>
              <a:rPr b="0" i="1" lang="en-US" sz="3600" spc="-1" strike="noStrike">
                <a:solidFill>
                  <a:srgbClr val="333399"/>
                </a:solidFill>
                <a:latin typeface="Tahoma"/>
              </a:rPr>
              <a:t>WLAN Standard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C 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Sense Multiple Access with Collision Avoidance (CSMA/C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structure Network (Access Poi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-Hoc Network (No Access Poi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 (ARQ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 Sav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reless Equivalent Privacy (WE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4-bit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HSS Physical 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2017800"/>
            <a:ext cx="796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4 GHz ISM B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and 2 M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 or 4 level Gaussian F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9 chann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pping Rate &gt; 2.5 hops/se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Watt maximum (100 - 500 mW typic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SSS Physical Lay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2017800"/>
            <a:ext cx="7961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4 GHz ISM B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and 2 M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ial Binary and Quadrature P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ing Gain: 11 chips per b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20 MHz channels in ISM Ba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 Watt maximum (100 - 500 mw typic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30556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11 Mbps in 2.4 GHz - IEEE 802.11b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to original DS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ludes 5.5 and 11 Mbps m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compatible with original DS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omplementary Code Keying  (CCK)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acket Binary Convolution Coding (PBCC) as an optional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channels within 2.4 GHz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Existing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79328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54 Mbps in 5 GHz – IEEE 802.11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s in the U-NII 5 GHz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Orthogonal Frequency Division Multiplexing (OFDM)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on multiple subcarr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data rates depending on modulation on subcarriers and F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s from 6 to 54 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Existing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4280" y="76212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moter Organiz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reless Ethernet Compatibility Alliance (WEC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-Fi cer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ensure interoperability between multi-vendor products compliant to IEEE 802.11b 2.4 GHz 11 Mbp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TSI 5GHz Co-Ordination &amp; Harmon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New Develop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Enhancements (T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Quality of Service to support time-bounded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hance Security beyond W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Access Protocol (TG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a standard protocol between access points to support features like roaming hand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Rate Study Group HRb S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 2.4 GHz system to &gt; 20 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ngs to ad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chnical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– general co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erence – BT – portable telephone ???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fety issues in the 2.4GHz – 5GHz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ture beyond current activities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pectrum higher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W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-exist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70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 of IEEE 80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rrent IEEE 802.11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Developments within IEEE 802.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SI Cooperation/Harmo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ustry Promoter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Standards Associ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1828800"/>
            <a:ext cx="8458200" cy="4495680"/>
            <a:chOff x="380880" y="1828800"/>
            <a:chExt cx="8458200" cy="4495680"/>
          </a:xfrm>
        </p:grpSpPr>
        <p:sp>
          <p:nvSpPr>
            <p:cNvPr id="94" name=""/>
            <p:cNvSpPr/>
            <p:nvPr/>
          </p:nvSpPr>
          <p:spPr>
            <a:xfrm>
              <a:off x="3000240" y="4572000"/>
              <a:ext cx="3733920" cy="175248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29040" y="4724280"/>
              <a:ext cx="190512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ha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81440" y="5257800"/>
              <a:ext cx="217656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 (17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81400" y="5791320"/>
              <a:ext cx="31860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OTING MEMBERSHIP (500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95840" y="4129200"/>
              <a:ext cx="168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"/>
                </a:rPr>
                <a:t>IEEE 80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73080" y="3925800"/>
              <a:ext cx="170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PONS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38880" y="4572000"/>
              <a:ext cx="99072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S TA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934320" y="5562720"/>
              <a:ext cx="1676160" cy="685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SO/I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TC1/SC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943600" y="4876560"/>
              <a:ext cx="1295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600" y="5410080"/>
              <a:ext cx="9907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96080" y="52578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00800" y="2743200"/>
              <a:ext cx="243828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PPEA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ESS RELEA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U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79640" y="1982880"/>
              <a:ext cx="224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PU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CIETY S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334120" y="3886200"/>
              <a:ext cx="228600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98920" y="2819520"/>
              <a:ext cx="2438280" cy="1143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ESCOM – PA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VCOM – ST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T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49880" y="2438280"/>
              <a:ext cx="281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EEE-SA STDS B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67000" y="1828800"/>
              <a:ext cx="31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EEE-SA BD OF GO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41920" y="22384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0880" y="4495680"/>
              <a:ext cx="2133720" cy="137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BLISH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MSC BALLO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9720" y="3762360"/>
              <a:ext cx="1770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EEE ST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A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981080" y="3962160"/>
              <a:ext cx="1447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514600" y="4876920"/>
              <a:ext cx="144792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2514240" y="5181120"/>
              <a:ext cx="7621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2514600" y="5181120"/>
              <a:ext cx="1295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6920" y="39625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2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Established in 1884 (AIEE &amp; I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December 1999 Membership was 360,000; 66% USA &amp; 33% Non-U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produces 30 percent of the world's published literature in electrical engineering, computers and control technology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holds annually more than 300 major conferences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has more than 800 active standards with 700 under develop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EEE 802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460520" y="1797120"/>
          <a:ext cx="625788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797120"/>
                    <a:ext cx="62578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6474240" y="2743200"/>
            <a:ext cx="209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ive Offic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-391320" y="4878360"/>
            <a:ext cx="27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Group Offic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2163600"/>
            <a:ext cx="3045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2544840"/>
            <a:ext cx="304560" cy="30456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2600" y="2101680"/>
            <a:ext cx="106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6280" y="2514600"/>
            <a:ext cx="16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Hiber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6120" y="2925720"/>
            <a:ext cx="304920" cy="30492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9600" y="2895480"/>
            <a:ext cx="14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Disba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306600"/>
            <a:ext cx="304560" cy="3049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1520" y="3244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EEE 802.11 Organization Char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92324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IEEE 802.11 Projec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133720" y="1411200"/>
            <a:ext cx="416700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s of IEEE 80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e IEEE 802 to develop consensus standards that benefits the World Wide Networked Socie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the imperative principals of due process, consensus, openness, balance and rights of appe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ronic distribution of standard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83808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urrent IEEE 802.11 Standa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reless Local Area Networks (W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 Access Control (MAC)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ly includes five Physical (PHY)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– 2Mbps Frequency Hopping Spread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– 2Mbps Direct Sequence Spread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– 2Mbps 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Mbps in 2.4 G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4 Mbps in 5 G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02:19:01Z</dcterms:created>
  <dc:creator>Al Petrick</dc:creator>
  <dc:description/>
  <dc:language>en-US</dc:language>
  <cp:lastModifiedBy>Harry Worstell</cp:lastModifiedBy>
  <cp:lastPrinted>2000-07-31T18:27:51Z</cp:lastPrinted>
  <dcterms:modified xsi:type="dcterms:W3CDTF">2000-09-22T17:44:25Z</dcterms:modified>
  <cp:revision>172</cp:revision>
  <dc:subject/>
  <dc:title>0288W-802-11-Marketing-802-11-presentation</dc:title>
</cp:coreProperties>
</file>