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846-8DB4-46B4-93F5-7E71A7DE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D66F-7A70-445A-8A20-B13DDFE1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F4F8-4571-466E-BB4F-A06D2F47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7BC3-49F5-4D66-9E6F-7B4BA793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6960-DFFC-41E3-9ABD-2BB34D6C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2467-5AF9-4255-98DA-790407E8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9AD1-7355-4900-85C3-786B0C84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2D2A-B9FC-4E67-BBD4-97EEA5A4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CDAF-7055-413D-9651-E08E931B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783C-D0B6-44C6-9548-64A4E16E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CBB8-4FAD-43AE-A0C8-174E3444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5C0E-540B-4517-9548-67717D4F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182520"/>
            <a:ext cx="12193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105680" y="6474960"/>
            <a:ext cx="15048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 Petrick, Parker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7E2D61B-DE36-4E83-8175-26CF67715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cius.net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-Hoc Marke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and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Petr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C709-FAD5-4E97-AA58-D6BE8443F8C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ives for November 2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work on draft of 802.11 marketing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WLAN market foreca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e working as a joint .11/.15 marketing collat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F322-F575-4909-ACAD-759A924385A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(WLAN) – 802.15(WPAN) marketing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marketing 802.11 marketing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LAN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coming WLAN con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y bodies, Promo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s 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 publication pa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re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9D36-7EA3-4E05-A797-5345A004D53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ing Activ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9480" y="1969920"/>
            <a:ext cx="6879600" cy="3363120"/>
            <a:chOff x="609480" y="1969920"/>
            <a:chExt cx="6879600" cy="3363120"/>
          </a:xfrm>
        </p:grpSpPr>
        <p:grpSp>
          <p:nvGrpSpPr>
            <p:cNvPr id="51" name=""/>
            <p:cNvGrpSpPr/>
            <p:nvPr/>
          </p:nvGrpSpPr>
          <p:grpSpPr>
            <a:xfrm>
              <a:off x="609480" y="1969920"/>
              <a:ext cx="2590560" cy="2228400"/>
              <a:chOff x="609480" y="1969920"/>
              <a:chExt cx="2590560" cy="2228400"/>
            </a:xfrm>
          </p:grpSpPr>
          <p:sp>
            <p:nvSpPr>
              <p:cNvPr id="52" name=""/>
              <p:cNvSpPr/>
              <p:nvPr/>
            </p:nvSpPr>
            <p:spPr>
              <a:xfrm>
                <a:off x="609480" y="1969920"/>
                <a:ext cx="2590560" cy="2057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60680" y="1969920"/>
                <a:ext cx="2412000" cy="22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IEEE 802.11 WLA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- Website materi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- Liais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- Conferenc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- Trade journal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- Press relea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3581280" y="3188880"/>
              <a:ext cx="220968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31400" y="3279600"/>
              <a:ext cx="169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oi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llabor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87640" y="21222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790600" y="36460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88800" y="3295440"/>
              <a:ext cx="170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802.15 WP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00040" y="3036600"/>
              <a:ext cx="5335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9031800">
              <a:off x="1969920" y="3039480"/>
              <a:ext cx="4114080" cy="137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6909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690959"/>
                </a:path>
              </a:pathLst>
            </a:custGeom>
            <a:noFill/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C121-07A6-47E3-BF60-9B604E746EC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LAN Foreca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quest-Gart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st-Sulliv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ankee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hners – Ins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ture development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B24D-9D91-45C1-B926-1446630B6C4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coming Con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57120" y="13716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– leader – Al Petr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reless Sympos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ptember 25-29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icago, 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ld Inte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ptember 25-29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lanta, 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loy Wireless 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eraton BrookHollow Ho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onsor: A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ctober 25-26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llas, Tex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aciu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dex - LasVe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vember 13-17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3326-D045-4E56-8B22-0D1DFF26D7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CA – Jim Zy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LANA 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SI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AC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6CDA-B7DD-4DE3-917C-2B55116638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de Pub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– coordinator -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s Systems Design Maga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s and Protocols - Colum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EE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2C86-4590-447A-A595-A021ECFA06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s Relations Analy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– leade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rick Ma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s System Design M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 Kee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quest-Gart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 Brul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F0CB-DCBA-4FF4-BC3C-3CCB4991C5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d first draft of 802.11 overview doc: 00/2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 and collaborated with 802.15 marketing group on marketing collateral materials, upcoming conferences, technical paper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ided to work more as a joint .11/.15 marketing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Parker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26B7-3C96-43AD-BC34-4FAACEA36C5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22:42:52Z</dcterms:created>
  <dc:creator>Al Petrick</dc:creator>
  <dc:description/>
  <dc:language>en-US</dc:language>
  <cp:lastModifiedBy>Valued Sony Customer</cp:lastModifiedBy>
  <dcterms:modified xsi:type="dcterms:W3CDTF">2000-09-22T03:36:59Z</dcterms:modified>
  <cp:revision>35</cp:revision>
  <dc:subject/>
  <dc:title>Adhoc-marketing-objectives-and-report-September-2000</dc:title>
</cp:coreProperties>
</file>