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AF2E-C128-4B6B-A9F7-38286FBA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CB3-735A-49CD-AA6A-5172D8E4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CD5E-834D-4DC7-8278-B2C2CD15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DAE-91D4-4F6A-8FA2-2B024767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987E-8CA9-47B1-A389-E5B6C7CC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86EC-6E3F-45A1-80D0-2A7D19E0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DA27-CE9B-486B-BECE-C78740EF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FC2-6E43-4EAF-9862-FA3AFD09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CB1D-1B58-4BA2-B204-39F1A5C1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6C2-DED4-43FD-9249-B5E11260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13FA-3301-4ACB-A9AE-730A03C4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05F3-1B29-4BFD-B0F0-7A527E9D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3DA6E61-4B79-49F0-8986-535EA0DB8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verview of the GSS-API and Kerbe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Beach, Symbol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se Walker, Intel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BB7-9A91-462D-8723-068A2A66D03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GSS-API Mech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NEGO (RFC 2478) - negotiate the other 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beros (RFC 1510, RFC 1964) - centralized key server based on shared secr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KM (RFC 2025) - 1- and 2-way public key based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PKEY (RFC 2847) - one-way authentication a la SSL; a species of SP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RP (draft-ietf-cat-srpgm-xx.txt) - secure remote password; a species of SP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SL (draft-ietf-cat-sasl-gssapi-xx.txt) - one time pass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KINIT (draft-ietf-cat-kerberos-pk-init-xx.txt) - use public key to register secret with Kerberos 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5121-E813-47A6-8C21-B490812627A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N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2057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cc99"/>
                </a:solidFill>
                <a:uFillTx/>
                <a:latin typeface="Times New Roman"/>
              </a:rPr>
              <a:t>Initi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057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9900"/>
                </a:solidFill>
                <a:uFillTx/>
                <a:latin typeface="Times New Roman"/>
              </a:rPr>
              <a:t>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838080" y="2849400"/>
            <a:ext cx="2286000" cy="808920"/>
            <a:chOff x="838080" y="2849400"/>
            <a:chExt cx="2286000" cy="808920"/>
          </a:xfrm>
        </p:grpSpPr>
        <p:sp>
          <p:nvSpPr>
            <p:cNvPr id="133" name=""/>
            <p:cNvSpPr/>
            <p:nvPr/>
          </p:nvSpPr>
          <p:spPr>
            <a:xfrm>
              <a:off x="838080" y="332100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2971800"/>
              <a:ext cx="38124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080" y="2849400"/>
              <a:ext cx="83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962520" y="2895480"/>
            <a:ext cx="4267080" cy="2013840"/>
            <a:chOff x="3962520" y="2895480"/>
            <a:chExt cx="4267080" cy="2013840"/>
          </a:xfrm>
        </p:grpSpPr>
        <p:sp>
          <p:nvSpPr>
            <p:cNvPr id="137" name=""/>
            <p:cNvSpPr/>
            <p:nvPr/>
          </p:nvSpPr>
          <p:spPr>
            <a:xfrm>
              <a:off x="5410080" y="45720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Accep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28954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4280" y="28954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86400" y="28954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48520" y="2895480"/>
              <a:ext cx="60948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0" y="327672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000" y="388620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838080" y="3962520"/>
            <a:ext cx="3505320" cy="1676880"/>
            <a:chOff x="838080" y="3962520"/>
            <a:chExt cx="3505320" cy="1676880"/>
          </a:xfrm>
        </p:grpSpPr>
        <p:sp>
          <p:nvSpPr>
            <p:cNvPr id="145" name=""/>
            <p:cNvSpPr/>
            <p:nvPr/>
          </p:nvSpPr>
          <p:spPr>
            <a:xfrm>
              <a:off x="838080" y="530208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886200" y="3962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352680" y="3962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819520" y="3962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828800" y="3962520"/>
              <a:ext cx="38088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286000" y="3962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28800" y="43434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8800" y="48006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057400" y="2590920"/>
            <a:ext cx="1904400" cy="809640"/>
            <a:chOff x="2057400" y="2590920"/>
            <a:chExt cx="1904400" cy="809640"/>
          </a:xfrm>
        </p:grpSpPr>
        <p:grpSp>
          <p:nvGrpSpPr>
            <p:cNvPr id="154" name=""/>
            <p:cNvGrpSpPr/>
            <p:nvPr/>
          </p:nvGrpSpPr>
          <p:grpSpPr>
            <a:xfrm>
              <a:off x="2057400" y="2590920"/>
              <a:ext cx="1904040" cy="761760"/>
              <a:chOff x="2057400" y="2590920"/>
              <a:chExt cx="1904040" cy="761760"/>
            </a:xfrm>
          </p:grpSpPr>
          <p:sp>
            <p:nvSpPr>
              <p:cNvPr id="155" name=""/>
              <p:cNvSpPr/>
              <p:nvPr/>
            </p:nvSpPr>
            <p:spPr>
              <a:xfrm flipV="1">
                <a:off x="2490120" y="3048120"/>
                <a:ext cx="34632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2057400" y="2590920"/>
                <a:ext cx="1904040" cy="380880"/>
                <a:chOff x="2057400" y="2590920"/>
                <a:chExt cx="1904040" cy="3808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057400" y="2590920"/>
                  <a:ext cx="1904040" cy="38088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00600" y="2644920"/>
                  <a:ext cx="1817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Kerberos, SRP, SPK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" name=""/>
            <p:cNvSpPr/>
            <p:nvPr/>
          </p:nvSpPr>
          <p:spPr>
            <a:xfrm>
              <a:off x="2922840" y="3124080"/>
              <a:ext cx="103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+ Conti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438280" y="4648320"/>
            <a:ext cx="990720" cy="609480"/>
            <a:chOff x="2438280" y="4648320"/>
            <a:chExt cx="990720" cy="609480"/>
          </a:xfrm>
        </p:grpSpPr>
        <p:sp>
          <p:nvSpPr>
            <p:cNvPr id="161" name=""/>
            <p:cNvSpPr/>
            <p:nvPr/>
          </p:nvSpPr>
          <p:spPr>
            <a:xfrm flipV="1">
              <a:off x="2438280" y="4876920"/>
              <a:ext cx="38124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14600" y="46483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419720" y="3809880"/>
            <a:ext cx="1676160" cy="687600"/>
            <a:chOff x="4419720" y="3809880"/>
            <a:chExt cx="1676160" cy="687600"/>
          </a:xfrm>
        </p:grpSpPr>
        <p:grpSp>
          <p:nvGrpSpPr>
            <p:cNvPr id="164" name=""/>
            <p:cNvGrpSpPr/>
            <p:nvPr/>
          </p:nvGrpSpPr>
          <p:grpSpPr>
            <a:xfrm>
              <a:off x="4419720" y="3809880"/>
              <a:ext cx="1676160" cy="685440"/>
              <a:chOff x="4419720" y="3809880"/>
              <a:chExt cx="1676160" cy="685440"/>
            </a:xfrm>
          </p:grpSpPr>
          <p:sp>
            <p:nvSpPr>
              <p:cNvPr id="165" name=""/>
              <p:cNvSpPr/>
              <p:nvPr/>
            </p:nvSpPr>
            <p:spPr>
              <a:xfrm flipH="1" flipV="1">
                <a:off x="5790960" y="4266720"/>
                <a:ext cx="2286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19720" y="3809880"/>
                <a:ext cx="1676160" cy="380880"/>
                <a:chOff x="4419720" y="3809880"/>
                <a:chExt cx="1676160" cy="38088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19720" y="3809880"/>
                  <a:ext cx="1676160" cy="38088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457880" y="3863880"/>
                  <a:ext cx="1600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Kerber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" name=""/>
            <p:cNvSpPr/>
            <p:nvPr/>
          </p:nvSpPr>
          <p:spPr>
            <a:xfrm>
              <a:off x="4876920" y="42210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9900"/>
                  </a:solidFill>
                  <a:latin typeface="Times New Roman"/>
                </a:rPr>
                <a:t>+ 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7943-8ACB-42EB-8A22-F23086E23D5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Kerbero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and Key Distribution Protoc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in late 1980s, latest version is Rev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FC 1510; RFC 1964 fits it into GSS-API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authentication protocol in Windows 2000 Domain 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dely deployed in UNIX sh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5E62-D8A2-407E-A7B2-21681B991F5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es Kerberos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major el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al: a user or system (username, passwo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s (FTP, email, telnet, RF servi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tributio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 - maps principals to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step mod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utually authenticates with KDC (KRB_AP_REQ/KRB_AP_REP exchan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DC issues user authorization to access a service (KRB_TGT_REQ/KRB_TGT_REP exchan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gains access to service by presenting auth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6BF0-550B-4FBF-852F-91813B199C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Authent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B_AP_REQ message asks the KDC for access to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cket Granting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DC creates a unique authentication key for authenticating self with Ticket Granting Service, encrypts it under the user’s password, and sends it back to the user in the KRB_AP_REQ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r decrypts the message and gains access to the authentication k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word is never sent over the airw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BA0E-3397-4428-B58E-CAAE29DDE53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ing Author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B_TGT_REQ asks for authorization to a particular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is protected with authentication key returned by KDC in KRB_AP_REP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DC decrypts message and examines reques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equest is OK, KDC creates a session key to be use between the user and the ser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B_TGT_REP from KDC contains two copies of the session key, one encrypted under user’s authentication key, and other under service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8EF-70EE-4E70-9A34-CCBC7761C4D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ining Access to the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decrypts the KRB_TGT_REP message to get session key and a “ticket” for th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prepares and sends token to server containing “ticket”, other info, encrypted under sessio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decrypts “ticket” using its own authentication key received from KDC and gains access to sessio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rypts rest of request and processes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sends reply to user to authentic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4B22-9A71-4F7B-A339-A93E9E7F733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 as used by GSS-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1600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cc99"/>
                </a:solidFill>
                <a:uFillTx/>
                <a:latin typeface="Times New Roman"/>
              </a:rPr>
              <a:t>Initi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16002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9900"/>
                </a:solidFill>
                <a:uFillTx/>
                <a:latin typeface="Times New Roman"/>
              </a:rPr>
              <a:t>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600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429000" y="2209680"/>
            <a:ext cx="2286000" cy="642240"/>
            <a:chOff x="3429000" y="2209680"/>
            <a:chExt cx="2286000" cy="642240"/>
          </a:xfrm>
        </p:grpSpPr>
        <p:sp>
          <p:nvSpPr>
            <p:cNvPr id="185" name=""/>
            <p:cNvSpPr/>
            <p:nvPr/>
          </p:nvSpPr>
          <p:spPr>
            <a:xfrm>
              <a:off x="3429000" y="251460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29000" y="2209680"/>
              <a:ext cx="38124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447920" y="2468520"/>
            <a:ext cx="1752480" cy="276480"/>
            <a:chOff x="1447920" y="2468520"/>
            <a:chExt cx="1752480" cy="276480"/>
          </a:xfrm>
        </p:grpSpPr>
        <p:sp>
          <p:nvSpPr>
            <p:cNvPr id="188" name=""/>
            <p:cNvSpPr/>
            <p:nvPr/>
          </p:nvSpPr>
          <p:spPr>
            <a:xfrm flipH="1">
              <a:off x="1447920" y="2743200"/>
              <a:ext cx="17524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00200" y="24685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AP_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523880" y="2849400"/>
            <a:ext cx="1676520" cy="276480"/>
            <a:chOff x="1523880" y="2849400"/>
            <a:chExt cx="1676520" cy="276480"/>
          </a:xfrm>
        </p:grpSpPr>
        <p:sp>
          <p:nvSpPr>
            <p:cNvPr id="191" name=""/>
            <p:cNvSpPr/>
            <p:nvPr/>
          </p:nvSpPr>
          <p:spPr>
            <a:xfrm>
              <a:off x="1523880" y="3124080"/>
              <a:ext cx="1676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00200" y="28494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AP_R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447920" y="3276720"/>
            <a:ext cx="1752480" cy="276480"/>
            <a:chOff x="1447920" y="3276720"/>
            <a:chExt cx="1752480" cy="276480"/>
          </a:xfrm>
        </p:grpSpPr>
        <p:sp>
          <p:nvSpPr>
            <p:cNvPr id="194" name=""/>
            <p:cNvSpPr/>
            <p:nvPr/>
          </p:nvSpPr>
          <p:spPr>
            <a:xfrm flipH="1">
              <a:off x="1447920" y="3551400"/>
              <a:ext cx="17524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0200" y="32767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523880" y="3687840"/>
            <a:ext cx="1676520" cy="276480"/>
            <a:chOff x="1523880" y="3687840"/>
            <a:chExt cx="1676520" cy="276480"/>
          </a:xfrm>
        </p:grpSpPr>
        <p:sp>
          <p:nvSpPr>
            <p:cNvPr id="197" name=""/>
            <p:cNvSpPr/>
            <p:nvPr/>
          </p:nvSpPr>
          <p:spPr>
            <a:xfrm>
              <a:off x="1523880" y="3962520"/>
              <a:ext cx="1676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00200" y="3687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486400" y="2895480"/>
            <a:ext cx="3276720" cy="1861560"/>
            <a:chOff x="5486400" y="2895480"/>
            <a:chExt cx="3276720" cy="1861560"/>
          </a:xfrm>
        </p:grpSpPr>
        <p:sp>
          <p:nvSpPr>
            <p:cNvPr id="200" name=""/>
            <p:cNvSpPr/>
            <p:nvPr/>
          </p:nvSpPr>
          <p:spPr>
            <a:xfrm>
              <a:off x="5943600" y="441972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Accep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34320" y="3854520"/>
              <a:ext cx="53316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86400" y="2895480"/>
              <a:ext cx="7621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5715000" y="3429000"/>
              <a:ext cx="1600200" cy="380880"/>
              <a:chOff x="5715000" y="3429000"/>
              <a:chExt cx="1600200" cy="380880"/>
            </a:xfrm>
          </p:grpSpPr>
          <p:sp>
            <p:nvSpPr>
              <p:cNvPr id="204" name=""/>
              <p:cNvSpPr/>
              <p:nvPr/>
            </p:nvSpPr>
            <p:spPr>
              <a:xfrm>
                <a:off x="5715000" y="3429000"/>
                <a:ext cx="1600200" cy="380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49920" y="3483000"/>
                <a:ext cx="153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icket, Authentic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5735520" y="388620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+ Conti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657600" y="4419720"/>
            <a:ext cx="2666880" cy="1143720"/>
            <a:chOff x="3657600" y="4419720"/>
            <a:chExt cx="2666880" cy="1143720"/>
          </a:xfrm>
        </p:grpSpPr>
        <p:sp>
          <p:nvSpPr>
            <p:cNvPr id="208" name=""/>
            <p:cNvSpPr/>
            <p:nvPr/>
          </p:nvSpPr>
          <p:spPr>
            <a:xfrm>
              <a:off x="3657600" y="522612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5562720" y="45720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495320" y="4906800"/>
              <a:ext cx="38124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4343400" y="4419720"/>
              <a:ext cx="1143000" cy="380880"/>
              <a:chOff x="4343400" y="4419720"/>
              <a:chExt cx="1143000" cy="380880"/>
            </a:xfrm>
          </p:grpSpPr>
          <p:sp>
            <p:nvSpPr>
              <p:cNvPr id="212" name=""/>
              <p:cNvSpPr/>
              <p:nvPr/>
            </p:nvSpPr>
            <p:spPr>
              <a:xfrm>
                <a:off x="4343400" y="4419720"/>
                <a:ext cx="1143000" cy="380880"/>
              </a:xfrm>
              <a:prstGeom prst="rect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369320" y="4473720"/>
                <a:ext cx="109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uthentic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5410080" y="46483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9900"/>
                  </a:solidFill>
                  <a:latin typeface="Times New Roman"/>
                </a:rPr>
                <a:t>+ 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592520" y="5638680"/>
            <a:ext cx="1122480" cy="611280"/>
            <a:chOff x="4592520" y="5638680"/>
            <a:chExt cx="1122480" cy="611280"/>
          </a:xfrm>
        </p:grpSpPr>
        <p:sp>
          <p:nvSpPr>
            <p:cNvPr id="216" name=""/>
            <p:cNvSpPr/>
            <p:nvPr/>
          </p:nvSpPr>
          <p:spPr>
            <a:xfrm>
              <a:off x="4592520" y="597348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68840" y="5638680"/>
              <a:ext cx="38088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6190-874A-4F40-B2F8-9E5A5EB194F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KINIT + Kerbe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1600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cc99"/>
                </a:solidFill>
                <a:uFillTx/>
                <a:latin typeface="Times New Roman"/>
              </a:rPr>
              <a:t>Initi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34320" y="16002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9900"/>
                </a:solidFill>
                <a:uFillTx/>
                <a:latin typeface="Times New Roman"/>
              </a:rPr>
              <a:t>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1600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29000" y="2209680"/>
            <a:ext cx="2286000" cy="642240"/>
            <a:chOff x="3429000" y="2209680"/>
            <a:chExt cx="2286000" cy="642240"/>
          </a:xfrm>
        </p:grpSpPr>
        <p:sp>
          <p:nvSpPr>
            <p:cNvPr id="223" name=""/>
            <p:cNvSpPr/>
            <p:nvPr/>
          </p:nvSpPr>
          <p:spPr>
            <a:xfrm>
              <a:off x="3429000" y="251460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29000" y="2209680"/>
              <a:ext cx="38124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447920" y="2743200"/>
            <a:ext cx="1752480" cy="276480"/>
            <a:chOff x="1447920" y="2743200"/>
            <a:chExt cx="1752480" cy="276480"/>
          </a:xfrm>
        </p:grpSpPr>
        <p:sp>
          <p:nvSpPr>
            <p:cNvPr id="226" name=""/>
            <p:cNvSpPr/>
            <p:nvPr/>
          </p:nvSpPr>
          <p:spPr>
            <a:xfrm flipH="1">
              <a:off x="1447920" y="3017880"/>
              <a:ext cx="17524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00200" y="27432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523880" y="3154320"/>
            <a:ext cx="1676520" cy="276480"/>
            <a:chOff x="1523880" y="3154320"/>
            <a:chExt cx="1676520" cy="276480"/>
          </a:xfrm>
        </p:grpSpPr>
        <p:sp>
          <p:nvSpPr>
            <p:cNvPr id="229" name=""/>
            <p:cNvSpPr/>
            <p:nvPr/>
          </p:nvSpPr>
          <p:spPr>
            <a:xfrm>
              <a:off x="1523880" y="3429000"/>
              <a:ext cx="1676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00200" y="3154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486400" y="2895480"/>
            <a:ext cx="3276720" cy="1861560"/>
            <a:chOff x="5486400" y="2895480"/>
            <a:chExt cx="3276720" cy="1861560"/>
          </a:xfrm>
        </p:grpSpPr>
        <p:sp>
          <p:nvSpPr>
            <p:cNvPr id="232" name=""/>
            <p:cNvSpPr/>
            <p:nvPr/>
          </p:nvSpPr>
          <p:spPr>
            <a:xfrm>
              <a:off x="5943600" y="441972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Accep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34320" y="3854520"/>
              <a:ext cx="53316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86400" y="2895480"/>
              <a:ext cx="7621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5715000" y="3429000"/>
              <a:ext cx="1600200" cy="380880"/>
              <a:chOff x="5715000" y="3429000"/>
              <a:chExt cx="1600200" cy="380880"/>
            </a:xfrm>
          </p:grpSpPr>
          <p:sp>
            <p:nvSpPr>
              <p:cNvPr id="236" name=""/>
              <p:cNvSpPr/>
              <p:nvPr/>
            </p:nvSpPr>
            <p:spPr>
              <a:xfrm>
                <a:off x="5715000" y="3429000"/>
                <a:ext cx="1600200" cy="380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749920" y="3483000"/>
                <a:ext cx="153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icket, Authentic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5735520" y="388620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+ Conti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657600" y="4419720"/>
            <a:ext cx="2666880" cy="1143720"/>
            <a:chOff x="3657600" y="4419720"/>
            <a:chExt cx="2666880" cy="1143720"/>
          </a:xfrm>
        </p:grpSpPr>
        <p:sp>
          <p:nvSpPr>
            <p:cNvPr id="240" name=""/>
            <p:cNvSpPr/>
            <p:nvPr/>
          </p:nvSpPr>
          <p:spPr>
            <a:xfrm>
              <a:off x="3657600" y="522612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5562720" y="45720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5320" y="4906800"/>
              <a:ext cx="38124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4343400" y="4419720"/>
              <a:ext cx="1143000" cy="380880"/>
              <a:chOff x="4343400" y="4419720"/>
              <a:chExt cx="1143000" cy="380880"/>
            </a:xfrm>
          </p:grpSpPr>
          <p:sp>
            <p:nvSpPr>
              <p:cNvPr id="244" name=""/>
              <p:cNvSpPr/>
              <p:nvPr/>
            </p:nvSpPr>
            <p:spPr>
              <a:xfrm>
                <a:off x="4343400" y="4419720"/>
                <a:ext cx="1143000" cy="380880"/>
              </a:xfrm>
              <a:prstGeom prst="rect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369320" y="4473720"/>
                <a:ext cx="109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uthentic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5410080" y="46483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9900"/>
                  </a:solidFill>
                  <a:latin typeface="Times New Roman"/>
                </a:rPr>
                <a:t>+ 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592520" y="5638680"/>
            <a:ext cx="1122480" cy="611280"/>
            <a:chOff x="4592520" y="5638680"/>
            <a:chExt cx="1122480" cy="611280"/>
          </a:xfrm>
        </p:grpSpPr>
        <p:sp>
          <p:nvSpPr>
            <p:cNvPr id="248" name=""/>
            <p:cNvSpPr/>
            <p:nvPr/>
          </p:nvSpPr>
          <p:spPr>
            <a:xfrm>
              <a:off x="4592520" y="597348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68840" y="5638680"/>
              <a:ext cx="38088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B381-6769-489C-B3BA-04698837B1C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K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1600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cc99"/>
                </a:solidFill>
                <a:uFillTx/>
                <a:latin typeface="Times New Roman"/>
              </a:rPr>
              <a:t>Initi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600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9900"/>
                </a:solidFill>
                <a:uFillTx/>
                <a:latin typeface="Times New Roman"/>
              </a:rPr>
              <a:t>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38080" y="2209680"/>
            <a:ext cx="2286000" cy="642240"/>
            <a:chOff x="838080" y="2209680"/>
            <a:chExt cx="2286000" cy="642240"/>
          </a:xfrm>
        </p:grpSpPr>
        <p:sp>
          <p:nvSpPr>
            <p:cNvPr id="254" name=""/>
            <p:cNvSpPr/>
            <p:nvPr/>
          </p:nvSpPr>
          <p:spPr>
            <a:xfrm>
              <a:off x="838080" y="251460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8080" y="2209680"/>
              <a:ext cx="38124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124080" y="2590920"/>
            <a:ext cx="4953240" cy="1175400"/>
            <a:chOff x="3124080" y="2590920"/>
            <a:chExt cx="4953240" cy="1175400"/>
          </a:xfrm>
        </p:grpSpPr>
        <p:sp>
          <p:nvSpPr>
            <p:cNvPr id="257" name=""/>
            <p:cNvSpPr/>
            <p:nvPr/>
          </p:nvSpPr>
          <p:spPr>
            <a:xfrm>
              <a:off x="5257800" y="34290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Accep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86400" y="27432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248520" y="2743200"/>
              <a:ext cx="53316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24080" y="2743200"/>
              <a:ext cx="46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733920" y="2590920"/>
              <a:ext cx="1600200" cy="380880"/>
              <a:chOff x="3733920" y="2590920"/>
              <a:chExt cx="1600200" cy="380880"/>
            </a:xfrm>
          </p:grpSpPr>
          <p:sp>
            <p:nvSpPr>
              <p:cNvPr id="262" name=""/>
              <p:cNvSpPr/>
              <p:nvPr/>
            </p:nvSpPr>
            <p:spPr>
              <a:xfrm>
                <a:off x="3733920" y="2590920"/>
                <a:ext cx="1600200" cy="380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768840" y="2644920"/>
                <a:ext cx="153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PKM parameter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5049720" y="289548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+ Conti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838080" y="3429000"/>
            <a:ext cx="4800600" cy="1037520"/>
            <a:chOff x="838080" y="3429000"/>
            <a:chExt cx="4800600" cy="1037520"/>
          </a:xfrm>
        </p:grpSpPr>
        <p:sp>
          <p:nvSpPr>
            <p:cNvPr id="266" name=""/>
            <p:cNvSpPr/>
            <p:nvPr/>
          </p:nvSpPr>
          <p:spPr>
            <a:xfrm>
              <a:off x="838080" y="412920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4876920" y="35812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133360" y="35812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676520" y="3581280"/>
              <a:ext cx="3808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2895480" y="3429000"/>
              <a:ext cx="1904760" cy="380880"/>
              <a:chOff x="2895480" y="3429000"/>
              <a:chExt cx="1904760" cy="380880"/>
            </a:xfrm>
          </p:grpSpPr>
          <p:sp>
            <p:nvSpPr>
              <p:cNvPr id="271" name=""/>
              <p:cNvSpPr/>
              <p:nvPr/>
            </p:nvSpPr>
            <p:spPr>
              <a:xfrm>
                <a:off x="2895480" y="3429000"/>
                <a:ext cx="1904760" cy="380880"/>
              </a:xfrm>
              <a:prstGeom prst="rect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936520" y="3483000"/>
                <a:ext cx="1822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ig, SigCert, CryptCe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4724280" y="37638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9900"/>
                  </a:solidFill>
                  <a:latin typeface="Times New Roman"/>
                </a:rPr>
                <a:t>+ Conti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124080" y="4191120"/>
            <a:ext cx="4953240" cy="1067400"/>
            <a:chOff x="3124080" y="4191120"/>
            <a:chExt cx="4953240" cy="1067400"/>
          </a:xfrm>
        </p:grpSpPr>
        <p:sp>
          <p:nvSpPr>
            <p:cNvPr id="275" name=""/>
            <p:cNvSpPr/>
            <p:nvPr/>
          </p:nvSpPr>
          <p:spPr>
            <a:xfrm>
              <a:off x="5257800" y="49212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Accep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05520" y="43434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43600" y="4343400"/>
              <a:ext cx="5335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24080" y="4343400"/>
              <a:ext cx="46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733920" y="4191120"/>
              <a:ext cx="1218960" cy="380880"/>
              <a:chOff x="3733920" y="4191120"/>
              <a:chExt cx="1218960" cy="380880"/>
            </a:xfrm>
          </p:grpSpPr>
          <p:sp>
            <p:nvSpPr>
              <p:cNvPr id="280" name=""/>
              <p:cNvSpPr/>
              <p:nvPr/>
            </p:nvSpPr>
            <p:spPr>
              <a:xfrm>
                <a:off x="3733920" y="4191120"/>
                <a:ext cx="1218960" cy="380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761640" y="4245120"/>
                <a:ext cx="1163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ryp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4821120" y="446580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+ 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410080" y="5257800"/>
            <a:ext cx="1122480" cy="763920"/>
            <a:chOff x="5410080" y="5257800"/>
            <a:chExt cx="1122480" cy="763920"/>
          </a:xfrm>
        </p:grpSpPr>
        <p:sp>
          <p:nvSpPr>
            <p:cNvPr id="284" name=""/>
            <p:cNvSpPr/>
            <p:nvPr/>
          </p:nvSpPr>
          <p:spPr>
            <a:xfrm flipH="1">
              <a:off x="6095520" y="5257800"/>
              <a:ext cx="38124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10080" y="574524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9900"/>
                  </a:solidFill>
                  <a:latin typeface="Times New Roman"/>
                </a:rPr>
                <a:t>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EB60-70B9-44BD-B5DE-73208E535D0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the background to understand and evaluate the Symbol/Intel proposal to base 802.11 security services on the GSS-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AA0-C693-4CEB-8FB2-B30D4A6880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R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95280" y="1600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cc99"/>
                </a:solidFill>
                <a:uFillTx/>
                <a:latin typeface="Times New Roman"/>
              </a:rPr>
              <a:t>Initi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1600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9900"/>
                </a:solidFill>
                <a:uFillTx/>
                <a:latin typeface="Times New Roman"/>
              </a:rPr>
              <a:t>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838080" y="2133720"/>
            <a:ext cx="2286000" cy="718200"/>
            <a:chOff x="838080" y="2133720"/>
            <a:chExt cx="2286000" cy="718200"/>
          </a:xfrm>
        </p:grpSpPr>
        <p:sp>
          <p:nvSpPr>
            <p:cNvPr id="290" name=""/>
            <p:cNvSpPr/>
            <p:nvPr/>
          </p:nvSpPr>
          <p:spPr>
            <a:xfrm>
              <a:off x="838080" y="251460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38080" y="2209680"/>
              <a:ext cx="38124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14400" y="2133720"/>
              <a:ext cx="99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124080" y="2590920"/>
            <a:ext cx="4953240" cy="1175400"/>
            <a:chOff x="3124080" y="2590920"/>
            <a:chExt cx="4953240" cy="1175400"/>
          </a:xfrm>
        </p:grpSpPr>
        <p:sp>
          <p:nvSpPr>
            <p:cNvPr id="294" name=""/>
            <p:cNvSpPr/>
            <p:nvPr/>
          </p:nvSpPr>
          <p:spPr>
            <a:xfrm>
              <a:off x="5257800" y="34290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Accep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105520" y="27432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43600" y="2743200"/>
              <a:ext cx="5335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24080" y="2743200"/>
              <a:ext cx="46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3733920" y="2590920"/>
              <a:ext cx="1218960" cy="380880"/>
              <a:chOff x="3733920" y="2590920"/>
              <a:chExt cx="1218960" cy="380880"/>
            </a:xfrm>
          </p:grpSpPr>
          <p:sp>
            <p:nvSpPr>
              <p:cNvPr id="299" name=""/>
              <p:cNvSpPr/>
              <p:nvPr/>
            </p:nvSpPr>
            <p:spPr>
              <a:xfrm>
                <a:off x="3733920" y="2590920"/>
                <a:ext cx="1218960" cy="380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761640" y="2644920"/>
                <a:ext cx="1163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sername, 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i="1" lang="en-US" sz="1200" spc="-1" strike="noStrike" baseline="30000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821120" y="274320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+ Conti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838080" y="3429000"/>
            <a:ext cx="4800600" cy="1037520"/>
            <a:chOff x="838080" y="3429000"/>
            <a:chExt cx="4800600" cy="1037520"/>
          </a:xfrm>
        </p:grpSpPr>
        <p:sp>
          <p:nvSpPr>
            <p:cNvPr id="303" name=""/>
            <p:cNvSpPr/>
            <p:nvPr/>
          </p:nvSpPr>
          <p:spPr>
            <a:xfrm>
              <a:off x="838080" y="412920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876920" y="358128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2971800" y="358128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14600" y="3581280"/>
              <a:ext cx="3808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3657600" y="3429000"/>
              <a:ext cx="1143000" cy="380880"/>
              <a:chOff x="3657600" y="3429000"/>
              <a:chExt cx="1143000" cy="380880"/>
            </a:xfrm>
          </p:grpSpPr>
          <p:sp>
            <p:nvSpPr>
              <p:cNvPr id="308" name=""/>
              <p:cNvSpPr/>
              <p:nvPr/>
            </p:nvSpPr>
            <p:spPr>
              <a:xfrm>
                <a:off x="3657600" y="3429000"/>
                <a:ext cx="1143000" cy="380880"/>
              </a:xfrm>
              <a:prstGeom prst="rect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683520" y="3483000"/>
                <a:ext cx="109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r>
                  <a:rPr b="0" i="1" lang="en-US" sz="1200" spc="-1" strike="noStrike" baseline="30000">
                    <a:solidFill>
                      <a:srgbClr val="000000"/>
                    </a:solidFill>
                    <a:latin typeface="Times New Roman"/>
                  </a:rPr>
                  <a:t>b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+ 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4724280" y="36576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9900"/>
                  </a:solidFill>
                  <a:latin typeface="Times New Roman"/>
                </a:rPr>
                <a:t>+ Conti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5334120" y="196524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atabase: username, </a:t>
            </a:r>
            <a:r>
              <a:rPr b="1" i="1" lang="en-US" sz="1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 = g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h(</a:t>
            </a:r>
            <a:r>
              <a:rPr b="1" i="1" lang="en-US" sz="1200" spc="-1" strike="noStrike" baseline="30000">
                <a:solidFill>
                  <a:srgbClr val="00cc99"/>
                </a:solidFill>
                <a:latin typeface="Times New Roman"/>
              </a:rPr>
              <a:t>s</a:t>
            </a:r>
            <a:r>
              <a:rPr b="1" lang="en-US" sz="1200" spc="-1" strike="noStrike" baseline="30000">
                <a:solidFill>
                  <a:srgbClr val="00cc99"/>
                </a:solidFill>
                <a:latin typeface="Times New Roman"/>
              </a:rPr>
              <a:t>,password)</a:t>
            </a: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, </a:t>
            </a:r>
            <a:r>
              <a:rPr b="1" i="1" lang="en-US" sz="1200" spc="-1" strike="noStrike">
                <a:solidFill>
                  <a:srgbClr val="00cc99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124080" y="4191120"/>
            <a:ext cx="4953240" cy="1067400"/>
            <a:chOff x="3124080" y="4191120"/>
            <a:chExt cx="4953240" cy="1067400"/>
          </a:xfrm>
        </p:grpSpPr>
        <p:sp>
          <p:nvSpPr>
            <p:cNvPr id="313" name=""/>
            <p:cNvSpPr/>
            <p:nvPr/>
          </p:nvSpPr>
          <p:spPr>
            <a:xfrm>
              <a:off x="5257800" y="49212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Accep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434340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943600" y="4343400"/>
              <a:ext cx="53352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24080" y="4343400"/>
              <a:ext cx="46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3733920" y="4191120"/>
              <a:ext cx="1218960" cy="380880"/>
              <a:chOff x="3733920" y="4191120"/>
              <a:chExt cx="1218960" cy="380880"/>
            </a:xfrm>
          </p:grpSpPr>
          <p:sp>
            <p:nvSpPr>
              <p:cNvPr id="318" name=""/>
              <p:cNvSpPr/>
              <p:nvPr/>
            </p:nvSpPr>
            <p:spPr>
              <a:xfrm>
                <a:off x="3733920" y="4191120"/>
                <a:ext cx="1218960" cy="380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761640" y="4245120"/>
                <a:ext cx="1163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ash1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4821120" y="446580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+ Conti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990720" y="3657600"/>
            <a:ext cx="6172200" cy="1008360"/>
            <a:chOff x="990720" y="3657600"/>
            <a:chExt cx="6172200" cy="1008360"/>
          </a:xfrm>
        </p:grpSpPr>
        <p:sp>
          <p:nvSpPr>
            <p:cNvPr id="322" name=""/>
            <p:cNvSpPr/>
            <p:nvPr/>
          </p:nvSpPr>
          <p:spPr>
            <a:xfrm>
              <a:off x="5791320" y="365760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9900"/>
                  </a:solidFill>
                  <a:latin typeface="Times New Roman"/>
                </a:rPr>
                <a:t>K = g</a:t>
              </a:r>
              <a:r>
                <a:rPr b="1" i="1" lang="en-US" sz="1200" spc="-1" strike="noStrike" baseline="30000">
                  <a:solidFill>
                    <a:srgbClr val="cc9900"/>
                  </a:solidFill>
                  <a:latin typeface="Times New Roman"/>
                </a:rPr>
                <a:t>ab</a:t>
              </a:r>
              <a:r>
                <a:rPr b="1" i="1" lang="en-US" sz="1200" spc="-1" strike="noStrike">
                  <a:solidFill>
                    <a:srgbClr val="cc9900"/>
                  </a:solidFill>
                  <a:latin typeface="Times New Roman"/>
                </a:rPr>
                <a:t>x</a:t>
              </a:r>
              <a:r>
                <a:rPr b="1" i="1" lang="en-US" sz="1200" spc="-1" strike="noStrike" baseline="30000">
                  <a:solidFill>
                    <a:srgbClr val="cc9900"/>
                  </a:solidFill>
                  <a:latin typeface="Times New Roman"/>
                </a:rPr>
                <a:t>n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90720" y="4389480"/>
              <a:ext cx="213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K = ((g</a:t>
              </a:r>
              <a:r>
                <a:rPr b="1" i="1" lang="en-US" sz="1200" spc="-1" strike="noStrike" baseline="30000">
                  <a:solidFill>
                    <a:srgbClr val="00cc99"/>
                  </a:solidFill>
                  <a:latin typeface="Times New Roman"/>
                </a:rPr>
                <a:t>b</a:t>
              </a: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 + x) - x)</a:t>
              </a:r>
              <a:r>
                <a:rPr b="1" i="1" lang="en-US" sz="1200" spc="-1" strike="noStrike" baseline="30000">
                  <a:solidFill>
                    <a:srgbClr val="00cc99"/>
                  </a:solidFill>
                  <a:latin typeface="Times New Roman"/>
                </a:rPr>
                <a:t>(a+n</a:t>
              </a:r>
              <a:r>
                <a:rPr b="1" lang="en-US" sz="1200" spc="-1" strike="noStrike" baseline="30000">
                  <a:solidFill>
                    <a:srgbClr val="00cc99"/>
                  </a:solidFill>
                  <a:latin typeface="Times New Roman"/>
                </a:rPr>
                <a:t>h</a:t>
              </a:r>
              <a:r>
                <a:rPr b="1" i="1" lang="en-US" sz="1200" spc="-1" strike="noStrike" baseline="30000">
                  <a:solidFill>
                    <a:srgbClr val="00cc99"/>
                  </a:solidFill>
                  <a:latin typeface="Times New Roman"/>
                </a:rPr>
                <a:t>(s, passwor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838080" y="4983120"/>
            <a:ext cx="4800600" cy="808920"/>
            <a:chOff x="838080" y="4983120"/>
            <a:chExt cx="4800600" cy="808920"/>
          </a:xfrm>
        </p:grpSpPr>
        <p:sp>
          <p:nvSpPr>
            <p:cNvPr id="325" name=""/>
            <p:cNvSpPr/>
            <p:nvPr/>
          </p:nvSpPr>
          <p:spPr>
            <a:xfrm>
              <a:off x="838080" y="545472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76920" y="51354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2971800" y="5135400"/>
              <a:ext cx="533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514600" y="5135400"/>
              <a:ext cx="38088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657600" y="4983120"/>
              <a:ext cx="1143000" cy="380880"/>
              <a:chOff x="3657600" y="4983120"/>
              <a:chExt cx="1143000" cy="380880"/>
            </a:xfrm>
          </p:grpSpPr>
          <p:sp>
            <p:nvSpPr>
              <p:cNvPr id="330" name=""/>
              <p:cNvSpPr/>
              <p:nvPr/>
            </p:nvSpPr>
            <p:spPr>
              <a:xfrm>
                <a:off x="3657600" y="4983120"/>
                <a:ext cx="1143000" cy="380880"/>
              </a:xfrm>
              <a:prstGeom prst="rect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83520" y="5037120"/>
                <a:ext cx="109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ash2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4724280" y="52117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9900"/>
                  </a:solidFill>
                  <a:latin typeface="Times New Roman"/>
                </a:rPr>
                <a:t>+ 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438280" y="5791320"/>
            <a:ext cx="1122480" cy="611280"/>
            <a:chOff x="2438280" y="5791320"/>
            <a:chExt cx="1122480" cy="611280"/>
          </a:xfrm>
        </p:grpSpPr>
        <p:sp>
          <p:nvSpPr>
            <p:cNvPr id="334" name=""/>
            <p:cNvSpPr/>
            <p:nvPr/>
          </p:nvSpPr>
          <p:spPr>
            <a:xfrm>
              <a:off x="2438280" y="6126120"/>
              <a:ext cx="112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514600" y="5791320"/>
              <a:ext cx="38088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7200-FC94-40E2-8BCD-08E69AE000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S-API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, well-defined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ly deployed and well-t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bero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SS-API mechanism providing mutual authentication and key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ly deployed and well-t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048-CA9E-4E26-AB90-AC7C41709B4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ba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e01496_" descr=""/>
          <p:cNvPicPr/>
          <p:nvPr/>
        </p:nvPicPr>
        <p:blipFill>
          <a:blip r:embed="rId1"/>
          <a:stretch/>
        </p:blipFill>
        <p:spPr>
          <a:xfrm>
            <a:off x="3110040" y="1941480"/>
            <a:ext cx="2922480" cy="346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5606-5726-40FD-9CC8-5C5D8DD4AAD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GSS-AP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S-API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0574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7FA3-153C-4401-BCED-4FC2BE745D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GSS-API?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eric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urity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vice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lications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gramming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erface, defined by RFC 27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FC 2744 gives standard ‘C’ bindings, RFC 2853 for Java b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we will use it as an abstract servic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SS-API interface is implemented by GSS-API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mechanism is a securit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is independent of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DF2B-DA9F-4499-B6E0-7069A9D0E6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GSS-API?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entials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S_Acquire_cred, GSS_Release_cred, GSS_Add_cred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xt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S_Init_sec_context, GSS_Accept_sec_context, GSS_Delete_sec_context, GSS_Inquire_context, GSS_Context_tim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Messag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S_Wrap, GSS_Unwrap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S_Import_name, GSS_Export_name, GSS_Display_statu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A3B8-3734-4180-BD8D-6900FCEF69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SS-API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: Establish a security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2: Use established security context to secure message ex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00F4-0E76-4A4B-A316-E6345AAA97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ablishing a Security Con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2057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cc99"/>
                </a:solidFill>
                <a:uFillTx/>
                <a:latin typeface="Times New Roman"/>
              </a:rPr>
              <a:t>Initi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7280" y="2057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9900"/>
                </a:solidFill>
                <a:uFillTx/>
                <a:latin typeface="Times New Roman"/>
              </a:rPr>
              <a:t>Respo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2849400"/>
            <a:ext cx="2286000" cy="808920"/>
            <a:chOff x="838080" y="2849400"/>
            <a:chExt cx="2286000" cy="808920"/>
          </a:xfrm>
        </p:grpSpPr>
        <p:sp>
          <p:nvSpPr>
            <p:cNvPr id="62" name=""/>
            <p:cNvSpPr/>
            <p:nvPr/>
          </p:nvSpPr>
          <p:spPr>
            <a:xfrm>
              <a:off x="838080" y="332100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8080" y="2971800"/>
              <a:ext cx="38124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8080" y="2849400"/>
              <a:ext cx="83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er 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962520" y="2895480"/>
            <a:ext cx="4267080" cy="2013840"/>
            <a:chOff x="3962520" y="2895480"/>
            <a:chExt cx="4267080" cy="2013840"/>
          </a:xfrm>
        </p:grpSpPr>
        <p:sp>
          <p:nvSpPr>
            <p:cNvPr id="66" name=""/>
            <p:cNvSpPr/>
            <p:nvPr/>
          </p:nvSpPr>
          <p:spPr>
            <a:xfrm>
              <a:off x="5410080" y="45720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Accep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62520" y="28954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24280" y="28954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86400" y="28954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48520" y="2895480"/>
              <a:ext cx="60948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858000" y="327672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58000" y="3886200"/>
              <a:ext cx="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838080" y="3962520"/>
            <a:ext cx="3505320" cy="1676880"/>
            <a:chOff x="838080" y="3962520"/>
            <a:chExt cx="3505320" cy="1676880"/>
          </a:xfrm>
        </p:grpSpPr>
        <p:sp>
          <p:nvSpPr>
            <p:cNvPr id="74" name=""/>
            <p:cNvSpPr/>
            <p:nvPr/>
          </p:nvSpPr>
          <p:spPr>
            <a:xfrm>
              <a:off x="838080" y="530208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886200" y="3962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3352680" y="3962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2819520" y="3962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1828800" y="3962520"/>
              <a:ext cx="38088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2286000" y="39625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28800" y="43434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28800" y="48006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133720" y="2590920"/>
            <a:ext cx="1676160" cy="809640"/>
            <a:chOff x="2133720" y="2590920"/>
            <a:chExt cx="1676160" cy="809640"/>
          </a:xfrm>
        </p:grpSpPr>
        <p:grpSp>
          <p:nvGrpSpPr>
            <p:cNvPr id="83" name=""/>
            <p:cNvGrpSpPr/>
            <p:nvPr/>
          </p:nvGrpSpPr>
          <p:grpSpPr>
            <a:xfrm>
              <a:off x="2133720" y="2590920"/>
              <a:ext cx="1676160" cy="761760"/>
              <a:chOff x="2133720" y="2590920"/>
              <a:chExt cx="1676160" cy="761760"/>
            </a:xfrm>
          </p:grpSpPr>
          <p:sp>
            <p:nvSpPr>
              <p:cNvPr id="84" name=""/>
              <p:cNvSpPr/>
              <p:nvPr/>
            </p:nvSpPr>
            <p:spPr>
              <a:xfrm flipV="1">
                <a:off x="2514600" y="3048120"/>
                <a:ext cx="30492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2133720" y="2590920"/>
                <a:ext cx="1676160" cy="380880"/>
                <a:chOff x="2133720" y="2590920"/>
                <a:chExt cx="1676160" cy="3808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133720" y="2590920"/>
                  <a:ext cx="1676160" cy="380880"/>
                </a:xfrm>
                <a:prstGeom prst="rect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171520" y="2644920"/>
                  <a:ext cx="15998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Authentication Tok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>
              <a:off x="2895480" y="31240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+ Conti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2438280" y="4648320"/>
            <a:ext cx="990720" cy="609480"/>
            <a:chOff x="2438280" y="4648320"/>
            <a:chExt cx="990720" cy="609480"/>
          </a:xfrm>
        </p:grpSpPr>
        <p:sp>
          <p:nvSpPr>
            <p:cNvPr id="90" name=""/>
            <p:cNvSpPr/>
            <p:nvPr/>
          </p:nvSpPr>
          <p:spPr>
            <a:xfrm flipV="1">
              <a:off x="2438280" y="4876920"/>
              <a:ext cx="38124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14600" y="46483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cc99"/>
                  </a:solidFill>
                  <a:latin typeface="Times New Roman"/>
                </a:rPr>
                <a:t>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419720" y="3809880"/>
            <a:ext cx="1676160" cy="687600"/>
            <a:chOff x="4419720" y="3809880"/>
            <a:chExt cx="1676160" cy="687600"/>
          </a:xfrm>
        </p:grpSpPr>
        <p:grpSp>
          <p:nvGrpSpPr>
            <p:cNvPr id="93" name=""/>
            <p:cNvGrpSpPr/>
            <p:nvPr/>
          </p:nvGrpSpPr>
          <p:grpSpPr>
            <a:xfrm>
              <a:off x="4419720" y="3809880"/>
              <a:ext cx="1676160" cy="685440"/>
              <a:chOff x="4419720" y="3809880"/>
              <a:chExt cx="1676160" cy="685440"/>
            </a:xfrm>
          </p:grpSpPr>
          <p:sp>
            <p:nvSpPr>
              <p:cNvPr id="94" name=""/>
              <p:cNvSpPr/>
              <p:nvPr/>
            </p:nvSpPr>
            <p:spPr>
              <a:xfrm flipH="1" flipV="1">
                <a:off x="5790960" y="4266720"/>
                <a:ext cx="22860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4419720" y="3809880"/>
                <a:ext cx="1676160" cy="380880"/>
                <a:chOff x="4419720" y="3809880"/>
                <a:chExt cx="1676160" cy="380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4419720" y="3809880"/>
                  <a:ext cx="1676160" cy="380880"/>
                </a:xfrm>
                <a:prstGeom prst="rect">
                  <a:avLst/>
                </a:prstGeom>
                <a:solidFill>
                  <a:srgbClr val="cc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457880" y="3863880"/>
                  <a:ext cx="1600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Authentication Toke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" name=""/>
            <p:cNvSpPr/>
            <p:nvPr/>
          </p:nvSpPr>
          <p:spPr>
            <a:xfrm>
              <a:off x="4876920" y="42210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cc9900"/>
                  </a:solidFill>
                  <a:latin typeface="Times New Roman"/>
                </a:rPr>
                <a:t>+ O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254F-A28C-4D18-96A5-699D1885777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a Security Contex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2057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cc99"/>
                </a:solidFill>
                <a:uFillTx/>
                <a:latin typeface="Times New Roman"/>
              </a:rPr>
              <a:t>Pe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2057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9900"/>
                </a:solidFill>
                <a:uFillTx/>
                <a:latin typeface="Times New Roman"/>
              </a:rPr>
              <a:t>Pe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38080" y="3505320"/>
            <a:ext cx="2286000" cy="1035720"/>
            <a:chOff x="838080" y="3505320"/>
            <a:chExt cx="2286000" cy="1035720"/>
          </a:xfrm>
        </p:grpSpPr>
        <p:sp>
          <p:nvSpPr>
            <p:cNvPr id="103" name=""/>
            <p:cNvSpPr/>
            <p:nvPr/>
          </p:nvSpPr>
          <p:spPr>
            <a:xfrm>
              <a:off x="838080" y="4203720"/>
              <a:ext cx="228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Wr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19320" y="3505320"/>
              <a:ext cx="2286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71800" y="2895480"/>
            <a:ext cx="2438280" cy="0"/>
            <a:chOff x="2971800" y="2895480"/>
            <a:chExt cx="2438280" cy="0"/>
          </a:xfrm>
        </p:grpSpPr>
        <p:sp>
          <p:nvSpPr>
            <p:cNvPr id="106" name=""/>
            <p:cNvSpPr/>
            <p:nvPr/>
          </p:nvSpPr>
          <p:spPr>
            <a:xfrm>
              <a:off x="2971800" y="28954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24280" y="2895480"/>
              <a:ext cx="685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257800" y="3276720"/>
            <a:ext cx="2819520" cy="1296000"/>
            <a:chOff x="5257800" y="3276720"/>
            <a:chExt cx="2819520" cy="1296000"/>
          </a:xfrm>
        </p:grpSpPr>
        <p:sp>
          <p:nvSpPr>
            <p:cNvPr id="109" name=""/>
            <p:cNvSpPr/>
            <p:nvPr/>
          </p:nvSpPr>
          <p:spPr>
            <a:xfrm>
              <a:off x="5257800" y="4235400"/>
              <a:ext cx="281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SS_Unwr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715000" y="3276720"/>
              <a:ext cx="38088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80880" y="2971800"/>
            <a:ext cx="1676520" cy="380880"/>
            <a:chOff x="380880" y="2971800"/>
            <a:chExt cx="1676520" cy="380880"/>
          </a:xfrm>
        </p:grpSpPr>
        <p:sp>
          <p:nvSpPr>
            <p:cNvPr id="112" name=""/>
            <p:cNvSpPr/>
            <p:nvPr/>
          </p:nvSpPr>
          <p:spPr>
            <a:xfrm>
              <a:off x="380880" y="2971800"/>
              <a:ext cx="1676520" cy="3808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9040" y="3025800"/>
              <a:ext cx="160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362320" y="3048120"/>
            <a:ext cx="2742840" cy="914400"/>
            <a:chOff x="2362320" y="3048120"/>
            <a:chExt cx="2742840" cy="914400"/>
          </a:xfrm>
        </p:grpSpPr>
        <p:sp>
          <p:nvSpPr>
            <p:cNvPr id="115" name=""/>
            <p:cNvSpPr/>
            <p:nvPr/>
          </p:nvSpPr>
          <p:spPr>
            <a:xfrm flipV="1">
              <a:off x="2362320" y="3429000"/>
              <a:ext cx="30456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3429000" y="3048120"/>
              <a:ext cx="1676160" cy="380880"/>
              <a:chOff x="3429000" y="3048120"/>
              <a:chExt cx="1676160" cy="380880"/>
            </a:xfrm>
          </p:grpSpPr>
          <p:sp>
            <p:nvSpPr>
              <p:cNvPr id="117" name=""/>
              <p:cNvSpPr/>
              <p:nvPr/>
            </p:nvSpPr>
            <p:spPr>
              <a:xfrm>
                <a:off x="3429000" y="3048120"/>
                <a:ext cx="1676160" cy="380880"/>
              </a:xfrm>
              <a:prstGeom prst="rect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467160" y="3102120"/>
                <a:ext cx="160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rapped 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6400800" y="2895480"/>
            <a:ext cx="1676520" cy="914400"/>
            <a:chOff x="6400800" y="2895480"/>
            <a:chExt cx="1676520" cy="914400"/>
          </a:xfrm>
        </p:grpSpPr>
        <p:sp>
          <p:nvSpPr>
            <p:cNvPr id="120" name=""/>
            <p:cNvSpPr/>
            <p:nvPr/>
          </p:nvSpPr>
          <p:spPr>
            <a:xfrm flipV="1">
              <a:off x="6934320" y="3352680"/>
              <a:ext cx="2286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400800" y="2895480"/>
              <a:ext cx="1676520" cy="380880"/>
              <a:chOff x="6400800" y="2895480"/>
              <a:chExt cx="1676520" cy="380880"/>
            </a:xfrm>
          </p:grpSpPr>
          <p:sp>
            <p:nvSpPr>
              <p:cNvPr id="122" name=""/>
              <p:cNvSpPr/>
              <p:nvPr/>
            </p:nvSpPr>
            <p:spPr>
              <a:xfrm>
                <a:off x="6400800" y="2895480"/>
                <a:ext cx="1676520" cy="380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438960" y="2949480"/>
                <a:ext cx="160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CF3-3138-4079-B2D5-57A4425882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GSS-AP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S-API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6668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Beach and Jesse Wal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E9A-A7E2-4D6C-952F-36B8C9EE08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8T14:47:30Z</dcterms:created>
  <dc:creator>Jesse R. Walker</dc:creator>
  <dc:description/>
  <dc:language>en-US</dc:language>
  <cp:lastModifiedBy>Jesse R. Walker</cp:lastModifiedBy>
  <cp:lastPrinted>1998-02-10T13:28:06Z</cp:lastPrinted>
  <dcterms:modified xsi:type="dcterms:W3CDTF">2000-09-18T22:40:10Z</dcterms:modified>
  <cp:revision>127</cp:revision>
  <dc:subject/>
  <dc:title>802.1X and 802.11 Security Models</dc:title>
</cp:coreProperties>
</file>