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4DF5-3C25-4030-A65B-70D13134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93E-B4F1-403D-ABB3-09526208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55ED-7D5E-4246-B184-6D3B185B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3FE-7662-418E-B05C-9F8B5EDE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ADF-03D6-41DB-913D-E6907E13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646-A418-4D8C-AB60-4A1D38A4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0DB-4A80-4C79-B1E7-9F23DDB2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89C3-78F0-42C0-82A0-44B95508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5781-09CF-41DC-BB89-399939ABD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0223-DAC3-44B1-8236-9398879F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F7BF-8071-423A-88EF-94BFFFE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C6C5-843E-454B-927D-C2ED8240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21871A-D350-4EB1-BFEB-134A6B3AA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SS-API as an 802.11 Security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e Walker, Intel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Beach, Symbol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F6F-95AB-4103-B323-4BECD50420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andatory Implementation: Ro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2057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2805120"/>
            <a:ext cx="2286000" cy="549720"/>
            <a:chOff x="304920" y="2805120"/>
            <a:chExt cx="2286000" cy="549720"/>
          </a:xfrm>
        </p:grpSpPr>
        <p:sp>
          <p:nvSpPr>
            <p:cNvPr id="160" name=""/>
            <p:cNvSpPr/>
            <p:nvPr/>
          </p:nvSpPr>
          <p:spPr>
            <a:xfrm>
              <a:off x="304920" y="304776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0720" y="2805120"/>
              <a:ext cx="457200" cy="27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838080" y="19810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38280" y="3230640"/>
            <a:ext cx="5257800" cy="276480"/>
            <a:chOff x="2438280" y="3230640"/>
            <a:chExt cx="5257800" cy="276480"/>
          </a:xfrm>
        </p:grpSpPr>
        <p:sp>
          <p:nvSpPr>
            <p:cNvPr id="164" name=""/>
            <p:cNvSpPr/>
            <p:nvPr/>
          </p:nvSpPr>
          <p:spPr>
            <a:xfrm>
              <a:off x="2438280" y="345924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3200" y="32306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34592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6400" y="32306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437920" y="3535200"/>
            <a:ext cx="5181840" cy="276480"/>
            <a:chOff x="2437920" y="3535200"/>
            <a:chExt cx="5181840" cy="276480"/>
          </a:xfrm>
        </p:grpSpPr>
        <p:sp>
          <p:nvSpPr>
            <p:cNvPr id="169" name=""/>
            <p:cNvSpPr/>
            <p:nvPr/>
          </p:nvSpPr>
          <p:spPr>
            <a:xfrm flipH="1">
              <a:off x="2437920" y="37638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43200" y="35352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952520" y="3763800"/>
              <a:ext cx="2667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86400" y="35352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81080" y="3886200"/>
            <a:ext cx="3962520" cy="688320"/>
            <a:chOff x="1981080" y="3886200"/>
            <a:chExt cx="3962520" cy="688320"/>
          </a:xfrm>
        </p:grpSpPr>
        <p:sp>
          <p:nvSpPr>
            <p:cNvPr id="174" name=""/>
            <p:cNvSpPr/>
            <p:nvPr/>
          </p:nvSpPr>
          <p:spPr>
            <a:xfrm>
              <a:off x="4038480" y="4038840"/>
              <a:ext cx="9907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362320" y="3886200"/>
              <a:ext cx="1600200" cy="380880"/>
              <a:chOff x="2362320" y="3886200"/>
              <a:chExt cx="1600200" cy="380880"/>
            </a:xfrm>
          </p:grpSpPr>
          <p:sp>
            <p:nvSpPr>
              <p:cNvPr id="176" name=""/>
              <p:cNvSpPr/>
              <p:nvPr/>
            </p:nvSpPr>
            <p:spPr>
              <a:xfrm>
                <a:off x="2362320" y="3886200"/>
                <a:ext cx="160020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97240" y="3940200"/>
                <a:ext cx="15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cket, 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981080" y="403884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7600" y="426744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04920" y="4572000"/>
            <a:ext cx="4572000" cy="916920"/>
            <a:chOff x="304920" y="4572000"/>
            <a:chExt cx="4572000" cy="916920"/>
          </a:xfrm>
        </p:grpSpPr>
        <p:sp>
          <p:nvSpPr>
            <p:cNvPr id="181" name=""/>
            <p:cNvSpPr/>
            <p:nvPr/>
          </p:nvSpPr>
          <p:spPr>
            <a:xfrm flipH="1">
              <a:off x="3809880" y="4572000"/>
              <a:ext cx="10670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295280" y="4876920"/>
              <a:ext cx="10670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590920" y="4648320"/>
              <a:ext cx="1143000" cy="380880"/>
              <a:chOff x="2590920" y="4648320"/>
              <a:chExt cx="1143000" cy="3808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90920" y="464832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16840" y="470232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304920" y="518184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848720" y="2743200"/>
            <a:ext cx="838080" cy="2590920"/>
            <a:chOff x="7848720" y="2743200"/>
            <a:chExt cx="838080" cy="2590920"/>
          </a:xfrm>
        </p:grpSpPr>
        <p:sp>
          <p:nvSpPr>
            <p:cNvPr id="188" name=""/>
            <p:cNvSpPr/>
            <p:nvPr/>
          </p:nvSpPr>
          <p:spPr>
            <a:xfrm>
              <a:off x="7848720" y="2743200"/>
              <a:ext cx="0" cy="25909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8720" y="384012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Times New Roman"/>
                </a:rPr>
                <a:t>Kerb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3BF-D047-4E74-B2D3-4E79F2687F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2: Bulk Data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GSS_Wrap and GSS_Unwrap as an architectural servic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SS_Wrap to produce token from input into the MAC_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bed token as data field of an 802.11 dat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SS_Unwrap to extract data to output through the receiver’s MAC_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998-85E5-43F1-8EAE-C7DFDBE403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al Model:              Data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295280" y="2666880"/>
            <a:ext cx="2666880" cy="2514600"/>
            <a:chOff x="1295280" y="2666880"/>
            <a:chExt cx="2666880" cy="2514600"/>
          </a:xfrm>
        </p:grpSpPr>
        <p:grpSp>
          <p:nvGrpSpPr>
            <p:cNvPr id="194" name=""/>
            <p:cNvGrpSpPr/>
            <p:nvPr/>
          </p:nvGrpSpPr>
          <p:grpSpPr>
            <a:xfrm>
              <a:off x="1295280" y="2666880"/>
              <a:ext cx="2666880" cy="2514600"/>
              <a:chOff x="1295280" y="2666880"/>
              <a:chExt cx="2666880" cy="2514600"/>
            </a:xfrm>
          </p:grpSpPr>
          <p:sp>
            <p:nvSpPr>
              <p:cNvPr id="195" name=""/>
              <p:cNvSpPr/>
              <p:nvPr/>
            </p:nvSpPr>
            <p:spPr>
              <a:xfrm>
                <a:off x="2666520" y="4343400"/>
                <a:ext cx="1295280" cy="838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5280" y="2666880"/>
                <a:ext cx="2666880" cy="16765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04760" y="3048120"/>
                <a:ext cx="152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C Sublay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80720" y="266688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C_S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71240" y="4373640"/>
                <a:ext cx="129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Y_S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895120" y="4373640"/>
                <a:ext cx="91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SS-A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742840" y="4343400"/>
              <a:ext cx="1067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7560" y="4343400"/>
              <a:ext cx="106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040" y="2666880"/>
              <a:ext cx="1067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81080" y="2666520"/>
            <a:ext cx="1904760" cy="1526400"/>
            <a:chOff x="1981080" y="2666520"/>
            <a:chExt cx="1904760" cy="1526400"/>
          </a:xfrm>
        </p:grpSpPr>
        <p:sp>
          <p:nvSpPr>
            <p:cNvPr id="205" name=""/>
            <p:cNvSpPr/>
            <p:nvPr/>
          </p:nvSpPr>
          <p:spPr>
            <a:xfrm>
              <a:off x="373356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3886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90560" y="391644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S_Wr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047400" y="2895480"/>
              <a:ext cx="6858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047760" y="2666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1916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257800" y="2666880"/>
            <a:ext cx="2666880" cy="2514600"/>
            <a:chOff x="5257800" y="2666880"/>
            <a:chExt cx="2666880" cy="2514600"/>
          </a:xfrm>
        </p:grpSpPr>
        <p:grpSp>
          <p:nvGrpSpPr>
            <p:cNvPr id="213" name=""/>
            <p:cNvGrpSpPr/>
            <p:nvPr/>
          </p:nvGrpSpPr>
          <p:grpSpPr>
            <a:xfrm>
              <a:off x="5257800" y="2666880"/>
              <a:ext cx="2666880" cy="2514600"/>
              <a:chOff x="5257800" y="2666880"/>
              <a:chExt cx="2666880" cy="2514600"/>
            </a:xfrm>
          </p:grpSpPr>
          <p:sp>
            <p:nvSpPr>
              <p:cNvPr id="214" name=""/>
              <p:cNvSpPr/>
              <p:nvPr/>
            </p:nvSpPr>
            <p:spPr>
              <a:xfrm>
                <a:off x="6629040" y="4343400"/>
                <a:ext cx="1295280" cy="838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57800" y="2666880"/>
                <a:ext cx="2666880" cy="16765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67280" y="3048120"/>
                <a:ext cx="152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C Sublay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43240" y="266688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C_S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33760" y="4373640"/>
                <a:ext cx="129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Y_S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857640" y="4373640"/>
                <a:ext cx="91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SS-A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6705360" y="4343400"/>
              <a:ext cx="1067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0080" y="4343400"/>
              <a:ext cx="106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9560" y="2666880"/>
              <a:ext cx="1067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2666520"/>
            <a:ext cx="1981080" cy="1526400"/>
            <a:chOff x="5943600" y="2666520"/>
            <a:chExt cx="1981080" cy="1526400"/>
          </a:xfrm>
        </p:grpSpPr>
        <p:sp>
          <p:nvSpPr>
            <p:cNvPr id="224" name=""/>
            <p:cNvSpPr/>
            <p:nvPr/>
          </p:nvSpPr>
          <p:spPr>
            <a:xfrm>
              <a:off x="769608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360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3886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391644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S_Unwr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009920" y="2895480"/>
              <a:ext cx="6858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7010280" y="2666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8168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EF0-9415-43BC-A689-484B6773981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 (4.1.1): satisified by Ker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modation with QoS (4.2.1): satisfied by Ker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(4.2.2): GSS-API can be integrated into 802.11 access contro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uthenticity (4.2.3) and data confidentiality (4.3.1): satisfied by GSS_Wrap, GSS_Unw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derivation (4.4.1): satisfied by all GSS-API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s protected from eavesdroppers (4.4.2): satisfied by all GSS-API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E12D-8026-4444-A790-B675DD3F9D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 negotiations (4.5.1): satisfied by SPNEGO pseudo-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ility (4.5.2):  well-defined API producing opaque tokens for us to pass back and f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andatory-to-implement algorithm (4.5.3): Kerberos only mandatory-to-implement securit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 to all 802.11 environments (4.6): Yes; see examples to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tory to implement mechanisms support Enterprise, So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PKINIT or SRP for ad hoc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SPKM to support public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C38-2B28-4890-A20B-B0A955D0A4C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-API Proposal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beros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Deplo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2 and Legac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200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63F3-1B10-4293-BDB5-DD90EB77A19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 Specific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uthentic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-less Kerb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between AP, KD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ming optim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E1C-DBC0-475D-B4ED-269757CC14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, then authenticat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S-API model allows any STA to associate with any 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ps current “authenticate, then associate”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uthenticated STA can send only to AP/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drops frames to other dest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allows no direct unicast traffic to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uthenticated STA must authenticate within short time (few seconds) or AP drops its a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9A7-2493-4509-92C3-40F48F9073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 without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xisting Kerberos implementations run over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 encapsulates Kerberos messages in 802.11 Managemen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S-API mechanisms generating messages must use SDE_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P maintains a KDC “Proxy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es User Kerberos messages in UDP/IP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own IP address for thes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filter bogus or malformed Kerbero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s KDC from unauthenticate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BF9-9795-40A3-AD57-63432C6CC1B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between KDC, 802.1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the scope of 802.11, but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permits 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AP (useful for home, So/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side the AP (useful for enterprise camp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ed directly by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ed via proxy device (e.g., RADIUS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TA (useful for IBSS when combined with PKI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B4E-D97A-4BA9-A1C2-97F170FB11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GSS-API (RFC 2743) to define an abstra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802.11 secur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PNEGO (RFC 2478) as the mandatory-to-implement GSS-API security negotiatio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rberos (RFC 1510, RFC 1964) as the mandatory-to-implement GSS-API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6E5-DA49-4919-8C99-10F9D881C7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beros relies on synchroniz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need current time synchronized with KDC’s time, accurate to within seco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ources: NTP or internal clock in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broadcasts time on regular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TA can hea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o beac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7C05-0C6B-450E-AFC7-ADE0C842ED6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optimize roam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ility #1: All AP’s share an identity with the KDC (the AP service is registered with the addresses of every 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ility #2: Distribute a “roaming” key to the APs who distribute it to the 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ACD-9286-47AE-A848-0D4CF6C7FC1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-API Proposal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beros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Deplo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2 and Legac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8098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7EBB-E7B2-420D-A871-5F2C81DE343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Campus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Kerberos KDC config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configured to use centralized 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s send Kerberos ticket request to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proxy ticket requests from STAs to 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proxy responses from KDC to 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s and APs authenticate via tickets returned to STA from 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A835-33F7-460B-9D14-EA189473004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Home/SoHo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beros KDC embedded in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s request tickets to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DC within AP responds directly to STA’s ticke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 and AP authenticate via ticket issued to STA by the AP’s 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D39-887E-458E-9A67-4F7E30FD85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d hoc Network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 maintains its own Kerberos “KDC-l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 users exchange PGP certificates in the clear at a “PGP key signing part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per-link keys with IBSS peer, run the PKINIT+Kerberos GSS-API mechanism, using PGP certificates to establish Kerberos ti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B070-2383-4C8B-B82C-85A01C8135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d hoc Network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 maintains an SRP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on a common password and “userna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e their local SRP databases with the password and user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per-link keys with another peer in IBSS, run the SRP GSS-API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792-8BA3-4F15-AB7E-58A2C1F53A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n Internet Ca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Use SPKM to establish secur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generates a random session key, encrypts with infrastructure’s public registrat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encrypted key to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Run XML over secure link to get credit card number from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Open link to Internet after customer p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ma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is emulates the SSL e-commerc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EDF-33CD-4746-8D34-794CCB0C7E2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egacy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Use SPKM to establish secur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Use legacy 1-way user authentication (e.g., via 802.1x) over secure link to authenticate STA user to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Open access to infrastructure network to the legacy authenticated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891-4B15-4979-98AD-DFE8C92BAAC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Reg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Use SPKM to establish secur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Use EAP (802.1x) over secure link to authenticate user to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Run CMP, CMC, or CEP Certificate Registration to issue certificate, policy to wireless station or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4: Use PKINIT+Kerberos to establish per-link keys there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60CA-DE1C-426D-8C9B-3679F279C3B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s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beros Detai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2 and Legac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057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F69-4BDB-43C0-A926-80DED3CD7F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Credentials Retrie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Use SPKM to establish secur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Run SACRED over secure link to allow user to retrieve credentials from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Rerun SPNEGO to renegotiate link with retrieved cred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37C3-FD56-483D-BD6E-6A8ACA3E2C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Work (1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token encapsulation, forwarding, retries, etc. in 802.11 Mgm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access control state machine to allow mechanisms to passes GSS messages a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GSS_Wrap token encapsulation in 802.11 data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re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SS specific algorithms, e.g., overcoming race conditions on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FC8-50A0-41D6-87AB-BB99B00544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Work (2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 (I)BSS name to security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information desirable in bea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 GSS-API parameters to be used with each mechanism within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synchronization for Kerb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for source code to be truly expo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 get AES incorporated into GSS-API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8BB-3895-4B4D-A32E-545B400C2B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thing else within scope worth do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use of legacy authenti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don’t, market will not take 802.11 authentication seriously. Is it in sc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public network mechan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registration, policy distribu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key distribu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28D-5380-4C57-B3DB-8475CAB64F3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Deplo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-API Proposal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2 and Legac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343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07C-98C9-41CF-9F95-6148D90B167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GSS_(Un)Wr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I is already defined and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 on using known primitives correctly instead of inventing new schemes requiring their ow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er time to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take too long to get key derivati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/Unwrap mechanism expo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 conformant mechanism can be plugged into crypto-less 802.11 exported overs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ing key derivation, security payload formats in 802.11 works moves security back into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857-32BB-4512-80A4-8938C4C211C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WEP for bulk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gram service means RC4 key schedule must be recomputed for each fra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P doesn’t deliver on its promise of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chance of a collision among &lt;key, IV&gt; pairs after onl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4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096 frames throughout entire 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ryptanalysis of RC4 easiest at beginning of output key stream any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P applies the easily cryptanalyzed part of the RC4 key stream to known plaintext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header id field enables differential crypt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P moves crypto considerations into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6B3-E9E9-4144-A070-09C26997710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S-API and supporting mechanisms meet the TG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s has other desirable properties as w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es on widely deployed security service, Ker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s crypto considerations from 802.11 per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s a very large number of deployment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the playing field from a security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the door to innovation by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E9B-1E46-4EA3-BF0D-FD1C6C64048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e01496_" descr=""/>
          <p:cNvPicPr/>
          <p:nvPr/>
        </p:nvPicPr>
        <p:blipFill>
          <a:blip r:embed="rId1"/>
          <a:stretch/>
        </p:blipFill>
        <p:spPr>
          <a:xfrm>
            <a:off x="311004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7354-C5CB-4BDB-9AF0-8C6C54DD131E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y the TGe Requirements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reinvent the wh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s won’t deploy new mechanisms that make them throw away old security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ing our own will take years to get security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se prove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ell-defined tokens that easily fit into existing 802.11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D1F-BDB5-4B69-A9FE-DC766A3B01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 security functionality out of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SS: MAC can’t solve the security problem by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 on how to use security mechanisms, not what the mechanisms are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 the playing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ize network equipment market by introducing a standard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mandate algorithms with open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opportunities for vendors to inno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FCD-ECA2-400F-9188-45F2D9FC79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s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beros Detai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Deplo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2 and Legac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6668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B82-982C-426B-89FA-C1FAA340F0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1: Negotiation, Authentication, and Key Mgm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: use SPNEGO (RFC 2478) pseudo mechanism to negotiate actual security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datory-to-implement authentication: Kerberos (RFC 1510) GSS-API (RFC 196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KINIT+Kerberos for I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GSS-API Kerberos source code available at http://web.mit.edu/kerberos/www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SS-API mechanisms are 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AC8-4AB0-4075-8C9E-FA2BF18640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0" y="5181480"/>
            <a:ext cx="198108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al Model: Authentication and Key Mgm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525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S-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505320"/>
            <a:ext cx="2667240" cy="1676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505320"/>
            <a:ext cx="2666880" cy="1676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29240" y="3886200"/>
            <a:ext cx="179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C Sublayer Management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5560" y="3886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C Sub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24160" y="350532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384804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518148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4145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LME_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518148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5211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Y_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400440" y="4495680"/>
            <a:ext cx="1981440" cy="459000"/>
            <a:chOff x="6400440" y="4495680"/>
            <a:chExt cx="1981440" cy="459000"/>
          </a:xfrm>
        </p:grpSpPr>
        <p:sp>
          <p:nvSpPr>
            <p:cNvPr id="75" name=""/>
            <p:cNvSpPr/>
            <p:nvPr/>
          </p:nvSpPr>
          <p:spPr>
            <a:xfrm flipH="1">
              <a:off x="6400440" y="457200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67480" y="44956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elect Mechani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105520" y="5211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S-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895480" y="4343400"/>
            <a:ext cx="2590920" cy="685800"/>
            <a:chOff x="2895480" y="4343400"/>
            <a:chExt cx="2590920" cy="685800"/>
          </a:xfrm>
        </p:grpSpPr>
        <p:sp>
          <p:nvSpPr>
            <p:cNvPr id="79" name=""/>
            <p:cNvSpPr/>
            <p:nvPr/>
          </p:nvSpPr>
          <p:spPr>
            <a:xfrm>
              <a:off x="5486400" y="4724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5480" y="4724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95480" y="47242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71800" y="434340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bed GSS-API tokens in 802.11 Mgmt Fr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523880" y="2133720"/>
            <a:ext cx="2667240" cy="2361960"/>
            <a:chOff x="1523880" y="2133720"/>
            <a:chExt cx="2667240" cy="2361960"/>
          </a:xfrm>
        </p:grpSpPr>
        <p:grpSp>
          <p:nvGrpSpPr>
            <p:cNvPr id="84" name=""/>
            <p:cNvGrpSpPr/>
            <p:nvPr/>
          </p:nvGrpSpPr>
          <p:grpSpPr>
            <a:xfrm>
              <a:off x="1523880" y="2133720"/>
              <a:ext cx="2667240" cy="1371600"/>
              <a:chOff x="1523880" y="2133720"/>
              <a:chExt cx="2667240" cy="1371600"/>
            </a:xfrm>
          </p:grpSpPr>
          <p:sp>
            <p:nvSpPr>
              <p:cNvPr id="85" name=""/>
              <p:cNvSpPr/>
              <p:nvPr/>
            </p:nvSpPr>
            <p:spPr>
              <a:xfrm>
                <a:off x="1981080" y="2133720"/>
                <a:ext cx="1981440" cy="838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86000" y="22096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SS-API Mechanis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523880" y="2971800"/>
                <a:ext cx="2667240" cy="53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09680" y="3124080"/>
                <a:ext cx="129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L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62320" y="2971800"/>
                <a:ext cx="1066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09680" y="266688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0SDE_S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514600" y="297180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209680" y="3505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C_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FD86-E41C-4609-89C3-2AB12376A0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andatory Implementation: Initial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18288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04920" y="2209680"/>
            <a:ext cx="2286000" cy="550080"/>
            <a:chOff x="304920" y="2209680"/>
            <a:chExt cx="2286000" cy="550080"/>
          </a:xfrm>
        </p:grpSpPr>
        <p:sp>
          <p:nvSpPr>
            <p:cNvPr id="98" name=""/>
            <p:cNvSpPr/>
            <p:nvPr/>
          </p:nvSpPr>
          <p:spPr>
            <a:xfrm>
              <a:off x="304920" y="24526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90720" y="2209680"/>
              <a:ext cx="45720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838080" y="17524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38280" y="2438280"/>
            <a:ext cx="3505320" cy="688320"/>
            <a:chOff x="2438280" y="2438280"/>
            <a:chExt cx="3505320" cy="688320"/>
          </a:xfrm>
        </p:grpSpPr>
        <p:sp>
          <p:nvSpPr>
            <p:cNvPr id="102" name=""/>
            <p:cNvSpPr/>
            <p:nvPr/>
          </p:nvSpPr>
          <p:spPr>
            <a:xfrm>
              <a:off x="3657600" y="28195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25909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2590920"/>
              <a:ext cx="7621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819520" y="2438280"/>
              <a:ext cx="990360" cy="380880"/>
              <a:chOff x="2819520" y="2438280"/>
              <a:chExt cx="990360" cy="380880"/>
            </a:xfrm>
          </p:grpSpPr>
          <p:sp>
            <p:nvSpPr>
              <p:cNvPr id="106" name=""/>
              <p:cNvSpPr/>
              <p:nvPr/>
            </p:nvSpPr>
            <p:spPr>
              <a:xfrm>
                <a:off x="2819520" y="2438280"/>
                <a:ext cx="99036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41840" y="2492280"/>
                <a:ext cx="94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Kerber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304920" y="3048120"/>
            <a:ext cx="4190400" cy="764280"/>
            <a:chOff x="304920" y="3048120"/>
            <a:chExt cx="4190400" cy="764280"/>
          </a:xfrm>
        </p:grpSpPr>
        <p:sp>
          <p:nvSpPr>
            <p:cNvPr id="109" name=""/>
            <p:cNvSpPr/>
            <p:nvPr/>
          </p:nvSpPr>
          <p:spPr>
            <a:xfrm flipH="1">
              <a:off x="1371600" y="3200400"/>
              <a:ext cx="1371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962160" y="3200400"/>
              <a:ext cx="53316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819520" y="3048120"/>
              <a:ext cx="990360" cy="380880"/>
              <a:chOff x="2819520" y="3048120"/>
              <a:chExt cx="990360" cy="380880"/>
            </a:xfrm>
          </p:grpSpPr>
          <p:sp>
            <p:nvSpPr>
              <p:cNvPr id="112" name=""/>
              <p:cNvSpPr/>
              <p:nvPr/>
            </p:nvSpPr>
            <p:spPr>
              <a:xfrm>
                <a:off x="2819520" y="3048120"/>
                <a:ext cx="99036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41840" y="3102120"/>
                <a:ext cx="94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Kerber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04920" y="3505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438280" y="3429000"/>
            <a:ext cx="5257800" cy="276480"/>
            <a:chOff x="2438280" y="3429000"/>
            <a:chExt cx="5257800" cy="276480"/>
          </a:xfrm>
        </p:grpSpPr>
        <p:sp>
          <p:nvSpPr>
            <p:cNvPr id="116" name=""/>
            <p:cNvSpPr/>
            <p:nvPr/>
          </p:nvSpPr>
          <p:spPr>
            <a:xfrm>
              <a:off x="2438280" y="36576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3200" y="34290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2880" y="36576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34290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37920" y="3733920"/>
            <a:ext cx="5181840" cy="276480"/>
            <a:chOff x="2437920" y="3733920"/>
            <a:chExt cx="5181840" cy="276480"/>
          </a:xfrm>
        </p:grpSpPr>
        <p:sp>
          <p:nvSpPr>
            <p:cNvPr id="121" name=""/>
            <p:cNvSpPr/>
            <p:nvPr/>
          </p:nvSpPr>
          <p:spPr>
            <a:xfrm flipH="1">
              <a:off x="2437920" y="396252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37339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952520" y="3962520"/>
              <a:ext cx="2667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6400" y="37339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438280" y="4068720"/>
            <a:ext cx="5257800" cy="276480"/>
            <a:chOff x="2438280" y="4068720"/>
            <a:chExt cx="5257800" cy="276480"/>
          </a:xfrm>
        </p:grpSpPr>
        <p:sp>
          <p:nvSpPr>
            <p:cNvPr id="126" name=""/>
            <p:cNvSpPr/>
            <p:nvPr/>
          </p:nvSpPr>
          <p:spPr>
            <a:xfrm>
              <a:off x="2438280" y="429732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40687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429732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86400" y="40687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437920" y="4373640"/>
            <a:ext cx="5181840" cy="276480"/>
            <a:chOff x="2437920" y="4373640"/>
            <a:chExt cx="5181840" cy="276480"/>
          </a:xfrm>
        </p:grpSpPr>
        <p:sp>
          <p:nvSpPr>
            <p:cNvPr id="131" name=""/>
            <p:cNvSpPr/>
            <p:nvPr/>
          </p:nvSpPr>
          <p:spPr>
            <a:xfrm flipH="1">
              <a:off x="2437920" y="460224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3736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952520" y="4602240"/>
              <a:ext cx="2667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86400" y="43736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981080" y="4724280"/>
            <a:ext cx="3962520" cy="688320"/>
            <a:chOff x="1981080" y="4724280"/>
            <a:chExt cx="3962520" cy="688320"/>
          </a:xfrm>
        </p:grpSpPr>
        <p:sp>
          <p:nvSpPr>
            <p:cNvPr id="136" name=""/>
            <p:cNvSpPr/>
            <p:nvPr/>
          </p:nvSpPr>
          <p:spPr>
            <a:xfrm>
              <a:off x="4038480" y="4876920"/>
              <a:ext cx="9907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362320" y="4724280"/>
              <a:ext cx="1600200" cy="380880"/>
              <a:chOff x="2362320" y="4724280"/>
              <a:chExt cx="1600200" cy="380880"/>
            </a:xfrm>
          </p:grpSpPr>
          <p:sp>
            <p:nvSpPr>
              <p:cNvPr id="138" name=""/>
              <p:cNvSpPr/>
              <p:nvPr/>
            </p:nvSpPr>
            <p:spPr>
              <a:xfrm>
                <a:off x="2362320" y="4724280"/>
                <a:ext cx="160020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97240" y="4778280"/>
                <a:ext cx="15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cket, 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981080" y="48769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57600" y="51055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04920" y="5410080"/>
            <a:ext cx="4572000" cy="916920"/>
            <a:chOff x="304920" y="5410080"/>
            <a:chExt cx="4572000" cy="916920"/>
          </a:xfrm>
        </p:grpSpPr>
        <p:sp>
          <p:nvSpPr>
            <p:cNvPr id="143" name=""/>
            <p:cNvSpPr/>
            <p:nvPr/>
          </p:nvSpPr>
          <p:spPr>
            <a:xfrm flipH="1">
              <a:off x="3809880" y="5410080"/>
              <a:ext cx="10670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295280" y="5715000"/>
              <a:ext cx="10670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590920" y="5486400"/>
              <a:ext cx="1143000" cy="380880"/>
              <a:chOff x="2590920" y="5486400"/>
              <a:chExt cx="1143000" cy="380880"/>
            </a:xfrm>
          </p:grpSpPr>
          <p:sp>
            <p:nvSpPr>
              <p:cNvPr id="146" name=""/>
              <p:cNvSpPr/>
              <p:nvPr/>
            </p:nvSpPr>
            <p:spPr>
              <a:xfrm>
                <a:off x="2590920" y="548640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16840" y="554040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04920" y="60199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848720" y="2438280"/>
            <a:ext cx="838080" cy="914400"/>
            <a:chOff x="7848720" y="2438280"/>
            <a:chExt cx="838080" cy="914400"/>
          </a:xfrm>
        </p:grpSpPr>
        <p:sp>
          <p:nvSpPr>
            <p:cNvPr id="150" name=""/>
            <p:cNvSpPr/>
            <p:nvPr/>
          </p:nvSpPr>
          <p:spPr>
            <a:xfrm>
              <a:off x="7848720" y="2438280"/>
              <a:ext cx="0" cy="9144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48720" y="266688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Times New Roman"/>
                </a:rPr>
                <a:t>SPNE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848720" y="3581280"/>
            <a:ext cx="838080" cy="2590920"/>
            <a:chOff x="7848720" y="3581280"/>
            <a:chExt cx="838080" cy="2590920"/>
          </a:xfrm>
        </p:grpSpPr>
        <p:sp>
          <p:nvSpPr>
            <p:cNvPr id="153" name=""/>
            <p:cNvSpPr/>
            <p:nvPr/>
          </p:nvSpPr>
          <p:spPr>
            <a:xfrm>
              <a:off x="7848720" y="3581280"/>
              <a:ext cx="0" cy="25909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48720" y="467820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Times New Roman"/>
                </a:rPr>
                <a:t>Kerb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0E1-A2A9-4B99-96E6-6A522DC3A2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14:47:30Z</dcterms:created>
  <dc:creator>Jesse R. Walker</dc:creator>
  <dc:description/>
  <dc:language>en-US</dc:language>
  <cp:lastModifiedBy>Jesse R. Walker</cp:lastModifiedBy>
  <cp:lastPrinted>1998-02-10T13:28:06Z</cp:lastPrinted>
  <dcterms:modified xsi:type="dcterms:W3CDTF">2000-09-18T22:40:51Z</dcterms:modified>
  <cp:revision>134</cp:revision>
  <dc:subject/>
  <dc:title>802.1X and 802.11 Security Models</dc:title>
</cp:coreProperties>
</file>