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98480" y="97200"/>
            <a:ext cx="28386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9880" y="97200"/>
            <a:ext cx="276084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8584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805200" y="8986680"/>
            <a:ext cx="25322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2958840" y="8986680"/>
            <a:ext cx="809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F14C6E-6360-45EC-A4E3-E177C886F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0080" y="8986680"/>
            <a:ext cx="71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0080" y="8985240"/>
            <a:ext cx="55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4120" y="297000"/>
            <a:ext cx="56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wer amplifier has a nonlinearity which increases the bandwidth of the signal.  In fact, this 11 MHz chip rate QPSK signal with a 5th order Butterworth filter is able to just meet the mask for this particular PA with a backoff of 3.5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mpact does a power amplifier have on a transmitted signal?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we show the Rapp Model which models the nonlinearity of a power amplifier.  It is commonly accepted that the Rapp Model with a parameter of p=2 or 3 is a good model for realistic PA’s.  The plot shows a linear characterist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584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2040" y="4408560"/>
            <a:ext cx="5132160" cy="4178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lot shows the characteristic in dB vs. dB.  The bottom right plot shows the saturation point and the 1 dB Compression Point for various values of 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794-A779-4DB5-96FE-C48249FC6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2EC-911B-411B-987D-28242F9F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68C5-8D5A-41AB-B7A7-429766276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DC84-5392-4300-947F-90572C3D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BAA-F808-4CEC-A2F4-A6470FDD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236-4D6E-4FF5-874F-1EB805D3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106B-3CE1-4878-9C5C-29D00A85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667-33D7-44E7-95A9-E6E20BB9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36E3-48A7-461B-A517-51051640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5072-337C-42DE-AC32-C4341CC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12A8-4123-4906-A15C-7B0FDFFF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FA20-D01B-4378-B14F-A5FE8CC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Webs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DF779F-82AE-47CC-8706-65FCD9986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PA Model fo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802.11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D1D-49D7-498F-B205-17A54A02753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atlab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0640" y="2209680"/>
            <a:ext cx="7541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%%%%%%%%%%%%%%%%%%%%%%%%%%%%%%%%%%%%%%%%%%%%%%%%%%%%%%%%%%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RappPa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RAPP model of a power amplifi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Input:   Vector of complex numb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Output:  Vector of complex numbers with same dimension as inp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Mark Webster                              September 1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%%%%%%%%%%%%%%%%%%%%%%%%%%%%%%%%%%%%%%%%%%%%%%%%%%%%%%%%%%%%%%%%%%%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 RappPa( x, p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nom = (1 + abs(x).^(2*p)) .^ (1/(2*p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 = x ./ denom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323-47A7-43BC-94F2-13E7EFCE68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use of RAPP PA mod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p=2 and p=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sure output back-off (OBO) from full saturation to specify the drive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-sample signal 2x to 4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spectrum (mask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Carrier Degradation in AW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DEDB-EE70-4ADB-9973-58F047FC980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3680" y="1828800"/>
            <a:ext cx="7204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describes a power amplifi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non-linearity for 802.11 HRb proposal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 impacts spectral ma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 impacts packet-error-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a fair representation of solid-st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power amplif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easy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802.11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 for Wireless Multimedia Communica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chard van Nee, Ramjee Prasad, Artech House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55A-605E-48D4-AF67-138F87015AA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Effect of Power Amplif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382840" y="2057400"/>
            <a:ext cx="356076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1920" y="1752480"/>
            <a:ext cx="1802160" cy="580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 MHz Chip r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PSK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7160" y="1752480"/>
            <a:ext cx="663840" cy="580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R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66680" y="1630440"/>
            <a:ext cx="1794600" cy="824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th 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tterwor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282920" y="2193840"/>
          <a:ext cx="749520" cy="20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2920" y="2193840"/>
                    <a:ext cx="74952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5867280" y="1752480"/>
            <a:ext cx="2210040" cy="5806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efefef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pp PA (p =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5 dB Output Back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90160" y="3092400"/>
            <a:ext cx="16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6160" y="3527280"/>
            <a:ext cx="1526400" cy="580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after 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638320" y="4114800"/>
            <a:ext cx="44316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0320" y="3637080"/>
            <a:ext cx="143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istor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62120" y="4441680"/>
            <a:ext cx="1526400" cy="5806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before P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715000" y="5029200"/>
            <a:ext cx="4428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B0C0-C2B0-4D97-9D4E-0195179D2A6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eneral P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97360" y="2743200"/>
            <a:ext cx="10602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/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97360" y="3505320"/>
            <a:ext cx="106020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/P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7640" y="25146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tla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bs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8840" y="505764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tla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ngle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05920" y="3124080"/>
            <a:ext cx="132372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plitud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3400" y="4435560"/>
            <a:ext cx="9824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40080" y="3200400"/>
            <a:ext cx="560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3657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960440" y="4495680"/>
            <a:ext cx="506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4114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47242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3960" y="3265560"/>
          <a:ext cx="17557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3265560"/>
                    <a:ext cx="1755720" cy="62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6172200" y="4299120"/>
          <a:ext cx="183348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299120"/>
                    <a:ext cx="1833480" cy="80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220968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47242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2057400"/>
            <a:ext cx="5715000" cy="3733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47242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200400"/>
            <a:ext cx="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32004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518080" y="4724280"/>
          <a:ext cx="501840" cy="47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18080" y="4724280"/>
                    <a:ext cx="50184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265640" y="4267080"/>
          <a:ext cx="38268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5640" y="4267080"/>
                    <a:ext cx="382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6018120" y="2666880"/>
          <a:ext cx="611280" cy="55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18120" y="2666880"/>
                    <a:ext cx="611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495680" y="3200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235400" y="2590920"/>
          <a:ext cx="519120" cy="55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35400" y="2590920"/>
                    <a:ext cx="519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864600" y="206856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ower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0880" y="4102200"/>
          <a:ext cx="536400" cy="388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30880" y="4102200"/>
                    <a:ext cx="5364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20920" y="2590920"/>
            <a:ext cx="148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Time-vary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Signal Envel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4B63-BB61-49BA-8A4C-783E49A7271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commended P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68760" y="3292560"/>
            <a:ext cx="10602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A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/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69040" y="27432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tla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bs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30240" y="528624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atla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Angle(*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77320" y="3352680"/>
            <a:ext cx="132372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plitud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74800" y="4664160"/>
            <a:ext cx="9824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as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vel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11480" y="3646440"/>
            <a:ext cx="560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95288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3429000"/>
          <a:ext cx="1447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1447560" cy="80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049800" y="4527720"/>
          <a:ext cx="161928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49800" y="4527720"/>
                    <a:ext cx="1619280" cy="80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981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495288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38098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2286000"/>
            <a:ext cx="5715000" cy="37339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4952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2200" y="365760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64644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976560" y="4419720"/>
          <a:ext cx="460440" cy="55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76560" y="4419720"/>
                    <a:ext cx="46044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789520" y="3112920"/>
          <a:ext cx="611280" cy="55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89520" y="3112920"/>
                    <a:ext cx="611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006800" y="3036960"/>
          <a:ext cx="519120" cy="55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06800" y="3036960"/>
                    <a:ext cx="51912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636000" y="228600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Power Ampl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23560" y="1704960"/>
            <a:ext cx="50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8000"/>
                </a:solidFill>
                <a:latin typeface="Times New Roman"/>
              </a:rPr>
              <a:t>Fairly Representative of Solid State Ampl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77A-6AD4-4F76-8306-D8C4710D0E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RAPP Model for AM/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276720" y="2514600"/>
            <a:ext cx="5181480" cy="37288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47280" y="1523880"/>
            <a:ext cx="210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APP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or 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6040" y="6019920"/>
            <a:ext cx="220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. IEEE802.11-97/1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400440" y="395748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990120" y="3500280"/>
            <a:ext cx="1843560" cy="33732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M/AM 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2590920"/>
          <a:ext cx="2313000" cy="114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590920"/>
                    <a:ext cx="2313000" cy="11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"/>
          <p:cNvSpPr/>
          <p:nvPr/>
        </p:nvSpPr>
        <p:spPr>
          <a:xfrm>
            <a:off x="2438280" y="434340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285640" y="4343400"/>
            <a:ext cx="15228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5880" y="4786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dB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ck-Off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ll 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733920" y="1857240"/>
          <a:ext cx="4267080" cy="50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733920" y="1857240"/>
                    <a:ext cx="42670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489-92D9-42C1-A5BC-1619C87170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utput Power Description:  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dB Compression Poin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s. Full Satu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46840" y="3200400"/>
            <a:ext cx="32590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46840" y="551196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46840" y="5278320"/>
            <a:ext cx="3259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46840" y="504684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46840" y="48150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46840" y="458316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46840" y="435132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46840" y="41292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46840" y="389736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46840" y="366408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46840" y="343224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46840" y="3200400"/>
            <a:ext cx="3259080" cy="231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6840" y="3200400"/>
            <a:ext cx="1440" cy="2311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05440" y="55119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05440" y="5278320"/>
            <a:ext cx="41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05440" y="50468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05440" y="4815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05440" y="45831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05440" y="43513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005440" y="41292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05440" y="38973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05440" y="36640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05440" y="34322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05440" y="3200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46840" y="3200400"/>
            <a:ext cx="3259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04684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40864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7224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13584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97640" y="3200400"/>
            <a:ext cx="32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851520" y="320040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7213680" y="3200400"/>
            <a:ext cx="32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57872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94232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8305920" y="320040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046840" y="3704760"/>
            <a:ext cx="361800" cy="10796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408640" y="3432240"/>
            <a:ext cx="363600" cy="2728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772240" y="3332160"/>
            <a:ext cx="363600" cy="10008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135840" y="3281040"/>
            <a:ext cx="361800" cy="507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497640" y="3251160"/>
            <a:ext cx="353880" cy="302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851520" y="3230280"/>
            <a:ext cx="362160" cy="205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213680" y="3220560"/>
            <a:ext cx="365040" cy="9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78720" y="3209400"/>
            <a:ext cx="363600" cy="111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42320" y="3209760"/>
            <a:ext cx="36360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6840" y="3200400"/>
            <a:ext cx="361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08640" y="3200400"/>
            <a:ext cx="3636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72240" y="3200400"/>
            <a:ext cx="3636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35840" y="3200400"/>
            <a:ext cx="3618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97640" y="3200400"/>
            <a:ext cx="35388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1520" y="3200400"/>
            <a:ext cx="36216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13680" y="3200400"/>
            <a:ext cx="36504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578720" y="3200400"/>
            <a:ext cx="3636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942320" y="3200400"/>
            <a:ext cx="363600" cy="144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016600" y="4754520"/>
            <a:ext cx="601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8400" y="3675240"/>
            <a:ext cx="60480" cy="60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2000" y="3402000"/>
            <a:ext cx="6048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05600" y="3301920"/>
            <a:ext cx="601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67400" y="3251160"/>
            <a:ext cx="619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21640" y="3220920"/>
            <a:ext cx="601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83440" y="3200400"/>
            <a:ext cx="61920" cy="6048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8480" y="3191040"/>
            <a:ext cx="60480" cy="60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912080" y="3179880"/>
            <a:ext cx="60480" cy="60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73880" y="3179880"/>
            <a:ext cx="61920" cy="6012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18"/>
                </a:lnTo>
                <a:lnTo>
                  <a:pt x="18" y="36"/>
                </a:lnTo>
                <a:lnTo>
                  <a:pt x="0" y="18"/>
                </a:lnTo>
                <a:lnTo>
                  <a:pt x="18" y="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16600" y="3170160"/>
            <a:ext cx="489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7840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4200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05600" y="3170160"/>
            <a:ext cx="489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6740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21640" y="3170160"/>
            <a:ext cx="489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18344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4848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12080" y="3170160"/>
            <a:ext cx="5076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273880" y="3170160"/>
            <a:ext cx="51120" cy="5076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95560" y="543096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60720" y="5197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60720" y="49658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60720" y="47340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60720" y="45021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60720" y="427032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60720" y="404820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60720" y="381636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60720" y="35812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60720" y="335124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903560" y="3119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464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082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7718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354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9728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116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1332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7836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41960" y="2917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64160" y="2917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48600" y="2765520"/>
            <a:ext cx="84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"p" parame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4179240" y="4247640"/>
            <a:ext cx="83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Po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4639680" y="4239360"/>
            <a:ext cx="25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dB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05440" y="3832200"/>
            <a:ext cx="1600200" cy="9144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891480" y="3908520"/>
            <a:ext cx="1465920" cy="672480"/>
            <a:chOff x="6891480" y="3908520"/>
            <a:chExt cx="1465920" cy="672480"/>
          </a:xfrm>
        </p:grpSpPr>
        <p:sp>
          <p:nvSpPr>
            <p:cNvPr id="251" name=""/>
            <p:cNvSpPr/>
            <p:nvPr/>
          </p:nvSpPr>
          <p:spPr>
            <a:xfrm>
              <a:off x="6891480" y="4041720"/>
              <a:ext cx="257400" cy="10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56640" y="401292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18" y="0"/>
                  </a:moveTo>
                  <a:lnTo>
                    <a:pt x="36" y="18"/>
                  </a:lnTo>
                  <a:lnTo>
                    <a:pt x="18" y="36"/>
                  </a:lnTo>
                  <a:lnTo>
                    <a:pt x="0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24480" y="3908520"/>
              <a:ext cx="113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Output Power at 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30600" y="4070160"/>
              <a:ext cx="1035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B Compress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21960" y="423216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o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91480" y="4546440"/>
              <a:ext cx="257400" cy="10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86880" y="4518000"/>
              <a:ext cx="47520" cy="47160"/>
            </a:xfrm>
            <a:prstGeom prst="rect">
              <a:avLst/>
            </a:prstGeom>
            <a:solidFill>
              <a:srgbClr val="ff00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231320" y="4413240"/>
              <a:ext cx="997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aturation Po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2765520"/>
            <a:ext cx="4114800" cy="31780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293120" y="3340080"/>
            <a:ext cx="941040" cy="337320"/>
          </a:xfrm>
          <a:prstGeom prst="rect">
            <a:avLst/>
          </a:prstGeom>
          <a:solidFill>
            <a:srgbClr val="00ff00"/>
          </a:solidFill>
          <a:ln w="3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B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853-25DE-4AAE-B8B0-097B1B33C3D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ow to Specify Drive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22680" y="2257560"/>
            <a:ext cx="7084440" cy="1557000"/>
          </a:xfrm>
          <a:prstGeom prst="rect">
            <a:avLst/>
          </a:prstGeom>
          <a:noFill/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PA input back-off from 1 dB Compression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PA output back-off from 1 dB Compression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PA output back-off from full sat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060920" y="4600440"/>
            <a:ext cx="72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1 dB compression point is amplifier model depend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i="1" lang="en-US" sz="1800" spc="-1" strike="noStrike">
                <a:solidFill>
                  <a:srgbClr val="008000"/>
                </a:solidFill>
                <a:latin typeface="Times New Roman"/>
              </a:rPr>
              <a:t>Output from full saturation is directly usable in link budget calc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949-FD42-43EE-A5D4-EDDCAB880F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actical Mat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5400" y="3367080"/>
            <a:ext cx="87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14160" y="4495680"/>
            <a:ext cx="167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as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cket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29080" y="3276720"/>
            <a:ext cx="10666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14880" y="4419720"/>
            <a:ext cx="17524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98920" y="4672080"/>
          <a:ext cx="1611360" cy="50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8920" y="4672080"/>
                    <a:ext cx="1611360" cy="509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247840" y="36576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95760" y="36576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29280" y="36576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6736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124760" y="487692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8120" y="3352680"/>
            <a:ext cx="8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19560" y="3321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dd multipath,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nd send to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50240" y="4191120"/>
            <a:ext cx="178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utput Back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(OBO) f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Sat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62920" y="190512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x to 4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over 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76520" y="2590920"/>
            <a:ext cx="148572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5400000">
            <a:off x="1600200" y="3352680"/>
            <a:ext cx="838080" cy="5335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36576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71440" y="4343400"/>
            <a:ext cx="134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Gain Adj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for Des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752480" y="388620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62A-7234-497F-A9F7-D23DE6B0E7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</dc:creator>
  <dc:description/>
  <dc:language>en-US</dc:language>
  <cp:lastModifiedBy>Harry Worstell</cp:lastModifiedBy>
  <cp:lastPrinted>2000-05-04T15:07:54Z</cp:lastPrinted>
  <dcterms:modified xsi:type="dcterms:W3CDTF">2000-09-20T18:27:19Z</dcterms:modified>
  <cp:revision>56</cp:revision>
  <dc:subject/>
  <dc:title>Suggest PA Model for 802.11 HRb</dc:title>
</cp:coreProperties>
</file>