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917-B45F-464F-A68C-095F3214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25E-1E1F-4B67-9B5B-5E18EF9E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10B-54C2-47F4-9EE0-EF0DB7A1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75E7-74AC-4E01-A873-3AA257FF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146-45B8-495E-84B3-0506CA26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888F-A50F-4AD3-9596-0ADDCCB1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F3A-93D5-4243-868D-56A03616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F0A1-BBF7-4DA0-BEF8-863D9F02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994-3411-4388-8D91-D43B3DDD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AB9F-4458-4994-A956-B1300045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65A-ADE2-4478-8E95-D242494F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BA7-CA21-4736-B925-5D5D6826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F08858-A1F7-4206-A23E-979FDB2FC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C Update: NPRM 99-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Ad Hoc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sdale, Arizona,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9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DD9-0CEF-43F5-B1FE-645A82F7FE8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9-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F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SS Processing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Bifurcated Procee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&amp; O issued on WBF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 pending on DSSS Processing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97D-BE48-4386-8913-48703631F2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BFH (99-23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&amp; O issued August 31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5 mW Tx pow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Hz channel width (-20 d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of 15 non-overlapping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Hz minimum hop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 to existing text 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to 90 days after publication in the Federal Reg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C65D-8E9B-454E-917A-5C2F6B9C09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SS Processing Gain (99-23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has not ruled on this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ce proposed a new jamme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 noise vs CW j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ss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new optional test, or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existing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1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in CW Jammer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ussian noise test needs further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491B-F674-4A91-BEA6-2470676202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SSS Processing Gain (99-23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with F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RAH Group schedule regular calls with O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of FCC discussions to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perspectives on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receiving many inquiries from industry regarding higher data rates in 2.4 GHz I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pproaches to resolve this 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F43-3C77-484A-8BAA-88D6F7254F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17:30:51Z</dcterms:created>
  <dc:creator>Harris Semiconductor</dc:creator>
  <dc:description/>
  <dc:language>en-US</dc:language>
  <cp:lastModifiedBy>Harris Semiconductor</cp:lastModifiedBy>
  <cp:lastPrinted>1998-02-10T13:28:06Z</cp:lastPrinted>
  <dcterms:modified xsi:type="dcterms:W3CDTF">2000-09-20T22:26:03Z</dcterms:modified>
  <cp:revision>10</cp:revision>
  <dc:subject/>
  <dc:title>No Slide Title</dc:title>
</cp:coreProperties>
</file>