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6915-5E2E-49FA-A65B-DB2969BC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D4F-5C15-425C-AB1B-691014DE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92A-31CD-402A-BC56-6665A8B6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5DE-6913-40A3-9D39-254616AF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91E3-3F10-4686-AAF3-CA3F8215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CC6D-1E13-4BEC-B5A6-3F2EFAC3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42A1-9776-419C-AEC7-A32DD272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0877-A8D2-4338-BF1B-DF966485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D7A7-DF9D-4E0D-A24D-73D2F2D6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3A8-2253-4EC0-AF06-F464212C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3B20-1D68-4E1E-855D-6F7F7FC6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BD95-1C72-4D87-957F-9F3BDAD4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 Webster, Mike Se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FE39097-39EC-4F95-95D5-BD814BFF2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ggested Phase Noise Model for 802.11 H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 and Mike Se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ember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F9B-476F-44CD-ACF1-3FFD010A9A5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51960" y="1676520"/>
            <a:ext cx="7968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Design VCO phz noise fil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1-pole Butterwort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NPoles = 1;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Gives 20 dB/dec phase-noise roll-of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nSampRateHz = chanSampRateMHz * 1e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n = 2 * vcoPnBwHz / chanSampRateH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vcoPnB,vcoPnA] = butter( vcoPnNPoles, W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Compute the resulting RMS phz noise in dBc/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RadiansRms = vcoPnDegRms * pi/18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Var = vcoPnRadiansRms ^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cessBw1PoleButter = pi/2;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Relative excess bandwith of 1-pole fil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PwrPerHzOneSided = vcoPnVar / (vcoPnBwHz * excessBw1PoleButter)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PwrPerHzSsb = vcoPnPwrPerHzOneSided /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LvldBcPerHzSsb = 10 * log10( vcoPnPwrPerHzSsb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Compute AWGN source level feeding Butterworth fil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gnPnPwr = vcoPnPwrPerHzSsb * chanSampRateH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gnPnRms = sqrt(awgnPnPw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Generator (page 2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E86-EA2E-4366-9602-7B420C7429A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09000" y="2612880"/>
            <a:ext cx="7328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Pre-energize lowpass filter to eliminate start-up trans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by setting initial lowpass filter st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Energize with Gaussian variable equal to desired rms phase noi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pFiltInitState = vcoPnRadiansRms*rand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Generate a VCO phase-noise sample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gnPn = awgnPnRms * randn(nSamples,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oredGaussianPn = filter(vcoPnB,vcoPnA,awgnPn,lpFiltInitStat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hzNoise = exp(j*coloredGaussianP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Generator (page 3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30C-ADCC-4179-83E2-3B06A7297E1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1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8720" y="1295280"/>
            <a:ext cx="7755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ainPhzNoiseTest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This routine tests the procedure for simulating phase 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using 1-pole LPF spectral shaping.  In this routine, th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e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1) The 3 dB bandwidth of the LP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2) The desired RMS phase noise in degre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3) The number of phase noise samples desi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4) The simulation channel sample r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imulation verifies th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ark Webster        September 9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ear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ettable parame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DegRms = 1;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Desired RMS phase error in degre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BwHz = 10e3;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LPF 3 dB bandwidth in 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 = 1e6; 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Length of transmit signal (packet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nSampRateMHz = 44;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ignal (packet) sample r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AB81-D245-4B99-B198-4B24D78E796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05400" y="2279520"/>
            <a:ext cx="74350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onte-Carlo simulation to verify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Note, the 1-pole filter has a start-up transi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But, that is OK for examining effects of phase devi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Output samples have the form exp(j*radian_deviatio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Generate a VCO sample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Phasor = PhzNoiseGen( vcoPnDegRms, vcoPnBwHz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, chanSampRateMH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Estimate the VCO's output phz noise in degrees R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gRx = angle(vcoPnPhasor) * 180/p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gRmsEst = sqrt(mean(degRx.^2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2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F1A6-81C1-48C6-A042-31E1CEF379CE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28720" y="1371600"/>
            <a:ext cx="77551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Plot and print stochastic resul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degR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ample #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Degre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hz Noise Sample: %2.2f degre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degRmsE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 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*********************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arget RMS phz error (degrees): %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vcoPnDegRm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Estimated RMS phz error (deg) using %d samples: %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, degRmsE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*******************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 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3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4E60-567B-48D6-84E7-B48D3B28ED57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72080" y="5086440"/>
            <a:ext cx="6340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**********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rget RMS phz error (degrees):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imated RMS phz error (deg) using 1000000 samples: 1.005964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********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Test Shell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019-E422-4648-8FAA-8FE6A2D071B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oomed Plot of Test Shell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2590920"/>
            <a:ext cx="1066680" cy="228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2320" y="2206800"/>
            <a:ext cx="2896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tart-up Transient Avoid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re-energizing Low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with Gaussian variable ha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desired RMS degree phz 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1828800" y="2513880"/>
            <a:ext cx="2437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A26-0F3F-4207-8542-D87C2AD4AE35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1-pole phase noise sha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3 dB  bandwidth of 20 KH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p RMS phase noise in deg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influence on Carrier Degradation in AW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-up transient is avoi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ve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ssumes “ideal” carrier recovery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6B0-AF29-475A-8848-94350B7C396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017800"/>
            <a:ext cx="747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esentation recommends a phase-noi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model for 802.11 HRb propos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noise impacts packet-error-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is a fair representation of phase noi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behavior and “ideal” carrier recovery lo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is easy to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by 802.11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99F-25A2-4E0F-8949-48FE4FAA5E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3080" y="837720"/>
            <a:ext cx="684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CO Phase Noise and Ideal 2nd-order Carrier Recovery Lo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431172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nd-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49760" y="4311720"/>
            <a:ext cx="1355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6040" y="44751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0440" y="431172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4616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4616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6800" y="281952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78200" y="2590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1000" y="28954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5480" y="2944800"/>
            <a:ext cx="98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Bc/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38040" y="22575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257800" y="2819160"/>
            <a:ext cx="5716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9104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9104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335268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20 dB/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5520" y="2819520"/>
            <a:ext cx="78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s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8440" y="22575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7696080" y="478476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96160" y="4556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96160" y="45561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03600" y="522612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6200" y="480060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91280" y="42228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880" y="5486400"/>
            <a:ext cx="213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ssumes Id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hase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4280" y="411480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55000" y="213372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0716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3809880"/>
            <a:ext cx="609480" cy="38124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35000">
            <a:off x="4647960" y="3809880"/>
            <a:ext cx="609480" cy="38124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5F62-DB03-4216-A96E-53B36193B5A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3440" y="1066680"/>
            <a:ext cx="68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quivalent Phase Nois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7400" y="348948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st-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960" y="3489480"/>
            <a:ext cx="1355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4240" y="365292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W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3489480"/>
            <a:ext cx="1006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37940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7940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934320" y="287964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34040" y="2651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34040" y="26510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41480" y="332100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4440" y="26668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29160" y="23176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82160" y="220968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029200" y="469260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29280" y="4464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29280" y="4464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84080" y="495288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3400" y="4495680"/>
            <a:ext cx="78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s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24040" y="413064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7400" y="402264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32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9760" y="4540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09760" y="4540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1240" y="45720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W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4880" y="42069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447920" y="4784760"/>
            <a:ext cx="7617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267080"/>
            <a:ext cx="53316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461000">
            <a:off x="3505320" y="4266720"/>
            <a:ext cx="53316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4114800"/>
            <a:ext cx="1523880" cy="8380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6480" y="5181480"/>
            <a:ext cx="27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atches Compo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ardwar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2743200"/>
            <a:ext cx="1523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52520" y="2286000"/>
            <a:ext cx="222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andomly Pre-energ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o prev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tartup Trans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666-FF47-4627-97D1-F858F10B33E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wo Fre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267080" y="310824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67160" y="2879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67160" y="2879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74600" y="354960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320" y="2819520"/>
            <a:ext cx="147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has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62280" y="25462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15280" y="243828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8680" y="29955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ssb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124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11640" y="4829040"/>
            <a:ext cx="609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Fre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1.  3 dB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.  SSB Phase noise level at 0 Hz (or RMS Phase no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862-4916-449C-893A-AFACE9E8EE8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08000" y="812880"/>
            <a:ext cx="684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quivalent Noise Bandwidth of 1-pole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utterworth Filter used for phase noise sha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198072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198108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371600" y="198072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198108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523880" y="198072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981080"/>
            <a:ext cx="763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143000" y="2057040"/>
            <a:ext cx="7632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83772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828800" y="2514600"/>
            <a:ext cx="30384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045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20760" y="1638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3040" y="2330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666880" y="1752480"/>
          <a:ext cx="137160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752480"/>
                    <a:ext cx="13716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666880" y="2685960"/>
          <a:ext cx="365760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685960"/>
                    <a:ext cx="3657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666880" y="3416400"/>
          <a:ext cx="3505320" cy="9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416400"/>
                    <a:ext cx="35053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143000" y="4818240"/>
          <a:ext cx="6553080" cy="104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818240"/>
                    <a:ext cx="655308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990720" y="4495680"/>
            <a:ext cx="73911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292-FBE2-42C2-8FD7-9773CBD02D3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79400" y="738360"/>
            <a:ext cx="684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pute RMS Phase Noise as Function of Flat SSB Power P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ssb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2743200" y="250020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43280" y="2271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43280" y="2271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50360" y="294156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760" y="272880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38040" y="193824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516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1400" y="183024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213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800" y="238752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ssb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516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419720" y="2211480"/>
          <a:ext cx="20444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11480"/>
                    <a:ext cx="20444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419720" y="2973240"/>
          <a:ext cx="228600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973240"/>
                    <a:ext cx="22860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514600" y="4040280"/>
          <a:ext cx="4724280" cy="87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040280"/>
                    <a:ext cx="47242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76280" y="546120"/>
          <a:ext cx="112680" cy="17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6280" y="546120"/>
                    <a:ext cx="11268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038480" y="5259240"/>
          <a:ext cx="152424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5259240"/>
                    <a:ext cx="15242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099-A4F0-4A0D-BC9E-DC9FA02272F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9800" y="1447920"/>
            <a:ext cx="84711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Settable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DegRms = 1; 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Desired RMS phase error in deg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BwHz = 10e3;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LPF 3 dB bandwidth in 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amples = 1e6;  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Length of transmit signal (packe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SampRateMHz = 44;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Signal (packet) sample r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Monte-Carlo simulation to verify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Note, the 1-pole filter has a start-up trans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But, that is OK for examining effects of phase devi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Output samples have the form exp(j*radian_deviatio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Generate a VCO sample wave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Phasor = PhzNoiseGen( vcoPnDegRms, vcoPnBwHz,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amples, chanSampRateMH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Phase-noise distor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Sig = inSig .* phz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729-980A-4B7D-995C-C8E8A8F9094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Generator (page 1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6200" y="1447920"/>
            <a:ext cx="777024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PhzNoiseGen.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VCO Phase Noise modeled using a 1-pole Butterworth filt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give 20 dB/dec slope.  Gaussian white noise is pa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through the Butterworth filter, with the correct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to generate the radian variation.  Output sample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the form exp(j*radian_devi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Input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vcoPnDegRms           % Desired RMS phase error in deg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vcoPnBwHz             % LPF 3 dB bandwidth in 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nSamples              % Size of output ve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chanSampRateMHz       % Simulation sampl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Output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phzNoise      % nSamples length complex ve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Each sample has abs() equal to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Example us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     outSig = inSig .* phzNo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Mark Webster        September 19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hzNoise = PhzNoiseGen( vcoPnDegRms, vcoPnBwHz, nSamples, chanSampRate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B29-4BEB-454D-A033-E15CC81787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6:31:50Z</dcterms:created>
  <dc:creator>Mark Webster, Mike Seals</dc:creator>
  <dc:description/>
  <dc:language>en-US</dc:language>
  <cp:lastModifiedBy>Harry Worstell</cp:lastModifiedBy>
  <cp:lastPrinted>2000-05-04T15:07:54Z</cp:lastPrinted>
  <dcterms:modified xsi:type="dcterms:W3CDTF">2000-09-21T00:16:04Z</dcterms:modified>
  <cp:revision>60</cp:revision>
  <dc:subject/>
  <dc:title>Suggest Phase Noise Model for 802.11 HRb</dc:title>
</cp:coreProperties>
</file>