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054-710A-4900-ADDC-791DA101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0E57-4051-4EDC-876B-BD142AEB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A541-04A9-40D5-8F84-36DF0BA3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24A-DC40-4D2D-A039-D3372AFE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295-94D2-4336-8FAD-CBA27A21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D07-A697-4D53-B8AD-8BF26C7F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81D-9AE5-42DC-870D-F07F2725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5EF-AD2C-4F74-96FA-2CDBE2B1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F60-FF72-4B4D-A3E4-F58DA13F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F8A-B037-42E5-AD8F-1CA6764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E24-76B4-4F1E-B03D-0EA02A31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AC4-F3E3-4534-B422-1F6B2F39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Halford and M.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3C2FAF-2FDD-469A-867F-55D910DA1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Channel Estimation Sensitiv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680" y="365760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ve Halford &amp; 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6ED-435B-4B2D-9E07-B8C289BD10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is recognized as major WLAN impai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 modulations that allow for good multipat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K was selected because of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Rake receivers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ior multipath performance versus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rates will require sophisticated multipath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DM was selected because of complexity vs. multipath tr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 to allow for creativ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icult to trade merits due to IP concer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factor is sensitivity of the equalization &amp; modulation to channel estimation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s bit widths, RF front end specifications, time-lin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 a method for exploring the estimation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A717-E24F-48F6-BEE8-622832A192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ed Test for Robust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 cannot be estimated perf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e and finite estimation length con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sensitivity by perturbing the true cha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uses perturbed channel to estimate equal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operates on data from the true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change in PER due to channel estimation err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A7B-442C-4616-9665-44395A95BE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nsitivity to Channel Errors: 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2133720"/>
            <a:ext cx="762120" cy="99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0fc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05120"/>
            <a:ext cx="1916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Multipath Performance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95520" y="149868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74600" y="2489040"/>
            <a:ext cx="105408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28680" y="279396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87680" y="2476440"/>
            <a:ext cx="99072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1680" y="2768760"/>
            <a:ext cx="99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Equaliz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ar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6240" y="1650960"/>
            <a:ext cx="89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Impul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11240" y="1168560"/>
            <a:ext cx="1181160" cy="33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9120" y="132084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0600" y="10922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92400" y="132084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44880" y="132084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1680" y="106668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ata with ISI/Multi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78400" y="27525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83440" y="252396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Packet Error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3429000"/>
            <a:ext cx="9138600" cy="2895480"/>
            <a:chOff x="0" y="3429000"/>
            <a:chExt cx="9138600" cy="2895480"/>
          </a:xfrm>
        </p:grpSpPr>
        <p:sp>
          <p:nvSpPr>
            <p:cNvPr id="69" name=""/>
            <p:cNvSpPr/>
            <p:nvPr/>
          </p:nvSpPr>
          <p:spPr>
            <a:xfrm>
              <a:off x="7760160" y="503856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Times New Roman"/>
                </a:rPr>
                <a:t>Packet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1320" y="5003640"/>
              <a:ext cx="1054080" cy="60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qualiz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rame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alc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05400" y="530856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64400" y="4991040"/>
              <a:ext cx="990360" cy="571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8040" y="5283360"/>
              <a:ext cx="99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Equaliz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Parame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01120" y="4572000"/>
              <a:ext cx="8953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Chann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Impu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87960" y="3683160"/>
              <a:ext cx="1180800" cy="33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5840" y="383544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2000" y="35812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68760" y="383544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21600" y="38354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68040" y="3581280"/>
              <a:ext cx="203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Times New Roman"/>
                </a:rPr>
                <a:t>Data with ISI/Multi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54760" y="52671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3429000"/>
              <a:ext cx="8458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05040" y="5740560"/>
              <a:ext cx="1104840" cy="58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erturb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00400" y="52578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00400" y="5257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905120" y="4343400"/>
              <a:ext cx="761760" cy="9907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0fc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251240"/>
              <a:ext cx="19162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tipath Performance Test with Channel Err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98C-7DB6-4E2A-A913-A4EE530637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eneration of Perturbed Cha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905120" y="2852640"/>
          <a:ext cx="4806720" cy="65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52640"/>
                    <a:ext cx="480672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500760" y="1413000"/>
            <a:ext cx="79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valid approaches to generating a perturbed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81520" y="353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09760" y="4148280"/>
          <a:ext cx="6934320" cy="72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9760" y="4148280"/>
                    <a:ext cx="693432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E55-AD9D-469B-BEA2-665DF28B17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de for Exponential Channel with Estimation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1905120"/>
          <a:ext cx="606888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068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289-DF08-4302-88EF-30AE9C150A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8377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de for Exponential Channel with Estimation Error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8800" y="2057400"/>
          <a:ext cx="5405400" cy="368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057400"/>
                    <a:ext cx="540540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FB8-57F4-4A7E-8076-187ABF51B2D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3T16:59:03Z</dcterms:created>
  <dc:creator>Karen W. Halford</dc:creator>
  <dc:description/>
  <dc:language>en-US</dc:language>
  <cp:lastModifiedBy>Harry Worstell</cp:lastModifiedBy>
  <cp:lastPrinted>2000-09-15T18:49:53Z</cp:lastPrinted>
  <dcterms:modified xsi:type="dcterms:W3CDTF">2000-09-20T18:28:52Z</dcterms:modified>
  <cp:revision>48</cp:revision>
  <dc:subject/>
  <dc:title>No Slide Title</dc:title>
</cp:coreProperties>
</file>