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B529-2F9F-4DA3-AF0F-DE7F645E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077-872A-4385-8F48-23721397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80D-5045-4948-A8EA-6C19BA43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F91-1919-4B9B-B0A4-7E284FD7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7280-8C70-4B57-BDBC-09F72CEC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EA4E-4F26-48CD-A215-7F284AB8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499-67D6-4C59-B2EB-72C24EA5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22D-9587-45C7-BFB4-8742278E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4A4-0F49-419B-8AE6-BC41D7B7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AD1F-F5B3-4537-B3C1-BB9A9796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8CE-E922-424C-9D0D-2279825B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0E2-2813-4EF7-BB50-3518BC2F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8AF2EC-7014-461F-97FD-8C2C4A5EE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Joint Proposal R1 update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, Lucent, Share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zeCOM, NWN/Inter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m Diepatraten - Lu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dimir Yanover - Breeze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zo Wentink - Inters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E67-30F6-432E-A7F4-A56D0A0CC67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s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to Identify the Element and the 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 Policy =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{Normal 802.11 | Delayed | No 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9BD-E940-49A0-8698-AA64A4EB053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858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nfo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 In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=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{1 if periodic traffic pattern |   0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 Policy =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Normal 802.11 | Delayed | No Ack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 Info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– Header FEC &amp; Payload FEC det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Info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laceholder to identify e.g. sec. algorithm applicability to the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E79-DD45-4645-B9B5-73B6C63830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6858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Contro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 Bit Map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{ 1s for applicable parameters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records foll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=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relative priority for handling this parameter within the set of the parameters assigned to the V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of a change triggering notification = {lower value | higher value | both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 Threshold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r a change that triggers the not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704-27F9-406A-A90D-E30FD16F972B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Control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x Interval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[specific Periodic demand only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/ Committed Time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[for other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DU Siz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[Periodic demand only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y Delay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 Delay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&amp; Jitter b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Data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0042-2AC5-4897-8291-82FCBEFE446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094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 Set– Co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Data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 Burs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Rat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7A7-E3B7-4EC8-B211-6481446D068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9907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Aggregation of the MPDUs into a Single PSD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 to decrease PHY / PLCP overhead = IFS + Preamble + PLCP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PDUs are inserted as MAC Header + Body(if present) + F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E3B-C381-4EEF-A283-F6FE5F867AE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144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raffic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zo Went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thoven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zo@nw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6450-9DD8-405D-AF09-FC6589B1956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e Traffic Class (TC) Mo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ides internal VSID’s, the Joint proposal now also supports Traffic Classes (TC’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Classes (TC’s) are 3 bit numeric traffic labels, as defined in 802.1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lasses are available for upstream traffic, per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 labels are passed down by higher layers or by 802.1D 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’s can be used for a priorities or a flow based scheme, where flow based has maximum of 7 QOS flows per sta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more than 7 QoS flows per station requires flow aggregation or VSID’s. This is a policy decis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74F3-84CF-4C50-9354-BCFE5668D461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e TC Mod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and TC labeling are performed at high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rame Classification Entity (FCE) required insid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anagement messages needed to convey filter specs to the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TC mappings currently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802.1D/Intserv mapping (BE=0, CL=3, GS=5, NC=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flow mapping through SBM and RSV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serv DSCP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formation in document 00/2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7805-4C63-4102-BBD9-322C25FCFC1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e TC Mode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’s are the preferred interface for a DCF based channel access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F based QoS enhanced channel access mechanisms are priorities based by 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QoS capabilities (TC or VSID) are station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d in the capability information fie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more capabilities when other modes (DCF) ar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F8C-24D6-445E-A3AD-6252E807216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Joint Proposal activitie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oint Proposal group has been active to further refine the proposal, and generate the associated standard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worked with other parties to incorporate their ideas into the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z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682-9FB1-4521-9494-4A6D21A907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609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ying TC’s into the VSID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’s are local to a station, but concatenating with the AID gives a unique traffic ID within the 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.AID is similar to the VS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.AID is in fact a station specific VS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iqueness is required for signalling messages used in the proposal (i.e. CC, R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SID range now splits into four sub-r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Clas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ID upstream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ID downstream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ID sidestream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55A-ED41-4295-8869-C21ADDCD1E6F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256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w VSID Numbering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139760" y="2362320"/>
            <a:ext cx="7076880" cy="3352320"/>
            <a:chOff x="1139760" y="2362320"/>
            <a:chExt cx="7076880" cy="3352320"/>
          </a:xfrm>
        </p:grpSpPr>
        <p:grpSp>
          <p:nvGrpSpPr>
            <p:cNvPr id="88" name=""/>
            <p:cNvGrpSpPr/>
            <p:nvPr/>
          </p:nvGrpSpPr>
          <p:grpSpPr>
            <a:xfrm>
              <a:off x="1144800" y="2367000"/>
              <a:ext cx="7065720" cy="3342240"/>
              <a:chOff x="1144800" y="2367000"/>
              <a:chExt cx="7065720" cy="334224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144800" y="2367000"/>
                <a:ext cx="415440" cy="752760"/>
                <a:chOff x="1144800" y="2367000"/>
                <a:chExt cx="415440" cy="7527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19700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14480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1560600" y="2367000"/>
                <a:ext cx="415080" cy="752760"/>
                <a:chOff x="1560600" y="2367000"/>
                <a:chExt cx="415080" cy="752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1612800" y="2367000"/>
                  <a:ext cx="31068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1560600" y="2367000"/>
                  <a:ext cx="41508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1976400" y="2367000"/>
                <a:ext cx="415440" cy="752760"/>
                <a:chOff x="1976400" y="2367000"/>
                <a:chExt cx="415440" cy="7527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02860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197640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392560" y="2367000"/>
                <a:ext cx="415440" cy="752760"/>
                <a:chOff x="2392560" y="2367000"/>
                <a:chExt cx="415440" cy="7527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44476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39256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808720" y="2367000"/>
                <a:ext cx="415080" cy="752760"/>
                <a:chOff x="2808720" y="2367000"/>
                <a:chExt cx="415080" cy="752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86020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08720" y="2367000"/>
                  <a:ext cx="41508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224520" y="2367000"/>
                <a:ext cx="415440" cy="752760"/>
                <a:chOff x="3224520" y="2367000"/>
                <a:chExt cx="415440" cy="752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27672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2452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3640680" y="2367000"/>
                <a:ext cx="415440" cy="752760"/>
                <a:chOff x="3640680" y="2367000"/>
                <a:chExt cx="415440" cy="752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369288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64068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056840" y="2367000"/>
                <a:ext cx="415080" cy="752760"/>
                <a:chOff x="4056840" y="2367000"/>
                <a:chExt cx="415080" cy="7527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10832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056840" y="2367000"/>
                  <a:ext cx="41508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472280" y="2367000"/>
                <a:ext cx="415440" cy="752760"/>
                <a:chOff x="4472280" y="2367000"/>
                <a:chExt cx="415440" cy="7527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452448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47228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888440" y="2367000"/>
                <a:ext cx="415080" cy="752760"/>
                <a:chOff x="4888440" y="2367000"/>
                <a:chExt cx="415080" cy="7527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94064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888440" y="2367000"/>
                  <a:ext cx="41508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304240" y="2367000"/>
                <a:ext cx="415440" cy="752760"/>
                <a:chOff x="5304240" y="2367000"/>
                <a:chExt cx="415440" cy="752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35644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30424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720400" y="2367000"/>
                <a:ext cx="415440" cy="752760"/>
                <a:chOff x="5720400" y="2367000"/>
                <a:chExt cx="415440" cy="7527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772600" y="2367000"/>
                  <a:ext cx="3110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720400" y="2367000"/>
                  <a:ext cx="4154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136560" y="2367000"/>
                <a:ext cx="518040" cy="752760"/>
                <a:chOff x="6136560" y="2367000"/>
                <a:chExt cx="518040" cy="7527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188760" y="2367000"/>
                  <a:ext cx="4136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136560" y="2367000"/>
                  <a:ext cx="5180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654960" y="2367000"/>
                <a:ext cx="518040" cy="752760"/>
                <a:chOff x="6654960" y="2367000"/>
                <a:chExt cx="518040" cy="7527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6707160" y="2367000"/>
                  <a:ext cx="4136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654960" y="2367000"/>
                  <a:ext cx="5180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7173720" y="2367000"/>
                <a:ext cx="518040" cy="752760"/>
                <a:chOff x="7173720" y="2367000"/>
                <a:chExt cx="518040" cy="7527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7225920" y="2367000"/>
                  <a:ext cx="4136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173720" y="2367000"/>
                  <a:ext cx="5180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692480" y="2367000"/>
                <a:ext cx="518040" cy="752760"/>
                <a:chOff x="7692480" y="2367000"/>
                <a:chExt cx="518040" cy="7527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744680" y="2367000"/>
                  <a:ext cx="413640" cy="75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692480" y="2367000"/>
                  <a:ext cx="518040" cy="75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144800" y="3120120"/>
                <a:ext cx="4575240" cy="611640"/>
                <a:chOff x="1144800" y="3120120"/>
                <a:chExt cx="4575240" cy="6116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197000" y="3120120"/>
                  <a:ext cx="447084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AI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144800" y="3120120"/>
                  <a:ext cx="457524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720400" y="3120120"/>
                <a:ext cx="1452960" cy="611640"/>
                <a:chOff x="5720400" y="3120120"/>
                <a:chExt cx="1452960" cy="6116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772600" y="3120120"/>
                  <a:ext cx="13485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raffic Cla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720400" y="3120120"/>
                  <a:ext cx="145296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173720" y="3120120"/>
                <a:ext cx="1036800" cy="611640"/>
                <a:chOff x="7173720" y="3120120"/>
                <a:chExt cx="1036800" cy="6116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225920" y="3120120"/>
                  <a:ext cx="93240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173720" y="3120120"/>
                  <a:ext cx="103680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144800" y="3732120"/>
                <a:ext cx="4991400" cy="611640"/>
                <a:chOff x="1144800" y="3732120"/>
                <a:chExt cx="4991400" cy="6116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197000" y="3732120"/>
                  <a:ext cx="488700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SID for upstream (VS from ESTA to EAP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44800" y="3732120"/>
                  <a:ext cx="499140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136560" y="3732120"/>
                <a:ext cx="518040" cy="611640"/>
                <a:chOff x="6136560" y="3732120"/>
                <a:chExt cx="518040" cy="6116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188760" y="3732120"/>
                  <a:ext cx="41364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136560" y="3732120"/>
                  <a:ext cx="51804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6654960" y="3732120"/>
                <a:ext cx="518040" cy="611640"/>
                <a:chOff x="6654960" y="3732120"/>
                <a:chExt cx="518040" cy="6116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707160" y="3732120"/>
                  <a:ext cx="41364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54960" y="3732120"/>
                  <a:ext cx="51804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7173720" y="3732120"/>
                <a:ext cx="1036800" cy="611640"/>
                <a:chOff x="7173720" y="3732120"/>
                <a:chExt cx="1036800" cy="6116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7225920" y="3732120"/>
                  <a:ext cx="93240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173720" y="3732120"/>
                  <a:ext cx="1036800" cy="61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144800" y="4344480"/>
                <a:ext cx="4991400" cy="612000"/>
                <a:chOff x="1144800" y="4344480"/>
                <a:chExt cx="4991400" cy="6120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197000" y="4344480"/>
                  <a:ext cx="488700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SID for downstream(VS from EAP to ESTA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144800" y="4344480"/>
                  <a:ext cx="499140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6136560" y="4344480"/>
                <a:ext cx="518040" cy="612000"/>
                <a:chOff x="6136560" y="4344480"/>
                <a:chExt cx="518040" cy="612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6188760" y="4344480"/>
                  <a:ext cx="4136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136560" y="4344480"/>
                  <a:ext cx="51804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6654960" y="4344480"/>
                <a:ext cx="518040" cy="612000"/>
                <a:chOff x="6654960" y="4344480"/>
                <a:chExt cx="518040" cy="612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6707160" y="4344480"/>
                  <a:ext cx="4136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654960" y="4344480"/>
                  <a:ext cx="51804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7173720" y="4344480"/>
                <a:ext cx="1036800" cy="612000"/>
                <a:chOff x="7173720" y="4344480"/>
                <a:chExt cx="1036800" cy="612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225920" y="4344480"/>
                  <a:ext cx="93240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173720" y="4344480"/>
                  <a:ext cx="1036800" cy="61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144800" y="4956840"/>
                <a:ext cx="4991400" cy="752400"/>
                <a:chOff x="1144800" y="4956840"/>
                <a:chExt cx="4991400" cy="752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197000" y="4956840"/>
                  <a:ext cx="488700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SID for sidestream (VS from ESTA to ESTA in same QBSS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144800" y="4956840"/>
                  <a:ext cx="4991400" cy="75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6136560" y="4956840"/>
                <a:ext cx="518040" cy="752400"/>
                <a:chOff x="6136560" y="4956840"/>
                <a:chExt cx="518040" cy="7524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6188760" y="4956840"/>
                  <a:ext cx="4136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136560" y="4956840"/>
                  <a:ext cx="518040" cy="75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6654960" y="4956840"/>
                <a:ext cx="518040" cy="752400"/>
                <a:chOff x="6654960" y="4956840"/>
                <a:chExt cx="518040" cy="7524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707160" y="4956840"/>
                  <a:ext cx="41364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654960" y="4956840"/>
                  <a:ext cx="518040" cy="75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7173720" y="4956840"/>
                <a:ext cx="1036800" cy="752400"/>
                <a:chOff x="7173720" y="4956840"/>
                <a:chExt cx="1036800" cy="7524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225920" y="4956840"/>
                  <a:ext cx="932400" cy="75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173720" y="4956840"/>
                  <a:ext cx="1036800" cy="75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1139760" y="2362320"/>
              <a:ext cx="7076880" cy="3352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0" y="50529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5307-C525-4086-AA94-DE7118ECEEC2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499A-B29D-4652-81D0-0D9472CD651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Joint Proposal R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proposal document 120R1 is issued containing the following cha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and editorial changes to original docu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to incorporate the essential elements of the BreezeCOM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tions to incorporate a number of elements of the NWN/doc 204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CB1-9A15-4424-93D5-519F2C5092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ges Overview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ed notification mechanism and notification threshold parameters for feedback to higher layers about state of provided QoS serv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ow 802.1D user priority and/or IETF traffic class values to be used in lieu of VSIDs in cases where connectionless, prioritized differentiation of up to 7 priorities is sufficient and QoS contracts or other connection mechanism are not needed at the MAC sublayer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 effectiveness of power save at stations with active virtual streams through control of receiver on-time by listen epoch rather than the senders' TXO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ntion to add an aggregation mechanism that permits multiple MPDUs to be sent with a single instance of PHY overhead, with details to be presented at the November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rify the reference model and remove the SBM-specific provi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3C0-6126-4B4B-B5BE-B7C8C10B6A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panded Joint Proposal group is willing to incorporate DCF mechanisms and connectionless PCF mechanisms into their proposal to come to a baseline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o get this started this week to come to a consensus document by the November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we want to work together with other parties to incorporate their idea’s when it makes 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0E6-60D4-4E37-8CE6-9E787D5BD0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ollowup presenta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307b from Breeze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307c from Inter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ocument will be 307r1 put on the server later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E24-2196-4237-B936-4227DE0FB3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w Features in Joint Proposal 00/120r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733920"/>
            <a:ext cx="84582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li Chayat Breezecom naftalic@breezecom.co.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dimir Yanover vladimiry@breezecom.co.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E6C-2888-495E-9117-2AC6E6FD7B8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7621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aradigm of Communication between Upper Layers and MAC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2057400"/>
          <a:ext cx="7391520" cy="44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7391520" cy="44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D3E-520A-4961-AB97-B7F1D0BF8B9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335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           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  <a:ea typeface="Times New Roman"/>
              </a:rPr>
              <a:t>QoS Parameters 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QoS Parameter Set element contains the set of parameters necessary to describe the demanded transport characteristics for MSDUs belonging to the specified virtual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ddressed to the TAME at the EPC and the transmission control entities at the E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int Proposal grou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B38-37E8-4C57-A19C-161CE2FFBA4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5:04:30Z</dcterms:created>
  <dc:creator>Sunghyun Choi, Philips Research</dc:creator>
  <dc:description>Sunghyun Choi, Philips Research-USA</dc:description>
  <dc:language>en-US</dc:language>
  <cp:lastModifiedBy>Menzo</cp:lastModifiedBy>
  <cp:lastPrinted>1998-02-10T13:28:06Z</cp:lastPrinted>
  <dcterms:modified xsi:type="dcterms:W3CDTF">2000-09-21T15:09:14Z</dcterms:modified>
  <cp:revision>146</cp:revision>
  <dc:subject>Submissions</dc:subject>
  <dc:title>Collision Avoidance of IEEE 802.11e MAC in Overlapping BSSs</dc:title>
</cp:coreProperties>
</file>