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B1AA-FCDC-4FC1-9CFD-9B97A2606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2886-3137-42FA-881F-8A904DAA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48D1-F4F7-4BEE-B638-2DC65C567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95B5-2626-49D2-8860-89E495811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0FDF-8982-4357-ADD2-96A4CAC4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782C-6651-4FBD-9EF4-65E4C3ED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23D8-5198-413C-8DFE-F6E0990B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B337-03DE-41B8-B97F-E1E9B7F8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70DE-DFEE-4D98-94A2-8FADC44B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5B5E-CEC9-4849-8B90-2A22EA37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377D-A1B6-4D91-B6FB-AB9E7466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E5BE-6E2A-4C9B-9856-291A6A14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8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5360" y="6474960"/>
            <a:ext cx="4651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1FC25CC-585B-4820-A659-E33C89203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00/3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Wideband Frequency Hopping – an opportinity for 802.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ftali Chay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eze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E8FB-C95F-457E-BE3F-7DA0CE4923E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CC ruling on NPRM 99-2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ical si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least 15 non-overlapping hopping channels spanning at least 75 M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 to 5 MHz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x power up to 125 m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public support for the new regulations, both from users and from vend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3EF7-97F7-4EFC-B082-BDBB819D154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opportunity for 802.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can’t beat them, join them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pport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more collocated networks than 802.1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 hopping 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rates similar to 802.11b and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 Mbps is 2.2 bits/s/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er aggregate capacities than DS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pecially given FCC concerns re “high spectral efficiency D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0F2E-2EBC-444C-A4EE-F20E565F197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d 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blish a WBFH Study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investigate interest within 802.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write a PAR skeleton by Fri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PAR a.s.a.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investigating technical altern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 802.15 of the activ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B99C-5147-4462-A576-EDFAAC569E3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the 802.11 establishes a Study Group with the objective of preparing a PAR for a WBFH PHY pro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E444-150C-418C-8E94-444D125564A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19:25:20Z</dcterms:created>
  <dc:creator>Naftali Chayat</dc:creator>
  <dc:description/>
  <dc:language>en-US</dc:language>
  <cp:lastModifiedBy>Naftali Chayat</cp:lastModifiedBy>
  <cp:lastPrinted>1998-02-10T13:28:06Z</cp:lastPrinted>
  <dcterms:modified xsi:type="dcterms:W3CDTF">2000-09-20T19:32:58Z</dcterms:modified>
  <cp:revision>3</cp:revision>
  <dc:subject/>
  <dc:title>PowerPoint Presentation</dc:title>
</cp:coreProperties>
</file>