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DDC-CE14-44E1-BE21-38AC0E9E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1AC-3187-4DF5-8823-E84577ED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2D03-B484-47C3-9985-516C61A4A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7A4-4BA7-43A9-840B-B952F127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B650-7ACF-45F8-B394-CD4A2818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E153-1228-40C8-A4C1-D81F8831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A2C9-E476-4278-BFD5-A6B8C5CF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B8C8-5CB7-48C2-822A-15F65BCF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CAA5-A4D2-4737-A3AF-2897C883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5A17-5311-449F-B569-58E49688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EB3-0C5C-4DB9-85AF-C7F97F17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91DB-301B-4360-A9EA-EA30DA8F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1219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Shoemake,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F4DC33-DEE4-43B3-B82E-669B446DD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gh Rate 802.11b Study Group Repor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ptember 20, 2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hew B. Shoemake, Ph.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rperson, HRbS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5E1E-5115-4442-B039-B55B2D8A12D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ter Ballot #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ter Ballot #23 which contained one motion to reaffirm support of the PAR for extension of 802.11b to rates greater than 20Mbps was approved on a vote of 70-0-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ed YES WITH COMMENTS vote on letter ballot #2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action required on Letter Ballot #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71E4-4FC4-46DC-99C9-7DC22723F6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g Selection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document 00-209r3 as the official version Selection Procedure on vot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37-0-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document 00-210r4 as the official version of the Functional Requirements on vot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34-0-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document 00-211r9 as the official version of the Comparison Criteria on vote o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38-0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icipate calling for motion at Friday 802.11 Plenary to approve these document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EA9E-D280-40D8-9195-B939A6D579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missions Heard Related to Docs. 209, 210 and 2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valuating the Performance of HRb Proposals in Multipa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 Webster, Karen Halford and Steve Halford, Inter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00-2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odeling Multipath and Fad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ris Heegard, Sean Coffey and Matthew B. Shoemake, Texas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00-2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uggested PA Model for 802.11 H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 Webster, Inter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00-2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uggested Phase Noise Model for 802.11 HRb 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 Webster, Inter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00-2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Evaluating Channel Estimation Sensi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eve Halford and Mark Webster, Inters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00-2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850-9D5A-4753-B7CF-6DE924A790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Mat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ed motion related to meeting with FCC.  Will present motion to 802.11 Plenary on Wednesday aftern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100D-2073-4489-AA5F-3D07E86B3F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Press Rel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217r3 contains the revised version of the draft 802.11 HRbSG press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of this press release was reaffirmed on a vote of 39-0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0A1B-0E2B-4234-A96D-9710F6ABCE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ies for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ainder of the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Gg adopt work thus far of HRbS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up issu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ll for Propos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determine cut-off 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remaining sub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liaison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SCC34 - Electromagnetic Energy Product Performance Saf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C TC106 – Testing Instrumentation and Methods for Measuring Electronic and Magnetic Fields Associated with Human Expo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29BE-1ECB-43B9-B871-2659CD5D90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shoemake</cp:lastModifiedBy>
  <cp:lastPrinted>1998-02-10T13:28:06Z</cp:lastPrinted>
  <dcterms:modified xsi:type="dcterms:W3CDTF">2000-09-20T20:41:15Z</dcterms:modified>
  <cp:revision>24</cp:revision>
  <dc:subject/>
  <dc:title>No Slide Title</dc:title>
</cp:coreProperties>
</file>