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79A-096D-4F69-A6A9-BCAEF84A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85A0-382F-4536-B820-88D5AEF3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A1A-4177-45B6-AA2A-AC9199B8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48D3-1AC9-4A4D-8D61-2BDBCB5AC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783-3574-4C94-9C21-E3C05CC7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CCC-FCF5-4A06-8BF9-3846CADC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0F0-A8E4-49B8-9C0F-15CA5746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E377-043F-498F-AB91-A5922C5A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342C-3A12-4926-8642-656F2173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19C-D441-4842-888F-208ADF8B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4B4F-2F87-4F9B-8B5B-98CD93F3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D4D-9F9E-40CA-83A3-05FE648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660906-473E-43CB-8A22-37CB9F7E3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gulatory Ad Hoc Group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sdale, AZ,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A1F-7861-4063-8AA9-6E80B124FB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WB Up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940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RM is released 98-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closed Sep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 comments will close Oct 12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proposes to al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tional emissions at Class B limit &g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dB below Class B limit &lt; 2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WB technology promis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new class of communications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high rate, low power, short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non-communication apps (ra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4EC-8E8D-4F53-BF2E-AA9BB210E0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5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GHz WLAN I.A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: 1 Global 5 GHz WLAN S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ted by Compaq, Intel,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a new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 one for early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 established w/ IEEE and ETSI 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10/20/00 in Hous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905-42CD-472F-857A-88B6369061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a in Eur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/ ETSI BRAN Correspon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ed response to ETSI BRAN Letter of May 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cations request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on users of existing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xistence of HiperLAN and 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PC and D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H draft forwarded to plenary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88DF-9715-4E0B-BFA2-AD2671AB18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PRM 99-2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eding has been bifur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amp; O issued on WBF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 Processing Gain Test issue remains 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ssion authorizes WBF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es Part 15 rules for FH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 mW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5 non-overlapping channels spanning 75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SS Processing Gain issue not dec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H Group passed resolution to contact FCC in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warded motion to 802.11b HR SG for joint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5DE-86AE-460C-9CD3-F65D9A2703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ld Radiocomm. Conference (WR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expected US proposal for global allocation of upper UNII band for RLAN a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world allocation:  5.15 - 5.7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clude ISM band at 5.725 - 5.82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…US had no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needs to make request for inclusion of 5.725 - 5.825 GHz band into global allocation for R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be included in agenda for 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als from industry are need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info:  http:\\www.ero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789E-7AD3-4475-8DBB-009E130D1C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41:06Z</dcterms:created>
  <dc:creator>Harris Semiconductor</dc:creator>
  <dc:description/>
  <dc:language>en-US</dc:language>
  <cp:lastModifiedBy>Harry Worstell</cp:lastModifiedBy>
  <cp:lastPrinted>1998-02-10T13:28:06Z</cp:lastPrinted>
  <dcterms:modified xsi:type="dcterms:W3CDTF">2000-09-21T01:32:20Z</dcterms:modified>
  <cp:revision>8</cp:revision>
  <dc:subject/>
  <dc:title>No Slide Title</dc:title>
</cp:coreProperties>
</file>