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2F2-950E-4DE7-A41B-951332AB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1F13-A745-4ABD-8BBD-938B08C6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DA0-3159-49EF-A148-03799EE8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C59-8355-4294-B3AF-1A598776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948-13B9-445A-BBE8-7BA29C4C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8E8-61DA-4BA7-A610-C39F1F3E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323-601B-4F80-BF27-09C80593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F59B-D552-403B-BD84-1A0C04C4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10AA-AB49-461E-AFBA-54C17F98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9C3-DF0C-4E18-B283-5867EC96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2B5F-B9C3-49A4-BDCB-267B29A7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0E3B-60C5-4D42-8129-D7C2A89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62720" y="6474960"/>
            <a:ext cx="2147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k Eckard, Verizon Labor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CAADFE-D6A2-4DCA-82F2-034EA6C25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182880"/>
            <a:ext cx="2567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1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12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 Equipment to Support 802.11 and 802.15 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k Eck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zon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55D1-8D49-4B88-8DFB-E5AD3B94D63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LAN Equipment for 802.11 and 802.15 Meet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chase equipment to provide permanent wireless network(s) to support 802.11 and 802.15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to be separable, if necessary, to support different meeting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ed from surplus from prior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access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file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wireless preamps and 4 micro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shipping 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4 radio cards (4 for access points, 20 to lend at meetin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436B-D181-452E-AA59-2F44EA665A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ireless LA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2198520"/>
          <a:ext cx="7772400" cy="36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8520"/>
                    <a:ext cx="7772400" cy="36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4EF-1F04-475C-B431-3818993F18B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jected Expen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2057400"/>
          <a:ext cx="800100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0010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974-6AA9-489A-BDBE-504C0F54BD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1T04:31:51Z</dcterms:created>
  <dc:creator>Dick Echard</dc:creator>
  <dc:description/>
  <dc:language>en-US</dc:language>
  <cp:lastModifiedBy>Dick Echard</cp:lastModifiedBy>
  <cp:lastPrinted>1998-02-10T13:28:06Z</cp:lastPrinted>
  <dcterms:modified xsi:type="dcterms:W3CDTF">2000-09-21T22:35:44Z</dcterms:modified>
  <cp:revision>7</cp:revision>
  <dc:subject/>
  <dc:title>Wireless LAN Equipment to Support 802.11 and 802.15 Meetings</dc:title>
</cp:coreProperties>
</file>