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EC53-1A06-4E99-A91A-9EC3A09E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2CE-C3E3-426A-BF23-6AEB98B8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29F-908F-49E2-B800-DF751ECC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3DA-BC0E-44D8-B36A-7E30CD23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A2E-B90C-46DE-8EC9-638DA876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14BA-F772-4D55-A081-832412D7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BA9-29CB-4A0C-995E-EDD977A3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810-461C-4EEC-82CD-7EF96C1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5A01-E95E-4F5C-AB58-6F9C8866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EEE-0019-4F3F-8232-7A9AD656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7F68-DD20-4BAF-9FFC-A6F65BBA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A3C-BCE2-4E10-A19D-3D97222F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1D45E5-1156-47C9-BECC-3E2BA6C1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IFS Ambiguity</a:t>
            </a:r>
            <a:br>
              <a:rPr sz="4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utorial on some practical limi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use of PIFS in the 802.11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72F-FB24-4F7C-93D4-04C8AD0CCB4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MAC defines PIFS as a "Priority" Inter-Frame Space, longer than SIFS and shorter than D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FS is intended to provide the AP with priority access to the medium when contending with DCF stations that wait for 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FS is supposed to permit a point coordinator to retain "control" of the medium, when a station does not respond, without leaving the medium idle for a DIF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the formation of TGe there have been numerous proposals to expand the use of P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fortunately, PIFS is more useful paper (or on a wired medium) than in an 802.11 B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expected/common case, PIFS works well, but in the alternate case, PIFS can be ambiguous, and may result in more coll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mbiguity results in part from the way several PHYs are spec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F30D-A457-4E9F-B5CF-6E4C5A21D2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CF case:  SIFS-PIFS Ambigu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lause 9.3.3.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a CF-Pollable STA does not respond to a CF-Poll (of any type) within the SIFS period following a transmission from the PC, or a non-CF-Pollable STA does not return the ACK frame within a SIFS period following a transmission from the PC that requires acknowledgment, then the PC shall resume control and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nsmit its next frame after a PIFS period from the end of the PC's last transmi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one CCA measurement prior to the PIFS Tx-decision po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(busy) after SIFS is reasonable evidence that a response has starte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the CCA must react to the very beginning of the transmission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 with multiple antennas are allowed to check only one per _x0008_slot 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CCA(idle) after SIFS is much weaker evidence that no response has started, and can lead to a destructive colli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:   Only use PHYs that sample all antennas every slot and have fast-reacting CCA for point coordina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9BCB-552B-4923-A887-4BA9CDED90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FS-PIFS Ambiguity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4191120"/>
            <a:ext cx="11430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+)CF-P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160" y="3932280"/>
            <a:ext cx="9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2666880"/>
            <a:ext cx="119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ord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5273640"/>
            <a:ext cx="109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ess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79132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32004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895480"/>
            <a:ext cx="1066680" cy="304920"/>
          </a:xfrm>
          <a:prstGeom prst="rect">
            <a:avLst/>
          </a:prstGeom>
          <a:solidFill>
            <a:srgbClr val="6699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25146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9360" y="2057400"/>
            <a:ext cx="106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-TX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indication_x0008__x0008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-RX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indication_x0008__x0008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5791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5791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200400" y="6172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60199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-TXSTART_x0008__x0008_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958120" y="5105520"/>
            <a:ext cx="1352160" cy="687600"/>
            <a:chOff x="2958120" y="5105520"/>
            <a:chExt cx="1352160" cy="687600"/>
          </a:xfrm>
        </p:grpSpPr>
        <p:sp>
          <p:nvSpPr>
            <p:cNvPr id="68" name=""/>
            <p:cNvSpPr/>
            <p:nvPr/>
          </p:nvSpPr>
          <p:spPr>
            <a:xfrm>
              <a:off x="358596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76480" y="525816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58120" y="5334120"/>
              <a:ext cx="69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RF+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Pl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9088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85960" y="5258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68320" y="53341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90880" y="525816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91960" y="5334120"/>
              <a:ext cx="41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/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971800" y="3733920"/>
            <a:ext cx="1295280" cy="276480"/>
            <a:chOff x="2971800" y="3733920"/>
            <a:chExt cx="1295280" cy="276480"/>
          </a:xfrm>
        </p:grpSpPr>
        <p:sp>
          <p:nvSpPr>
            <p:cNvPr id="77" name=""/>
            <p:cNvSpPr/>
            <p:nvPr/>
          </p:nvSpPr>
          <p:spPr>
            <a:xfrm>
              <a:off x="2971800" y="39625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52680" y="37339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S_x0008__x0008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5334120" y="1371600"/>
            <a:ext cx="3352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HY-CCA.indication(busy) _x0008_here says response has begun, and prevents transmission after PIFS; but, lack of CCA(busy) does NOT necessarily mean response has not beg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66688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11320" y="2743200"/>
            <a:ext cx="40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x/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267080" y="2514600"/>
            <a:ext cx="1562400" cy="687600"/>
            <a:chOff x="4267080" y="2514600"/>
            <a:chExt cx="1562400" cy="687600"/>
          </a:xfrm>
        </p:grpSpPr>
        <p:sp>
          <p:nvSpPr>
            <p:cNvPr id="83" name=""/>
            <p:cNvSpPr/>
            <p:nvPr/>
          </p:nvSpPr>
          <p:spPr>
            <a:xfrm>
              <a:off x="510516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266724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97120" y="274320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05160" y="266724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92560" y="27432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10080" y="26672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11160" y="2743200"/>
              <a:ext cx="41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/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57913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267080" y="3733920"/>
            <a:ext cx="1523880" cy="276480"/>
            <a:chOff x="4267080" y="3733920"/>
            <a:chExt cx="1523880" cy="276480"/>
          </a:xfrm>
        </p:grpSpPr>
        <p:sp>
          <p:nvSpPr>
            <p:cNvPr id="93" name=""/>
            <p:cNvSpPr/>
            <p:nvPr/>
          </p:nvSpPr>
          <p:spPr>
            <a:xfrm>
              <a:off x="4267080" y="39625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24280" y="37339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971800" y="3352680"/>
            <a:ext cx="2819160" cy="276480"/>
            <a:chOff x="2971800" y="3352680"/>
            <a:chExt cx="2819160" cy="276480"/>
          </a:xfrm>
        </p:grpSpPr>
        <p:sp>
          <p:nvSpPr>
            <p:cNvPr id="96" name=""/>
            <p:cNvSpPr/>
            <p:nvPr/>
          </p:nvSpPr>
          <p:spPr>
            <a:xfrm>
              <a:off x="2971800" y="3581280"/>
              <a:ext cx="28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2680" y="33526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FS_x0008__x0008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267080" y="5486400"/>
            <a:ext cx="3657600" cy="304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 after S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2895480"/>
            <a:ext cx="2133360" cy="3049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 after 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66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191120"/>
            <a:ext cx="32004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reamble of) response to CF-Po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1523880"/>
            <a:ext cx="0" cy="1143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52388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200400"/>
            <a:ext cx="0" cy="990720"/>
          </a:xfrm>
          <a:prstGeom prst="line">
            <a:avLst/>
          </a:prstGeom>
          <a:ln w="1908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4495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2971800"/>
            <a:ext cx="0" cy="2666880"/>
          </a:xfrm>
          <a:prstGeom prst="line">
            <a:avLst/>
          </a:prstGeom>
          <a:ln w="1908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886200" y="6172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41911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200400"/>
            <a:ext cx="0" cy="99072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81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llis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20040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5486400"/>
            <a:ext cx="1143000" cy="304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447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CCA reading after SIFS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1905120"/>
            <a:ext cx="3808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4495680"/>
            <a:ext cx="0" cy="990720"/>
          </a:xfrm>
          <a:prstGeom prst="line">
            <a:avLst/>
          </a:prstGeom>
          <a:ln w="19080">
            <a:solidFill>
              <a:srgbClr val="66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44956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97C4-02B9-4FDF-B73C-17FFA4601C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CF case:  PIFS-DIFS Ambigu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P could, in theory, gain priority access to the medium during the contention period by starting transmissions after PI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one CCA measurement between the PIFS Tx-decision point and the DIFS Tx-decision poi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(busy) after PIFS causes station to defer to A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the CCA must react to the very beginning of the transmission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 with multiple antennas are allowed to check only one per _x0008_slot ti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CCA(idle) after PIFS is much weaker evidence that no transmission has started, and can lead to a destructive colli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:   Be careful about using PIFS during contention period.  Unlike the PCF case, this requires fast, multi-antenna CCA at all contending st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a collision only occurs if some station has backoff count =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F3C-8301-4C87-83C6-B7F8267342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IFS-DIFS Ambiguity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419720"/>
            <a:ext cx="11430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160" y="4160880"/>
            <a:ext cx="9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666880"/>
            <a:ext cx="78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880" y="5273640"/>
            <a:ext cx="80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880" y="198108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-RX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indication_x0008__x0008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486400"/>
            <a:ext cx="1143000" cy="304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60199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-RX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indication_x0008__x0008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5791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5791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743200" y="61722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4120" y="60199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Y-TXSTART_x0008__x0008_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500920" y="5105520"/>
            <a:ext cx="1314000" cy="687600"/>
            <a:chOff x="2500920" y="5105520"/>
            <a:chExt cx="1314000" cy="687600"/>
          </a:xfrm>
        </p:grpSpPr>
        <p:sp>
          <p:nvSpPr>
            <p:cNvPr id="134" name=""/>
            <p:cNvSpPr/>
            <p:nvPr/>
          </p:nvSpPr>
          <p:spPr>
            <a:xfrm>
              <a:off x="312912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19280" y="5257800"/>
              <a:ext cx="609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00920" y="5334120"/>
              <a:ext cx="69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RF+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Pl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29120" y="52578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11480" y="53341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33680" y="525780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51400" y="53341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514600" y="3962520"/>
            <a:ext cx="1295280" cy="276480"/>
            <a:chOff x="2514600" y="3962520"/>
            <a:chExt cx="1295280" cy="276480"/>
          </a:xfrm>
        </p:grpSpPr>
        <p:sp>
          <p:nvSpPr>
            <p:cNvPr id="143" name=""/>
            <p:cNvSpPr/>
            <p:nvPr/>
          </p:nvSpPr>
          <p:spPr>
            <a:xfrm>
              <a:off x="2514600" y="41911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95480" y="396252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FS_x0008__x0008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914400" y="1295280"/>
            <a:ext cx="5334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ccurrence of PHY-CCA.indication(busy) _x0008_here prevents transmission after DIFS_x0008_; but lack of CCA(busy) does NOT necessarily mean that no other transmission has begu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9880" y="2514600"/>
            <a:ext cx="1524240" cy="687600"/>
            <a:chOff x="3809880" y="2514600"/>
            <a:chExt cx="1524240" cy="687600"/>
          </a:xfrm>
        </p:grpSpPr>
        <p:sp>
          <p:nvSpPr>
            <p:cNvPr id="147" name="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09880" y="266688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23360" y="2743200"/>
              <a:ext cx="54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26668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33412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809880" y="3962520"/>
            <a:ext cx="1523880" cy="276480"/>
            <a:chOff x="3809880" y="3962520"/>
            <a:chExt cx="1523880" cy="276480"/>
          </a:xfrm>
        </p:grpSpPr>
        <p:sp>
          <p:nvSpPr>
            <p:cNvPr id="153" name=""/>
            <p:cNvSpPr/>
            <p:nvPr/>
          </p:nvSpPr>
          <p:spPr>
            <a:xfrm>
              <a:off x="3809880" y="41911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7080" y="3962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514600" y="3657600"/>
            <a:ext cx="2819520" cy="276480"/>
            <a:chOff x="2514600" y="3657600"/>
            <a:chExt cx="2819520" cy="276480"/>
          </a:xfrm>
        </p:grpSpPr>
        <p:sp>
          <p:nvSpPr>
            <p:cNvPr id="156" name=""/>
            <p:cNvSpPr/>
            <p:nvPr/>
          </p:nvSpPr>
          <p:spPr>
            <a:xfrm>
              <a:off x="2514600" y="3886200"/>
              <a:ext cx="2819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48120" y="3657600"/>
              <a:ext cx="53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IFS_x0008__x0008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58000" y="2895480"/>
            <a:ext cx="1676520" cy="30492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 after D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1447920"/>
            <a:ext cx="0" cy="1218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1447920"/>
            <a:ext cx="3808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4724280"/>
            <a:ext cx="0" cy="762120"/>
          </a:xfrm>
          <a:prstGeom prst="line">
            <a:avLst/>
          </a:prstGeom>
          <a:ln w="1908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952520" y="61722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334120" y="44197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96080" y="3200400"/>
            <a:ext cx="0" cy="121932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3733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llis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334120" y="3962520"/>
            <a:ext cx="1523880" cy="276480"/>
            <a:chOff x="5334120" y="3962520"/>
            <a:chExt cx="1523880" cy="276480"/>
          </a:xfrm>
        </p:grpSpPr>
        <p:sp>
          <p:nvSpPr>
            <p:cNvPr id="167" name=""/>
            <p:cNvSpPr/>
            <p:nvPr/>
          </p:nvSpPr>
          <p:spPr>
            <a:xfrm>
              <a:off x="5334120" y="419112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9625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L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858000" y="25146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809880" y="5105520"/>
            <a:ext cx="1562400" cy="687600"/>
            <a:chOff x="3809880" y="5105520"/>
            <a:chExt cx="1562400" cy="687600"/>
          </a:xfrm>
        </p:grpSpPr>
        <p:sp>
          <p:nvSpPr>
            <p:cNvPr id="171" name=""/>
            <p:cNvSpPr/>
            <p:nvPr/>
          </p:nvSpPr>
          <p:spPr>
            <a:xfrm>
              <a:off x="464796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9880" y="52581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23000" y="5334120"/>
              <a:ext cx="545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52880" y="5105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7960" y="525816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35360" y="533412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2880" y="525816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3960" y="5334120"/>
              <a:ext cx="41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/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71600" y="2895480"/>
            <a:ext cx="1143000" cy="30492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515320" y="2514600"/>
            <a:ext cx="1313640" cy="687600"/>
            <a:chOff x="2515320" y="2514600"/>
            <a:chExt cx="1313640" cy="687600"/>
          </a:xfrm>
        </p:grpSpPr>
        <p:sp>
          <p:nvSpPr>
            <p:cNvPr id="181" name=""/>
            <p:cNvSpPr/>
            <p:nvPr/>
          </p:nvSpPr>
          <p:spPr>
            <a:xfrm>
              <a:off x="314316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33680" y="266688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15320" y="2743200"/>
              <a:ext cx="69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RF+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Pl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4808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43160" y="2666880"/>
              <a:ext cx="30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25520" y="27432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48080" y="26668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124080" y="2133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743200" y="21337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334120" y="2514600"/>
            <a:ext cx="1562040" cy="687600"/>
            <a:chOff x="5334120" y="2514600"/>
            <a:chExt cx="1562040" cy="687600"/>
          </a:xfrm>
        </p:grpSpPr>
        <p:sp>
          <p:nvSpPr>
            <p:cNvPr id="191" name=""/>
            <p:cNvSpPr/>
            <p:nvPr/>
          </p:nvSpPr>
          <p:spPr>
            <a:xfrm>
              <a:off x="617184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34120" y="2667240"/>
              <a:ext cx="83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63440" y="2743200"/>
              <a:ext cx="50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76760" y="251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71840" y="266724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58880" y="274320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76760" y="2667240"/>
              <a:ext cx="380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77840" y="2743200"/>
              <a:ext cx="418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x/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514600" y="3352680"/>
            <a:ext cx="4343040" cy="276480"/>
            <a:chOff x="2514600" y="3352680"/>
            <a:chExt cx="4343040" cy="276480"/>
          </a:xfrm>
        </p:grpSpPr>
        <p:sp>
          <p:nvSpPr>
            <p:cNvPr id="200" name=""/>
            <p:cNvSpPr/>
            <p:nvPr/>
          </p:nvSpPr>
          <p:spPr>
            <a:xfrm>
              <a:off x="2514600" y="3581280"/>
              <a:ext cx="4343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01040" y="3352680"/>
              <a:ext cx="821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FS_x0008__x0008_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71600" y="47242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91320" y="4419720"/>
            <a:ext cx="27432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amble of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486400"/>
            <a:ext cx="3200400" cy="3049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t after PI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1600" y="579132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320040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2971800"/>
            <a:ext cx="0" cy="2666880"/>
          </a:xfrm>
          <a:prstGeom prst="line">
            <a:avLst/>
          </a:prstGeom>
          <a:ln w="1908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2057400"/>
            <a:ext cx="1676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st CCA reading after PIFS bound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4120" y="236232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81D-8D03-4B7B-965E-C9804192FDF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13T18:56:53Z</dcterms:modified>
  <cp:revision>19</cp:revision>
  <dc:subject/>
  <dc:title>No Slide Title</dc:title>
</cp:coreProperties>
</file>