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E00-2986-4B67-988F-A69AF1F6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BB2-5049-4409-BCB4-AA0B5827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088E-603C-4B3C-9264-5FF5621D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B8B-63AF-469F-932D-2D9F57BE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C9FE-C3B9-438D-8A59-D9A5B80F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7F3-8457-4630-8BD7-A7B0A43B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709-6A7C-4CBB-B51A-8A06B179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C9F-CB34-4FEB-A804-A3438334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4542-F611-4192-B1DF-25DD993B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5B4-3473-4A23-8742-92FF4D93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750-3E72-4732-9F63-010CA97F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DD21-82EE-49E2-B6EE-4C5E0238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752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EE52CE-38DA-41FB-A9C1-2E6B0D2F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Management Actions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chanism for all MAC enhanceme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57240" y="3352320"/>
            <a:ext cx="380988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ICE-Inter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 Antonio, TX 78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-210-614-4096 x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3F5-C8FC-472D-ACEB-DCE933C7E7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t of functional enhancements to the 802.11 MAC requires new management fram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only 5 reserved management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elements to existing subtypes is only a partial solution, and may reduce efficiency and reliability as the management frame bodies get longer and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me functions that need unique sub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frames that use_x0008__x0008_ special rules, like Beacon, Probe &amp; A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"Container" for MPDU aggregation is a new special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 to save a few management subtypes for future special cases, because backward compatibility constraints make it messy to add MMPDUs as control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642-BA78-446F-AE4A-F9BE17A69E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mechanism to add all new generic management frames using 1 subtype, and leave the last 3 management subtypes for future speci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"generic Management Action" subtype in the QoS baseline proposal achiev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both request/response and notific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uniform status reporting (where benefi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no format or content restrictions on frame body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unless there is clear justification for a different approach, generic action frames will use fixed fields and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s non-conflicting, parallel work by different 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F9F-37C9-4594-976E-D9FC7B6446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quest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subtype 14, with (at least) 4, 1-octet fixed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, assigned per task group or sub-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ies general subject, such as QoS Actions, Security Action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non-conflicting assignment of Action codes by each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even), for a specific function within the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 and notification actions use even action code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 Delay, allows occurrence of action to be de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=0 for immediate actions, &gt;0 is count of TBTTs prior to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&gt;0 only for Category,Action specified to allow or require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 (octet needed for alignment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ignored, but returned in corresponding octet of Action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54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v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56B-0B0B-474E-A918-0E06C2760B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sponse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frames only used to return results and repor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cation-style actions do not require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:  same as in reque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category is not recognized, frame is ignored without erro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odd):  ResponseCode:= RequestCode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unrecognized action in a recognized category causes an error 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code:  indicates success or failure of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=0 for success;  Status=1 for unrecognized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&gt;1 is failure code specific to Category,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:  value copied from Dialog Token of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be useful in matching responses at stations that may have more than one request outstanding concurren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71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d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65D-53DA-41D8-B676-7B3CD63DD9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2:59:43Z</dcterms:created>
  <dc:creator>Michael Fischer</dc:creator>
  <dc:description/>
  <dc:language>en-US</dc:language>
  <cp:lastModifiedBy>Harry Worstell</cp:lastModifiedBy>
  <cp:lastPrinted>1998-02-10T13:28:06Z</cp:lastPrinted>
  <dcterms:modified xsi:type="dcterms:W3CDTF">2000-11-13T18:58:53Z</dcterms:modified>
  <cp:revision>10</cp:revision>
  <dc:subject/>
  <dc:title>No Slide Title</dc:title>
</cp:coreProperties>
</file>