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FA90-59E6-4323-864D-B44566CD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333-E8B3-4BB8-83C5-9C3042A7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448-F1BC-4E8E-9DDA-25BE0089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092-FD50-45DA-834E-9F017867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D3DF-31E0-4B4C-B882-F8A15204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856-C00D-4346-A8F0-837D346D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B6F3-5FE7-4F13-9C47-06E91CB0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4B7-0E66-4D18-BEC9-DD62A22B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0E9-EBDE-4717-ABCB-E5825E75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E88-F1AF-4FB1-BE07-D9C9A8B2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3B9-46DF-4B57-B574-BEC5AC4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3D3E-F7E3-41DB-A37B-43EBE83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800CDB-787C-4283-80CC-BC895E5B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Management Actions</a:t>
            </a:r>
            <a:br>
              <a:rPr sz="44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chanism for_x0008__x0008_ all MAC enhancemen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57240" y="3352320"/>
            <a:ext cx="380988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8B1-D42C-4E35-AFC4-648B8B4BDAD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set of functional enhancements to the 802.11 MAC requires new management fram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only 5 reserved management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ng elements to existing subtypes is only a partial solution, and may reduce efficiency and reliability as the management frame bodies get longer and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some functions that need unique sub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frames that use_x0008__x0008_ special rules, like Beacon, Probe &amp; A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"Container" for MPDU aggregation is a new special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need to save a few management subtypes for future special cases, because backward compatibility constraints make it messy to add MMPDUs as control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65D-2267-4492-9C69-30D991C668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mechanism to add all new generic management frames using 1 subtype, and leave the last 3 management subtypes for future speci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"generic Management Action" subtype in the QoS baseline proposal achieves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both request/response and notification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uniform status reporting (where benefici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no format or content restrictions on frame body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unless there is clear justification for a different approach, generic action frames will use fixed fields and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s non-conflicting, parallel work by different 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38EA-A998-467D-9896-3BEC2BFA46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quest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subtype 14, with (at least) 1, 4-octet fixed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, assigned per task group or sub-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entifies general subject, such as QoS Actions, Security Action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ws non-conflicting assignment of Action codes by each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even), for a specific function within the categ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est and notification actions use even action code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 Delay, allows occurrence of action to be de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=0 for immediate actions, &gt;0 is count of TBTTs prior to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&gt;0 only for Category,Action specified to allow or require de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 (octet needed for alignment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 ignored, but returned in corresponding octet of Action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54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ev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v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2B4-A4D4-4973-92A7-342AE8EBB9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ic Action Response Fr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se frames only used to return results and report err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ification-style actions do not require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egory code:  same as in reque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category is not recognized, frame is ignored without error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 code (odd):  ResponseCode:= RequestCode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unrecognized action in a recognized category causes an error 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code:  indicates success or failure of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=0 for success;  Status=1 for unrecognized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us&gt;1 is failure code specific to Category,A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log Token:  value copied from Dialog Token of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useful in matching responses at stations that may have more than one request outstanding concurren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t of the frame body is specific to the Category,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09480" y="1447920"/>
            <a:ext cx="7925040" cy="765000"/>
            <a:chOff x="609480" y="1447920"/>
            <a:chExt cx="7925040" cy="765000"/>
          </a:xfrm>
        </p:grpSpPr>
        <p:sp>
          <p:nvSpPr>
            <p:cNvPr id="71" name=""/>
            <p:cNvSpPr/>
            <p:nvPr/>
          </p:nvSpPr>
          <p:spPr>
            <a:xfrm>
              <a:off x="7696080" y="1676520"/>
              <a:ext cx="8384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F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480" y="1676520"/>
              <a:ext cx="1266840" cy="536400"/>
            </a:xfrm>
            <a:prstGeom prst="rect">
              <a:avLst/>
            </a:prstGeom>
            <a:noFill/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69696"/>
                  </a:solidFill>
                  <a:latin typeface="Arial"/>
                </a:rPr>
                <a:t>MAC_x0008__x0008_ Hea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Arial"/>
                </a:rPr>
                <a:t>(subtype 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907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d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63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tegory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051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19520" y="1676520"/>
              <a:ext cx="91440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alo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k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40400" y="1447920"/>
              <a:ext cx="43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2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834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978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22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2660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98560" y="1447920"/>
              <a:ext cx="71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0-23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533920" y="1676520"/>
              <a:ext cx="2162160" cy="5364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tion-specifi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xed fields &amp; el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26840" y="1447920"/>
              <a:ext cx="35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_x0008_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hael Fisch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771-7ED9-4C9F-9EA3-BB6A534509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Harry Worstell</cp:lastModifiedBy>
  <cp:lastPrinted>1998-02-10T13:28:06Z</cp:lastPrinted>
  <dcterms:modified xsi:type="dcterms:W3CDTF">2000-11-06T21:49:53Z</dcterms:modified>
  <cp:revision>12</cp:revision>
  <dc:subject/>
  <dc:title>No Slide Title</dc:title>
</cp:coreProperties>
</file>