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AC7-7958-415E-8C04-59AFF44D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620A-2064-4AF5-82E6-2D9F0EFD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1CE-2A01-4413-86BD-FF80EF79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11EE-A835-4DD6-865D-77755E89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3C2-D87C-47D0-AD81-5BA0743C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B862-4623-4B5D-9B87-9C56125D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B744-3A2A-47E7-917F-5D146F4F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898A-73E7-4227-B6D0-58690B43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48FA-213C-4B24-836F-DD8B0091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4AB-606F-46EE-869D-CB5E5275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DD1-CC30-4D71-AB50-2D423403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E78-E43A-40CE-BC12-31CDD75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D5A9A9E-13DC-418B-9EF8-2983DD75B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49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s for MPEG2 and Video Confere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chin Deshpa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rinivas Kanda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p Laboratories of America,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mas, WA 986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8FB-4F01-4BA8-AE91-FFDFA385B9D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 Coding for Video Confere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ize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TP payload for H.261, H.263, H.263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of blocks (GOB) based packe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for Internet environment packet size can vary from 200-1500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head of 40 bytes header (RTP+UDP+IP) per packet, so keeping packet size close to maximum transfer unit (MTU) of network desirable (taking into account latency requir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3D5A-68BD-4B76-964B-A825E869B5F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.261, H.263 (+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261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x 64 Kbps (P=1,2,3...3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er standard, H.263(+) outperforms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263(+)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263 : baseline standard, 4 optional anne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263+ : baseline standard, 16 optional anne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FA67-0F0D-414B-A8BA-64B019691FE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References for Video Conference Traffic Mode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yman D., Tabatabai A., Lakshman T.V., “Statistical analysis and simulation study of video teleconference traffic in ATM networks,” IEEE J Sel. Areas in Comm, 2(1), pp. 49-59, 199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genoglu F., Jabbari B., Zhang Y.Q., “Motion-classified autoregressive modeling of variable bit-rate video,” IEEE Trans. CSVT, 3(1), pp. 42-53, 199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ibman A., Berger A.W., “Traffic descriptors for VBR video teleconferencing,” IEEE/ACM Trans. Networking, 3, pp 329-339, 19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50F1-D923-44B5-9E2F-C8D8B35E277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EG 2 VBR Sourc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1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7120" y="15238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989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6040" y="167652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9240" y="167652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27120" y="31240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7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989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98920" y="23623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94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712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652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0364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942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84520" y="3429000"/>
            <a:ext cx="1278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240" y="332100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P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68440" y="3321000"/>
            <a:ext cx="74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P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3276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P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27120" y="48006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7120" y="3886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46520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65200" y="4038480"/>
            <a:ext cx="341172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71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3204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366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415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4644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1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559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6084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654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70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7524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798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8964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942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484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7640" y="55483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40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8432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8924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9380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9872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0364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0820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1312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1804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2260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2752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3244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3700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4192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46840" y="5334120"/>
            <a:ext cx="2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7120" y="571500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5715000"/>
            <a:ext cx="0" cy="40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14800" y="5835600"/>
            <a:ext cx="28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 Frames (typically N=15 or 1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7120" y="5867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8672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5840" y="3262320"/>
            <a:ext cx="317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P = Group of Pic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me rate = 30 frames/s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 is geometrically distrib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frames are log-normally distribu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.i.d or A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&amp; P frames are iid log-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205740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5120" y="2133720"/>
            <a:ext cx="240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e Length= N*d fr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657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7A0-A727-4D43-83C5-7D958775AB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PEG 2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0" y="1523880"/>
          <a:ext cx="468792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6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755720" y="4803840"/>
          <a:ext cx="5477040" cy="477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5720" y="4803840"/>
                    <a:ext cx="5477040" cy="47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D3D1-626F-4914-9043-DF109AF4D83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 Conferencing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601640" y="4622760"/>
          <a:ext cx="6120000" cy="200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4622760"/>
                    <a:ext cx="6120000" cy="20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025640" y="1295280"/>
            <a:ext cx="72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deo-conferencing typically use H.263 or H.261 standards for video co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BR is usually employed, by  the application using a rate control algorithms. In certain situations frames may be dropped to meet the target bit-rate. Typically no B frames are used due to low latency requir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 size - typically can be 576 bytes/ 1000 bytes/ 1500 bytes for Int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Usage of smaller packet size (576 bytes) is more conservative since there is a less chance of getting fragment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Latency is not an issue for high rates even if we use 1500 by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6B5-F983-42D4-A531-312B8624D7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endix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A Brief tutorial on Video Conferencing Standa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862-A35E-4935-B5F1-8D2256A9AFE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320,321,322,323,324 – Umbrella standards for multimedia communications (video conferenc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.323: multimedia communication over packet switched networks  that do not provide a guaranteed 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.261, H.263(+) : video coding standards used with H.3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.711, G.722, G.723, G.728, G.729 : audio coding standards used with H.3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489-1113-4150-8DBD-9BB1187270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 Conferencing Mo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-to-point / Multi-point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oint conferenc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zed Multipoint control unit (MC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multi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cast / Multi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D85-AE28-4445-BDCB-EE85555AFB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 Coding for Video Confere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active na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ent requirements on latency (150-400 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B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CIF (176x144), CIF (352x288) typical frame resolutions (also possible : SQCIF, 4CIF, 16CI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 rates : 5 to 30 frames per seco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7FAF-B3C3-4F05-96FB-59FEF16292D2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deo Coding for Video Conferen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t-rates (including audio): mostly CBR geared towards different client sp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56 Kbps (modem) (typically use H.263 at 5-15 fps, G.723 at 5.3/6.3 Kb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128 Kbps (ISDN) (typically use H.263 at 10-20 fps, G.723 at 5.3/6.3 Kb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56 Kbps-1.5 Mbps) Higher bitrate (DSL, cable modem, T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 Deshpande, S. Kandala, Shar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47C8-E5F2-4FEB-9BA9-1EC6D99D1FA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18:01:56Z</dcterms:created>
  <dc:creator>sdeshpande</dc:creator>
  <dc:description>S. Deshpande, S. Kandala, Sharp Labs</dc:description>
  <cp:keywords>November 2000</cp:keywords>
  <dc:language>en-US</dc:language>
  <cp:lastModifiedBy>Harry Worstell</cp:lastModifiedBy>
  <cp:lastPrinted>2000-10-20T18:35:57Z</cp:lastPrinted>
  <dcterms:modified xsi:type="dcterms:W3CDTF">2000-11-03T22:25:21Z</dcterms:modified>
  <cp:revision>56</cp:revision>
  <dc:subject/>
  <dc:title>Traffic Models for Video Conferencing</dc:title>
</cp:coreProperties>
</file>