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A545-0A29-47A7-BB6F-4DCA78EB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C7D-6ECA-4582-8BD4-14CC287A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BB23-58A0-40F2-858D-CE1AE0D1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206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476-06A8-4233-B3C7-9DFAE229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0AB0-2994-4EF7-903E-F6E00759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716-36F8-46A7-8F8D-BB3FB622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8697-B481-41CA-97CC-E62C4A66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C596-1426-4C49-BA38-5C691CB8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12A4-5EFC-4A99-8020-AF5B22E0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989-C508-41FB-8B59-22F57AD7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206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F6C-E8BC-49AF-B58E-B3006A92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206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15F-380A-4920-A6E5-434A133E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379800"/>
            <a:ext cx="17524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09720" y="6476760"/>
            <a:ext cx="3124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B3211CD-2EBE-4947-9CB8-716DA86B6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ary of th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oS Baseline Proposal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by the QoS Baseline Ad-hoc Grou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ember-November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657240" y="3990960"/>
            <a:ext cx="3809880" cy="240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hael Fis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ICE-Inters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242-3 Medical Dr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n Antonio, TX 782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1-210-614-4096 x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fischer@choicemicr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120" y="40384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cument Edit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A1DC-0E32-47E4-88E8-E4C1CFF1334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C Functional Improv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ESTA-ESTA transf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ed Probe Request to find peers and learn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Beacon re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id limit at TBTT (similar to CFPMaxDur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dium sensing to detect beacon coll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SS overlap information added to Beac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Proxy Beacon" may be sent by ESTAs to inform adjacent A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RTS/CTS (with actual duration) during CF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F-Polls convey TXOPs with specified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 Clarify many ambiguous provisions in 802.11-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675-CB3B-4720-ABD6-2B6A33F33C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 MAC Mechanisms (genera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Opportunities (TXO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ight to transmit defined by starting time &amp; duration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s to EDCF contention winner as well as CF-poll recip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 is global during CP, piggybacked with poll during C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allocated in advance during CF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Category Identifiers (TCI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2-octet field at end of MAC header in QoS data sub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-order 3 bits are priority parameter for MS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layout as TCI field of 802.1Q VLAN tag, VID field i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er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unt of traffic queued for TC piggybacked during C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control frames and elements use TCA field with {TC,AID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FD3-FC5E-4D2D-823B-14A369B0AAC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 MAC Mech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gregation of multiple MPDUs into a single PSD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st transfers (EDCF) of SIFS-separated frames that fit in TX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ed Acknowledgment (level 3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ic format allows up to n*16 unacknowledged frames per 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"retry delay" parameters allows fallback to AR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Contention  &amp; Reservation Request (EPCF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e EAP/E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SS Overlap Mit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dge Por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C48F-A84E-47CB-A68A-91B3A5ED5EE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hanced DC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-based Distributed Coord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chieve fairness access among traffic of the same priority at different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relative to best effort traffic from legacy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out a penalty for non-used traffic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s in separate 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E97D-0571-40C7-82EF-858B27E3A1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hanced PC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ly based on the detailed effort from the Joint Proposal (00/071, 00/120) by AT&amp;T, Lucent, Sharewave, and others (00/120r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echanism enhancements from Joint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ralized Contention (C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rvation Request (R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 Policy (normal, delayed, n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XOP limit and TC size piggybacked on QoS data fr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F-Multipoll for multiple TXOP ass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F-Schedule for periodic (CBR-type)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does not require BSS-unique VSIDs nor external classifier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8E72-452C-4646-B58C-5017EEE9B1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LME S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 additions to Scan, Start, Join, etc. to add QoS levels as association attrib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ME-TSUPDATE.request/confi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define and modify traffic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LME-WMSTATUS.request/confi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WLAN-aware higher-layer bandwidth reservation and QoS management entities to obtain information on the state of the wireless me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1C42-4677-4AA9-8881-0C3AAC8C7C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wer S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en Ep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ions of beacon interval when power save ESTA is aw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requests amount of awake time, EAP assigns epoch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existing power save with PS-Po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P can use "PS-non-poll" during WSTA's listen epo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XOPs can be allocated during listen epoch to allow direct ESTA-ESTA under power s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1E94-7F74-4CC0-85B8-0BDFAD31D1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complete Items &amp; Placehol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C (at MAC lay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CF channel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S Overlap Mitigation (part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dge Por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action with HL end-to-end QoS management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A0FA-45C0-490B-995A-47FDEF2E73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 of Baseline Ad-hoc Gro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d areas of consensus and dis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of functions that had to be present to achieve &gt;75%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s of functions that had to be absent to achieve &gt;75%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there was sufficient willingness to compromise that the intersection of these sets is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ul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d nested conformance model, no disjoint option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d a uniform higher-layer interface within the confines of the 802 MAC SAP and MLME 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nsistent set of frame formats based on 8 traffic categ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substantial progress on defining the enhanced DCF, enhanced PCF, and traffic category support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initial draft within weeks if this baseline is ado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8B7D-F685-495F-95B3-16395F96CA7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Adopt a Base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ave a framework within which to evaluate proposals for specific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riginal 802.11 MAC group spent &gt;2 years trying to build a MAC function-by-function, and got no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ocus effort on areas which are incomplete or un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 this does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reclude improvements to areas already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ove quickly to a draft for initial letter bal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ate of progress improves greatly during the ballot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personal vie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baseline is "good enough" (actually, better than that) and standards are, by definition neither perfect nor state-of-the-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apparent consensus in and since Scottsdale is not sufficient to adopt this baseline, we might as well let the PAR exp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231-2F83-4160-BD9C-06468248DA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ey Features of Proposed Base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ward compatible from and coexistent with 802.11-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s both prioritized and parameterized 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tized QoS provides relative differentiation between prior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meterized QoS provides managed delivery using traffic spe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 as viewed from above the MAC SAP there is only one servic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QoS delivery under both (E)DCF and (E)PC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meterized QoS only available under EP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oved efficiency through new and streamlined mechani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SS Overlap Mit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 elements to extend BSS coverage &amp; conne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 Portal (BP):  infrastructure access at non-AP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ernate AP/PC:  to preserve BSS (&amp; QoS) in event of fail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te AP/PC:  to extend spatial coverage via WDS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3332-5CD7-4DD1-B3E4-E932ABACAC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formance Lev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4 conformance levels, designated 0 t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higher level is a proper superset of the level ben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ormance levels are attributes of the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76520" y="4876920"/>
            <a:ext cx="5867280" cy="1523880"/>
            <a:chOff x="1676520" y="4876920"/>
            <a:chExt cx="5867280" cy="1523880"/>
          </a:xfrm>
        </p:grpSpPr>
        <p:sp>
          <p:nvSpPr>
            <p:cNvPr id="58" name=""/>
            <p:cNvSpPr/>
            <p:nvPr/>
          </p:nvSpPr>
          <p:spPr>
            <a:xfrm>
              <a:off x="1676520" y="6096240"/>
              <a:ext cx="838080" cy="304560"/>
            </a:xfrm>
            <a:prstGeom prst="rect">
              <a:avLst/>
            </a:prstGeom>
            <a:noFill/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Level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76520" y="5791320"/>
              <a:ext cx="83808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vel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76520" y="5486400"/>
              <a:ext cx="83808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vel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76520" y="5181840"/>
              <a:ext cx="83808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vel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514600" y="5181840"/>
              <a:ext cx="251460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Prioritized QoS (ED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4600" y="5486400"/>
              <a:ext cx="25146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Prioritized QoS (ED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14600" y="6096240"/>
              <a:ext cx="2514600" cy="304560"/>
            </a:xfrm>
            <a:prstGeom prst="rect">
              <a:avLst/>
            </a:prstGeom>
            <a:noFill/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No QoS (D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14600" y="4876920"/>
              <a:ext cx="251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ention Peri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29200" y="5181840"/>
              <a:ext cx="251460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arameterized QoS (EP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29200" y="5791320"/>
              <a:ext cx="2514600" cy="304920"/>
            </a:xfrm>
            <a:prstGeom prst="rect">
              <a:avLst/>
            </a:prstGeom>
            <a:noFill/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5f5f5f"/>
                  </a:solidFill>
                  <a:latin typeface="Arial"/>
                </a:rPr>
                <a:t>No QoS (PCF) 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029200" y="6096240"/>
              <a:ext cx="2514600" cy="304560"/>
            </a:xfrm>
            <a:prstGeom prst="rect">
              <a:avLst/>
            </a:prstGeom>
            <a:noFill/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No QoS (P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029200" y="4876920"/>
              <a:ext cx="251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ention-Free Perio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14600" y="5791320"/>
              <a:ext cx="25146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Prioritized QoS (ED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29200" y="5486400"/>
              <a:ext cx="251460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Prioritized QoS (EP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85800" y="3200400"/>
            <a:ext cx="3352320" cy="1600200"/>
            <a:chOff x="685800" y="3200400"/>
            <a:chExt cx="3352320" cy="1600200"/>
          </a:xfrm>
        </p:grpSpPr>
        <p:sp>
          <p:nvSpPr>
            <p:cNvPr id="73" name=""/>
            <p:cNvSpPr/>
            <p:nvPr/>
          </p:nvSpPr>
          <p:spPr>
            <a:xfrm>
              <a:off x="685800" y="4495680"/>
              <a:ext cx="838080" cy="304920"/>
            </a:xfrm>
            <a:prstGeom prst="rect">
              <a:avLst/>
            </a:prstGeom>
            <a:noFill/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Level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800" y="4190760"/>
              <a:ext cx="83808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vel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800" y="3886200"/>
              <a:ext cx="83808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vel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3581280"/>
              <a:ext cx="83808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vel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23880" y="4495680"/>
              <a:ext cx="2514240" cy="304920"/>
            </a:xfrm>
            <a:prstGeom prst="rect">
              <a:avLst/>
            </a:prstGeom>
            <a:noFill/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No QoS (D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23880" y="3581280"/>
              <a:ext cx="251424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Parameterized QoS (EP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23880" y="3886200"/>
              <a:ext cx="2514240" cy="60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Prioritized QoS (ED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3200400"/>
              <a:ext cx="2514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yle of Q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029200" y="3200400"/>
            <a:ext cx="3352320" cy="1600200"/>
            <a:chOff x="5029200" y="3200400"/>
            <a:chExt cx="3352320" cy="1600200"/>
          </a:xfrm>
        </p:grpSpPr>
        <p:sp>
          <p:nvSpPr>
            <p:cNvPr id="82" name=""/>
            <p:cNvSpPr/>
            <p:nvPr/>
          </p:nvSpPr>
          <p:spPr>
            <a:xfrm>
              <a:off x="5029200" y="4495680"/>
              <a:ext cx="838080" cy="304920"/>
            </a:xfrm>
            <a:prstGeom prst="rect">
              <a:avLst/>
            </a:prstGeom>
            <a:noFill/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Level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29200" y="4190760"/>
              <a:ext cx="83808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vel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29200" y="3886200"/>
              <a:ext cx="838080" cy="304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vel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29200" y="3581280"/>
              <a:ext cx="83808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vel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67280" y="4495680"/>
              <a:ext cx="2514240" cy="304920"/>
            </a:xfrm>
            <a:prstGeom prst="rect">
              <a:avLst/>
            </a:prstGeom>
            <a:noFill/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5f5f5f"/>
                  </a:solidFill>
                  <a:latin typeface="Arial"/>
                </a:rPr>
                <a:t>No QoS (DCF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4190760"/>
              <a:ext cx="2514240" cy="304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hanced DCF onl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67280" y="3581280"/>
              <a:ext cx="2514240" cy="6094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hanced DCF and PC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67280" y="3200400"/>
              <a:ext cx="25142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ordination Fun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0644-E407-4ED8-A992-E056719717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ew Termin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P:  Bridge Por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P:  Enhanced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C:  Enhanced point coord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:  Enhanced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BSS:_x0008_  BSS that provides associations at QoS Levels 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A:  {Traffic Category, AI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ID:  Traffic category identifier (0-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OP:  Transmission opport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STA:  Wireless station (an ESTA other than EAP or B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5DC-5F8E-4F7A-AAC5-429B38B0CF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C SA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hanges to service primi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parameter of MA-UNITDATA.request/indication is used to identify traffic categ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ssociation supports prioritized QoS, traffic category is mapped to delivery pri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ssociation supports parameterized QoS, traffic category identifies the traffic specification (supplied via MLME S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terface is uniform across all conformance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higher layer software can work (to some quality level, not necessarily the desired quality) at any QoS level (perhaps even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7DAA-E19F-4747-B5E5-DC51C778A6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hanced St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51055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ow the MAC SAP are a plurality of (logical) traffic 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is suggested as the min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re are &lt;8 queues, the mapping of traffic category to queue follows guidelines in 802.1D-1998, Annex H.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cheduler function selects a frame for transmission at the next TX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ommon scheduler is suitable for_x0008_ QoS levels 1 &amp;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hannel access function (EDCF, EPCF-Station) is independent of the schedu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867280" y="1752480"/>
            <a:ext cx="2670120" cy="4494240"/>
            <a:chOff x="5867280" y="1752480"/>
            <a:chExt cx="2670120" cy="4494240"/>
          </a:xfrm>
        </p:grpSpPr>
        <p:sp>
          <p:nvSpPr>
            <p:cNvPr id="97" name=""/>
            <p:cNvSpPr/>
            <p:nvPr/>
          </p:nvSpPr>
          <p:spPr>
            <a:xfrm>
              <a:off x="5867280" y="2514600"/>
              <a:ext cx="2670120" cy="357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105240" y="2363760"/>
              <a:ext cx="841320" cy="30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6105240" y="3201840"/>
              <a:ext cx="910800" cy="835200"/>
              <a:chOff x="6105240" y="3201840"/>
              <a:chExt cx="910800" cy="835200"/>
            </a:xfrm>
          </p:grpSpPr>
          <p:sp>
            <p:nvSpPr>
              <p:cNvPr id="100" name=""/>
              <p:cNvSpPr/>
              <p:nvPr/>
            </p:nvSpPr>
            <p:spPr>
              <a:xfrm>
                <a:off x="6105240" y="3201840"/>
                <a:ext cx="225360" cy="8352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90680" y="3201840"/>
                <a:ext cx="225360" cy="8352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562080" y="3201840"/>
                <a:ext cx="225360" cy="8352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333480" y="3201840"/>
                <a:ext cx="225360" cy="8352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6105240" y="4192560"/>
              <a:ext cx="911160" cy="530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105240" y="4878360"/>
              <a:ext cx="911160" cy="5302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05240" y="5945040"/>
              <a:ext cx="841320" cy="30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26080" y="5411880"/>
              <a:ext cx="0" cy="68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526080" y="2515680"/>
              <a:ext cx="0" cy="68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44920" y="40402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56240" y="40402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67200" y="40402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78520" y="40402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26080" y="472608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97360" y="2363760"/>
              <a:ext cx="841680" cy="30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71840" y="1752480"/>
              <a:ext cx="7048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C_x0008_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543080" y="1752480"/>
              <a:ext cx="8586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LME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02000" y="4317840"/>
              <a:ext cx="9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39800" y="4952880"/>
              <a:ext cx="7869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anne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70400" y="3429000"/>
              <a:ext cx="745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ueu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D00-30D3-4C11-BCA2-CC196D24AD3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ffic Catego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oritized QoS, TC is (QBSS-global) delivery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s as in 802.1D-1998, Annex H.2, can be remapped via MI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owest) 1, 2, 0, 3, 4, 5, 6, 7 (highest) -- 0 is best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arameterized QoS, TC selects the traffic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ffic specs are interpreted in the context of the source station's MAC address/AID, unless the source is not in the QBSS, in which case the destination station's MAC address/AID is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meters in traffic specific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S Info (periodic/aperiodic, Ack policy, delivery prior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ry Interval (for delayed Acks) &amp; Polling Interval (for periodic poll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mit Interval (Committed Time for aperiod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minal MSDU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um Data Rate &amp; Mean Data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imum Burst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004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ay Bound &amp; Jitter B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QoS Baseline Ad-hoc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BBB-20C2-4DE9-9496-78430F2A54A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5T22:59:43Z</dcterms:created>
  <dc:creator>Michael Fischer</dc:creator>
  <dc:description/>
  <dc:language>en-US</dc:language>
  <cp:lastModifiedBy>Michael Fischer</cp:lastModifiedBy>
  <cp:lastPrinted>1998-02-10T13:28:06Z</cp:lastPrinted>
  <dcterms:modified xsi:type="dcterms:W3CDTF">2000-11-07T01:12:59Z</dcterms:modified>
  <cp:revision>50</cp:revision>
  <dc:subject/>
  <dc:title>No Slide Title</dc:title>
</cp:coreProperties>
</file>