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9AFD1FF-172D-4F41-9B27-FAC338804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3F6A219-7674-4F5D-993C-8D1E18B9F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03200" y="812880"/>
            <a:ext cx="4327560" cy="32446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21960" y="4412880"/>
            <a:ext cx="50878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F57390B-A676-45CD-A018-9E2AB27AC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03200" y="812880"/>
            <a:ext cx="4327560" cy="3244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21960" y="4412880"/>
            <a:ext cx="5087880" cy="36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127A-7AB8-4F28-BD7F-9B97BC08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1776-2921-4B2A-B8C2-759A68A5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E35A-3E65-4E92-9748-397BD60A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C602-CDE0-4CB5-A55B-43F359A2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DE53-E32E-4157-95DA-5E61FCF4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9771-D542-44F7-80B8-7380F455C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C848-23CD-484F-AADF-5478A0FE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8707-7D27-4AC7-A935-832AF79E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16AA-92F3-4119-B905-9D016F84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CF4E-67F8-4BB0-ADDD-40961267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E12F-3E4A-4B73-959C-2783A93A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9D4A-D632-4449-9F83-6ADB913B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8800" y="3704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039EA1A-DFA1-4953-9D5B-CE6745F355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6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88560" y="2590920"/>
            <a:ext cx="8153640" cy="26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tributed QoS resolution</a:t>
            </a:r>
            <a:br>
              <a:rPr sz="3600"/>
            </a:br>
            <a:br>
              <a:rPr sz="36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g Chesso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ero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m Diepstraten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cent Technologies WC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ncan Kitchi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old Teunisse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cent Technolog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zo Wentink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il/NW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pared b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m Diepstr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im Diepstraten, Luc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EC4B-B784-44F6-B62A-3A02C3727CC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simulation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simulation scenario’s (starting point simulation grou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Clause 9.2 text for inclusion in the Baseline propos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D-QoS based on vDCF approa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im Diepstraten, Luc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2DFE-0C83-48C7-98DD-8B0390B21E3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al Agre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32880" y="1447920"/>
            <a:ext cx="8299800" cy="42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484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did come to an agre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6840" indent="-1987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lved all misunderstandings between the proposa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6840" indent="-1987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reed on vDCF as the basic mechanism (as in Oct 18 proposal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280" indent="-1987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vDCF as a Scheduler for both level 1 and 2 (Sta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6840" indent="-1987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converged on the “Fairness” defini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280" indent="-1987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istical equal Tx-Op probability across the whole BSS within a traffic category as in standard DC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6840" indent="-1987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reed on additional mechanism ques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280" indent="-1987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DCF Retry mechan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280" indent="-1987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SS mechan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280" indent="-1987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 preferential access method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84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emely simple to impl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6840" indent="-1987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l publish pseud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8400" indent="-248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-QoS sim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6840" indent="-1987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ouraging first results, will publis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im Diepstraten, Luc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225F-727E-4D27-98D4-ED4B250EADF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24440" y="2133720"/>
            <a:ext cx="267192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45280" y="1981080"/>
            <a:ext cx="84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45280" y="2819520"/>
            <a:ext cx="914400" cy="838080"/>
            <a:chOff x="5345280" y="2819520"/>
            <a:chExt cx="914400" cy="838080"/>
          </a:xfrm>
        </p:grpSpPr>
        <p:sp>
          <p:nvSpPr>
            <p:cNvPr id="62" name=""/>
            <p:cNvSpPr/>
            <p:nvPr/>
          </p:nvSpPr>
          <p:spPr>
            <a:xfrm>
              <a:off x="5345280" y="2819520"/>
              <a:ext cx="228600" cy="838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31080" y="2819520"/>
              <a:ext cx="228600" cy="838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02480" y="2819520"/>
              <a:ext cx="228600" cy="838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73880" y="2819520"/>
              <a:ext cx="228600" cy="8380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5345280" y="3809880"/>
            <a:ext cx="91440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45280" y="4495680"/>
            <a:ext cx="914400" cy="533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45280" y="5562720"/>
            <a:ext cx="84456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14320" y="1752480"/>
            <a:ext cx="260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 D-SA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bit traffi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3962520"/>
            <a:ext cx="34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DU Schedu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2743200"/>
            <a:ext cx="393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Q’s depends on QoS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453564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nel access function independent of schedu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67560" y="5029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5767560" y="21333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9736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086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964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67560" y="4343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1981080"/>
            <a:ext cx="84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13240" y="160020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-S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66960" y="16002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-S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05320" y="393696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86320" y="462276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im Diepstraten, Luc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6CFC-8C30-43E3-B1DD-C60EF7EE04F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Concep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33240" y="1600200"/>
            <a:ext cx="8158320" cy="42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framework should conceptual work for both level 1 and level 2 station mechanis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ing CFP the random number generation aspect of vDCF can be the schedule mechanis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the PCF determines the Tx-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ring the CP the vDCF scheduling and access mechanism is act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re the parallel DCF backoff mechanism is generating the Tx-O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n ESS a “Load monitor” function in the AP will determine the CW per priority class, which is to be adopted by every s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ranslation from “Load to CWx vectors” is NOT standardiz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n IBSS a default CWx map is assumed, but a CWx distribution by a “Load Monitor” function will override the defa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IBSS a ‘Load Monitor” function is not mandato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default assumes CW=31 as the “Best Effort” refer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im Diepstraten, Luc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8832-829E-45A8-827E-64E2732599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-DCF mecha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4079520"/>
            <a:ext cx="7772400" cy="17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48400" indent="-2484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s differentiation controlled by a CWx parameter per priority catego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6840" indent="-1987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ltiple DCF’s running in parallel, with conceptually an individual Backoff counter for Backoff and Post-Backof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280" indent="-19872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ementations based on a single Delta-Backoff counter are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6840" indent="-1987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scheduling function is based on random number generated per access priority level, using individual CWx parameters causing differentiation in access ratio according to: 1/CW3 : 1/CW2 : 1/CW1 : 1/CW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8400" indent="-2484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a local collision the highest priority frame is being transmitted, while the other DCF is deferring and generate a new Backo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177920" y="1371600"/>
          <a:ext cx="59436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7920" y="1371600"/>
                    <a:ext cx="59436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im Diepstraten, Luc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61E8-5E57-494A-806C-F9C3BAC10A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-DCF retry mecha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 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haustive Retry is to be prevented, when there is higher priority traffic Q’d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 of the retry mechanism is to temporarily reduce the load of the station on the medium for stability reas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improve the probability of contention resolution success under high load condi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o circumvent possible hidden interferers causing the failu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CF mechanis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fore the whole station (all vDCF’s) need to back off, and not only the vDCF that experience a fail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 all DCF’s need to double their CW’s and generate a new back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im Diepstraten, Luc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86C0-9FE9-463D-B50A-A1352DB409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chanisms need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1960" y="1447920"/>
            <a:ext cx="7670880" cy="42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ority in frame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new field compatible with also the PCF approach needs to be def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-QoS Element in the Bea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aining the CWx list per access priority lev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can also provide the “Total Load” info, which can be used for “Load Balancing” purpo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les to use CW and retry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 elsewhere in this docu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ce# generation and Duplicate detection rule chan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support the non-exhaustive retry approach in a station, it is needed to maintain a sequence# per SA.Class comb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680" indent="-1940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 the sequencing rules need to change, such that individual S# is maintained per Class, and will incre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680" indent="-19404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AP’s and Station receivers need to maintain duplicate detection mechanism on a SA.Class basis, and expand its resources for tha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bility exchange mechanisms to determine service lev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im Diepstraten, Luc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81A0-21B9-4B8C-8A2C-12C9492EC7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chanism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87160" y="1469880"/>
            <a:ext cx="7670520" cy="42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rder to improve the efficiency of the AP, the AP should be allowed to concatenate multiple frames in one Tx-Access Opportun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(MIB?) limited burst of frames are allowed per access opportunity with SIFS in betwe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can be done in a similar way as specified for fragmen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the “Duration” field containing the proper values for the next exchan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 Ack contains the duration of the next data frame, and its associated A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a station can be allowed to send a burst, but limited to a max size (2304 Byte) duration equivalent siz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probably need to limit this functionality only to a 2304 Byte duration equivalent for the highest Basic rate on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prevent excessive jit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Tx-Opp limit mechanism to reduce excessive medium occupancy situations, while allowing rate fallba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im Diepstraten, Luc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6204-8F9F-45D7-932E-7839A6E908E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-QoS mechanism has been proposed that can be used in both ESS and IBSS environ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im Diepstraten, Luce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BF80-62D1-440B-845D-51F5C649B9D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Harry Worstell</cp:lastModifiedBy>
  <cp:lastPrinted>1998-02-10T13:28:06Z</cp:lastPrinted>
  <dcterms:modified xsi:type="dcterms:W3CDTF">2000-10-30T19:30:26Z</dcterms:modified>
  <cp:revision>51</cp:revision>
  <dc:subject/>
  <dc:title>No Slide Title</dc:title>
</cp:coreProperties>
</file>